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6E7-7E23-445A-A709-02402FF6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A19-3D09-44D2-8F86-023B016C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168-4EC4-465D-9A0A-B24EEB23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734-1CEE-4024-9E2B-4F5DF342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ADF-C979-4BF3-9F60-9B387AC0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293-7B0D-454B-BFBF-EB378764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3E8-E956-490C-99A9-0EA70417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A13-F1C5-461C-B7D8-CC5EFE50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8EA-8564-40D4-B782-8FE629E3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68F-756B-4D9F-89AD-2D62FF8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456-B253-479A-B435-32D74857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BEA-D59A-4BA6-AC15-C7EC3557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0084-9809-42C0-92B8-952369C8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rcicio 2: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apeo y Rediseño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1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 agua ‘ AGUA SANTA’ abastece una gran ciudad latinoamricana de varios millones de habi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sta el año 2001, su proceso para facturar y cobrar a sus clientes, es que se describe a contin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a brevemente 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alice un mapeo del proceso, a través del método que le parezca más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gerencia comercial determina y programaba rutas de le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través de una empresa externa se hacia la medición casa 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medición era básicamente visual, con registro manual en un formulario del resultado de la med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mpresa externa entregaba sus planillas y se le pagaba según medición real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vez recibida la información se enviaba a un área interna de digitación, que ingresaba la información de las planillas al sistema compu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sistema procedía a calcular las facturas, de acuerdo a las tarifas aprobadas por la autoridad guberna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viamente validaba datos para evitar problemas: Se eliminaban lecturas invalidas, las que eran enviadas a la gerencia comercial para un proceso especial de manejo de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sistema calculaba e imprimía las fac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uego las facturas eran enviadas a una empresa de despacho, para ser ensobradas y distribuidas a nivel domicili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lientes recibían las facturas, que debían pagar en cierto banco de la pla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vez que se realizaba el pago de facturas por parte del cliente, la información era enviada a la empresa ‘AGUA SANTA’ para efectos de actualizar saldos y alimentar otros procesos comer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49:34Z</dcterms:created>
  <dc:creator>.</dc:creator>
  <dc:description/>
  <dc:language>en-US</dc:language>
  <cp:lastModifiedBy>.</cp:lastModifiedBy>
  <dcterms:modified xsi:type="dcterms:W3CDTF">2007-10-01T12:49:50Z</dcterms:modified>
  <cp:revision>1</cp:revision>
  <dc:subject/>
  <dc:title>Ejercicio 2:  Mapeo y Rediseño de Procesos</dc:title>
</cp:coreProperties>
</file>