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45E-787D-45D3-B882-C8B78787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D70-C4FA-420D-84C7-0FC8EA0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ADC-DA0C-43B2-ABC5-C050C99C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7A1-5AD2-408C-91D2-08B3E91A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A30-4EF8-4C53-AFCF-0AC0FC5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0E4-54BF-44CA-A04A-7A16D0D3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F19-4A08-41F7-A16A-B98022E0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A74-4828-4DF2-BECF-A52F6846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8F0-61CE-4FD4-B4B0-0D0667F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E0D-A736-44EE-B799-DBAE1AB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4F3-051C-4549-940A-E3DF106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BBA-4738-4B6A-B4E9-B394795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BDD-05B0-4E7F-A691-95657AFC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2: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peo y Rediseño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1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 agua ‘ AGUA SANTA’ abastece una gran ciudad latinoamricana de varios millones de habi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sta el año 2001, su proceso para facturar y cobrar a sus clientes, es que se describe a contin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a brevemen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ice un mapeo del proceso, a través del método que le parezca más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erencia comercial determina y programaba rutas de l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través de una empresa externa se hacia la medición casa 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medición era básicamente visual, con registro manual en un formulario del resultado de la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mpresa externa entregaba sus planillas y se le pagaba según medición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recibida la información se enviaba a un área interna de digitación, que ingresaba la información de las planillas al sistema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procedía a calcular las facturas, de acuerdo a las tarifas aprobadas por la autoridad guberna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iamente validaba datos para evitar problemas: Se eliminaban lecturas invalidas, las que eran enviadas a la gerencia comercial para un proceso especial de manejo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calculaba e imprimía las fa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uego las facturas eran enviadas a una empresa de despacho, para ser ensobradas y distribuidas a nivel domicil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lientes recibían las facturas, que debían pagar en cierto banco de la 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que se realizaba el pago de facturas por parte del cliente, la información era enviada a la empresa ‘AGUA SANTA’ para efectos de actualizar saldos y alimentar otros procesos comer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49:34Z</dcterms:created>
  <dc:creator>.</dc:creator>
  <dc:description/>
  <dc:language>en-US</dc:language>
  <cp:lastModifiedBy>.</cp:lastModifiedBy>
  <dcterms:modified xsi:type="dcterms:W3CDTF">2007-10-01T12:49:50Z</dcterms:modified>
  <cp:revision>1</cp:revision>
  <dc:subject/>
  <dc:title>Ejercicio 2:  Mapeo y Rediseño de Procesos</dc:title>
</cp:coreProperties>
</file>