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14172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Universidad de Chile – Invertec I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rechos Reservados (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19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2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8 de Septiembre 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9 de Septiembre : Cl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2 de Octubre: 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3 de Octubre: Clases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Octubre: Clas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3 de Noviembre: Clas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expositivas de los profe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Bibliografía y Material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060280"/>
            <a:ext cx="74898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enda del Gobierno electrónico en Chile 2004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ierno Electrónico en Chile: Estado del Arte. Ministerio Secretaría General de la Presidencia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yecto Reforma y Modernización del Estado – Universidad de 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government handbook for developing countries. Infodev. Banco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Virtual State: Jane E.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Economia Digital en Chile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ing smart IT choices: Value and risk in government IT investments. CTG University of Alb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2003 e-readiness ranking. Economic Intelligenc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4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5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4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7-09-28T18:55:14Z</dcterms:modified>
  <cp:revision>192</cp:revision>
  <dc:subject/>
  <dc:title>Information Resources in Business</dc:title>
</cp:coreProperties>
</file>