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BBCF-9FED-4C2E-83EF-898ED58D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104-A8BC-4C81-891A-4440C4C6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29C-05CE-4993-987C-451C9D6E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E88-A2F2-468F-BD9C-650AA45A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BAD0-A1C7-4DE2-8A5D-89080335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E5B-4AC4-44CF-8CA0-D792B632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ACE0-C736-4B95-83C3-4141425C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64BA-1B3E-486D-94FD-A80FFABC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790-3F2C-4E2D-8441-96A0CE76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222-D474-4AD9-BB07-C610CAEC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7E96-9FF1-4D92-9035-B46ACFC2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4738-ADDE-4900-BDA8-A598A7DE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D6B2-4B43-4818-8B85-F3270B6D8863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sumen de Materias Tratad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HERRAMIENTAS DE 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ESIONES/MODUL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Modulo Introductori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Objetivo: entender el contexto de la Gestión Publica desde la perspectiva de la Reforma del Estado. Conocer el ámbito de las herramientas de gest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Tópicos tratad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Reforma del Esta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Reforma sustantiva/Reforma Administrat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reación de Valor Publico como eje diferenciador entre la administración y la gestión públ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nceptos de  Precio/Valor; Cliente/Usuar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rabajo en Equip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Objetivo: Comprender  la importancia de las relaciones humanas y del trabajo en equipo en el desempeño de las organiz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Tópicos tratad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Que es el trabajo en equipo y su importancia en la generación de valor en las organiz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erspectivas de análisis: Hechos biológicos, hechos cultur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erfil de Herman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tapas en la formación de un equ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lanificación Estratégi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onocer el proceso de Planificación Estratégica y el valor asociado para las organizaciones public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Tópicos tratad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Mision, vision y val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nálisis FO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écnica Delph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riorización de estrateg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Relación objetivos, metas  y estrate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Balance Scorcard o Cuadro de Mando Integ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onocer el origen de esta herramienta y su aporte en la incorporación de nuevas perspectivas para hacer gestión estratégi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Tópic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erspectivas de análisis propuestas mas allá de la financiero con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Mapas Estratég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tributos de las organizaciones basadas en la estrate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23:46:46Z</dcterms:created>
  <dc:creator>vivienv</dc:creator>
  <dc:description/>
  <dc:language>en-US</dc:language>
  <cp:lastModifiedBy>vivienv</cp:lastModifiedBy>
  <dcterms:modified xsi:type="dcterms:W3CDTF">2007-09-06T04:13:57Z</dcterms:modified>
  <cp:revision>3</cp:revision>
  <dc:subject/>
  <dc:title>Resumen de Materias Tratadas</dc:title>
</cp:coreProperties>
</file>