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ED9-F2C2-4FEC-88F3-E9BB26F5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8CC-5067-4289-A013-6B128D06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CCE-1806-4D3B-9D69-6DE409C4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598-1E77-40BC-A8BD-283D0D6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9C8-F2DE-4A1F-B55B-D4A98AF2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1FB-EB87-4B09-B9B2-9DADFD5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3A7-0831-4DE7-AEDF-C40C6157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EA0-6EB7-49CD-840D-0DDA227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C7F-6CE1-4FE7-BC7B-8E4978D9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5D7-EA9B-4293-B010-A4FE3ED8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340-93FA-40BA-A3F6-C35178B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366-DAB4-4743-A7D1-2BB21C8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31E-2936-46F3-B617-30818612C81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men de Materias Tra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HERRAMIENTAS DE 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SIONES/MODU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Modulo Introductor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Objetivo: entender el contexto de la Gestión Publica desde la perspectiva de la Reforma del Estado. Conocer el ámbito de las herramientas de gest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d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sustantiva/Reforma Administr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reación de Valor Publico como eje diferenciador entre la administración y la gestión públ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nceptos de  Precio/Valor; Cliente/Usu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bajo en Equ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Objetivo: Comprender  la importancia de las relaciones humanas y del trabajo en equipo en el desempeño de las organiz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e es el trabajo en equipo y su importancia en la generación de valor en las organiz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: Hechos biológicos, hechos cultu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fil de Her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tapas en la formación de un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lanificación Estraté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proceso de Planificación Estratégica y el valor asociado para las organizaciones publ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ision, vision y val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nálisis F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écnica Delp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orización de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lación objetivos, metas  y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alance Scorcard o Cuadro de Mando Integ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origen de esta herramienta y su aporte en la incorporación de nuevas perspectivas para hacer gest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 propuestas mas allá de la financiero co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apas Estratég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tributos de las organizaciones basadas en la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3:46:46Z</dcterms:created>
  <dc:creator>vivienv</dc:creator>
  <dc:description/>
  <dc:language>en-US</dc:language>
  <cp:lastModifiedBy>vivienv</cp:lastModifiedBy>
  <dcterms:modified xsi:type="dcterms:W3CDTF">2007-09-06T04:13:57Z</dcterms:modified>
  <cp:revision>3</cp:revision>
  <dc:subject/>
  <dc:title>Resumen de Materias Tratadas</dc:title>
</cp:coreProperties>
</file>