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D53-7CA1-4863-AD73-6661285B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FBE-4CF0-4AF6-A2C6-FA02E208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A21-D825-4843-B1E8-3FFB5B94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1C3-842B-48C0-AC10-383DF54E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171-701E-46BD-91CF-59EE3B5C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0D5-E4A4-458A-9B1E-E723966C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FBA-FF3D-47AD-9B5C-2D5C3EB7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A0A-2F9C-489D-9A72-489A4CEA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E76-DB26-4F09-9FFE-42B1BF3B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225-EB38-4328-BADD-7F9C12B0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503-461E-4881-A294-D0BB6E7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3BE-7E4D-4D85-8100-E363807E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BDF5-B6CF-4556-B26D-B95E63A63E6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men de Materias Trata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HERRAMIENTAS DE 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ESIONES/MODU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Modulo Introductor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Objetivo: entender el contexto de la Gestión Publica desde la perspectiva de la Reforma del Estado. Conocer el ámbito de las herramientas de gest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d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Reforma sustantiva/Reforma Administrat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reación de Valor Publico como eje diferenciador entre la administración y la gestión públ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alibri"/>
              </a:rPr>
              <a:t>Conceptos de  Precio/Valor; Cliente/Usua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rabajo en Equ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Objetivo: Comprender  la importancia de las relaciones humanas y del trabajo en equipo en el desempeño de las organiz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e es el trabajo en equipo y su importancia en la generación de valor en las organiz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: Hechos biológicos, hechos cultu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fil de Herman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tapas en la formación de un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lanificación Estratég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proceso de Planificación Estratégica y el valor asociado para las organizaciones publi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 tratad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ision, vision y val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nálisis F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écnica Delp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riorización de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lación objetivos, metas  y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alance Scorcard o Cuadro de Mando Integ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ocer el origen de esta herramienta y su aporte en la incorporación de nuevas perspectivas para hacer gest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ópic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erspectivas de análisis propuestas mas allá de la financiero co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Mapas Estratég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tributos de las organizaciones basadas en la estrate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23:46:46Z</dcterms:created>
  <dc:creator>vivienv</dc:creator>
  <dc:description/>
  <dc:language>en-US</dc:language>
  <cp:lastModifiedBy>vivienv</cp:lastModifiedBy>
  <dcterms:modified xsi:type="dcterms:W3CDTF">2007-09-06T04:13:57Z</dcterms:modified>
  <cp:revision>3</cp:revision>
  <dc:subject/>
  <dc:title>Resumen de Materias Tratadas</dc:title>
</cp:coreProperties>
</file>