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75D-5CC5-4BBE-A73D-2AFB059A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473-63F8-4134-B056-E9FA43C8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2A9-C0DF-4F13-9E4A-F18BD916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014-97C7-4A35-8722-3F21DECE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9A1-98E5-4A9F-9497-0ED41EF8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9EC-EEE9-4C1D-BC55-CD704A48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9F1-BCE7-4640-B29A-4C93FC1B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C3A-A578-42CB-B278-09CDC314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C82-955F-4B9F-B45A-B9D64451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49D-BAFD-4396-A8CA-10C30ABD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06C-378D-4148-A6C1-D3C0D4E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C85-ABCA-42B2-B6A4-3AFAB52B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92D7-FB94-47E6-863D-73ACA3AA4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oderosa herramienta para mejorar la productividad y motivación de los trabaj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s conversaciones individuales se realizaron en un total de 26 dependencias de la SET, abar-cando a un total de 160 funcio-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ada conversación, sin conse-cuencias administrativas, el eva-luador le explicó al evaluado los aspectos más positivos y negativos de su trabajo, y lo que se esperaba de él a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su vez, el evaluado expresó su opinión sobre la institución y su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948360" y="214200"/>
          <a:ext cx="2011320" cy="6643800"/>
        </p:xfrm>
        <a:graphic>
          <a:graphicData uri="http://schemas.openxmlformats.org/drawingml/2006/table">
            <a:tbl>
              <a:tblPr/>
              <a:tblGrid>
                <a:gridCol w="2011320"/>
              </a:tblGrid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ah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verg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u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Rom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V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e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y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erto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ce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an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Cristob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Pedro de Maco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on de 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Los resultados, en verdad, excedieron todas las expectativas…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fue la opinión de los evaluadores… en una escala de 5= Muy Bien a 1= Muy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pinión de los evalu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16360" y="1628640"/>
          <a:ext cx="4176720" cy="1914840"/>
        </p:xfrm>
        <a:graphic>
          <a:graphicData uri="http://schemas.openxmlformats.org/drawingml/2006/table">
            <a:tbl>
              <a:tblPr/>
              <a:tblGrid>
                <a:gridCol w="3424320"/>
                <a:gridCol w="7524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-ción tuvo en lo general un re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acción del evaluado frente a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08360" y="3716280"/>
          <a:ext cx="5184720" cy="2644920"/>
        </p:xfrm>
        <a:graphic>
          <a:graphicData uri="http://schemas.openxmlformats.org/drawingml/2006/table">
            <a:tbl>
              <a:tblPr/>
              <a:tblGrid>
                <a:gridCol w="4392720"/>
                <a:gridCol w="7920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ción tuvo en lo general, en mi opinión, un re-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ctitud y objetividad del evalua-dor durante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artir de esta conversación, tengo más claro lo que se espera de mi trabajo y mi desempeño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n conclusión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unicación entre las personas, ha-blando objetivamente y sin ocultamiento, en un ambiente de confianza y buenas intenciones, es la mejor herramienta para mejorar los ambientes laborales y la productividad de las organiz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s una práctica que pudiera aplicarse periódicamente, en tod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8:49:40Z</dcterms:created>
  <dc:creator>mwaissbluth</dc:creator>
  <dc:description/>
  <dc:language>en-US</dc:language>
  <cp:lastModifiedBy>mwaissbluth</cp:lastModifiedBy>
  <dcterms:modified xsi:type="dcterms:W3CDTF">2003-09-15T19:06:18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324463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Subject">
    <vt:lpwstr>Material de diplomado</vt:lpwstr>
  </property>
</Properties>
</file>