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6AA-5D84-4ADF-A72A-13A01924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530-0741-449D-9DB9-E57E970C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7D0-237E-49D8-A50E-CCAA9533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DE8-F376-458D-81C1-47157B32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1AD-A1F2-4A35-90EF-C4B65019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0E6-5CD4-4E31-B50C-7EBEF0CB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D01-C825-4689-9E30-FF20BBD9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C41-63E5-4162-B93E-A436F4C9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1E3-8D59-4286-B744-4CFEE1D6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819-6F49-4A60-B065-10FF8FAE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BCE-2533-4B3B-9851-18396BE3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A84-36AD-425A-B107-7EA3D505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73FC-2C5C-4DE1-A416-88BA36B3B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oderosa herramienta para mejorar la productividad y motivación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s conversaciones individuales se realizaron en un total de 26 dependencias de la SET, abar-cando a un total de 160 funcio-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ada conversación, sin conse-cuencias administrativas, el eva-luador le explicó al evaluado los aspectos más positivos y negativos de su trabajo, y lo que se esperaba de él a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su vez, el evaluado expresó su opinión sobre la institución y su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948360" y="214200"/>
          <a:ext cx="2011320" cy="6643800"/>
        </p:xfrm>
        <a:graphic>
          <a:graphicData uri="http://schemas.openxmlformats.org/drawingml/2006/table">
            <a:tbl>
              <a:tblPr/>
              <a:tblGrid>
                <a:gridCol w="2011320"/>
              </a:tblGrid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ah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verg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u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Ro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e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y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erto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c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a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Crist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Pedro de Maco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on de 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Los resultados, en verdad, excedieron todas las expectativas…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fue la opinión de los evaluadores… en una escala de 5= Muy Bien a 1= Muy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inión de los evalu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16360" y="1628640"/>
          <a:ext cx="4176720" cy="1914840"/>
        </p:xfrm>
        <a:graphic>
          <a:graphicData uri="http://schemas.openxmlformats.org/drawingml/2006/table">
            <a:tbl>
              <a:tblPr/>
              <a:tblGrid>
                <a:gridCol w="3424320"/>
                <a:gridCol w="7524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-ción tuvo en lo general un re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acción del evaluado frente a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8360" y="3716280"/>
          <a:ext cx="5184720" cy="2644920"/>
        </p:xfrm>
        <a:graphic>
          <a:graphicData uri="http://schemas.openxmlformats.org/drawingml/2006/table">
            <a:tbl>
              <a:tblPr/>
              <a:tblGrid>
                <a:gridCol w="4392720"/>
                <a:gridCol w="7920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ción tuvo en lo general, en mi opinión, un re-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ctitud y objetividad del evalua-dor durante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artir de esta conversación, tengo más claro lo que se espera de mi trabajo y mi desempeño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 conclusión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unicación entre las personas, ha-blando objetivamente y sin ocultamiento, en un ambiente de confianza y buenas intenciones, es la mejor herramienta para mejorar los ambientes laborales y la productividad de las organ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s una práctica que pudiera aplicarse periódicamente, en to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8:49:40Z</dcterms:created>
  <dc:creator>mwaissbluth</dc:creator>
  <dc:description/>
  <dc:language>en-US</dc:language>
  <cp:lastModifiedBy>mwaissbluth</cp:lastModifiedBy>
  <dcterms:modified xsi:type="dcterms:W3CDTF">2003-09-15T19:06:18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324463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Subject">
    <vt:lpwstr>Material de diplomado</vt:lpwstr>
  </property>
</Properties>
</file>