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12.wmf" ContentType="image/x-wmf"/>
  <Override PartName="/ppt/media/image6.jpeg" ContentType="image/jpeg"/>
  <Override PartName="/ppt/media/image9.wmf" ContentType="image/x-wmf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74D3-AC2E-40A5-9C24-2831CC34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E3FA-865F-4542-A03A-AB39EA84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CB94-99BB-42CA-9D0D-8D2093A5B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0273-2906-47C9-AD5C-44DC147F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A55B-AAF9-437A-B7BA-0B9A83F9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4590-7B4B-4E43-8C58-A0639D34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A8D1-9232-4AAA-ADC7-6FEBD5D5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3924-C049-448A-BC64-11925DD4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D153-3122-45A2-A447-DE686153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2A59-4BD8-4BD5-97D1-C78D4A31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2DC2-2D14-40C2-82C0-3852D148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FB2E-D8AE-467C-8277-0B550CAF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1B67-6B73-4664-9148-711CC6CC7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IPLOMADOS EN 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EDIO AMBIENT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PLOMADO EN CONTAMINACION DE AG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STRUCCION DE UN MODELO DE CALIDAD DE AGU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Relato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arlos Espino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geniero Civil, Ph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cadémico Universidad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0" r="0" b="21416"/>
          <a:stretch/>
        </p:blipFill>
        <p:spPr>
          <a:xfrm>
            <a:off x="6248520" y="838080"/>
            <a:ext cx="1904760" cy="2244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0" t="0" r="0" b="8276"/>
          <a:stretch/>
        </p:blipFill>
        <p:spPr>
          <a:xfrm>
            <a:off x="2316240" y="5530680"/>
            <a:ext cx="718920" cy="885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24852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812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CUELA DE POSTGR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Balance Más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973240" y="1427040"/>
                <a:ext cx="374652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 </m:t>
                        </m:r>
                        <m:r>
                          <m:t xml:space="preserve">Δt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16200" y="2970360"/>
                <a:ext cx="4256280" cy="10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/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Δt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82960" y="4570560"/>
                <a:ext cx="3798720" cy="10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</m:e>
                        </m:d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Modelo de Calid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038400" y="1905120"/>
                <a:ext cx="31514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Δt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116240" y="4114800"/>
                <a:ext cx="9892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e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2286000" y="4876920"/>
            <a:ext cx="48769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atos de entrada: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riables de estado: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409840" y="2894040"/>
                <a:ext cx="475308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</m:e>
                        </m:d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1336680" y="1317600"/>
          <a:ext cx="7197840" cy="401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1317600"/>
                    <a:ext cx="719784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286000" y="556272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atos de entrada: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1335240" y="1327320"/>
          <a:ext cx="7197480" cy="401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5240" y="1327320"/>
                    <a:ext cx="719748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2286000" y="556272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atos de entrada: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1327320" y="1335240"/>
          <a:ext cx="7197480" cy="401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7320" y="1335240"/>
                    <a:ext cx="719748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2286000" y="556272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atos de entrada: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1327320" y="1335240"/>
          <a:ext cx="7197480" cy="401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7320" y="1335240"/>
                    <a:ext cx="719748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2286000" y="556272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riables de estado: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1327320" y="1335240"/>
          <a:ext cx="7197480" cy="401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7320" y="1335240"/>
                    <a:ext cx="719748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2286000" y="556272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riables de estado: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371600" y="762120"/>
          <a:ext cx="7162920" cy="54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762120"/>
                    <a:ext cx="7162920" cy="54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2367360" y="1258920"/>
            <a:ext cx="2241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 = 0.000 1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80840" y="1868400"/>
            <a:ext cx="1715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x = 4.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2590920"/>
            <a:ext cx="0" cy="1523880"/>
          </a:xfrm>
          <a:prstGeom prst="line">
            <a:avLst/>
          </a:prstGeom>
          <a:ln w="255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124080" y="1523880"/>
            <a:ext cx="3289320" cy="1594080"/>
          </a:xfrm>
          <a:custGeom>
            <a:avLst/>
            <a:gdLst/>
            <a:ahLst/>
            <a:rect l="l" t="t" r="r" b="b"/>
            <a:pathLst>
              <a:path w="2072" h="1004">
                <a:moveTo>
                  <a:pt x="214" y="104"/>
                </a:moveTo>
                <a:cubicBezTo>
                  <a:pt x="190" y="107"/>
                  <a:pt x="165" y="106"/>
                  <a:pt x="141" y="112"/>
                </a:cubicBezTo>
                <a:cubicBezTo>
                  <a:pt x="108" y="120"/>
                  <a:pt x="76" y="166"/>
                  <a:pt x="50" y="186"/>
                </a:cubicBezTo>
                <a:cubicBezTo>
                  <a:pt x="41" y="224"/>
                  <a:pt x="36" y="263"/>
                  <a:pt x="25" y="301"/>
                </a:cubicBezTo>
                <a:cubicBezTo>
                  <a:pt x="22" y="313"/>
                  <a:pt x="13" y="323"/>
                  <a:pt x="9" y="334"/>
                </a:cubicBezTo>
                <a:cubicBezTo>
                  <a:pt x="5" y="345"/>
                  <a:pt x="4" y="356"/>
                  <a:pt x="1" y="367"/>
                </a:cubicBezTo>
                <a:cubicBezTo>
                  <a:pt x="4" y="424"/>
                  <a:pt x="0" y="482"/>
                  <a:pt x="9" y="539"/>
                </a:cubicBezTo>
                <a:cubicBezTo>
                  <a:pt x="11" y="551"/>
                  <a:pt x="25" y="557"/>
                  <a:pt x="34" y="564"/>
                </a:cubicBezTo>
                <a:cubicBezTo>
                  <a:pt x="79" y="599"/>
                  <a:pt x="129" y="625"/>
                  <a:pt x="173" y="662"/>
                </a:cubicBezTo>
                <a:cubicBezTo>
                  <a:pt x="199" y="684"/>
                  <a:pt x="231" y="697"/>
                  <a:pt x="256" y="720"/>
                </a:cubicBezTo>
                <a:cubicBezTo>
                  <a:pt x="288" y="749"/>
                  <a:pt x="318" y="789"/>
                  <a:pt x="362" y="802"/>
                </a:cubicBezTo>
                <a:cubicBezTo>
                  <a:pt x="399" y="814"/>
                  <a:pt x="440" y="813"/>
                  <a:pt x="477" y="827"/>
                </a:cubicBezTo>
                <a:cubicBezTo>
                  <a:pt x="547" y="853"/>
                  <a:pt x="634" y="881"/>
                  <a:pt x="708" y="893"/>
                </a:cubicBezTo>
                <a:cubicBezTo>
                  <a:pt x="778" y="905"/>
                  <a:pt x="850" y="902"/>
                  <a:pt x="921" y="909"/>
                </a:cubicBezTo>
                <a:cubicBezTo>
                  <a:pt x="970" y="925"/>
                  <a:pt x="1021" y="958"/>
                  <a:pt x="1069" y="966"/>
                </a:cubicBezTo>
                <a:cubicBezTo>
                  <a:pt x="1149" y="979"/>
                  <a:pt x="1259" y="980"/>
                  <a:pt x="1332" y="983"/>
                </a:cubicBezTo>
                <a:cubicBezTo>
                  <a:pt x="1419" y="1004"/>
                  <a:pt x="1501" y="963"/>
                  <a:pt x="1587" y="958"/>
                </a:cubicBezTo>
                <a:cubicBezTo>
                  <a:pt x="1697" y="952"/>
                  <a:pt x="1806" y="953"/>
                  <a:pt x="1916" y="950"/>
                </a:cubicBezTo>
                <a:cubicBezTo>
                  <a:pt x="1935" y="917"/>
                  <a:pt x="1948" y="902"/>
                  <a:pt x="1973" y="876"/>
                </a:cubicBezTo>
                <a:cubicBezTo>
                  <a:pt x="1986" y="839"/>
                  <a:pt x="2015" y="831"/>
                  <a:pt x="2039" y="802"/>
                </a:cubicBezTo>
                <a:cubicBezTo>
                  <a:pt x="2059" y="778"/>
                  <a:pt x="2065" y="750"/>
                  <a:pt x="2072" y="720"/>
                </a:cubicBezTo>
                <a:cubicBezTo>
                  <a:pt x="2069" y="662"/>
                  <a:pt x="2071" y="604"/>
                  <a:pt x="2064" y="547"/>
                </a:cubicBezTo>
                <a:cubicBezTo>
                  <a:pt x="2058" y="496"/>
                  <a:pt x="1978" y="431"/>
                  <a:pt x="1932" y="416"/>
                </a:cubicBezTo>
                <a:cubicBezTo>
                  <a:pt x="1800" y="323"/>
                  <a:pt x="1632" y="330"/>
                  <a:pt x="1480" y="293"/>
                </a:cubicBezTo>
                <a:cubicBezTo>
                  <a:pt x="1452" y="272"/>
                  <a:pt x="1423" y="248"/>
                  <a:pt x="1390" y="235"/>
                </a:cubicBezTo>
                <a:cubicBezTo>
                  <a:pt x="1339" y="216"/>
                  <a:pt x="1375" y="238"/>
                  <a:pt x="1332" y="219"/>
                </a:cubicBezTo>
                <a:cubicBezTo>
                  <a:pt x="1302" y="206"/>
                  <a:pt x="1233" y="163"/>
                  <a:pt x="1209" y="161"/>
                </a:cubicBezTo>
                <a:cubicBezTo>
                  <a:pt x="1182" y="158"/>
                  <a:pt x="1154" y="156"/>
                  <a:pt x="1127" y="153"/>
                </a:cubicBezTo>
                <a:cubicBezTo>
                  <a:pt x="1100" y="126"/>
                  <a:pt x="1050" y="113"/>
                  <a:pt x="1012" y="104"/>
                </a:cubicBezTo>
                <a:cubicBezTo>
                  <a:pt x="989" y="81"/>
                  <a:pt x="967" y="84"/>
                  <a:pt x="938" y="71"/>
                </a:cubicBezTo>
                <a:cubicBezTo>
                  <a:pt x="879" y="45"/>
                  <a:pt x="830" y="38"/>
                  <a:pt x="765" y="30"/>
                </a:cubicBezTo>
                <a:cubicBezTo>
                  <a:pt x="656" y="0"/>
                  <a:pt x="539" y="26"/>
                  <a:pt x="428" y="38"/>
                </a:cubicBezTo>
                <a:cubicBezTo>
                  <a:pt x="377" y="55"/>
                  <a:pt x="324" y="60"/>
                  <a:pt x="272" y="71"/>
                </a:cubicBezTo>
                <a:cubicBezTo>
                  <a:pt x="199" y="87"/>
                  <a:pt x="197" y="67"/>
                  <a:pt x="214" y="104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25680" y="1351080"/>
            <a:ext cx="762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88200" y="2722680"/>
            <a:ext cx="9144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49760" y="1295280"/>
            <a:ext cx="0" cy="104616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83808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31240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41148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ESTADISTICA O INFORMACION CONOC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4832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ARIABLES DE 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91520" y="31240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22860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555156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Arial"/>
              </a:rPr>
              <a:t>PROCESO, k es un parámetro d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15238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Arial"/>
              </a:rPr>
              <a:t>r=-k·C</a:t>
            </a:r>
            <a:r>
              <a:rPr b="1" lang="es-ES_tradnl" sz="2400" spc="-1" strike="noStrike" baseline="-25000">
                <a:solidFill>
                  <a:srgbClr val="00cc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4120" y="685800"/>
            <a:ext cx="1752480" cy="2209680"/>
          </a:xfrm>
          <a:prstGeom prst="ellipse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Balance Volumétr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Balance Más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Condición de Mezcla Comple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606840" y="1523880"/>
                <a:ext cx="19303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070000" y="3429000"/>
                <a:ext cx="49532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116240" y="5345280"/>
                <a:ext cx="1063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18960" y="1905120"/>
            <a:ext cx="73911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EPTO DE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TILIDAD DE LOS MOD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POS DE MOD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SARROLLO DE MOD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SPECTOS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CONSTRUCCION DE UN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Balance Volumétr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324160" y="1496880"/>
                <a:ext cx="44956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527200" y="2949480"/>
                <a:ext cx="41911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Δt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540160" y="4191120"/>
                <a:ext cx="419076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Δt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886200" y="5181480"/>
                <a:ext cx="13208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e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Balance Más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Mezcla comple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120760" y="1506600"/>
                <a:ext cx="517536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4233960" y="4038480"/>
                <a:ext cx="7952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197080" y="4687920"/>
                <a:ext cx="517536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Balance Más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238480" y="1595520"/>
                <a:ext cx="521784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 </m:t>
                        </m:r>
                        <m:r>
                          <m:t xml:space="preserve">Δt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628640" y="3119400"/>
                <a:ext cx="64612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676520" y="4800600"/>
                <a:ext cx="640368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</m:e>
                        </m:d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Modelo de Calid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038400" y="1925640"/>
                <a:ext cx="31514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Δt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4116240" y="4114800"/>
                <a:ext cx="9892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e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2286000" y="4876920"/>
            <a:ext cx="48769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atos de entrada: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rámetro del modelo: </a:t>
            </a:r>
            <a:r>
              <a:rPr b="1" lang="es-ES_tradnl" sz="2400" spc="-1" strike="noStrike">
                <a:solidFill>
                  <a:srgbClr val="00cc99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riables de estado: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676520" y="2819520"/>
                <a:ext cx="640368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</m:e>
                        </m:d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1336680" y="1317600"/>
          <a:ext cx="7197840" cy="401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1317600"/>
                    <a:ext cx="719784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2286000" y="556272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atos de entrada: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1335240" y="1327320"/>
          <a:ext cx="7197480" cy="401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5240" y="1327320"/>
                    <a:ext cx="719748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2286000" y="556272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atos de entrada: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1327320" y="1335240"/>
          <a:ext cx="7197480" cy="401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7320" y="1335240"/>
                    <a:ext cx="719748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2286000" y="556272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atos de entrada: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1327320" y="1335240"/>
          <a:ext cx="7197480" cy="401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7320" y="1335240"/>
                    <a:ext cx="719748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2286000" y="556272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riables de estado: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1327320" y="1335240"/>
          <a:ext cx="7197480" cy="401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7320" y="1335240"/>
                    <a:ext cx="719748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2286000" y="556272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riables de estado: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219320" y="838080"/>
            <a:ext cx="73911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CALIB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</a:rPr>
              <a:t>Criterios Cuantitativos de una Calibr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Valor medio (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Valor absoluto (R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Raiz cuadrada del residual (R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esviación estándar (S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Valor absoluto máximo (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6477120" y="2327400"/>
                <a:ext cx="11221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477120" y="3089160"/>
                <a:ext cx="131292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6477120" y="3868560"/>
                <a:ext cx="16938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6477120" y="4630680"/>
                <a:ext cx="230184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R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6458040" y="5459400"/>
                <a:ext cx="161748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M</m:t>
                    </m:r>
                    <m:r>
                      <m:t xml:space="preserve">=</m:t>
                    </m:r>
                    <m:limLow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n</m:t>
                            </m:r>
                          </m:lim>
                        </m:limUpp>
                      </m:e>
                      <m:lim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3276720" y="2666880"/>
            <a:ext cx="297180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9880" y="3429000"/>
            <a:ext cx="243864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57800" y="4191120"/>
            <a:ext cx="99072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5715000"/>
            <a:ext cx="167652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4952880"/>
            <a:ext cx="190512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6440400" y="903240"/>
                <a:ext cx="21114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IMULADO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DIDO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838080"/>
            <a:ext cx="7315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Modelo de Calidad de un L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47920" y="1371600"/>
            <a:ext cx="4876560" cy="3852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590920" y="2209680"/>
            <a:ext cx="4863960" cy="3517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809880" y="3048120"/>
            <a:ext cx="487692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1371600" y="1271520"/>
            <a:ext cx="7162920" cy="52815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219320" y="838080"/>
            <a:ext cx="73911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CALIB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371600" y="762120"/>
          <a:ext cx="7162920" cy="54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762120"/>
                    <a:ext cx="7162920" cy="54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2367360" y="1258920"/>
            <a:ext cx="2241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 = 0.000 1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80840" y="1868400"/>
            <a:ext cx="1596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M = 4.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1327320" y="1335240"/>
          <a:ext cx="7197480" cy="401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7320" y="1335240"/>
                    <a:ext cx="719748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2286000" y="556272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riables de estado: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370160" y="762120"/>
          <a:ext cx="7165800" cy="548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762120"/>
                    <a:ext cx="7165800" cy="54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2367360" y="1258920"/>
            <a:ext cx="2241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 = 0.001 1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80840" y="1868400"/>
            <a:ext cx="1596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M = 1.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"/>
          <p:cNvGraphicFramePr/>
          <p:nvPr/>
        </p:nvGraphicFramePr>
        <p:xfrm>
          <a:off x="1327320" y="1335240"/>
          <a:ext cx="7197480" cy="401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7320" y="1335240"/>
                    <a:ext cx="719748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2286000" y="556272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riables de estado: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370160" y="762120"/>
          <a:ext cx="7165800" cy="548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762120"/>
                    <a:ext cx="7165800" cy="54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2367360" y="1258920"/>
            <a:ext cx="2241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 = 0.002 1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80840" y="1868400"/>
            <a:ext cx="1596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M = 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1327320" y="1335240"/>
          <a:ext cx="7197480" cy="401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7320" y="1335240"/>
                    <a:ext cx="719748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2286000" y="556272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riables de estado: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1370160" y="762120"/>
          <a:ext cx="7165800" cy="548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762120"/>
                    <a:ext cx="7165800" cy="54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2367360" y="1258920"/>
            <a:ext cx="2241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 = 0.005 1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80840" y="1868400"/>
            <a:ext cx="1596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M = 2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523880" y="1066680"/>
          <a:ext cx="6934320" cy="4965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066680"/>
                    <a:ext cx="693432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1520640" y="457200"/>
            <a:ext cx="377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</a:rPr>
              <a:t>Valor absoluto máximo (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048120" y="1523880"/>
            <a:ext cx="3289320" cy="1594080"/>
          </a:xfrm>
          <a:custGeom>
            <a:avLst/>
            <a:gdLst/>
            <a:ahLst/>
            <a:rect l="l" t="t" r="r" b="b"/>
            <a:pathLst>
              <a:path w="2072" h="1004">
                <a:moveTo>
                  <a:pt x="214" y="104"/>
                </a:moveTo>
                <a:cubicBezTo>
                  <a:pt x="190" y="107"/>
                  <a:pt x="165" y="106"/>
                  <a:pt x="141" y="112"/>
                </a:cubicBezTo>
                <a:cubicBezTo>
                  <a:pt x="108" y="120"/>
                  <a:pt x="76" y="166"/>
                  <a:pt x="50" y="186"/>
                </a:cubicBezTo>
                <a:cubicBezTo>
                  <a:pt x="41" y="224"/>
                  <a:pt x="36" y="263"/>
                  <a:pt x="25" y="301"/>
                </a:cubicBezTo>
                <a:cubicBezTo>
                  <a:pt x="22" y="313"/>
                  <a:pt x="13" y="323"/>
                  <a:pt x="9" y="334"/>
                </a:cubicBezTo>
                <a:cubicBezTo>
                  <a:pt x="5" y="345"/>
                  <a:pt x="4" y="356"/>
                  <a:pt x="1" y="367"/>
                </a:cubicBezTo>
                <a:cubicBezTo>
                  <a:pt x="4" y="424"/>
                  <a:pt x="0" y="482"/>
                  <a:pt x="9" y="539"/>
                </a:cubicBezTo>
                <a:cubicBezTo>
                  <a:pt x="11" y="551"/>
                  <a:pt x="25" y="557"/>
                  <a:pt x="34" y="564"/>
                </a:cubicBezTo>
                <a:cubicBezTo>
                  <a:pt x="79" y="599"/>
                  <a:pt x="129" y="625"/>
                  <a:pt x="173" y="662"/>
                </a:cubicBezTo>
                <a:cubicBezTo>
                  <a:pt x="199" y="684"/>
                  <a:pt x="231" y="697"/>
                  <a:pt x="256" y="720"/>
                </a:cubicBezTo>
                <a:cubicBezTo>
                  <a:pt x="288" y="749"/>
                  <a:pt x="318" y="789"/>
                  <a:pt x="362" y="802"/>
                </a:cubicBezTo>
                <a:cubicBezTo>
                  <a:pt x="399" y="814"/>
                  <a:pt x="440" y="813"/>
                  <a:pt x="477" y="827"/>
                </a:cubicBezTo>
                <a:cubicBezTo>
                  <a:pt x="547" y="853"/>
                  <a:pt x="634" y="881"/>
                  <a:pt x="708" y="893"/>
                </a:cubicBezTo>
                <a:cubicBezTo>
                  <a:pt x="778" y="905"/>
                  <a:pt x="850" y="902"/>
                  <a:pt x="921" y="909"/>
                </a:cubicBezTo>
                <a:cubicBezTo>
                  <a:pt x="970" y="925"/>
                  <a:pt x="1021" y="958"/>
                  <a:pt x="1069" y="966"/>
                </a:cubicBezTo>
                <a:cubicBezTo>
                  <a:pt x="1149" y="979"/>
                  <a:pt x="1259" y="980"/>
                  <a:pt x="1332" y="983"/>
                </a:cubicBezTo>
                <a:cubicBezTo>
                  <a:pt x="1419" y="1004"/>
                  <a:pt x="1501" y="963"/>
                  <a:pt x="1587" y="958"/>
                </a:cubicBezTo>
                <a:cubicBezTo>
                  <a:pt x="1697" y="952"/>
                  <a:pt x="1806" y="953"/>
                  <a:pt x="1916" y="950"/>
                </a:cubicBezTo>
                <a:cubicBezTo>
                  <a:pt x="1935" y="917"/>
                  <a:pt x="1948" y="902"/>
                  <a:pt x="1973" y="876"/>
                </a:cubicBezTo>
                <a:cubicBezTo>
                  <a:pt x="1986" y="839"/>
                  <a:pt x="2015" y="831"/>
                  <a:pt x="2039" y="802"/>
                </a:cubicBezTo>
                <a:cubicBezTo>
                  <a:pt x="2059" y="778"/>
                  <a:pt x="2065" y="750"/>
                  <a:pt x="2072" y="720"/>
                </a:cubicBezTo>
                <a:cubicBezTo>
                  <a:pt x="2069" y="662"/>
                  <a:pt x="2071" y="604"/>
                  <a:pt x="2064" y="547"/>
                </a:cubicBezTo>
                <a:cubicBezTo>
                  <a:pt x="2058" y="496"/>
                  <a:pt x="1978" y="431"/>
                  <a:pt x="1932" y="416"/>
                </a:cubicBezTo>
                <a:cubicBezTo>
                  <a:pt x="1800" y="323"/>
                  <a:pt x="1632" y="330"/>
                  <a:pt x="1480" y="293"/>
                </a:cubicBezTo>
                <a:cubicBezTo>
                  <a:pt x="1452" y="272"/>
                  <a:pt x="1423" y="248"/>
                  <a:pt x="1390" y="235"/>
                </a:cubicBezTo>
                <a:cubicBezTo>
                  <a:pt x="1339" y="216"/>
                  <a:pt x="1375" y="238"/>
                  <a:pt x="1332" y="219"/>
                </a:cubicBezTo>
                <a:cubicBezTo>
                  <a:pt x="1302" y="206"/>
                  <a:pt x="1233" y="163"/>
                  <a:pt x="1209" y="161"/>
                </a:cubicBezTo>
                <a:cubicBezTo>
                  <a:pt x="1182" y="158"/>
                  <a:pt x="1154" y="156"/>
                  <a:pt x="1127" y="153"/>
                </a:cubicBezTo>
                <a:cubicBezTo>
                  <a:pt x="1100" y="126"/>
                  <a:pt x="1050" y="113"/>
                  <a:pt x="1012" y="104"/>
                </a:cubicBezTo>
                <a:cubicBezTo>
                  <a:pt x="989" y="81"/>
                  <a:pt x="967" y="84"/>
                  <a:pt x="938" y="71"/>
                </a:cubicBezTo>
                <a:cubicBezTo>
                  <a:pt x="879" y="45"/>
                  <a:pt x="830" y="38"/>
                  <a:pt x="765" y="30"/>
                </a:cubicBezTo>
                <a:cubicBezTo>
                  <a:pt x="656" y="0"/>
                  <a:pt x="539" y="26"/>
                  <a:pt x="428" y="38"/>
                </a:cubicBezTo>
                <a:cubicBezTo>
                  <a:pt x="377" y="55"/>
                  <a:pt x="324" y="60"/>
                  <a:pt x="272" y="71"/>
                </a:cubicBezTo>
                <a:cubicBezTo>
                  <a:pt x="199" y="87"/>
                  <a:pt x="197" y="67"/>
                  <a:pt x="214" y="104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49360" y="1351080"/>
            <a:ext cx="762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311880" y="2722680"/>
            <a:ext cx="9144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73800" y="1676520"/>
            <a:ext cx="0" cy="104616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00200" y="838080"/>
            <a:ext cx="123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705720" y="31240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52480" y="41148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ESTADISTICA O INFORMACION CONOC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48120" y="46483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ARIABLES DE 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1240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33920" y="22860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828800" y="51814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Arial"/>
              </a:rPr>
              <a:t>PROCESO, k es un parámetro d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152388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Arial"/>
              </a:rPr>
              <a:t>r=-k·C</a:t>
            </a:r>
            <a:r>
              <a:rPr b="1" lang="es-ES_tradnl" sz="2400" spc="-1" strike="noStrike" baseline="-25000">
                <a:solidFill>
                  <a:srgbClr val="00cc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657600" y="533520"/>
            <a:ext cx="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94040" y="304920"/>
            <a:ext cx="123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14600" y="5791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MBIOS EN SITUACION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24080" y="1523880"/>
            <a:ext cx="3289320" cy="1594080"/>
          </a:xfrm>
          <a:custGeom>
            <a:avLst/>
            <a:gdLst/>
            <a:ahLst/>
            <a:rect l="l" t="t" r="r" b="b"/>
            <a:pathLst>
              <a:path w="2072" h="1004">
                <a:moveTo>
                  <a:pt x="214" y="104"/>
                </a:moveTo>
                <a:cubicBezTo>
                  <a:pt x="190" y="107"/>
                  <a:pt x="165" y="106"/>
                  <a:pt x="141" y="112"/>
                </a:cubicBezTo>
                <a:cubicBezTo>
                  <a:pt x="108" y="120"/>
                  <a:pt x="76" y="166"/>
                  <a:pt x="50" y="186"/>
                </a:cubicBezTo>
                <a:cubicBezTo>
                  <a:pt x="41" y="224"/>
                  <a:pt x="36" y="263"/>
                  <a:pt x="25" y="301"/>
                </a:cubicBezTo>
                <a:cubicBezTo>
                  <a:pt x="22" y="313"/>
                  <a:pt x="13" y="323"/>
                  <a:pt x="9" y="334"/>
                </a:cubicBezTo>
                <a:cubicBezTo>
                  <a:pt x="5" y="345"/>
                  <a:pt x="4" y="356"/>
                  <a:pt x="1" y="367"/>
                </a:cubicBezTo>
                <a:cubicBezTo>
                  <a:pt x="4" y="424"/>
                  <a:pt x="0" y="482"/>
                  <a:pt x="9" y="539"/>
                </a:cubicBezTo>
                <a:cubicBezTo>
                  <a:pt x="11" y="551"/>
                  <a:pt x="25" y="557"/>
                  <a:pt x="34" y="564"/>
                </a:cubicBezTo>
                <a:cubicBezTo>
                  <a:pt x="79" y="599"/>
                  <a:pt x="129" y="625"/>
                  <a:pt x="173" y="662"/>
                </a:cubicBezTo>
                <a:cubicBezTo>
                  <a:pt x="199" y="684"/>
                  <a:pt x="231" y="697"/>
                  <a:pt x="256" y="720"/>
                </a:cubicBezTo>
                <a:cubicBezTo>
                  <a:pt x="288" y="749"/>
                  <a:pt x="318" y="789"/>
                  <a:pt x="362" y="802"/>
                </a:cubicBezTo>
                <a:cubicBezTo>
                  <a:pt x="399" y="814"/>
                  <a:pt x="440" y="813"/>
                  <a:pt x="477" y="827"/>
                </a:cubicBezTo>
                <a:cubicBezTo>
                  <a:pt x="547" y="853"/>
                  <a:pt x="634" y="881"/>
                  <a:pt x="708" y="893"/>
                </a:cubicBezTo>
                <a:cubicBezTo>
                  <a:pt x="778" y="905"/>
                  <a:pt x="850" y="902"/>
                  <a:pt x="921" y="909"/>
                </a:cubicBezTo>
                <a:cubicBezTo>
                  <a:pt x="970" y="925"/>
                  <a:pt x="1021" y="958"/>
                  <a:pt x="1069" y="966"/>
                </a:cubicBezTo>
                <a:cubicBezTo>
                  <a:pt x="1149" y="979"/>
                  <a:pt x="1259" y="980"/>
                  <a:pt x="1332" y="983"/>
                </a:cubicBezTo>
                <a:cubicBezTo>
                  <a:pt x="1419" y="1004"/>
                  <a:pt x="1501" y="963"/>
                  <a:pt x="1587" y="958"/>
                </a:cubicBezTo>
                <a:cubicBezTo>
                  <a:pt x="1697" y="952"/>
                  <a:pt x="1806" y="953"/>
                  <a:pt x="1916" y="950"/>
                </a:cubicBezTo>
                <a:cubicBezTo>
                  <a:pt x="1935" y="917"/>
                  <a:pt x="1948" y="902"/>
                  <a:pt x="1973" y="876"/>
                </a:cubicBezTo>
                <a:cubicBezTo>
                  <a:pt x="1986" y="839"/>
                  <a:pt x="2015" y="831"/>
                  <a:pt x="2039" y="802"/>
                </a:cubicBezTo>
                <a:cubicBezTo>
                  <a:pt x="2059" y="778"/>
                  <a:pt x="2065" y="750"/>
                  <a:pt x="2072" y="720"/>
                </a:cubicBezTo>
                <a:cubicBezTo>
                  <a:pt x="2069" y="662"/>
                  <a:pt x="2071" y="604"/>
                  <a:pt x="2064" y="547"/>
                </a:cubicBezTo>
                <a:cubicBezTo>
                  <a:pt x="2058" y="496"/>
                  <a:pt x="1978" y="431"/>
                  <a:pt x="1932" y="416"/>
                </a:cubicBezTo>
                <a:cubicBezTo>
                  <a:pt x="1800" y="323"/>
                  <a:pt x="1632" y="330"/>
                  <a:pt x="1480" y="293"/>
                </a:cubicBezTo>
                <a:cubicBezTo>
                  <a:pt x="1452" y="272"/>
                  <a:pt x="1423" y="248"/>
                  <a:pt x="1390" y="235"/>
                </a:cubicBezTo>
                <a:cubicBezTo>
                  <a:pt x="1339" y="216"/>
                  <a:pt x="1375" y="238"/>
                  <a:pt x="1332" y="219"/>
                </a:cubicBezTo>
                <a:cubicBezTo>
                  <a:pt x="1302" y="206"/>
                  <a:pt x="1233" y="163"/>
                  <a:pt x="1209" y="161"/>
                </a:cubicBezTo>
                <a:cubicBezTo>
                  <a:pt x="1182" y="158"/>
                  <a:pt x="1154" y="156"/>
                  <a:pt x="1127" y="153"/>
                </a:cubicBezTo>
                <a:cubicBezTo>
                  <a:pt x="1100" y="126"/>
                  <a:pt x="1050" y="113"/>
                  <a:pt x="1012" y="104"/>
                </a:cubicBezTo>
                <a:cubicBezTo>
                  <a:pt x="989" y="81"/>
                  <a:pt x="967" y="84"/>
                  <a:pt x="938" y="71"/>
                </a:cubicBezTo>
                <a:cubicBezTo>
                  <a:pt x="879" y="45"/>
                  <a:pt x="830" y="38"/>
                  <a:pt x="765" y="30"/>
                </a:cubicBezTo>
                <a:cubicBezTo>
                  <a:pt x="656" y="0"/>
                  <a:pt x="539" y="26"/>
                  <a:pt x="428" y="38"/>
                </a:cubicBezTo>
                <a:cubicBezTo>
                  <a:pt x="377" y="55"/>
                  <a:pt x="324" y="60"/>
                  <a:pt x="272" y="71"/>
                </a:cubicBezTo>
                <a:cubicBezTo>
                  <a:pt x="199" y="87"/>
                  <a:pt x="197" y="67"/>
                  <a:pt x="214" y="104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25680" y="1351080"/>
            <a:ext cx="762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88200" y="2722680"/>
            <a:ext cx="9144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83808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31240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41148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ESTADISTICA O INFORMACION CONOC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48322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ARIABLES DE EST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91520" y="31240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9880" y="22860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55515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Arial"/>
              </a:rPr>
              <a:t>COMPUESTO CONSER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Balance Volumétr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Balance Más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Condición de Mezcla Comple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289320" y="1523880"/>
                <a:ext cx="25653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1879560" y="3429000"/>
                <a:ext cx="61214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116240" y="5345280"/>
                <a:ext cx="1063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286000" y="5562720"/>
            <a:ext cx="4952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riables de estado: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riables de decisión: 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327320" y="1335240"/>
          <a:ext cx="7197480" cy="4016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27320" y="1335240"/>
                    <a:ext cx="719748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/>
          <p:nvPr/>
        </p:nvSpPr>
        <p:spPr>
          <a:xfrm flipV="1">
            <a:off x="6553080" y="3047760"/>
            <a:ext cx="0" cy="1143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33720" y="3124080"/>
            <a:ext cx="61722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362280" y="2362320"/>
            <a:ext cx="1454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Max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Balance Volumétr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606840" y="1523880"/>
                <a:ext cx="19303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3581280"/>
            <a:ext cx="3289320" cy="1594080"/>
          </a:xfrm>
          <a:custGeom>
            <a:avLst/>
            <a:gdLst/>
            <a:ahLst/>
            <a:rect l="l" t="t" r="r" b="b"/>
            <a:pathLst>
              <a:path w="2072" h="1004">
                <a:moveTo>
                  <a:pt x="214" y="104"/>
                </a:moveTo>
                <a:cubicBezTo>
                  <a:pt x="190" y="107"/>
                  <a:pt x="165" y="106"/>
                  <a:pt x="141" y="112"/>
                </a:cubicBezTo>
                <a:cubicBezTo>
                  <a:pt x="108" y="120"/>
                  <a:pt x="76" y="166"/>
                  <a:pt x="50" y="186"/>
                </a:cubicBezTo>
                <a:cubicBezTo>
                  <a:pt x="41" y="224"/>
                  <a:pt x="36" y="263"/>
                  <a:pt x="25" y="301"/>
                </a:cubicBezTo>
                <a:cubicBezTo>
                  <a:pt x="22" y="313"/>
                  <a:pt x="13" y="323"/>
                  <a:pt x="9" y="334"/>
                </a:cubicBezTo>
                <a:cubicBezTo>
                  <a:pt x="5" y="345"/>
                  <a:pt x="4" y="356"/>
                  <a:pt x="1" y="367"/>
                </a:cubicBezTo>
                <a:cubicBezTo>
                  <a:pt x="4" y="424"/>
                  <a:pt x="0" y="482"/>
                  <a:pt x="9" y="539"/>
                </a:cubicBezTo>
                <a:cubicBezTo>
                  <a:pt x="11" y="551"/>
                  <a:pt x="25" y="557"/>
                  <a:pt x="34" y="564"/>
                </a:cubicBezTo>
                <a:cubicBezTo>
                  <a:pt x="79" y="599"/>
                  <a:pt x="129" y="625"/>
                  <a:pt x="173" y="662"/>
                </a:cubicBezTo>
                <a:cubicBezTo>
                  <a:pt x="199" y="684"/>
                  <a:pt x="231" y="697"/>
                  <a:pt x="256" y="720"/>
                </a:cubicBezTo>
                <a:cubicBezTo>
                  <a:pt x="288" y="749"/>
                  <a:pt x="318" y="789"/>
                  <a:pt x="362" y="802"/>
                </a:cubicBezTo>
                <a:cubicBezTo>
                  <a:pt x="399" y="814"/>
                  <a:pt x="440" y="813"/>
                  <a:pt x="477" y="827"/>
                </a:cubicBezTo>
                <a:cubicBezTo>
                  <a:pt x="547" y="853"/>
                  <a:pt x="634" y="881"/>
                  <a:pt x="708" y="893"/>
                </a:cubicBezTo>
                <a:cubicBezTo>
                  <a:pt x="778" y="905"/>
                  <a:pt x="850" y="902"/>
                  <a:pt x="921" y="909"/>
                </a:cubicBezTo>
                <a:cubicBezTo>
                  <a:pt x="970" y="925"/>
                  <a:pt x="1021" y="958"/>
                  <a:pt x="1069" y="966"/>
                </a:cubicBezTo>
                <a:cubicBezTo>
                  <a:pt x="1149" y="979"/>
                  <a:pt x="1259" y="980"/>
                  <a:pt x="1332" y="983"/>
                </a:cubicBezTo>
                <a:cubicBezTo>
                  <a:pt x="1419" y="1004"/>
                  <a:pt x="1501" y="963"/>
                  <a:pt x="1587" y="958"/>
                </a:cubicBezTo>
                <a:cubicBezTo>
                  <a:pt x="1697" y="952"/>
                  <a:pt x="1806" y="953"/>
                  <a:pt x="1916" y="950"/>
                </a:cubicBezTo>
                <a:cubicBezTo>
                  <a:pt x="1935" y="917"/>
                  <a:pt x="1948" y="902"/>
                  <a:pt x="1973" y="876"/>
                </a:cubicBezTo>
                <a:cubicBezTo>
                  <a:pt x="1986" y="839"/>
                  <a:pt x="2015" y="831"/>
                  <a:pt x="2039" y="802"/>
                </a:cubicBezTo>
                <a:cubicBezTo>
                  <a:pt x="2059" y="778"/>
                  <a:pt x="2065" y="750"/>
                  <a:pt x="2072" y="720"/>
                </a:cubicBezTo>
                <a:cubicBezTo>
                  <a:pt x="2069" y="662"/>
                  <a:pt x="2071" y="604"/>
                  <a:pt x="2064" y="547"/>
                </a:cubicBezTo>
                <a:cubicBezTo>
                  <a:pt x="2058" y="496"/>
                  <a:pt x="1978" y="431"/>
                  <a:pt x="1932" y="416"/>
                </a:cubicBezTo>
                <a:cubicBezTo>
                  <a:pt x="1800" y="323"/>
                  <a:pt x="1632" y="330"/>
                  <a:pt x="1480" y="293"/>
                </a:cubicBezTo>
                <a:cubicBezTo>
                  <a:pt x="1452" y="272"/>
                  <a:pt x="1423" y="248"/>
                  <a:pt x="1390" y="235"/>
                </a:cubicBezTo>
                <a:cubicBezTo>
                  <a:pt x="1339" y="216"/>
                  <a:pt x="1375" y="238"/>
                  <a:pt x="1332" y="219"/>
                </a:cubicBezTo>
                <a:cubicBezTo>
                  <a:pt x="1302" y="206"/>
                  <a:pt x="1233" y="163"/>
                  <a:pt x="1209" y="161"/>
                </a:cubicBezTo>
                <a:cubicBezTo>
                  <a:pt x="1182" y="158"/>
                  <a:pt x="1154" y="156"/>
                  <a:pt x="1127" y="153"/>
                </a:cubicBezTo>
                <a:cubicBezTo>
                  <a:pt x="1100" y="126"/>
                  <a:pt x="1050" y="113"/>
                  <a:pt x="1012" y="104"/>
                </a:cubicBezTo>
                <a:cubicBezTo>
                  <a:pt x="989" y="81"/>
                  <a:pt x="967" y="84"/>
                  <a:pt x="938" y="71"/>
                </a:cubicBezTo>
                <a:cubicBezTo>
                  <a:pt x="879" y="45"/>
                  <a:pt x="830" y="38"/>
                  <a:pt x="765" y="30"/>
                </a:cubicBezTo>
                <a:cubicBezTo>
                  <a:pt x="656" y="0"/>
                  <a:pt x="539" y="26"/>
                  <a:pt x="428" y="38"/>
                </a:cubicBezTo>
                <a:cubicBezTo>
                  <a:pt x="377" y="55"/>
                  <a:pt x="324" y="60"/>
                  <a:pt x="272" y="71"/>
                </a:cubicBezTo>
                <a:cubicBezTo>
                  <a:pt x="199" y="87"/>
                  <a:pt x="197" y="67"/>
                  <a:pt x="214" y="104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25680" y="3408480"/>
            <a:ext cx="762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88200" y="4780080"/>
            <a:ext cx="9144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289548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81680" y="51814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91520" y="51814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43434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Balance Más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590920" y="1654200"/>
                <a:ext cx="4572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3581280"/>
            <a:ext cx="3289320" cy="1594080"/>
          </a:xfrm>
          <a:custGeom>
            <a:avLst/>
            <a:gdLst/>
            <a:ahLst/>
            <a:rect l="l" t="t" r="r" b="b"/>
            <a:pathLst>
              <a:path w="2072" h="1004">
                <a:moveTo>
                  <a:pt x="214" y="104"/>
                </a:moveTo>
                <a:cubicBezTo>
                  <a:pt x="190" y="107"/>
                  <a:pt x="165" y="106"/>
                  <a:pt x="141" y="112"/>
                </a:cubicBezTo>
                <a:cubicBezTo>
                  <a:pt x="108" y="120"/>
                  <a:pt x="76" y="166"/>
                  <a:pt x="50" y="186"/>
                </a:cubicBezTo>
                <a:cubicBezTo>
                  <a:pt x="41" y="224"/>
                  <a:pt x="36" y="263"/>
                  <a:pt x="25" y="301"/>
                </a:cubicBezTo>
                <a:cubicBezTo>
                  <a:pt x="22" y="313"/>
                  <a:pt x="13" y="323"/>
                  <a:pt x="9" y="334"/>
                </a:cubicBezTo>
                <a:cubicBezTo>
                  <a:pt x="5" y="345"/>
                  <a:pt x="4" y="356"/>
                  <a:pt x="1" y="367"/>
                </a:cubicBezTo>
                <a:cubicBezTo>
                  <a:pt x="4" y="424"/>
                  <a:pt x="0" y="482"/>
                  <a:pt x="9" y="539"/>
                </a:cubicBezTo>
                <a:cubicBezTo>
                  <a:pt x="11" y="551"/>
                  <a:pt x="25" y="557"/>
                  <a:pt x="34" y="564"/>
                </a:cubicBezTo>
                <a:cubicBezTo>
                  <a:pt x="79" y="599"/>
                  <a:pt x="129" y="625"/>
                  <a:pt x="173" y="662"/>
                </a:cubicBezTo>
                <a:cubicBezTo>
                  <a:pt x="199" y="684"/>
                  <a:pt x="231" y="697"/>
                  <a:pt x="256" y="720"/>
                </a:cubicBezTo>
                <a:cubicBezTo>
                  <a:pt x="288" y="749"/>
                  <a:pt x="318" y="789"/>
                  <a:pt x="362" y="802"/>
                </a:cubicBezTo>
                <a:cubicBezTo>
                  <a:pt x="399" y="814"/>
                  <a:pt x="440" y="813"/>
                  <a:pt x="477" y="827"/>
                </a:cubicBezTo>
                <a:cubicBezTo>
                  <a:pt x="547" y="853"/>
                  <a:pt x="634" y="881"/>
                  <a:pt x="708" y="893"/>
                </a:cubicBezTo>
                <a:cubicBezTo>
                  <a:pt x="778" y="905"/>
                  <a:pt x="850" y="902"/>
                  <a:pt x="921" y="909"/>
                </a:cubicBezTo>
                <a:cubicBezTo>
                  <a:pt x="970" y="925"/>
                  <a:pt x="1021" y="958"/>
                  <a:pt x="1069" y="966"/>
                </a:cubicBezTo>
                <a:cubicBezTo>
                  <a:pt x="1149" y="979"/>
                  <a:pt x="1259" y="980"/>
                  <a:pt x="1332" y="983"/>
                </a:cubicBezTo>
                <a:cubicBezTo>
                  <a:pt x="1419" y="1004"/>
                  <a:pt x="1501" y="963"/>
                  <a:pt x="1587" y="958"/>
                </a:cubicBezTo>
                <a:cubicBezTo>
                  <a:pt x="1697" y="952"/>
                  <a:pt x="1806" y="953"/>
                  <a:pt x="1916" y="950"/>
                </a:cubicBezTo>
                <a:cubicBezTo>
                  <a:pt x="1935" y="917"/>
                  <a:pt x="1948" y="902"/>
                  <a:pt x="1973" y="876"/>
                </a:cubicBezTo>
                <a:cubicBezTo>
                  <a:pt x="1986" y="839"/>
                  <a:pt x="2015" y="831"/>
                  <a:pt x="2039" y="802"/>
                </a:cubicBezTo>
                <a:cubicBezTo>
                  <a:pt x="2059" y="778"/>
                  <a:pt x="2065" y="750"/>
                  <a:pt x="2072" y="720"/>
                </a:cubicBezTo>
                <a:cubicBezTo>
                  <a:pt x="2069" y="662"/>
                  <a:pt x="2071" y="604"/>
                  <a:pt x="2064" y="547"/>
                </a:cubicBezTo>
                <a:cubicBezTo>
                  <a:pt x="2058" y="496"/>
                  <a:pt x="1978" y="431"/>
                  <a:pt x="1932" y="416"/>
                </a:cubicBezTo>
                <a:cubicBezTo>
                  <a:pt x="1800" y="323"/>
                  <a:pt x="1632" y="330"/>
                  <a:pt x="1480" y="293"/>
                </a:cubicBezTo>
                <a:cubicBezTo>
                  <a:pt x="1452" y="272"/>
                  <a:pt x="1423" y="248"/>
                  <a:pt x="1390" y="235"/>
                </a:cubicBezTo>
                <a:cubicBezTo>
                  <a:pt x="1339" y="216"/>
                  <a:pt x="1375" y="238"/>
                  <a:pt x="1332" y="219"/>
                </a:cubicBezTo>
                <a:cubicBezTo>
                  <a:pt x="1302" y="206"/>
                  <a:pt x="1233" y="163"/>
                  <a:pt x="1209" y="161"/>
                </a:cubicBezTo>
                <a:cubicBezTo>
                  <a:pt x="1182" y="158"/>
                  <a:pt x="1154" y="156"/>
                  <a:pt x="1127" y="153"/>
                </a:cubicBezTo>
                <a:cubicBezTo>
                  <a:pt x="1100" y="126"/>
                  <a:pt x="1050" y="113"/>
                  <a:pt x="1012" y="104"/>
                </a:cubicBezTo>
                <a:cubicBezTo>
                  <a:pt x="989" y="81"/>
                  <a:pt x="967" y="84"/>
                  <a:pt x="938" y="71"/>
                </a:cubicBezTo>
                <a:cubicBezTo>
                  <a:pt x="879" y="45"/>
                  <a:pt x="830" y="38"/>
                  <a:pt x="765" y="30"/>
                </a:cubicBezTo>
                <a:cubicBezTo>
                  <a:pt x="656" y="0"/>
                  <a:pt x="539" y="26"/>
                  <a:pt x="428" y="38"/>
                </a:cubicBezTo>
                <a:cubicBezTo>
                  <a:pt x="377" y="55"/>
                  <a:pt x="324" y="60"/>
                  <a:pt x="272" y="71"/>
                </a:cubicBezTo>
                <a:cubicBezTo>
                  <a:pt x="199" y="87"/>
                  <a:pt x="197" y="67"/>
                  <a:pt x="214" y="104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25680" y="3408480"/>
            <a:ext cx="762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88200" y="4780080"/>
            <a:ext cx="9144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289548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81680" y="51814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51814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43434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Condición de Mezcla Comple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116240" y="1676520"/>
                <a:ext cx="1063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3581280"/>
            <a:ext cx="3289320" cy="1594080"/>
          </a:xfrm>
          <a:custGeom>
            <a:avLst/>
            <a:gdLst/>
            <a:ahLst/>
            <a:rect l="l" t="t" r="r" b="b"/>
            <a:pathLst>
              <a:path w="2072" h="1004">
                <a:moveTo>
                  <a:pt x="214" y="104"/>
                </a:moveTo>
                <a:cubicBezTo>
                  <a:pt x="190" y="107"/>
                  <a:pt x="165" y="106"/>
                  <a:pt x="141" y="112"/>
                </a:cubicBezTo>
                <a:cubicBezTo>
                  <a:pt x="108" y="120"/>
                  <a:pt x="76" y="166"/>
                  <a:pt x="50" y="186"/>
                </a:cubicBezTo>
                <a:cubicBezTo>
                  <a:pt x="41" y="224"/>
                  <a:pt x="36" y="263"/>
                  <a:pt x="25" y="301"/>
                </a:cubicBezTo>
                <a:cubicBezTo>
                  <a:pt x="22" y="313"/>
                  <a:pt x="13" y="323"/>
                  <a:pt x="9" y="334"/>
                </a:cubicBezTo>
                <a:cubicBezTo>
                  <a:pt x="5" y="345"/>
                  <a:pt x="4" y="356"/>
                  <a:pt x="1" y="367"/>
                </a:cubicBezTo>
                <a:cubicBezTo>
                  <a:pt x="4" y="424"/>
                  <a:pt x="0" y="482"/>
                  <a:pt x="9" y="539"/>
                </a:cubicBezTo>
                <a:cubicBezTo>
                  <a:pt x="11" y="551"/>
                  <a:pt x="25" y="557"/>
                  <a:pt x="34" y="564"/>
                </a:cubicBezTo>
                <a:cubicBezTo>
                  <a:pt x="79" y="599"/>
                  <a:pt x="129" y="625"/>
                  <a:pt x="173" y="662"/>
                </a:cubicBezTo>
                <a:cubicBezTo>
                  <a:pt x="199" y="684"/>
                  <a:pt x="231" y="697"/>
                  <a:pt x="256" y="720"/>
                </a:cubicBezTo>
                <a:cubicBezTo>
                  <a:pt x="288" y="749"/>
                  <a:pt x="318" y="789"/>
                  <a:pt x="362" y="802"/>
                </a:cubicBezTo>
                <a:cubicBezTo>
                  <a:pt x="399" y="814"/>
                  <a:pt x="440" y="813"/>
                  <a:pt x="477" y="827"/>
                </a:cubicBezTo>
                <a:cubicBezTo>
                  <a:pt x="547" y="853"/>
                  <a:pt x="634" y="881"/>
                  <a:pt x="708" y="893"/>
                </a:cubicBezTo>
                <a:cubicBezTo>
                  <a:pt x="778" y="905"/>
                  <a:pt x="850" y="902"/>
                  <a:pt x="921" y="909"/>
                </a:cubicBezTo>
                <a:cubicBezTo>
                  <a:pt x="970" y="925"/>
                  <a:pt x="1021" y="958"/>
                  <a:pt x="1069" y="966"/>
                </a:cubicBezTo>
                <a:cubicBezTo>
                  <a:pt x="1149" y="979"/>
                  <a:pt x="1259" y="980"/>
                  <a:pt x="1332" y="983"/>
                </a:cubicBezTo>
                <a:cubicBezTo>
                  <a:pt x="1419" y="1004"/>
                  <a:pt x="1501" y="963"/>
                  <a:pt x="1587" y="958"/>
                </a:cubicBezTo>
                <a:cubicBezTo>
                  <a:pt x="1697" y="952"/>
                  <a:pt x="1806" y="953"/>
                  <a:pt x="1916" y="950"/>
                </a:cubicBezTo>
                <a:cubicBezTo>
                  <a:pt x="1935" y="917"/>
                  <a:pt x="1948" y="902"/>
                  <a:pt x="1973" y="876"/>
                </a:cubicBezTo>
                <a:cubicBezTo>
                  <a:pt x="1986" y="839"/>
                  <a:pt x="2015" y="831"/>
                  <a:pt x="2039" y="802"/>
                </a:cubicBezTo>
                <a:cubicBezTo>
                  <a:pt x="2059" y="778"/>
                  <a:pt x="2065" y="750"/>
                  <a:pt x="2072" y="720"/>
                </a:cubicBezTo>
                <a:cubicBezTo>
                  <a:pt x="2069" y="662"/>
                  <a:pt x="2071" y="604"/>
                  <a:pt x="2064" y="547"/>
                </a:cubicBezTo>
                <a:cubicBezTo>
                  <a:pt x="2058" y="496"/>
                  <a:pt x="1978" y="431"/>
                  <a:pt x="1932" y="416"/>
                </a:cubicBezTo>
                <a:cubicBezTo>
                  <a:pt x="1800" y="323"/>
                  <a:pt x="1632" y="330"/>
                  <a:pt x="1480" y="293"/>
                </a:cubicBezTo>
                <a:cubicBezTo>
                  <a:pt x="1452" y="272"/>
                  <a:pt x="1423" y="248"/>
                  <a:pt x="1390" y="235"/>
                </a:cubicBezTo>
                <a:cubicBezTo>
                  <a:pt x="1339" y="216"/>
                  <a:pt x="1375" y="238"/>
                  <a:pt x="1332" y="219"/>
                </a:cubicBezTo>
                <a:cubicBezTo>
                  <a:pt x="1302" y="206"/>
                  <a:pt x="1233" y="163"/>
                  <a:pt x="1209" y="161"/>
                </a:cubicBezTo>
                <a:cubicBezTo>
                  <a:pt x="1182" y="158"/>
                  <a:pt x="1154" y="156"/>
                  <a:pt x="1127" y="153"/>
                </a:cubicBezTo>
                <a:cubicBezTo>
                  <a:pt x="1100" y="126"/>
                  <a:pt x="1050" y="113"/>
                  <a:pt x="1012" y="104"/>
                </a:cubicBezTo>
                <a:cubicBezTo>
                  <a:pt x="989" y="81"/>
                  <a:pt x="967" y="84"/>
                  <a:pt x="938" y="71"/>
                </a:cubicBezTo>
                <a:cubicBezTo>
                  <a:pt x="879" y="45"/>
                  <a:pt x="830" y="38"/>
                  <a:pt x="765" y="30"/>
                </a:cubicBezTo>
                <a:cubicBezTo>
                  <a:pt x="656" y="0"/>
                  <a:pt x="539" y="26"/>
                  <a:pt x="428" y="38"/>
                </a:cubicBezTo>
                <a:cubicBezTo>
                  <a:pt x="377" y="55"/>
                  <a:pt x="324" y="60"/>
                  <a:pt x="272" y="71"/>
                </a:cubicBezTo>
                <a:cubicBezTo>
                  <a:pt x="199" y="87"/>
                  <a:pt x="197" y="67"/>
                  <a:pt x="214" y="104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25680" y="3408480"/>
            <a:ext cx="762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88200" y="4780080"/>
            <a:ext cx="9144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289548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51814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91520" y="51814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43434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, C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4267080"/>
            <a:ext cx="53352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5105520"/>
            <a:ext cx="53316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2133720"/>
            <a:ext cx="0" cy="2133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2133720"/>
            <a:ext cx="3048120" cy="297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Balance Volumétr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324160" y="1496880"/>
                <a:ext cx="44956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527200" y="2949480"/>
                <a:ext cx="41911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Δt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540160" y="4191120"/>
                <a:ext cx="419076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Δt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391520" y="457200"/>
                <a:ext cx="13208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e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473120" y="5257800"/>
                <a:ext cx="5334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olume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lmacenad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ci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498680" y="5791320"/>
                <a:ext cx="4825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audal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ipo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urant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E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Balance Más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Mezcla comple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749680" y="1506600"/>
                <a:ext cx="397800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233960" y="4038480"/>
                <a:ext cx="7952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928960" y="4687920"/>
                <a:ext cx="370980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ES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325560" y="632448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JEMPLO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13:53:48Z</dcterms:created>
  <dc:creator>Carlos Espinoza</dc:creator>
  <dc:description/>
  <dc:language>en-US</dc:language>
  <cp:lastModifiedBy>Administrador</cp:lastModifiedBy>
  <cp:lastPrinted>2004-09-13T22:48:54Z</cp:lastPrinted>
  <dcterms:modified xsi:type="dcterms:W3CDTF">2007-11-18T09:00:00Z</dcterms:modified>
  <cp:revision>20</cp:revision>
  <dc:subject/>
  <dc:title>DIPLOMADOS EN   MEDIO AMBIENTE     2007</dc:title>
</cp:coreProperties>
</file>