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FD1-3DFB-4AFE-94EE-2D93EFD9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BA8-F18C-4B40-9F4A-81BE0215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E4E-9131-4428-BF04-FD2EBCD2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A96-BF8D-49E9-8EFF-D5B42DA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3F8-7F38-4E44-9D9E-9F75246D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E31-DD90-46DB-AB6B-4174884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485-B8F5-4345-B08B-3173FD7F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370-6245-4A55-958B-7CCE3D9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A5A-C592-49BB-9949-D8D09161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92B-CA68-4707-94F7-F50BE00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8AC-A098-4EBC-9D49-434C14D4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A81-595A-4193-B802-6833C75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6EAE-0030-4191-BE1A-4269C80EA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DOS EN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LOMADO EN CONTAMINACION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ON DE UN MODELO DE CALIDAD DE A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l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rlos Espino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geniero Civil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adémico 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1416"/>
          <a:stretch/>
        </p:blipFill>
        <p:spPr>
          <a:xfrm>
            <a:off x="6248520" y="838080"/>
            <a:ext cx="190476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316240" y="5530680"/>
            <a:ext cx="718920" cy="8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24852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UELA DE POSTG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73240" y="1427040"/>
                <a:ext cx="374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16200" y="2970360"/>
                <a:ext cx="42562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82960" y="4570560"/>
                <a:ext cx="379872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38400" y="190512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09840" y="2894040"/>
                <a:ext cx="4753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0840" y="1868400"/>
            <a:ext cx="1715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x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590920"/>
            <a:ext cx="0" cy="152388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9760" y="129528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483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55156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5238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685800"/>
            <a:ext cx="1752480" cy="220968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070000" y="3429000"/>
                <a:ext cx="4953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TILIDAD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S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ARROLLO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STRUCCION DE UN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86200" y="518148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20760" y="1506600"/>
                <a:ext cx="5175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97080" y="4687920"/>
                <a:ext cx="5175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38480" y="1595520"/>
                <a:ext cx="5217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28640" y="3119400"/>
                <a:ext cx="6461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76520" y="480060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38400" y="192564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ámetro del modelo: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81952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riterios Cuantitativos de una Calib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medio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(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Raiz cuadrada del residual (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viación estándar (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77120" y="2327400"/>
                <a:ext cx="112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7120" y="3089160"/>
                <a:ext cx="13129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477120" y="3868560"/>
                <a:ext cx="1693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477120" y="4630680"/>
                <a:ext cx="2301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58040" y="5459400"/>
                <a:ext cx="16174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276720" y="2666880"/>
            <a:ext cx="29718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3429000"/>
            <a:ext cx="2438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4191120"/>
            <a:ext cx="9907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715000"/>
            <a:ext cx="16765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952880"/>
            <a:ext cx="19051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440400" y="903240"/>
                <a:ext cx="2111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IMULADO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DID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 de un 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4876560" cy="385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486396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9880" y="30481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71600" y="1271520"/>
            <a:ext cx="7162920" cy="5281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1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1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2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5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2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1066680"/>
          <a:ext cx="6934320" cy="496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066680"/>
                    <a:ext cx="6934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520640" y="45720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04812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4936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1188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73800" y="167652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83808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114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15238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5335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94040" y="30492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BIOS EN SITUACIO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832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551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COMPUESTO CONSER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89320" y="1523880"/>
                <a:ext cx="2565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879560" y="3429000"/>
                <a:ext cx="6121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0" y="5562720"/>
            <a:ext cx="4952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decisión: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flipV="1">
            <a:off x="6553080" y="304776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312408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62280" y="2362320"/>
            <a:ext cx="145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Max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1654200"/>
                <a:ext cx="4572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6240" y="167652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267080"/>
            <a:ext cx="5335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105520"/>
            <a:ext cx="5331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133720"/>
            <a:ext cx="304812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391520" y="45720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3120" y="5257800"/>
                <a:ext cx="5334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lum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macenad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c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98680" y="5791320"/>
                <a:ext cx="482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ud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ipo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ran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49680" y="1506600"/>
                <a:ext cx="3978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28960" y="4687920"/>
                <a:ext cx="37098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3:53:48Z</dcterms:created>
  <dc:creator>Carlos Espinoza</dc:creator>
  <dc:description/>
  <dc:language>en-US</dc:language>
  <cp:lastModifiedBy>Administrador</cp:lastModifiedBy>
  <cp:lastPrinted>2004-09-13T22:48:54Z</cp:lastPrinted>
  <dcterms:modified xsi:type="dcterms:W3CDTF">2007-11-18T09:00:00Z</dcterms:modified>
  <cp:revision>20</cp:revision>
  <dc:subject/>
  <dc:title>DIPLOMADOS EN   MEDIO AMBIENTE     2007</dc:title>
</cp:coreProperties>
</file>