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6F7-159E-409E-B6B4-AF53FAB3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7C8-2A64-4F51-B4CE-B2D2AC86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6D2-C9E9-4B37-A07A-537AD0C0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1CE-AF44-4257-9FBA-BC15FE63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5D6-AA54-4586-850E-45296CA7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9C1-88BF-468C-AF67-72C326B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F87-35FB-4659-AE1E-E36F0024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122-277C-425A-A2C1-DF9E1754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B57-1B8A-4687-B6C9-9DC35A02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794-6A0A-4B28-8E71-199441D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F20-314D-412E-B551-CFAA120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D9B-F8FA-41E1-9D22-109318D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FB67-E259-4EDE-B15B-1692B914C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PLOMADOS EN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EDIO AMBIENT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PLOMADO EN CONTAMINACION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CCION DE UN MODELO DE CALIDAD DE A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l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rlos Espino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geniero Civil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adémico 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21416"/>
          <a:stretch/>
        </p:blipFill>
        <p:spPr>
          <a:xfrm>
            <a:off x="6248520" y="838080"/>
            <a:ext cx="1904760" cy="224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316240" y="5530680"/>
            <a:ext cx="718920" cy="88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24852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812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CUELA DE POSTG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973240" y="1427040"/>
                <a:ext cx="3746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16200" y="2970360"/>
                <a:ext cx="42562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82960" y="4570560"/>
                <a:ext cx="379872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odelo de Ca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38400" y="1905120"/>
                <a:ext cx="3151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116240" y="4114800"/>
                <a:ext cx="989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286000" y="4876920"/>
            <a:ext cx="4876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09840" y="2894040"/>
                <a:ext cx="47530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336680" y="1317600"/>
          <a:ext cx="719784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17600"/>
                    <a:ext cx="71978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335240" y="132732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32732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71600" y="762120"/>
          <a:ext cx="7162920" cy="54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716292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0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0840" y="1868400"/>
            <a:ext cx="1715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x = 4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590920"/>
            <a:ext cx="0" cy="152388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24080" y="15238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5680" y="13510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88200" y="27226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49760" y="1295280"/>
            <a:ext cx="0" cy="104616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8380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31240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114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ESTADISTICA O INFORMACION 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4832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ARIABLES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2860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55156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PROCESO, k es un parámetro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15238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=-k·C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685800"/>
            <a:ext cx="1752480" cy="2209680"/>
          </a:xfrm>
          <a:prstGeom prst="ellipse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dición de 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606840" y="1523880"/>
                <a:ext cx="1930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070000" y="3429000"/>
                <a:ext cx="4953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16240" y="5345280"/>
                <a:ext cx="106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8960" y="1905120"/>
            <a:ext cx="7391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TILIDAD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S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ARROLLO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PECTOS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STRUCCION DE UN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324160" y="1496880"/>
                <a:ext cx="4495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27200" y="2949480"/>
                <a:ext cx="4191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540160" y="4191120"/>
                <a:ext cx="4190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86200" y="5181480"/>
                <a:ext cx="1320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120760" y="1506600"/>
                <a:ext cx="5175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33960" y="4038480"/>
                <a:ext cx="79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197080" y="4687920"/>
                <a:ext cx="51753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38480" y="1595520"/>
                <a:ext cx="52178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28640" y="3119400"/>
                <a:ext cx="6461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676520" y="4800600"/>
                <a:ext cx="6403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odelo de Ca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038400" y="1925640"/>
                <a:ext cx="3151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116240" y="4114800"/>
                <a:ext cx="989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286000" y="4876920"/>
            <a:ext cx="4876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ámetro del modelo: </a:t>
            </a: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76520" y="2819520"/>
                <a:ext cx="6403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336680" y="1317600"/>
          <a:ext cx="719784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17600"/>
                    <a:ext cx="71978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335240" y="132732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32732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219320" y="8380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CALIB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riterios Cuantitativos de una Calib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alor medio 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alor absoluto (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Raiz cuadrada del residual (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viación estándar (S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alor absoluto máxim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477120" y="2327400"/>
                <a:ext cx="11221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7120" y="3089160"/>
                <a:ext cx="13129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477120" y="3868560"/>
                <a:ext cx="1693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477120" y="4630680"/>
                <a:ext cx="2301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458040" y="5459400"/>
                <a:ext cx="16174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276720" y="2666880"/>
            <a:ext cx="29718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3429000"/>
            <a:ext cx="243864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4191120"/>
            <a:ext cx="9907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715000"/>
            <a:ext cx="16765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952880"/>
            <a:ext cx="19051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440400" y="903240"/>
                <a:ext cx="2111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IMULADO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DID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odelo de Calidad de un L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4876560" cy="385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4863960" cy="351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9880" y="304812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371600" y="1271520"/>
            <a:ext cx="7162920" cy="5281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219320" y="8380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CALIB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371600" y="762120"/>
          <a:ext cx="7162920" cy="54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716292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0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4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370160" y="762120"/>
          <a:ext cx="716580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762120"/>
                    <a:ext cx="716580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1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1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370160" y="762120"/>
          <a:ext cx="716580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762120"/>
                    <a:ext cx="716580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2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370160" y="762120"/>
          <a:ext cx="716580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762120"/>
                    <a:ext cx="716580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5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2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3880" y="1066680"/>
          <a:ext cx="6934320" cy="4965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066680"/>
                    <a:ext cx="69343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520640" y="457200"/>
            <a:ext cx="37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Valor absoluto máximo (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048120" y="15238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49360" y="13510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11880" y="27226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73800" y="1676520"/>
            <a:ext cx="0" cy="104616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0200" y="838080"/>
            <a:ext cx="12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4114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ESTADISTICA O INFORMACION 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46483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ARIABLES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2286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5181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PROCESO, k es un parámetro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15238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=-k·C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5335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94040" y="304920"/>
            <a:ext cx="12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BIOS EN SITUACIO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15238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5680" y="13510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88200" y="27226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8380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1240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114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ESTADISTICA O INFORMACION 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832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ARIABLES DE EST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22860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5515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COMPUESTO CONSER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dición de 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89320" y="1523880"/>
                <a:ext cx="2565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879560" y="3429000"/>
                <a:ext cx="6121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116240" y="5345280"/>
                <a:ext cx="106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0" y="5562720"/>
            <a:ext cx="4952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decisión: 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 flipV="1">
            <a:off x="6553080" y="304776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312408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62280" y="2362320"/>
            <a:ext cx="145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Max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06840" y="1523880"/>
                <a:ext cx="1930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5812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5680" y="3408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8200" y="47800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8954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4343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1654200"/>
                <a:ext cx="4572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35812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25680" y="3408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88200" y="47800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8954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4343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dición de 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6240" y="1676520"/>
                <a:ext cx="106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812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25680" y="3408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88200" y="47800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8954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343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267080"/>
            <a:ext cx="5335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105520"/>
            <a:ext cx="5331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1337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133720"/>
            <a:ext cx="3048120" cy="297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24160" y="1496880"/>
                <a:ext cx="4495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27200" y="2949480"/>
                <a:ext cx="4191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40160" y="4191120"/>
                <a:ext cx="4190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391520" y="457200"/>
                <a:ext cx="1320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3120" y="5257800"/>
                <a:ext cx="5334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lume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macenad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ci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98680" y="5791320"/>
                <a:ext cx="482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uda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ipo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urant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49680" y="1506600"/>
                <a:ext cx="3978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233960" y="4038480"/>
                <a:ext cx="79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28960" y="4687920"/>
                <a:ext cx="37098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3:53:48Z</dcterms:created>
  <dc:creator>Carlos Espinoza</dc:creator>
  <dc:description/>
  <dc:language>en-US</dc:language>
  <cp:lastModifiedBy>Administrador</cp:lastModifiedBy>
  <cp:lastPrinted>2004-09-13T22:48:54Z</cp:lastPrinted>
  <dcterms:modified xsi:type="dcterms:W3CDTF">2007-11-18T09:00:00Z</dcterms:modified>
  <cp:revision>20</cp:revision>
  <dc:subject/>
  <dc:title>DIPLOMADOS EN   MEDIO AMBIENTE     2007</dc:title>
</cp:coreProperties>
</file>