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B03-E35D-4893-A024-95BA1E2B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62C-385D-416C-8CB6-460599D2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D99-423D-4997-9DB5-1FE6D4EB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FA2-8B35-4DBC-9ABB-7C738B9F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4F4-36C7-4C17-9CB2-77230BDD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E7D-DDFB-4DB8-82FC-1400DCC8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B37-187F-4C49-A575-D8930D3D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1FC-E977-413D-AEA2-25B752F9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671-777F-4629-A280-486E9581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606-94F9-44B5-9D56-A0DE0B7A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36C-704F-4FB5-ABE1-DDCEA083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F95-C630-48F8-98D0-D4F75815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C13D-B325-46C9-A68B-A5CECF0AD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amiento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752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0574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00400" y="41148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9810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943600" y="40384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692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9200" y="4876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80" y="156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076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7480" y="2362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74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7120" y="49528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4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2208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4360" y="4495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3840" y="48769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371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1752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124080" y="411444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175248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91320" y="40381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6920" y="990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920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209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2880" y="18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9200" y="5257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0880" y="156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076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7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3116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576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8040" y="451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2560" y="51055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560" y="51814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752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124080" y="411444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175248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91320" y="40381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920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1828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288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9200" y="5257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7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3116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804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220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2560" y="51055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560" y="51814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83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7621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6002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3623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523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600" y="914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600" y="167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7600" y="2514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0600" y="1219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286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0600" y="1981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30440" y="166536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4290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42670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50292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472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9880" y="3581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9880" y="4343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9880" y="518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9200" y="441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2720" y="433224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7913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9880" y="594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04920"/>
            <a:ext cx="441972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276720"/>
            <a:ext cx="44197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5:18:52Z</dcterms:created>
  <dc:creator>Enrique Rubio</dc:creator>
  <dc:description/>
  <dc:language>en-US</dc:language>
  <cp:lastModifiedBy>Enrique Rubio</cp:lastModifiedBy>
  <dcterms:modified xsi:type="dcterms:W3CDTF">2006-11-09T17:57:48Z</dcterms:modified>
  <cp:revision>5</cp:revision>
  <dc:subject/>
  <dc:title>Slide 1</dc:title>
</cp:coreProperties>
</file>