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33F-B9F9-4F31-9A96-1C75674A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8D09-B6C6-4758-BE65-8762802A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4BD-1FA9-4BDE-A91F-2C4C2E92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2ACC-60C0-4397-83B4-22732018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BEA-0E9F-4C9C-9646-F6CB6435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4E0-D6E1-4F45-A55A-C9C512FC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00F-703E-4A68-A7BC-747FEAD5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A86-3299-425B-9B3E-CE15323B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8B6-50CD-4903-AA4E-E46E04B4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A63-15E1-4B03-B721-804A056F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922-6140-49DA-9C5A-037CD566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B69-A563-4A1A-8986-51FAE58A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B53C-72AA-445F-A118-436EEE861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amiento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752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05740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200400" y="41148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19810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943600" y="40384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6920" y="1371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9200" y="4876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880" y="1560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0760" y="4952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07480" y="2362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748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97120" y="49528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4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22080" y="213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74360" y="4495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73840" y="48769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76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371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17524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124080" y="411444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175248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791320" y="40381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6920" y="990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9200" y="4495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209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2880" y="182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556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9200" y="5257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0880" y="1560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0760" y="4952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748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3116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5760" y="213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8040" y="4510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2560" y="51055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560" y="51814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7524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124080" y="411444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175248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91320" y="40381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9200" y="4495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1828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82880" y="1371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556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9200" y="5257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748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3116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804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2208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2560" y="51055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560" y="51814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83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7621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6002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3623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1523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7600" y="914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7600" y="167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7600" y="2514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0600" y="1219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2286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0600" y="1981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30440" y="166536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8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4290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42670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50292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472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9880" y="3581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9880" y="4343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9880" y="5181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9200" y="441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2720" y="433224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7913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9880" y="5943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04920"/>
            <a:ext cx="441972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276720"/>
            <a:ext cx="4419720" cy="32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5:18:52Z</dcterms:created>
  <dc:creator>Enrique Rubio</dc:creator>
  <dc:description/>
  <dc:language>en-US</dc:language>
  <cp:lastModifiedBy>Enrique Rubio</cp:lastModifiedBy>
  <dcterms:modified xsi:type="dcterms:W3CDTF">2006-11-09T17:57:48Z</dcterms:modified>
  <cp:revision>5</cp:revision>
  <dc:subject/>
  <dc:title>Slide 1</dc:title>
</cp:coreProperties>
</file>