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B44-26DB-4FCE-8E53-FD4E2CFB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6FC-4F1C-466A-8A5C-12ABBA83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602-1AD7-404E-858F-0B8E2C5E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C79-F0D5-4EE3-BB92-3255EEE0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276-56E8-40F3-AAC8-120AC8E3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EDC-0874-4136-8C7D-F28DB6A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F37-19E4-4D10-9C31-EA977A96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F5A-54B6-4649-8157-89972DB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6FF-F6ED-4F7C-9158-A716D862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997-F1E5-4F54-8760-16539F76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969-3A45-459C-A147-7482DD0A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3E3-3393-4E91-BDF9-AFC830FF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74E8-54DF-464C-A7FC-41FA80D1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miento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057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4038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362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7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7120" y="49528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220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3840" y="48769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6920" y="990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57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45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804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20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00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62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60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0600" y="1219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060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440" y="16653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4290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2670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029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581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880" y="43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2720" y="433224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44197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76720"/>
            <a:ext cx="44197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8:52Z</dcterms:created>
  <dc:creator>Enrique Rubio</dc:creator>
  <dc:description/>
  <dc:language>en-US</dc:language>
  <cp:lastModifiedBy>Enrique Rubio</cp:lastModifiedBy>
  <dcterms:modified xsi:type="dcterms:W3CDTF">2006-11-09T17:57:48Z</dcterms:modified>
  <cp:revision>5</cp:revision>
  <dc:subject/>
  <dc:title>Slide 1</dc:title>
</cp:coreProperties>
</file>