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222-6780-4052-8FE0-AC3E6941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ED3-57BC-4E5C-9EBD-4D813306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995-2AAE-4184-B934-0BA0349B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F6E-00E2-40C3-AB39-7E8C6778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6333-9F76-44CC-8E48-D061C97D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289-EA56-4AD3-BD93-4EBE70B3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4A3-2402-4C29-8C6A-796933BC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F6D-A81B-488B-98FF-ED3619E1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19B-56B4-4868-B3F0-33E7456C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F60-FE9B-431B-B4B9-A3CB91DE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DF6-64F5-4222-8E60-44A9D2D1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46E-2D31-4313-8B93-6BE6A93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DF68-D93A-40D8-BB8F-290DFD315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miento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752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0574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9810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943600" y="4038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9200" y="4876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362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74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97120" y="49528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4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2208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360" y="4495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73840" y="48769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371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6920" y="990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209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288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15606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0760" y="4952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576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8040" y="451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858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447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209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0384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8769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56386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752480"/>
            <a:ext cx="6094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24080" y="4114440"/>
            <a:ext cx="60984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5720" y="3505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175248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91320" y="403812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6200" y="762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6200" y="1523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6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6200" y="4191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6200" y="4952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6200" y="5791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9200" y="4495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5560" y="3200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93360" y="3138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1828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288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9200" y="5257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25160" y="1332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3000" y="1295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 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7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116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804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2080" y="4572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2560" y="510552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560" y="518148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7621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600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62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1523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600" y="914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600" y="167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600" y="2514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0600" y="1219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286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0600" y="1981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30440" y="166536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4290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267080"/>
            <a:ext cx="3808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502920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47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9880" y="3581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9880" y="4343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9880" y="5181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92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2720" y="4332240"/>
            <a:ext cx="81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380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5943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04920"/>
            <a:ext cx="4419720" cy="2743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276720"/>
            <a:ext cx="44197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5:18:52Z</dcterms:created>
  <dc:creator>Enrique Rubio</dc:creator>
  <dc:description/>
  <dc:language>en-US</dc:language>
  <cp:lastModifiedBy>Enrique Rubio</cp:lastModifiedBy>
  <dcterms:modified xsi:type="dcterms:W3CDTF">2006-11-09T17:57:48Z</dcterms:modified>
  <cp:revision>5</cp:revision>
  <dc:subject/>
  <dc:title>Slide 1</dc:title>
</cp:coreProperties>
</file>