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wmf" ContentType="image/x-wmf"/>
  <Override PartName="/ppt/media/image6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0.wmf" ContentType="image/x-wmf"/>
  <Override PartName="/ppt/media/image28.wmf" ContentType="image/x-wmf"/>
  <Override PartName="/ppt/media/image3.jpeg" ContentType="image/jpeg"/>
  <Override PartName="/ppt/media/image2.png" ContentType="image/png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BB7F-6680-4CF0-B68B-8BD868AAE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re are more draw points available than needed and more Xcuts available as needed the method to compute the reliability should be k-out-of-n. The k-out-of-n with identical components is easy computed using the binomial distribution. Nevertheless in this model the components Ie dpts have often different maturities thus different reli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D58-028A-47A1-A5A5-0154E8C4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D76-ACC4-4017-9968-5B1BEA46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D70-148F-4A4D-832B-AC6F31A4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0AC-A445-4C06-853D-BEAD27E9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AFF-0C19-4C16-9B73-E1CB08D9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AD2-0B34-4968-8F3F-35429E09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936-93D7-49C4-BEC6-2C96D826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A6C-CD59-4220-B698-B5086612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FB7-6F2E-4A68-B210-1AC04FB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28E-F752-4F0E-9714-734E61DB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3C1-E986-4271-A563-EE9EC442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6ED-7D8A-47F5-B3BE-F7151B4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9BAB-C413-47B5-8CB9-E94A01CDF3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0" y="5951520"/>
            <a:ext cx="2340000" cy="906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8080" y="6146640"/>
            <a:ext cx="218592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F:/DATA_D/Cave%20Management/Presentation/Cave%20Management%20Presentation_RTZ.ppt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y Control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rique Ru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gio Barr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bastián Tronc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n se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3880" y="28954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3232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4672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5" idx="3"/>
            <a:endCxn id="76" idx="1"/>
          </p:cNvCxnSpPr>
          <p:nvPr/>
        </p:nvCxnSpPr>
        <p:spPr>
          <a:xfrm>
            <a:off x="3303360" y="3084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6" idx="3"/>
            <a:endCxn id="77" idx="1"/>
          </p:cNvCxnSpPr>
          <p:nvPr/>
        </p:nvCxnSpPr>
        <p:spPr>
          <a:xfrm>
            <a:off x="4141440" y="3084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617920" y="3733920"/>
                <a:ext cx="4114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paral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05080" y="26686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66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57560" y="266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00160" y="3807000"/>
                <a:ext cx="5956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448080" y="3044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60680" y="2435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2" idx="1"/>
            <a:endCxn id="84" idx="0"/>
          </p:cNvCxnSpPr>
          <p:nvPr/>
        </p:nvCxnSpPr>
        <p:spPr>
          <a:xfrm flipH="1" rot="10800000">
            <a:off x="2303640" y="2667960"/>
            <a:ext cx="2057760" cy="189720"/>
          </a:xfrm>
          <a:prstGeom prst="bentConnector4">
            <a:avLst>
              <a:gd name="adj1" fmla="val -11111"/>
              <a:gd name="adj2" fmla="val 2209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1"/>
            <a:endCxn id="84" idx="2"/>
          </p:cNvCxnSpPr>
          <p:nvPr/>
        </p:nvCxnSpPr>
        <p:spPr>
          <a:xfrm flipH="1" flipV="1" rot="10800000">
            <a:off x="2303640" y="2857320"/>
            <a:ext cx="2057760" cy="187920"/>
          </a:xfrm>
          <a:prstGeom prst="bentConnector4">
            <a:avLst>
              <a:gd name="adj1" fmla="val -11111"/>
              <a:gd name="adj2" fmla="val 22188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paralelo s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55800" y="245124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4240" y="245124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8640" y="24462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1" idx="3"/>
            <a:endCxn id="92" idx="1"/>
          </p:cNvCxnSpPr>
          <p:nvPr/>
        </p:nvCxnSpPr>
        <p:spPr>
          <a:xfrm>
            <a:off x="3365280" y="26395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2" idx="3"/>
            <a:endCxn id="93" idx="1"/>
          </p:cNvCxnSpPr>
          <p:nvPr/>
        </p:nvCxnSpPr>
        <p:spPr>
          <a:xfrm flipV="1">
            <a:off x="4203360" y="263448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2755800" y="32130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94240" y="32130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8640" y="32130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6" idx="3"/>
            <a:endCxn id="97" idx="1"/>
          </p:cNvCxnSpPr>
          <p:nvPr/>
        </p:nvCxnSpPr>
        <p:spPr>
          <a:xfrm>
            <a:off x="3365280" y="3401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7" idx="3"/>
            <a:endCxn id="98" idx="1"/>
          </p:cNvCxnSpPr>
          <p:nvPr/>
        </p:nvCxnSpPr>
        <p:spPr>
          <a:xfrm>
            <a:off x="4203360" y="34016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3" idx="3"/>
            <a:endCxn id="98" idx="3"/>
          </p:cNvCxnSpPr>
          <p:nvPr/>
        </p:nvCxnSpPr>
        <p:spPr>
          <a:xfrm>
            <a:off x="5118120" y="263520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1" idx="1"/>
            <a:endCxn id="96" idx="1"/>
          </p:cNvCxnSpPr>
          <p:nvPr/>
        </p:nvCxnSpPr>
        <p:spPr>
          <a:xfrm flipH="1" flipV="1" rot="10800000">
            <a:off x="2754720" y="2638800"/>
            <a:ext cx="252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52680" y="40464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series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71680" y="2133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133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67160" y="212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7168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7160" y="28954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3"/>
            <a:endCxn id="110" idx="3"/>
          </p:cNvCxnSpPr>
          <p:nvPr/>
        </p:nvCxnSpPr>
        <p:spPr>
          <a:xfrm>
            <a:off x="5877000" y="231768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5" idx="1"/>
            <a:endCxn id="108" idx="1"/>
          </p:cNvCxnSpPr>
          <p:nvPr/>
        </p:nvCxnSpPr>
        <p:spPr>
          <a:xfrm flipH="1" flipV="1" rot="10800000">
            <a:off x="2370600" y="2321280"/>
            <a:ext cx="252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80960" y="4373640"/>
                <a:ext cx="6863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14" name=""/>
          <p:cNvCxnSpPr>
            <a:stCxn id="105" idx="3"/>
            <a:endCxn id="108" idx="3"/>
          </p:cNvCxnSpPr>
          <p:nvPr/>
        </p:nvCxnSpPr>
        <p:spPr>
          <a:xfrm>
            <a:off x="2980800" y="2322000"/>
            <a:ext cx="2520" cy="7628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6" idx="1"/>
            <a:endCxn id="109" idx="1"/>
          </p:cNvCxnSpPr>
          <p:nvPr/>
        </p:nvCxnSpPr>
        <p:spPr>
          <a:xfrm flipH="1" flipV="1" rot="10800000">
            <a:off x="3819240" y="2321280"/>
            <a:ext cx="216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6" idx="3"/>
            <a:endCxn id="109" idx="3"/>
          </p:cNvCxnSpPr>
          <p:nvPr/>
        </p:nvCxnSpPr>
        <p:spPr>
          <a:xfrm>
            <a:off x="4428720" y="2322000"/>
            <a:ext cx="2520" cy="7628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7" idx="1"/>
            <a:endCxn id="110" idx="1"/>
          </p:cNvCxnSpPr>
          <p:nvPr/>
        </p:nvCxnSpPr>
        <p:spPr>
          <a:xfrm flipH="1" flipV="1" rot="10800000">
            <a:off x="5266080" y="2317320"/>
            <a:ext cx="2520" cy="76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1156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5948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aración de modelos de Confi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898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e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7640" y="1893960"/>
            <a:ext cx="4494600" cy="3341880"/>
            <a:chOff x="377640" y="1893960"/>
            <a:chExt cx="4494600" cy="3341880"/>
          </a:xfrm>
        </p:grpSpPr>
        <p:sp>
          <p:nvSpPr>
            <p:cNvPr id="124" name=""/>
            <p:cNvSpPr/>
            <p:nvPr/>
          </p:nvSpPr>
          <p:spPr>
            <a:xfrm>
              <a:off x="44316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160" y="1893960"/>
              <a:ext cx="309996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243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051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91080" y="2026800"/>
              <a:ext cx="118116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884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624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292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960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212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21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120" y="428868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8552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2920" y="3235320"/>
              <a:ext cx="590400" cy="39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29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116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856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3720" y="483156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280" y="485280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7640" y="4852800"/>
              <a:ext cx="850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27520" y="1628640"/>
                <a:ext cx="4416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659120" y="2590920"/>
            <a:ext cx="43182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unto de ex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952880" y="434340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637520" y="369396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abilidad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08440" y="49132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stema anterior garantiza la extracción de 1 tonelada de cada panel, es decir, el mismo ritmo por cas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la confianza de cada uno de los elementos es igual a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fiabilidad del sistema es 0.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la confianza de un punto de extracción del panel 1 cae a 0.5 (caso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 la confianza de un punto de extracción del panel 3 cae a 0.5 (caso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7632720" cy="1581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5440" y="53737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es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en 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mentablemente el punto en el panel 1 fue aquel que cayó en confianza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requiere aumentar la confiabilidad del sistema anterior abriendo un nuevo punto de ex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nuevo punto posee una confianza de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regunta es donde abrirlo de modo de aumentar la confianza del sist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nálisis apertura de un nuevo punto de extr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6517" r="0" b="0"/>
          <a:stretch/>
        </p:blipFill>
        <p:spPr>
          <a:xfrm>
            <a:off x="179280" y="2276640"/>
            <a:ext cx="4392720" cy="3100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6724" r="0" b="0"/>
          <a:stretch/>
        </p:blipFill>
        <p:spPr>
          <a:xfrm>
            <a:off x="4643280" y="2276640"/>
            <a:ext cx="4249800" cy="299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3789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380360" y="3357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en el Diseño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ciones de Diseño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s sub niveles de producción con 3 caserones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ben desarrollar 1 o dos acce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mediante 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onga que los caserones poseen una confiabilidad de 0.8 y los accesos de 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276640"/>
            <a:ext cx="502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1700280"/>
            <a:ext cx="502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852640"/>
            <a:ext cx="50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198900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6920" y="422100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6920" y="530064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6920" y="479736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422100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08464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ciones de Redund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diseño anterior se desea evaluar la redundancia de tener un acceso o un case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roducción se obtiene con 3 caserones y 1 ac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19162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256536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4172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08720" y="220500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2852640"/>
            <a:ext cx="287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407664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47260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30208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5013360"/>
            <a:ext cx="287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59500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K de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s modelos permiten cuantificar redundancia activa en un determinado sistema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n k pero se tienen n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19640" y="5373720"/>
            <a:ext cx="2521080" cy="787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983120" y="1341360"/>
            <a:ext cx="41608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 en la Infraestructur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incertidumbre presente en el recurso minero y sistema minero gatilla que existan interrupciones operacionales no planificadas que tienden a destruir la promesa produ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ventos se pueden capturar e integrar al proceso de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Sistema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8600" y="1905120"/>
            <a:ext cx="8469360" cy="5029200"/>
            <a:chOff x="228600" y="1905120"/>
            <a:chExt cx="8469360" cy="50292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5050" t="13471" r="4050" b="17503"/>
            <a:stretch/>
          </p:blipFill>
          <p:spPr>
            <a:xfrm>
              <a:off x="228600" y="1905120"/>
              <a:ext cx="8452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342480" y="1950840"/>
              <a:ext cx="735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72160" y="2518200"/>
              <a:ext cx="1499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Dr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58880" y="2938320"/>
              <a:ext cx="138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6680" y="3361320"/>
              <a:ext cx="1511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920" y="4787280"/>
              <a:ext cx="1320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ulage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06120" y="5279760"/>
              <a:ext cx="1491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tila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98560" y="6247080"/>
              <a:ext cx="1108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Haul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33440" y="5868360"/>
              <a:ext cx="814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us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9120" y="4175640"/>
              <a:ext cx="120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pping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14600" y="3113280"/>
              <a:ext cx="1052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3671280"/>
              <a:ext cx="63396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1480" y="4348800"/>
              <a:ext cx="13618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ary Break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75040" y="4113000"/>
              <a:ext cx="1114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09800" y="4381200"/>
              <a:ext cx="744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5440" y="4652640"/>
              <a:ext cx="842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zz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34200" y="5019120"/>
              <a:ext cx="98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entre Modelos de Planificación Tradicional y Producciones Ac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43360" y="238752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ción real de 8 Minas de 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06960" y="2751120"/>
          <a:ext cx="466236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6960" y="2751120"/>
                    <a:ext cx="466236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299880" y="2387520"/>
            <a:ext cx="4042440" cy="3922560"/>
            <a:chOff x="299880" y="2387520"/>
            <a:chExt cx="4042440" cy="3922560"/>
          </a:xfrm>
        </p:grpSpPr>
        <p:sp>
          <p:nvSpPr>
            <p:cNvPr id="217" name=""/>
            <p:cNvSpPr/>
            <p:nvPr/>
          </p:nvSpPr>
          <p:spPr>
            <a:xfrm>
              <a:off x="548280" y="2387520"/>
              <a:ext cx="37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ípico SIstema de Producción Simul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103176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128592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153828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17553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201240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2647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251748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277128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302364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327600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35301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040" y="5381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5040" y="5060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5040" y="4743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040" y="4424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680" y="4103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1680" y="3786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1680" y="3467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680" y="3147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680" y="28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841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01124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13832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2636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39068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1776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64304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77012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89720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02248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14956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27664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4033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52900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65572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7828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90844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3516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16224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28788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41460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54168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6669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79404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112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64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4160" y="5616720"/>
              <a:ext cx="3205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5720" y="561672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8720" y="545616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5720" y="529596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8720" y="513720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5720" y="497844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8720" y="481968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5720" y="465948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720" y="449892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5720" y="434016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8720" y="417996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402120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8720" y="386244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5720" y="370188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8720" y="354168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5720" y="338292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8720" y="322416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5720" y="306396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8720" y="290520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84160" y="2905200"/>
              <a:ext cx="1800" cy="2711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91320" y="611172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-666360" y="3955680"/>
              <a:ext cx="213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nnage production Tons/ Y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68520" y="5748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85960" y="3384720"/>
              <a:ext cx="101124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69920" y="3384720"/>
              <a:ext cx="13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33600" y="3384720"/>
              <a:ext cx="152640" cy="21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se realiza la Reconciliación a nivel de Ptos. de Extr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2057400"/>
          <a:ext cx="480060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4800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495680" y="2133720"/>
          <a:ext cx="48006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133720"/>
                    <a:ext cx="4800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3526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2240" y="5943600"/>
            <a:ext cx="74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2240" y="5943600"/>
            <a:ext cx="74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as veces los programas de producción no capturan el comportamiento real d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69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entos Geotécnicos que Afectan la Disponibilidad de Infraestructura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034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ia y desplazamiento del techo de los CX de produ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de los Equipos en la Programación de la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ulta interesante observar el proceso como las hormigas buscan alimento y encuentran la fuente de 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proceso es similar a como los equipos mineros podrían ser asignados de modo de cumplir con una determinada producción con la pl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más en el proceso de simular programas de producción como el algoritmo puede buscar y extraer aquellos reservas que adhieren mayor valor a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 y su Influencia en la Prog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1640" y="24368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75960" y="24210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g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2697120"/>
          <a:ext cx="4343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97120"/>
                    <a:ext cx="4343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14760" y="2914560"/>
          <a:ext cx="4248360" cy="37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2914560"/>
                    <a:ext cx="424836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g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172200" cy="43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114800" y="400212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114800" y="1295280"/>
            <a:ext cx="4114800" cy="30895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28600" y="1295280"/>
            <a:ext cx="4038480" cy="2940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707000" y="4267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gm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88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fiabilidad de la Infraestructur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sa de Ocurrencia de Falla (ROCO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398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pueden estimar de los estados históricos de la infraestruc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procede a formular un proceso de cuenta del numero de eventos en función del tonelaje extraí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284720" y="5013360"/>
                <a:ext cx="3193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205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ceso de Cuenta de Interrupciones en el Tiempo y Tonel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19280" y="1700280"/>
          <a:ext cx="601200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0120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OCOF Experi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-76320" y="2422440"/>
            <a:ext cx="4570200" cy="3494160"/>
            <a:chOff x="-76320" y="2422440"/>
            <a:chExt cx="4570200" cy="3494160"/>
          </a:xfrm>
        </p:grpSpPr>
        <p:grpSp>
          <p:nvGrpSpPr>
            <p:cNvPr id="334" name=""/>
            <p:cNvGrpSpPr/>
            <p:nvPr/>
          </p:nvGrpSpPr>
          <p:grpSpPr>
            <a:xfrm>
              <a:off x="-76320" y="2422440"/>
              <a:ext cx="4570200" cy="3494160"/>
              <a:chOff x="-76320" y="2422440"/>
              <a:chExt cx="4570200" cy="34941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-76320" y="3038040"/>
                <a:ext cx="4570200" cy="2878560"/>
                <a:chOff x="-76320" y="3038040"/>
                <a:chExt cx="4570200" cy="28785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74840" y="5436000"/>
                  <a:ext cx="3757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474840" y="3038040"/>
                  <a:ext cx="0" cy="239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-76320" y="307764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846000" y="3304800"/>
                  <a:ext cx="2883240" cy="1865160"/>
                  <a:chOff x="846000" y="3304800"/>
                  <a:chExt cx="2883240" cy="18651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846000" y="3304800"/>
                    <a:ext cx="1441800" cy="18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>
                    <a:off x="2287800" y="3304800"/>
                    <a:ext cx="1441440" cy="18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1238760" y="3415680"/>
                  <a:ext cx="36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466800" y="3438000"/>
                  <a:ext cx="72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52880" y="4874400"/>
                  <a:ext cx="91728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urn-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70520" y="5158440"/>
                  <a:ext cx="17038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ful Life 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314520" y="4885200"/>
                  <a:ext cx="11793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ear-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54880" y="554976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48" name=""/>
                  <p:cNvSpPr txBox="1"/>
                  <p:nvPr/>
                </p:nvSpPr>
                <p:spPr>
                  <a:xfrm>
                    <a:off x="156240" y="3133440"/>
                    <a:ext cx="191880" cy="23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9" name=""/>
              <p:cNvSpPr/>
              <p:nvPr/>
            </p:nvSpPr>
            <p:spPr>
              <a:xfrm>
                <a:off x="491040" y="2422440"/>
                <a:ext cx="307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COF Life Cycle (Bathtu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3986280" y="5546520"/>
                  <a:ext cx="8748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1" name="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89480" y="2819520"/>
            <a:ext cx="4582080" cy="3987720"/>
            <a:chOff x="4389480" y="2819520"/>
            <a:chExt cx="4582080" cy="3987720"/>
          </a:xfrm>
        </p:grpSpPr>
        <p:graphicFrame>
          <p:nvGraphicFramePr>
            <p:cNvPr id="353" name=""/>
            <p:cNvGraphicFramePr/>
            <p:nvPr/>
          </p:nvGraphicFramePr>
          <p:xfrm>
            <a:off x="4389480" y="3048120"/>
            <a:ext cx="4570920" cy="37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89480" y="3048120"/>
                      <a:ext cx="4570920" cy="37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5176080" y="2819520"/>
              <a:ext cx="37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va de Falla de dos Ptos de Pr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lla de un componente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La recolección de información operacional del estado de la infraestructura minera permite estimar parámetros relevantes para el modelo de confiabilidad mine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200560" y="1905120"/>
          <a:ext cx="411336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0560" y="1905120"/>
                    <a:ext cx="411336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497376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2133720" cy="1593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297440" y="12193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2971800" cy="1332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222200" y="3200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2971800"/>
            <a:ext cx="12348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1" idx="3"/>
            <a:endCxn id="365" idx="1"/>
          </p:cNvCxnSpPr>
          <p:nvPr/>
        </p:nvCxnSpPr>
        <p:spPr>
          <a:xfrm>
            <a:off x="2819160" y="2397240"/>
            <a:ext cx="11437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3" idx="3"/>
            <a:endCxn id="365" idx="2"/>
          </p:cNvCxnSpPr>
          <p:nvPr/>
        </p:nvCxnSpPr>
        <p:spPr>
          <a:xfrm flipV="1">
            <a:off x="3276720" y="3621960"/>
            <a:ext cx="1303920" cy="626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74320" y="2209320"/>
            <a:ext cx="38862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babilidad que un pto de extracción estará disponible para operar en [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+</a:t>
            </a:r>
            <a:r>
              <a:rPr b="0" i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eer la tasa de falla se debe utilizar tonelaje en ves de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fiabilidad de un pto. de producir  T después de haber producido 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umiendo una tasa de interrupciones co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5394240" y="2722680"/>
                <a:ext cx="2819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394240" y="4743360"/>
                <a:ext cx="2401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ation of 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33520" y="3144960"/>
                <a:ext cx="6675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367560" y="456084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of Ocurrence of Fail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14760" y="39402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841920" y="4322880"/>
                <a:ext cx="3759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7358400" y="2209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58400" y="3336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7480" y="569448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(2) and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17960" y="5492880"/>
                <a:ext cx="4483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914480" y="2209680"/>
                <a:ext cx="5200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7821720" y="4560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y Estrategia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nfiabilidad permitiría establecer una métrica que permita incorporar la incertidumbre de infraestructura en la Programación de la producción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 mismo puede ser utilizado para analizar las decisiones operacionales tomadas en la planificación de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aquellas decisiones tomadas o involucradas en la planificación de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ation of 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914400" y="2789280"/>
                <a:ext cx="52308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Confiabilidad para la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o de Confiabilidad de Sistemas Productiv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191120" y="3200400"/>
            <a:ext cx="4647960" cy="2514600"/>
            <a:chOff x="4191120" y="3200400"/>
            <a:chExt cx="4647960" cy="251460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rcRect l="18749" t="34616" r="0" b="5769"/>
            <a:stretch/>
          </p:blipFill>
          <p:spPr>
            <a:xfrm>
              <a:off x="4191120" y="3200400"/>
              <a:ext cx="4647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332400" y="3279600"/>
              <a:ext cx="68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171480" y="3637080"/>
              <a:ext cx="4039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75400" y="3597480"/>
              <a:ext cx="36360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36520" y="5311800"/>
              <a:ext cx="62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009840" y="5107680"/>
              <a:ext cx="36360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47480" y="4988160"/>
              <a:ext cx="2019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43560" y="4670280"/>
              <a:ext cx="24228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15880" y="513576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200400" cy="1280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80880" y="3048120"/>
            <a:ext cx="3505320" cy="1067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confiabilidad de un sistema mecánico depende de la frecuencia de ocurrencia de falla de sus componentes mecá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1981080"/>
            <a:ext cx="350532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confiabilidad de un sistema productivo minero depende de la frecuencia de ocurrencia de falla de la infraestructur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-out-of-n  para un Sistema de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cesitan k ptos de extracción de n para cumplir la meta de un cru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la redund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out-of-n se utiliza para mo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zados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os en el cru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259240" y="2522520"/>
            <a:ext cx="3699720" cy="3924000"/>
            <a:chOff x="5259240" y="2522520"/>
            <a:chExt cx="3699720" cy="392400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6946560" y="2522520"/>
                  <a:ext cx="1108080" cy="94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5716440" y="3017520"/>
              <a:ext cx="2286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9240" y="3017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5040" y="340164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9240" y="37987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5040" y="4160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59240" y="4541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45040" y="492588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59240" y="53226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5040" y="5684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59240" y="6065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"/>
            <p:cNvCxnSpPr>
              <a:stCxn id="405" idx="0"/>
            </p:cNvCxnSpPr>
            <p:nvPr/>
          </p:nvCxnSpPr>
          <p:spPr>
            <a:xfrm>
              <a:off x="5487480" y="3017520"/>
              <a:ext cx="15246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"/>
            <p:cNvCxnSpPr>
              <a:stCxn id="406" idx="0"/>
            </p:cNvCxnSpPr>
            <p:nvPr/>
          </p:nvCxnSpPr>
          <p:spPr>
            <a:xfrm>
              <a:off x="6173640" y="3401280"/>
              <a:ext cx="838800" cy="33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0"/>
            </p:cNvCxnSpPr>
            <p:nvPr/>
          </p:nvCxnSpPr>
          <p:spPr>
            <a:xfrm flipV="1">
              <a:off x="5487480" y="3737880"/>
              <a:ext cx="1524600" cy="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08" idx="0"/>
            </p:cNvCxnSpPr>
            <p:nvPr/>
          </p:nvCxnSpPr>
          <p:spPr>
            <a:xfrm flipV="1">
              <a:off x="6173640" y="3737520"/>
              <a:ext cx="83880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8" name=""/>
            <p:cNvSpPr/>
            <p:nvPr/>
          </p:nvSpPr>
          <p:spPr>
            <a:xfrm>
              <a:off x="8156520" y="3474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40120" y="3170160"/>
              <a:ext cx="251460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487840" y="5074560"/>
              <a:ext cx="259056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56520" y="48463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042920" y="4508640"/>
            <a:ext cx="2782800" cy="1400040"/>
            <a:chOff x="1042920" y="4508640"/>
            <a:chExt cx="2782800" cy="1400040"/>
          </a:xfrm>
        </p:grpSpPr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1042920" y="4508640"/>
                  <a:ext cx="11876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/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1319400" y="5540400"/>
                  <a:ext cx="14475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/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T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"/>
            <p:cNvSpPr/>
            <p:nvPr/>
          </p:nvSpPr>
          <p:spPr>
            <a:xfrm>
              <a:off x="3073680" y="5006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3320" y="55404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5400000">
            <a:off x="5535000" y="2379600"/>
            <a:ext cx="380880" cy="89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040 h 895320"/>
              <a:gd name="textAreaBottom" fmla="*/ 87228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38840" y="2209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ndancia y Confia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4680" y="251424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dundancia puede ser utilizada para mitigar los efectos de las interrupciones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dundancia se transforma en una variable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995640" y="2060640"/>
          <a:ext cx="451008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451008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609480" y="1330200"/>
            <a:ext cx="7894800" cy="4284360"/>
            <a:chOff x="609480" y="1330200"/>
            <a:chExt cx="7894800" cy="428436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5872320" y="1590480"/>
              <a:ext cx="236844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6" name=""/>
            <p:cNvGrpSpPr/>
            <p:nvPr/>
          </p:nvGrpSpPr>
          <p:grpSpPr>
            <a:xfrm>
              <a:off x="2081160" y="2085840"/>
              <a:ext cx="3790800" cy="2753640"/>
              <a:chOff x="2081160" y="2085840"/>
              <a:chExt cx="3790800" cy="2753640"/>
            </a:xfrm>
          </p:grpSpPr>
          <p:sp>
            <p:nvSpPr>
              <p:cNvPr id="437" name=""/>
              <p:cNvSpPr/>
              <p:nvPr/>
            </p:nvSpPr>
            <p:spPr>
              <a:xfrm>
                <a:off x="3438000" y="2085840"/>
                <a:ext cx="86148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46080" y="2475720"/>
                <a:ext cx="52524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58560" y="3222000"/>
                <a:ext cx="101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evelopment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29240" y="2498760"/>
                <a:ext cx="2053440" cy="1778760"/>
              </a:xfrm>
              <a:custGeom>
                <a:avLst/>
                <a:gdLst>
                  <a:gd name="textAreaLeft" fmla="*/ 533520 w 2053440"/>
                  <a:gd name="textAreaRight" fmla="*/ 1519920 w 2053440"/>
                  <a:gd name="textAreaTop" fmla="*/ 461880 h 1778760"/>
                  <a:gd name="textAreaBottom" fmla="*/ 1316880 h 177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97" y="13548"/>
                    </a:lnTo>
                    <a:lnTo>
                      <a:pt x="3163" y="18437"/>
                    </a:lnTo>
                    <a:lnTo>
                      <a:pt x="7933" y="17554"/>
                    </a:lnTo>
                    <a:lnTo>
                      <a:pt x="10800" y="21600"/>
                    </a:lnTo>
                    <a:lnTo>
                      <a:pt x="13548" y="17603"/>
                    </a:lnTo>
                    <a:lnTo>
                      <a:pt x="18437" y="18437"/>
                    </a:lnTo>
                    <a:lnTo>
                      <a:pt x="17554" y="13667"/>
                    </a:lnTo>
                    <a:lnTo>
                      <a:pt x="21600" y="10800"/>
                    </a:lnTo>
                    <a:lnTo>
                      <a:pt x="17603" y="8052"/>
                    </a:lnTo>
                    <a:lnTo>
                      <a:pt x="18437" y="3163"/>
                    </a:lnTo>
                    <a:lnTo>
                      <a:pt x="13667" y="4046"/>
                    </a:lnTo>
                    <a:lnTo>
                      <a:pt x="10800" y="0"/>
                    </a:lnTo>
                    <a:lnTo>
                      <a:pt x="8052" y="3997"/>
                    </a:lnTo>
                    <a:lnTo>
                      <a:pt x="3163" y="3163"/>
                    </a:lnTo>
                    <a:lnTo>
                      <a:pt x="4046" y="79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31800" y="3201480"/>
                <a:ext cx="92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duction Schedu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32880" y="3972600"/>
                <a:ext cx="7923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sourc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17640" y="3972600"/>
                <a:ext cx="10526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Func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52120" y="2427840"/>
                <a:ext cx="8611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eque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32240" y="4393800"/>
                <a:ext cx="8769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81160" y="2094840"/>
                <a:ext cx="3729240" cy="271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122560" y="3112200"/>
                <a:ext cx="89892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liability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09480" y="2931840"/>
              <a:ext cx="1060560" cy="10494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erat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040" y="4530600"/>
              <a:ext cx="928800" cy="46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thtu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t. Y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46" idx="6"/>
              <a:endCxn id="435" idx="2"/>
            </p:cNvCxnSpPr>
            <p:nvPr/>
          </p:nvCxnSpPr>
          <p:spPr>
            <a:xfrm flipV="1">
              <a:off x="5810040" y="2977560"/>
              <a:ext cx="1246680" cy="47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646200" y="1590480"/>
              <a:ext cx="995400" cy="10522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5" idx="0"/>
              <a:endCxn id="451" idx="1"/>
            </p:cNvCxnSpPr>
            <p:nvPr/>
          </p:nvCxnSpPr>
          <p:spPr>
            <a:xfrm rot="5400000">
              <a:off x="4098960" y="-1366920"/>
              <a:ext cx="1080" cy="591408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"/>
            <p:cNvCxnSpPr>
              <a:stCxn id="451" idx="3"/>
              <a:endCxn id="448" idx="1"/>
            </p:cNvCxnSpPr>
            <p:nvPr/>
          </p:nvCxnSpPr>
          <p:spPr>
            <a:xfrm flipH="1">
              <a:off x="1139040" y="2642400"/>
              <a:ext cx="39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"/>
            <p:cNvCxnSpPr>
              <a:stCxn id="448" idx="3"/>
              <a:endCxn id="449" idx="0"/>
            </p:cNvCxnSpPr>
            <p:nvPr/>
          </p:nvCxnSpPr>
          <p:spPr>
            <a:xfrm flipH="1">
              <a:off x="1125000" y="3981240"/>
              <a:ext cx="1512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5" name=""/>
            <p:cNvCxnSpPr>
              <a:stCxn id="449" idx="3"/>
              <a:endCxn id="447" idx="1"/>
            </p:cNvCxnSpPr>
            <p:nvPr/>
          </p:nvCxnSpPr>
          <p:spPr>
            <a:xfrm flipV="1">
              <a:off x="1590480" y="3364920"/>
              <a:ext cx="532440" cy="1397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6" idx="4"/>
            </p:cNvCxnSpPr>
            <p:nvPr/>
          </p:nvCxnSpPr>
          <p:spPr>
            <a:xfrm flipH="1" rot="16200000">
              <a:off x="4897440" y="3856320"/>
              <a:ext cx="23040" cy="192636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</p:cxnSp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6027840" y="3601800"/>
              <a:ext cx="24764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Re Define la Meta Produ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343400" y="2438280"/>
          <a:ext cx="48006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438280"/>
                    <a:ext cx="48006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2133720"/>
          <a:ext cx="4495680" cy="36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495680" cy="36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eorema de confianza dice que se puede analizar la probabilidad de falla de un sistema a través del conocimiento de las distribuciones de falla de los elementos que compon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ismo concepto puede ser aplicado a la planificación de minas, el que un plan se cumpla (o no), depende de que una serie de subprocesos y sus componentes se lleven a cabo de una manera adecu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aplicación de la teoría de confianza es aplicable en minería, dado que el proceso minero está compuesto de diferentes sub procesos que se encadenan de diversas for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de que un equipo minero vacía en un pique o camión hasta que llega al punto de carguío devuelta, se producen una serie de 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da una de estas acciones debe ser realizada de modo de cumplir el ciclo prod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acerca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nálisis de confiabilidad puede ser utilizado para definir y priorizar diferentes escenarios o estrategi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enarios por ejemp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as frentes tener en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niveles deben estar en operación en cualquier momento de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abanicos deben ser perforados de modo de asegurar la producción de median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la probabilidad que una componente no falle en un determinado peri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65640"/>
                <a:ext cx="1144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43280" y="3645000"/>
                <a:ext cx="2144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124640" y="5084640"/>
            <a:ext cx="63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 es la probabilidad de falla de una determinada compo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to que el análisis de sistema se basa en cadenas de subproductos enlazadas entre ellas es posible utilizar la analogía con sistemas 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n diferentes maneras de organizar los subprocesos de modo de alcanzar un objetivo des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a uno de los procesos debe ser efectuado en su totalidad de modo de pasar al siguiente en la 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xisten 3 procesos los cuales están encadenados en una secuencia. Pro ejemplo perforación, tronadura, cargu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50072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53:27Z</dcterms:created>
  <dc:creator> Ing Minas</dc:creator>
  <dc:description/>
  <dc:language>en-US</dc:language>
  <cp:lastModifiedBy>Enrique Rubio</cp:lastModifiedBy>
  <dcterms:modified xsi:type="dcterms:W3CDTF">2006-11-08T17:57:01Z</dcterms:modified>
  <cp:revision>35</cp:revision>
  <dc:subject/>
  <dc:title>Incertidumbre de leyes</dc:title>
</cp:coreProperties>
</file>