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wmf" ContentType="image/x-wmf"/>
  <Override PartName="/ppt/media/image6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D152-A157-41EB-836B-C5170639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00E-EB13-46E3-9FEF-A2DBE9EC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682-124B-43CA-B905-E2BB5F9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2D4-6026-4DE8-8011-0F3F6E8A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064-6046-4855-9ADB-5CFC2E0A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273-DEA5-480B-BC76-1F75FBD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BA7-981D-4908-B740-964D0B6E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B9C-F0C8-41FB-BD82-691FD3C6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77A-8A83-42EF-9841-D85B5075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E53-57EA-4BEE-8A3A-AB059E9B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5E8-DB07-4B77-A2D9-322D600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F85-65FB-4AF8-8E87-C213120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DC8-74FD-40E0-93F7-36422AF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091-1873-42AE-B96C-2A0289E960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0" y="5951520"/>
            <a:ext cx="2340000" cy="906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8080" y="6146640"/>
            <a:ext cx="218592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F:/DATA_D/Cave%20Management/Presentation/Cave%20Management%20Presentation_RTZ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y Control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rique Ru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gio Ba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bastián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388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323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67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5" idx="3"/>
            <a:endCxn id="76" idx="1"/>
          </p:cNvCxnSpPr>
          <p:nvPr/>
        </p:nvCxnSpPr>
        <p:spPr>
          <a:xfrm>
            <a:off x="3303360" y="3084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  <a:endCxn id="77" idx="1"/>
          </p:cNvCxnSpPr>
          <p:nvPr/>
        </p:nvCxnSpPr>
        <p:spPr>
          <a:xfrm>
            <a:off x="4141440" y="3084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1792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05080" y="26686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75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00160" y="3807000"/>
                <a:ext cx="5956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448080" y="304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60680" y="243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1"/>
            <a:endCxn id="84" idx="0"/>
          </p:cNvCxnSpPr>
          <p:nvPr/>
        </p:nvCxnSpPr>
        <p:spPr>
          <a:xfrm flipH="1" rot="10800000">
            <a:off x="2303640" y="266796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1"/>
            <a:endCxn id="84" idx="2"/>
          </p:cNvCxnSpPr>
          <p:nvPr/>
        </p:nvCxnSpPr>
        <p:spPr>
          <a:xfrm flipH="1" flipV="1" rot="10800000">
            <a:off x="2303640" y="285732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5800" y="245124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4240" y="245124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8640" y="24462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>
            <a:off x="3365280" y="26395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2" idx="3"/>
            <a:endCxn id="93" idx="1"/>
          </p:cNvCxnSpPr>
          <p:nvPr/>
        </p:nvCxnSpPr>
        <p:spPr>
          <a:xfrm flipV="1">
            <a:off x="4203360" y="263448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755800" y="32130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942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86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3"/>
            <a:endCxn id="97" idx="1"/>
          </p:cNvCxnSpPr>
          <p:nvPr/>
        </p:nvCxnSpPr>
        <p:spPr>
          <a:xfrm>
            <a:off x="3365280" y="3401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7" idx="3"/>
            <a:endCxn id="98" idx="1"/>
          </p:cNvCxnSpPr>
          <p:nvPr/>
        </p:nvCxnSpPr>
        <p:spPr>
          <a:xfrm>
            <a:off x="4203360" y="3401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3"/>
            <a:endCxn id="98" idx="3"/>
          </p:cNvCxnSpPr>
          <p:nvPr/>
        </p:nvCxnSpPr>
        <p:spPr>
          <a:xfrm>
            <a:off x="5118120" y="263520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1" idx="1"/>
            <a:endCxn id="96" idx="1"/>
          </p:cNvCxnSpPr>
          <p:nvPr/>
        </p:nvCxnSpPr>
        <p:spPr>
          <a:xfrm flipH="1" flipV="1" rot="10800000">
            <a:off x="2754720" y="263880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52680" y="40464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7168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67160" y="212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7168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716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3"/>
            <a:endCxn id="110" idx="3"/>
          </p:cNvCxnSpPr>
          <p:nvPr/>
        </p:nvCxnSpPr>
        <p:spPr>
          <a:xfrm>
            <a:off x="5877000" y="231768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5" idx="1"/>
            <a:endCxn id="108" idx="1"/>
          </p:cNvCxnSpPr>
          <p:nvPr/>
        </p:nvCxnSpPr>
        <p:spPr>
          <a:xfrm flipH="1" flipV="1" rot="10800000">
            <a:off x="2370600" y="232128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80960" y="4373640"/>
                <a:ext cx="6863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4" name=""/>
          <p:cNvCxnSpPr>
            <a:stCxn id="105" idx="3"/>
            <a:endCxn id="108" idx="3"/>
          </p:cNvCxnSpPr>
          <p:nvPr/>
        </p:nvCxnSpPr>
        <p:spPr>
          <a:xfrm>
            <a:off x="298080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6" idx="1"/>
            <a:endCxn id="109" idx="1"/>
          </p:cNvCxnSpPr>
          <p:nvPr/>
        </p:nvCxnSpPr>
        <p:spPr>
          <a:xfrm flipH="1" flipV="1" rot="10800000">
            <a:off x="3819240" y="2321280"/>
            <a:ext cx="216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3"/>
            <a:endCxn id="109" idx="3"/>
          </p:cNvCxnSpPr>
          <p:nvPr/>
        </p:nvCxnSpPr>
        <p:spPr>
          <a:xfrm>
            <a:off x="442872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7" idx="1"/>
            <a:endCxn id="110" idx="1"/>
          </p:cNvCxnSpPr>
          <p:nvPr/>
        </p:nvCxnSpPr>
        <p:spPr>
          <a:xfrm flipH="1" flipV="1" rot="10800000">
            <a:off x="5266080" y="2317320"/>
            <a:ext cx="252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1156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94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ación de modelos de 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24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7520" y="1628640"/>
                <a:ext cx="4416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632720" cy="158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5440" y="5373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es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en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mentablemente el punto en el panel 1 fue aquel que cayó en confianza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requiere aumentar la confiabilidad del sistema anterior abriendo un nuevo punto de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nuevo punto posee una confianza de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donde abrirlo de modo de aumentar la confianza del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apertura de un nuevo punto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6517" r="0" b="0"/>
          <a:stretch/>
        </p:blipFill>
        <p:spPr>
          <a:xfrm>
            <a:off x="179280" y="2276640"/>
            <a:ext cx="4392720" cy="31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6724" r="0" b="0"/>
          <a:stretch/>
        </p:blipFill>
        <p:spPr>
          <a:xfrm>
            <a:off x="4643280" y="2276640"/>
            <a:ext cx="4249800" cy="299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378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38036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en el Diseño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Diseño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sub niveles de producción con 3 caserones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n desarrollar 1 o dos ac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mediante 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 que los caserones poseen una confiabilidad de 0.8 y los accesos de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27664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70028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852640"/>
            <a:ext cx="50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989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422100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6920" y="5300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6920" y="4797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4221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084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Redund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diseño anterior se desea evaluar la redundancia de tener un acceso o un case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ducción se obtiene con 3 caserones y 1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19162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565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4172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285264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076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726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3020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01336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5950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 d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s modelos permiten cuantificar redundancia activa en un determinado sistema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n k pero se tienen n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19640" y="5373720"/>
            <a:ext cx="2521080" cy="78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4160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 en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certidumbre presente en el recurso minero y sistema minero gatilla que existan interrupciones operacionales no planificadas que tienden a destruir la promesa prod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ventos se pueden capturar e integrar al proceso de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905120"/>
            <a:ext cx="8469360" cy="5029200"/>
            <a:chOff x="228600" y="1905120"/>
            <a:chExt cx="8469360" cy="50292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90512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342480" y="195084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72160" y="251820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58880" y="293832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6680" y="336132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920" y="478728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06120" y="527976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98560" y="624708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3440" y="586836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9120" y="417564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11328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367128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1480" y="434880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5040" y="411300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9800" y="438120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5440" y="465264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34200" y="501912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entre Modelos de Planificación Tradicional y Produccione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3360" y="238752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ción real de 8 Minas de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06960" y="2751120"/>
          <a:ext cx="466236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6960" y="2751120"/>
                    <a:ext cx="466236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299880" y="2387520"/>
            <a:ext cx="4042440" cy="3922560"/>
            <a:chOff x="299880" y="2387520"/>
            <a:chExt cx="4042440" cy="3922560"/>
          </a:xfrm>
        </p:grpSpPr>
        <p:sp>
          <p:nvSpPr>
            <p:cNvPr id="217" name=""/>
            <p:cNvSpPr/>
            <p:nvPr/>
          </p:nvSpPr>
          <p:spPr>
            <a:xfrm>
              <a:off x="548280" y="2387520"/>
              <a:ext cx="37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ípico SIstema de Producción Simu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03176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128592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53828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7553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0124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2647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5174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27712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2364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32760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35301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040" y="53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040" y="5060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040" y="4743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40" y="442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680" y="4103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680" y="3786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680" y="3467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680" y="3147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680" y="28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841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0112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383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636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9068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1776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430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77012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89720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0224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14956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2766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3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52900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5572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7828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084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3516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6224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2878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41460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4168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6669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9404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11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64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4160" y="5616720"/>
              <a:ext cx="3205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720" y="561672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8720" y="5456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720" y="5295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8720" y="5137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5720" y="497844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8720" y="481968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5720" y="465948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720" y="449892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5720" y="434016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417996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402120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386244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720" y="370188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354168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5720" y="338292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3224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720" y="3063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720" y="2905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84160" y="2905200"/>
              <a:ext cx="1800" cy="271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91320" y="611172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666360" y="395568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nnage production Tons/ Y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8520" y="5748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85960" y="3384720"/>
              <a:ext cx="101124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9920" y="338472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3600" y="3384720"/>
              <a:ext cx="152640" cy="21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se realiza la Reconciliación a nivel de Ptos.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2057400"/>
          <a:ext cx="480060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4800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495680" y="2133720"/>
          <a:ext cx="48006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4800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3526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240" y="5943600"/>
            <a:ext cx="74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2240" y="594360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s veces los programas de producción no capturan el comportamiento real d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69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entos Geotécnicos que Afectan la Disponibilidad de Infraestructura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ia y desplazamiento del techo de los CX de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los Equipos en la Programación de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 interesante observar el proceso como las hormigas buscan alimento y encuentran la fuente de 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proceso es similar a como los equipos mineros podrían ser asignados de modo de cumplir con una determinada producción con la p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más en el proceso de simular programas de producción como el algoritmo puede buscar y extraer aquellos reservas que adhieren mayor valor a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y su Influencia en la Prog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1640" y="24368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5960" y="2421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g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697120"/>
          <a:ext cx="434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97120"/>
                    <a:ext cx="434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14760" y="2914560"/>
          <a:ext cx="42483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2914560"/>
                    <a:ext cx="42483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114800" y="40021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114800" y="1295280"/>
            <a:ext cx="4114800" cy="3089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28600" y="1295280"/>
            <a:ext cx="4038480" cy="294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7000" y="4267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88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fiabilidad de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a de Ocurrencia de Falla (ROCO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398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ueden estimar de los estados históricos de la infra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rocede a formular un proceso de cuenta del numero de eventos en función del tonelaje extraí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84720" y="5013360"/>
                <a:ext cx="31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05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ceso de Cuenta de Interrupciones en el Tiempo y Tone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1700280"/>
          <a:ext cx="6012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012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COF Experi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-76320" y="2422440"/>
            <a:ext cx="4570200" cy="3494160"/>
            <a:chOff x="-76320" y="2422440"/>
            <a:chExt cx="4570200" cy="3494160"/>
          </a:xfrm>
        </p:grpSpPr>
        <p:grpSp>
          <p:nvGrpSpPr>
            <p:cNvPr id="334" name=""/>
            <p:cNvGrpSpPr/>
            <p:nvPr/>
          </p:nvGrpSpPr>
          <p:grpSpPr>
            <a:xfrm>
              <a:off x="-76320" y="2422440"/>
              <a:ext cx="4570200" cy="3494160"/>
              <a:chOff x="-76320" y="2422440"/>
              <a:chExt cx="4570200" cy="3494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-76320" y="3038040"/>
                <a:ext cx="4570200" cy="2878560"/>
                <a:chOff x="-76320" y="3038040"/>
                <a:chExt cx="4570200" cy="2878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4840" y="543600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474840" y="303804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-76320" y="307764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846000" y="3304800"/>
                  <a:ext cx="2883240" cy="1865160"/>
                  <a:chOff x="846000" y="3304800"/>
                  <a:chExt cx="2883240" cy="1865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6000" y="330480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2287800" y="330480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1238760" y="341568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466800" y="343800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2880" y="487440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70520" y="515844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14520" y="488520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54880" y="554976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156240" y="313344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9" name=""/>
              <p:cNvSpPr/>
              <p:nvPr/>
            </p:nvSpPr>
            <p:spPr>
              <a:xfrm>
                <a:off x="491040" y="242244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986280" y="554652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9480" y="2819520"/>
            <a:ext cx="4582080" cy="3987720"/>
            <a:chOff x="4389480" y="2819520"/>
            <a:chExt cx="4582080" cy="3987720"/>
          </a:xfrm>
        </p:grpSpPr>
        <p:graphicFrame>
          <p:nvGraphicFramePr>
            <p:cNvPr id="353" name=""/>
            <p:cNvGraphicFramePr/>
            <p:nvPr/>
          </p:nvGraphicFramePr>
          <p:xfrm>
            <a:off x="4389480" y="3048120"/>
            <a:ext cx="457092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9480" y="3048120"/>
                      <a:ext cx="457092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5176080" y="2819520"/>
              <a:ext cx="37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va de Falla de dos Ptos de Pr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parámetros relevantes para el modelo de confiabilidad mi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00560" y="1905120"/>
          <a:ext cx="41133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0560" y="1905120"/>
                    <a:ext cx="4113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7376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2133720" cy="1593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97440" y="1219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2971800" cy="133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2220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971800"/>
            <a:ext cx="123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1" idx="3"/>
            <a:endCxn id="365" idx="1"/>
          </p:cNvCxnSpPr>
          <p:nvPr/>
        </p:nvCxnSpPr>
        <p:spPr>
          <a:xfrm>
            <a:off x="2819160" y="2397240"/>
            <a:ext cx="11437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3"/>
            <a:endCxn id="365" idx="2"/>
          </p:cNvCxnSpPr>
          <p:nvPr/>
        </p:nvCxnSpPr>
        <p:spPr>
          <a:xfrm flipV="1">
            <a:off x="3276720" y="3621960"/>
            <a:ext cx="1303920" cy="62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74320" y="2209320"/>
            <a:ext cx="3886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babilidad que un pto de extracción estará disponible para operar en [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+</a:t>
            </a:r>
            <a:r>
              <a:rPr b="0" i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eer la tasa de falla se debe utilizar tonelaje en ves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fiabilidad de un pto. de producir  T después de haber producido 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umiendo una tasa de interrupciones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394240" y="2722680"/>
                <a:ext cx="2819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394240" y="4743360"/>
                <a:ext cx="2401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33520" y="3144960"/>
                <a:ext cx="667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367560" y="45608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currence of Fail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14760" y="3940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841920" y="4322880"/>
                <a:ext cx="3759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735840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8400" y="33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7480" y="5694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(2) and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17960" y="5492880"/>
                <a:ext cx="4483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914480" y="2209680"/>
                <a:ext cx="520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821720" y="4560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nfiabilidad permitiría establecer una métrica que permita incorporar la incertidumbre de infraestructura en la Programación de la producción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14400" y="2789280"/>
                <a:ext cx="5230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Confiabilidad para la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o de Confiabilidad de Sistemas Productiv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91120" y="3200400"/>
            <a:ext cx="4647960" cy="2514600"/>
            <a:chOff x="4191120" y="3200400"/>
            <a:chExt cx="4647960" cy="25146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191120" y="3200400"/>
              <a:ext cx="4647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332400" y="327960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71480" y="363708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5400" y="359748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36520" y="531180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009840" y="510768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47480" y="498816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43560" y="467028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5880" y="513576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200400" cy="1280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0880" y="3048120"/>
            <a:ext cx="350532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mecánico depende de la frecuencia de ocurrencia de falla de sus componentes me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1981080"/>
            <a:ext cx="3505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productivo minero depende de la frecuencia de ocurrencia de falla de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  para un Sistema de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cesitan k ptos de extracción de n para cumplir la meta de un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se utiliza para 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zad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en el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259240" y="2522520"/>
            <a:ext cx="3699720" cy="3924000"/>
            <a:chOff x="5259240" y="252252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946560" y="252252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5716440" y="301752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9240" y="3017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5040" y="340164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37987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5040" y="4160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41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5040" y="492588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9240" y="53226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5040" y="5684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59240" y="6065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5" idx="0"/>
            </p:cNvCxnSpPr>
            <p:nvPr/>
          </p:nvCxnSpPr>
          <p:spPr>
            <a:xfrm>
              <a:off x="5487480" y="301752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0"/>
            </p:cNvCxnSpPr>
            <p:nvPr/>
          </p:nvCxnSpPr>
          <p:spPr>
            <a:xfrm>
              <a:off x="6173640" y="340128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0"/>
            </p:cNvCxnSpPr>
            <p:nvPr/>
          </p:nvCxnSpPr>
          <p:spPr>
            <a:xfrm flipV="1">
              <a:off x="5487480" y="373788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8" idx="0"/>
            </p:cNvCxnSpPr>
            <p:nvPr/>
          </p:nvCxnSpPr>
          <p:spPr>
            <a:xfrm flipV="1">
              <a:off x="6173640" y="373752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"/>
            <p:cNvSpPr/>
            <p:nvPr/>
          </p:nvSpPr>
          <p:spPr>
            <a:xfrm>
              <a:off x="8156520" y="3474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0120" y="317016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87840" y="507456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6520" y="4846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42920" y="4508640"/>
            <a:ext cx="2782800" cy="1400040"/>
            <a:chOff x="1042920" y="4508640"/>
            <a:chExt cx="2782800" cy="140004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042920" y="4508640"/>
                  <a:ext cx="1187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1319400" y="5540400"/>
                  <a:ext cx="1447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T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073680" y="5006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55404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5400000">
            <a:off x="5535000" y="237960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38840" y="220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ndancia y Confi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4680" y="25142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dundancia puede ser utilizada para mitigar los efectos de las interrupcione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dundancia se transforma en una variabl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995640" y="2060640"/>
          <a:ext cx="451008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451008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609480" y="1330200"/>
            <a:ext cx="7894800" cy="4284360"/>
            <a:chOff x="609480" y="1330200"/>
            <a:chExt cx="7894800" cy="42843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5872320" y="159048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"/>
            <p:cNvGrpSpPr/>
            <p:nvPr/>
          </p:nvGrpSpPr>
          <p:grpSpPr>
            <a:xfrm>
              <a:off x="2081160" y="2085840"/>
              <a:ext cx="3790800" cy="2753640"/>
              <a:chOff x="2081160" y="2085840"/>
              <a:chExt cx="3790800" cy="275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3438000" y="208584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46080" y="247572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8560" y="322200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9240" y="249876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1800" y="320148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2880" y="397260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17640" y="397260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52120" y="242784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32240" y="439380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81160" y="209484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22560" y="311220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09480" y="293184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40" y="453060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46" idx="6"/>
              <a:endCxn id="435" idx="2"/>
            </p:cNvCxnSpPr>
            <p:nvPr/>
          </p:nvCxnSpPr>
          <p:spPr>
            <a:xfrm flipV="1">
              <a:off x="5810040" y="297756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646200" y="159048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5" idx="0"/>
              <a:endCxn id="451" idx="1"/>
            </p:cNvCxnSpPr>
            <p:nvPr/>
          </p:nvCxnSpPr>
          <p:spPr>
            <a:xfrm rot="5400000">
              <a:off x="4098960" y="-136692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51" idx="3"/>
              <a:endCxn id="448" idx="1"/>
            </p:cNvCxnSpPr>
            <p:nvPr/>
          </p:nvCxnSpPr>
          <p:spPr>
            <a:xfrm flipH="1">
              <a:off x="1139040" y="264240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"/>
            <p:cNvCxnSpPr>
              <a:stCxn id="448" idx="3"/>
              <a:endCxn id="449" idx="0"/>
            </p:cNvCxnSpPr>
            <p:nvPr/>
          </p:nvCxnSpPr>
          <p:spPr>
            <a:xfrm flipH="1">
              <a:off x="1125000" y="398124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"/>
            <p:cNvCxnSpPr>
              <a:stCxn id="449" idx="3"/>
              <a:endCxn id="447" idx="1"/>
            </p:cNvCxnSpPr>
            <p:nvPr/>
          </p:nvCxnSpPr>
          <p:spPr>
            <a:xfrm flipV="1">
              <a:off x="1590480" y="336492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6" idx="4"/>
            </p:cNvCxnSpPr>
            <p:nvPr/>
          </p:nvCxnSpPr>
          <p:spPr>
            <a:xfrm flipH="1" rot="16200000">
              <a:off x="4897440" y="385632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6027840" y="360180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Re Define la Meta Produ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343400" y="243828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2133720"/>
          <a:ext cx="4495680" cy="36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49568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el proceso minero está compuesto de diferentes sub procesos que se encadenan de divers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probabilidad que una componente no falle en un determinado peri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65640"/>
                <a:ext cx="1144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43280" y="3645000"/>
                <a:ext cx="2144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124640" y="5084640"/>
            <a:ext cx="63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 es la probabilidad de falla de una determinada compo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53:27Z</dcterms:created>
  <dc:creator> Ing Minas</dc:creator>
  <dc:description/>
  <dc:language>en-US</dc:language>
  <cp:lastModifiedBy>Enrique Rubio</cp:lastModifiedBy>
  <dcterms:modified xsi:type="dcterms:W3CDTF">2006-11-08T17:57:01Z</dcterms:modified>
  <cp:revision>35</cp:revision>
  <dc:subject/>
  <dc:title>Incertidumbre de leyes</dc:title>
</cp:coreProperties>
</file>