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wmf" ContentType="image/x-wmf"/>
  <Override PartName="/ppt/media/image6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4.png" ContentType="image/png"/>
  <Override PartName="/ppt/media/image9.wmf" ContentType="image/x-wmf"/>
  <Override PartName="/ppt/media/image30.wmf" ContentType="image/x-wmf"/>
  <Override PartName="/ppt/media/image28.wmf" ContentType="image/x-wmf"/>
  <Override PartName="/ppt/media/image3.jpeg" ContentType="image/jpeg"/>
  <Override PartName="/ppt/media/image2.png" ContentType="image/png"/>
  <Override PartName="/ppt/media/image4.wmf" ContentType="image/x-wmf"/>
  <Override PartName="/ppt/media/image27.wmf" ContentType="image/x-wmf"/>
  <Override PartName="/ppt/media/image10.png" ContentType="image/png"/>
  <Override PartName="/ppt/media/image1.jpeg" ContentType="image/jpeg"/>
  <Override PartName="/ppt/media/image5.wmf" ContentType="image/x-wmf"/>
  <Override PartName="/ppt/media/image16.jpeg" ContentType="image/jpeg"/>
  <Override PartName="/ppt/media/image15.png" ContentType="image/png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8CBD-9FAA-47D8-A05D-6F376A2C7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re are more draw points available than needed and more Xcuts available as needed the method to compute the reliability should be k-out-of-n. The k-out-of-n with identical components is easy computed using the binomial distribution. Nevertheless in this model the components Ie dpts have often different maturities thus different reli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5B0-2FC3-4F68-8806-4EF37631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430C-5258-4A5A-B11D-9DF5F546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E3E-9F08-44A1-9F4D-1A8A2504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840-53BE-4741-B0A2-8B779393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8132-53EC-49F6-9689-F08AA21D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903-F933-4129-9E61-E81788AD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282-35F2-4272-81DB-35927BC5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EFF-13B2-4642-8D44-566718DA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F89-46A6-42F4-B6DD-CAF08D9C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893-D4F9-45BA-A67C-5C4F3F12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8E7-CAED-4271-9F79-7711F6E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8A6-B53B-429B-A9B6-5ACF641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7D7D-1907-40C8-B94B-0C07067349A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0" y="5951520"/>
            <a:ext cx="2340000" cy="9064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58080" y="6146640"/>
            <a:ext cx="2185920" cy="711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F:/DATA_D/Cave%20Management/Presentation/Cave%20Management%20Presentation_RTZ.ppt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anificación y Control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rique Ru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rgio Barr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bastián Tronc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33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en ser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93880" y="28954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3232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4672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5" idx="3"/>
            <a:endCxn id="76" idx="1"/>
          </p:cNvCxnSpPr>
          <p:nvPr/>
        </p:nvCxnSpPr>
        <p:spPr>
          <a:xfrm>
            <a:off x="3303360" y="3084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6" idx="3"/>
            <a:endCxn id="77" idx="1"/>
          </p:cNvCxnSpPr>
          <p:nvPr/>
        </p:nvCxnSpPr>
        <p:spPr>
          <a:xfrm>
            <a:off x="4141440" y="3084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617920" y="3733920"/>
                <a:ext cx="41148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parale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05080" y="26686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66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57560" y="266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00160" y="3807000"/>
                <a:ext cx="595656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448080" y="3044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460680" y="2435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2" idx="1"/>
            <a:endCxn id="84" idx="0"/>
          </p:cNvCxnSpPr>
          <p:nvPr/>
        </p:nvCxnSpPr>
        <p:spPr>
          <a:xfrm flipH="1" rot="10800000">
            <a:off x="2303640" y="2667960"/>
            <a:ext cx="2057760" cy="189720"/>
          </a:xfrm>
          <a:prstGeom prst="bentConnector4">
            <a:avLst>
              <a:gd name="adj1" fmla="val -11111"/>
              <a:gd name="adj2" fmla="val 2209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82" idx="1"/>
            <a:endCxn id="84" idx="2"/>
          </p:cNvCxnSpPr>
          <p:nvPr/>
        </p:nvCxnSpPr>
        <p:spPr>
          <a:xfrm flipH="1" flipV="1" rot="10800000">
            <a:off x="2303640" y="2857320"/>
            <a:ext cx="2057760" cy="187920"/>
          </a:xfrm>
          <a:prstGeom prst="bentConnector4">
            <a:avLst>
              <a:gd name="adj1" fmla="val -11111"/>
              <a:gd name="adj2" fmla="val 221880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 paralelo se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55800" y="245124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94240" y="245124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08640" y="24462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1" idx="3"/>
            <a:endCxn id="92" idx="1"/>
          </p:cNvCxnSpPr>
          <p:nvPr/>
        </p:nvCxnSpPr>
        <p:spPr>
          <a:xfrm>
            <a:off x="3365280" y="26395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92" idx="3"/>
            <a:endCxn id="93" idx="1"/>
          </p:cNvCxnSpPr>
          <p:nvPr/>
        </p:nvCxnSpPr>
        <p:spPr>
          <a:xfrm flipV="1">
            <a:off x="4203360" y="263448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2755800" y="321300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94240" y="32130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8640" y="321300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"/>
          <p:cNvCxnSpPr>
            <a:stCxn id="96" idx="3"/>
            <a:endCxn id="97" idx="1"/>
          </p:cNvCxnSpPr>
          <p:nvPr/>
        </p:nvCxnSpPr>
        <p:spPr>
          <a:xfrm>
            <a:off x="3365280" y="34016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7" idx="3"/>
            <a:endCxn id="98" idx="1"/>
          </p:cNvCxnSpPr>
          <p:nvPr/>
        </p:nvCxnSpPr>
        <p:spPr>
          <a:xfrm>
            <a:off x="4203360" y="34016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3" idx="3"/>
            <a:endCxn id="98" idx="3"/>
          </p:cNvCxnSpPr>
          <p:nvPr/>
        </p:nvCxnSpPr>
        <p:spPr>
          <a:xfrm>
            <a:off x="5118120" y="263520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1" idx="1"/>
            <a:endCxn id="96" idx="1"/>
          </p:cNvCxnSpPr>
          <p:nvPr/>
        </p:nvCxnSpPr>
        <p:spPr>
          <a:xfrm flipH="1" flipV="1" rot="10800000">
            <a:off x="2754720" y="2638800"/>
            <a:ext cx="252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452680" y="4046400"/>
                <a:ext cx="5791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stemas series paral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71680" y="2133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19600" y="213372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67160" y="21286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7168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19600" y="2895480"/>
            <a:ext cx="609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7160" y="2895480"/>
            <a:ext cx="60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3"/>
            <a:endCxn id="110" idx="3"/>
          </p:cNvCxnSpPr>
          <p:nvPr/>
        </p:nvCxnSpPr>
        <p:spPr>
          <a:xfrm>
            <a:off x="5877000" y="2317680"/>
            <a:ext cx="2160" cy="76752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" name=""/>
          <p:cNvCxnSpPr>
            <a:stCxn id="105" idx="1"/>
            <a:endCxn id="108" idx="1"/>
          </p:cNvCxnSpPr>
          <p:nvPr/>
        </p:nvCxnSpPr>
        <p:spPr>
          <a:xfrm flipH="1" flipV="1" rot="10800000">
            <a:off x="2370600" y="2321280"/>
            <a:ext cx="252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80960" y="4373640"/>
                <a:ext cx="68630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14" name=""/>
          <p:cNvCxnSpPr>
            <a:stCxn id="105" idx="3"/>
            <a:endCxn id="108" idx="3"/>
          </p:cNvCxnSpPr>
          <p:nvPr/>
        </p:nvCxnSpPr>
        <p:spPr>
          <a:xfrm>
            <a:off x="2980800" y="2322000"/>
            <a:ext cx="2520" cy="7628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6" idx="1"/>
            <a:endCxn id="109" idx="1"/>
          </p:cNvCxnSpPr>
          <p:nvPr/>
        </p:nvCxnSpPr>
        <p:spPr>
          <a:xfrm flipH="1" flipV="1" rot="10800000">
            <a:off x="3819240" y="2321280"/>
            <a:ext cx="2160" cy="76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06" idx="3"/>
            <a:endCxn id="109" idx="3"/>
          </p:cNvCxnSpPr>
          <p:nvPr/>
        </p:nvCxnSpPr>
        <p:spPr>
          <a:xfrm>
            <a:off x="4428720" y="2322000"/>
            <a:ext cx="2520" cy="76284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107" idx="1"/>
            <a:endCxn id="110" idx="1"/>
          </p:cNvCxnSpPr>
          <p:nvPr/>
        </p:nvCxnSpPr>
        <p:spPr>
          <a:xfrm flipH="1" flipV="1" rot="10800000">
            <a:off x="5266080" y="2317320"/>
            <a:ext cx="2520" cy="76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21156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59480" y="266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aración de modelos de Confi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4898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plicación en Minería Subterrá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7640" y="1893960"/>
            <a:ext cx="4494600" cy="3341880"/>
            <a:chOff x="377640" y="1893960"/>
            <a:chExt cx="4494600" cy="3341880"/>
          </a:xfrm>
        </p:grpSpPr>
        <p:sp>
          <p:nvSpPr>
            <p:cNvPr id="124" name=""/>
            <p:cNvSpPr/>
            <p:nvPr/>
          </p:nvSpPr>
          <p:spPr>
            <a:xfrm>
              <a:off x="44316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3160" y="1893960"/>
              <a:ext cx="309996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243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05120" y="2558880"/>
              <a:ext cx="737640" cy="252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91080" y="2026800"/>
              <a:ext cx="1181160" cy="3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884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624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7292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9600" y="1970640"/>
              <a:ext cx="590400" cy="322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212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21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120" y="428868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8552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2920" y="3235320"/>
              <a:ext cx="590400" cy="398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72920" y="375624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1160" y="2691720"/>
              <a:ext cx="590400" cy="399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78560" y="3224160"/>
              <a:ext cx="590400" cy="399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3720" y="483156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47280" y="4852800"/>
              <a:ext cx="85032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7640" y="4852800"/>
              <a:ext cx="85032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nel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727520" y="1628640"/>
                <a:ext cx="441648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D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659120" y="2590920"/>
            <a:ext cx="43182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OP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confiabilidad del punto de ext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952880" y="434340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4637520" y="3693960"/>
            <a:ext cx="27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fiabilidad del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08440" y="49132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sistema anterior garantiza la extracción de 1 tonelada de cada panel, es decir, el mismo ritmo por caser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la confianza de cada uno de los elementos es igual a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fiabilidad del sistema es 0.4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escenarios po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la confianza de un punto de extracción del panel 1 cae a 0.5 (caso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uponer que  la confianza de un punto de extracción del panel 3 cae a 0.5 (caso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minería subterrá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7632720" cy="1581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5440" y="53737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nel es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plicación en desarro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mentablemente el punto en el panel 1 fue aquel que cayó en confianza 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requiere aumentar la confiabilidad del sistema anterior abriendo un nuevo punto de extr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nuevo punto posee una confianza de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pregunta es donde abrirlo de modo de aumentar la confianza del siste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nálisis apertura de un nuevo punto de extr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6517" r="0" b="0"/>
          <a:stretch/>
        </p:blipFill>
        <p:spPr>
          <a:xfrm>
            <a:off x="179280" y="2276640"/>
            <a:ext cx="4392720" cy="3100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rcRect l="0" t="6724" r="0" b="0"/>
          <a:stretch/>
        </p:blipFill>
        <p:spPr>
          <a:xfrm>
            <a:off x="4643280" y="2276640"/>
            <a:ext cx="4249800" cy="2992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 flipV="1">
            <a:off x="900000" y="378936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380360" y="3357720"/>
            <a:ext cx="216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en el Diseño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ciones de Diseño Min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s sub niveles de producción con 3 caserones cada 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deben desarrollar 1 o dos acce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nálisis mediante 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ponga que los caserones poseen una confiabilidad de 0.8 y los accesos de 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2276640"/>
            <a:ext cx="502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1700280"/>
            <a:ext cx="502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852640"/>
            <a:ext cx="50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6000" y="198900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06920" y="422100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06920" y="530064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506920" y="479736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04000" y="422100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084640"/>
            <a:ext cx="504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pciones de Redunda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a el diseño anterior se desea evaluar la redundancia de tener un acceso o un case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producción se obtiene con 3 caserones y 1 ac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19162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256536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314172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08720" y="220500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360" y="2852640"/>
            <a:ext cx="287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67280" y="407664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867280" y="47260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30208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5013360"/>
            <a:ext cx="28728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5950080"/>
            <a:ext cx="5032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K de 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s modelos permiten cuantificar redundancia activa en un determinado sistema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necesitan k pero se tienen n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19640" y="5373720"/>
            <a:ext cx="2521080" cy="7873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983120" y="1341360"/>
            <a:ext cx="41608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certidumbre en la Infraestructur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incertidumbre presente en el recurso minero y sistema minero gatilla que existan interrupciones operacionales no planificadas que tienden a destruir la promesa produ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s eventos se pueden capturar e integrar al proceso de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 Sistema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8600" y="1905120"/>
            <a:ext cx="8469360" cy="5029200"/>
            <a:chOff x="228600" y="1905120"/>
            <a:chExt cx="8469360" cy="50292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rcRect l="5050" t="13471" r="4050" b="17503"/>
            <a:stretch/>
          </p:blipFill>
          <p:spPr>
            <a:xfrm>
              <a:off x="228600" y="1905120"/>
              <a:ext cx="845280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342480" y="1950840"/>
              <a:ext cx="735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v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72160" y="2518200"/>
              <a:ext cx="1499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Dri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58880" y="2938320"/>
              <a:ext cx="138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cut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86680" y="3361320"/>
              <a:ext cx="1511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7920" y="4787280"/>
              <a:ext cx="13208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ulage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06120" y="5279760"/>
              <a:ext cx="1491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entilation Lev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98560" y="6247080"/>
              <a:ext cx="1108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Haul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33440" y="5868360"/>
              <a:ext cx="814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ush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79120" y="4175640"/>
              <a:ext cx="1201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pping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14600" y="3113280"/>
              <a:ext cx="1052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3671280"/>
              <a:ext cx="633960" cy="14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21480" y="4348800"/>
              <a:ext cx="136188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condary Breaka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75040" y="4113000"/>
              <a:ext cx="1114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09800" y="4381200"/>
              <a:ext cx="7444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e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65440" y="4652640"/>
              <a:ext cx="8420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rizz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34200" y="5019120"/>
              <a:ext cx="98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vey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entre Modelos de Planificación Tradicional y Producciones Ac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43360" y="2387520"/>
            <a:ext cx="32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ción real de 8 Minas de 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206960" y="2751120"/>
          <a:ext cx="466236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6960" y="2751120"/>
                    <a:ext cx="466236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299880" y="2387520"/>
            <a:ext cx="4042440" cy="3922560"/>
            <a:chOff x="299880" y="2387520"/>
            <a:chExt cx="4042440" cy="3922560"/>
          </a:xfrm>
        </p:grpSpPr>
        <p:sp>
          <p:nvSpPr>
            <p:cNvPr id="217" name=""/>
            <p:cNvSpPr/>
            <p:nvPr/>
          </p:nvSpPr>
          <p:spPr>
            <a:xfrm>
              <a:off x="548280" y="2387520"/>
              <a:ext cx="379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ípico SIstema de Producción Simul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103176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6200000">
              <a:off x="128592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6200000">
              <a:off x="1538280" y="581436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6200000">
              <a:off x="17553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6200000">
              <a:off x="201240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6200000">
              <a:off x="22647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1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251748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6200000">
              <a:off x="277128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6200000">
              <a:off x="302364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2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327600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6200000">
              <a:off x="3530160" y="5849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Yr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5040" y="5381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5040" y="5060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5040" y="4743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5040" y="4424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680" y="4103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1680" y="3786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1680" y="3467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680" y="3147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1680" y="28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841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01124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13832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2636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39068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51776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64304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177012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89720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02248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14956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27664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4033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52900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65572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7828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90844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3516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16224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287880" y="5616360"/>
              <a:ext cx="144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41460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54168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666960" y="5616360"/>
              <a:ext cx="180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79404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1120" y="5616360"/>
              <a:ext cx="1440" cy="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6400" y="5616360"/>
              <a:ext cx="1800" cy="29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84160" y="5616720"/>
              <a:ext cx="3205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55720" y="561672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8720" y="545616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55720" y="529596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8720" y="513720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55720" y="497844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8720" y="481968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55720" y="465948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8720" y="449892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5720" y="434016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28720" y="417996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55720" y="402120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8720" y="386244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5720" y="370188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8720" y="354168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55720" y="3382920"/>
              <a:ext cx="28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8720" y="3224160"/>
              <a:ext cx="554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55720" y="3063960"/>
              <a:ext cx="28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8720" y="2905200"/>
              <a:ext cx="55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884160" y="2905200"/>
              <a:ext cx="1800" cy="2711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91320" y="611172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erio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-666360" y="3955680"/>
              <a:ext cx="213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onnage production Tons/ Y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68520" y="5748480"/>
              <a:ext cx="4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885960" y="3384720"/>
              <a:ext cx="101124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69920" y="3384720"/>
              <a:ext cx="13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33600" y="3384720"/>
              <a:ext cx="152640" cy="21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 se realiza la Reconciliación a nivel de Ptos. de Extr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2057400"/>
          <a:ext cx="4800600" cy="39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57400"/>
                    <a:ext cx="4800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495680" y="2133720"/>
          <a:ext cx="4800600" cy="38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133720"/>
                    <a:ext cx="48006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352680" y="4038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2240" y="5943600"/>
            <a:ext cx="74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22240" y="5943600"/>
            <a:ext cx="74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as veces los programas de producción no capturan el comportamiento real del macizo roc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69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entos Geotécnicos que Afectan la Disponibilidad de Infraestructura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0347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ia y desplazamiento del techo de los CX de produc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de los Equipos en la Programación de la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ulta interesante observar el proceso como las hormigas buscan alimento y encuentran la fuente de e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proceso es similar a como los equipos mineros podrían ser asignados de modo de cumplir con una determinada producción con la pla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 más en el proceso de simular programas de producción como el algoritmo puede buscar y extraer aquellos reservas que adhieren mayor valor a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os y su Influencia en la Prog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1640" y="243684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375960" y="24210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gad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2697120"/>
          <a:ext cx="4343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97120"/>
                    <a:ext cx="4343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14760" y="2914560"/>
          <a:ext cx="4248360" cy="371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2914560"/>
                    <a:ext cx="424836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g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172200" cy="43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4114800" y="4002120"/>
            <a:ext cx="3809880" cy="28558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4114800" y="1295280"/>
            <a:ext cx="4114800" cy="30895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228600" y="1295280"/>
            <a:ext cx="4038480" cy="2940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4707000" y="4267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ragm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788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fiabilidad de la Infraestructur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sa de Ocurrencia de Falla (ROCO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3398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pueden estimar de los estados históricos de la infraestructu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Se procede a formular un proceso de cuenta del numero de eventos en función del tonelaje extraí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284720" y="5013360"/>
                <a:ext cx="31939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205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ceso de Cuenta de Interrupciones en el Tiempo y Tonel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19280" y="1700280"/>
          <a:ext cx="601200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00280"/>
                    <a:ext cx="601200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OCOF Experi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-76320" y="2422440"/>
            <a:ext cx="4570200" cy="3494160"/>
            <a:chOff x="-76320" y="2422440"/>
            <a:chExt cx="4570200" cy="3494160"/>
          </a:xfrm>
        </p:grpSpPr>
        <p:grpSp>
          <p:nvGrpSpPr>
            <p:cNvPr id="334" name=""/>
            <p:cNvGrpSpPr/>
            <p:nvPr/>
          </p:nvGrpSpPr>
          <p:grpSpPr>
            <a:xfrm>
              <a:off x="-76320" y="2422440"/>
              <a:ext cx="4570200" cy="3494160"/>
              <a:chOff x="-76320" y="2422440"/>
              <a:chExt cx="4570200" cy="34941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-76320" y="3038040"/>
                <a:ext cx="4570200" cy="2878560"/>
                <a:chOff x="-76320" y="3038040"/>
                <a:chExt cx="4570200" cy="28785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74840" y="5436000"/>
                  <a:ext cx="3757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474840" y="3038040"/>
                  <a:ext cx="0" cy="2397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-76320" y="307764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"/>
                <p:cNvGrpSpPr/>
                <p:nvPr/>
              </p:nvGrpSpPr>
              <p:grpSpPr>
                <a:xfrm>
                  <a:off x="846000" y="3304800"/>
                  <a:ext cx="2883240" cy="1865160"/>
                  <a:chOff x="846000" y="3304800"/>
                  <a:chExt cx="2883240" cy="186516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>
                    <a:off x="846000" y="3304800"/>
                    <a:ext cx="1441800" cy="18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flipH="1">
                    <a:off x="2287800" y="3304800"/>
                    <a:ext cx="1441440" cy="18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20" h="2520">
                        <a:moveTo>
                          <a:pt x="0" y="0"/>
                        </a:moveTo>
                        <a:cubicBezTo>
                          <a:pt x="30" y="615"/>
                          <a:pt x="60" y="1230"/>
                          <a:pt x="180" y="1620"/>
                        </a:cubicBezTo>
                        <a:cubicBezTo>
                          <a:pt x="300" y="2010"/>
                          <a:pt x="330" y="2190"/>
                          <a:pt x="720" y="2340"/>
                        </a:cubicBezTo>
                        <a:cubicBezTo>
                          <a:pt x="1110" y="2490"/>
                          <a:pt x="1815" y="2505"/>
                          <a:pt x="2520" y="252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"/>
                <p:cNvSpPr/>
                <p:nvPr/>
              </p:nvSpPr>
              <p:spPr>
                <a:xfrm>
                  <a:off x="1238760" y="3415680"/>
                  <a:ext cx="360" cy="199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3466800" y="3438000"/>
                  <a:ext cx="720" cy="199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52880" y="4874400"/>
                  <a:ext cx="91728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Burn-i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370520" y="5158440"/>
                  <a:ext cx="170388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Useful Life 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3314520" y="4885200"/>
                  <a:ext cx="1179360" cy="53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ear-o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erio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54880" y="5549760"/>
                  <a:ext cx="1753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48" name=""/>
                  <p:cNvSpPr txBox="1"/>
                  <p:nvPr/>
                </p:nvSpPr>
                <p:spPr>
                  <a:xfrm>
                    <a:off x="156240" y="3133440"/>
                    <a:ext cx="191880" cy="23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49" name=""/>
              <p:cNvSpPr/>
              <p:nvPr/>
            </p:nvSpPr>
            <p:spPr>
              <a:xfrm>
                <a:off x="491040" y="2422440"/>
                <a:ext cx="3074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OCOF Life Cycle (Bathtub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50" name=""/>
                <p:cNvSpPr txBox="1"/>
                <p:nvPr/>
              </p:nvSpPr>
              <p:spPr>
                <a:xfrm>
                  <a:off x="3986280" y="5546520"/>
                  <a:ext cx="87480" cy="16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1" name="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4389480" y="2819520"/>
            <a:ext cx="4582080" cy="3987720"/>
            <a:chOff x="4389480" y="2819520"/>
            <a:chExt cx="4582080" cy="3987720"/>
          </a:xfrm>
        </p:grpSpPr>
        <p:graphicFrame>
          <p:nvGraphicFramePr>
            <p:cNvPr id="353" name=""/>
            <p:cNvGraphicFramePr/>
            <p:nvPr/>
          </p:nvGraphicFramePr>
          <p:xfrm>
            <a:off x="4389480" y="3048120"/>
            <a:ext cx="4570920" cy="375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89480" y="3048120"/>
                      <a:ext cx="4570920" cy="375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"/>
            <p:cNvSpPr/>
            <p:nvPr/>
          </p:nvSpPr>
          <p:spPr>
            <a:xfrm>
              <a:off x="5176080" y="2819520"/>
              <a:ext cx="37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va de Falla de dos Ptos de Pr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lla de un componente Min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3886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La recolección de información operacional del estado de la infraestructura minera permite estimar parámetros relevantes para el modelo de confiabilidad mine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5200560" y="1905120"/>
          <a:ext cx="4113360" cy="33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0560" y="1905120"/>
                    <a:ext cx="411336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497376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685800" y="1600200"/>
            <a:ext cx="2133720" cy="15937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297440" y="12193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2971800" cy="1332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222200" y="3200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2971800"/>
            <a:ext cx="123480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"/>
          <p:cNvCxnSpPr>
            <a:stCxn id="361" idx="3"/>
            <a:endCxn id="365" idx="1"/>
          </p:cNvCxnSpPr>
          <p:nvPr/>
        </p:nvCxnSpPr>
        <p:spPr>
          <a:xfrm>
            <a:off x="2819160" y="2397240"/>
            <a:ext cx="1143720" cy="900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7" name=""/>
          <p:cNvCxnSpPr>
            <a:stCxn id="363" idx="3"/>
            <a:endCxn id="365" idx="2"/>
          </p:cNvCxnSpPr>
          <p:nvPr/>
        </p:nvCxnSpPr>
        <p:spPr>
          <a:xfrm flipV="1">
            <a:off x="3276720" y="3621960"/>
            <a:ext cx="1303920" cy="626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74320" y="2209320"/>
            <a:ext cx="38862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babilidad que un pto de extracción estará disponible para operar en [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+</a:t>
            </a:r>
            <a:r>
              <a:rPr b="0" i="1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leer la tasa de falla se debe utilizar tonelaje en ves de tiem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fiabilidad de un pto. de producir  T después de haber producido  T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asumiendo una tasa de interrupciones co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5394240" y="2722680"/>
                <a:ext cx="2819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5394240" y="4743360"/>
                <a:ext cx="24019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R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ation of 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33520" y="3144960"/>
                <a:ext cx="66754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|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367560" y="456084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of Ocurrence of Fail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14760" y="39402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841920" y="4322880"/>
                <a:ext cx="37591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|</m:t>
                        </m:r>
                        <m:r>
                          <m:t xml:space="preserve">T</m:t>
                        </m:r>
                        <m:r>
                          <m:t xml:space="preserve">&gt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7358400" y="22096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58400" y="3336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7480" y="5694480"/>
            <a:ext cx="23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ing (2) and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117960" y="5492880"/>
                <a:ext cx="44830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914480" y="2209680"/>
                <a:ext cx="5200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;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7821720" y="4560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fiabilidad y Estrategias de P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confiabilidad permitiría establecer una métrica que permita incorporar la incertidumbre de infraestructura en la Programación de la producción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 mismo puede ser utilizado para analizar las decisiones operacionales tomadas en la planificación de cort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bién aquellas decisiones tomadas o involucradas en la planificación de 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rivation of Draw Point Reli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914400" y="2789280"/>
                <a:ext cx="52308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e Confiabilidad para la Planific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o de Confiabilidad de Sistemas Productiv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191120" y="3200400"/>
            <a:ext cx="4647960" cy="2514600"/>
            <a:chOff x="4191120" y="3200400"/>
            <a:chExt cx="4647960" cy="251460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rcRect l="18749" t="34616" r="0" b="5769"/>
            <a:stretch/>
          </p:blipFill>
          <p:spPr>
            <a:xfrm>
              <a:off x="4191120" y="3200400"/>
              <a:ext cx="464796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6332400" y="3279600"/>
              <a:ext cx="686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re Pas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171480" y="3637080"/>
              <a:ext cx="4039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75400" y="3597480"/>
              <a:ext cx="36360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36520" y="5311800"/>
              <a:ext cx="62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009840" y="5107680"/>
              <a:ext cx="36360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5847480" y="4988160"/>
              <a:ext cx="20196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443560" y="4670280"/>
              <a:ext cx="242280" cy="4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15880" y="513576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raw Poi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3200400" cy="12808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80880" y="3048120"/>
            <a:ext cx="3505320" cy="1067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confiabilidad de un sistema mecánico depende de la frecuencia de ocurrencia de falla de sus componentes mecán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1981080"/>
            <a:ext cx="3505320" cy="1067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confiabilidad de un sistema productivo minero depende de la frecuencia de ocurrencia de falla de la infraestructura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-out-of-n  para un Sistema de Block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necesitan k ptos de extracción de n para cumplir la meta de un cru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 la redund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-out-of-n se utiliza para mo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zados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os en el cru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259240" y="2522520"/>
            <a:ext cx="3699720" cy="3924000"/>
            <a:chOff x="5259240" y="2522520"/>
            <a:chExt cx="3699720" cy="3924000"/>
          </a:xfrm>
        </p:grpSpPr>
        <mc:AlternateContent>
          <mc:Choice xmlns:a14="http://schemas.microsoft.com/office/drawing/2010/main" Requires="a14">
            <p:sp>
              <p:nvSpPr>
                <p:cNvPr id="403" name=""/>
                <p:cNvSpPr txBox="1"/>
                <p:nvPr/>
              </p:nvSpPr>
              <p:spPr>
                <a:xfrm>
                  <a:off x="6946560" y="2522520"/>
                  <a:ext cx="1108080" cy="94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</m:num>
                        <m:den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d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04" name=""/>
            <p:cNvSpPr/>
            <p:nvPr/>
          </p:nvSpPr>
          <p:spPr>
            <a:xfrm>
              <a:off x="5716440" y="3017520"/>
              <a:ext cx="2286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59240" y="3017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5040" y="340164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59240" y="379872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45040" y="416052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59240" y="4541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45040" y="492588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59240" y="5322600"/>
              <a:ext cx="45720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945040" y="568476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59240" y="6065640"/>
              <a:ext cx="4572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4" name=""/>
            <p:cNvCxnSpPr>
              <a:stCxn id="405" idx="0"/>
            </p:cNvCxnSpPr>
            <p:nvPr/>
          </p:nvCxnSpPr>
          <p:spPr>
            <a:xfrm>
              <a:off x="5487480" y="3017520"/>
              <a:ext cx="1524600" cy="72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5" name=""/>
            <p:cNvCxnSpPr>
              <a:stCxn id="406" idx="0"/>
            </p:cNvCxnSpPr>
            <p:nvPr/>
          </p:nvCxnSpPr>
          <p:spPr>
            <a:xfrm>
              <a:off x="6173640" y="3401280"/>
              <a:ext cx="838800" cy="33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0"/>
            </p:cNvCxnSpPr>
            <p:nvPr/>
          </p:nvCxnSpPr>
          <p:spPr>
            <a:xfrm flipV="1">
              <a:off x="5487480" y="3737880"/>
              <a:ext cx="1524600" cy="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7" name=""/>
            <p:cNvCxnSpPr>
              <a:stCxn id="408" idx="0"/>
            </p:cNvCxnSpPr>
            <p:nvPr/>
          </p:nvCxnSpPr>
          <p:spPr>
            <a:xfrm flipV="1">
              <a:off x="6173640" y="3737520"/>
              <a:ext cx="838800" cy="42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8" name=""/>
            <p:cNvSpPr/>
            <p:nvPr/>
          </p:nvSpPr>
          <p:spPr>
            <a:xfrm>
              <a:off x="8156520" y="34747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40120" y="3170160"/>
              <a:ext cx="251460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5487840" y="5074560"/>
              <a:ext cx="259056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156520" y="484632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042920" y="4508640"/>
            <a:ext cx="2782800" cy="1400040"/>
            <a:chOff x="1042920" y="4508640"/>
            <a:chExt cx="2782800" cy="1400040"/>
          </a:xfrm>
        </p:grpSpPr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1042920" y="4508640"/>
                  <a:ext cx="118764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/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1319400" y="5540400"/>
                  <a:ext cx="144756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TT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  <m:r>
                        <m:t xml:space="preserve">/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T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25" name=""/>
            <p:cNvSpPr/>
            <p:nvPr/>
          </p:nvSpPr>
          <p:spPr>
            <a:xfrm>
              <a:off x="3073680" y="5006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73320" y="55404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c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5400000">
            <a:off x="5535000" y="2379600"/>
            <a:ext cx="380880" cy="895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040 h 895320"/>
              <a:gd name="textAreaBottom" fmla="*/ 872280 h 89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38840" y="22096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dundancia y Confia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4680" y="251424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dundancia puede ser utilizada para mitigar los efectos de las interrupciones oper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dundancia se transforma en una variable de plan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995640" y="2060640"/>
          <a:ext cx="451008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060640"/>
                    <a:ext cx="451008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609480" y="1330200"/>
            <a:ext cx="7894800" cy="4284360"/>
            <a:chOff x="609480" y="1330200"/>
            <a:chExt cx="7894800" cy="428436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5872320" y="1590480"/>
              <a:ext cx="236844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6" name=""/>
            <p:cNvGrpSpPr/>
            <p:nvPr/>
          </p:nvGrpSpPr>
          <p:grpSpPr>
            <a:xfrm>
              <a:off x="2081160" y="2085840"/>
              <a:ext cx="3790800" cy="2753640"/>
              <a:chOff x="2081160" y="2085840"/>
              <a:chExt cx="3790800" cy="2753640"/>
            </a:xfrm>
          </p:grpSpPr>
          <p:sp>
            <p:nvSpPr>
              <p:cNvPr id="437" name=""/>
              <p:cNvSpPr/>
              <p:nvPr/>
            </p:nvSpPr>
            <p:spPr>
              <a:xfrm>
                <a:off x="3438000" y="2085840"/>
                <a:ext cx="86148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Target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746080" y="2475720"/>
                <a:ext cx="52524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58560" y="3222000"/>
                <a:ext cx="101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evelopment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at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29240" y="2498760"/>
                <a:ext cx="2053440" cy="1778760"/>
              </a:xfrm>
              <a:custGeom>
                <a:avLst/>
                <a:gdLst>
                  <a:gd name="textAreaLeft" fmla="*/ 533520 w 2053440"/>
                  <a:gd name="textAreaRight" fmla="*/ 1519920 w 2053440"/>
                  <a:gd name="textAreaTop" fmla="*/ 461880 h 1778760"/>
                  <a:gd name="textAreaBottom" fmla="*/ 1316880 h 1778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97" y="13548"/>
                    </a:lnTo>
                    <a:lnTo>
                      <a:pt x="3163" y="18437"/>
                    </a:lnTo>
                    <a:lnTo>
                      <a:pt x="7933" y="17554"/>
                    </a:lnTo>
                    <a:lnTo>
                      <a:pt x="10800" y="21600"/>
                    </a:lnTo>
                    <a:lnTo>
                      <a:pt x="13548" y="17603"/>
                    </a:lnTo>
                    <a:lnTo>
                      <a:pt x="18437" y="18437"/>
                    </a:lnTo>
                    <a:lnTo>
                      <a:pt x="17554" y="13667"/>
                    </a:lnTo>
                    <a:lnTo>
                      <a:pt x="21600" y="10800"/>
                    </a:lnTo>
                    <a:lnTo>
                      <a:pt x="17603" y="8052"/>
                    </a:lnTo>
                    <a:lnTo>
                      <a:pt x="18437" y="3163"/>
                    </a:lnTo>
                    <a:lnTo>
                      <a:pt x="13667" y="4046"/>
                    </a:lnTo>
                    <a:lnTo>
                      <a:pt x="10800" y="0"/>
                    </a:lnTo>
                    <a:lnTo>
                      <a:pt x="8052" y="3997"/>
                    </a:lnTo>
                    <a:lnTo>
                      <a:pt x="3163" y="3163"/>
                    </a:lnTo>
                    <a:lnTo>
                      <a:pt x="4046" y="79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331800" y="3201480"/>
                <a:ext cx="92340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</a:rPr>
                  <a:t>Production Schedul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432880" y="3972600"/>
                <a:ext cx="7923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source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17640" y="3972600"/>
                <a:ext cx="1052640" cy="26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raw Func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452120" y="2427840"/>
                <a:ext cx="86112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equenc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432240" y="4393800"/>
                <a:ext cx="876960" cy="44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Economic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arameter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081160" y="2094840"/>
                <a:ext cx="3729240" cy="2713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122560" y="3112200"/>
                <a:ext cx="898920" cy="5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eliability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09480" y="2931840"/>
              <a:ext cx="1060560" cy="104940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perational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2040" y="4530600"/>
              <a:ext cx="928800" cy="46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athtub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pt. Yie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46" idx="6"/>
              <a:endCxn id="435" idx="2"/>
            </p:cNvCxnSpPr>
            <p:nvPr/>
          </p:nvCxnSpPr>
          <p:spPr>
            <a:xfrm flipV="1">
              <a:off x="5810040" y="2977560"/>
              <a:ext cx="1246680" cy="475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646200" y="1590480"/>
              <a:ext cx="995400" cy="1052280"/>
            </a:xfrm>
            <a:prstGeom prst="flowChartMagneticDisk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bas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5" idx="0"/>
              <a:endCxn id="451" idx="1"/>
            </p:cNvCxnSpPr>
            <p:nvPr/>
          </p:nvCxnSpPr>
          <p:spPr>
            <a:xfrm rot="5400000">
              <a:off x="4098960" y="-1366920"/>
              <a:ext cx="1080" cy="591408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"/>
            <p:cNvCxnSpPr>
              <a:stCxn id="451" idx="3"/>
              <a:endCxn id="448" idx="1"/>
            </p:cNvCxnSpPr>
            <p:nvPr/>
          </p:nvCxnSpPr>
          <p:spPr>
            <a:xfrm flipH="1">
              <a:off x="1139040" y="2642400"/>
              <a:ext cx="396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"/>
            <p:cNvCxnSpPr>
              <a:stCxn id="448" idx="3"/>
              <a:endCxn id="449" idx="0"/>
            </p:cNvCxnSpPr>
            <p:nvPr/>
          </p:nvCxnSpPr>
          <p:spPr>
            <a:xfrm flipH="1">
              <a:off x="1125000" y="3981240"/>
              <a:ext cx="15120" cy="55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5" name=""/>
            <p:cNvCxnSpPr>
              <a:stCxn id="449" idx="3"/>
              <a:endCxn id="447" idx="1"/>
            </p:cNvCxnSpPr>
            <p:nvPr/>
          </p:nvCxnSpPr>
          <p:spPr>
            <a:xfrm flipV="1">
              <a:off x="1590480" y="3364920"/>
              <a:ext cx="532440" cy="1397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6" idx="4"/>
            </p:cNvCxnSpPr>
            <p:nvPr/>
          </p:nvCxnSpPr>
          <p:spPr>
            <a:xfrm flipH="1" rot="16200000">
              <a:off x="4897440" y="3856320"/>
              <a:ext cx="23040" cy="192636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dashDot"/>
              <a:miter/>
              <a:tailEnd len="med" type="triangle" w="med"/>
            </a:ln>
          </p:spPr>
        </p:cxnSp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6027840" y="3601800"/>
              <a:ext cx="2476440" cy="201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Re Define la Meta Produc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4343400" y="2438280"/>
          <a:ext cx="4800600" cy="39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438280"/>
                    <a:ext cx="480060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2133720"/>
          <a:ext cx="4495680" cy="361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4495680" cy="36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eorema de confianza dice que se puede analizar la probabilidad de falla de un sistema a través del conocimiento de las distribuciones de falla de los elementos que compon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ismo concepto puede ser aplicado a la planificación de minas, el que un plan se cumpla (o no), depende de que una serie de subprocesos y sus componentes se lleven a cabo de una manera adecu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ema de confianz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aplicación de la teoría de confianza es aplicable en minería, dado que el proceso minero está compuesto de diferentes sub procesos que se encadenan de diversas for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de que un equipo minero vacía en un pique o camión hasta que llega al punto de carguío devuelta, se producen una serie de a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da una de estas acciones debe ser realizada de modo de cumplir el ciclo produ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ás acerca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análisis de confiabilidad puede ser utilizado para definir y priorizar diferentes escenarios o estrategias produc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cenarios por ejemp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as frentes tener en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niveles deben estar en operación en cualquier momento de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tos abanicos deben ser perforados de modo de asegurar la producción de median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la probabilidad que una componente no falle en un determinado periodo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65640"/>
                <a:ext cx="114480" cy="12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43280" y="3645000"/>
                <a:ext cx="21445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124640" y="5084640"/>
            <a:ext cx="63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 es la probabilidad de falla de una determinada compo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de confi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to que el análisis de sistema se basa en cadenas de subproductos enlazadas entre ellas es posible utilizar la analogía con sistemas 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isten diferentes maneras de organizar los subprocesos de modo de alcanzar un objetivo dese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a uno de los procesos debe ser efectuado en su totalidad de modo de pasar al siguiente en la secu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ongamos que existen 3 procesos los cuales están encadenados en una secuencia. Pro ejemplo perforación, tronadura, cargu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450072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8:53:27Z</dcterms:created>
  <dc:creator> Ing Minas</dc:creator>
  <dc:description/>
  <dc:language>en-US</dc:language>
  <cp:lastModifiedBy>Enrique Rubio</cp:lastModifiedBy>
  <dcterms:modified xsi:type="dcterms:W3CDTF">2006-11-08T17:57:01Z</dcterms:modified>
  <cp:revision>35</cp:revision>
  <dc:subject/>
  <dc:title>Incertidumbre de leyes</dc:title>
</cp:coreProperties>
</file>