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00A-C928-48FF-B0FA-4BD4BBBB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6A1-8493-4C50-AB49-6084815F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B93-6336-4D51-8E58-9CD23FBB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BEE-CE04-4280-9492-21B8656A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008-0553-455E-B596-5B36679A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491-155C-4B9A-9579-4C9D6CF4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C06-5CC3-42DA-8FE1-B5F899B6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32A-12D1-4185-BB79-D3DDA16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F1A-5D12-4EFC-BEC5-DE7ABED7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0AF-20F7-47DD-B68D-64FF345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B27-83F7-4EB3-9257-11BD9C3D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76C-E7B6-4ECB-9DE3-A67B863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D07D-956C-40E7-A36E-46FD00E2C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erpo vetiforme de 4m de potencia media con variaciones de hasta 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rrida es de 200m con quiebres en la geometría cada 40 m, producto de una zona de f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ca caja 5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ca mineral 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724280" y="2057400"/>
            <a:ext cx="3810240" cy="2742840"/>
            <a:chOff x="4724280" y="2057400"/>
            <a:chExt cx="3810240" cy="2742840"/>
          </a:xfrm>
        </p:grpSpPr>
        <p:sp>
          <p:nvSpPr>
            <p:cNvPr id="46" name=""/>
            <p:cNvSpPr/>
            <p:nvPr/>
          </p:nvSpPr>
          <p:spPr>
            <a:xfrm>
              <a:off x="4724280" y="2057400"/>
              <a:ext cx="3810240" cy="2406960"/>
            </a:xfrm>
            <a:custGeom>
              <a:avLst/>
              <a:gdLst/>
              <a:ahLst/>
              <a:rect l="l" t="t" r="r" b="b"/>
              <a:pathLst>
                <a:path w="5112" h="2148">
                  <a:moveTo>
                    <a:pt x="0" y="2148"/>
                  </a:moveTo>
                  <a:cubicBezTo>
                    <a:pt x="19" y="2091"/>
                    <a:pt x="61" y="2042"/>
                    <a:pt x="108" y="2004"/>
                  </a:cubicBezTo>
                  <a:cubicBezTo>
                    <a:pt x="131" y="1986"/>
                    <a:pt x="180" y="1956"/>
                    <a:pt x="180" y="1956"/>
                  </a:cubicBezTo>
                  <a:cubicBezTo>
                    <a:pt x="227" y="1885"/>
                    <a:pt x="174" y="1951"/>
                    <a:pt x="252" y="1896"/>
                  </a:cubicBezTo>
                  <a:cubicBezTo>
                    <a:pt x="327" y="1842"/>
                    <a:pt x="381" y="1775"/>
                    <a:pt x="468" y="1740"/>
                  </a:cubicBezTo>
                  <a:cubicBezTo>
                    <a:pt x="675" y="1533"/>
                    <a:pt x="381" y="1814"/>
                    <a:pt x="600" y="1644"/>
                  </a:cubicBezTo>
                  <a:cubicBezTo>
                    <a:pt x="616" y="1632"/>
                    <a:pt x="622" y="1610"/>
                    <a:pt x="636" y="1596"/>
                  </a:cubicBezTo>
                  <a:cubicBezTo>
                    <a:pt x="650" y="1582"/>
                    <a:pt x="668" y="1571"/>
                    <a:pt x="684" y="1560"/>
                  </a:cubicBezTo>
                  <a:cubicBezTo>
                    <a:pt x="720" y="1535"/>
                    <a:pt x="761" y="1519"/>
                    <a:pt x="792" y="1488"/>
                  </a:cubicBezTo>
                  <a:cubicBezTo>
                    <a:pt x="832" y="1448"/>
                    <a:pt x="869" y="1410"/>
                    <a:pt x="924" y="1392"/>
                  </a:cubicBezTo>
                  <a:cubicBezTo>
                    <a:pt x="1084" y="1232"/>
                    <a:pt x="893" y="1409"/>
                    <a:pt x="1008" y="1332"/>
                  </a:cubicBezTo>
                  <a:cubicBezTo>
                    <a:pt x="1022" y="1323"/>
                    <a:pt x="1030" y="1306"/>
                    <a:pt x="1044" y="1296"/>
                  </a:cubicBezTo>
                  <a:cubicBezTo>
                    <a:pt x="1059" y="1286"/>
                    <a:pt x="1078" y="1283"/>
                    <a:pt x="1092" y="1272"/>
                  </a:cubicBezTo>
                  <a:cubicBezTo>
                    <a:pt x="1110" y="1258"/>
                    <a:pt x="1122" y="1238"/>
                    <a:pt x="1140" y="1224"/>
                  </a:cubicBezTo>
                  <a:cubicBezTo>
                    <a:pt x="1163" y="1206"/>
                    <a:pt x="1189" y="1194"/>
                    <a:pt x="1212" y="1176"/>
                  </a:cubicBezTo>
                  <a:cubicBezTo>
                    <a:pt x="1252" y="1144"/>
                    <a:pt x="1289" y="1108"/>
                    <a:pt x="1332" y="1080"/>
                  </a:cubicBezTo>
                  <a:cubicBezTo>
                    <a:pt x="1356" y="1064"/>
                    <a:pt x="1381" y="1050"/>
                    <a:pt x="1404" y="1032"/>
                  </a:cubicBezTo>
                  <a:cubicBezTo>
                    <a:pt x="1445" y="1000"/>
                    <a:pt x="1462" y="977"/>
                    <a:pt x="1512" y="960"/>
                  </a:cubicBezTo>
                  <a:cubicBezTo>
                    <a:pt x="1629" y="872"/>
                    <a:pt x="1654" y="868"/>
                    <a:pt x="1788" y="828"/>
                  </a:cubicBezTo>
                  <a:cubicBezTo>
                    <a:pt x="1822" y="818"/>
                    <a:pt x="1849" y="789"/>
                    <a:pt x="1884" y="780"/>
                  </a:cubicBezTo>
                  <a:cubicBezTo>
                    <a:pt x="1949" y="763"/>
                    <a:pt x="2063" y="744"/>
                    <a:pt x="2136" y="732"/>
                  </a:cubicBezTo>
                  <a:cubicBezTo>
                    <a:pt x="2231" y="668"/>
                    <a:pt x="2347" y="623"/>
                    <a:pt x="2460" y="600"/>
                  </a:cubicBezTo>
                  <a:cubicBezTo>
                    <a:pt x="2581" y="540"/>
                    <a:pt x="2428" y="611"/>
                    <a:pt x="2568" y="564"/>
                  </a:cubicBezTo>
                  <a:cubicBezTo>
                    <a:pt x="2585" y="558"/>
                    <a:pt x="2599" y="546"/>
                    <a:pt x="2616" y="540"/>
                  </a:cubicBezTo>
                  <a:cubicBezTo>
                    <a:pt x="2631" y="534"/>
                    <a:pt x="2648" y="532"/>
                    <a:pt x="2664" y="528"/>
                  </a:cubicBezTo>
                  <a:cubicBezTo>
                    <a:pt x="2714" y="495"/>
                    <a:pt x="2766" y="488"/>
                    <a:pt x="2820" y="468"/>
                  </a:cubicBezTo>
                  <a:cubicBezTo>
                    <a:pt x="2861" y="453"/>
                    <a:pt x="2900" y="423"/>
                    <a:pt x="2940" y="408"/>
                  </a:cubicBezTo>
                  <a:cubicBezTo>
                    <a:pt x="3059" y="363"/>
                    <a:pt x="3219" y="350"/>
                    <a:pt x="3348" y="324"/>
                  </a:cubicBezTo>
                  <a:cubicBezTo>
                    <a:pt x="3436" y="306"/>
                    <a:pt x="3357" y="321"/>
                    <a:pt x="3444" y="288"/>
                  </a:cubicBezTo>
                  <a:cubicBezTo>
                    <a:pt x="3479" y="275"/>
                    <a:pt x="3545" y="268"/>
                    <a:pt x="3576" y="264"/>
                  </a:cubicBezTo>
                  <a:cubicBezTo>
                    <a:pt x="3753" y="205"/>
                    <a:pt x="4056" y="220"/>
                    <a:pt x="4200" y="216"/>
                  </a:cubicBezTo>
                  <a:cubicBezTo>
                    <a:pt x="4259" y="196"/>
                    <a:pt x="4322" y="190"/>
                    <a:pt x="4380" y="168"/>
                  </a:cubicBezTo>
                  <a:cubicBezTo>
                    <a:pt x="4434" y="148"/>
                    <a:pt x="4484" y="118"/>
                    <a:pt x="4536" y="96"/>
                  </a:cubicBezTo>
                  <a:cubicBezTo>
                    <a:pt x="4634" y="54"/>
                    <a:pt x="4756" y="36"/>
                    <a:pt x="4860" y="24"/>
                  </a:cubicBezTo>
                  <a:cubicBezTo>
                    <a:pt x="4888" y="17"/>
                    <a:pt x="4915" y="0"/>
                    <a:pt x="4944" y="0"/>
                  </a:cubicBezTo>
                  <a:cubicBezTo>
                    <a:pt x="5000" y="0"/>
                    <a:pt x="5056" y="12"/>
                    <a:pt x="511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76680" y="2487600"/>
              <a:ext cx="780480" cy="2245680"/>
            </a:xfrm>
            <a:custGeom>
              <a:avLst/>
              <a:gdLst/>
              <a:ahLst/>
              <a:rect l="l" t="t" r="r" b="b"/>
              <a:pathLst>
                <a:path w="816" h="2004">
                  <a:moveTo>
                    <a:pt x="744" y="0"/>
                  </a:moveTo>
                  <a:cubicBezTo>
                    <a:pt x="734" y="123"/>
                    <a:pt x="734" y="239"/>
                    <a:pt x="624" y="312"/>
                  </a:cubicBezTo>
                  <a:cubicBezTo>
                    <a:pt x="606" y="365"/>
                    <a:pt x="570" y="403"/>
                    <a:pt x="552" y="456"/>
                  </a:cubicBezTo>
                  <a:cubicBezTo>
                    <a:pt x="548" y="488"/>
                    <a:pt x="543" y="520"/>
                    <a:pt x="540" y="552"/>
                  </a:cubicBezTo>
                  <a:cubicBezTo>
                    <a:pt x="535" y="608"/>
                    <a:pt x="535" y="664"/>
                    <a:pt x="528" y="720"/>
                  </a:cubicBezTo>
                  <a:cubicBezTo>
                    <a:pt x="515" y="828"/>
                    <a:pt x="466" y="908"/>
                    <a:pt x="408" y="996"/>
                  </a:cubicBezTo>
                  <a:cubicBezTo>
                    <a:pt x="381" y="1036"/>
                    <a:pt x="371" y="1069"/>
                    <a:pt x="336" y="1104"/>
                  </a:cubicBezTo>
                  <a:cubicBezTo>
                    <a:pt x="314" y="1171"/>
                    <a:pt x="310" y="1241"/>
                    <a:pt x="288" y="1308"/>
                  </a:cubicBezTo>
                  <a:cubicBezTo>
                    <a:pt x="277" y="1394"/>
                    <a:pt x="255" y="1467"/>
                    <a:pt x="228" y="1548"/>
                  </a:cubicBezTo>
                  <a:cubicBezTo>
                    <a:pt x="204" y="1619"/>
                    <a:pt x="197" y="1673"/>
                    <a:pt x="132" y="1716"/>
                  </a:cubicBezTo>
                  <a:cubicBezTo>
                    <a:pt x="113" y="1774"/>
                    <a:pt x="39" y="1886"/>
                    <a:pt x="0" y="1944"/>
                  </a:cubicBezTo>
                  <a:cubicBezTo>
                    <a:pt x="59" y="1983"/>
                    <a:pt x="128" y="2004"/>
                    <a:pt x="156" y="1920"/>
                  </a:cubicBezTo>
                  <a:cubicBezTo>
                    <a:pt x="165" y="1791"/>
                    <a:pt x="137" y="1753"/>
                    <a:pt x="228" y="1692"/>
                  </a:cubicBezTo>
                  <a:cubicBezTo>
                    <a:pt x="246" y="1639"/>
                    <a:pt x="286" y="1602"/>
                    <a:pt x="300" y="1548"/>
                  </a:cubicBezTo>
                  <a:cubicBezTo>
                    <a:pt x="314" y="1491"/>
                    <a:pt x="329" y="1436"/>
                    <a:pt x="348" y="1380"/>
                  </a:cubicBezTo>
                  <a:cubicBezTo>
                    <a:pt x="362" y="1338"/>
                    <a:pt x="361" y="1291"/>
                    <a:pt x="372" y="1248"/>
                  </a:cubicBezTo>
                  <a:cubicBezTo>
                    <a:pt x="387" y="1188"/>
                    <a:pt x="379" y="1235"/>
                    <a:pt x="408" y="1176"/>
                  </a:cubicBezTo>
                  <a:cubicBezTo>
                    <a:pt x="431" y="1130"/>
                    <a:pt x="435" y="1110"/>
                    <a:pt x="480" y="1080"/>
                  </a:cubicBezTo>
                  <a:cubicBezTo>
                    <a:pt x="488" y="1056"/>
                    <a:pt x="496" y="1032"/>
                    <a:pt x="504" y="1008"/>
                  </a:cubicBezTo>
                  <a:cubicBezTo>
                    <a:pt x="508" y="996"/>
                    <a:pt x="516" y="972"/>
                    <a:pt x="516" y="972"/>
                  </a:cubicBezTo>
                  <a:cubicBezTo>
                    <a:pt x="524" y="919"/>
                    <a:pt x="533" y="844"/>
                    <a:pt x="552" y="792"/>
                  </a:cubicBezTo>
                  <a:cubicBezTo>
                    <a:pt x="596" y="675"/>
                    <a:pt x="560" y="832"/>
                    <a:pt x="588" y="720"/>
                  </a:cubicBezTo>
                  <a:cubicBezTo>
                    <a:pt x="591" y="706"/>
                    <a:pt x="605" y="629"/>
                    <a:pt x="612" y="612"/>
                  </a:cubicBezTo>
                  <a:cubicBezTo>
                    <a:pt x="682" y="449"/>
                    <a:pt x="597" y="692"/>
                    <a:pt x="648" y="540"/>
                  </a:cubicBezTo>
                  <a:cubicBezTo>
                    <a:pt x="657" y="433"/>
                    <a:pt x="642" y="360"/>
                    <a:pt x="732" y="300"/>
                  </a:cubicBezTo>
                  <a:cubicBezTo>
                    <a:pt x="742" y="284"/>
                    <a:pt x="816" y="188"/>
                    <a:pt x="804" y="156"/>
                  </a:cubicBezTo>
                  <a:cubicBezTo>
                    <a:pt x="784" y="104"/>
                    <a:pt x="764" y="52"/>
                    <a:pt x="744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40760" y="2379960"/>
              <a:ext cx="0" cy="24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23200" y="33717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00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23720" y="26467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12600" y="3563280"/>
              <a:ext cx="13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78000" y="372168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500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pide lo sigu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 de perfil del método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que las principales excavaciones del método de explotación y los ac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a el perfil de equip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a la productividad, costos, recuperación y dilución esperada para este método de explo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3:22:08Z</dcterms:created>
  <dc:creator>Enrique Rubio</dc:creator>
  <dc:description/>
  <dc:language>en-US</dc:language>
  <cp:lastModifiedBy>Enrique Rubio</cp:lastModifiedBy>
  <dcterms:modified xsi:type="dcterms:W3CDTF">2006-04-04T03:22:26Z</dcterms:modified>
  <cp:revision>1</cp:revision>
  <dc:subject/>
  <dc:title>Tarea 0</dc:title>
</cp:coreProperties>
</file>