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E455-31B3-4CD3-AAD6-09AA9E6211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DD798-5DB2-4BE1-A8C2-C4C37B69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7C8F-68C3-437F-829E-43C98ABE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7F65D-6E7C-4F63-86A1-FD5EF0F9FF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B79F-C2CA-4176-940E-03EAA652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B9AE-9685-47BF-89FC-F14A18C1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6908C-6EEE-45D0-B417-1381A148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BCD90-EF6C-407C-8763-6A640E1C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25FE-12B0-469E-9627-3DAAD415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ADC3-FB99-4326-B1D0-CA4C6FD7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5F805-09A0-4108-9A29-F223A970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F64EE-2C33-4119-8D59-FE4F9A1D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205A-1DAC-45BE-B94C-6ED8CF437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1219320" y="1371600"/>
            <a:ext cx="7038360" cy="133200"/>
            <a:chOff x="1219320" y="1371600"/>
            <a:chExt cx="7038360" cy="133200"/>
          </a:xfrm>
        </p:grpSpPr>
        <p:sp>
          <p:nvSpPr>
            <p:cNvPr id="6" name=""/>
            <p:cNvSpPr/>
            <p:nvPr/>
          </p:nvSpPr>
          <p:spPr>
            <a:xfrm>
              <a:off x="1219320" y="13716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76720" y="14382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1143000" y="6394320"/>
            <a:ext cx="7391520" cy="76320"/>
          </a:xfrm>
          <a:prstGeom prst="rect">
            <a:avLst/>
          </a:prstGeom>
          <a:gradFill rotWithShape="0">
            <a:gsLst>
              <a:gs pos="0">
                <a:srgbClr val="c1cde5"/>
              </a:gs>
              <a:gs pos="50000">
                <a:srgbClr val="003399"/>
              </a:gs>
              <a:gs pos="100000">
                <a:srgbClr val="c1cd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logo" descr=""/>
          <p:cNvPicPr/>
          <p:nvPr/>
        </p:nvPicPr>
        <p:blipFill>
          <a:blip r:embed="rId3"/>
          <a:stretch/>
        </p:blipFill>
        <p:spPr>
          <a:xfrm>
            <a:off x="28440" y="6070680"/>
            <a:ext cx="2105280" cy="81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" Target="slide22.xml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pítulo V: Programación de la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atriz de Restricciones Producti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41027" b="0"/>
          <a:stretch/>
        </p:blipFill>
        <p:spPr>
          <a:xfrm>
            <a:off x="380880" y="1828800"/>
            <a:ext cx="8458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 de Producción de Sulfu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zc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2959200"/>
            <a:ext cx="4038480" cy="2832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3024360"/>
            <a:ext cx="43434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ón del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superior por velo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b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inferior por compac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de tonelaje total por punto ( Reserv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 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nelaje me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j + eij Restriccion de uniform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j-eij Restricción de uniform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041480" y="2286000"/>
                <a:ext cx="25336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990720" y="3657600"/>
            <a:ext cx="29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LP: Las variables a optimizar son tonelajes y 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: las variables a optimizar es el tone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LP: cuando la recuperación es función del tonelaje a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presentación Gráfica del Problema de Optim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volución del Programa de Producción sin Restri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5902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volución del Programa de Producción con Restri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8580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étodo SU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superior por velo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b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inferior por compac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de tonelaje total por punto ( Reserv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 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nelaje me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j + eij Restriccion de uniform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j-eij Restricción de uniform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838080" y="2362320"/>
                <a:ext cx="28195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OD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HO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838080" y="3657600"/>
                <a:ext cx="27432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O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HOD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HO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s de producción Integrando la Curva de Recuperación Trat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Programas de Producción Utilizando Programación Matemát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ámetros econó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ámetros no des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riables reales, como tonel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riables enteras, acciones, cuando abrir el caserón, cuando cerra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étodo de explotación, secu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ducción por unidades mi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amina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of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3429000"/>
            <a:ext cx="1371600" cy="1066680"/>
          </a:xfrm>
          <a:prstGeom prst="hexagon">
            <a:avLst>
              <a:gd name="adj" fmla="val 32146"/>
              <a:gd name="vf" fmla="val 11547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1771560"/>
            <a:ext cx="1257120" cy="1295640"/>
          </a:xfrm>
          <a:prstGeom prst="donut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4648320"/>
            <a:ext cx="1295280" cy="129528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5" idx="3"/>
            <a:endCxn id="142" idx="2"/>
          </p:cNvCxnSpPr>
          <p:nvPr/>
        </p:nvCxnSpPr>
        <p:spPr>
          <a:xfrm flipV="1">
            <a:off x="4572000" y="2418840"/>
            <a:ext cx="1448640" cy="152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5" idx="3"/>
            <a:endCxn id="141" idx="1"/>
          </p:cNvCxnSpPr>
          <p:nvPr/>
        </p:nvCxnSpPr>
        <p:spPr>
          <a:xfrm>
            <a:off x="4572000" y="3943080"/>
            <a:ext cx="137232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5" idx="3"/>
            <a:endCxn id="143" idx="1"/>
          </p:cNvCxnSpPr>
          <p:nvPr/>
        </p:nvCxnSpPr>
        <p:spPr>
          <a:xfrm>
            <a:off x="4572000" y="3943080"/>
            <a:ext cx="1372320" cy="1353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43434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of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8600" y="1752480"/>
            <a:ext cx="7635960" cy="4191120"/>
            <a:chOff x="228600" y="1752480"/>
            <a:chExt cx="7635960" cy="419112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228600" y="3276720"/>
              <a:ext cx="43434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562720" y="3429000"/>
              <a:ext cx="1371600" cy="1066680"/>
            </a:xfrm>
            <a:prstGeom prst="hexagon">
              <a:avLst>
                <a:gd name="adj" fmla="val 32146"/>
                <a:gd name="vf" fmla="val 115470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00880" y="1752480"/>
              <a:ext cx="1257120" cy="1295640"/>
            </a:xfrm>
            <a:prstGeom prst="donut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00880" y="4648320"/>
              <a:ext cx="1295280" cy="1295280"/>
            </a:xfrm>
            <a:prstGeom prst="diamond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"/>
            <p:cNvCxnSpPr>
              <a:stCxn id="151" idx="3"/>
              <a:endCxn id="153" idx="2"/>
            </p:cNvCxnSpPr>
            <p:nvPr/>
          </p:nvCxnSpPr>
          <p:spPr>
            <a:xfrm flipV="1">
              <a:off x="4572000" y="2400120"/>
              <a:ext cx="1029600" cy="1545120"/>
            </a:xfrm>
            <a:prstGeom prst="straightConnector1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1" idx="3"/>
              <a:endCxn id="152" idx="1"/>
            </p:cNvCxnSpPr>
            <p:nvPr/>
          </p:nvCxnSpPr>
          <p:spPr>
            <a:xfrm>
              <a:off x="4572000" y="3944520"/>
              <a:ext cx="991440" cy="18360"/>
            </a:xfrm>
            <a:prstGeom prst="straightConnector1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1" idx="3"/>
              <a:endCxn id="154" idx="1"/>
            </p:cNvCxnSpPr>
            <p:nvPr/>
          </p:nvCxnSpPr>
          <p:spPr>
            <a:xfrm>
              <a:off x="4572000" y="3944520"/>
              <a:ext cx="1029600" cy="1351800"/>
            </a:xfrm>
            <a:prstGeom prst="straightConnector1">
              <a:avLst/>
            </a:prstGeom>
            <a:ln w="38160">
              <a:solidFill>
                <a:srgbClr val="99cc00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7315200" y="365760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772400" y="3123720"/>
              <a:ext cx="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e to Approach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609480" y="235260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609480" y="297504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609480" y="357192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609480" y="418140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609480" y="479124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Linear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609480" y="540072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9960" y="990720"/>
            <a:ext cx="4268880" cy="586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1828800"/>
            <a:ext cx="46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on rock hardness or fragmentation (MOTC) mill throughput is computed tons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31384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llurgical recovery as a function of MOTC and Rock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54864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llurgical recovery as a function of Gold grade and Rock Type.  If this is not present above i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42670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llurgical recovery of Cu as a function of MOTC and Rock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153280" y="63244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447920"/>
            <a:ext cx="4191120" cy="4114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905120"/>
            <a:ext cx="3504960" cy="3429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 Reve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2200" y="5597640"/>
            <a:ext cx="8821800" cy="126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4191120" cy="410688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8153280" y="63165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362320"/>
            <a:ext cx="68580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4038480"/>
            <a:ext cx="6858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952880"/>
            <a:ext cx="6858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92760" y="297180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to optim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6360" y="419112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sent to S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51055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sent no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2057400"/>
            <a:ext cx="3902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ter reduces the size of the problem to optimize by classifying the blocks according to their Average Revenue per 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191120" y="4038480"/>
            <a:ext cx="2971800" cy="157824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8153280" y="63165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ción Lin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ar el beneficio total de las extracciones mens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jeto 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19320" y="2895480"/>
                <a:ext cx="2238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−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AG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−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990720" y="4267080"/>
                <a:ext cx="204768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−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AG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TSAG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−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T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inary variable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tional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486400" cy="19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1523880"/>
            <a:ext cx="762012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ción No Lin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4343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isma pero con la relación lineal del tra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tricciones relacionadas con el tonelaje y no el tiempo de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678320" y="1676520"/>
            <a:ext cx="4723200" cy="2643120"/>
            <a:chOff x="1678320" y="1676520"/>
            <a:chExt cx="4723200" cy="2643120"/>
          </a:xfrm>
        </p:grpSpPr>
        <p:sp>
          <p:nvSpPr>
            <p:cNvPr id="201" name=""/>
            <p:cNvSpPr/>
            <p:nvPr/>
          </p:nvSpPr>
          <p:spPr>
            <a:xfrm>
              <a:off x="2073240" y="392076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073240" y="186336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27160" y="3920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65600" y="392076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Times New Roman"/>
                </a:rPr>
                <a:t>T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41360" y="39207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T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8320" y="1676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54480" y="2396880"/>
              <a:ext cx="274320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997440" y="2854080"/>
              <a:ext cx="0" cy="1066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99840" y="3997080"/>
              <a:ext cx="120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ll Through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1019880" y="2846160"/>
              <a:ext cx="162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tallurgical Reco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419800" y="1905120"/>
            <a:ext cx="342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Times New Roman"/>
              </a:rPr>
              <a:t>T+: Maximum feasible mill throughp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61560" y="2711520"/>
            <a:ext cx="32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T-: Minimum feasible mill through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72000" y="2333520"/>
            <a:ext cx="24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*: Design mill through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8153280" y="63165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je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514600" y="2438280"/>
                <a:ext cx="33148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−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G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−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AG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−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−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S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514600" y="3276720"/>
                <a:ext cx="1752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A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514600" y="3733920"/>
                <a:ext cx="1724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800" y="37490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79840" y="3505320"/>
            <a:ext cx="466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unciones que definen el ajuste de acuerdo al tonelaje a tratar por línea de proc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438280" y="4267080"/>
                <a:ext cx="172404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SAG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≥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SAG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≥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4479840" y="4800600"/>
            <a:ext cx="466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cidades de procesamiento acotadas por la tolerancia máxima a tratar en cada línea de proceso y su capacidad de diseñ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despacho de bloques depende del tiempo de procesamiento, la ley de mineral y la dureza del mineral (MOT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09680" y="2819520"/>
          <a:ext cx="6019920" cy="33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819520"/>
                    <a:ext cx="601992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r 5 Ra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62 Mt/a de cobre f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42 Mt/a de cobre de sulf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0 Mt/a de cobre en óx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ancado 14.2 Mt/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v mina max 36 Mt/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Despacho de Bloques Programa de Producción Mensu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optimización posee un potencial de mejora de 30 M$/a si se materializa de acuerdo al mod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aplicación fue desarrollada para una mina que explota mineral sulfurado de cobre con ley equivalente de 2.3 %Cu y un ritmo de 320 K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038480" y="2286000"/>
            <a:ext cx="4876920" cy="2698560"/>
            <a:chOff x="4038480" y="2286000"/>
            <a:chExt cx="4876920" cy="2698560"/>
          </a:xfrm>
        </p:grpSpPr>
        <p:sp>
          <p:nvSpPr>
            <p:cNvPr id="235" name=""/>
            <p:cNvSpPr/>
            <p:nvPr/>
          </p:nvSpPr>
          <p:spPr>
            <a:xfrm>
              <a:off x="4697280" y="4659840"/>
              <a:ext cx="34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697280" y="2418480"/>
              <a:ext cx="0" cy="22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38480" y="2286000"/>
              <a:ext cx="1054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47360" y="2549880"/>
              <a:ext cx="720" cy="15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97280" y="3604320"/>
              <a:ext cx="303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92920" y="2813760"/>
              <a:ext cx="6588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2920" y="3736800"/>
              <a:ext cx="658800" cy="39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97280" y="4131720"/>
              <a:ext cx="3031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42640" y="2813760"/>
              <a:ext cx="6588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74400" y="3736800"/>
              <a:ext cx="658800" cy="39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83480" y="4264200"/>
              <a:ext cx="659160" cy="39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24480" y="4659120"/>
              <a:ext cx="7909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5715000" cy="4834080"/>
          </a:xfrm>
          <a:prstGeom prst="rect">
            <a:avLst/>
          </a:prstGeom>
          <a:ln w="0">
            <a:noFill/>
          </a:ln>
        </p:spPr>
      </p:pic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8153280" y="63165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Pit Under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45120" y="2514240"/>
            <a:ext cx="7660440" cy="3135240"/>
            <a:chOff x="645120" y="2514240"/>
            <a:chExt cx="7660440" cy="3135240"/>
          </a:xfrm>
        </p:grpSpPr>
        <p:sp>
          <p:nvSpPr>
            <p:cNvPr id="252" name=""/>
            <p:cNvSpPr/>
            <p:nvPr/>
          </p:nvSpPr>
          <p:spPr>
            <a:xfrm>
              <a:off x="645120" y="2514600"/>
              <a:ext cx="187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7480" y="2514600"/>
              <a:ext cx="851040" cy="153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68880" y="4045680"/>
              <a:ext cx="20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411880" y="2514240"/>
              <a:ext cx="1361880" cy="153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73760" y="2514600"/>
              <a:ext cx="15318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39160" y="438660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77280" y="2514600"/>
              <a:ext cx="1020960" cy="187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98600" y="4386600"/>
              <a:ext cx="238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82160" y="2514600"/>
              <a:ext cx="1531800" cy="187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20280" y="4045680"/>
              <a:ext cx="5104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98600" y="5578200"/>
              <a:ext cx="238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78440" y="4897440"/>
              <a:ext cx="2403720" cy="752040"/>
            </a:xfrm>
            <a:custGeom>
              <a:avLst/>
              <a:gdLst/>
              <a:ahLst/>
              <a:rect l="l" t="t" r="r" b="b"/>
              <a:pathLst>
                <a:path w="2722" h="1681">
                  <a:moveTo>
                    <a:pt x="7" y="1605"/>
                  </a:moveTo>
                  <a:cubicBezTo>
                    <a:pt x="45" y="1338"/>
                    <a:pt x="0" y="1681"/>
                    <a:pt x="37" y="1140"/>
                  </a:cubicBezTo>
                  <a:cubicBezTo>
                    <a:pt x="42" y="1067"/>
                    <a:pt x="54" y="1029"/>
                    <a:pt x="112" y="990"/>
                  </a:cubicBezTo>
                  <a:cubicBezTo>
                    <a:pt x="150" y="932"/>
                    <a:pt x="183" y="862"/>
                    <a:pt x="202" y="795"/>
                  </a:cubicBezTo>
                  <a:cubicBezTo>
                    <a:pt x="219" y="734"/>
                    <a:pt x="227" y="653"/>
                    <a:pt x="262" y="600"/>
                  </a:cubicBezTo>
                  <a:cubicBezTo>
                    <a:pt x="322" y="510"/>
                    <a:pt x="344" y="407"/>
                    <a:pt x="397" y="315"/>
                  </a:cubicBezTo>
                  <a:cubicBezTo>
                    <a:pt x="420" y="274"/>
                    <a:pt x="457" y="135"/>
                    <a:pt x="502" y="120"/>
                  </a:cubicBezTo>
                  <a:cubicBezTo>
                    <a:pt x="621" y="80"/>
                    <a:pt x="655" y="73"/>
                    <a:pt x="787" y="60"/>
                  </a:cubicBezTo>
                  <a:cubicBezTo>
                    <a:pt x="869" y="39"/>
                    <a:pt x="943" y="14"/>
                    <a:pt x="1027" y="0"/>
                  </a:cubicBezTo>
                  <a:cubicBezTo>
                    <a:pt x="1187" y="16"/>
                    <a:pt x="1347" y="29"/>
                    <a:pt x="1507" y="45"/>
                  </a:cubicBezTo>
                  <a:cubicBezTo>
                    <a:pt x="1640" y="37"/>
                    <a:pt x="1811" y="44"/>
                    <a:pt x="1942" y="0"/>
                  </a:cubicBezTo>
                  <a:cubicBezTo>
                    <a:pt x="2092" y="5"/>
                    <a:pt x="2243" y="1"/>
                    <a:pt x="2392" y="15"/>
                  </a:cubicBezTo>
                  <a:cubicBezTo>
                    <a:pt x="2445" y="20"/>
                    <a:pt x="2497" y="135"/>
                    <a:pt x="2497" y="135"/>
                  </a:cubicBezTo>
                  <a:cubicBezTo>
                    <a:pt x="2502" y="200"/>
                    <a:pt x="2505" y="265"/>
                    <a:pt x="2512" y="330"/>
                  </a:cubicBezTo>
                  <a:cubicBezTo>
                    <a:pt x="2515" y="355"/>
                    <a:pt x="2524" y="380"/>
                    <a:pt x="2527" y="405"/>
                  </a:cubicBezTo>
                  <a:cubicBezTo>
                    <a:pt x="2534" y="480"/>
                    <a:pt x="2531" y="556"/>
                    <a:pt x="2542" y="630"/>
                  </a:cubicBezTo>
                  <a:cubicBezTo>
                    <a:pt x="2553" y="707"/>
                    <a:pt x="2589" y="746"/>
                    <a:pt x="2617" y="810"/>
                  </a:cubicBezTo>
                  <a:cubicBezTo>
                    <a:pt x="2630" y="839"/>
                    <a:pt x="2647" y="900"/>
                    <a:pt x="2647" y="900"/>
                  </a:cubicBezTo>
                  <a:cubicBezTo>
                    <a:pt x="2657" y="1036"/>
                    <a:pt x="2677" y="1156"/>
                    <a:pt x="2692" y="1290"/>
                  </a:cubicBezTo>
                  <a:cubicBezTo>
                    <a:pt x="2687" y="1355"/>
                    <a:pt x="2677" y="1420"/>
                    <a:pt x="2677" y="1485"/>
                  </a:cubicBezTo>
                  <a:cubicBezTo>
                    <a:pt x="2677" y="1515"/>
                    <a:pt x="2685" y="1545"/>
                    <a:pt x="2692" y="1575"/>
                  </a:cubicBezTo>
                  <a:cubicBezTo>
                    <a:pt x="2695" y="1590"/>
                    <a:pt x="2722" y="1615"/>
                    <a:pt x="2707" y="1620"/>
                  </a:cubicBezTo>
                  <a:cubicBezTo>
                    <a:pt x="2660" y="1636"/>
                    <a:pt x="2607" y="1620"/>
                    <a:pt x="2557" y="16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68880" y="4045680"/>
              <a:ext cx="2042640" cy="340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men 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4390560" y="3535920"/>
              <a:ext cx="72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90560" y="4386600"/>
              <a:ext cx="720" cy="51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90560" y="3535920"/>
              <a:ext cx="6804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???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84240" y="2514600"/>
              <a:ext cx="1080" cy="18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84240" y="3364920"/>
              <a:ext cx="680760" cy="3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58040" y="2514600"/>
              <a:ext cx="1080" cy="30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47560" y="4045680"/>
              <a:ext cx="5104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Pit / Underground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9480" y="1979280"/>
            <a:ext cx="7239240" cy="3619440"/>
            <a:chOff x="609480" y="1979280"/>
            <a:chExt cx="7239240" cy="3619440"/>
          </a:xfrm>
        </p:grpSpPr>
        <p:sp>
          <p:nvSpPr>
            <p:cNvPr id="274" name=""/>
            <p:cNvSpPr/>
            <p:nvPr/>
          </p:nvSpPr>
          <p:spPr>
            <a:xfrm>
              <a:off x="910800" y="4996080"/>
              <a:ext cx="45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910800" y="2431800"/>
              <a:ext cx="0" cy="256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9480" y="1979280"/>
              <a:ext cx="12063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PV (M$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84800" y="4996080"/>
              <a:ext cx="12063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1640" y="2959560"/>
              <a:ext cx="3921120" cy="2488680"/>
            </a:xfrm>
            <a:custGeom>
              <a:avLst/>
              <a:gdLst/>
              <a:ahLst/>
              <a:rect l="l" t="t" r="r" b="b"/>
              <a:pathLst>
                <a:path w="4680" h="2970">
                  <a:moveTo>
                    <a:pt x="0" y="2970"/>
                  </a:moveTo>
                  <a:cubicBezTo>
                    <a:pt x="90" y="1935"/>
                    <a:pt x="180" y="900"/>
                    <a:pt x="720" y="450"/>
                  </a:cubicBezTo>
                  <a:cubicBezTo>
                    <a:pt x="1260" y="0"/>
                    <a:pt x="2640" y="240"/>
                    <a:pt x="3240" y="270"/>
                  </a:cubicBezTo>
                  <a:cubicBezTo>
                    <a:pt x="3840" y="300"/>
                    <a:pt x="4080" y="540"/>
                    <a:pt x="4320" y="630"/>
                  </a:cubicBezTo>
                  <a:cubicBezTo>
                    <a:pt x="4560" y="720"/>
                    <a:pt x="4620" y="765"/>
                    <a:pt x="4680" y="8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65000" y="2733840"/>
              <a:ext cx="2865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PV profile from Whit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1640" y="2884680"/>
              <a:ext cx="3619440" cy="25639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1363320" y="3486960"/>
              <a:ext cx="4071960" cy="196092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14160" y="3336840"/>
              <a:ext cx="28656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mental NPV Whit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83120" y="2884680"/>
              <a:ext cx="286560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mental NPV Block Ca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23880" y="3185280"/>
              <a:ext cx="720" cy="18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379760" y="3185280"/>
              <a:ext cx="720" cy="18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871360" y="3638160"/>
              <a:ext cx="4071960" cy="196056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982760" y="3939840"/>
              <a:ext cx="30132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33600" y="3940200"/>
              <a:ext cx="1206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otprint Ele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Pit Underground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F=-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0106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Pit Underground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F=-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23888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 de Producción de un Inventario de Recur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38080" y="2133720"/>
                <a:ext cx="3812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295280" y="209376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ización del inventario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413080" y="3505320"/>
                <a:ext cx="17780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86520" y="3581280"/>
            <a:ext cx="17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766800" y="2514600"/>
                <a:ext cx="5238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1295280" y="243828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porción del inventario de recursos que es extraído en period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14400" y="3087720"/>
                <a:ext cx="15876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295280" y="30160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actor de actualización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86000" y="4343400"/>
                <a:ext cx="11430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092320" y="4997520"/>
                <a:ext cx="2216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85800" y="396252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86000" y="4648320"/>
                <a:ext cx="914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430440" y="426708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por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55480" y="4692600"/>
            <a:ext cx="22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ervación de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1160" y="510552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nelaje m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971720" y="5435640"/>
                <a:ext cx="231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343760" y="5530680"/>
            <a:ext cx="20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tricción de Le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Programación de Inventario de Recur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5029200"/>
            <a:ext cx="1295640" cy="797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3278160" cy="2384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09880" y="2209680"/>
            <a:ext cx="4956120" cy="1913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5560" y="205740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ación del 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40640" y="17892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triz de Deci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281400" y="5181480"/>
            <a:ext cx="5557680" cy="10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95800" y="4724280"/>
            <a:ext cx="40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Productivas y Resul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 de Producción de Múltiples UB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941400" y="1716120"/>
                <a:ext cx="1746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295280" y="1676520"/>
            <a:ext cx="21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ización de UBM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584440" y="3581280"/>
                <a:ext cx="163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u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86520" y="3625920"/>
            <a:ext cx="17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98480" y="2104920"/>
                <a:ext cx="4604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1295280" y="202104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porción de la UBM i que es extraído en period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14400" y="3110040"/>
                <a:ext cx="15876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95280" y="31240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actor de actualización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362320" y="4267080"/>
                <a:ext cx="1041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09680" y="5334120"/>
                <a:ext cx="15750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85800" y="419112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09680" y="4572000"/>
                <a:ext cx="1974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564160" y="41911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por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7120" y="4648320"/>
            <a:ext cx="22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ervación de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6240" y="54100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nelaje m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057400" y="5791320"/>
                <a:ext cx="19051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/>
                      <m:e/>
                    </m:nary>
                    <m:sSup>
                      <m:e>
                        <m:r>
                          <m:t xml:space="preserve">v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115160" y="5791320"/>
            <a:ext cx="20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tricción de Le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801720" y="2562120"/>
                <a:ext cx="4446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447920" y="2522520"/>
            <a:ext cx="48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riable o parámetros binarios que permiten asignar o definir secu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657600" y="426708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133720" y="5105520"/>
                <a:ext cx="2895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M, 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182200" y="502920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cuencia Mi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086600" cy="3166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2362320" y="4952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562720"/>
            <a:ext cx="609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bicación de diferentes unidades básicas mineras, de acuerdo a algún nivel de discretización ad-hoc para aplicar el método de explo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tricciones de S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4674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riz de Deci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9660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5:29:27Z</dcterms:created>
  <dc:creator>enriquer</dc:creator>
  <dc:description/>
  <dc:language>en-US</dc:language>
  <cp:lastModifiedBy>Enrique Rubio</cp:lastModifiedBy>
  <dcterms:modified xsi:type="dcterms:W3CDTF">2006-04-05T22:40:42Z</dcterms:modified>
  <cp:revision>163</cp:revision>
  <dc:subject/>
  <dc:title>Slide 1</dc:title>
</cp:coreProperties>
</file>