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0E8A-0F00-4124-B00D-E52ED4D05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AFD5-186A-4F0C-884A-0D43FE0B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201E-0742-4459-9AE5-7ECF156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08ED-D248-4AF5-80F8-A32944027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9ED9-5EF1-4C60-BA81-EB8F413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4484-93FE-45AB-8A3A-EF3D751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2BF0-941B-4549-A632-0205C8D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95C8-606B-4C86-9162-BC4DDA8C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D0C9-F3EE-4DA5-8948-895874C0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1BAD-4FC2-4D86-9AE0-A079A557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B62C-9181-4FBA-B92B-32E8A5A5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EF86-F155-40C5-BABD-D81268A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461-0922-4A57-89EB-C9E3FB96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" Target="slide22.xml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pítulo V: Programación de la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triz de Restricciones Produc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1027" b="0"/>
          <a:stretch/>
        </p:blipFill>
        <p:spPr>
          <a:xfrm>
            <a:off x="380880" y="1828800"/>
            <a:ext cx="8458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Sulf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959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3024360"/>
            <a:ext cx="4343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41480" y="2286000"/>
                <a:ext cx="25336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990720" y="36576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LP: Las variables a optimizar son tonelajes y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: las variables a optimizar es el tone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LP: cuando la recuperación es función del tonelaje a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presentación Gráfica del Problema de Optim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si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90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co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SU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38080" y="2362320"/>
                <a:ext cx="2819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O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O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080" y="3657600"/>
                <a:ext cx="27432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HO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Integrando la Curva de Recuperación 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Programas de Producción Utilizando Programación Matemát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ec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reales, como tone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enteras, acciones, cuando abrir el caserón, cuando cerr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, secu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ción por unidades mi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amin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429000"/>
            <a:ext cx="1371600" cy="1066680"/>
          </a:xfrm>
          <a:prstGeom prst="hexagon">
            <a:avLst>
              <a:gd name="adj" fmla="val 32146"/>
              <a:gd name="vf" fmla="val 11547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1771560"/>
            <a:ext cx="1257120" cy="1295640"/>
          </a:xfrm>
          <a:prstGeom prst="donut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648320"/>
            <a:ext cx="1295280" cy="129528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5" idx="3"/>
            <a:endCxn id="142" idx="2"/>
          </p:cNvCxnSpPr>
          <p:nvPr/>
        </p:nvCxnSpPr>
        <p:spPr>
          <a:xfrm flipV="1">
            <a:off x="4572000" y="2418840"/>
            <a:ext cx="1448640" cy="152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5" idx="3"/>
            <a:endCxn id="141" idx="1"/>
          </p:cNvCxnSpPr>
          <p:nvPr/>
        </p:nvCxnSpPr>
        <p:spPr>
          <a:xfrm>
            <a:off x="4572000" y="3943080"/>
            <a:ext cx="13723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3"/>
            <a:endCxn id="143" idx="1"/>
          </p:cNvCxnSpPr>
          <p:nvPr/>
        </p:nvCxnSpPr>
        <p:spPr>
          <a:xfrm>
            <a:off x="4572000" y="3943080"/>
            <a:ext cx="1372320" cy="1353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3434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1752480"/>
            <a:ext cx="7635960" cy="4191120"/>
            <a:chOff x="228600" y="1752480"/>
            <a:chExt cx="7635960" cy="41911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43434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62720" y="3429000"/>
              <a:ext cx="1371600" cy="1066680"/>
            </a:xfrm>
            <a:prstGeom prst="hexagon">
              <a:avLst>
                <a:gd name="adj" fmla="val 32146"/>
                <a:gd name="vf" fmla="val 11547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0880" y="1752480"/>
              <a:ext cx="1257120" cy="129564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00880" y="4648320"/>
              <a:ext cx="1295280" cy="129528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51" idx="3"/>
              <a:endCxn id="153" idx="2"/>
            </p:cNvCxnSpPr>
            <p:nvPr/>
          </p:nvCxnSpPr>
          <p:spPr>
            <a:xfrm flipV="1">
              <a:off x="4572000" y="2400120"/>
              <a:ext cx="1029600" cy="15451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1" idx="3"/>
              <a:endCxn id="152" idx="1"/>
            </p:cNvCxnSpPr>
            <p:nvPr/>
          </p:nvCxnSpPr>
          <p:spPr>
            <a:xfrm>
              <a:off x="4572000" y="3944520"/>
              <a:ext cx="991440" cy="18360"/>
            </a:xfrm>
            <a:prstGeom prst="straightConnector1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4" idx="1"/>
            </p:cNvCxnSpPr>
            <p:nvPr/>
          </p:nvCxnSpPr>
          <p:spPr>
            <a:xfrm>
              <a:off x="4572000" y="3944520"/>
              <a:ext cx="1029600" cy="1351800"/>
            </a:xfrm>
            <a:prstGeom prst="straightConnector1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7315200" y="36576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772400" y="3123720"/>
              <a:ext cx="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 to Approach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09480" y="23526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09480" y="29750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609480" y="35719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609480" y="41814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609480" y="47912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609480" y="54007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9960" y="990720"/>
            <a:ext cx="426888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1828800"/>
            <a:ext cx="46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rock hardness or fragmentation (MOTC) mill throughput is computed tons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138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4864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Gold grade and Rock Type.  If this is not present above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26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of Cu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1532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47920"/>
            <a:ext cx="419112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350496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Re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2200" y="5597640"/>
            <a:ext cx="88218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191120" cy="41068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362320"/>
            <a:ext cx="6858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038480"/>
            <a:ext cx="685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6858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2760" y="2971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to opt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6360" y="419112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to 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51055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no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057400"/>
            <a:ext cx="390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 reduces the size of the problem to optimize by classifying the blocks according to their Average Revenue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2971800" cy="157824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ar el beneficio total de las extracciones 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jeto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19320" y="2895480"/>
                <a:ext cx="22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90720" y="4267080"/>
                <a:ext cx="204768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SAG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inary variabl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tional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4864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1523880"/>
            <a:ext cx="76201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4343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isma pero con la relación lineal del 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ricciones relacionadas con el tonelaje y no el tiempo de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78320" y="1676520"/>
            <a:ext cx="4723200" cy="2643120"/>
            <a:chOff x="1678320" y="1676520"/>
            <a:chExt cx="4723200" cy="2643120"/>
          </a:xfrm>
        </p:grpSpPr>
        <p:sp>
          <p:nvSpPr>
            <p:cNvPr id="201" name=""/>
            <p:cNvSpPr/>
            <p:nvPr/>
          </p:nvSpPr>
          <p:spPr>
            <a:xfrm>
              <a:off x="2073240" y="392076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073240" y="186336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7160" y="3920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65600" y="39207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Times New Roman"/>
                </a:rPr>
                <a:t>T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41360" y="3920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T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8320" y="167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4480" y="2396880"/>
              <a:ext cx="274320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997440" y="285408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9840" y="3997080"/>
              <a:ext cx="120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ll Through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019880" y="2846160"/>
              <a:ext cx="16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tallurgical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419800" y="190512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T+: Maximum feasible mill through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61560" y="2711520"/>
            <a:ext cx="32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-: Minimum feasible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72000" y="23335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*: Design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je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14600" y="2438280"/>
                <a:ext cx="3314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14600" y="32767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A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14600" y="3733920"/>
                <a:ext cx="172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800" y="3749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3505320"/>
            <a:ext cx="466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ones que definen el ajuste de acuerdo al tonelaje a tratar por línea de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267080"/>
                <a:ext cx="172404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479840" y="480060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es de procesamiento acotadas por la tolerancia máxima a tratar en cada línea de proceso y su capacidad de dise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despacho de bloques depende del tiempo de procesamiento, la ley de mineral y la dureza del mineral (MO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09680" y="2819520"/>
          <a:ext cx="6019920" cy="33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60199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r 5 R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2 Mt/a de cobre f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2 Mt/a de cobre de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 Mt/a de cobre en óx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ncado 14.2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v mina max 36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Despacho de Bloques Programa de Producción Mensu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optimización posee un potencial de mejora de 30 M$/a si se materializa de acuerdo a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aplicación fue desarrollada para una mina que explota mineral sulfurado de cobre con ley equivalente de 2.3 %Cu y un ritmo de 320 K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038480" y="2286000"/>
            <a:ext cx="4876920" cy="2698560"/>
            <a:chOff x="4038480" y="2286000"/>
            <a:chExt cx="4876920" cy="2698560"/>
          </a:xfrm>
        </p:grpSpPr>
        <p:sp>
          <p:nvSpPr>
            <p:cNvPr id="235" name=""/>
            <p:cNvSpPr/>
            <p:nvPr/>
          </p:nvSpPr>
          <p:spPr>
            <a:xfrm>
              <a:off x="4697280" y="4659840"/>
              <a:ext cx="34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697280" y="2418480"/>
              <a:ext cx="0" cy="22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8480" y="2286000"/>
              <a:ext cx="1054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7360" y="2549880"/>
              <a:ext cx="720" cy="15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97280" y="3604320"/>
              <a:ext cx="30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9292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292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7280" y="4131720"/>
              <a:ext cx="3031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4264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7440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3480" y="4264200"/>
              <a:ext cx="65916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24480" y="4659120"/>
              <a:ext cx="79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15000" cy="483408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Pit 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45120" y="2514240"/>
            <a:ext cx="7660440" cy="3135240"/>
            <a:chOff x="645120" y="2514240"/>
            <a:chExt cx="7660440" cy="3135240"/>
          </a:xfrm>
        </p:grpSpPr>
        <p:sp>
          <p:nvSpPr>
            <p:cNvPr id="252" name=""/>
            <p:cNvSpPr/>
            <p:nvPr/>
          </p:nvSpPr>
          <p:spPr>
            <a:xfrm>
              <a:off x="645120" y="2514600"/>
              <a:ext cx="187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7480" y="2514600"/>
              <a:ext cx="85104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68880" y="4045680"/>
              <a:ext cx="20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11880" y="2514240"/>
              <a:ext cx="136188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73760" y="2514600"/>
              <a:ext cx="1531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39160" y="438660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77280" y="2514600"/>
              <a:ext cx="102096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98600" y="43866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82160" y="2514600"/>
              <a:ext cx="153180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028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8600" y="55782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78440" y="4897440"/>
              <a:ext cx="2403720" cy="752040"/>
            </a:xfrm>
            <a:custGeom>
              <a:avLst/>
              <a:gdLst/>
              <a:ahLst/>
              <a:rect l="l" t="t" r="r" b="b"/>
              <a:pathLst>
                <a:path w="2722" h="1681">
                  <a:moveTo>
                    <a:pt x="7" y="1605"/>
                  </a:moveTo>
                  <a:cubicBezTo>
                    <a:pt x="45" y="1338"/>
                    <a:pt x="0" y="1681"/>
                    <a:pt x="37" y="1140"/>
                  </a:cubicBezTo>
                  <a:cubicBezTo>
                    <a:pt x="42" y="1067"/>
                    <a:pt x="54" y="1029"/>
                    <a:pt x="112" y="990"/>
                  </a:cubicBezTo>
                  <a:cubicBezTo>
                    <a:pt x="150" y="932"/>
                    <a:pt x="183" y="862"/>
                    <a:pt x="202" y="795"/>
                  </a:cubicBezTo>
                  <a:cubicBezTo>
                    <a:pt x="219" y="734"/>
                    <a:pt x="227" y="653"/>
                    <a:pt x="262" y="600"/>
                  </a:cubicBezTo>
                  <a:cubicBezTo>
                    <a:pt x="322" y="510"/>
                    <a:pt x="344" y="407"/>
                    <a:pt x="397" y="315"/>
                  </a:cubicBezTo>
                  <a:cubicBezTo>
                    <a:pt x="420" y="274"/>
                    <a:pt x="457" y="135"/>
                    <a:pt x="502" y="120"/>
                  </a:cubicBezTo>
                  <a:cubicBezTo>
                    <a:pt x="621" y="80"/>
                    <a:pt x="655" y="73"/>
                    <a:pt x="787" y="60"/>
                  </a:cubicBezTo>
                  <a:cubicBezTo>
                    <a:pt x="869" y="39"/>
                    <a:pt x="943" y="14"/>
                    <a:pt x="1027" y="0"/>
                  </a:cubicBezTo>
                  <a:cubicBezTo>
                    <a:pt x="1187" y="16"/>
                    <a:pt x="1347" y="29"/>
                    <a:pt x="1507" y="45"/>
                  </a:cubicBezTo>
                  <a:cubicBezTo>
                    <a:pt x="1640" y="37"/>
                    <a:pt x="1811" y="44"/>
                    <a:pt x="1942" y="0"/>
                  </a:cubicBezTo>
                  <a:cubicBezTo>
                    <a:pt x="2092" y="5"/>
                    <a:pt x="2243" y="1"/>
                    <a:pt x="2392" y="15"/>
                  </a:cubicBezTo>
                  <a:cubicBezTo>
                    <a:pt x="2445" y="20"/>
                    <a:pt x="2497" y="135"/>
                    <a:pt x="2497" y="135"/>
                  </a:cubicBezTo>
                  <a:cubicBezTo>
                    <a:pt x="2502" y="200"/>
                    <a:pt x="2505" y="265"/>
                    <a:pt x="2512" y="330"/>
                  </a:cubicBezTo>
                  <a:cubicBezTo>
                    <a:pt x="2515" y="355"/>
                    <a:pt x="2524" y="380"/>
                    <a:pt x="2527" y="405"/>
                  </a:cubicBezTo>
                  <a:cubicBezTo>
                    <a:pt x="2534" y="480"/>
                    <a:pt x="2531" y="556"/>
                    <a:pt x="2542" y="630"/>
                  </a:cubicBezTo>
                  <a:cubicBezTo>
                    <a:pt x="2553" y="707"/>
                    <a:pt x="2589" y="746"/>
                    <a:pt x="2617" y="810"/>
                  </a:cubicBezTo>
                  <a:cubicBezTo>
                    <a:pt x="2630" y="839"/>
                    <a:pt x="2647" y="900"/>
                    <a:pt x="2647" y="900"/>
                  </a:cubicBezTo>
                  <a:cubicBezTo>
                    <a:pt x="2657" y="1036"/>
                    <a:pt x="2677" y="1156"/>
                    <a:pt x="2692" y="1290"/>
                  </a:cubicBezTo>
                  <a:cubicBezTo>
                    <a:pt x="2687" y="1355"/>
                    <a:pt x="2677" y="1420"/>
                    <a:pt x="2677" y="1485"/>
                  </a:cubicBezTo>
                  <a:cubicBezTo>
                    <a:pt x="2677" y="1515"/>
                    <a:pt x="2685" y="1545"/>
                    <a:pt x="2692" y="1575"/>
                  </a:cubicBezTo>
                  <a:cubicBezTo>
                    <a:pt x="2695" y="1590"/>
                    <a:pt x="2722" y="1615"/>
                    <a:pt x="2707" y="1620"/>
                  </a:cubicBezTo>
                  <a:cubicBezTo>
                    <a:pt x="2660" y="1636"/>
                    <a:pt x="2607" y="1620"/>
                    <a:pt x="2557" y="16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68880" y="4045680"/>
              <a:ext cx="2042640" cy="340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 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390560" y="3535920"/>
              <a:ext cx="72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0560" y="4386600"/>
              <a:ext cx="72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0560" y="3535920"/>
              <a:ext cx="6804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??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4240" y="2514600"/>
              <a:ext cx="1080" cy="18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84240" y="3364920"/>
              <a:ext cx="68076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58040" y="2514600"/>
              <a:ext cx="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756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/ Underground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9480" y="1979280"/>
            <a:ext cx="7239240" cy="3619440"/>
            <a:chOff x="609480" y="1979280"/>
            <a:chExt cx="7239240" cy="3619440"/>
          </a:xfrm>
        </p:grpSpPr>
        <p:sp>
          <p:nvSpPr>
            <p:cNvPr id="274" name=""/>
            <p:cNvSpPr/>
            <p:nvPr/>
          </p:nvSpPr>
          <p:spPr>
            <a:xfrm>
              <a:off x="910800" y="4996080"/>
              <a:ext cx="45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910800" y="2431800"/>
              <a:ext cx="0" cy="256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480" y="1979280"/>
              <a:ext cx="1206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(M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84800" y="4996080"/>
              <a:ext cx="12063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1640" y="2959560"/>
              <a:ext cx="3921120" cy="2488680"/>
            </a:xfrm>
            <a:custGeom>
              <a:avLst/>
              <a:gdLst/>
              <a:ahLst/>
              <a:rect l="l" t="t" r="r" b="b"/>
              <a:pathLst>
                <a:path w="4680" h="2970">
                  <a:moveTo>
                    <a:pt x="0" y="2970"/>
                  </a:moveTo>
                  <a:cubicBezTo>
                    <a:pt x="90" y="1935"/>
                    <a:pt x="180" y="900"/>
                    <a:pt x="720" y="450"/>
                  </a:cubicBezTo>
                  <a:cubicBezTo>
                    <a:pt x="1260" y="0"/>
                    <a:pt x="2640" y="240"/>
                    <a:pt x="3240" y="270"/>
                  </a:cubicBezTo>
                  <a:cubicBezTo>
                    <a:pt x="3840" y="300"/>
                    <a:pt x="4080" y="540"/>
                    <a:pt x="4320" y="630"/>
                  </a:cubicBezTo>
                  <a:cubicBezTo>
                    <a:pt x="4560" y="720"/>
                    <a:pt x="4620" y="765"/>
                    <a:pt x="4680" y="8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65000" y="2733840"/>
              <a:ext cx="2865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profile from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1640" y="2884680"/>
              <a:ext cx="3619440" cy="2563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63320" y="3486960"/>
              <a:ext cx="4071960" cy="196092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14160" y="3336840"/>
              <a:ext cx="2865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84680"/>
              <a:ext cx="28656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Block C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23880" y="3185280"/>
              <a:ext cx="720" cy="18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379760" y="3185280"/>
              <a:ext cx="720" cy="18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871360" y="3638160"/>
              <a:ext cx="4071960" cy="196056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982760" y="3939840"/>
              <a:ext cx="3013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33600" y="3940200"/>
              <a:ext cx="1206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otprint Ele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un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2133720"/>
                <a:ext cx="3812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295280" y="209376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l inventario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13080" y="3505320"/>
                <a:ext cx="177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6520" y="35812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66800" y="2514600"/>
                <a:ext cx="5238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295280" y="24382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l inventario de recursos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308772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295280" y="3016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0" y="4343400"/>
                <a:ext cx="1143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92320" y="4997520"/>
                <a:ext cx="2216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39625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0" y="4648320"/>
                <a:ext cx="914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430440" y="42670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480" y="469260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1160" y="51055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1720" y="5435640"/>
                <a:ext cx="231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343760" y="553068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Programación de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029200"/>
            <a:ext cx="1295640" cy="79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278160" cy="238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4956120" cy="19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560" y="205740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ación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0640" y="1789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z de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81400" y="5181480"/>
            <a:ext cx="5557680" cy="10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95800" y="472428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Productivas y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Múltiples UB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41400" y="1716120"/>
                <a:ext cx="174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95280" y="167652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 UBM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84440" y="3581280"/>
                <a:ext cx="16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6520" y="362592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98480" y="2104920"/>
                <a:ext cx="460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295280" y="20210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 la UBM i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311004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95280" y="3124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2320" y="4267080"/>
                <a:ext cx="1041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09680" y="5334120"/>
                <a:ext cx="1575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1911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09680" y="4572000"/>
                <a:ext cx="197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564160" y="41911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7120" y="464832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240" y="54100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5791320"/>
                <a:ext cx="1905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115160" y="579132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01720" y="2562120"/>
                <a:ext cx="4446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447920" y="252252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riable o parámetros binarios que permiten asignar o definir sec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57600" y="42670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33720" y="5105520"/>
                <a:ext cx="2895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, 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182200" y="502920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cuencia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362320" y="4952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609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bicación de diferentes unidades básicas mineras, de acuerdo a algún nivel de discretización ad-hoc para aplicar el método de explo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tricciones de 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de D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66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42Z</dcterms:modified>
  <cp:revision>163</cp:revision>
  <dc:subject/>
  <dc:title>Slide 1</dc:title>
</cp:coreProperties>
</file>