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.jpeg" ContentType="image/jpeg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0.png" ContentType="image/png"/>
  <Override PartName="/ppt/media/image2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A6852-E35A-40AF-886F-DD91ED4B5C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5FE35-D76C-4F6D-8ACE-0AFFDD3E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F024A-1B6C-45C7-99CD-6FCAF1A4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9CA4D-00EC-49F3-BCE8-344AF2E4D4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C8D85-2483-4343-9BFD-299D4F05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AAFAF-6555-44DC-A088-32AADEEA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F4DA0-B13E-496A-8D24-2DE53C11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0B72D-8708-4EC5-931E-6DB2CAF68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1896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75B13-DADA-473D-BFBE-91AA4861F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CE073-E9E8-40CF-BF92-E0C8C4EF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0727F-A87F-4882-9883-BEBE2B6B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7E073-3482-4390-B13A-9A68610B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8924-39BE-4C53-A50F-CE3E3B05C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5" name=""/>
          <p:cNvGrpSpPr/>
          <p:nvPr/>
        </p:nvGrpSpPr>
        <p:grpSpPr>
          <a:xfrm>
            <a:off x="1219320" y="1371600"/>
            <a:ext cx="7038360" cy="133200"/>
            <a:chOff x="1219320" y="1371600"/>
            <a:chExt cx="7038360" cy="133200"/>
          </a:xfrm>
        </p:grpSpPr>
        <p:sp>
          <p:nvSpPr>
            <p:cNvPr id="6" name=""/>
            <p:cNvSpPr/>
            <p:nvPr/>
          </p:nvSpPr>
          <p:spPr>
            <a:xfrm>
              <a:off x="1219320" y="1371600"/>
              <a:ext cx="6780960" cy="66600"/>
            </a:xfrm>
            <a:prstGeom prst="rect">
              <a:avLst/>
            </a:prstGeom>
            <a:gradFill rotWithShape="0">
              <a:gsLst>
                <a:gs pos="0">
                  <a:srgbClr val="fef9f5"/>
                </a:gs>
                <a:gs pos="100000">
                  <a:srgbClr val="ff99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476720" y="1438200"/>
              <a:ext cx="6780960" cy="66600"/>
            </a:xfrm>
            <a:prstGeom prst="rect">
              <a:avLst/>
            </a:prstGeom>
            <a:gradFill rotWithShape="0">
              <a:gsLst>
                <a:gs pos="0">
                  <a:srgbClr val="fef9f5"/>
                </a:gs>
                <a:gs pos="100000">
                  <a:srgbClr val="ff99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1143000" y="6394320"/>
            <a:ext cx="7391520" cy="76320"/>
          </a:xfrm>
          <a:prstGeom prst="rect">
            <a:avLst/>
          </a:prstGeom>
          <a:gradFill rotWithShape="0">
            <a:gsLst>
              <a:gs pos="0">
                <a:srgbClr val="c1cde5"/>
              </a:gs>
              <a:gs pos="50000">
                <a:srgbClr val="003399"/>
              </a:gs>
              <a:gs pos="100000">
                <a:srgbClr val="c1cd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logo" descr=""/>
          <p:cNvPicPr/>
          <p:nvPr/>
        </p:nvPicPr>
        <p:blipFill>
          <a:blip r:embed="rId3"/>
          <a:stretch/>
        </p:blipFill>
        <p:spPr>
          <a:xfrm>
            <a:off x="28440" y="6070680"/>
            <a:ext cx="2105280" cy="81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31.xml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" Target="slide22.xml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" Target="slide22.xm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pítulo V: Programación de la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atriz de Restricciones Productiv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0" r="41027" b="0"/>
          <a:stretch/>
        </p:blipFill>
        <p:spPr>
          <a:xfrm>
            <a:off x="380880" y="1828800"/>
            <a:ext cx="845820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ograma de P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rograma de Producción de Sulfu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zc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04920" y="2959200"/>
            <a:ext cx="4038480" cy="2832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72000" y="3024360"/>
            <a:ext cx="434340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efinición del Probl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unción 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c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ímite superior por velo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b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ímite inferior por compac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ij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T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ímite de tonelaje total por punto ( Reserv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=  T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onelaje me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ij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ij + eij Restriccion de uniform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ij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ij-eij Restricción de uniform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041480" y="2286000"/>
                <a:ext cx="25336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990720" y="3657600"/>
            <a:ext cx="298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ILP: Las variables a optimizar son tonelajes y secu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: las variables a optimizar es el tonel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LP: cuando la recuperación es función del tonelaje a proces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presentación Gráfica del Problema de Optim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23888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volución del Programa de Producción sin Restric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5902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volución del Programa de Producción con Restric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685800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étodo SUR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unción 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c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ímite superior por velo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b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ímite inferior por compac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ij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 T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ímite de tonelaje total por punto ( Reserv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=  T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onelaje me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ij + eij Restriccion de uniform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ij-eij Restricción de uniform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838080" y="2362320"/>
                <a:ext cx="28195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HOD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sSub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HOD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838080" y="3657600"/>
                <a:ext cx="27432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HO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HOD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HO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rogramas de producción Integrando la Curva de Recuperación Tratam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000000"/>
                </a:solidFill>
                <a:latin typeface="Arial"/>
              </a:rPr>
              <a:t>Programas de Producción Utilizando Programación Matemátic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unción 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ámetros económ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ámetros no dese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ariables reales, como tonel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ariables enteras, acciones, cuando abrir el caserón, cuando cerrar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étodo de explotación, secuenc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ducción por unidades min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taminan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ption of th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43600" y="3429000"/>
            <a:ext cx="1371600" cy="1066680"/>
          </a:xfrm>
          <a:prstGeom prst="hexagon">
            <a:avLst>
              <a:gd name="adj" fmla="val 32146"/>
              <a:gd name="vf" fmla="val 11547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19920" y="1771560"/>
            <a:ext cx="1257120" cy="1295640"/>
          </a:xfrm>
          <a:prstGeom prst="donut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943600" y="4648320"/>
            <a:ext cx="1295280" cy="1295280"/>
          </a:xfrm>
          <a:prstGeom prst="diamond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5" idx="3"/>
            <a:endCxn id="142" idx="2"/>
          </p:cNvCxnSpPr>
          <p:nvPr/>
        </p:nvCxnSpPr>
        <p:spPr>
          <a:xfrm flipV="1">
            <a:off x="4572000" y="2418840"/>
            <a:ext cx="1448640" cy="152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5" idx="3"/>
            <a:endCxn id="141" idx="1"/>
          </p:cNvCxnSpPr>
          <p:nvPr/>
        </p:nvCxnSpPr>
        <p:spPr>
          <a:xfrm>
            <a:off x="4572000" y="3943080"/>
            <a:ext cx="1372320" cy="19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5" idx="3"/>
            <a:endCxn id="143" idx="1"/>
          </p:cNvCxnSpPr>
          <p:nvPr/>
        </p:nvCxnSpPr>
        <p:spPr>
          <a:xfrm>
            <a:off x="4572000" y="3943080"/>
            <a:ext cx="1372320" cy="1353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3276720"/>
            <a:ext cx="434340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ption of th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8600" y="1752480"/>
            <a:ext cx="7635960" cy="4191120"/>
            <a:chOff x="228600" y="1752480"/>
            <a:chExt cx="7635960" cy="4191120"/>
          </a:xfrm>
        </p:grpSpPr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228600" y="3276720"/>
              <a:ext cx="43434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5562720" y="3429000"/>
              <a:ext cx="1371600" cy="1066680"/>
            </a:xfrm>
            <a:prstGeom prst="hexagon">
              <a:avLst>
                <a:gd name="adj" fmla="val 32146"/>
                <a:gd name="vf" fmla="val 115470"/>
              </a:avLst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/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00880" y="1752480"/>
              <a:ext cx="1257120" cy="1295640"/>
            </a:xfrm>
            <a:prstGeom prst="donut">
              <a:avLst>
                <a:gd name="adj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A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00880" y="4648320"/>
              <a:ext cx="1295280" cy="1295280"/>
            </a:xfrm>
            <a:prstGeom prst="diamond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5" name=""/>
            <p:cNvCxnSpPr>
              <a:stCxn id="151" idx="3"/>
              <a:endCxn id="153" idx="2"/>
            </p:cNvCxnSpPr>
            <p:nvPr/>
          </p:nvCxnSpPr>
          <p:spPr>
            <a:xfrm flipV="1">
              <a:off x="4572000" y="2400120"/>
              <a:ext cx="1029600" cy="1545120"/>
            </a:xfrm>
            <a:prstGeom prst="straightConnector1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</p:cxnSp>
        <p:cxnSp>
          <p:nvCxnSpPr>
            <p:cNvPr id="156" name=""/>
            <p:cNvCxnSpPr>
              <a:stCxn id="151" idx="3"/>
              <a:endCxn id="152" idx="1"/>
            </p:cNvCxnSpPr>
            <p:nvPr/>
          </p:nvCxnSpPr>
          <p:spPr>
            <a:xfrm>
              <a:off x="4572000" y="3944520"/>
              <a:ext cx="991440" cy="18360"/>
            </a:xfrm>
            <a:prstGeom prst="straightConnector1">
              <a:avLst/>
            </a:prstGeom>
            <a:ln w="38160">
              <a:solidFill>
                <a:srgbClr val="6699ff"/>
              </a:solidFill>
              <a:miter/>
              <a:tailEnd len="med" type="triangle" w="med"/>
            </a:ln>
          </p:spPr>
        </p:cxnSp>
        <p:cxnSp>
          <p:nvCxnSpPr>
            <p:cNvPr id="157" name=""/>
            <p:cNvCxnSpPr>
              <a:stCxn id="151" idx="3"/>
              <a:endCxn id="154" idx="1"/>
            </p:cNvCxnSpPr>
            <p:nvPr/>
          </p:nvCxnSpPr>
          <p:spPr>
            <a:xfrm>
              <a:off x="4572000" y="3944520"/>
              <a:ext cx="1029600" cy="1351800"/>
            </a:xfrm>
            <a:prstGeom prst="straightConnector1">
              <a:avLst/>
            </a:prstGeom>
            <a:ln w="38160">
              <a:solidFill>
                <a:srgbClr val="99cc00"/>
              </a:solidFill>
              <a:miter/>
              <a:tailEnd len="med" type="triangle" w="med"/>
            </a:ln>
          </p:spPr>
        </p:cxnSp>
        <p:sp>
          <p:nvSpPr>
            <p:cNvPr id="158" name=""/>
            <p:cNvSpPr/>
            <p:nvPr/>
          </p:nvSpPr>
          <p:spPr>
            <a:xfrm>
              <a:off x="7315200" y="3657600"/>
              <a:ext cx="549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7772400" y="3123720"/>
              <a:ext cx="0" cy="1600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me to Approach th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609480" y="2352600"/>
            <a:ext cx="381024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609480" y="2975040"/>
            <a:ext cx="381024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609480" y="3571920"/>
            <a:ext cx="381024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4" action="ppaction://hlinksldjump"/>
          </p:cNvPr>
          <p:cNvSpPr/>
          <p:nvPr/>
        </p:nvSpPr>
        <p:spPr>
          <a:xfrm>
            <a:off x="609480" y="4181400"/>
            <a:ext cx="381024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5" action="ppaction://hlinksldjump"/>
          </p:cNvPr>
          <p:cNvSpPr/>
          <p:nvPr/>
        </p:nvSpPr>
        <p:spPr>
          <a:xfrm>
            <a:off x="609480" y="4791240"/>
            <a:ext cx="381024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 Linear 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6" action="ppaction://hlinksldjump"/>
          </p:cNvPr>
          <p:cNvSpPr/>
          <p:nvPr/>
        </p:nvSpPr>
        <p:spPr>
          <a:xfrm>
            <a:off x="609480" y="5400720"/>
            <a:ext cx="381024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99960" y="990720"/>
            <a:ext cx="4268880" cy="5867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048120" y="1828800"/>
            <a:ext cx="466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d on rock hardness or fragmentation (MOTC) mill throughput is computed tons/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09880" y="313848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tallurgical recovery as a function of MOTC and Rock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91120" y="548640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tallurgical recovery as a function of Gold grade and Rock Type.  If this is not present above i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14800" y="426708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tallurgical recovery of Cu as a function of MOTC and Rock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8153280" y="63244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7493"/>
                </a:moveTo>
                <a:lnTo>
                  <a:pt x="8845" y="7493"/>
                </a:lnTo>
                <a:lnTo>
                  <a:pt x="8845" y="12828"/>
                </a:lnTo>
                <a:cubicBezTo>
                  <a:pt x="8845" y="13751"/>
                  <a:pt x="9646" y="14482"/>
                  <a:pt x="10681" y="14482"/>
                </a:cubicBezTo>
                <a:lnTo>
                  <a:pt x="12344" y="14482"/>
                </a:lnTo>
                <a:cubicBezTo>
                  <a:pt x="13380" y="14482"/>
                  <a:pt x="14180" y="13751"/>
                  <a:pt x="14180" y="12828"/>
                </a:cubicBezTo>
                <a:lnTo>
                  <a:pt x="14180" y="7493"/>
                </a:lnTo>
                <a:lnTo>
                  <a:pt x="12344" y="7493"/>
                </a:lnTo>
                <a:lnTo>
                  <a:pt x="15851" y="3985"/>
                </a:lnTo>
                <a:lnTo>
                  <a:pt x="19524" y="7493"/>
                </a:lnTo>
                <a:lnTo>
                  <a:pt x="17688" y="7493"/>
                </a:lnTo>
                <a:lnTo>
                  <a:pt x="17688" y="12828"/>
                </a:lnTo>
                <a:cubicBezTo>
                  <a:pt x="17688" y="15596"/>
                  <a:pt x="15112" y="18155"/>
                  <a:pt x="12344" y="18155"/>
                </a:cubicBezTo>
                <a:lnTo>
                  <a:pt x="10681" y="18155"/>
                </a:lnTo>
                <a:cubicBezTo>
                  <a:pt x="7914" y="18155"/>
                  <a:pt x="5337" y="15596"/>
                  <a:pt x="5337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1447920"/>
            <a:ext cx="4191120" cy="41148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1905120"/>
            <a:ext cx="3504960" cy="3429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e Reve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2200" y="5597640"/>
            <a:ext cx="8821800" cy="1260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4191120" cy="4106880"/>
          </a:xfrm>
          <a:prstGeom prst="rect">
            <a:avLst/>
          </a:prstGeom>
          <a:ln w="0">
            <a:noFill/>
          </a:ln>
        </p:spPr>
      </p:pic>
      <p:sp>
        <p:nvSpPr>
          <p:cNvPr id="179" name="">
            <a:hlinkClick r:id="rId3" action="ppaction://hlinksldjump"/>
          </p:cNvPr>
          <p:cNvSpPr/>
          <p:nvPr/>
        </p:nvSpPr>
        <p:spPr>
          <a:xfrm>
            <a:off x="8153280" y="631656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7493"/>
                </a:moveTo>
                <a:lnTo>
                  <a:pt x="8845" y="7493"/>
                </a:lnTo>
                <a:lnTo>
                  <a:pt x="8845" y="12828"/>
                </a:lnTo>
                <a:cubicBezTo>
                  <a:pt x="8845" y="13751"/>
                  <a:pt x="9646" y="14482"/>
                  <a:pt x="10681" y="14482"/>
                </a:cubicBezTo>
                <a:lnTo>
                  <a:pt x="12344" y="14482"/>
                </a:lnTo>
                <a:cubicBezTo>
                  <a:pt x="13380" y="14482"/>
                  <a:pt x="14180" y="13751"/>
                  <a:pt x="14180" y="12828"/>
                </a:cubicBezTo>
                <a:lnTo>
                  <a:pt x="14180" y="7493"/>
                </a:lnTo>
                <a:lnTo>
                  <a:pt x="12344" y="7493"/>
                </a:lnTo>
                <a:lnTo>
                  <a:pt x="15851" y="3985"/>
                </a:lnTo>
                <a:lnTo>
                  <a:pt x="19524" y="7493"/>
                </a:lnTo>
                <a:lnTo>
                  <a:pt x="17688" y="7493"/>
                </a:lnTo>
                <a:lnTo>
                  <a:pt x="17688" y="12828"/>
                </a:lnTo>
                <a:cubicBezTo>
                  <a:pt x="17688" y="15596"/>
                  <a:pt x="15112" y="18155"/>
                  <a:pt x="12344" y="18155"/>
                </a:cubicBezTo>
                <a:lnTo>
                  <a:pt x="10681" y="18155"/>
                </a:lnTo>
                <a:cubicBezTo>
                  <a:pt x="7914" y="18155"/>
                  <a:pt x="5337" y="15596"/>
                  <a:pt x="5337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2362320"/>
            <a:ext cx="685800" cy="167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4038480"/>
            <a:ext cx="6858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4952880"/>
            <a:ext cx="6858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92760" y="2971800"/>
            <a:ext cx="24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s to optim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96360" y="419112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s sent to S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95280" y="510552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s sent no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2057400"/>
            <a:ext cx="39020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ter reduces the size of the problem to optimize by classifying the blocks according to their Average Revenue per H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191120" y="4038480"/>
            <a:ext cx="2971800" cy="1578240"/>
          </a:xfrm>
          <a:prstGeom prst="rect">
            <a:avLst/>
          </a:prstGeom>
          <a:ln w="0">
            <a:noFill/>
          </a:ln>
        </p:spPr>
      </p:pic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8153280" y="631656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7493"/>
                </a:moveTo>
                <a:lnTo>
                  <a:pt x="8845" y="7493"/>
                </a:lnTo>
                <a:lnTo>
                  <a:pt x="8845" y="12828"/>
                </a:lnTo>
                <a:cubicBezTo>
                  <a:pt x="8845" y="13751"/>
                  <a:pt x="9646" y="14482"/>
                  <a:pt x="10681" y="14482"/>
                </a:cubicBezTo>
                <a:lnTo>
                  <a:pt x="12344" y="14482"/>
                </a:lnTo>
                <a:cubicBezTo>
                  <a:pt x="13380" y="14482"/>
                  <a:pt x="14180" y="13751"/>
                  <a:pt x="14180" y="12828"/>
                </a:cubicBezTo>
                <a:lnTo>
                  <a:pt x="14180" y="7493"/>
                </a:lnTo>
                <a:lnTo>
                  <a:pt x="12344" y="7493"/>
                </a:lnTo>
                <a:lnTo>
                  <a:pt x="15851" y="3985"/>
                </a:lnTo>
                <a:lnTo>
                  <a:pt x="19524" y="7493"/>
                </a:lnTo>
                <a:lnTo>
                  <a:pt x="17688" y="7493"/>
                </a:lnTo>
                <a:lnTo>
                  <a:pt x="17688" y="12828"/>
                </a:lnTo>
                <a:cubicBezTo>
                  <a:pt x="17688" y="15596"/>
                  <a:pt x="15112" y="18155"/>
                  <a:pt x="12344" y="18155"/>
                </a:cubicBezTo>
                <a:lnTo>
                  <a:pt x="10681" y="18155"/>
                </a:lnTo>
                <a:cubicBezTo>
                  <a:pt x="7914" y="18155"/>
                  <a:pt x="5337" y="15596"/>
                  <a:pt x="5337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zación Lin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ión 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izar el beneficio total de las extracciones mensu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jeto 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219320" y="2895480"/>
                <a:ext cx="22381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−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AG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−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990720" y="4267080"/>
                <a:ext cx="2047680" cy="13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−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AG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TSAG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−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TN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binary variable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ptional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486400" cy="19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143000" y="1523880"/>
            <a:ext cx="762012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ización No Lin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43434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Función Obje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misma pero con la relación lineal del trat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stricciones relacionadas con el tonelaje y no el tiempo de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678320" y="1676520"/>
            <a:ext cx="4723200" cy="2643120"/>
            <a:chOff x="1678320" y="1676520"/>
            <a:chExt cx="4723200" cy="2643120"/>
          </a:xfrm>
        </p:grpSpPr>
        <p:sp>
          <p:nvSpPr>
            <p:cNvPr id="201" name=""/>
            <p:cNvSpPr/>
            <p:nvPr/>
          </p:nvSpPr>
          <p:spPr>
            <a:xfrm>
              <a:off x="2073240" y="3920760"/>
              <a:ext cx="396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2073240" y="186336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27160" y="3920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665600" y="3920760"/>
              <a:ext cx="47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be0e3"/>
                  </a:solidFill>
                  <a:latin typeface="Times New Roman"/>
                </a:rPr>
                <a:t>T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141360" y="39207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Times New Roman"/>
                </a:rPr>
                <a:t>T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78320" y="1676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454480" y="2396880"/>
              <a:ext cx="2743200" cy="761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3997440" y="2854080"/>
              <a:ext cx="0" cy="1066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199840" y="3997080"/>
              <a:ext cx="1201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ill Throughp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1019880" y="2846160"/>
              <a:ext cx="162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tallurgical Recov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5419800" y="1905120"/>
            <a:ext cx="342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Times New Roman"/>
              </a:rPr>
              <a:t>T+: Maximum feasible mill throughp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461560" y="2711520"/>
            <a:ext cx="329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T-: Minimum feasible mill through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472000" y="2333520"/>
            <a:ext cx="241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*: Design mill through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rId1" action="ppaction://hlinksldjump"/>
          </p:cNvPr>
          <p:cNvSpPr/>
          <p:nvPr/>
        </p:nvSpPr>
        <p:spPr>
          <a:xfrm>
            <a:off x="8153280" y="631656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7493"/>
                </a:moveTo>
                <a:lnTo>
                  <a:pt x="8845" y="7493"/>
                </a:lnTo>
                <a:lnTo>
                  <a:pt x="8845" y="12828"/>
                </a:lnTo>
                <a:cubicBezTo>
                  <a:pt x="8845" y="13751"/>
                  <a:pt x="9646" y="14482"/>
                  <a:pt x="10681" y="14482"/>
                </a:cubicBezTo>
                <a:lnTo>
                  <a:pt x="12344" y="14482"/>
                </a:lnTo>
                <a:cubicBezTo>
                  <a:pt x="13380" y="14482"/>
                  <a:pt x="14180" y="13751"/>
                  <a:pt x="14180" y="12828"/>
                </a:cubicBezTo>
                <a:lnTo>
                  <a:pt x="14180" y="7493"/>
                </a:lnTo>
                <a:lnTo>
                  <a:pt x="12344" y="7493"/>
                </a:lnTo>
                <a:lnTo>
                  <a:pt x="15851" y="3985"/>
                </a:lnTo>
                <a:lnTo>
                  <a:pt x="19524" y="7493"/>
                </a:lnTo>
                <a:lnTo>
                  <a:pt x="17688" y="7493"/>
                </a:lnTo>
                <a:lnTo>
                  <a:pt x="17688" y="12828"/>
                </a:lnTo>
                <a:cubicBezTo>
                  <a:pt x="17688" y="15596"/>
                  <a:pt x="15112" y="18155"/>
                  <a:pt x="12344" y="18155"/>
                </a:cubicBezTo>
                <a:lnTo>
                  <a:pt x="10681" y="18155"/>
                </a:lnTo>
                <a:cubicBezTo>
                  <a:pt x="7914" y="18155"/>
                  <a:pt x="5337" y="15596"/>
                  <a:pt x="5337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ormul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unción Obje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jeto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514600" y="2438280"/>
                <a:ext cx="331488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−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AG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−</m:t>
                                        </m:r>
                                      </m:sub>
                                    </m:s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AG</m:t>
                                    </m:r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−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NS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−</m:t>
                                        </m:r>
                                      </m:sub>
                                    </m:s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S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0" y="28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2514600" y="3276720"/>
                <a:ext cx="1752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AG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0" y="329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2514600" y="3733920"/>
                <a:ext cx="1724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N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1800" y="37490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79840" y="3505320"/>
            <a:ext cx="466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unciones que definen el ajuste de acuerdo al tonelaje a tratar por línea de proc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438280" y="4267080"/>
                <a:ext cx="1724040" cy="20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≤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  <m:sup/>
                        </m:sSubSup>
                        <m:r>
                          <m:rPr>
                            <m:lit/>
                            <m:nor/>
                          </m:rPr>
                          <m:t xml:space="preserve">SAG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≤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  <m:sup/>
                        </m:sSubSup>
                        <m:r>
                          <m:rPr>
                            <m:lit/>
                            <m:nor/>
                          </m:rPr>
                          <m:t xml:space="preserve">NS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≥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  <m:sup/>
                        </m:sSubSup>
                        <m:r>
                          <m:rPr>
                            <m:lit/>
                            <m:nor/>
                          </m:rPr>
                          <m:t xml:space="preserve">SAG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≥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  <m:sup/>
                        </m:sSubSup>
                        <m:r>
                          <m:rPr>
                            <m:lit/>
                            <m:nor/>
                          </m:rPr>
                          <m:t xml:space="preserve">NS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∀</m:t>
                        </m:r>
                        <m:r>
                          <m:rPr>
                            <m:lit/>
                            <m:nor/>
                          </m:rPr>
                          <m:t xml:space="preserve"> 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4479840" y="4800600"/>
            <a:ext cx="4664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apacidades de procesamiento acotadas por la tolerancia máxima a tratar en cada línea de proceso y su capacidad de diseñ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l despacho de bloques depende del tiempo de procesamiento, la ley de mineral y la dureza del mineral (MOT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2209680" y="2819520"/>
          <a:ext cx="6019920" cy="335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819520"/>
                    <a:ext cx="6019920" cy="33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ogramar 5 Raj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62 Mt/a de cobre f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42 Mt/a de cobre de sulfu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0 Mt/a de cobre en óx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hancado 14.2 Mt/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ov mina max 36 Mt/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000000"/>
                </a:solidFill>
                <a:latin typeface="Arial"/>
              </a:rPr>
              <a:t>Despacho de Bloques Programa de Producción Mensua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a optimización posee un potencial de mejora de 30 M$/a si se materializa de acuerdo al mod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a aplicación fue desarrollada para una mina que explota mineral sulfurado de cobre con ley equivalente de 2.3 %Cu y un ritmo de 320 Ktp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038480" y="2286000"/>
            <a:ext cx="4876920" cy="2698560"/>
            <a:chOff x="4038480" y="2286000"/>
            <a:chExt cx="4876920" cy="2698560"/>
          </a:xfrm>
        </p:grpSpPr>
        <p:sp>
          <p:nvSpPr>
            <p:cNvPr id="235" name=""/>
            <p:cNvSpPr/>
            <p:nvPr/>
          </p:nvSpPr>
          <p:spPr>
            <a:xfrm>
              <a:off x="4697280" y="4659840"/>
              <a:ext cx="342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4697280" y="2418480"/>
              <a:ext cx="0" cy="224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38480" y="2286000"/>
              <a:ext cx="10544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a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47360" y="2549880"/>
              <a:ext cx="720" cy="158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97280" y="3604320"/>
              <a:ext cx="303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092920" y="2813760"/>
              <a:ext cx="658800" cy="39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A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92920" y="3736800"/>
              <a:ext cx="658800" cy="39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697280" y="4131720"/>
              <a:ext cx="30315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542640" y="2813760"/>
              <a:ext cx="658800" cy="39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74400" y="3736800"/>
              <a:ext cx="658800" cy="39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883480" y="4264200"/>
              <a:ext cx="659160" cy="39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124480" y="4659120"/>
              <a:ext cx="7909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Re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5715000" cy="4834080"/>
          </a:xfrm>
          <a:prstGeom prst="rect">
            <a:avLst/>
          </a:prstGeom>
          <a:ln w="0">
            <a:noFill/>
          </a:ln>
        </p:spPr>
      </p:pic>
      <p:sp>
        <p:nvSpPr>
          <p:cNvPr id="249" name="">
            <a:hlinkClick r:id="rId2" action="ppaction://hlinksldjump"/>
          </p:cNvPr>
          <p:cNvSpPr/>
          <p:nvPr/>
        </p:nvSpPr>
        <p:spPr>
          <a:xfrm>
            <a:off x="8153280" y="631656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5337" y="7493"/>
                </a:moveTo>
                <a:lnTo>
                  <a:pt x="8845" y="7493"/>
                </a:lnTo>
                <a:lnTo>
                  <a:pt x="8845" y="12828"/>
                </a:lnTo>
                <a:cubicBezTo>
                  <a:pt x="8845" y="13751"/>
                  <a:pt x="9646" y="14482"/>
                  <a:pt x="10681" y="14482"/>
                </a:cubicBezTo>
                <a:lnTo>
                  <a:pt x="12344" y="14482"/>
                </a:lnTo>
                <a:cubicBezTo>
                  <a:pt x="13380" y="14482"/>
                  <a:pt x="14180" y="13751"/>
                  <a:pt x="14180" y="12828"/>
                </a:cubicBezTo>
                <a:lnTo>
                  <a:pt x="14180" y="7493"/>
                </a:lnTo>
                <a:lnTo>
                  <a:pt x="12344" y="7493"/>
                </a:lnTo>
                <a:lnTo>
                  <a:pt x="15851" y="3985"/>
                </a:lnTo>
                <a:lnTo>
                  <a:pt x="19524" y="7493"/>
                </a:lnTo>
                <a:lnTo>
                  <a:pt x="17688" y="7493"/>
                </a:lnTo>
                <a:lnTo>
                  <a:pt x="17688" y="12828"/>
                </a:lnTo>
                <a:cubicBezTo>
                  <a:pt x="17688" y="15596"/>
                  <a:pt x="15112" y="18155"/>
                  <a:pt x="12344" y="18155"/>
                </a:cubicBezTo>
                <a:lnTo>
                  <a:pt x="10681" y="18155"/>
                </a:lnTo>
                <a:cubicBezTo>
                  <a:pt x="7914" y="18155"/>
                  <a:pt x="5337" y="15596"/>
                  <a:pt x="5337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 Pit Under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645120" y="2514240"/>
            <a:ext cx="7660440" cy="3135240"/>
            <a:chOff x="645120" y="2514240"/>
            <a:chExt cx="7660440" cy="3135240"/>
          </a:xfrm>
        </p:grpSpPr>
        <p:sp>
          <p:nvSpPr>
            <p:cNvPr id="252" name=""/>
            <p:cNvSpPr/>
            <p:nvPr/>
          </p:nvSpPr>
          <p:spPr>
            <a:xfrm>
              <a:off x="645120" y="2514600"/>
              <a:ext cx="187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17480" y="2514600"/>
              <a:ext cx="851040" cy="153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68880" y="4045680"/>
              <a:ext cx="20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5411880" y="2514240"/>
              <a:ext cx="1361880" cy="153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773760" y="2514600"/>
              <a:ext cx="15318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539160" y="4386600"/>
              <a:ext cx="170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177280" y="2514600"/>
              <a:ext cx="1020960" cy="1872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98600" y="4386600"/>
              <a:ext cx="238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5582160" y="2514600"/>
              <a:ext cx="1531800" cy="1872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20280" y="4045680"/>
              <a:ext cx="51048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198600" y="5578200"/>
              <a:ext cx="238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78440" y="4897440"/>
              <a:ext cx="2403720" cy="752040"/>
            </a:xfrm>
            <a:custGeom>
              <a:avLst/>
              <a:gdLst/>
              <a:ahLst/>
              <a:rect l="l" t="t" r="r" b="b"/>
              <a:pathLst>
                <a:path w="2722" h="1681">
                  <a:moveTo>
                    <a:pt x="7" y="1605"/>
                  </a:moveTo>
                  <a:cubicBezTo>
                    <a:pt x="45" y="1338"/>
                    <a:pt x="0" y="1681"/>
                    <a:pt x="37" y="1140"/>
                  </a:cubicBezTo>
                  <a:cubicBezTo>
                    <a:pt x="42" y="1067"/>
                    <a:pt x="54" y="1029"/>
                    <a:pt x="112" y="990"/>
                  </a:cubicBezTo>
                  <a:cubicBezTo>
                    <a:pt x="150" y="932"/>
                    <a:pt x="183" y="862"/>
                    <a:pt x="202" y="795"/>
                  </a:cubicBezTo>
                  <a:cubicBezTo>
                    <a:pt x="219" y="734"/>
                    <a:pt x="227" y="653"/>
                    <a:pt x="262" y="600"/>
                  </a:cubicBezTo>
                  <a:cubicBezTo>
                    <a:pt x="322" y="510"/>
                    <a:pt x="344" y="407"/>
                    <a:pt x="397" y="315"/>
                  </a:cubicBezTo>
                  <a:cubicBezTo>
                    <a:pt x="420" y="274"/>
                    <a:pt x="457" y="135"/>
                    <a:pt x="502" y="120"/>
                  </a:cubicBezTo>
                  <a:cubicBezTo>
                    <a:pt x="621" y="80"/>
                    <a:pt x="655" y="73"/>
                    <a:pt x="787" y="60"/>
                  </a:cubicBezTo>
                  <a:cubicBezTo>
                    <a:pt x="869" y="39"/>
                    <a:pt x="943" y="14"/>
                    <a:pt x="1027" y="0"/>
                  </a:cubicBezTo>
                  <a:cubicBezTo>
                    <a:pt x="1187" y="16"/>
                    <a:pt x="1347" y="29"/>
                    <a:pt x="1507" y="45"/>
                  </a:cubicBezTo>
                  <a:cubicBezTo>
                    <a:pt x="1640" y="37"/>
                    <a:pt x="1811" y="44"/>
                    <a:pt x="1942" y="0"/>
                  </a:cubicBezTo>
                  <a:cubicBezTo>
                    <a:pt x="2092" y="5"/>
                    <a:pt x="2243" y="1"/>
                    <a:pt x="2392" y="15"/>
                  </a:cubicBezTo>
                  <a:cubicBezTo>
                    <a:pt x="2445" y="20"/>
                    <a:pt x="2497" y="135"/>
                    <a:pt x="2497" y="135"/>
                  </a:cubicBezTo>
                  <a:cubicBezTo>
                    <a:pt x="2502" y="200"/>
                    <a:pt x="2505" y="265"/>
                    <a:pt x="2512" y="330"/>
                  </a:cubicBezTo>
                  <a:cubicBezTo>
                    <a:pt x="2515" y="355"/>
                    <a:pt x="2524" y="380"/>
                    <a:pt x="2527" y="405"/>
                  </a:cubicBezTo>
                  <a:cubicBezTo>
                    <a:pt x="2534" y="480"/>
                    <a:pt x="2531" y="556"/>
                    <a:pt x="2542" y="630"/>
                  </a:cubicBezTo>
                  <a:cubicBezTo>
                    <a:pt x="2553" y="707"/>
                    <a:pt x="2589" y="746"/>
                    <a:pt x="2617" y="810"/>
                  </a:cubicBezTo>
                  <a:cubicBezTo>
                    <a:pt x="2630" y="839"/>
                    <a:pt x="2647" y="900"/>
                    <a:pt x="2647" y="900"/>
                  </a:cubicBezTo>
                  <a:cubicBezTo>
                    <a:pt x="2657" y="1036"/>
                    <a:pt x="2677" y="1156"/>
                    <a:pt x="2692" y="1290"/>
                  </a:cubicBezTo>
                  <a:cubicBezTo>
                    <a:pt x="2687" y="1355"/>
                    <a:pt x="2677" y="1420"/>
                    <a:pt x="2677" y="1485"/>
                  </a:cubicBezTo>
                  <a:cubicBezTo>
                    <a:pt x="2677" y="1515"/>
                    <a:pt x="2685" y="1545"/>
                    <a:pt x="2692" y="1575"/>
                  </a:cubicBezTo>
                  <a:cubicBezTo>
                    <a:pt x="2695" y="1590"/>
                    <a:pt x="2722" y="1615"/>
                    <a:pt x="2707" y="1620"/>
                  </a:cubicBezTo>
                  <a:cubicBezTo>
                    <a:pt x="2660" y="1636"/>
                    <a:pt x="2607" y="1620"/>
                    <a:pt x="2557" y="162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368880" y="4045680"/>
              <a:ext cx="2042640" cy="340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cremen i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4390560" y="3535920"/>
              <a:ext cx="720" cy="50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390560" y="4386600"/>
              <a:ext cx="720" cy="51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90560" y="3535920"/>
              <a:ext cx="68040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???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284240" y="2514600"/>
              <a:ext cx="1080" cy="18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284240" y="3364920"/>
              <a:ext cx="680760" cy="34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58040" y="2514600"/>
              <a:ext cx="1080" cy="30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347560" y="4045680"/>
              <a:ext cx="51048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Pit / Underground Conce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609480" y="1979280"/>
            <a:ext cx="7239240" cy="3619440"/>
            <a:chOff x="609480" y="1979280"/>
            <a:chExt cx="7239240" cy="3619440"/>
          </a:xfrm>
        </p:grpSpPr>
        <p:sp>
          <p:nvSpPr>
            <p:cNvPr id="274" name=""/>
            <p:cNvSpPr/>
            <p:nvPr/>
          </p:nvSpPr>
          <p:spPr>
            <a:xfrm>
              <a:off x="910800" y="4996080"/>
              <a:ext cx="452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910800" y="2431800"/>
              <a:ext cx="0" cy="256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09480" y="1979280"/>
              <a:ext cx="120636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PV (M$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84800" y="4996080"/>
              <a:ext cx="120636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cr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1640" y="2959560"/>
              <a:ext cx="3921120" cy="2488680"/>
            </a:xfrm>
            <a:custGeom>
              <a:avLst/>
              <a:gdLst/>
              <a:ahLst/>
              <a:rect l="l" t="t" r="r" b="b"/>
              <a:pathLst>
                <a:path w="4680" h="2970">
                  <a:moveTo>
                    <a:pt x="0" y="2970"/>
                  </a:moveTo>
                  <a:cubicBezTo>
                    <a:pt x="90" y="1935"/>
                    <a:pt x="180" y="900"/>
                    <a:pt x="720" y="450"/>
                  </a:cubicBezTo>
                  <a:cubicBezTo>
                    <a:pt x="1260" y="0"/>
                    <a:pt x="2640" y="240"/>
                    <a:pt x="3240" y="270"/>
                  </a:cubicBezTo>
                  <a:cubicBezTo>
                    <a:pt x="3840" y="300"/>
                    <a:pt x="4080" y="540"/>
                    <a:pt x="4320" y="630"/>
                  </a:cubicBezTo>
                  <a:cubicBezTo>
                    <a:pt x="4560" y="720"/>
                    <a:pt x="4620" y="765"/>
                    <a:pt x="4680" y="8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65000" y="2733840"/>
              <a:ext cx="286524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PV profile from Whit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1640" y="2884680"/>
              <a:ext cx="3619440" cy="256392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1363320" y="3486960"/>
              <a:ext cx="4071960" cy="1960920"/>
            </a:xfrm>
            <a:prstGeom prst="line">
              <a:avLst/>
            </a:prstGeom>
            <a:ln w="9360">
              <a:solidFill>
                <a:srgbClr val="00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514160" y="3336840"/>
              <a:ext cx="2865600" cy="75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cremental NPV Whit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983120" y="2884680"/>
              <a:ext cx="286560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cremental NPV Block Ca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23880" y="3185280"/>
              <a:ext cx="720" cy="1810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4379760" y="3185280"/>
              <a:ext cx="720" cy="18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2871360" y="3638160"/>
              <a:ext cx="4071960" cy="1960560"/>
            </a:xfrm>
            <a:prstGeom prst="line">
              <a:avLst/>
            </a:prstGeom>
            <a:ln w="9360">
              <a:solidFill>
                <a:srgbClr val="00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4982760" y="3939840"/>
              <a:ext cx="301320" cy="45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133600" y="3940200"/>
              <a:ext cx="1206360" cy="60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otprint Elev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Pit Underground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F=-6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01064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en Pit Underground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F=-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238880" cy="44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rograma de Producción de un Inventario de Recur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838080" y="2133720"/>
                <a:ext cx="38124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1295280" y="2093760"/>
            <a:ext cx="367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lorización del inventario de recur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413080" y="3505320"/>
                <a:ext cx="17780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u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686520" y="3581280"/>
            <a:ext cx="170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unción Obje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766800" y="2514600"/>
                <a:ext cx="52380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1295280" y="2438280"/>
            <a:ext cx="373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porción del inventario de recursos que es extraído en periodo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914400" y="3087720"/>
                <a:ext cx="158760" cy="2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1295280" y="301608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actor de actualización a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286000" y="4343400"/>
                <a:ext cx="114300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u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092320" y="4997520"/>
                <a:ext cx="22161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  <m:sup/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∀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685800" y="3962520"/>
            <a:ext cx="140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286000" y="4648320"/>
                <a:ext cx="9144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3430440" y="426708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por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55480" y="4692600"/>
            <a:ext cx="225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servación de m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1160" y="5105520"/>
            <a:ext cx="14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onelaje m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971720" y="5435640"/>
                <a:ext cx="23191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  <m:sup/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m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Lm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∀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343760" y="5530680"/>
            <a:ext cx="206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stricción de Le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 de Programación de Inventario de Recur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66680" y="5029200"/>
            <a:ext cx="1295640" cy="797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28600" y="2438280"/>
            <a:ext cx="3278160" cy="2384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809880" y="2209680"/>
            <a:ext cx="4956120" cy="1913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85560" y="2057400"/>
            <a:ext cx="26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loración del Inven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40640" y="178920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triz de Decis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281400" y="5181480"/>
            <a:ext cx="5557680" cy="1043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195800" y="4724280"/>
            <a:ext cx="40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tricciones Productivas y Resul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rograma de Producción de Múltiples UB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941400" y="1716120"/>
                <a:ext cx="17460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1295280" y="1676520"/>
            <a:ext cx="218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lorización de UBM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584440" y="3581280"/>
                <a:ext cx="1638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u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t xml:space="preserve">b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e>
                            </m:d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686520" y="3625920"/>
            <a:ext cx="170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unción Obje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798480" y="2104920"/>
                <a:ext cx="46044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1295280" y="2021040"/>
            <a:ext cx="518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porción de la UBM i que es extraído en periodo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914400" y="3110040"/>
                <a:ext cx="158760" cy="2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295280" y="312408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actor de actualización a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362320" y="4267080"/>
                <a:ext cx="10411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209680" y="5334120"/>
                <a:ext cx="157500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∀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685800" y="4191120"/>
            <a:ext cx="140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209680" y="4572000"/>
                <a:ext cx="19749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</m:nary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≤</m:t>
                    </m:r>
                    <m:r>
                      <m:t xml:space="preserve">1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5564160" y="4191120"/>
            <a:ext cx="116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por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97120" y="4648320"/>
            <a:ext cx="225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servación de m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16240" y="5410080"/>
            <a:ext cx="14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onelaje m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057400" y="5791320"/>
                <a:ext cx="190512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</m:sub>
                      <m:sup/>
                      <m:e/>
                    </m:nary>
                    <m:sSup>
                      <m:e>
                        <m:r>
                          <m:t xml:space="preserve">v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p>
                    </m:sSup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Lm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∀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4115160" y="5791320"/>
            <a:ext cx="206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estricción de Le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801720" y="2562120"/>
                <a:ext cx="44460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1447920" y="2522520"/>
            <a:ext cx="480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ariable o parámetros binarios que permiten asignar o definir secu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657600" y="4267080"/>
                <a:ext cx="1143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133720" y="5105520"/>
                <a:ext cx="28954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z</m:t>
                    </m:r>
                    <m:r>
                      <m:t xml:space="preserve">≤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M, 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5182200" y="5029200"/>
            <a:ext cx="180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cuencia Min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mpon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086600" cy="3166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V="1">
            <a:off x="2362320" y="4952880"/>
            <a:ext cx="1522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5562720"/>
            <a:ext cx="6096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bicación de diferentes unidades básicas mineras, de acuerdo a algún nivel de discretización ad-hoc para aplicar el método de explo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stricciones de Secu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4674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atriz de Decis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796608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15:29:27Z</dcterms:created>
  <dc:creator>enriquer</dc:creator>
  <dc:description/>
  <dc:language>en-US</dc:language>
  <cp:lastModifiedBy>Enrique Rubio</cp:lastModifiedBy>
  <dcterms:modified xsi:type="dcterms:W3CDTF">2006-04-05T22:40:42Z</dcterms:modified>
  <cp:revision>163</cp:revision>
  <dc:subject/>
  <dc:title>Slide 1</dc:title>
</cp:coreProperties>
</file>