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9E46-5CDC-4EB4-BC39-99088F803D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58E5-9B16-449A-832F-8025CED8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8734A-C051-4F77-B869-C72E80EC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43FF-D9BE-464A-94C7-2CE22675DF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38DC8-E64C-4A84-87B2-9D64B865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26D4-EF30-49AB-B9D4-DE14509A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D485-BFAD-4FF0-A99A-1FEB825F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54597-B3F7-431F-B25B-F75DAE96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01E0-5C50-4CA9-B94C-54D92E20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A0090-A05F-4AEB-A7C6-7AED5EDB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54DD6-F4AB-4FE8-A4AC-D107E307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4E731-4014-4385-84C6-3B0517E4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85C1-872F-4DB2-A53D-F3B7BA488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1219320" y="1371600"/>
            <a:ext cx="7038360" cy="133200"/>
            <a:chOff x="1219320" y="1371600"/>
            <a:chExt cx="7038360" cy="133200"/>
          </a:xfrm>
        </p:grpSpPr>
        <p:sp>
          <p:nvSpPr>
            <p:cNvPr id="6" name=""/>
            <p:cNvSpPr/>
            <p:nvPr/>
          </p:nvSpPr>
          <p:spPr>
            <a:xfrm>
              <a:off x="1219320" y="13716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76720" y="14382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1143000" y="6394320"/>
            <a:ext cx="7391520" cy="76320"/>
          </a:xfrm>
          <a:prstGeom prst="rect">
            <a:avLst/>
          </a:prstGeom>
          <a:gradFill rotWithShape="0">
            <a:gsLst>
              <a:gs pos="0">
                <a:srgbClr val="c1cde5"/>
              </a:gs>
              <a:gs pos="50000">
                <a:srgbClr val="003399"/>
              </a:gs>
              <a:gs pos="100000">
                <a:srgbClr val="c1cd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logo" descr=""/>
          <p:cNvPicPr/>
          <p:nvPr/>
        </p:nvPicPr>
        <p:blipFill>
          <a:blip r:embed="rId3"/>
          <a:stretch/>
        </p:blipFill>
        <p:spPr>
          <a:xfrm>
            <a:off x="28440" y="6070680"/>
            <a:ext cx="2105280" cy="81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ítulo IV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: Teor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ía Económica de Recursos No Renov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ey de corte marg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ndo el precio sube, la ley de corte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ndo la ley de corte baja la ley media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ido a la baja en la ley media, se produce menos 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 se contrapone a la teoría econó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ximizar el 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mite maximizar el rendimiento económico del  negocio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rendimiento se obtiene cuando la planificación minera extrae de la tierra aquellas reservas que poseen mayor valo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finición de mineral está basada en el costo de oportunidad, el cual toma en cuenta el valor del dinero en el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 definir que un material es mineral este debe pagar los costos marginales y el costo de postergar el resto del yac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94360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arámetros formulación algoritmo de L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5181480" cy="1295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510160" y="2211480"/>
            <a:ext cx="3100320" cy="129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62120" y="4648320"/>
                <a:ext cx="4495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718240" y="46483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lujo de c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 algoritmo de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019920" y="3962520"/>
                <a:ext cx="144756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625760" y="2933640"/>
            <a:ext cx="927000" cy="1569960"/>
          </a:xfrm>
          <a:custGeom>
            <a:avLst/>
            <a:gdLst/>
            <a:ahLst/>
            <a:rect l="l" t="t" r="r" b="b"/>
            <a:pathLst>
              <a:path w="1438" h="2471">
                <a:moveTo>
                  <a:pt x="19" y="225"/>
                </a:moveTo>
                <a:cubicBezTo>
                  <a:pt x="24" y="570"/>
                  <a:pt x="3" y="916"/>
                  <a:pt x="34" y="1260"/>
                </a:cubicBezTo>
                <a:cubicBezTo>
                  <a:pt x="39" y="1310"/>
                  <a:pt x="99" y="1337"/>
                  <a:pt x="124" y="1380"/>
                </a:cubicBezTo>
                <a:cubicBezTo>
                  <a:pt x="140" y="1407"/>
                  <a:pt x="139" y="1442"/>
                  <a:pt x="154" y="1470"/>
                </a:cubicBezTo>
                <a:cubicBezTo>
                  <a:pt x="189" y="1533"/>
                  <a:pt x="234" y="1590"/>
                  <a:pt x="274" y="1650"/>
                </a:cubicBezTo>
                <a:cubicBezTo>
                  <a:pt x="298" y="1685"/>
                  <a:pt x="328" y="1718"/>
                  <a:pt x="364" y="1740"/>
                </a:cubicBezTo>
                <a:cubicBezTo>
                  <a:pt x="405" y="1764"/>
                  <a:pt x="499" y="1785"/>
                  <a:pt x="499" y="1785"/>
                </a:cubicBezTo>
                <a:cubicBezTo>
                  <a:pt x="556" y="1916"/>
                  <a:pt x="610" y="2097"/>
                  <a:pt x="709" y="2220"/>
                </a:cubicBezTo>
                <a:cubicBezTo>
                  <a:pt x="727" y="2242"/>
                  <a:pt x="751" y="2258"/>
                  <a:pt x="769" y="2280"/>
                </a:cubicBezTo>
                <a:cubicBezTo>
                  <a:pt x="872" y="2409"/>
                  <a:pt x="811" y="2407"/>
                  <a:pt x="964" y="2445"/>
                </a:cubicBezTo>
                <a:cubicBezTo>
                  <a:pt x="1219" y="2433"/>
                  <a:pt x="1244" y="2471"/>
                  <a:pt x="1399" y="2355"/>
                </a:cubicBezTo>
                <a:cubicBezTo>
                  <a:pt x="1409" y="2325"/>
                  <a:pt x="1427" y="2297"/>
                  <a:pt x="1429" y="2265"/>
                </a:cubicBezTo>
                <a:cubicBezTo>
                  <a:pt x="1438" y="2125"/>
                  <a:pt x="1425" y="2146"/>
                  <a:pt x="1384" y="2055"/>
                </a:cubicBezTo>
                <a:cubicBezTo>
                  <a:pt x="1278" y="1820"/>
                  <a:pt x="1169" y="1587"/>
                  <a:pt x="1069" y="1350"/>
                </a:cubicBezTo>
                <a:cubicBezTo>
                  <a:pt x="985" y="1151"/>
                  <a:pt x="993" y="1049"/>
                  <a:pt x="829" y="885"/>
                </a:cubicBezTo>
                <a:cubicBezTo>
                  <a:pt x="824" y="870"/>
                  <a:pt x="821" y="854"/>
                  <a:pt x="814" y="840"/>
                </a:cubicBezTo>
                <a:cubicBezTo>
                  <a:pt x="806" y="824"/>
                  <a:pt x="786" y="813"/>
                  <a:pt x="784" y="795"/>
                </a:cubicBezTo>
                <a:cubicBezTo>
                  <a:pt x="781" y="770"/>
                  <a:pt x="794" y="745"/>
                  <a:pt x="799" y="720"/>
                </a:cubicBezTo>
                <a:cubicBezTo>
                  <a:pt x="797" y="706"/>
                  <a:pt x="750" y="263"/>
                  <a:pt x="739" y="225"/>
                </a:cubicBezTo>
                <a:cubicBezTo>
                  <a:pt x="729" y="192"/>
                  <a:pt x="586" y="161"/>
                  <a:pt x="544" y="150"/>
                </a:cubicBezTo>
                <a:cubicBezTo>
                  <a:pt x="490" y="109"/>
                  <a:pt x="444" y="52"/>
                  <a:pt x="379" y="30"/>
                </a:cubicBezTo>
                <a:cubicBezTo>
                  <a:pt x="335" y="15"/>
                  <a:pt x="288" y="15"/>
                  <a:pt x="244" y="0"/>
                </a:cubicBezTo>
                <a:cubicBezTo>
                  <a:pt x="178" y="39"/>
                  <a:pt x="106" y="81"/>
                  <a:pt x="34" y="105"/>
                </a:cubicBezTo>
                <a:cubicBezTo>
                  <a:pt x="24" y="120"/>
                  <a:pt x="7" y="132"/>
                  <a:pt x="4" y="150"/>
                </a:cubicBezTo>
                <a:cubicBezTo>
                  <a:pt x="0" y="175"/>
                  <a:pt x="19" y="200"/>
                  <a:pt x="19" y="22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22520" y="2933640"/>
            <a:ext cx="522360" cy="514440"/>
          </a:xfrm>
          <a:custGeom>
            <a:avLst/>
            <a:gdLst/>
            <a:ahLst/>
            <a:rect l="l" t="t" r="r" b="b"/>
            <a:pathLst>
              <a:path w="811" h="810">
                <a:moveTo>
                  <a:pt x="811" y="466"/>
                </a:moveTo>
                <a:cubicBezTo>
                  <a:pt x="799" y="426"/>
                  <a:pt x="785" y="278"/>
                  <a:pt x="741" y="225"/>
                </a:cubicBezTo>
                <a:cubicBezTo>
                  <a:pt x="731" y="192"/>
                  <a:pt x="587" y="161"/>
                  <a:pt x="544" y="150"/>
                </a:cubicBezTo>
                <a:cubicBezTo>
                  <a:pt x="490" y="109"/>
                  <a:pt x="444" y="52"/>
                  <a:pt x="379" y="30"/>
                </a:cubicBezTo>
                <a:cubicBezTo>
                  <a:pt x="335" y="15"/>
                  <a:pt x="288" y="15"/>
                  <a:pt x="244" y="0"/>
                </a:cubicBezTo>
                <a:cubicBezTo>
                  <a:pt x="178" y="39"/>
                  <a:pt x="106" y="81"/>
                  <a:pt x="34" y="105"/>
                </a:cubicBezTo>
                <a:cubicBezTo>
                  <a:pt x="24" y="120"/>
                  <a:pt x="7" y="132"/>
                  <a:pt x="4" y="150"/>
                </a:cubicBezTo>
                <a:cubicBezTo>
                  <a:pt x="0" y="175"/>
                  <a:pt x="19" y="200"/>
                  <a:pt x="19" y="225"/>
                </a:cubicBezTo>
                <a:lnTo>
                  <a:pt x="19" y="750"/>
                </a:lnTo>
                <a:cubicBezTo>
                  <a:pt x="48" y="810"/>
                  <a:pt x="634" y="525"/>
                  <a:pt x="796" y="466"/>
                </a:cubicBezTo>
              </a:path>
            </a:pathLst>
          </a:custGeom>
          <a:solidFill>
            <a:srgbClr val="c0c0c0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55520" y="2352600"/>
            <a:ext cx="1816200" cy="1019160"/>
          </a:xfrm>
          <a:custGeom>
            <a:avLst/>
            <a:gdLst/>
            <a:ahLst/>
            <a:rect l="l" t="t" r="r" b="b"/>
            <a:pathLst>
              <a:path w="2820" h="1605">
                <a:moveTo>
                  <a:pt x="0" y="0"/>
                </a:moveTo>
                <a:cubicBezTo>
                  <a:pt x="1134" y="414"/>
                  <a:pt x="724" y="328"/>
                  <a:pt x="1185" y="420"/>
                </a:cubicBezTo>
                <a:cubicBezTo>
                  <a:pt x="1309" y="503"/>
                  <a:pt x="1478" y="514"/>
                  <a:pt x="1620" y="540"/>
                </a:cubicBezTo>
                <a:cubicBezTo>
                  <a:pt x="1918" y="594"/>
                  <a:pt x="1601" y="551"/>
                  <a:pt x="1875" y="585"/>
                </a:cubicBezTo>
                <a:cubicBezTo>
                  <a:pt x="1880" y="645"/>
                  <a:pt x="1882" y="705"/>
                  <a:pt x="1890" y="765"/>
                </a:cubicBezTo>
                <a:cubicBezTo>
                  <a:pt x="1892" y="781"/>
                  <a:pt x="1901" y="795"/>
                  <a:pt x="1905" y="810"/>
                </a:cubicBezTo>
                <a:cubicBezTo>
                  <a:pt x="1911" y="835"/>
                  <a:pt x="1905" y="865"/>
                  <a:pt x="1920" y="885"/>
                </a:cubicBezTo>
                <a:cubicBezTo>
                  <a:pt x="1933" y="903"/>
                  <a:pt x="2108" y="986"/>
                  <a:pt x="2115" y="990"/>
                </a:cubicBezTo>
                <a:cubicBezTo>
                  <a:pt x="2135" y="1000"/>
                  <a:pt x="2175" y="1020"/>
                  <a:pt x="2175" y="1020"/>
                </a:cubicBezTo>
                <a:cubicBezTo>
                  <a:pt x="2255" y="1180"/>
                  <a:pt x="2145" y="990"/>
                  <a:pt x="2265" y="1110"/>
                </a:cubicBezTo>
                <a:cubicBezTo>
                  <a:pt x="2281" y="1126"/>
                  <a:pt x="2281" y="1153"/>
                  <a:pt x="2295" y="1170"/>
                </a:cubicBezTo>
                <a:cubicBezTo>
                  <a:pt x="2310" y="1188"/>
                  <a:pt x="2384" y="1222"/>
                  <a:pt x="2400" y="1230"/>
                </a:cubicBezTo>
                <a:cubicBezTo>
                  <a:pt x="2480" y="1330"/>
                  <a:pt x="2556" y="1433"/>
                  <a:pt x="2640" y="1530"/>
                </a:cubicBezTo>
                <a:cubicBezTo>
                  <a:pt x="2688" y="1586"/>
                  <a:pt x="2770" y="1555"/>
                  <a:pt x="2820" y="16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2555000">
            <a:off x="1857240" y="2247480"/>
            <a:ext cx="246240" cy="685800"/>
          </a:xfrm>
          <a:custGeom>
            <a:avLst/>
            <a:gdLst>
              <a:gd name="textAreaLeft" fmla="*/ 32760 w 246240"/>
              <a:gd name="textAreaRight" fmla="*/ 213480 w 2462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320920" y="2133720"/>
            <a:ext cx="727200" cy="533160"/>
            <a:chOff x="2320920" y="2133720"/>
            <a:chExt cx="727200" cy="533160"/>
          </a:xfrm>
        </p:grpSpPr>
        <p:sp>
          <p:nvSpPr>
            <p:cNvPr id="138" name=""/>
            <p:cNvSpPr/>
            <p:nvPr/>
          </p:nvSpPr>
          <p:spPr>
            <a:xfrm>
              <a:off x="2320920" y="2133720"/>
              <a:ext cx="727200" cy="533160"/>
            </a:xfrm>
            <a:custGeom>
              <a:avLst/>
              <a:gdLst/>
              <a:ahLst/>
              <a:rect l="l" t="t" r="r" b="b"/>
              <a:pathLst>
                <a:path w="811" h="810">
                  <a:moveTo>
                    <a:pt x="811" y="466"/>
                  </a:moveTo>
                  <a:cubicBezTo>
                    <a:pt x="799" y="426"/>
                    <a:pt x="785" y="278"/>
                    <a:pt x="741" y="225"/>
                  </a:cubicBezTo>
                  <a:cubicBezTo>
                    <a:pt x="731" y="192"/>
                    <a:pt x="587" y="161"/>
                    <a:pt x="544" y="150"/>
                  </a:cubicBezTo>
                  <a:cubicBezTo>
                    <a:pt x="490" y="109"/>
                    <a:pt x="444" y="52"/>
                    <a:pt x="379" y="30"/>
                  </a:cubicBezTo>
                  <a:cubicBezTo>
                    <a:pt x="335" y="15"/>
                    <a:pt x="288" y="15"/>
                    <a:pt x="244" y="0"/>
                  </a:cubicBezTo>
                  <a:cubicBezTo>
                    <a:pt x="178" y="39"/>
                    <a:pt x="106" y="81"/>
                    <a:pt x="34" y="105"/>
                  </a:cubicBezTo>
                  <a:cubicBezTo>
                    <a:pt x="24" y="120"/>
                    <a:pt x="7" y="132"/>
                    <a:pt x="4" y="150"/>
                  </a:cubicBezTo>
                  <a:cubicBezTo>
                    <a:pt x="0" y="175"/>
                    <a:pt x="19" y="200"/>
                    <a:pt x="19" y="225"/>
                  </a:cubicBezTo>
                  <a:lnTo>
                    <a:pt x="19" y="750"/>
                  </a:lnTo>
                  <a:cubicBezTo>
                    <a:pt x="48" y="810"/>
                    <a:pt x="634" y="525"/>
                    <a:pt x="796" y="466"/>
                  </a:cubicBezTo>
                </a:path>
              </a:pathLst>
            </a:custGeom>
            <a:solidFill>
              <a:srgbClr val="c0c0c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82200" y="2252160"/>
              <a:ext cx="48420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Q, 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900520" y="2362320"/>
            <a:ext cx="463320" cy="114120"/>
          </a:xfrm>
          <a:prstGeom prst="rightArrow">
            <a:avLst>
              <a:gd name="adj1" fmla="val 50000"/>
              <a:gd name="adj2" fmla="val 1014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63840" y="2247840"/>
            <a:ext cx="1506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flujo de c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57240" y="3733920"/>
            <a:ext cx="347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78000" y="304812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0240" y="3390840"/>
            <a:ext cx="347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5080" y="3390840"/>
            <a:ext cx="811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or Pres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76920" y="2057400"/>
                <a:ext cx="37335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023160" y="16765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lujo de c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2743200"/>
            <a:ext cx="42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a V el valor máximo de los flujos de caja actualizado.  W el valor máximo de los flujos de caja actualizados después de extraer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80160" y="48769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t es pequeño, ento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91320" y="5334120"/>
                <a:ext cx="17524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8682120" y="2057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920" y="4114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97880" y="53341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 algoritmo de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5800" y="2133720"/>
                <a:ext cx="26668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3200400"/>
                <a:ext cx="54864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613800" y="1676520"/>
            <a:ext cx="38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remento marginal del VAN 3 e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4160" y="2743200"/>
            <a:ext cx="37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remento marginal del VAN 4 e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1280" y="20937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98560" y="3886200"/>
            <a:ext cx="7940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anterior representa el incremento marginal del VAN que conduce a maximizarlo siguiendo una estrategia determi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parámetro dV representa el costo de oportunidad de postergar los futuros flujos de caja en el periodo t.  Integrando el valor del dinero en 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formula anterior sin embargo considera un escenario económico constante en 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 algoritmo de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" y="1865160"/>
            <a:ext cx="59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ndo las condiciones variables del mercado en la formula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2590920"/>
                <a:ext cx="518184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990720" y="3962520"/>
            <a:ext cx="6340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: corresponde al costo de oportu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e costo se compone de dos par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sto de asignar capital a un bien en vez de invertir en un bien alternativo (d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variación de valor de este bien debido a condiciones variables en el mercado (-dV/d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olución de la formulación an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valor óptimo del VAN (V) es función de la ley de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ley de corte a través de v es función del valor óptimo del VAN (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anera de resolver este problema es a través de múltiples iteraciones asumiendo un valor V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y de corte una capacidad máxima m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1600" y="2133720"/>
                <a:ext cx="3809880" cy="32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y de corte una capacidad máxim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185840" y="2338560"/>
                <a:ext cx="3606840" cy="30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5600" y="274320"/>
            <a:ext cx="636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 de Beneficio Econó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ga una función de beneficio del tip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286000" y="2514600"/>
                <a:ext cx="3048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209680" y="3276720"/>
                <a:ext cx="270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2487240" y="3332160"/>
            <a:ext cx="354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itmo de producción de metal en periodo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143080" y="3657600"/>
                <a:ext cx="295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505600" y="373392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ecio del producto en periodo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057400" y="4114800"/>
                <a:ext cx="5335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544480" y="4114800"/>
            <a:ext cx="492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o de producción como función de la cantidad produc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y de corte una capacidad máxima mer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90720" y="2057400"/>
                <a:ext cx="4800600" cy="29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de a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mina mediana Plomo-Zinc con una capacidad de planta de 1.3 mil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uerpo mineralizado es potente, semi vertical y consistente en la corrida por varios kiló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étodo de explotación Sub Level C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valor de plomo es secundario y se convierte la ley de plomo a Zinc dividiendo po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ey media Zinc equivalente 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reservas son estimadas de esta manera y el control se realiza basada solamente utilizando Zinc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dilución es del orden del 15% y la recuperación minera del orden del 8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de a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n dos tipos de leyes de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licada a las paredes del caserón HW, FW.  Define el material a perfo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licada en el punto de extracción definiendo el punto de extracción ópt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otencial valor del proyecto es 150M$, utilizando una tasa de descuento 15% antes de impue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tos neces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58672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olu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nelaje modelado debe ser corregido por 1.15 y la ley por 0.88/1.15=0.77 de modo de simular la situación en la 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bre estos valores se deben calcular las leyes de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o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914400" y="2133720"/>
                <a:ext cx="2362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$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990720" y="3276720"/>
                <a:ext cx="190476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826920" y="17128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álculo de F para precios 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46000" y="2819520"/>
            <a:ext cx="63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álculo de la ley de corte para una capacidad de planta f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95280" y="5041800"/>
                <a:ext cx="32004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7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841320" y="4419720"/>
            <a:ext cx="45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álculo de la ley de corte para HW y F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o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2766960" cy="1140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952880" y="2514600"/>
                <a:ext cx="2819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7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69960" y="171288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y de corte en los puntos de extracción.  Perforación y tronadura es un costo incurr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9960" y="3770280"/>
            <a:ext cx="82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valores de leyes de corte son altos producto que el valor residual (150M$) es alto, es decir, la oportunidad es alta.  Si estuviésemos al fin de la vida de la 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066680" y="4876920"/>
                <a:ext cx="28958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7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o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066680" y="2590920"/>
                <a:ext cx="25146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93640" y="178920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s aún si la planta está ociosa la ley de corte a utilizar es aquella limitada por la capacidad de la 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429000"/>
            <a:ext cx="809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fecto del cambio de condiciones económicas o del mercado.  Supongamos que el precio del concentrado disminuye a 650 $.  El cambio de utilidad anual  producto de la caída del precio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62120" y="4572000"/>
                <a:ext cx="66294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5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M</m:t>
                    </m:r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olu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62120" y="2209680"/>
                <a:ext cx="2438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85800" y="3276720"/>
                <a:ext cx="2438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85800" y="3809880"/>
                <a:ext cx="22860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  <m:r>
                          <m:t xml:space="preserve">$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599040" y="178920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 presente del depósito a 650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440" y="2895480"/>
            <a:ext cx="82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 presente al esperar un año para partir la explotación es 150 M$. Ento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8560" y="4648320"/>
            <a:ext cx="55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ley de corte de los puntos de extracción es ah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295280" y="5257800"/>
                <a:ext cx="32464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9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5181480" y="5181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to de la baja de precios, la ley de corte debe bajar de modo de ser consecuente con el modelo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 iterativo para la optimización del 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29825" t="27800" r="30539" b="17123"/>
          <a:stretch/>
        </p:blipFill>
        <p:spPr>
          <a:xfrm>
            <a:off x="457200" y="2286000"/>
            <a:ext cx="316080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008000" y="2514600"/>
            <a:ext cx="6459480" cy="1233360"/>
            <a:chOff x="1008000" y="2514600"/>
            <a:chExt cx="6459480" cy="1233360"/>
          </a:xfrm>
        </p:grpSpPr>
        <p:grpSp>
          <p:nvGrpSpPr>
            <p:cNvPr id="212" name=""/>
            <p:cNvGrpSpPr/>
            <p:nvPr/>
          </p:nvGrpSpPr>
          <p:grpSpPr>
            <a:xfrm>
              <a:off x="1008000" y="2666880"/>
              <a:ext cx="2493000" cy="1081080"/>
              <a:chOff x="1008000" y="2666880"/>
              <a:chExt cx="2493000" cy="1081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745720" y="2666880"/>
                <a:ext cx="75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008000" y="2878200"/>
                <a:ext cx="1893960" cy="869760"/>
              </a:xfrm>
              <a:custGeom>
                <a:avLst/>
                <a:gdLst/>
                <a:ahLst/>
                <a:rect l="l" t="t" r="r" b="b"/>
                <a:pathLst>
                  <a:path w="1193" h="548">
                    <a:moveTo>
                      <a:pt x="0" y="228"/>
                    </a:moveTo>
                    <a:cubicBezTo>
                      <a:pt x="30" y="247"/>
                      <a:pt x="48" y="267"/>
                      <a:pt x="68" y="296"/>
                    </a:cubicBezTo>
                    <a:cubicBezTo>
                      <a:pt x="76" y="408"/>
                      <a:pt x="47" y="430"/>
                      <a:pt x="136" y="457"/>
                    </a:cubicBezTo>
                    <a:cubicBezTo>
                      <a:pt x="177" y="488"/>
                      <a:pt x="203" y="521"/>
                      <a:pt x="254" y="533"/>
                    </a:cubicBezTo>
                    <a:cubicBezTo>
                      <a:pt x="529" y="522"/>
                      <a:pt x="386" y="548"/>
                      <a:pt x="483" y="516"/>
                    </a:cubicBezTo>
                    <a:cubicBezTo>
                      <a:pt x="511" y="507"/>
                      <a:pt x="533" y="494"/>
                      <a:pt x="559" y="483"/>
                    </a:cubicBezTo>
                    <a:cubicBezTo>
                      <a:pt x="575" y="476"/>
                      <a:pt x="610" y="466"/>
                      <a:pt x="610" y="466"/>
                    </a:cubicBezTo>
                    <a:cubicBezTo>
                      <a:pt x="690" y="414"/>
                      <a:pt x="761" y="372"/>
                      <a:pt x="856" y="347"/>
                    </a:cubicBezTo>
                    <a:cubicBezTo>
                      <a:pt x="914" y="331"/>
                      <a:pt x="975" y="334"/>
                      <a:pt x="1034" y="322"/>
                    </a:cubicBezTo>
                    <a:cubicBezTo>
                      <a:pt x="1072" y="314"/>
                      <a:pt x="1107" y="299"/>
                      <a:pt x="1144" y="288"/>
                    </a:cubicBezTo>
                    <a:cubicBezTo>
                      <a:pt x="1158" y="278"/>
                      <a:pt x="1183" y="266"/>
                      <a:pt x="1186" y="245"/>
                    </a:cubicBezTo>
                    <a:cubicBezTo>
                      <a:pt x="1193" y="191"/>
                      <a:pt x="1137" y="168"/>
                      <a:pt x="1101" y="144"/>
                    </a:cubicBezTo>
                    <a:cubicBezTo>
                      <a:pt x="1093" y="138"/>
                      <a:pt x="1086" y="130"/>
                      <a:pt x="1076" y="127"/>
                    </a:cubicBezTo>
                    <a:cubicBezTo>
                      <a:pt x="1022" y="113"/>
                      <a:pt x="1057" y="123"/>
                      <a:pt x="991" y="101"/>
                    </a:cubicBezTo>
                    <a:cubicBezTo>
                      <a:pt x="983" y="98"/>
                      <a:pt x="966" y="93"/>
                      <a:pt x="966" y="93"/>
                    </a:cubicBezTo>
                    <a:cubicBezTo>
                      <a:pt x="935" y="61"/>
                      <a:pt x="919" y="25"/>
                      <a:pt x="881" y="0"/>
                    </a:cubicBezTo>
                    <a:cubicBezTo>
                      <a:pt x="856" y="3"/>
                      <a:pt x="829" y="0"/>
                      <a:pt x="805" y="8"/>
                    </a:cubicBezTo>
                    <a:cubicBezTo>
                      <a:pt x="786" y="14"/>
                      <a:pt x="773" y="35"/>
                      <a:pt x="754" y="42"/>
                    </a:cubicBezTo>
                    <a:cubicBezTo>
                      <a:pt x="689" y="65"/>
                      <a:pt x="636" y="102"/>
                      <a:pt x="568" y="118"/>
                    </a:cubicBezTo>
                    <a:cubicBezTo>
                      <a:pt x="504" y="160"/>
                      <a:pt x="430" y="154"/>
                      <a:pt x="356" y="169"/>
                    </a:cubicBezTo>
                    <a:cubicBezTo>
                      <a:pt x="327" y="175"/>
                      <a:pt x="301" y="193"/>
                      <a:pt x="271" y="195"/>
                    </a:cubicBezTo>
                    <a:cubicBezTo>
                      <a:pt x="107" y="207"/>
                      <a:pt x="197" y="197"/>
                      <a:pt x="0" y="228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4724280" y="2514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62120" y="2133720"/>
            <a:ext cx="6705360" cy="1590480"/>
            <a:chOff x="762120" y="2133720"/>
            <a:chExt cx="6705360" cy="1590480"/>
          </a:xfrm>
        </p:grpSpPr>
        <p:grpSp>
          <p:nvGrpSpPr>
            <p:cNvPr id="217" name=""/>
            <p:cNvGrpSpPr/>
            <p:nvPr/>
          </p:nvGrpSpPr>
          <p:grpSpPr>
            <a:xfrm>
              <a:off x="762120" y="2133720"/>
              <a:ext cx="2591640" cy="1590480"/>
              <a:chOff x="762120" y="2133720"/>
              <a:chExt cx="2591640" cy="1590480"/>
            </a:xfrm>
          </p:grpSpPr>
          <p:sp>
            <p:nvSpPr>
              <p:cNvPr id="218" name=""/>
              <p:cNvSpPr/>
              <p:nvPr/>
            </p:nvSpPr>
            <p:spPr>
              <a:xfrm>
                <a:off x="762120" y="2476440"/>
                <a:ext cx="2138040" cy="1247760"/>
              </a:xfrm>
              <a:custGeom>
                <a:avLst/>
                <a:gdLst/>
                <a:ahLst/>
                <a:rect l="l" t="t" r="r" b="b"/>
                <a:pathLst>
                  <a:path w="1347" h="786">
                    <a:moveTo>
                      <a:pt x="763" y="49"/>
                    </a:moveTo>
                    <a:cubicBezTo>
                      <a:pt x="676" y="35"/>
                      <a:pt x="588" y="30"/>
                      <a:pt x="501" y="16"/>
                    </a:cubicBezTo>
                    <a:cubicBezTo>
                      <a:pt x="394" y="19"/>
                      <a:pt x="286" y="13"/>
                      <a:pt x="179" y="24"/>
                    </a:cubicBezTo>
                    <a:cubicBezTo>
                      <a:pt x="160" y="26"/>
                      <a:pt x="166" y="61"/>
                      <a:pt x="153" y="75"/>
                    </a:cubicBezTo>
                    <a:cubicBezTo>
                      <a:pt x="138" y="91"/>
                      <a:pt x="118" y="102"/>
                      <a:pt x="102" y="117"/>
                    </a:cubicBezTo>
                    <a:cubicBezTo>
                      <a:pt x="83" y="178"/>
                      <a:pt x="71" y="224"/>
                      <a:pt x="35" y="278"/>
                    </a:cubicBezTo>
                    <a:cubicBezTo>
                      <a:pt x="29" y="287"/>
                      <a:pt x="24" y="295"/>
                      <a:pt x="18" y="304"/>
                    </a:cubicBezTo>
                    <a:cubicBezTo>
                      <a:pt x="12" y="312"/>
                      <a:pt x="1" y="329"/>
                      <a:pt x="1" y="329"/>
                    </a:cubicBezTo>
                    <a:cubicBezTo>
                      <a:pt x="4" y="343"/>
                      <a:pt x="0" y="360"/>
                      <a:pt x="9" y="371"/>
                    </a:cubicBezTo>
                    <a:cubicBezTo>
                      <a:pt x="22" y="387"/>
                      <a:pt x="44" y="392"/>
                      <a:pt x="60" y="405"/>
                    </a:cubicBezTo>
                    <a:cubicBezTo>
                      <a:pt x="96" y="433"/>
                      <a:pt x="100" y="473"/>
                      <a:pt x="136" y="498"/>
                    </a:cubicBezTo>
                    <a:cubicBezTo>
                      <a:pt x="144" y="522"/>
                      <a:pt x="173" y="541"/>
                      <a:pt x="170" y="566"/>
                    </a:cubicBezTo>
                    <a:cubicBezTo>
                      <a:pt x="168" y="582"/>
                      <a:pt x="147" y="589"/>
                      <a:pt x="136" y="600"/>
                    </a:cubicBezTo>
                    <a:cubicBezTo>
                      <a:pt x="165" y="627"/>
                      <a:pt x="200" y="647"/>
                      <a:pt x="238" y="659"/>
                    </a:cubicBezTo>
                    <a:cubicBezTo>
                      <a:pt x="252" y="680"/>
                      <a:pt x="260" y="721"/>
                      <a:pt x="280" y="736"/>
                    </a:cubicBezTo>
                    <a:cubicBezTo>
                      <a:pt x="308" y="758"/>
                      <a:pt x="421" y="780"/>
                      <a:pt x="458" y="786"/>
                    </a:cubicBezTo>
                    <a:cubicBezTo>
                      <a:pt x="520" y="783"/>
                      <a:pt x="583" y="783"/>
                      <a:pt x="645" y="778"/>
                    </a:cubicBezTo>
                    <a:cubicBezTo>
                      <a:pt x="659" y="777"/>
                      <a:pt x="695" y="756"/>
                      <a:pt x="704" y="752"/>
                    </a:cubicBezTo>
                    <a:cubicBezTo>
                      <a:pt x="721" y="746"/>
                      <a:pt x="755" y="736"/>
                      <a:pt x="755" y="736"/>
                    </a:cubicBezTo>
                    <a:cubicBezTo>
                      <a:pt x="811" y="699"/>
                      <a:pt x="885" y="663"/>
                      <a:pt x="950" y="651"/>
                    </a:cubicBezTo>
                    <a:cubicBezTo>
                      <a:pt x="988" y="625"/>
                      <a:pt x="1033" y="614"/>
                      <a:pt x="1077" y="600"/>
                    </a:cubicBezTo>
                    <a:cubicBezTo>
                      <a:pt x="1122" y="569"/>
                      <a:pt x="1177" y="565"/>
                      <a:pt x="1229" y="549"/>
                    </a:cubicBezTo>
                    <a:cubicBezTo>
                      <a:pt x="1255" y="541"/>
                      <a:pt x="1280" y="532"/>
                      <a:pt x="1305" y="524"/>
                    </a:cubicBezTo>
                    <a:cubicBezTo>
                      <a:pt x="1314" y="521"/>
                      <a:pt x="1331" y="515"/>
                      <a:pt x="1331" y="515"/>
                    </a:cubicBezTo>
                    <a:cubicBezTo>
                      <a:pt x="1324" y="443"/>
                      <a:pt x="1347" y="429"/>
                      <a:pt x="1297" y="405"/>
                    </a:cubicBezTo>
                    <a:cubicBezTo>
                      <a:pt x="1268" y="391"/>
                      <a:pt x="1225" y="381"/>
                      <a:pt x="1195" y="371"/>
                    </a:cubicBezTo>
                    <a:cubicBezTo>
                      <a:pt x="1187" y="368"/>
                      <a:pt x="1170" y="363"/>
                      <a:pt x="1170" y="363"/>
                    </a:cubicBezTo>
                    <a:cubicBezTo>
                      <a:pt x="1139" y="332"/>
                      <a:pt x="1114" y="295"/>
                      <a:pt x="1077" y="270"/>
                    </a:cubicBezTo>
                    <a:cubicBezTo>
                      <a:pt x="1069" y="265"/>
                      <a:pt x="1059" y="265"/>
                      <a:pt x="1051" y="261"/>
                    </a:cubicBezTo>
                    <a:cubicBezTo>
                      <a:pt x="1033" y="251"/>
                      <a:pt x="1000" y="227"/>
                      <a:pt x="1000" y="227"/>
                    </a:cubicBezTo>
                    <a:cubicBezTo>
                      <a:pt x="986" y="184"/>
                      <a:pt x="927" y="141"/>
                      <a:pt x="890" y="117"/>
                    </a:cubicBezTo>
                    <a:cubicBezTo>
                      <a:pt x="854" y="93"/>
                      <a:pt x="867" y="72"/>
                      <a:pt x="822" y="58"/>
                    </a:cubicBezTo>
                    <a:cubicBezTo>
                      <a:pt x="807" y="48"/>
                      <a:pt x="714" y="0"/>
                      <a:pt x="763" y="49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283120" y="2133720"/>
                <a:ext cx="107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tiv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45040" y="2744640"/>
                <a:ext cx="817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T, $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724280" y="2857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05280" y="1981080"/>
            <a:ext cx="7543440" cy="1257480"/>
            <a:chOff x="305280" y="1981080"/>
            <a:chExt cx="7543440" cy="1257480"/>
          </a:xfrm>
        </p:grpSpPr>
        <p:grpSp>
          <p:nvGrpSpPr>
            <p:cNvPr id="223" name=""/>
            <p:cNvGrpSpPr/>
            <p:nvPr/>
          </p:nvGrpSpPr>
          <p:grpSpPr>
            <a:xfrm>
              <a:off x="305280" y="1981080"/>
              <a:ext cx="1613160" cy="1231920"/>
              <a:chOff x="305280" y="1981080"/>
              <a:chExt cx="1613160" cy="1231920"/>
            </a:xfrm>
          </p:grpSpPr>
          <p:sp>
            <p:nvSpPr>
              <p:cNvPr id="224" name=""/>
              <p:cNvSpPr/>
              <p:nvPr/>
            </p:nvSpPr>
            <p:spPr>
              <a:xfrm>
                <a:off x="793800" y="2527200"/>
                <a:ext cx="496800" cy="685800"/>
              </a:xfrm>
              <a:custGeom>
                <a:avLst/>
                <a:gdLst/>
                <a:ahLst/>
                <a:rect l="l" t="t" r="r" b="b"/>
                <a:pathLst>
                  <a:path w="313" h="432">
                    <a:moveTo>
                      <a:pt x="178" y="0"/>
                    </a:moveTo>
                    <a:cubicBezTo>
                      <a:pt x="206" y="29"/>
                      <a:pt x="237" y="72"/>
                      <a:pt x="271" y="94"/>
                    </a:cubicBezTo>
                    <a:cubicBezTo>
                      <a:pt x="293" y="126"/>
                      <a:pt x="313" y="163"/>
                      <a:pt x="288" y="204"/>
                    </a:cubicBezTo>
                    <a:cubicBezTo>
                      <a:pt x="279" y="218"/>
                      <a:pt x="238" y="231"/>
                      <a:pt x="220" y="238"/>
                    </a:cubicBezTo>
                    <a:cubicBezTo>
                      <a:pt x="204" y="288"/>
                      <a:pt x="206" y="342"/>
                      <a:pt x="161" y="373"/>
                    </a:cubicBezTo>
                    <a:cubicBezTo>
                      <a:pt x="140" y="405"/>
                      <a:pt x="105" y="420"/>
                      <a:pt x="68" y="432"/>
                    </a:cubicBezTo>
                    <a:cubicBezTo>
                      <a:pt x="35" y="400"/>
                      <a:pt x="31" y="393"/>
                      <a:pt x="42" y="348"/>
                    </a:cubicBezTo>
                    <a:cubicBezTo>
                      <a:pt x="32" y="315"/>
                      <a:pt x="0" y="255"/>
                      <a:pt x="0" y="255"/>
                    </a:cubicBezTo>
                    <a:cubicBezTo>
                      <a:pt x="12" y="193"/>
                      <a:pt x="6" y="214"/>
                      <a:pt x="59" y="195"/>
                    </a:cubicBezTo>
                    <a:cubicBezTo>
                      <a:pt x="70" y="178"/>
                      <a:pt x="82" y="161"/>
                      <a:pt x="93" y="144"/>
                    </a:cubicBezTo>
                    <a:cubicBezTo>
                      <a:pt x="99" y="136"/>
                      <a:pt x="110" y="119"/>
                      <a:pt x="110" y="119"/>
                    </a:cubicBezTo>
                    <a:cubicBezTo>
                      <a:pt x="110" y="118"/>
                      <a:pt x="121" y="64"/>
                      <a:pt x="127" y="60"/>
                    </a:cubicBezTo>
                    <a:cubicBezTo>
                      <a:pt x="191" y="10"/>
                      <a:pt x="139" y="118"/>
                      <a:pt x="17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5280" y="1981080"/>
                <a:ext cx="161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Times New Roman"/>
                  </a:rPr>
                  <a:t>Closed dp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724280" y="323856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85800" y="2286000"/>
            <a:ext cx="7086600" cy="1500120"/>
            <a:chOff x="685800" y="2286000"/>
            <a:chExt cx="7086600" cy="1500120"/>
          </a:xfrm>
        </p:grpSpPr>
        <p:grpSp>
          <p:nvGrpSpPr>
            <p:cNvPr id="228" name=""/>
            <p:cNvGrpSpPr/>
            <p:nvPr/>
          </p:nvGrpSpPr>
          <p:grpSpPr>
            <a:xfrm>
              <a:off x="685800" y="2286000"/>
              <a:ext cx="2834280" cy="1500120"/>
              <a:chOff x="685800" y="2286000"/>
              <a:chExt cx="2834280" cy="1500120"/>
            </a:xfrm>
          </p:grpSpPr>
          <p:sp>
            <p:nvSpPr>
              <p:cNvPr id="229" name=""/>
              <p:cNvSpPr/>
              <p:nvPr/>
            </p:nvSpPr>
            <p:spPr>
              <a:xfrm>
                <a:off x="939600" y="2400480"/>
                <a:ext cx="1882800" cy="1385640"/>
              </a:xfrm>
              <a:custGeom>
                <a:avLst/>
                <a:gdLst/>
                <a:ahLst/>
                <a:rect l="l" t="t" r="r" b="b"/>
                <a:pathLst>
                  <a:path w="1186" h="873">
                    <a:moveTo>
                      <a:pt x="647" y="94"/>
                    </a:moveTo>
                    <a:cubicBezTo>
                      <a:pt x="615" y="86"/>
                      <a:pt x="586" y="66"/>
                      <a:pt x="554" y="60"/>
                    </a:cubicBezTo>
                    <a:cubicBezTo>
                      <a:pt x="515" y="53"/>
                      <a:pt x="475" y="55"/>
                      <a:pt x="435" y="52"/>
                    </a:cubicBezTo>
                    <a:cubicBezTo>
                      <a:pt x="395" y="44"/>
                      <a:pt x="358" y="34"/>
                      <a:pt x="317" y="27"/>
                    </a:cubicBezTo>
                    <a:cubicBezTo>
                      <a:pt x="185" y="40"/>
                      <a:pt x="152" y="0"/>
                      <a:pt x="122" y="94"/>
                    </a:cubicBezTo>
                    <a:cubicBezTo>
                      <a:pt x="128" y="206"/>
                      <a:pt x="167" y="313"/>
                      <a:pt x="46" y="357"/>
                    </a:cubicBezTo>
                    <a:cubicBezTo>
                      <a:pt x="28" y="406"/>
                      <a:pt x="21" y="459"/>
                      <a:pt x="3" y="509"/>
                    </a:cubicBezTo>
                    <a:cubicBezTo>
                      <a:pt x="6" y="557"/>
                      <a:pt x="0" y="702"/>
                      <a:pt x="54" y="747"/>
                    </a:cubicBezTo>
                    <a:cubicBezTo>
                      <a:pt x="84" y="773"/>
                      <a:pt x="135" y="779"/>
                      <a:pt x="173" y="789"/>
                    </a:cubicBezTo>
                    <a:cubicBezTo>
                      <a:pt x="263" y="812"/>
                      <a:pt x="354" y="833"/>
                      <a:pt x="444" y="857"/>
                    </a:cubicBezTo>
                    <a:cubicBezTo>
                      <a:pt x="514" y="809"/>
                      <a:pt x="432" y="873"/>
                      <a:pt x="478" y="814"/>
                    </a:cubicBezTo>
                    <a:cubicBezTo>
                      <a:pt x="492" y="797"/>
                      <a:pt x="510" y="785"/>
                      <a:pt x="528" y="772"/>
                    </a:cubicBezTo>
                    <a:cubicBezTo>
                      <a:pt x="567" y="744"/>
                      <a:pt x="620" y="744"/>
                      <a:pt x="664" y="730"/>
                    </a:cubicBezTo>
                    <a:cubicBezTo>
                      <a:pt x="698" y="707"/>
                      <a:pt x="743" y="688"/>
                      <a:pt x="783" y="679"/>
                    </a:cubicBezTo>
                    <a:cubicBezTo>
                      <a:pt x="859" y="627"/>
                      <a:pt x="947" y="605"/>
                      <a:pt x="1037" y="594"/>
                    </a:cubicBezTo>
                    <a:cubicBezTo>
                      <a:pt x="1079" y="581"/>
                      <a:pt x="1119" y="568"/>
                      <a:pt x="1155" y="543"/>
                    </a:cubicBezTo>
                    <a:cubicBezTo>
                      <a:pt x="1166" y="512"/>
                      <a:pt x="1186" y="465"/>
                      <a:pt x="1164" y="433"/>
                    </a:cubicBezTo>
                    <a:cubicBezTo>
                      <a:pt x="1163" y="432"/>
                      <a:pt x="1097" y="418"/>
                      <a:pt x="1087" y="416"/>
                    </a:cubicBezTo>
                    <a:cubicBezTo>
                      <a:pt x="1057" y="402"/>
                      <a:pt x="1024" y="369"/>
                      <a:pt x="986" y="348"/>
                    </a:cubicBezTo>
                    <a:cubicBezTo>
                      <a:pt x="949" y="335"/>
                      <a:pt x="896" y="301"/>
                      <a:pt x="859" y="289"/>
                    </a:cubicBezTo>
                    <a:cubicBezTo>
                      <a:pt x="829" y="269"/>
                      <a:pt x="836" y="202"/>
                      <a:pt x="808" y="179"/>
                    </a:cubicBezTo>
                    <a:cubicBezTo>
                      <a:pt x="727" y="112"/>
                      <a:pt x="687" y="69"/>
                      <a:pt x="579" y="69"/>
                    </a:cubicBezTo>
                  </a:path>
                </a:pathLst>
              </a:custGeom>
              <a:solidFill>
                <a:srgbClr val="009999"/>
              </a:solidFill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95960" y="2286000"/>
                <a:ext cx="924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, $, g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85800" y="2521080"/>
                <a:ext cx="496800" cy="814320"/>
              </a:xfrm>
              <a:custGeom>
                <a:avLst/>
                <a:gdLst/>
                <a:ahLst/>
                <a:rect l="l" t="t" r="r" b="b"/>
                <a:pathLst>
                  <a:path w="313" h="513">
                    <a:moveTo>
                      <a:pt x="178" y="0"/>
                    </a:moveTo>
                    <a:cubicBezTo>
                      <a:pt x="206" y="29"/>
                      <a:pt x="248" y="8"/>
                      <a:pt x="282" y="30"/>
                    </a:cubicBezTo>
                    <a:cubicBezTo>
                      <a:pt x="304" y="62"/>
                      <a:pt x="313" y="163"/>
                      <a:pt x="288" y="204"/>
                    </a:cubicBezTo>
                    <a:cubicBezTo>
                      <a:pt x="279" y="218"/>
                      <a:pt x="300" y="226"/>
                      <a:pt x="282" y="233"/>
                    </a:cubicBezTo>
                    <a:cubicBezTo>
                      <a:pt x="266" y="283"/>
                      <a:pt x="217" y="422"/>
                      <a:pt x="172" y="453"/>
                    </a:cubicBezTo>
                    <a:cubicBezTo>
                      <a:pt x="151" y="485"/>
                      <a:pt x="175" y="501"/>
                      <a:pt x="138" y="513"/>
                    </a:cubicBezTo>
                    <a:cubicBezTo>
                      <a:pt x="105" y="481"/>
                      <a:pt x="31" y="393"/>
                      <a:pt x="42" y="348"/>
                    </a:cubicBezTo>
                    <a:cubicBezTo>
                      <a:pt x="32" y="315"/>
                      <a:pt x="0" y="255"/>
                      <a:pt x="0" y="255"/>
                    </a:cubicBezTo>
                    <a:cubicBezTo>
                      <a:pt x="12" y="193"/>
                      <a:pt x="6" y="214"/>
                      <a:pt x="59" y="195"/>
                    </a:cubicBezTo>
                    <a:cubicBezTo>
                      <a:pt x="70" y="178"/>
                      <a:pt x="82" y="161"/>
                      <a:pt x="93" y="144"/>
                    </a:cubicBezTo>
                    <a:cubicBezTo>
                      <a:pt x="99" y="136"/>
                      <a:pt x="110" y="119"/>
                      <a:pt x="110" y="119"/>
                    </a:cubicBezTo>
                    <a:cubicBezTo>
                      <a:pt x="110" y="118"/>
                      <a:pt x="121" y="64"/>
                      <a:pt x="127" y="60"/>
                    </a:cubicBezTo>
                    <a:cubicBezTo>
                      <a:pt x="191" y="10"/>
                      <a:pt x="139" y="118"/>
                      <a:pt x="17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2057400" y="2590920"/>
                <a:ext cx="45720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724280" y="35942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58720" y="2438280"/>
            <a:ext cx="7290000" cy="3728880"/>
            <a:chOff x="558720" y="2438280"/>
            <a:chExt cx="7290000" cy="3728880"/>
          </a:xfrm>
        </p:grpSpPr>
        <p:grpSp>
          <p:nvGrpSpPr>
            <p:cNvPr id="235" name=""/>
            <p:cNvGrpSpPr/>
            <p:nvPr/>
          </p:nvGrpSpPr>
          <p:grpSpPr>
            <a:xfrm>
              <a:off x="558720" y="2438280"/>
              <a:ext cx="3068640" cy="3728880"/>
              <a:chOff x="558720" y="2438280"/>
              <a:chExt cx="3068640" cy="3728880"/>
            </a:xfrm>
          </p:grpSpPr>
          <p:sp>
            <p:nvSpPr>
              <p:cNvPr id="236" name=""/>
              <p:cNvSpPr/>
              <p:nvPr/>
            </p:nvSpPr>
            <p:spPr>
              <a:xfrm>
                <a:off x="558720" y="3263760"/>
                <a:ext cx="3068640" cy="2903400"/>
              </a:xfrm>
              <a:custGeom>
                <a:avLst/>
                <a:gdLst/>
                <a:ahLst/>
                <a:rect l="l" t="t" r="r" b="b"/>
                <a:pathLst>
                  <a:path w="1914" h="1829">
                    <a:moveTo>
                      <a:pt x="340" y="254"/>
                    </a:moveTo>
                    <a:cubicBezTo>
                      <a:pt x="349" y="358"/>
                      <a:pt x="343" y="429"/>
                      <a:pt x="374" y="517"/>
                    </a:cubicBezTo>
                    <a:cubicBezTo>
                      <a:pt x="394" y="667"/>
                      <a:pt x="396" y="619"/>
                      <a:pt x="382" y="864"/>
                    </a:cubicBezTo>
                    <a:cubicBezTo>
                      <a:pt x="381" y="873"/>
                      <a:pt x="380" y="883"/>
                      <a:pt x="374" y="889"/>
                    </a:cubicBezTo>
                    <a:cubicBezTo>
                      <a:pt x="358" y="905"/>
                      <a:pt x="334" y="910"/>
                      <a:pt x="315" y="923"/>
                    </a:cubicBezTo>
                    <a:cubicBezTo>
                      <a:pt x="291" y="959"/>
                      <a:pt x="260" y="994"/>
                      <a:pt x="230" y="1025"/>
                    </a:cubicBezTo>
                    <a:cubicBezTo>
                      <a:pt x="211" y="1079"/>
                      <a:pt x="203" y="1163"/>
                      <a:pt x="171" y="1211"/>
                    </a:cubicBezTo>
                    <a:cubicBezTo>
                      <a:pt x="151" y="1240"/>
                      <a:pt x="97" y="1318"/>
                      <a:pt x="86" y="1347"/>
                    </a:cubicBezTo>
                    <a:cubicBezTo>
                      <a:pt x="69" y="1393"/>
                      <a:pt x="66" y="1446"/>
                      <a:pt x="44" y="1491"/>
                    </a:cubicBezTo>
                    <a:cubicBezTo>
                      <a:pt x="34" y="1511"/>
                      <a:pt x="20" y="1530"/>
                      <a:pt x="10" y="1550"/>
                    </a:cubicBezTo>
                    <a:cubicBezTo>
                      <a:pt x="13" y="1640"/>
                      <a:pt x="0" y="1732"/>
                      <a:pt x="18" y="1821"/>
                    </a:cubicBezTo>
                    <a:cubicBezTo>
                      <a:pt x="20" y="1829"/>
                      <a:pt x="262" y="1809"/>
                      <a:pt x="272" y="1813"/>
                    </a:cubicBezTo>
                    <a:cubicBezTo>
                      <a:pt x="634" y="1810"/>
                      <a:pt x="809" y="1796"/>
                      <a:pt x="1170" y="1779"/>
                    </a:cubicBezTo>
                    <a:cubicBezTo>
                      <a:pt x="1176" y="1779"/>
                      <a:pt x="1221" y="1790"/>
                      <a:pt x="1229" y="1745"/>
                    </a:cubicBezTo>
                    <a:cubicBezTo>
                      <a:pt x="1239" y="1690"/>
                      <a:pt x="1190" y="1640"/>
                      <a:pt x="1229" y="1601"/>
                    </a:cubicBezTo>
                    <a:cubicBezTo>
                      <a:pt x="1235" y="1583"/>
                      <a:pt x="1274" y="1458"/>
                      <a:pt x="1280" y="1440"/>
                    </a:cubicBezTo>
                    <a:cubicBezTo>
                      <a:pt x="1290" y="1368"/>
                      <a:pt x="1270" y="1283"/>
                      <a:pt x="1280" y="1211"/>
                    </a:cubicBezTo>
                    <a:cubicBezTo>
                      <a:pt x="1285" y="1192"/>
                      <a:pt x="1366" y="1132"/>
                      <a:pt x="1382" y="1118"/>
                    </a:cubicBezTo>
                    <a:cubicBezTo>
                      <a:pt x="1397" y="1105"/>
                      <a:pt x="1433" y="1084"/>
                      <a:pt x="1433" y="1084"/>
                    </a:cubicBezTo>
                    <a:cubicBezTo>
                      <a:pt x="1444" y="1067"/>
                      <a:pt x="1481" y="932"/>
                      <a:pt x="1492" y="915"/>
                    </a:cubicBezTo>
                    <a:cubicBezTo>
                      <a:pt x="1536" y="884"/>
                      <a:pt x="1630" y="949"/>
                      <a:pt x="1695" y="898"/>
                    </a:cubicBezTo>
                    <a:cubicBezTo>
                      <a:pt x="1812" y="858"/>
                      <a:pt x="1814" y="703"/>
                      <a:pt x="1882" y="610"/>
                    </a:cubicBezTo>
                    <a:cubicBezTo>
                      <a:pt x="1914" y="521"/>
                      <a:pt x="1874" y="458"/>
                      <a:pt x="1865" y="406"/>
                    </a:cubicBezTo>
                    <a:cubicBezTo>
                      <a:pt x="1836" y="373"/>
                      <a:pt x="1859" y="329"/>
                      <a:pt x="1822" y="313"/>
                    </a:cubicBezTo>
                    <a:cubicBezTo>
                      <a:pt x="1796" y="302"/>
                      <a:pt x="1773" y="280"/>
                      <a:pt x="1746" y="271"/>
                    </a:cubicBezTo>
                    <a:cubicBezTo>
                      <a:pt x="1719" y="262"/>
                      <a:pt x="1697" y="247"/>
                      <a:pt x="1670" y="237"/>
                    </a:cubicBezTo>
                    <a:cubicBezTo>
                      <a:pt x="1658" y="219"/>
                      <a:pt x="1529" y="179"/>
                      <a:pt x="1517" y="161"/>
                    </a:cubicBezTo>
                    <a:cubicBezTo>
                      <a:pt x="1492" y="124"/>
                      <a:pt x="1544" y="48"/>
                      <a:pt x="1517" y="17"/>
                    </a:cubicBezTo>
                    <a:cubicBezTo>
                      <a:pt x="1514" y="15"/>
                      <a:pt x="1470" y="1"/>
                      <a:pt x="1467" y="0"/>
                    </a:cubicBezTo>
                    <a:cubicBezTo>
                      <a:pt x="1450" y="3"/>
                      <a:pt x="1431" y="0"/>
                      <a:pt x="1416" y="8"/>
                    </a:cubicBezTo>
                    <a:cubicBezTo>
                      <a:pt x="1407" y="13"/>
                      <a:pt x="1407" y="27"/>
                      <a:pt x="1399" y="34"/>
                    </a:cubicBezTo>
                    <a:cubicBezTo>
                      <a:pt x="1384" y="48"/>
                      <a:pt x="1367" y="62"/>
                      <a:pt x="1348" y="68"/>
                    </a:cubicBezTo>
                    <a:cubicBezTo>
                      <a:pt x="1265" y="96"/>
                      <a:pt x="1177" y="97"/>
                      <a:pt x="1094" y="127"/>
                    </a:cubicBezTo>
                    <a:cubicBezTo>
                      <a:pt x="1088" y="135"/>
                      <a:pt x="1085" y="145"/>
                      <a:pt x="1077" y="152"/>
                    </a:cubicBezTo>
                    <a:cubicBezTo>
                      <a:pt x="1062" y="165"/>
                      <a:pt x="1026" y="186"/>
                      <a:pt x="1026" y="186"/>
                    </a:cubicBezTo>
                    <a:lnTo>
                      <a:pt x="848" y="271"/>
                    </a:lnTo>
                    <a:cubicBezTo>
                      <a:pt x="786" y="292"/>
                      <a:pt x="726" y="311"/>
                      <a:pt x="662" y="322"/>
                    </a:cubicBezTo>
                    <a:cubicBezTo>
                      <a:pt x="593" y="317"/>
                      <a:pt x="564" y="321"/>
                      <a:pt x="509" y="305"/>
                    </a:cubicBezTo>
                    <a:cubicBezTo>
                      <a:pt x="483" y="298"/>
                      <a:pt x="433" y="274"/>
                      <a:pt x="408" y="262"/>
                    </a:cubicBezTo>
                    <a:cubicBezTo>
                      <a:pt x="399" y="258"/>
                      <a:pt x="392" y="247"/>
                      <a:pt x="382" y="246"/>
                    </a:cubicBezTo>
                    <a:cubicBezTo>
                      <a:pt x="368" y="244"/>
                      <a:pt x="354" y="251"/>
                      <a:pt x="340" y="254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92960" y="4140000"/>
                <a:ext cx="244224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maining Valu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15920" y="2447640"/>
                <a:ext cx="1882800" cy="1386000"/>
              </a:xfrm>
              <a:custGeom>
                <a:avLst/>
                <a:gdLst/>
                <a:ahLst/>
                <a:rect l="l" t="t" r="r" b="b"/>
                <a:pathLst>
                  <a:path w="1186" h="873">
                    <a:moveTo>
                      <a:pt x="647" y="94"/>
                    </a:moveTo>
                    <a:cubicBezTo>
                      <a:pt x="615" y="86"/>
                      <a:pt x="586" y="66"/>
                      <a:pt x="554" y="60"/>
                    </a:cubicBezTo>
                    <a:cubicBezTo>
                      <a:pt x="515" y="53"/>
                      <a:pt x="475" y="55"/>
                      <a:pt x="435" y="52"/>
                    </a:cubicBezTo>
                    <a:cubicBezTo>
                      <a:pt x="395" y="44"/>
                      <a:pt x="358" y="34"/>
                      <a:pt x="317" y="27"/>
                    </a:cubicBezTo>
                    <a:cubicBezTo>
                      <a:pt x="185" y="40"/>
                      <a:pt x="152" y="0"/>
                      <a:pt x="122" y="94"/>
                    </a:cubicBezTo>
                    <a:cubicBezTo>
                      <a:pt x="128" y="206"/>
                      <a:pt x="167" y="313"/>
                      <a:pt x="46" y="357"/>
                    </a:cubicBezTo>
                    <a:cubicBezTo>
                      <a:pt x="28" y="406"/>
                      <a:pt x="21" y="459"/>
                      <a:pt x="3" y="509"/>
                    </a:cubicBezTo>
                    <a:cubicBezTo>
                      <a:pt x="6" y="557"/>
                      <a:pt x="0" y="702"/>
                      <a:pt x="54" y="747"/>
                    </a:cubicBezTo>
                    <a:cubicBezTo>
                      <a:pt x="84" y="773"/>
                      <a:pt x="135" y="779"/>
                      <a:pt x="173" y="789"/>
                    </a:cubicBezTo>
                    <a:cubicBezTo>
                      <a:pt x="263" y="812"/>
                      <a:pt x="354" y="833"/>
                      <a:pt x="444" y="857"/>
                    </a:cubicBezTo>
                    <a:cubicBezTo>
                      <a:pt x="514" y="809"/>
                      <a:pt x="432" y="873"/>
                      <a:pt x="478" y="814"/>
                    </a:cubicBezTo>
                    <a:cubicBezTo>
                      <a:pt x="492" y="797"/>
                      <a:pt x="510" y="785"/>
                      <a:pt x="528" y="772"/>
                    </a:cubicBezTo>
                    <a:cubicBezTo>
                      <a:pt x="567" y="744"/>
                      <a:pt x="620" y="744"/>
                      <a:pt x="664" y="730"/>
                    </a:cubicBezTo>
                    <a:cubicBezTo>
                      <a:pt x="698" y="707"/>
                      <a:pt x="743" y="688"/>
                      <a:pt x="783" y="679"/>
                    </a:cubicBezTo>
                    <a:cubicBezTo>
                      <a:pt x="859" y="627"/>
                      <a:pt x="947" y="605"/>
                      <a:pt x="1037" y="594"/>
                    </a:cubicBezTo>
                    <a:cubicBezTo>
                      <a:pt x="1079" y="581"/>
                      <a:pt x="1119" y="568"/>
                      <a:pt x="1155" y="543"/>
                    </a:cubicBezTo>
                    <a:cubicBezTo>
                      <a:pt x="1166" y="512"/>
                      <a:pt x="1186" y="465"/>
                      <a:pt x="1164" y="433"/>
                    </a:cubicBezTo>
                    <a:cubicBezTo>
                      <a:pt x="1163" y="432"/>
                      <a:pt x="1097" y="418"/>
                      <a:pt x="1087" y="416"/>
                    </a:cubicBezTo>
                    <a:cubicBezTo>
                      <a:pt x="1057" y="402"/>
                      <a:pt x="1024" y="369"/>
                      <a:pt x="986" y="348"/>
                    </a:cubicBezTo>
                    <a:cubicBezTo>
                      <a:pt x="949" y="335"/>
                      <a:pt x="896" y="301"/>
                      <a:pt x="859" y="289"/>
                    </a:cubicBezTo>
                    <a:cubicBezTo>
                      <a:pt x="829" y="269"/>
                      <a:pt x="836" y="202"/>
                      <a:pt x="808" y="179"/>
                    </a:cubicBezTo>
                    <a:cubicBezTo>
                      <a:pt x="727" y="112"/>
                      <a:pt x="687" y="69"/>
                      <a:pt x="579" y="69"/>
                    </a:cubicBezTo>
                  </a:path>
                </a:pathLst>
              </a:custGeom>
              <a:solidFill>
                <a:srgbClr val="009999"/>
              </a:solidFill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87320" y="2438280"/>
                <a:ext cx="496800" cy="869760"/>
              </a:xfrm>
              <a:custGeom>
                <a:avLst/>
                <a:gdLst/>
                <a:ahLst/>
                <a:rect l="l" t="t" r="r" b="b"/>
                <a:pathLst>
                  <a:path w="313" h="548">
                    <a:moveTo>
                      <a:pt x="282" y="31"/>
                    </a:moveTo>
                    <a:cubicBezTo>
                      <a:pt x="310" y="60"/>
                      <a:pt x="237" y="126"/>
                      <a:pt x="271" y="148"/>
                    </a:cubicBezTo>
                    <a:cubicBezTo>
                      <a:pt x="293" y="180"/>
                      <a:pt x="313" y="217"/>
                      <a:pt x="288" y="258"/>
                    </a:cubicBezTo>
                    <a:cubicBezTo>
                      <a:pt x="279" y="272"/>
                      <a:pt x="258" y="338"/>
                      <a:pt x="240" y="345"/>
                    </a:cubicBezTo>
                    <a:cubicBezTo>
                      <a:pt x="224" y="395"/>
                      <a:pt x="260" y="407"/>
                      <a:pt x="215" y="438"/>
                    </a:cubicBezTo>
                    <a:cubicBezTo>
                      <a:pt x="198" y="456"/>
                      <a:pt x="196" y="532"/>
                      <a:pt x="172" y="540"/>
                    </a:cubicBezTo>
                    <a:cubicBezTo>
                      <a:pt x="148" y="548"/>
                      <a:pt x="90" y="509"/>
                      <a:pt x="68" y="486"/>
                    </a:cubicBezTo>
                    <a:cubicBezTo>
                      <a:pt x="35" y="454"/>
                      <a:pt x="31" y="447"/>
                      <a:pt x="42" y="402"/>
                    </a:cubicBezTo>
                    <a:cubicBezTo>
                      <a:pt x="32" y="369"/>
                      <a:pt x="0" y="309"/>
                      <a:pt x="0" y="309"/>
                    </a:cubicBezTo>
                    <a:cubicBezTo>
                      <a:pt x="12" y="247"/>
                      <a:pt x="6" y="268"/>
                      <a:pt x="59" y="249"/>
                    </a:cubicBezTo>
                    <a:cubicBezTo>
                      <a:pt x="70" y="232"/>
                      <a:pt x="82" y="215"/>
                      <a:pt x="93" y="198"/>
                    </a:cubicBezTo>
                    <a:cubicBezTo>
                      <a:pt x="99" y="190"/>
                      <a:pt x="164" y="74"/>
                      <a:pt x="164" y="74"/>
                    </a:cubicBezTo>
                    <a:cubicBezTo>
                      <a:pt x="164" y="73"/>
                      <a:pt x="121" y="118"/>
                      <a:pt x="127" y="114"/>
                    </a:cubicBezTo>
                    <a:cubicBezTo>
                      <a:pt x="135" y="118"/>
                      <a:pt x="214" y="28"/>
                      <a:pt x="240" y="14"/>
                    </a:cubicBezTo>
                    <a:cubicBezTo>
                      <a:pt x="266" y="0"/>
                      <a:pt x="273" y="28"/>
                      <a:pt x="282" y="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952880" y="396252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9520" y="1828800"/>
            <a:ext cx="53341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ir nuevos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reservas utilizando leyes de c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errar reservas que no pagan ley de c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r la extracción del peri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el valor remanente del depó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ar al próximo periodo del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final calcular vector de costos de oport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r costos de oportunidad a la estructura de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petir el programa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71200" y="274320"/>
            <a:ext cx="69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a Optimiz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se desea optimizar el valor presente neto del proyecto o plan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863800" y="2895480"/>
                <a:ext cx="28069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2897280" y="36576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352680" y="4038480"/>
                <a:ext cx="1676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133720" y="4724280"/>
                <a:ext cx="355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505960" y="4836960"/>
            <a:ext cx="63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de actualización de los flujos obtenidos en el periodo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133720" y="5257800"/>
                <a:ext cx="296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519640" y="527220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ursos Remanentes en el periodo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486400" y="4114800"/>
                <a:ext cx="9907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teració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548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teració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35480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teració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93880" y="1862280"/>
            <a:ext cx="73548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xtracción de recursos basados en políticas de leyes de c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93432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sto de oportunidad para distintas iter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s de producción resul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6934320" cy="3889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257800" y="54100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últiples iteraciones y su influencia en el programa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corporación del componente dV/d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5257800" cy="2903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575080" y="171288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alúa recursos remanentes utilizando precios del periodo t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fecto de variación de precios en una política de leyes de c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1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ga que la función de costo está dad p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 el precio está dado 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btenga una relación para el costo de oportunidad en el tiempo. Expl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76720" y="2590920"/>
                <a:ext cx="1828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352680" y="3886200"/>
                <a:ext cx="1143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ía de Ho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simplifican las restricciones para realizar la extracción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ntabilidad marginal de la extracción de una tonelada de mineral debe crecer en la proporción definida por la tasa de descu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competencia perf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xiste asimetría ni de información ni tecn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extracción mineral para que sea óptima debe generar un perfil de precios que aumente en valor absoluto en la misma tasa que la tasa de descuento utilizada en la ind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248520" y="1600200"/>
                <a:ext cx="16239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4000" y="2286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705720" y="2590920"/>
                <a:ext cx="1203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105520" y="3505320"/>
                <a:ext cx="36558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μ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34120" y="4572000"/>
                <a:ext cx="2116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34120" y="5410080"/>
                <a:ext cx="2087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ngrangi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000080" y="2523960"/>
                <a:ext cx="297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455120" y="251460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ocida la envolvente de reserva base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990720" y="2895480"/>
                <a:ext cx="257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454400" y="2971800"/>
            <a:ext cx="55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 parámetro en la optimización y no una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781280" y="4800600"/>
                <a:ext cx="57322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l Langrang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152360" y="2666880"/>
                <a:ext cx="31384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143000" y="3581280"/>
                <a:ext cx="2666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43000" y="1752480"/>
                <a:ext cx="5732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343400" y="32004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486400" y="3048120"/>
                <a:ext cx="2666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/>
                    </m:d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5099040" y="4038480"/>
            <a:ext cx="40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valor óptimo de producción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e cuando la utilidad mar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igual al costo marginal más un costo de depreciación del activo mi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rpretación de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90720" y="1905120"/>
                <a:ext cx="2361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p/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δV</m:t>
                                </m:r>
                              </m:e>
                              <m:sup/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p/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286000" y="2971800"/>
                <a:ext cx="1685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τ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δV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0" y="4648320"/>
                <a:ext cx="12096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δV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lazando la Teoría de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óptimo de producción se produce en el punto donde la estrategia de producción paga los costos marginales y de oportun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133720" y="3809880"/>
                <a:ext cx="35812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δV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ey de corte marg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62120" y="2362320"/>
                <a:ext cx="4211640" cy="34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costo min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$/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costo plant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$/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costo refinamient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$/meta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precio del met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$/meta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 recuperación metalurgic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6170400" y="222264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5530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03360" y="2222640"/>
            <a:ext cx="53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39152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3640" y="321300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556320" y="3200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06600" y="3213000"/>
            <a:ext cx="53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94400" y="3200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5:29:27Z</dcterms:created>
  <dc:creator>enriquer</dc:creator>
  <dc:description/>
  <dc:language>en-US</dc:language>
  <cp:lastModifiedBy>Enrique Rubio</cp:lastModifiedBy>
  <dcterms:modified xsi:type="dcterms:W3CDTF">2006-04-05T22:40:05Z</dcterms:modified>
  <cp:revision>163</cp:revision>
  <dc:subject/>
  <dc:title>Slide 1</dc:title>
</cp:coreProperties>
</file>