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406-BD8E-45D5-B746-385144A8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1EE-1880-4734-AADF-DF1AFCA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F03-9C89-4437-A8CF-2430D35B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39A-37F3-4262-B4BD-D10503C1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6530-38DA-4D5F-B84B-9D424548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02F-487D-4B3B-978C-1118BFA1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A2DC-91E9-4A9E-B3DA-F8FC2879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0A6-56ED-4861-8C12-1EAC03AF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34B-FDD3-4D58-9080-53B3C3C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9759-0E38-46F0-A13D-B58CF99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7C30-ACF7-453D-BA94-F4A5C4E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972-0CA1-479F-895F-5A5985E9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52E-7BC8-434E-BFA8-19F2DA5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C882-121F-4848-A1E9-7B34CBA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E54F-D54E-4BBB-B575-A4993B44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76CC-501F-419A-B373-9AFB9171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431A-FE42-404E-9F56-64C78C9D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24F-A8C5-472C-BEBF-66A11D44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FBB-6DFE-421B-8224-FD3DD9F7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606-D270-4E94-9D1B-C9AD056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F4B-8631-442C-B96D-95FE4BB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6B7-E381-4D74-A871-9DB903E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73A-66E3-47CE-9849-43812AD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8E5-95FE-4A59-A783-DD89D58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D18-2CEA-4581-8215-A0A3C5345A6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2985-C47A-40D8-83B5-8F19D953AC5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l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estructuración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as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s muestra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buscan caracterizar el valor desconoci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por una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743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estructu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ntinuidad espacial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ci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ondb1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as muestra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knife”: estimar 902 muestras a partir de las 1474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ross_histplt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anco%20real-KO-varKO%20256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anco%20real-KS-varKS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Banco%20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anco%202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fectos financieros (evaluación del proyecto minero)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, posi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el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muestras en la vecindad de kriging, distancia promedio de las muestras cercana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Banco%2025m%20explotacion%20color256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config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tipo%20model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estructuración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continu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KI1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I2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KI3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KI4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KI5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KIasc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1" name="KIdes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KIcorr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KIinterp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KIchangesupport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estructuración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28T16:33:37Z</dcterms:modified>
  <cp:revision>158</cp:revision>
  <dc:subject/>
  <dc:title>Sin título de diapositiva</dc:title>
</cp:coreProperties>
</file>