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535-7D34-48A8-90EC-0E6AF1D8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BD3-33FE-46F3-91FA-C8977EE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25F-E6A7-4F07-ACB2-44327B3B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F9B-5D78-4FFF-B879-C11843C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2D24-34EE-4CBB-8A51-FE8CDE59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36D3-EF4A-4710-9C70-4045D26E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5307-2DDA-48B7-AFAF-3EC97E6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7AF-E1F4-4E02-B184-3C435E17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547F-AFC7-46DF-8346-9F71D22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D7BE-A1D1-424E-B7E0-1FBE010E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864-274D-4AD5-94AD-7D002DF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B14-2763-4FD4-A548-D557BCD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08D1-7949-4EE6-A8FC-4F831A3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4E1E-C68F-44C4-A94E-46F24056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F46-78B4-443A-8266-D6A637D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084B-9530-49E9-A140-FD1AAE0F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433E-10D4-4C39-82CE-406A6EEF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F28-D4B1-42B7-8D7B-02C28EE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700-7CBB-4394-B37C-0727FBE9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D72-EE4F-4E48-B299-84EFB827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A65-1253-4C31-ABD9-88E9FC6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F01-743E-4331-911E-27CBEBA2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1C1-156C-45C8-BCF9-BF50C88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B7B1-C3C6-408F-95D0-7F0919B1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52A3-BE1D-4E9C-B229-77D38C385884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208-06A3-4815-B4DA-CC5C299A96A2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236232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Lecci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1" lang="en-US" sz="6000" spc="-1" strike="noStrike" u="sng">
                <a:solidFill>
                  <a:srgbClr val="0c4010"/>
                </a:solidFill>
                <a:uFillTx/>
                <a:latin typeface="Times New Roman"/>
              </a:rPr>
              <a:t>n 4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La estimaci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  <a:ea typeface="Times New Roman"/>
              </a:rPr>
              <a:t>ó</a:t>
            </a:r>
            <a:r>
              <a:rPr b="1" lang="en-US" sz="6000" spc="-1" strike="noStrike">
                <a:solidFill>
                  <a:srgbClr val="0c4010"/>
                </a:solidFill>
                <a:latin typeface="Times New Roman"/>
              </a:rPr>
              <a:t>n lo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l modelo probab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tico, el error cometido debe tener una esperanza n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1306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estimador no tiende a sobreestimar o subestimar el valor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al descono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Nota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) las may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se refieren a las magnitudes aleatorias, las 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culas a l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magnitudes determi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icas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2) el asterisco indica una estimaci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352680"/>
            <a:ext cx="3733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 = 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busca minimizar la varianza del error cometido, que mide la amplitud potencial de dich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13064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úsqueda de la precisión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352680"/>
            <a:ext cx="3962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ar var[Z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Cuáles son los datos a utilizar en la estimación?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3018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utilizar todos los datos disponible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n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o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una parte de ellos (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403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umenta innecesariamente los tiempos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de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lculo sin mejorar la precisión de la estimación, por lo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que se prefiere a menudo trabajar con un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 que especificar la forma y el tamaño de est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cin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alabr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ecin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refiere a la zona del espacio, centrada en el sitio a estimar, donde se busca los datos que servi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3018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lmente, la vecindad debería tener la forma de las curvas de isovalores del mapa variográfico, para tomar en cuenta la anisotropía en la correlación espacial de los datos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657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suele tomar una vecindad en forma de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D) 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psoid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D), lo cual corresponde teóricamente a una anisotropía geométric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en sectores ang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partición de los datos en torno al sitio a estimar, es recomendable dividir la vecindad en sectores angulares y buscar datos en cada sector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octantes" descr=""/>
          <p:cNvPicPr/>
          <p:nvPr/>
        </p:nvPicPr>
        <p:blipFill>
          <a:blip r:embed="rId2"/>
          <a:stretch/>
        </p:blipFill>
        <p:spPr>
          <a:xfrm>
            <a:off x="2077920" y="3508200"/>
            <a:ext cx="500868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de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ecindad m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arámetros más relevantes a considerar son: el alcance del variograma y la densidad del muestre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276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aumenta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527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es que inducen a disminuir el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50608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bios en la estructuración espacial, irrelevancia de los datos lejanos, poca confiabilidad del variograma para las distancias muy grandes, tiempos de cálc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8098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, insesgo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ci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cru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018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plan de kriging, se puede recurrir a la validación cruzada: probar varios planes y escoger aquel que entrega los resultados más satisfac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657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alcan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267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283356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Varios tipos de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lor promedi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ariable regionalizada,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l cual se asume representativo de cada región del espa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2162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resenta un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ese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84480" y="3695760"/>
                <a:ext cx="289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2590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e los estimadores tradicionales a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828800" y="2933640"/>
                <a:ext cx="609588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5433840"/>
                <a:ext cx="198108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62120" y="48243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anular esta esperanza, se plan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7200" y="3276720"/>
                <a:ext cx="85345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[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]</m:t>
                                </m:r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β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β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685800" y="512136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requiere anular las derivadas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 respecto a las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llega al siguiente sistema de ecuacione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 rot="5400000">
            <a:off x="54100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 rot="5400000">
            <a:off x="7924680" y="41900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4970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4952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62120" y="2986200"/>
                <a:ext cx="7924680" cy="17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276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inses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133720" y="3249720"/>
                <a:ext cx="48765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e anulan y el estimador es igual a la media conoci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es igual a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simple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9401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KS espagnol" descr=""/>
          <p:cNvPicPr/>
          <p:nvPr/>
        </p:nvPicPr>
        <p:blipFill>
          <a:blip r:embed="rId2"/>
          <a:stretch/>
        </p:blipFill>
        <p:spPr>
          <a:xfrm>
            <a:off x="222120" y="4083120"/>
            <a:ext cx="8693280" cy="246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62120" y="354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549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3549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so de la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631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dia tiene un peso complementario al peso acumulado de los datos. Su rol es compensar la falta de información cuando los datos son escasos o alej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23018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conoce el valor promedio de la variable region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oce el variogram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l cual puede o no tener mese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862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onsiderar el valor de la media como desconocido permite generalizar el estimador a situaciones donde esta media no es constante en el campo: la media puede variar de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a otra del espacio, siempre que sea aproximadamente constante en cada vecindad de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235320" y="3695760"/>
                <a:ext cx="2900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2286000"/>
            <a:ext cx="7772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en un sitio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e escribe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lineal ponderada de los datos circundantes, ubicados en los sitios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esper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752480" y="2865600"/>
                <a:ext cx="62485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85800" y="4724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end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sconocida, la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 alternativa es plant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595680" y="5372280"/>
                <a:ext cx="219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ción de optim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expresa en fun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ri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4920" y="3429000"/>
                <a:ext cx="868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Z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β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H="1">
            <a:off x="281916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342900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58784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inim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esta expre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bajo l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insesgo requiere introducir una in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nita adicional llamad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multiplicador de Lagrang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denominad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ecu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 rot="5400000">
            <a:off x="449568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 rot="5400000">
            <a:off x="7315200" y="42804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0608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s redundancias entr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043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ide la influencia de los datos sobre el valor a esti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29000" y="266616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600200" y="2449440"/>
                <a:ext cx="6567480" cy="25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α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/>
                            </m:limUp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trod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828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514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stimación local consiste en evaluar el valor de la variable regionalizada en un sitio no muestreado del espacio, utilizando para ello los datos circundantes disponibles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886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imismo, se puede evaluar el valor promedio de la variable en un soporte mayor que el soporte de las mues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765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286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alor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 de la varianza del error de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llama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y v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943360" y="3352680"/>
                <a:ext cx="3457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62120" y="4648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particular de un efecto pepita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273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onderadores son iguales a 1/n, de modo que el estimador coincide con la media aritmética de los da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La varianza de kriging supera levemente la varianz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ordinario (7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600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ustración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esférico de meseta 1 en una dimen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20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anza de kri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KO2 espagnol" descr=""/>
          <p:cNvPicPr/>
          <p:nvPr/>
        </p:nvPicPr>
        <p:blipFill>
          <a:blip r:embed="rId2"/>
          <a:stretch/>
        </p:blipFill>
        <p:spPr>
          <a:xfrm>
            <a:off x="1447920" y="2709720"/>
            <a:ext cx="60246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tros tipos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447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otras variantes del kri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514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int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s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3048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con deriv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35812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igon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114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transitiv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se plantea en un marco 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648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aleatori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pos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s muestras es inc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181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lognorm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recurre a una transformada loga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715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de indicador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kriging disyuntivo, kriging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 multigaussian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buscan caracterizar el valor desconocido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por una distribución de prob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5680" y="205740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7432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co n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" action="ppaction://hlinksldjump"/>
          </p:cNvPr>
          <p:cNvSpPr/>
          <p:nvPr/>
        </p:nvSpPr>
        <p:spPr>
          <a:xfrm>
            <a:off x="8528040" y="608976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95280" y="283356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Propiedade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066680" y="457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Observaciones sobre el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523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toma en cu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133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geométri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distancias entre el sitio a estimar y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los datos; redundancias entre l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0481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spectos estructu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continuidad espacial, anisotro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3733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onderadores y la varianza de kriging no toman en cuenta los valores de los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4648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vo excepciones, los ponderadores de kriging pueden ser negativos, lo que a veces desemboca en estimaciones neg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638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istema de kriging es regular (entrega una solu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ca) siempre que no existan datos dupli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6923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terpo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xa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un sitio con dato devuelv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valor medido en este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26067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estimados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menor que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os valores verda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3505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iende a subestimar las zonas de altas ley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y sobreestimar las zonas de bajas l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l kriging del valor promedio de un sector es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l promedio de las estimaciones puntuales en es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34996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sesg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la media de los errores cometidos en una reg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de gran tam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 acerca a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ropiedades del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esgo condi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 las zonas cuya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imaci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supera una</a:t>
            </a:r>
            <a:br>
              <a:rPr sz="2400"/>
            </a:b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 ley de cort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la media de los errores puede diferir de c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286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dad a evitar o minimizar, de lo contrario se incurr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n una mala apreci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valor del negocio mi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3124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ir una vecindad de kriging suficientement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ondb1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28020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600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también puede emplearse para estimar el valor de la variable regionalizada sobre un soporte mayor que el soporte de las muestras (“bloqu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048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13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cretizar el bloque en muchos puntos, estimar el valor de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cada punto y promediar las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425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aluar directamente el valor del bloque, sin recurrir a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estimacione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495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o en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s; no permite calcular la varianza de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 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600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lantear las tres etapas de constru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kriging conduce al sistema de kriging de blo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26226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e sistema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difiere del sistema puntual en el miembro de la derecha. El 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culo numérico de este miembro requiere una discretiz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(no confundir con una estim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l bloque vía discretización en varios pun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19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kriging de bloques posee las siguientes propiedad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21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avi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5378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sesgo, pero posible sesgo con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5835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i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2514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plicaci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ó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n a los </a:t>
            </a:r>
            <a:br>
              <a:rPr sz="4800"/>
            </a:b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datos minero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 introdu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ara tres planes de kriging por “jackknife”: estimar 902 muestras a partir de las 1474 restantes. La variable en estudio es la ley de co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1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3733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24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3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lan 3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estimar con los 48 datos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cercanos (6 por oct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334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ada caso, se recurre al kriging ordinario, que 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requiere especificar el modelo variogr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co (media desconoci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istogramas de los errores comet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cross_histplt" descr=""/>
          <p:cNvPicPr/>
          <p:nvPr/>
        </p:nvPicPr>
        <p:blipFill>
          <a:blip r:embed="rId2"/>
          <a:stretch/>
        </p:blipFill>
        <p:spPr>
          <a:xfrm>
            <a:off x="115920" y="2514600"/>
            <a:ext cx="8875800" cy="237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5800" y="51814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edias de los errores son casi nulas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ins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791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ayor preci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se alcanza en los planes 2 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66680" y="457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le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ubes de correlaci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 entre leyes reales y esti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425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sesgo condicional y la dispers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de la nube son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mos en los planes 2 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cross_scatplt2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55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0588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las leyes en un banco con el pla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Banco%20real-KO-varKO%20256" descr=""/>
          <p:cNvPicPr/>
          <p:nvPr/>
        </p:nvPicPr>
        <p:blipFill>
          <a:blip r:embed="rId2"/>
          <a:stretch/>
        </p:blipFill>
        <p:spPr>
          <a:xfrm>
            <a:off x="152280" y="2820960"/>
            <a:ext cx="88394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simple de las leyes (media = 0.98% 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anco%20real-KS-varKS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2133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Banco%20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9480" y="2133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Kriging ordinario de bloques de soporte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25m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anco%2025m%20real-KO-varKO%20color%20256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8839440" cy="32004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las leyes de cobre a partir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 las muestras de explo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todos los bloques estimados tienen el mismo grado de confiabilidad. Por ende, se suele definir varias categorías de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895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di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mayor grado de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352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confiabilidad me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feri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poca 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4527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recursos medidos + indicados se denominan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emostr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son aquellos que se consideran para efectos financieros (evaluación del proyecto minero). Ahora bien, la definición de cada categoría es muy vaga y depende en gran parte del criterio del especial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 una categorización similar para las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serv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probadas, probables, posibles), que son la frac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de los recursos que se puede explotar técnica y econó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29592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manera de identificar las categorías consiste en clasificar los bloques según su varianza de estimación (la definición de las varianzas límites debe tomar en cuenta el tipo de yacimiento y el muestre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47242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tros criteri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 número de muestras en la vecindad de kriging, distancia promedio de las muestras cercanas, criterio geológic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pertinencia de la categor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ategorización de recurso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447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n ejemplo “molestoso”: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egoriza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a partir de dos medidas de incertidumbre (varianza de kriging y varianza de un conjunto de simulaciones condi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544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diferencia del kriging, las simulaciones condicionales toman en cuenta la mayor incertidumbre que existe en las zonas de altas leyes debido al efecto propor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ategorizacion" descr=""/>
          <p:cNvPicPr/>
          <p:nvPr/>
        </p:nvPicPr>
        <p:blipFill>
          <a:blip r:embed="rId2"/>
          <a:stretch/>
        </p:blipFill>
        <p:spPr>
          <a:xfrm>
            <a:off x="1600200" y="2744640"/>
            <a:ext cx="58690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más cercano vec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33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ibuye toda la ponderación al dato más cercano al sitio a estimar. En este caso se trata del dato ubicado en C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v" descr=""/>
          <p:cNvPicPr/>
          <p:nvPr/>
        </p:nvPicPr>
        <p:blipFill>
          <a:blip r:embed="rId2"/>
          <a:stretch/>
        </p:blipFill>
        <p:spPr>
          <a:xfrm>
            <a:off x="2970360" y="3200400"/>
            <a:ext cx="3354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Banco%2025m%20explotacion%20color256" descr=""/>
          <p:cNvPicPr/>
          <p:nvPr/>
        </p:nvPicPr>
        <p:blipFill>
          <a:blip r:embed="rId2"/>
          <a:stretch/>
        </p:blipFill>
        <p:spPr>
          <a:xfrm>
            <a:off x="212760" y="1828800"/>
            <a:ext cx="8702640" cy="31100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04920" y="5502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min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6 US$/t; costo planta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.4 US$/t; recuper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0.8; costo fundi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770 US$/t; precio cobre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70 US$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5029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tros asociados a una ley de corte de 0.5% C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Estimaci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n de las leyes de cobre a </a:t>
            </a:r>
            <a:br>
              <a:rPr sz="3600"/>
            </a:br>
            <a:r>
              <a:rPr b="1" lang="es-ES_tradnl" sz="3600" spc="-1" strike="noStrike">
                <a:solidFill>
                  <a:srgbClr val="15692b"/>
                </a:solidFill>
                <a:latin typeface="Times New Roman"/>
              </a:rPr>
              <a:t>partir de los pozos de tronadur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990720" y="4363920"/>
            <a:ext cx="7086600" cy="2113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3520" y="19051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sultados eco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icos para una ley de corte de 0.5%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rcRect l="14604" t="9858" r="43622" b="12775"/>
          <a:stretch/>
        </p:blipFill>
        <p:spPr>
          <a:xfrm>
            <a:off x="4114800" y="2335320"/>
            <a:ext cx="2093760" cy="2008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rcRect l="71404" t="31891" r="2039" b="33342"/>
          <a:stretch/>
        </p:blipFill>
        <p:spPr>
          <a:xfrm>
            <a:off x="1905120" y="2590920"/>
            <a:ext cx="1981080" cy="1452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rcRect l="12075" t="9736" r="43039" b="12871"/>
          <a:stretch/>
        </p:blipFill>
        <p:spPr>
          <a:xfrm>
            <a:off x="6019920" y="2332080"/>
            <a:ext cx="2184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685800" y="25909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Influencia de los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en los resultados del kri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figura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 kri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estimar el valor en el sitio “?” a partir de los valores muestreados en A, B, C, D, E, F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config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tipo%20model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parab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co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aussian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0.5) + pepita (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esferico%2005%20pepita%2005" descr=""/>
          <p:cNvPicPr/>
          <p:nvPr/>
        </p:nvPicPr>
        <p:blipFill>
          <a:blip r:embed="rId2"/>
          <a:stretch/>
        </p:blipFill>
        <p:spPr>
          <a:xfrm>
            <a:off x="114300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con discontinuidad en el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comportamiento del variograma en el origen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fecto pepita  puro (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epita%20puro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riograma lineal v/s variograma totalmente pep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meset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meset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57200" y="19810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toma el modelo esférico como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2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lcance%201-2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alcance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48320" y="2590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alcance%201-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r del inverso de la dis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133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gna a cada dato una ponderación inversamente proporcional a (una potencia de) su distancia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vd%201%202" descr=""/>
          <p:cNvPicPr/>
          <p:nvPr/>
        </p:nvPicPr>
        <p:blipFill>
          <a:blip r:embed="rId2"/>
          <a:stretch/>
        </p:blipFill>
        <p:spPr>
          <a:xfrm>
            <a:off x="1147680" y="3505320"/>
            <a:ext cx="6701040" cy="3200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43000" y="304812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inverso de la distancia        inverso del cuadrado de l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efecto de 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hoyo 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5909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seno cardinal (semi-per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odo 0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efecto%20de%20hoyo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 la anisotrop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í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del vari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66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anis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tropo (meseta 1, alcances 2 [N45E] y 0.5 [N45O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nisotropia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KO%20KS%20esf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simple u ordinario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36232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ord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0.5, meseta 1) kriging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KO%20KS%20esf%200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236232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pun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2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bloque%200%20-%20025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219320" y="22860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Influencia del tipo de kriging: puntual o de bloque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23623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0.5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23623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férico (alcance 1, meseta 1) kriging de un bloque 1.0 </a:t>
            </a:r>
            <a:r>
              <a:rPr b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bloque%2005%20-%201" descr=""/>
          <p:cNvPicPr/>
          <p:nvPr/>
        </p:nvPicPr>
        <p:blipFill>
          <a:blip r:embed="rId2"/>
          <a:stretch/>
        </p:blipFill>
        <p:spPr>
          <a:xfrm>
            <a:off x="1150920" y="3125880"/>
            <a:ext cx="67737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523880" y="4572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Ejerci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 un plan de kriging adecuado para las leyes de cobre y 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205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locxyz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26668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ndajes de exploraci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ó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timar las leyes de cobre y oro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 e 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strar las propiedades del kri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3886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kt3d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pixel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his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catpl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ond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" y="4467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partir de los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zos de tronadur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krigear las leyes de cobre en los bloques 25m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5m × 12m. Comparar los resultados económicos obtenidos con aquellos que se obtendrían al estimar cada bloque por su pozo cent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3d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90720" y="2482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Archivos de par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12490f"/>
                </a:solidFill>
                <a:latin typeface="Times New Roman"/>
              </a:rPr>
              <a:t>metros de los programas GSLi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1.dat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2.dat   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4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knife.dbg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0   0.5    1.0  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5    1.0  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1      1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locxy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7                       -   columns for X, Y,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-1.0e21   1.0e21            -   columns for Z and coordinate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998.0    1.0e21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apa_error_Cu_plan2.ps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400.                     -xmn,x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600.                     -ymn,y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data values, 1=cross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arithmetic, 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-0=gray scale,  1=color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-0=no labels,   1=label each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3.0    0.5                -gray/color scale: min, max, inc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   -label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447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áciles de ejecu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200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en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os estimadores no toman en cuenta la estructuración de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variable regionalizada: continuidad en el espacio, aniso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765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ás cercano vecino apantalla a todos los otros datos, lue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mite parte de la información. El inverso de la distancia n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idera las redundancias que existen entre datos agrup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14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mbos casos, el estimador privilegia los datos cerc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iden la precisión de la esti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33520" y="1498680"/>
            <a:ext cx="80769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HIS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7   0                        -   columns for variable and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e21     1.0e21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hist_error_Cu_plan2.ps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2.0      2.0               -attribute minimum and max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25                         -frequency maximum (&lt;0 for automat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-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arithmetic, 1=log sc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0=frequency,  1=cumulative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-   number of cum. quantiles (&lt;0 for 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-number of decimal places (&lt;0 for auto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.5                          -positioning of stats (L to R: -1 to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1e21                      -reference value for box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1467000"/>
            <a:ext cx="80769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SCATP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0    0                    -  columns for X, Y, wt, third v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-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catplt_Cu_plan2.ps               -file for Postscript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X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3.0      0                -Y min and max, (0=arith, 1=lo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                            -plot every nth data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5                               -bullet size: 0.1(sml)-1(reg)-10(bi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   2.0                      -limits for third variable gra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lan 2                            -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Plan de kriging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300560"/>
            <a:ext cx="80769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IAS: Conditional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jack_Cu_plan2.out                       \Input data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5   4                                   \column for estimate,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       \tmin,t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regresion.out            \Output for conditional b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0                                      \number of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condb_Cu_plan2_leyesmedias.out          \Output for mean above cut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0   0.0   0.1                          \number of cutoffs, start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muestras.dat              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r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1030320"/>
            <a:ext cx="80769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Parameters for KT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START OF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_desfasada.dat       -fil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1  2  3  4  0                 -   columns for DH,X,Y,Z,var,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-1.0   1.0e21                    -   trimming li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                            -option: 0=grid, 1=cross, 2=jackkn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Grilla_25x25.dat                 -file with jackknif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2   3    5    0              -   columns for X,Y,Z,vr and sec v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debugging level: 0,1,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t3d.dbg                         -file for debugging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kriging_Cu25_explotacion.out     -file for krig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6   12.5    25.0                -nx,xmn,x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4   12.5    25.0                -ny,ymn,y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1   11.0    12.0                -nz,zmn,zs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   10    1                     -x,y and z block discre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24                          -min, max data for kr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3                                -max per octant (0-&gt; not u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50.0              -maximum search rad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.0   0.0   0.0                 -angles for search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 2.302                      -0=SK,1=OK,2=non-st SK,3=ex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0 0 0 0 0 0 0 0                -drift: x,y,z,xx,yy,zz,xy,xz,z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0                                -0, variable; 1, estimate tr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extdrift.dat                     -gridded file with drift/m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                                -  column number in gridded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06                        -nst, nugg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    0.18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100.0  100.0  100.0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2    0.20  0.0   0.0   0.0       -it,cc,ang1,ang2,an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sz="1200" spc="-1" strike="noStrike">
                <a:solidFill>
                  <a:srgbClr val="000000"/>
                </a:solidFill>
                <a:latin typeface="Courier New"/>
              </a:rPr>
              <a:t>40.0   40.0  99999      -a_hmax, a_hmin, a_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bloqu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6002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2133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 caracterizar el valor en el sitio “?” por una distribución de probabilidad, la cual refleja la incertidumbre en este si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config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335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685800" y="1531800"/>
            <a:ext cx="8077320" cy="2462400"/>
          </a:xfrm>
          <a:prstGeom prst="rect">
            <a:avLst/>
          </a:prstGeom>
          <a:ln w="0">
            <a:noFill/>
          </a:ln>
        </p:spPr>
      </p:pic>
      <p:pic>
        <p:nvPicPr>
          <p:cNvPr id="426" name="KI1" descr=""/>
          <p:cNvPicPr/>
          <p:nvPr/>
        </p:nvPicPr>
        <p:blipFill>
          <a:blip r:embed="rId3"/>
          <a:stretch/>
        </p:blipFill>
        <p:spPr>
          <a:xfrm>
            <a:off x="4138560" y="4008600"/>
            <a:ext cx="3405240" cy="26971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4038480" y="3809880"/>
            <a:ext cx="9907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KI2" descr=""/>
          <p:cNvPicPr/>
          <p:nvPr/>
        </p:nvPicPr>
        <p:blipFill>
          <a:blip r:embed="rId4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5029200" y="3809880"/>
            <a:ext cx="457200" cy="228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KI3" descr=""/>
          <p:cNvPicPr/>
          <p:nvPr/>
        </p:nvPicPr>
        <p:blipFill>
          <a:blip r:embed="rId5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5943600" y="3809880"/>
            <a:ext cx="7632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KI4" descr=""/>
          <p:cNvPicPr/>
          <p:nvPr/>
        </p:nvPicPr>
        <p:blipFill>
          <a:blip r:embed="rId6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 flipH="1">
            <a:off x="6477120" y="3809880"/>
            <a:ext cx="457200" cy="1828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KI5" descr=""/>
          <p:cNvPicPr/>
          <p:nvPr/>
        </p:nvPicPr>
        <p:blipFill>
          <a:blip r:embed="rId7"/>
          <a:stretch/>
        </p:blipFill>
        <p:spPr>
          <a:xfrm>
            <a:off x="4138560" y="4006800"/>
            <a:ext cx="3405240" cy="26989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 flipH="1">
            <a:off x="6933960" y="3809880"/>
            <a:ext cx="9903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419112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estimación de cada indicador se interpreta como la probabilidad  que el valor verdadero sea menor que la ley de corte asoc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Kriging de indicadore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676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orregir las estimaciones para que sean crecientes entre 0 y 1, luego interpolarlas y hacer un eventual cambio de so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a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KIasc" descr=""/>
          <p:cNvPicPr/>
          <p:nvPr/>
        </p:nvPicPr>
        <p:blipFill>
          <a:blip r:embed="rId2"/>
          <a:stretch/>
        </p:blipFill>
        <p:spPr>
          <a:xfrm>
            <a:off x="485640" y="3267000"/>
            <a:ext cx="3857760" cy="3057480"/>
          </a:xfrm>
          <a:prstGeom prst="rect">
            <a:avLst/>
          </a:prstGeom>
          <a:ln w="0">
            <a:noFill/>
          </a:ln>
        </p:spPr>
      </p:pic>
      <p:pic>
        <p:nvPicPr>
          <p:cNvPr id="441" name="KIdes" descr=""/>
          <p:cNvPicPr/>
          <p:nvPr/>
        </p:nvPicPr>
        <p:blipFill>
          <a:blip r:embed="rId3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desc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KIcorr" descr=""/>
          <p:cNvPicPr/>
          <p:nvPr/>
        </p:nvPicPr>
        <p:blipFill>
          <a:blip r:embed="rId4"/>
          <a:stretch/>
        </p:blipFill>
        <p:spPr>
          <a:xfrm>
            <a:off x="482760" y="3265560"/>
            <a:ext cx="3860640" cy="30589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ción/extrap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KIinterp" descr=""/>
          <p:cNvPicPr/>
          <p:nvPr/>
        </p:nvPicPr>
        <p:blipFill>
          <a:blip r:embed="rId5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800600" y="2743200"/>
            <a:ext cx="365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KIchangesupport" descr=""/>
          <p:cNvPicPr/>
          <p:nvPr/>
        </p:nvPicPr>
        <p:blipFill>
          <a:blip r:embed="rId6"/>
          <a:stretch/>
        </p:blipFill>
        <p:spPr>
          <a:xfrm>
            <a:off x="4724280" y="3265560"/>
            <a:ext cx="3861000" cy="305892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rId7" action="ppaction://hlinksldjump"/>
          </p:cNvPr>
          <p:cNvSpPr/>
          <p:nvPr/>
        </p:nvSpPr>
        <p:spPr>
          <a:xfrm>
            <a:off x="8534520" y="62485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1ad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Los estimadores tradicionales (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ging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sca mejorar la ponderación de los datos al tomar en cuenta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35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la estructuración de la variable regionalizada (variograma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819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as redundancias entre los datos (posibles agrupamientos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362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s distancias al sitio a estim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86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ilegia los datos cercanos si el variograma es muy regula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419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arte la ponderación entre los datos si existe un efecto pepit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952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caso de anisotropía, privilegia los datos ubicados a lo larg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de las direcciones de mayor al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67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ismo, el krigin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tifica la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estimación.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457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Construcci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  <a:ea typeface="Times New Roman"/>
              </a:rPr>
              <a:t>ó</a:t>
            </a:r>
            <a:r>
              <a:rPr b="1" lang="en-US" sz="3600" spc="-1" strike="noStrike">
                <a:solidFill>
                  <a:srgbClr val="15692b"/>
                </a:solidFill>
                <a:latin typeface="Times New Roman"/>
              </a:rPr>
              <a:t>n del kriging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3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de kriging se obtiene al plantear tres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73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tricción de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alida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048120"/>
            <a:ext cx="7696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z(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la variable regionalizada en estudio, {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... n} los sitios con datos y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l sitio que se busca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038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primera restric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consiste en escribir el estimador como una combinaci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 lineal ponderada de lo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276720" y="4991040"/>
                <a:ext cx="28191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/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883120"/>
            <a:ext cx="7772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car los ponderadores {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CL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 n} y el coeficient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4:25:58Z</dcterms:created>
  <dc:creator>Depto. Ing. Minas</dc:creator>
  <dc:description/>
  <dc:language>en-US</dc:language>
  <cp:lastModifiedBy>Minas</cp:lastModifiedBy>
  <dcterms:modified xsi:type="dcterms:W3CDTF">2005-05-28T16:33:37Z</dcterms:modified>
  <cp:revision>158</cp:revision>
  <dc:subject/>
  <dc:title>Sin título de diapositiva</dc:title>
</cp:coreProperties>
</file>