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7.png" ContentType="image/png"/>
  <Override PartName="/ppt/media/image18.wmf" ContentType="image/x-wmf"/>
  <Override PartName="/ppt/media/image2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28.png" ContentType="image/png"/>
  <Override PartName="/ppt/media/image13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4.wmf" ContentType="image/x-wmf"/>
  <Override PartName="/ppt/media/image30.png" ContentType="image/png"/>
  <Override PartName="/ppt/media/image42.png" ContentType="image/png"/>
  <Override PartName="/ppt/media/image31.png" ContentType="image/png"/>
  <Override PartName="/ppt/media/image29.png" ContentType="image/png"/>
  <Override PartName="/ppt/media/image43.png" ContentType="image/png"/>
  <Override PartName="/ppt/media/image32.png" ContentType="image/png"/>
  <Override PartName="/ppt/media/image44.png" ContentType="image/png"/>
  <Override PartName="/ppt/media/image38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3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81C2E-9319-41EF-A08D-29E5F2752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8280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94920" y="4077000"/>
            <a:ext cx="8280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29DC3-A3A7-4E06-8F46-A9502834D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9492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3788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17439-3A5C-45E9-903A-FA6D52383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4640" y="155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94720" y="155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94920" y="407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4640" y="407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94720" y="407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ECD01-22A9-45B5-BA0E-EBBA52DEA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69CEA-CBAF-46A6-B824-E6290549B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A0777-A7E8-4983-8500-E033C72BD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5B0F1-5A21-4D4E-BDA8-D3F69DB7B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A822B-6C27-4CFF-A8B8-9692EB6B1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B3C17-460A-4AD6-B495-A15CAF3E8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94920" y="476280"/>
            <a:ext cx="8280360" cy="40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7A218-59CB-4675-9EED-187D954B5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9492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499EB-B6D5-48C9-92D7-D63DA6DA2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6467A-1AA7-4853-99A6-43392DBEB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3788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52BB5-A3B3-40CA-829A-3623EF4F5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94920" y="4077000"/>
            <a:ext cx="8280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234CB-066C-4295-AFBF-F7B54847A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8280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94920" y="4077000"/>
            <a:ext cx="8280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CBCA1-934E-43F3-8E30-13F4E12B6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9492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3788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A8B89-B478-42D9-B974-0A8A73D24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94640" y="155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94720" y="155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94920" y="407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94640" y="407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94720" y="407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953C5-9F31-4ED0-8EE4-BAD8C68AC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C1248-36D8-4A1E-B407-9C001EC0F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E2B8C-9382-4B51-8709-FDE691F0D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D183D-0F4A-4D0B-96B6-9A114BCD7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94920" y="476280"/>
            <a:ext cx="8280360" cy="40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26779-969D-476B-B83B-0DED76E7B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9492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BF8DF-FBD5-4909-9569-7421ACB8E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3788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D5464-606E-43BB-A4BA-EFCB361F3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94920" y="4077000"/>
            <a:ext cx="8280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44A2D-F88A-41F6-BCC5-1CCAC3B40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d4944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8530A-1A09-4443-8712-DD56C97A158F}" type="slidenum">
              <a:rPr b="0" lang="es-E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000" y="4581360"/>
            <a:ext cx="806436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d4944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A811D-D399-4753-9C85-3EF0FC15DB9B}" type="slidenum">
              <a:rPr b="0" lang="es-E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74.xml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image" Target="../media/image20.wmf"/><Relationship Id="rId5" Type="http://schemas.openxmlformats.org/officeDocument/2006/relationships/image" Target="../media/image21.wmf"/><Relationship Id="rId6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wmf"/><Relationship Id="rId3" Type="http://schemas.openxmlformats.org/officeDocument/2006/relationships/image" Target="../media/image35.png"/><Relationship Id="rId4" Type="http://schemas.openxmlformats.org/officeDocument/2006/relationships/image" Target="../media/image36.png"/><Relationship Id="rId5" Type="http://schemas.openxmlformats.org/officeDocument/2006/relationships/image" Target="../media/image37.png"/><Relationship Id="rId6" Type="http://schemas.openxmlformats.org/officeDocument/2006/relationships/image" Target="../media/image38.png"/><Relationship Id="rId7" Type="http://schemas.openxmlformats.org/officeDocument/2006/relationships/image" Target="../media/image39.png"/><Relationship Id="rId8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image" Target="../media/image44.png"/><Relationship Id="rId7" Type="http://schemas.openxmlformats.org/officeDocument/2006/relationships/slide" Target="slide33.xml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914400" y="2362320"/>
            <a:ext cx="7315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0c4010"/>
                </a:solidFill>
                <a:uFillTx/>
                <a:latin typeface="Times New Roman"/>
              </a:rPr>
              <a:t>Lecci</a:t>
            </a:r>
            <a:r>
              <a:rPr b="1" lang="en-US" sz="6000" spc="-1" strike="noStrike" u="sng">
                <a:solidFill>
                  <a:srgbClr val="0c4010"/>
                </a:solidFill>
                <a:uFillTx/>
                <a:latin typeface="Times New Roman"/>
                <a:ea typeface="Times New Roman"/>
              </a:rPr>
              <a:t>ó</a:t>
            </a:r>
            <a:r>
              <a:rPr b="1" lang="en-US" sz="6000" spc="-1" strike="noStrike" u="sng">
                <a:solidFill>
                  <a:srgbClr val="0c4010"/>
                </a:solidFill>
                <a:uFillTx/>
                <a:latin typeface="Times New Roman"/>
              </a:rPr>
              <a:t>n 4</a:t>
            </a:r>
            <a:r>
              <a:rPr b="1" lang="en-US" sz="6000" spc="-1" strike="noStrike">
                <a:solidFill>
                  <a:srgbClr val="0c4010"/>
                </a:solidFill>
                <a:latin typeface="Times New Roman"/>
              </a:rPr>
              <a:t>:</a:t>
            </a:r>
            <a:br>
              <a:rPr sz="6000"/>
            </a:br>
            <a:r>
              <a:rPr b="1" lang="en-US" sz="6000" spc="-1" strike="noStrike">
                <a:solidFill>
                  <a:srgbClr val="0c4010"/>
                </a:solidFill>
                <a:latin typeface="Times New Roman"/>
              </a:rPr>
              <a:t>La estimaci</a:t>
            </a:r>
            <a:r>
              <a:rPr b="1" lang="en-US" sz="6000" spc="-1" strike="noStrike">
                <a:solidFill>
                  <a:srgbClr val="0c4010"/>
                </a:solidFill>
                <a:latin typeface="Times New Roman"/>
                <a:ea typeface="Times New Roman"/>
              </a:rPr>
              <a:t>ó</a:t>
            </a:r>
            <a:r>
              <a:rPr b="1" lang="en-US" sz="6000" spc="-1" strike="noStrike">
                <a:solidFill>
                  <a:srgbClr val="0c4010"/>
                </a:solidFill>
                <a:latin typeface="Times New Roman"/>
              </a:rPr>
              <a:t>n local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219320" y="45720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Construcci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  <a:ea typeface="Times New Roman"/>
              </a:rPr>
              <a:t>ó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n del kriging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676520"/>
            <a:ext cx="738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tricción de </a:t>
            </a:r>
            <a:r>
              <a:rPr b="1" lang="es-CL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insesgo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914400" y="2301840"/>
            <a:ext cx="76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n el modelo probabil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í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tico, el error cometido debe tener una esperanza nul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914400" y="413064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estimador no tiende a sobreestimar o subestimar el valor </a:t>
            </a:r>
            <a:br>
              <a:rPr sz="2400"/>
            </a:b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real desconoc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33520" y="5181480"/>
            <a:ext cx="8076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Notas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: </a:t>
            </a: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1) las may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ú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sculas se refieren a las magnitudes aleatorias, las min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ú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sculas a las</a:t>
            </a: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   magnitudes determin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í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sticas</a:t>
            </a: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2) el asterisco indica una estimaci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971800" y="3352680"/>
            <a:ext cx="373392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[Z</a:t>
            </a:r>
            <a:r>
              <a:rPr b="0" lang="es-CL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CL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– Z(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CL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] = 0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219320" y="45720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Construcci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  <a:ea typeface="Times New Roman"/>
              </a:rPr>
              <a:t>ó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n del kriging (3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85800" y="1676520"/>
            <a:ext cx="738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tricción de </a:t>
            </a:r>
            <a:r>
              <a:rPr b="1" lang="es-CL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optimalidad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914400" y="2301840"/>
            <a:ext cx="76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e busca minimizar la varianza del error cometido, que mide la amplitud potencial de dicho err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914400" y="413064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úsqueda de la precisión máxi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819520" y="3352680"/>
            <a:ext cx="396216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izar var[Z</a:t>
            </a:r>
            <a:r>
              <a:rPr b="0" lang="es-CL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CL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– Z(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CL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]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219320" y="45720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Plan de kriging 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85800" y="1676520"/>
            <a:ext cx="738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¿Cuáles son los datos a utilizar en la estimación?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62120" y="2301840"/>
            <a:ext cx="784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e puede utilizar todos los datos disponibles (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vecindad 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ú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nica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) o 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o una parte de ellos (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vecindad m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vil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540320"/>
            <a:ext cx="7772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vecindad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ú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ica aumenta innecesariamente los tiempos </a:t>
            </a:r>
            <a:br>
              <a:rPr sz="2400"/>
            </a:b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  de c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álculo sin mejorar la precisión de la estimación, por lo </a:t>
            </a:r>
            <a:br>
              <a:rPr sz="2400"/>
            </a:b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que se prefiere a menudo trabajar con una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vecindad m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vi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38080" y="586728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00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y que especificar la forma y el tamaño de esta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vecind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62120" y="3200400"/>
            <a:ext cx="78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a palabra 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vecindad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se refiere a la zona del espacio, centrada en el sitio a estimar, donde se busca los datos que servir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á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 en la estimaci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219320" y="45720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Plan de kriging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85800" y="1676520"/>
            <a:ext cx="738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a de la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vecindad m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62120" y="230184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ealmente, la vecindad debería tener la forma de las curvas de isovalores del mapa variográfico, para tomar en cuenta la anisotropía en la correlación espacial de los datos.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62120" y="365760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general, se suele tomar una vecindad en forma de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ipse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2D) o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ipsoide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3D), lo cual corresponde teóricamente a una anisotropía geométrica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1219320" y="45720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Plan de kriging (3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85800" y="1676520"/>
            <a:ext cx="738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visión en sectores angula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14400" y="220968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 mejorar la repartición de los datos en torno al sitio a estimar, es recomendable dividir la vecindad en sectores angulares y buscar datos en cada sector.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octantes" descr=""/>
          <p:cNvPicPr/>
          <p:nvPr/>
        </p:nvPicPr>
        <p:blipFill>
          <a:blip r:embed="rId2"/>
          <a:stretch/>
        </p:blipFill>
        <p:spPr>
          <a:xfrm>
            <a:off x="2077920" y="3508200"/>
            <a:ext cx="5008680" cy="319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1219320" y="45720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Plan de kriging (4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85800" y="1676520"/>
            <a:ext cx="738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maño de la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vecindad m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62120" y="2301840"/>
            <a:ext cx="76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s parámetros más relevantes a considerar son: el alcance del variograma y la densidad del muestreo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62120" y="327672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Factores que inducen a aumentar el tama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ñ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120" y="45277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Factores que inducen a disminuir el tama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ñ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219320" y="5060880"/>
            <a:ext cx="7238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mbios en la estructuración espacial, irrelevancia de los datos lejanos, poca confiabilidad del variograma para las distancias muy grandes, tiempos de cálcul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295280" y="3809880"/>
            <a:ext cx="76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cisión, insesgo condicion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219320" y="45720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Plan de kriging (5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85800" y="1676520"/>
            <a:ext cx="738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lidació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n cruz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838080" y="230184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 determinar el plan de kriging, se puede recurrir a la validación cruzada: probar varios planes y escoger aquel que entrega los resultados más satisfacto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295280" y="365760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cisión alcanz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295280" y="426708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sgo condi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1447920" y="2833560"/>
            <a:ext cx="6324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12490f"/>
                </a:solidFill>
                <a:latin typeface="Times New Roman"/>
              </a:rPr>
              <a:t>Varios tipos de kriging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219320" y="45720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Kriging simple 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85800" y="1676520"/>
            <a:ext cx="738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pó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te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62120" y="2301840"/>
            <a:ext cx="76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conoce el valor promedio 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 la variable regionalizada,</a:t>
            </a:r>
            <a:br>
              <a:rPr sz="2400"/>
            </a:b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el cual se asume representativo de cada región del espac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62120" y="3216240"/>
            <a:ext cx="76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mbién se conoce el variograma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el cual presenta una</a:t>
            </a:r>
            <a:br>
              <a:rPr sz="2400"/>
            </a:b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meseta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s-CL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219320" y="45720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Kriging simple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85800" y="1676520"/>
            <a:ext cx="738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tricción de linea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3084480" y="3695760"/>
                <a:ext cx="2898720" cy="81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z</m:t>
                        </m:r>
                      </m:e>
                      <m:sup/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+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α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α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z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α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69" name=""/>
          <p:cNvSpPr/>
          <p:nvPr/>
        </p:nvSpPr>
        <p:spPr>
          <a:xfrm>
            <a:off x="685800" y="2286000"/>
            <a:ext cx="7772400" cy="12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a estimaci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 en un sitio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se escribe como una combinaci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 lineal ponderada de los datos circundantes, ubicados en los sitios {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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1... n}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447920" y="2590920"/>
            <a:ext cx="6324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12490f"/>
                </a:solidFill>
                <a:latin typeface="Times New Roman"/>
              </a:rPr>
              <a:t>De los estimadores tradicionales al kriging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219320" y="45720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Kriging simple (3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1676520"/>
            <a:ext cx="738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tricción de inses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228600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a esperanza del error de estimaci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 va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1828800" y="2933640"/>
                <a:ext cx="6095880" cy="165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E</m:t>
                        </m:r>
                        <m:r>
                          <m:t xml:space="preserve"> </m:t>
                        </m:r>
                        <m:r>
                          <m:t xml:space="preserve">[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/>
                        </m:s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Z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]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  </m:t>
                        </m:r>
                        <m:r>
                          <m:t xml:space="preserve">+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α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λ</m:t>
                                </m:r>
                              </m:e>
                              <m:sub>
                                <m:r>
                                  <m:t xml:space="preserve">α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r>
                              <m:t xml:space="preserve">E</m:t>
                            </m:r>
                            <m:r>
                              <m:t xml:space="preserve"> </m:t>
                            </m:r>
                            <m:r>
                              <m:t xml:space="preserve">[</m:t>
                            </m:r>
                            <m:r>
                              <m:t xml:space="preserve">Z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α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]</m:t>
                            </m:r>
                          </m:e>
                        </m:nary>
                        <m:r>
                          <m:t xml:space="preserve">−</m:t>
                        </m:r>
                        <m:r>
                          <m:t xml:space="preserve"> </m:t>
                        </m:r>
                        <m:r>
                          <m:t xml:space="preserve">E</m:t>
                        </m:r>
                        <m:r>
                          <m:t xml:space="preserve"> </m:t>
                        </m:r>
                        <m:r>
                          <m:t xml:space="preserve">[</m:t>
                        </m:r>
                        <m:r>
                          <m:t xml:space="preserve">Z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]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[</m:t>
                        </m:r>
                        <m:r>
                          <m:t xml:space="preserve"> 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α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λ</m:t>
                                </m:r>
                              </m:e>
                              <m:sub>
                                <m:r>
                                  <m:t xml:space="preserve">α</m:t>
                                </m:r>
                              </m:sub>
                            </m:sSub>
                          </m:e>
                        </m:nary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]</m:t>
                        </m:r>
                        <m:r>
                          <m:t xml:space="preserve">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3657600" y="5433840"/>
                <a:ext cx="1981080" cy="81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[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 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α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α</m:t>
                            </m:r>
                          </m:sub>
                        </m:sSub>
                      </m:e>
                    </m:nary>
                    <m:r>
                      <m:t xml:space="preserve">]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5" name=""/>
          <p:cNvSpPr/>
          <p:nvPr/>
        </p:nvSpPr>
        <p:spPr>
          <a:xfrm>
            <a:off x="762120" y="482436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ara anular esta esperanza, se plant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219320" y="45720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Kriging simple (4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85800" y="1676520"/>
            <a:ext cx="738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tricción de optima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5800" y="228600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a varianza del error de estimaci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 se expresa en funci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 del variogram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457200" y="3276720"/>
                <a:ext cx="8534520" cy="15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var</m:t>
                        </m:r>
                        <m:r>
                          <m:t xml:space="preserve">[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/>
                        </m:s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Z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]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α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β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λ</m:t>
                                    </m:r>
                                  </m:e>
                                  <m:sub>
                                    <m:r>
                                      <m:t xml:space="preserve">α</m:t>
                                    </m:r>
                                  </m:sub>
                                </m:sSub>
                                <m:r>
                                  <m:t xml:space="preserve"> </m:t>
                                </m:r>
                                <m:sSub>
                                  <m:e>
                                    <m:r>
                                      <m:t xml:space="preserve">λ</m:t>
                                    </m:r>
                                  </m:e>
                                  <m:sub>
                                    <m:r>
                                      <m:t xml:space="preserve">β</m:t>
                                    </m:r>
                                  </m:sub>
                                </m:sSub>
                                <m:r>
                                  <m:t xml:space="preserve"> </m:t>
                                </m:r>
                                <m:r>
                                  <m:t xml:space="preserve">[</m:t>
                                </m:r>
                                <m:sSup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−</m:t>
                                </m:r>
                                <m:r>
                                  <m:t xml:space="preserve">γ</m:t>
                                </m:r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α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β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]</m:t>
                                </m:r>
                              </m:e>
                            </m:nary>
                          </m:e>
                        </m:nary>
                        <m:r>
                          <m:t xml:space="preserve">−</m:t>
                        </m:r>
                        <m:r>
                          <m:t xml:space="preserve">2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α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λ</m:t>
                                </m:r>
                              </m:e>
                              <m:sub>
                                <m:r>
                                  <m:t xml:space="preserve">α</m:t>
                                </m:r>
                              </m:sub>
                            </m:sSub>
                            <m:r>
                              <m:t xml:space="preserve">[</m:t>
                            </m:r>
                            <m:sSup>
                              <m:e>
                                <m:r>
                                  <m:t xml:space="preserve">σ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γ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α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]</m:t>
                            </m:r>
                          </m:e>
                        </m:nary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[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α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λ</m:t>
                                </m:r>
                              </m:e>
                              <m:sub>
                                <m:r>
                                  <m:t xml:space="preserve">α</m:t>
                                </m:r>
                              </m:sub>
                            </m:sSub>
                          </m:e>
                        </m:nary>
                        <m:sSup>
                          <m:e>
                            <m:r>
                              <m:t xml:space="preserve">]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α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β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λ</m:t>
                                    </m:r>
                                  </m:e>
                                  <m:sub>
                                    <m:r>
                                      <m:t xml:space="preserve">α</m:t>
                                    </m:r>
                                  </m:sub>
                                </m:sSub>
                                <m:r>
                                  <m:t xml:space="preserve"> </m:t>
                                </m:r>
                                <m:sSub>
                                  <m:e>
                                    <m:r>
                                      <m:t xml:space="preserve">λ</m:t>
                                    </m:r>
                                  </m:e>
                                  <m:sub>
                                    <m:r>
                                      <m:t xml:space="preserve">β</m:t>
                                    </m:r>
                                  </m:sub>
                                </m:sSub>
                                <m:r>
                                  <m:t xml:space="preserve"> </m:t>
                                </m:r>
                                <m:r>
                                  <m:t xml:space="preserve">γ</m:t>
                                </m:r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α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β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nary>
                          </m:e>
                        </m:nary>
                        <m:r>
                          <m:t xml:space="preserve">+</m:t>
                        </m:r>
                        <m:r>
                          <m:t xml:space="preserve">2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α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λ</m:t>
                                </m:r>
                              </m:e>
                              <m:sub>
                                <m:r>
                                  <m:t xml:space="preserve">α</m:t>
                                </m:r>
                              </m:sub>
                            </m:sSub>
                            <m:r>
                              <m:t xml:space="preserve">γ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α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80" name=""/>
          <p:cNvSpPr/>
          <p:nvPr/>
        </p:nvSpPr>
        <p:spPr>
          <a:xfrm>
            <a:off x="685800" y="5121360"/>
            <a:ext cx="80773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a minimizaci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 requiere anular las derivadas de esta expresi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 con respecto a las inc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gnitas {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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1... n}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1219320" y="45720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Kriging simple (5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85800" y="1676520"/>
            <a:ext cx="738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stema de ecuaciones fi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85800" y="228600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e llega al siguiente sistema de ecuaciones linea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V="1" rot="5400000">
            <a:off x="5410080" y="4190040"/>
            <a:ext cx="228600" cy="1143000"/>
          </a:xfrm>
          <a:custGeom>
            <a:avLst/>
            <a:gdLst>
              <a:gd name="textAreaLeft" fmla="*/ 0 w 228600"/>
              <a:gd name="textAreaRight" fmla="*/ 82440 w 22860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V="1" rot="5400000">
            <a:off x="7924680" y="4190040"/>
            <a:ext cx="228600" cy="1143000"/>
          </a:xfrm>
          <a:custGeom>
            <a:avLst/>
            <a:gdLst>
              <a:gd name="textAreaLeft" fmla="*/ 0 w 228600"/>
              <a:gd name="textAreaRight" fmla="*/ 82440 w 22860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572000" y="4970520"/>
            <a:ext cx="182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ide las redundancias entre da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553080" y="4952880"/>
            <a:ext cx="259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ide la influencia de los datos sobre el valor a estim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762120" y="2986200"/>
                <a:ext cx="7924680" cy="172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a</m:t>
                            </m:r>
                            <m:r>
                              <m:t xml:space="preserve">=</m:t>
                            </m:r>
                            <m:r>
                              <m:t xml:space="preserve">[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α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λ</m:t>
                                    </m:r>
                                  </m:e>
                                  <m:sub>
                                    <m:r>
                                      <m:t xml:space="preserve">α</m:t>
                                    </m:r>
                                  </m:sub>
                                </m:sSub>
                              </m:e>
                            </m:nary>
                            <m:r>
                              <m:t xml:space="preserve">]</m:t>
                            </m:r>
                            <m:r>
                              <m:t xml:space="preserve"> </m:t>
                            </m:r>
                            <m:r>
                              <m:t xml:space="preserve">m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89" name=""/>
          <p:cNvSpPr/>
          <p:nvPr/>
        </p:nvSpPr>
        <p:spPr>
          <a:xfrm>
            <a:off x="3276720" y="312408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(insesg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219320" y="45720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Kriging simple (6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85800" y="1676520"/>
            <a:ext cx="738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cisión de la estim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85800" y="228600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l valor m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í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imo de la varianza del error de estimaci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 se llama </a:t>
            </a:r>
            <a:r>
              <a:rPr b="1" i="1" lang="es-CL" sz="2400" spc="-1" strike="noStrike">
                <a:solidFill>
                  <a:srgbClr val="000000"/>
                </a:solidFill>
                <a:latin typeface="Times New Roman"/>
              </a:rPr>
              <a:t>varianza de kriging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y va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2133720" y="3249720"/>
                <a:ext cx="4876560" cy="78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KS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 </m:t>
                    </m:r>
                    <m:r>
                      <m:t xml:space="preserve">[</m:t>
                    </m:r>
                    <m:r>
                      <m:t xml:space="preserve">1</m:t>
                    </m:r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α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α</m:t>
                            </m:r>
                          </m:sub>
                        </m:sSub>
                      </m:e>
                    </m:nary>
                    <m:r>
                      <m:t xml:space="preserve">]</m:t>
                    </m:r>
                    <m:r>
                      <m:t xml:space="preserve">+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α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α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γ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α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762120" y="464832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o particular de un efecto pepita pu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62120" y="5273640"/>
            <a:ext cx="78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s ponderadores se anulan y el estimador es igual a la media conocida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. La varianza de kriging es igual a la varianza 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a priori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s-CL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219320" y="45720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Kriging simple (7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85800" y="294012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lustración: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variograma esférico de meseta 1 en una dimensi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" name="KS espagnol" descr=""/>
          <p:cNvPicPr/>
          <p:nvPr/>
        </p:nvPicPr>
        <p:blipFill>
          <a:blip r:embed="rId2"/>
          <a:stretch/>
        </p:blipFill>
        <p:spPr>
          <a:xfrm>
            <a:off x="222120" y="4083120"/>
            <a:ext cx="8693280" cy="246996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762120" y="354960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krig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54960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varianza de krig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324480" y="354960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eso de la med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85800" y="163188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media tiene un peso complementario al peso acumulado de los datos. Su rol es compensar la falta de información cuando los datos son escasos o alejado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1219320" y="45720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Kriging ordinario 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85800" y="1676520"/>
            <a:ext cx="738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pó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te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62120" y="2301840"/>
            <a:ext cx="76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desconoce el valor promedio de la variable regionaliz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62120" y="289548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conoce el variograma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el cual puede o no tener meset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838080" y="3886200"/>
            <a:ext cx="7848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l considerar el valor de la media como desconocido permite generalizar el estimador a situaciones donde esta media no es constante en el campo: la media puede variar de una regi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 a otra del espacio, siempre que sea aproximadamente constante en cada vecindad de krig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1219320" y="45720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Kriging ordinario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85800" y="1676520"/>
            <a:ext cx="738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tricción de linea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3235320" y="3695760"/>
                <a:ext cx="2900520" cy="81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z</m:t>
                        </m:r>
                      </m:e>
                      <m:sup/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+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α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α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z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α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11" name=""/>
          <p:cNvSpPr/>
          <p:nvPr/>
        </p:nvSpPr>
        <p:spPr>
          <a:xfrm>
            <a:off x="685800" y="2286000"/>
            <a:ext cx="7772400" cy="12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a estimaci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 en un sitio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se escribe como una combinaci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 lineal ponderada de los datos circundantes, ubicados en los sitios {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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1... n}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1219320" y="45720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Kriging ordinario (3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85800" y="1676520"/>
            <a:ext cx="738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tricción de inses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85800" y="228600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a esperanza del error de estimaci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 va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5" name=""/>
              <p:cNvSpPr txBox="1"/>
              <p:nvPr/>
            </p:nvSpPr>
            <p:spPr>
              <a:xfrm>
                <a:off x="1752480" y="2865600"/>
                <a:ext cx="6248520" cy="16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E</m:t>
                        </m:r>
                        <m:r>
                          <m:t xml:space="preserve"> </m:t>
                        </m:r>
                        <m:r>
                          <m:t xml:space="preserve">[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/>
                        </m:s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Z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]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  </m:t>
                        </m:r>
                        <m:r>
                          <m:t xml:space="preserve">+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α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λ</m:t>
                                </m:r>
                              </m:e>
                              <m:sub>
                                <m:r>
                                  <m:t xml:space="preserve">α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r>
                              <m:t xml:space="preserve">E</m:t>
                            </m:r>
                            <m:r>
                              <m:t xml:space="preserve"> </m:t>
                            </m:r>
                            <m:r>
                              <m:t xml:space="preserve">[</m:t>
                            </m:r>
                            <m:r>
                              <m:t xml:space="preserve">Z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α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]</m:t>
                            </m:r>
                          </m:e>
                        </m:nary>
                        <m:r>
                          <m:t xml:space="preserve">−</m:t>
                        </m:r>
                        <m:r>
                          <m:t xml:space="preserve"> </m:t>
                        </m:r>
                        <m:r>
                          <m:t xml:space="preserve">E</m:t>
                        </m:r>
                        <m:r>
                          <m:t xml:space="preserve"> </m:t>
                        </m:r>
                        <m:r>
                          <m:t xml:space="preserve">[</m:t>
                        </m:r>
                        <m:r>
                          <m:t xml:space="preserve">Z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]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[</m:t>
                        </m:r>
                        <m:r>
                          <m:t xml:space="preserve"> 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α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λ</m:t>
                                </m:r>
                              </m:e>
                              <m:sub>
                                <m:r>
                                  <m:t xml:space="preserve">α</m:t>
                                </m:r>
                              </m:sub>
                            </m:sSub>
                          </m:e>
                        </m:nary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]</m:t>
                        </m:r>
                        <m:r>
                          <m:t xml:space="preserve">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16" name=""/>
          <p:cNvSpPr/>
          <p:nvPr/>
        </p:nvSpPr>
        <p:spPr>
          <a:xfrm>
            <a:off x="685800" y="472428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iendo 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desconocida, la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ú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ica alternativa es plant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7" name=""/>
              <p:cNvSpPr txBox="1"/>
              <p:nvPr/>
            </p:nvSpPr>
            <p:spPr>
              <a:xfrm>
                <a:off x="3595680" y="5372280"/>
                <a:ext cx="2195640" cy="81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t xml:space="preserve">y</m:t>
                    </m:r>
                    <m:r>
                      <m:t xml:space="preserve"> 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α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α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219320" y="45720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Kriging ordinario (4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85800" y="1676520"/>
            <a:ext cx="738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tricción de optima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85800" y="228600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a varianza del error de estimaci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 se expresa en funci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 del variogram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304920" y="3429000"/>
                <a:ext cx="8686800" cy="77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ar</m:t>
                    </m:r>
                    <m:r>
                      <m:t xml:space="preserve">[</m:t>
                    </m:r>
                    <m:sSup>
                      <m:e>
                        <m:r>
                          <m:t xml:space="preserve">Z</m:t>
                        </m:r>
                      </m:e>
                      <m:sup/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Z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]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[</m:t>
                    </m:r>
                    <m:r>
                      <m:t xml:space="preserve">1</m:t>
                    </m:r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α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α</m:t>
                            </m:r>
                          </m:sub>
                        </m:sSub>
                      </m:e>
                    </m:nary>
                    <m:sSup>
                      <m:e>
                        <m:r>
                          <m:t xml:space="preserve">]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α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β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λ</m:t>
                                </m:r>
                              </m:e>
                              <m:sub>
                                <m:r>
                                  <m:t xml:space="preserve">α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λ</m:t>
                                </m:r>
                              </m:e>
                              <m:sub>
                                <m:r>
                                  <m:t xml:space="preserve">β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r>
                              <m:t xml:space="preserve">γ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α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β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+</m:t>
                    </m:r>
                    <m:r>
                      <m:t xml:space="preserve">2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α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α</m:t>
                            </m:r>
                          </m:sub>
                        </m:sSub>
                        <m:r>
                          <m:t xml:space="preserve">γ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α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22" name=""/>
          <p:cNvSpPr/>
          <p:nvPr/>
        </p:nvSpPr>
        <p:spPr>
          <a:xfrm flipH="1">
            <a:off x="2819160" y="3429000"/>
            <a:ext cx="114300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819520" y="3429000"/>
            <a:ext cx="114300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85800" y="4587840"/>
            <a:ext cx="815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a minimizaci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 de esta expresi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 bajo la restricci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 de insesgo requiere introducir una inc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gnita adicional llamada 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multiplicador de Lagrange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, denominada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19320" y="45720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Kriging ordinario (5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676520"/>
            <a:ext cx="738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stema de ecuaciones fi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V="1" rot="5400000">
            <a:off x="4495680" y="4280400"/>
            <a:ext cx="228600" cy="1143000"/>
          </a:xfrm>
          <a:custGeom>
            <a:avLst/>
            <a:gdLst>
              <a:gd name="textAreaLeft" fmla="*/ 0 w 228600"/>
              <a:gd name="textAreaRight" fmla="*/ 82440 w 22860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V="1" rot="5400000">
            <a:off x="7315200" y="4280400"/>
            <a:ext cx="228600" cy="1143000"/>
          </a:xfrm>
          <a:custGeom>
            <a:avLst/>
            <a:gdLst>
              <a:gd name="textAreaLeft" fmla="*/ 0 w 228600"/>
              <a:gd name="textAreaRight" fmla="*/ 82440 w 22860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657600" y="5060880"/>
            <a:ext cx="182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ide las redundancias entre da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943600" y="5043600"/>
            <a:ext cx="259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ide la influencia de los datos sobre el valor a estim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3429000" y="2666160"/>
            <a:ext cx="228600" cy="1143000"/>
          </a:xfrm>
          <a:custGeom>
            <a:avLst/>
            <a:gdLst>
              <a:gd name="textAreaLeft" fmla="*/ 0 w 228600"/>
              <a:gd name="textAreaRight" fmla="*/ 82440 w 22860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886200" y="29718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inses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1600200" y="2449440"/>
                <a:ext cx="6567480" cy="257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 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α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λ</m:t>
                                    </m:r>
                                  </m:e>
                                  <m:sub>
                                    <m:r>
                                      <m:t xml:space="preserve">α</m:t>
                                    </m:r>
                                  </m:sub>
                                </m:sSub>
                              </m:e>
                            </m:nary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 </m:t>
                            </m:r>
                            <m:limUpp>
                              <m:e>
                                <m:r>
                                  <m:t xml:space="preserve">a</m:t>
                                </m:r>
                              </m:e>
                              <m:lim/>
                            </m:limUpp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219320" y="45720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Introducci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  <a:ea typeface="Times New Roman"/>
              </a:rPr>
              <a:t>ó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09480" y="1828800"/>
            <a:ext cx="76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Obje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2514600"/>
            <a:ext cx="792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estimación local consiste en evaluar el valor de la variable regionalizada en un sitio no muestreado del espacio, utilizando para ello los datos circundantes disponibles.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388620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simismo, se puede evaluar el valor promedio de la variable en un soporte mayor que el soporte de las muestr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1219320" y="45720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Kriging ordinario (6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85800" y="1676520"/>
            <a:ext cx="738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cisión de la estim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85800" y="228600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l valor m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í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imo de la varianza del error de estimaci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 se llama </a:t>
            </a:r>
            <a:r>
              <a:rPr b="1" i="1" lang="es-CL" sz="2400" spc="-1" strike="noStrike">
                <a:solidFill>
                  <a:srgbClr val="000000"/>
                </a:solidFill>
                <a:latin typeface="Times New Roman"/>
              </a:rPr>
              <a:t>varianza de kriging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y va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7" name=""/>
              <p:cNvSpPr txBox="1"/>
              <p:nvPr/>
            </p:nvSpPr>
            <p:spPr>
              <a:xfrm>
                <a:off x="2943360" y="3352680"/>
                <a:ext cx="3457440" cy="79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KO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α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α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γ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α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−</m:t>
                    </m:r>
                    <m:r>
                      <m:t xml:space="preserve">μ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8" name=""/>
          <p:cNvSpPr/>
          <p:nvPr/>
        </p:nvSpPr>
        <p:spPr>
          <a:xfrm>
            <a:off x="762120" y="464832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o particular de un efecto pepita pu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5273640"/>
            <a:ext cx="78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s ponderadores son iguales a 1/n, de modo que el estimador coincide con la media aritmética de los dato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. La varianza de kriging supera levemente la varianza 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a priori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1219320" y="45720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Kriging ordinario (7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33520" y="1600200"/>
            <a:ext cx="80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lustración: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variograma esférico de meseta 1 en una dimensi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981080" y="220968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krig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800600" y="220968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varianza de krig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KO2 espagnol" descr=""/>
          <p:cNvPicPr/>
          <p:nvPr/>
        </p:nvPicPr>
        <p:blipFill>
          <a:blip r:embed="rId2"/>
          <a:stretch/>
        </p:blipFill>
        <p:spPr>
          <a:xfrm>
            <a:off x="1447920" y="2709720"/>
            <a:ext cx="6024600" cy="24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1219320" y="45720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Otros tipos de krig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144792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xisten otras variantes del krig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85800" y="198108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kriging univers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85800" y="251460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kriging intr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í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nse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85800" y="304812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kriging con deriva exter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85800" y="358128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kriging trigonométr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85800" y="411480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kriging transitivo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: se plantea en un marco determinís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85800" y="464832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kriging aleatorio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: la posici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 de las muestras es incier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" y="518148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kriging lognormal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: recurre a una transformada logar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í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tm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85800" y="571500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kriging de indicadore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 kriging disyuntivo, kriging </a:t>
            </a:r>
            <a:br>
              <a:rPr sz="2400"/>
            </a:b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  multigaussiano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: buscan caracterizar el valor desconocido</a:t>
            </a:r>
            <a:br>
              <a:rPr sz="2400"/>
            </a:b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por una distribución de probab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495680" y="2057400"/>
            <a:ext cx="228600" cy="1905120"/>
          </a:xfrm>
          <a:custGeom>
            <a:avLst/>
            <a:gdLst>
              <a:gd name="textAreaLeft" fmla="*/ 0 w 228600"/>
              <a:gd name="textAreaRight" fmla="*/ 82440 w 228600"/>
              <a:gd name="textAreaTop" fmla="*/ 49680 h 1905120"/>
              <a:gd name="textAreaBottom" fmla="*/ 1855440 h 1905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876920" y="2743200"/>
            <a:ext cx="32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arco no estaciona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>
            <a:hlinkClick r:id="rId2" action="ppaction://hlinksldjump"/>
          </p:cNvPr>
          <p:cNvSpPr/>
          <p:nvPr/>
        </p:nvSpPr>
        <p:spPr>
          <a:xfrm>
            <a:off x="8528040" y="6089760"/>
            <a:ext cx="539640" cy="539640"/>
          </a:xfrm>
          <a:custGeom>
            <a:avLst/>
            <a:gdLst>
              <a:gd name="textAreaLeft" fmla="*/ 34920 w 539640"/>
              <a:gd name="textAreaRight" fmla="*/ 504720 w 539640"/>
              <a:gd name="textAreaTop" fmla="*/ 34920 h 539640"/>
              <a:gd name="textAreaBottom" fmla="*/ 504720 h 53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1600">
                <a:moveTo>
                  <a:pt x="108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1600">
                <a:moveTo>
                  <a:pt x="8224" y="8224"/>
                </a:moveTo>
                <a:lnTo>
                  <a:pt x="12088" y="8224"/>
                </a:lnTo>
                <a:lnTo>
                  <a:pt x="12088" y="15221"/>
                </a:lnTo>
                <a:lnTo>
                  <a:pt x="13376" y="15221"/>
                </a:lnTo>
                <a:lnTo>
                  <a:pt x="13376" y="16144"/>
                </a:lnTo>
                <a:lnTo>
                  <a:pt x="8224" y="16144"/>
                </a:lnTo>
                <a:lnTo>
                  <a:pt x="8224" y="15221"/>
                </a:lnTo>
                <a:lnTo>
                  <a:pt x="9512" y="15221"/>
                </a:lnTo>
                <a:lnTo>
                  <a:pt x="9512" y="9129"/>
                </a:lnTo>
                <a:lnTo>
                  <a:pt x="8224" y="9129"/>
                </a:lnTo>
                <a:close/>
              </a:path>
            </a:pathLst>
          </a:custGeom>
          <a:solidFill>
            <a:srgbClr val="71ad4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1295280" y="2833560"/>
            <a:ext cx="6629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12490f"/>
                </a:solidFill>
                <a:latin typeface="Times New Roman"/>
              </a:rPr>
              <a:t>Propiedades del kriging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1066680" y="457200"/>
            <a:ext cx="723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Observaciones sobre el krig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152388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l sistema de kriging toma en cuent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838080" y="2133720"/>
            <a:ext cx="762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aspectos geométrico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: distancias entre el sitio a estimar y</a:t>
            </a:r>
            <a:br>
              <a:rPr sz="2400"/>
            </a:b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los datos; redundancias entre los da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838080" y="3048120"/>
            <a:ext cx="76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aspectos estructurale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: continuidad espacial, anisotrop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í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09480" y="3733920"/>
            <a:ext cx="7925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os ponderadores y la varianza de kriging no toman en cuenta los valores de los dat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46483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alvo excepciones, los ponderadores de kriging pueden ser negativos, lo que a veces desemboca en estimaciones negativ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563868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l sistema de kriging es regular (entrega una soluci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ú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ica) siempre que no existan datos duplicad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1219320" y="45720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Propiedades del kriging 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38080" y="1692360"/>
            <a:ext cx="739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interpolaci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n exacta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: estimar un sitio con dato devuelve</a:t>
            </a:r>
            <a:br>
              <a:rPr sz="2400"/>
            </a:b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el valor medido en este sit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838080" y="2606760"/>
            <a:ext cx="739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suavizamiento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: la dispersi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 de los valores estimados es</a:t>
            </a:r>
            <a:br>
              <a:rPr sz="2400"/>
            </a:b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menor que la dispersi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 de los valores verdade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066680" y="3505320"/>
            <a:ext cx="7162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l kriging tiende a subestimar las zonas de altas leyes</a:t>
            </a:r>
            <a:br>
              <a:rPr sz="2400"/>
            </a:b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  y sobreestimar las zonas de bajas ley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838080" y="4419720"/>
            <a:ext cx="739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aditividad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: el kriging del valor promedio de un sector es</a:t>
            </a:r>
            <a:br>
              <a:rPr sz="2400"/>
            </a:b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el promedio de las estimaciones puntuales en este s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838080" y="5349960"/>
            <a:ext cx="739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insesgo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: la media de los errores cometidos en una regi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 </a:t>
            </a:r>
            <a:br>
              <a:rPr sz="2400"/>
            </a:b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de gran tama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ñ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o se acerca a c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1219320" y="45720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Propiedades del kriging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09480" y="1447920"/>
            <a:ext cx="7925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sesgo condicional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en las zonas cuya </a:t>
            </a:r>
            <a:r>
              <a:rPr b="0" i="1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estimaci</a:t>
            </a:r>
            <a:r>
              <a:rPr b="0" i="1" lang="es-CL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ó</a:t>
            </a:r>
            <a:r>
              <a:rPr b="0" i="1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n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 supera una</a:t>
            </a:r>
            <a:br>
              <a:rPr sz="2400"/>
            </a:b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  ley de corte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, la media de los errores puede diferir de c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2120" y="228600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ropiedad a evitar o minimizar, de lo contrario se incurre </a:t>
            </a:r>
            <a:br>
              <a:rPr sz="2400"/>
            </a:b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  en una mala apreciaci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 del valor del negocio min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762120" y="3124080"/>
            <a:ext cx="73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egir una vecindad de kriging suficientemente gran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6" name="condb1" descr=""/>
          <p:cNvPicPr/>
          <p:nvPr/>
        </p:nvPicPr>
        <p:blipFill>
          <a:blip r:embed="rId2"/>
          <a:stretch/>
        </p:blipFill>
        <p:spPr>
          <a:xfrm>
            <a:off x="1371600" y="3733920"/>
            <a:ext cx="6280200" cy="29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1219320" y="45720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El kriging de bloques 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85800" y="1600200"/>
            <a:ext cx="792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l kriging también puede emplearse para estimar el valor de la variable regionalizada sobre un soporte mayor que el soporte de las muestras (“bloque”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85800" y="304812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os alternativ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066680" y="361332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iscretizar el bloque en muchos puntos, estimar el valor de </a:t>
            </a:r>
            <a:br>
              <a:rPr sz="2400"/>
            </a:b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cada punto y promediar las estimaciones puntu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066680" y="5425920"/>
            <a:ext cx="754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valuar directamente el valor del bloque, sin recurrir a</a:t>
            </a:r>
            <a:br>
              <a:rPr sz="2400"/>
            </a:b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estimaciones puntu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447920" y="449568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stoso en c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á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culos; no permite calcular la varianza de</a:t>
            </a:r>
            <a:br>
              <a:rPr sz="2400"/>
            </a:b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  estimaci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1219320" y="45720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El kriging de bloques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85800" y="160020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l plantear las tres etapas de construcci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 del kriging conduce al sistema de kriging de bloqu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85800" y="2622600"/>
            <a:ext cx="7848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ste sistema 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o difiere del sistema puntual en el miembro de la derecha. El c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á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culo numérico de este miembro requiere una discretizaci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 (no confundir con una estimaci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 del bloque vía discretización en varios punto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85800" y="44197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l kriging de bloques posee las siguientes propiedades: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066680" y="492120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uaviza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066680" y="537840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insesgo, pero posible sesgo condi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066680" y="583560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ditiv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1295280" y="2514600"/>
            <a:ext cx="6629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12490f"/>
                </a:solidFill>
                <a:latin typeface="Times New Roman"/>
              </a:rPr>
              <a:t>Aplicaci</a:t>
            </a:r>
            <a:r>
              <a:rPr b="1" lang="en-US" sz="4800" spc="-1" strike="noStrike">
                <a:solidFill>
                  <a:srgbClr val="12490f"/>
                </a:solidFill>
                <a:latin typeface="Times New Roman"/>
                <a:ea typeface="Times New Roman"/>
              </a:rPr>
              <a:t>ó</a:t>
            </a:r>
            <a:r>
              <a:rPr b="1" lang="en-US" sz="4800" spc="-1" strike="noStrike">
                <a:solidFill>
                  <a:srgbClr val="12490f"/>
                </a:solidFill>
                <a:latin typeface="Times New Roman"/>
              </a:rPr>
              <a:t>n a los </a:t>
            </a:r>
            <a:br>
              <a:rPr sz="4800"/>
            </a:br>
            <a:r>
              <a:rPr b="1" lang="en-US" sz="4800" spc="-1" strike="noStrike">
                <a:solidFill>
                  <a:srgbClr val="12490f"/>
                </a:solidFill>
                <a:latin typeface="Times New Roman"/>
              </a:rPr>
              <a:t>datos mineros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219320" y="45720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Los estimadores tradicionales 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160020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Ejemplo introducto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62120" y="213372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busca estimar el valor en el sitio “?” a partir de los valores muestreados en A, B, C, D, E, F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config" descr=""/>
          <p:cNvPicPr/>
          <p:nvPr/>
        </p:nvPicPr>
        <p:blipFill>
          <a:blip r:embed="rId2"/>
          <a:stretch/>
        </p:blipFill>
        <p:spPr>
          <a:xfrm>
            <a:off x="2895480" y="3200400"/>
            <a:ext cx="33544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1066680" y="45720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Elecci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  <a:ea typeface="Times New Roman"/>
              </a:rPr>
              <a:t>ó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n del plan de kriging 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09480" y="1600200"/>
            <a:ext cx="792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e compara tres planes de kriging por “jackknife”: estimar 902 muestras a partir de las 1474 restantes. La variable en estudio es la ley de cob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85800" y="304812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plan 1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: estimar con los 2 datos m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á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 cercan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85800" y="373392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plan 2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: estimar con los 24 datos m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á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 cercanos (3 por octan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85800" y="449568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plan 3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: estimar con los 48 datos m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á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 cercanos (6 por octan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09480" y="5334120"/>
            <a:ext cx="7925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n cada caso, se recurre al kriging ordinario, que 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o requiere especificar el modelo variogr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á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fico (media desconocida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1066680" y="45720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Elecci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  <a:ea typeface="Times New Roman"/>
              </a:rPr>
              <a:t>ó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n del plan de kriging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09480" y="1752480"/>
            <a:ext cx="76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Histogramas de los errores cometi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9" name="cross_histplt" descr=""/>
          <p:cNvPicPr/>
          <p:nvPr/>
        </p:nvPicPr>
        <p:blipFill>
          <a:blip r:embed="rId2"/>
          <a:stretch/>
        </p:blipFill>
        <p:spPr>
          <a:xfrm>
            <a:off x="115920" y="2514600"/>
            <a:ext cx="8875800" cy="2376360"/>
          </a:xfrm>
          <a:prstGeom prst="rect">
            <a:avLst/>
          </a:prstGeom>
          <a:ln w="0">
            <a:noFill/>
          </a:ln>
        </p:spPr>
      </p:pic>
      <p:sp>
        <p:nvSpPr>
          <p:cNvPr id="300" name=""/>
          <p:cNvSpPr/>
          <p:nvPr/>
        </p:nvSpPr>
        <p:spPr>
          <a:xfrm>
            <a:off x="685800" y="518148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as medias de los errores son casi nulas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inses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85800" y="579132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a mayor precisi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 se alcanza en los planes 2 y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1066680" y="45720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Elecci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  <a:ea typeface="Times New Roman"/>
              </a:rPr>
              <a:t>ó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n del plan de kriging (3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09480" y="1752480"/>
            <a:ext cx="76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Nubes de correlaci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n entre leyes reales y estima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85800" y="5425920"/>
            <a:ext cx="815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l sesgo condicional y la dispersi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 de la nube son m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í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imos en los planes 2 y 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5" name="cross_scatplt2" descr=""/>
          <p:cNvPicPr/>
          <p:nvPr/>
        </p:nvPicPr>
        <p:blipFill>
          <a:blip r:embed="rId2"/>
          <a:stretch/>
        </p:blipFill>
        <p:spPr>
          <a:xfrm>
            <a:off x="304920" y="2514600"/>
            <a:ext cx="855648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76320" y="228600"/>
            <a:ext cx="891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Kriging de las leyes de cobre a partir</a:t>
            </a:r>
            <a:br>
              <a:rPr sz="3600"/>
            </a:b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de las muestras de exploraci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  <a:ea typeface="Times New Roman"/>
              </a:rPr>
              <a:t>ó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n 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09480" y="2058840"/>
            <a:ext cx="76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Kriging ordinario de las leyes en un banco con el plan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8" name="Banco%20real-KO-varKO%20256" descr=""/>
          <p:cNvPicPr/>
          <p:nvPr/>
        </p:nvPicPr>
        <p:blipFill>
          <a:blip r:embed="rId2"/>
          <a:stretch/>
        </p:blipFill>
        <p:spPr>
          <a:xfrm>
            <a:off x="152280" y="2820960"/>
            <a:ext cx="8839440" cy="31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609480" y="2133720"/>
            <a:ext cx="76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Kriging simple de las leyes (media = 0.98% Cu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0" name="Banco%20real-KS-varKS%20256" descr=""/>
          <p:cNvPicPr/>
          <p:nvPr/>
        </p:nvPicPr>
        <p:blipFill>
          <a:blip r:embed="rId2"/>
          <a:stretch/>
        </p:blipFill>
        <p:spPr>
          <a:xfrm>
            <a:off x="152280" y="2819520"/>
            <a:ext cx="8839440" cy="320040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76320" y="228600"/>
            <a:ext cx="891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Kriging de las leyes de cobre a partir</a:t>
            </a:r>
            <a:br>
              <a:rPr sz="3600"/>
            </a:b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de las muestras de exploraci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  <a:ea typeface="Times New Roman"/>
              </a:rPr>
              <a:t>ó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n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609480" y="2133720"/>
            <a:ext cx="76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Kriging ordinario de bloques de soporte 5m </a:t>
            </a:r>
            <a:r>
              <a:rPr b="1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 5m </a:t>
            </a:r>
            <a:r>
              <a:rPr b="1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 12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3" name="Banco%205m%20real-KO-varKO%20color%20256" descr=""/>
          <p:cNvPicPr/>
          <p:nvPr/>
        </p:nvPicPr>
        <p:blipFill>
          <a:blip r:embed="rId2"/>
          <a:stretch/>
        </p:blipFill>
        <p:spPr>
          <a:xfrm>
            <a:off x="152280" y="2819520"/>
            <a:ext cx="8839440" cy="3200400"/>
          </a:xfrm>
          <a:prstGeom prst="rect">
            <a:avLst/>
          </a:prstGeom>
          <a:ln w="0">
            <a:noFill/>
          </a:ln>
        </p:spPr>
      </p:pic>
      <p:sp>
        <p:nvSpPr>
          <p:cNvPr id="314" name=""/>
          <p:cNvSpPr/>
          <p:nvPr/>
        </p:nvSpPr>
        <p:spPr>
          <a:xfrm>
            <a:off x="76320" y="228600"/>
            <a:ext cx="891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Kriging de las leyes de cobre a partir</a:t>
            </a:r>
            <a:br>
              <a:rPr sz="3600"/>
            </a:b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de las muestras de exploraci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  <a:ea typeface="Times New Roman"/>
              </a:rPr>
              <a:t>ó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n (3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609480" y="213372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Kriging ordinario de bloques de soporte 25m </a:t>
            </a:r>
            <a:r>
              <a:rPr b="1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 25m </a:t>
            </a:r>
            <a:r>
              <a:rPr b="1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 12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6" name="Banco%2025m%20real-KO-varKO%20color%20256" descr=""/>
          <p:cNvPicPr/>
          <p:nvPr/>
        </p:nvPicPr>
        <p:blipFill>
          <a:blip r:embed="rId2"/>
          <a:stretch/>
        </p:blipFill>
        <p:spPr>
          <a:xfrm>
            <a:off x="152280" y="2819520"/>
            <a:ext cx="8839440" cy="320040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/>
          <p:nvPr/>
        </p:nvSpPr>
        <p:spPr>
          <a:xfrm>
            <a:off x="76320" y="228600"/>
            <a:ext cx="891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Kriging de las leyes de cobre a partir</a:t>
            </a:r>
            <a:br>
              <a:rPr sz="3600"/>
            </a:b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de las muestras de exploraci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  <a:ea typeface="Times New Roman"/>
              </a:rPr>
              <a:t>ó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n (4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1219320" y="45720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Categorización de recursos 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685800" y="160020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No todos los bloques estimados tienen el mismo grado de confiabilidad. Por ende, se suele definir varias categorías de recurs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914400" y="289548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recursos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medido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: mayor grado de confiab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914400" y="335268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recursos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indicado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: confiabilidad medi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914400" y="380988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recursos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inferido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: poca confiab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85800" y="4527720"/>
            <a:ext cx="7848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os recursos medidos + indicados se denominan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demostrado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y son aquellos que se consideran para efectos financieros (evaluación del proyecto minero). Ahora bien, la definición de cada categoría es muy vaga y depende en gran parte del criterio del especialis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1219320" y="45720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Categorización de recursos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09480" y="160020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xiste una categorización similar para las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reserva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(probadas, probables, posibles), que son la fracci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n de los recursos que se puede explotar técnica y económicame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09480" y="2959200"/>
            <a:ext cx="8001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Una manera de identificar las categorías consiste en clasificar los bloques según su varianza de estimación (la definición de las varianzas límites debe tomar en cuenta el tipo de yacimiento y el muestreo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09480" y="472428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Otros criterio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: número de muestras en la vecindad de kriging, distancia promedio de las muestras cercanas, criterio geológico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09480" y="586728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¿pertinencia de la categorizació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1219320" y="45720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Categorización de recursos (3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33520" y="144792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Un ejemplo “molestoso”: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ategorizaci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n a partir de dos medidas de incertidumbre (varianza de kriging y varianza de un conjunto de simulaciones condicional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33520" y="5442120"/>
            <a:ext cx="815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 diferencia del kriging, las simulaciones condicionales toman en cuenta la mayor incertidumbre que existe en las zonas de altas leyes debido al efecto proporcion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2" name="Categorizacion" descr=""/>
          <p:cNvPicPr/>
          <p:nvPr/>
        </p:nvPicPr>
        <p:blipFill>
          <a:blip r:embed="rId2"/>
          <a:stretch/>
        </p:blipFill>
        <p:spPr>
          <a:xfrm>
            <a:off x="1600200" y="2744640"/>
            <a:ext cx="5869080" cy="27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219320" y="45720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Los estimadores tradicionales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85800" y="160020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imador del más cercano veci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5800" y="213372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ribuye toda la ponderación al dato más cercano al sitio a estimar. En este caso se trata del dato ubicado en C.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mv" descr=""/>
          <p:cNvPicPr/>
          <p:nvPr/>
        </p:nvPicPr>
        <p:blipFill>
          <a:blip r:embed="rId2"/>
          <a:stretch/>
        </p:blipFill>
        <p:spPr>
          <a:xfrm>
            <a:off x="2970360" y="3200400"/>
            <a:ext cx="335412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/>
          <p:nvPr/>
        </p:nvSpPr>
        <p:spPr>
          <a:xfrm>
            <a:off x="76320" y="228600"/>
            <a:ext cx="891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15692b"/>
                </a:solidFill>
                <a:latin typeface="Times New Roman"/>
              </a:rPr>
              <a:t>Estimaci</a:t>
            </a:r>
            <a:r>
              <a:rPr b="1" lang="es-ES_tradnl" sz="3600" spc="-1" strike="noStrike">
                <a:solidFill>
                  <a:srgbClr val="15692b"/>
                </a:solidFill>
                <a:latin typeface="Times New Roman"/>
                <a:ea typeface="Times New Roman"/>
              </a:rPr>
              <a:t>ó</a:t>
            </a:r>
            <a:r>
              <a:rPr b="1" lang="es-ES_tradnl" sz="3600" spc="-1" strike="noStrike">
                <a:solidFill>
                  <a:srgbClr val="15692b"/>
                </a:solidFill>
                <a:latin typeface="Times New Roman"/>
              </a:rPr>
              <a:t>n de las leyes de cobre a </a:t>
            </a:r>
            <a:br>
              <a:rPr sz="3600"/>
            </a:br>
            <a:r>
              <a:rPr b="1" lang="es-ES_tradnl" sz="3600" spc="-1" strike="noStrike">
                <a:solidFill>
                  <a:srgbClr val="15692b"/>
                </a:solidFill>
                <a:latin typeface="Times New Roman"/>
              </a:rPr>
              <a:t>partir de los pozos de tronadura 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4" name="Banco%2025m%20explotacion%20color256" descr=""/>
          <p:cNvPicPr/>
          <p:nvPr/>
        </p:nvPicPr>
        <p:blipFill>
          <a:blip r:embed="rId2"/>
          <a:stretch/>
        </p:blipFill>
        <p:spPr>
          <a:xfrm>
            <a:off x="212760" y="1828800"/>
            <a:ext cx="8702640" cy="3110040"/>
          </a:xfrm>
          <a:prstGeom prst="rect">
            <a:avLst/>
          </a:prstGeom>
          <a:ln w="0">
            <a:noFill/>
          </a:ln>
        </p:spPr>
      </p:pic>
      <p:sp>
        <p:nvSpPr>
          <p:cNvPr id="335" name=""/>
          <p:cNvSpPr/>
          <p:nvPr/>
        </p:nvSpPr>
        <p:spPr>
          <a:xfrm>
            <a:off x="304920" y="550224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sto mina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0.6 US$/t; costo planta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4.4 US$/t; recuperaci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0.8; costo fundici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770 US$/t; precio cobre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1870 US$/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04920" y="502920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Par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á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metros asociados a una ley de corte de 0.5% Cu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/>
          <p:nvPr/>
        </p:nvSpPr>
        <p:spPr>
          <a:xfrm>
            <a:off x="76320" y="228600"/>
            <a:ext cx="891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15692b"/>
                </a:solidFill>
                <a:latin typeface="Times New Roman"/>
              </a:rPr>
              <a:t>Estimaci</a:t>
            </a:r>
            <a:r>
              <a:rPr b="1" lang="es-ES_tradnl" sz="3600" spc="-1" strike="noStrike">
                <a:solidFill>
                  <a:srgbClr val="15692b"/>
                </a:solidFill>
                <a:latin typeface="Times New Roman"/>
                <a:ea typeface="Times New Roman"/>
              </a:rPr>
              <a:t>ó</a:t>
            </a:r>
            <a:r>
              <a:rPr b="1" lang="es-ES_tradnl" sz="3600" spc="-1" strike="noStrike">
                <a:solidFill>
                  <a:srgbClr val="15692b"/>
                </a:solidFill>
                <a:latin typeface="Times New Roman"/>
              </a:rPr>
              <a:t>n de las leyes de cobre a </a:t>
            </a:r>
            <a:br>
              <a:rPr sz="3600"/>
            </a:br>
            <a:r>
              <a:rPr b="1" lang="es-ES_tradnl" sz="3600" spc="-1" strike="noStrike">
                <a:solidFill>
                  <a:srgbClr val="15692b"/>
                </a:solidFill>
                <a:latin typeface="Times New Roman"/>
              </a:rPr>
              <a:t>partir de los pozos de tronadura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8" name="" descr=""/>
          <p:cNvPicPr/>
          <p:nvPr/>
        </p:nvPicPr>
        <p:blipFill>
          <a:blip r:embed="rId2"/>
          <a:stretch/>
        </p:blipFill>
        <p:spPr>
          <a:xfrm>
            <a:off x="990720" y="4363920"/>
            <a:ext cx="7086600" cy="2113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533520" y="1905120"/>
            <a:ext cx="80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Resultados econ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micos para una ley de corte de 0.5% C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0" name="" descr=""/>
          <p:cNvPicPr/>
          <p:nvPr/>
        </p:nvPicPr>
        <p:blipFill>
          <a:blip r:embed="rId3"/>
          <a:srcRect l="14604" t="9858" r="43622" b="12775"/>
          <a:stretch/>
        </p:blipFill>
        <p:spPr>
          <a:xfrm>
            <a:off x="4114800" y="2335320"/>
            <a:ext cx="2093760" cy="2008080"/>
          </a:xfrm>
          <a:prstGeom prst="rect">
            <a:avLst/>
          </a:prstGeom>
          <a:ln w="0">
            <a:noFill/>
          </a:ln>
        </p:spPr>
      </p:pic>
      <p:pic>
        <p:nvPicPr>
          <p:cNvPr id="341" name="" descr=""/>
          <p:cNvPicPr/>
          <p:nvPr/>
        </p:nvPicPr>
        <p:blipFill>
          <a:blip r:embed="rId4"/>
          <a:srcRect l="71404" t="31891" r="2039" b="33342"/>
          <a:stretch/>
        </p:blipFill>
        <p:spPr>
          <a:xfrm>
            <a:off x="1905120" y="2590920"/>
            <a:ext cx="1981080" cy="1452600"/>
          </a:xfrm>
          <a:prstGeom prst="rect">
            <a:avLst/>
          </a:prstGeom>
          <a:ln w="0">
            <a:noFill/>
          </a:ln>
        </p:spPr>
      </p:pic>
      <p:pic>
        <p:nvPicPr>
          <p:cNvPr id="342" name="" descr=""/>
          <p:cNvPicPr/>
          <p:nvPr/>
        </p:nvPicPr>
        <p:blipFill>
          <a:blip r:embed="rId5"/>
          <a:srcRect l="12075" t="9736" r="43039" b="12871"/>
          <a:stretch/>
        </p:blipFill>
        <p:spPr>
          <a:xfrm>
            <a:off x="6019920" y="2332080"/>
            <a:ext cx="2184120" cy="201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/>
          <p:nvPr/>
        </p:nvSpPr>
        <p:spPr>
          <a:xfrm>
            <a:off x="685800" y="2590920"/>
            <a:ext cx="7772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12490f"/>
                </a:solidFill>
                <a:latin typeface="Times New Roman"/>
              </a:rPr>
              <a:t>Influencia de los par</a:t>
            </a:r>
            <a:r>
              <a:rPr b="1" lang="en-US" sz="4800" spc="-1" strike="noStrike">
                <a:solidFill>
                  <a:srgbClr val="12490f"/>
                </a:solidFill>
                <a:latin typeface="Times New Roman"/>
                <a:ea typeface="Times New Roman"/>
              </a:rPr>
              <a:t>á</a:t>
            </a:r>
            <a:r>
              <a:rPr b="1" lang="en-US" sz="4800" spc="-1" strike="noStrike">
                <a:solidFill>
                  <a:srgbClr val="12490f"/>
                </a:solidFill>
                <a:latin typeface="Times New Roman"/>
              </a:rPr>
              <a:t>metros en los resultados del kriging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1219320" y="45720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Configuraci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  <a:ea typeface="Times New Roman"/>
              </a:rPr>
              <a:t>ó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n de krig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762120" y="190512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busca estimar el valor en el sitio “?” a partir de los valores muestreados en A, B, C, D, E, F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6" name="config" descr=""/>
          <p:cNvPicPr/>
          <p:nvPr/>
        </p:nvPicPr>
        <p:blipFill>
          <a:blip r:embed="rId2"/>
          <a:stretch/>
        </p:blipFill>
        <p:spPr>
          <a:xfrm>
            <a:off x="2895480" y="2895480"/>
            <a:ext cx="33544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1219320" y="228600"/>
            <a:ext cx="6705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Influencia del comportamiento del variograma en el origen 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8" name="tipo%20modelo" descr=""/>
          <p:cNvPicPr/>
          <p:nvPr/>
        </p:nvPicPr>
        <p:blipFill>
          <a:blip r:embed="rId2"/>
          <a:stretch/>
        </p:blipFill>
        <p:spPr>
          <a:xfrm>
            <a:off x="1150920" y="3125880"/>
            <a:ext cx="6773760" cy="319860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/>
          <p:nvPr/>
        </p:nvSpPr>
        <p:spPr>
          <a:xfrm>
            <a:off x="457200" y="198108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Variograma lineal v/s variograma parab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ico en el orig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066680" y="2590920"/>
            <a:ext cx="335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esférico (alcance 1, meseta 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648320" y="2590920"/>
            <a:ext cx="358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gaussiano (alcance 1, meseta 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1219320" y="228600"/>
            <a:ext cx="6705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Influencia del comportamiento del variograma en el origen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066680" y="2590920"/>
            <a:ext cx="335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esférico (alcance 1, meseta 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648320" y="2590920"/>
            <a:ext cx="358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esférico (0.5) + pepita (0.5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5" name="esferico%2005%20pepita%2005" descr=""/>
          <p:cNvPicPr/>
          <p:nvPr/>
        </p:nvPicPr>
        <p:blipFill>
          <a:blip r:embed="rId2"/>
          <a:stretch/>
        </p:blipFill>
        <p:spPr>
          <a:xfrm>
            <a:off x="1143000" y="3125880"/>
            <a:ext cx="6773760" cy="3198600"/>
          </a:xfrm>
          <a:prstGeom prst="rect">
            <a:avLst/>
          </a:prstGeom>
          <a:ln w="0">
            <a:noFill/>
          </a:ln>
        </p:spPr>
      </p:pic>
      <p:sp>
        <p:nvSpPr>
          <p:cNvPr id="356" name=""/>
          <p:cNvSpPr/>
          <p:nvPr/>
        </p:nvSpPr>
        <p:spPr>
          <a:xfrm>
            <a:off x="457200" y="198108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Variograma lineal v/s variograma con discontinuidad en el orig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1219320" y="228600"/>
            <a:ext cx="6705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Influencia del comportamiento del variograma en el origen (3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066680" y="2590920"/>
            <a:ext cx="335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esférico (alcance 1, meseta 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4648320" y="2590920"/>
            <a:ext cx="358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efecto pepita  puro (meseta 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0" name="pepita%20puro%201" descr=""/>
          <p:cNvPicPr/>
          <p:nvPr/>
        </p:nvPicPr>
        <p:blipFill>
          <a:blip r:embed="rId2"/>
          <a:stretch/>
        </p:blipFill>
        <p:spPr>
          <a:xfrm>
            <a:off x="1150920" y="3125880"/>
            <a:ext cx="6773760" cy="3198600"/>
          </a:xfrm>
          <a:prstGeom prst="rect">
            <a:avLst/>
          </a:prstGeom>
          <a:ln w="0">
            <a:noFill/>
          </a:ln>
        </p:spPr>
      </p:pic>
      <p:sp>
        <p:nvSpPr>
          <p:cNvPr id="361" name=""/>
          <p:cNvSpPr/>
          <p:nvPr/>
        </p:nvSpPr>
        <p:spPr>
          <a:xfrm>
            <a:off x="457200" y="198108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Variograma lineal v/s variograma totalmente pep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í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tic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1219320" y="228600"/>
            <a:ext cx="6705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Influencia de la meseta</a:t>
            </a:r>
            <a:br>
              <a:rPr sz="3600"/>
            </a:b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del variogram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066680" y="2590920"/>
            <a:ext cx="335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esférico (alcance 1, meseta 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648320" y="2590920"/>
            <a:ext cx="358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esférico (alcance 1, meseta 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5" name="meseta" descr=""/>
          <p:cNvPicPr/>
          <p:nvPr/>
        </p:nvPicPr>
        <p:blipFill>
          <a:blip r:embed="rId2"/>
          <a:stretch/>
        </p:blipFill>
        <p:spPr>
          <a:xfrm>
            <a:off x="1150920" y="3125880"/>
            <a:ext cx="6773760" cy="3198600"/>
          </a:xfrm>
          <a:prstGeom prst="rect">
            <a:avLst/>
          </a:prstGeom>
          <a:ln w="0">
            <a:noFill/>
          </a:ln>
        </p:spPr>
      </p:pic>
      <p:sp>
        <p:nvSpPr>
          <p:cNvPr id="366" name=""/>
          <p:cNvSpPr/>
          <p:nvPr/>
        </p:nvSpPr>
        <p:spPr>
          <a:xfrm>
            <a:off x="457200" y="198108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e toma el modelo esférico como refer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1219320" y="228600"/>
            <a:ext cx="6705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Influencia del alcance</a:t>
            </a:r>
            <a:br>
              <a:rPr sz="3600"/>
            </a:b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del variograma 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066680" y="2590920"/>
            <a:ext cx="335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esférico (alcance 1, meseta 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648320" y="2590920"/>
            <a:ext cx="358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esférico (alcance 2, meseta 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0" name="alcance%201-2" descr=""/>
          <p:cNvPicPr/>
          <p:nvPr/>
        </p:nvPicPr>
        <p:blipFill>
          <a:blip r:embed="rId2"/>
          <a:stretch/>
        </p:blipFill>
        <p:spPr>
          <a:xfrm>
            <a:off x="1150920" y="3125880"/>
            <a:ext cx="6773760" cy="31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1219320" y="228600"/>
            <a:ext cx="6705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Influencia del alcance</a:t>
            </a:r>
            <a:br>
              <a:rPr sz="3600"/>
            </a:b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del variograma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066680" y="2590920"/>
            <a:ext cx="335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esférico (alcance 1, meseta 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648320" y="2590920"/>
            <a:ext cx="358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esférico (alcance 0.5, meseta 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4" name="alcance%201-05" descr=""/>
          <p:cNvPicPr/>
          <p:nvPr/>
        </p:nvPicPr>
        <p:blipFill>
          <a:blip r:embed="rId2"/>
          <a:stretch/>
        </p:blipFill>
        <p:spPr>
          <a:xfrm>
            <a:off x="1150920" y="3125880"/>
            <a:ext cx="6773760" cy="31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219320" y="45720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Los estimadores tradicionales (3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85800" y="160020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imador del inverso de la dista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85800" y="213372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igna a cada dato una ponderación inversamente proporcional a (una potencia de) su distancia al sitio a estimar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invd%201%202" descr=""/>
          <p:cNvPicPr/>
          <p:nvPr/>
        </p:nvPicPr>
        <p:blipFill>
          <a:blip r:embed="rId2"/>
          <a:stretch/>
        </p:blipFill>
        <p:spPr>
          <a:xfrm>
            <a:off x="1147680" y="3505320"/>
            <a:ext cx="6701040" cy="32004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143000" y="3048120"/>
            <a:ext cx="7391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inverso de la distancia        inverso del cuadrado de la dista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1219320" y="228600"/>
            <a:ext cx="6705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Influencia del efecto de </a:t>
            </a:r>
            <a:br>
              <a:rPr sz="3600"/>
            </a:b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hoyo del variogram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066680" y="2590920"/>
            <a:ext cx="335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esférico (alcance 1, meseta 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648320" y="2590920"/>
            <a:ext cx="373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seno cardinal (semi-per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í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odo 0.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8" name="efecto%20de%20hoyo" descr=""/>
          <p:cNvPicPr/>
          <p:nvPr/>
        </p:nvPicPr>
        <p:blipFill>
          <a:blip r:embed="rId2"/>
          <a:stretch/>
        </p:blipFill>
        <p:spPr>
          <a:xfrm>
            <a:off x="1150920" y="3125880"/>
            <a:ext cx="6773760" cy="31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1219320" y="228600"/>
            <a:ext cx="6705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Influencia de la anisotrop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  <a:ea typeface="Times New Roman"/>
              </a:rPr>
              <a:t>í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a</a:t>
            </a:r>
            <a:br>
              <a:rPr sz="3600"/>
            </a:b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del variogram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066680" y="2590920"/>
            <a:ext cx="335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esférico (alcance 1, meseta 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572000" y="2362320"/>
            <a:ext cx="373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esférico anis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tropo (meseta 1, alcances 2 [N45E] y 0.5 [N45O]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2" name="anisotropia" descr=""/>
          <p:cNvPicPr/>
          <p:nvPr/>
        </p:nvPicPr>
        <p:blipFill>
          <a:blip r:embed="rId2"/>
          <a:stretch/>
        </p:blipFill>
        <p:spPr>
          <a:xfrm>
            <a:off x="1150920" y="3125880"/>
            <a:ext cx="6773760" cy="31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1219320" y="228600"/>
            <a:ext cx="6705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Influencia del tipo de kriging: simple u ordinario 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066680" y="2362320"/>
            <a:ext cx="3353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esférico (alcance 1, meseta 1) kriging ordina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572000" y="2362320"/>
            <a:ext cx="373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esférico (alcance 1, meseta 1) kriging si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6" name="KO%20KS%20esf%201" descr=""/>
          <p:cNvPicPr/>
          <p:nvPr/>
        </p:nvPicPr>
        <p:blipFill>
          <a:blip r:embed="rId2"/>
          <a:stretch/>
        </p:blipFill>
        <p:spPr>
          <a:xfrm>
            <a:off x="1150920" y="3125880"/>
            <a:ext cx="6773760" cy="31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1219320" y="228600"/>
            <a:ext cx="6705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Influencia del tipo de kriging: simple u ordinario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990720" y="2362320"/>
            <a:ext cx="3504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esférico (alcance 0.5, meseta 1) kriging ordina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572000" y="2362320"/>
            <a:ext cx="373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esférico (alcance 0.5, meseta 1) kriging si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0" name="KO%20KS%20esf%2005" descr=""/>
          <p:cNvPicPr/>
          <p:nvPr/>
        </p:nvPicPr>
        <p:blipFill>
          <a:blip r:embed="rId2"/>
          <a:stretch/>
        </p:blipFill>
        <p:spPr>
          <a:xfrm>
            <a:off x="1150920" y="3125880"/>
            <a:ext cx="6773760" cy="31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/>
          <p:nvPr/>
        </p:nvSpPr>
        <p:spPr>
          <a:xfrm>
            <a:off x="1219320" y="228600"/>
            <a:ext cx="6705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Influencia del tipo de kriging: puntual o de bloque 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066680" y="2362320"/>
            <a:ext cx="3353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esférico (alcance 1, meseta 1) kriging puntu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4572000" y="2362320"/>
            <a:ext cx="373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esférico (alcance 1, meseta 1) kriging de un bloque 0.25 </a:t>
            </a:r>
            <a:r>
              <a:rPr b="1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 0.2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4" name="bloque%200%20-%20025" descr=""/>
          <p:cNvPicPr/>
          <p:nvPr/>
        </p:nvPicPr>
        <p:blipFill>
          <a:blip r:embed="rId2"/>
          <a:stretch/>
        </p:blipFill>
        <p:spPr>
          <a:xfrm>
            <a:off x="1150920" y="3125880"/>
            <a:ext cx="6773760" cy="31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/>
          <p:nvPr/>
        </p:nvSpPr>
        <p:spPr>
          <a:xfrm>
            <a:off x="1219320" y="228600"/>
            <a:ext cx="6705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Influencia del tipo de kriging: puntual o de bloque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990720" y="2362320"/>
            <a:ext cx="3429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esférico (alcance 1, meseta 1) kriging de un bloque 0.5 </a:t>
            </a:r>
            <a:r>
              <a:rPr b="1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 0.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4572000" y="2362320"/>
            <a:ext cx="373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esférico (alcance 1, meseta 1) kriging de un bloque 1.0 </a:t>
            </a:r>
            <a:r>
              <a:rPr b="1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 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8" name="bloque%2005%20-%201" descr=""/>
          <p:cNvPicPr/>
          <p:nvPr/>
        </p:nvPicPr>
        <p:blipFill>
          <a:blip r:embed="rId2"/>
          <a:stretch/>
        </p:blipFill>
        <p:spPr>
          <a:xfrm>
            <a:off x="1150920" y="3125880"/>
            <a:ext cx="6773760" cy="31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1523880" y="457200"/>
            <a:ext cx="59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Ejercici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457200" y="152388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Buscar un plan de kriging adecuado para las leyes de cobre y or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762120" y="205740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000000"/>
                </a:solidFill>
                <a:latin typeface="Times New Roman"/>
              </a:rPr>
              <a:t>kt3d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locxyz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histplt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scatplt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condb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57200" y="2666880"/>
            <a:ext cx="83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 partir de los </a:t>
            </a: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sondajes de exploraci</a:t>
            </a: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ó</a:t>
            </a: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n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, estimar las leyes de cobre y oro en los bloques 25m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 25m × 12m e i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ustrar las propiedades del krig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762120" y="388620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kt3d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pixelplt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histplt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scatplt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condb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57200" y="4467240"/>
            <a:ext cx="8381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 partir de los </a:t>
            </a: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pozos de tronadura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, krigear las leyes de cobre en los bloques 25m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 25m × 12m. Comparar los resultados económicos obtenidos con aquellos que se obtendrían al estimar cada bloque por su pozo centr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762120" y="609588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t3d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fr-FR" sz="2400" spc="-1" strike="noStrike">
                <a:solidFill>
                  <a:srgbClr val="000000"/>
                </a:solidFill>
                <a:latin typeface="Times New Roman"/>
              </a:rPr>
              <a:t>Exc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/>
          <p:nvPr/>
        </p:nvSpPr>
        <p:spPr>
          <a:xfrm>
            <a:off x="990720" y="2482920"/>
            <a:ext cx="7162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12490f"/>
                </a:solidFill>
                <a:latin typeface="Times New Roman"/>
              </a:rPr>
              <a:t>Archivos de par</a:t>
            </a:r>
            <a:r>
              <a:rPr b="1" lang="en-US" sz="4800" spc="-1" strike="noStrike">
                <a:solidFill>
                  <a:srgbClr val="12490f"/>
                </a:solidFill>
                <a:latin typeface="Times New Roman"/>
                <a:ea typeface="Times New Roman"/>
              </a:rPr>
              <a:t>á</a:t>
            </a:r>
            <a:r>
              <a:rPr b="1" lang="en-US" sz="4800" spc="-1" strike="noStrike">
                <a:solidFill>
                  <a:srgbClr val="12490f"/>
                </a:solidFill>
                <a:latin typeface="Times New Roman"/>
              </a:rPr>
              <a:t>metros de los programas GSLib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/>
          <p:nvPr/>
        </p:nvSpPr>
        <p:spPr>
          <a:xfrm>
            <a:off x="533520" y="1030320"/>
            <a:ext cx="8076960" cy="57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urier New"/>
              </a:rPr>
              <a:t>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Parameters for KT3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***************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START OF PARAMETER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muestras1.dat                    -file with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  1  2  3  4  0                 -   columns for DH,X,Y,Z,var,sec v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-1.0   1.0e21                    -   trimming lim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2                                -option: 0=grid, 1=cross, 2=jackknif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muestras2.dat                    -file with jackknife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 2   3    4    0              -   columns for X,Y,Z,vr and sec v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                                -debugging level: 0,1,2,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jackknife.dbg                    -file for debugging 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jack_Cu_plan2.out                -file for kriged 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50   0.5    1.0                  -nx,xmn,xsi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50   0.5    1.0                  -ny,ymn,ysi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  0.5    1.0                  -nz,zmn,zsi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  1      1                    -x,y and z block discret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  24                          -min, max data for krig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3                                -max per octant (0-&gt; not us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00.0  100.0  150.0              -maximum search rad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.0   0.0   0.0                 -angles for search ellipso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   2.302                      -0=SK,1=OK,2=non-st SK,3=ex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 0 0 0 0 0 0 0 0                -drift: x,y,z,xx,yy,zz,xy,xz,z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                                -0, variable; 1, estimate tr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extdrift.dat                     -gridded file with drift/me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4                                -  column number in gridded f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2    0.06                        -nst, nugget eff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  0.18  0.0   0.0   0.0       -it,cc,ang1,ang2,ang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00.0  100.0  100.0      -a_hmax, a_hmin, a_ve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2    0.20  0.0   0.0   0.0       -it,cc,ang1,ang2,ang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40.0   40.0  99999      -a_hmax, a_hmin, a_ve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1219320" y="30492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Plan de kriging 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/>
          <p:nvPr/>
        </p:nvSpPr>
        <p:spPr>
          <a:xfrm>
            <a:off x="533520" y="1498680"/>
            <a:ext cx="807696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Parameters for locxy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*****************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START OF PARAMETER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jack_Cu_plan2.out               -file with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 2   7                       -   columns for X, Y, vari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3   -1.0e21   1.0e21            -   columns for Z and coordinate lim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-998.0    1.0e21                -   trimming lim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mapa_error_Cu_plan2.ps          -file for PostScript 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.0    400.                     -xmn,xm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.0    600.                     -ymn,ym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                             -0=data values, 1=cross valid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                               -0=arithmetic,  1=log sc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                             -0=gray scale,  1=color sc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                               -0=no labels,   1=label each lo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.0   3.0    0.5                -gray/color scale: min, max, incr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.25                            -label size: 0.1(sml)-1(reg)-10(bi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Plan 2                          -Tit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219320" y="30492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Plan de kriging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219320" y="45720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Los estimadores tradicionales (4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144792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ntaj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85800" y="198108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áciles de ejecut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320040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onven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85800" y="502920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bos estimadores no toman en cuenta la estructuración de la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variable regionalizada: continuidad en el espacio, anisotrop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5800" y="376560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más cercano vecino apantalla a todos los otros datos, luego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omite parte de la información. El inverso de la distancia no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considera las redundancias que existen entre datos agrup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85800" y="251460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ambos casos, el estimador privilegia los datos cercan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85800" y="594360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miden la precisión de la estim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/>
          <p:nvPr/>
        </p:nvSpPr>
        <p:spPr>
          <a:xfrm>
            <a:off x="533520" y="1498680"/>
            <a:ext cx="807696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urier New"/>
              </a:rPr>
              <a:t>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Parameters for HISTP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******************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START OF PARAMETER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jack_Cu_plan2.out            -file with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7   0                        -   columns for variable and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-1.0e21     1.0e21           -   trimming lim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hist_error_Cu_plan2.ps       -file for PostScript 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-2.0      2.0               -attribute minimum and maxim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.25                         -frequency maximum (&lt;0 for automati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20                           -number of 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                            -0=arithmetic, 1=log sc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                            -0=frequency,  1=cumulative histo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                            -   number of cum. quantiles (&lt;0 for al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2                            -number of decimal places (&lt;0 for auto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Plan 2                       -tit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.5                          -positioning of stats (L to R: -1 to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-1.1e21                      -reference value for box pl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1219320" y="30492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Plan de kriging (3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/>
          <p:nvPr/>
        </p:nvSpPr>
        <p:spPr>
          <a:xfrm>
            <a:off x="533520" y="1467000"/>
            <a:ext cx="8076960" cy="26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urier New"/>
              </a:rPr>
              <a:t>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Parameters for SCATP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******************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START OF PARAMETER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jack_Cu_plan2.out                 -file with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5   4   0    0                    -  columns for X, Y, wt, third va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-1.0   1.0e21                     -  trimming lim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scatplt_Cu_plan2.ps               -file for Postscript 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.0     3.0      0                -X min and max, (0=arith, 1=lo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.0     3.0      0                -Y min and max, (0=arith, 1=lo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                               -plot every nth data poi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.5                               -bullet size: 0.1(sml)-1(reg)-10(bi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.0      2.0                      -limits for third variable gray sc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Plan 2                            -tit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19320" y="30492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Plan de kriging (4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33520" y="4300560"/>
            <a:ext cx="8076960" cy="21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urier New"/>
              </a:rPr>
              <a:t>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CONDBIAS: Conditional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****************************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START OF PARAMETER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jack_Cu_plan2.out                       \Input data f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5   4                                   \column for estimate, 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-1.0   1.0e21                           \tmin,tma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condb_Cu_plan2_regresion.out            \Output for conditional bi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20                                      \number of 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condb_Cu_plan2_leyesmedias.out          \Output for mean above cuto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30   0.0   0.1                          \number of cutoffs, start, in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533520" y="1030320"/>
            <a:ext cx="8076960" cy="57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urier New"/>
              </a:rPr>
              <a:t>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Parameters for KT3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***************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START OF PARAMETER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muestras.dat                     -file with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  1  2  3  4  0                 -   columns for DH,X,Y,Z,var,sec v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-1.0   1.0e21                    -   trimming lim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2                                -option: 0=grid, 1=cross, 2=jackknif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Grilla_25x25.dat                 -file with jackknife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 2   3    5    0              -   columns for X,Y,Z,vr and sec v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                                -debugging level: 0,1,2,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kt3d.dbg                         -file for debugging 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kriging_Cu25_exploracion.out     -file for kriged 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6   12.5    25.0                -nx,xmn,xsi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24   12.5    25.0                -ny,ymn,ysi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1   11.0    12.0                -nz,zmn,zsi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0   10    1                     -x,y and z block discret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  24                          -min, max data for krig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3                                -max per octant (0-&gt; not us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00.0  100.0  150.0              -maximum search rad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.0   0.0   0.0                 -angles for search ellipso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   2.302                      -0=SK,1=OK,2=non-st SK,3=ex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 0 0 0 0 0 0 0 0                -drift: x,y,z,xx,yy,zz,xy,xz,z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                                -0, variable; 1, estimate tr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extdrift.dat                     -gridded file with drift/me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4                                -  column number in gridded f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2    0.06                        -nst, nugget eff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  0.18  0.0   0.0   0.0       -it,cc,ang1,ang2,ang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00.0  100.0  100.0      -a_hmax, a_hmin, a_ve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2    0.20  0.0   0.0   0.0       -it,cc,ang1,ang2,ang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40.0   40.0  99999      -a_hmax, a_hmin, a_ve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1219320" y="30492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Kriging de bloques 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533520" y="1030320"/>
            <a:ext cx="8076960" cy="57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urier New"/>
              </a:rPr>
              <a:t>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Parameters for KT3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***************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START OF PARAMETER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Grilla_25x25_desfasada.dat       -file with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  1  2  3  4  0                 -   columns for DH,X,Y,Z,var,sec v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-1.0   1.0e21                    -   trimming lim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2                                -option: 0=grid, 1=cross, 2=jackknif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Grilla_25x25.dat                 -file with jackknife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 2   3    5    0              -   columns for X,Y,Z,vr and sec v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                                -debugging level: 0,1,2,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kt3d.dbg                         -file for debugging 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kriging_Cu25_explotacion.out     -file for kriged 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6   12.5    25.0                -nx,xmn,xsi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24   12.5    25.0                -ny,ymn,ysi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1   11.0    12.0                -nz,zmn,zsi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0   10    1                     -x,y and z block discret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  24                          -min, max data for krig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3                                -max per octant (0-&gt; not us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00.0  100.0  150.0              -maximum search rad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.0   0.0   0.0                 -angles for search ellipso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   2.302                      -0=SK,1=OK,2=non-st SK,3=ex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 0 0 0 0 0 0 0 0                -drift: x,y,z,xx,yy,zz,xy,xz,z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                                -0, variable; 1, estimate tr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extdrift.dat                     -gridded file with drift/me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4                                -  column number in gridded f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2    0.06                        -nst, nugget eff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  0.18  0.0   0.0   0.0       -it,cc,ang1,ang2,ang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00.0  100.0  100.0      -a_hmax, a_hmin, a_ve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2    0.20  0.0   0.0   0.0       -it,cc,ang1,ang2,ang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40.0   40.0  99999      -a_hmax, a_hmin, a_ve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1219320" y="30492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Kriging de bloques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1219320" y="45720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Kriging de indicadores 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609480" y="1600200"/>
            <a:ext cx="76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Princip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09480" y="2133720"/>
            <a:ext cx="807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busca caracterizar el valor en el sitio “?” por una distribución de probabilidad, la cual refleja la incertidumbre en este sit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3" name="config" descr=""/>
          <p:cNvPicPr/>
          <p:nvPr/>
        </p:nvPicPr>
        <p:blipFill>
          <a:blip r:embed="rId2"/>
          <a:stretch/>
        </p:blipFill>
        <p:spPr>
          <a:xfrm>
            <a:off x="2895480" y="3200400"/>
            <a:ext cx="33544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/>
          <p:nvPr/>
        </p:nvSpPr>
        <p:spPr>
          <a:xfrm>
            <a:off x="1219320" y="45720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Kriging de indicadores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5" name="" descr=""/>
          <p:cNvPicPr/>
          <p:nvPr/>
        </p:nvPicPr>
        <p:blipFill>
          <a:blip r:embed="rId2"/>
          <a:stretch/>
        </p:blipFill>
        <p:spPr>
          <a:xfrm>
            <a:off x="685800" y="1531800"/>
            <a:ext cx="8077320" cy="2462400"/>
          </a:xfrm>
          <a:prstGeom prst="rect">
            <a:avLst/>
          </a:prstGeom>
          <a:ln w="0">
            <a:noFill/>
          </a:ln>
        </p:spPr>
      </p:pic>
      <p:pic>
        <p:nvPicPr>
          <p:cNvPr id="426" name="KI1" descr=""/>
          <p:cNvPicPr/>
          <p:nvPr/>
        </p:nvPicPr>
        <p:blipFill>
          <a:blip r:embed="rId3"/>
          <a:stretch/>
        </p:blipFill>
        <p:spPr>
          <a:xfrm>
            <a:off x="4138560" y="4008600"/>
            <a:ext cx="3405240" cy="2697120"/>
          </a:xfrm>
          <a:prstGeom prst="rect">
            <a:avLst/>
          </a:prstGeom>
          <a:ln w="0">
            <a:noFill/>
          </a:ln>
        </p:spPr>
      </p:pic>
      <p:sp>
        <p:nvSpPr>
          <p:cNvPr id="427" name=""/>
          <p:cNvSpPr/>
          <p:nvPr/>
        </p:nvSpPr>
        <p:spPr>
          <a:xfrm>
            <a:off x="4038480" y="3809880"/>
            <a:ext cx="990720" cy="2362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8" name="KI2" descr=""/>
          <p:cNvPicPr/>
          <p:nvPr/>
        </p:nvPicPr>
        <p:blipFill>
          <a:blip r:embed="rId4"/>
          <a:stretch/>
        </p:blipFill>
        <p:spPr>
          <a:xfrm>
            <a:off x="4138560" y="4006800"/>
            <a:ext cx="3405240" cy="2698920"/>
          </a:xfrm>
          <a:prstGeom prst="rect">
            <a:avLst/>
          </a:prstGeom>
          <a:ln w="0">
            <a:noFill/>
          </a:ln>
        </p:spPr>
      </p:pic>
      <p:sp>
        <p:nvSpPr>
          <p:cNvPr id="429" name=""/>
          <p:cNvSpPr/>
          <p:nvPr/>
        </p:nvSpPr>
        <p:spPr>
          <a:xfrm>
            <a:off x="5029200" y="3809880"/>
            <a:ext cx="457200" cy="228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0" name="KI3" descr=""/>
          <p:cNvPicPr/>
          <p:nvPr/>
        </p:nvPicPr>
        <p:blipFill>
          <a:blip r:embed="rId5"/>
          <a:stretch/>
        </p:blipFill>
        <p:spPr>
          <a:xfrm>
            <a:off x="4138560" y="4006800"/>
            <a:ext cx="3405240" cy="2698920"/>
          </a:xfrm>
          <a:prstGeom prst="rect">
            <a:avLst/>
          </a:prstGeom>
          <a:ln w="0">
            <a:noFill/>
          </a:ln>
        </p:spPr>
      </p:pic>
      <p:sp>
        <p:nvSpPr>
          <p:cNvPr id="431" name=""/>
          <p:cNvSpPr/>
          <p:nvPr/>
        </p:nvSpPr>
        <p:spPr>
          <a:xfrm flipH="1">
            <a:off x="5943600" y="3809880"/>
            <a:ext cx="76320" cy="1676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2" name="KI4" descr=""/>
          <p:cNvPicPr/>
          <p:nvPr/>
        </p:nvPicPr>
        <p:blipFill>
          <a:blip r:embed="rId6"/>
          <a:stretch/>
        </p:blipFill>
        <p:spPr>
          <a:xfrm>
            <a:off x="4138560" y="4006800"/>
            <a:ext cx="3405240" cy="2698920"/>
          </a:xfrm>
          <a:prstGeom prst="rect">
            <a:avLst/>
          </a:prstGeom>
          <a:ln w="0">
            <a:noFill/>
          </a:ln>
        </p:spPr>
      </p:pic>
      <p:sp>
        <p:nvSpPr>
          <p:cNvPr id="433" name=""/>
          <p:cNvSpPr/>
          <p:nvPr/>
        </p:nvSpPr>
        <p:spPr>
          <a:xfrm flipH="1">
            <a:off x="6477120" y="3809880"/>
            <a:ext cx="457200" cy="1828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4" name="KI5" descr=""/>
          <p:cNvPicPr/>
          <p:nvPr/>
        </p:nvPicPr>
        <p:blipFill>
          <a:blip r:embed="rId7"/>
          <a:stretch/>
        </p:blipFill>
        <p:spPr>
          <a:xfrm>
            <a:off x="4138560" y="4006800"/>
            <a:ext cx="3405240" cy="2698920"/>
          </a:xfrm>
          <a:prstGeom prst="rect">
            <a:avLst/>
          </a:prstGeom>
          <a:ln w="0">
            <a:noFill/>
          </a:ln>
        </p:spPr>
      </p:pic>
      <p:sp>
        <p:nvSpPr>
          <p:cNvPr id="435" name=""/>
          <p:cNvSpPr/>
          <p:nvPr/>
        </p:nvSpPr>
        <p:spPr>
          <a:xfrm flipH="1">
            <a:off x="6933960" y="3809880"/>
            <a:ext cx="990360" cy="685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762120" y="4191120"/>
            <a:ext cx="2971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 estimación de cada indicador se interpreta como la probabilidad  que el valor verdadero sea menor que la ley de corte asociad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/>
          <p:nvPr/>
        </p:nvSpPr>
        <p:spPr>
          <a:xfrm>
            <a:off x="1219320" y="45720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Kriging de indicadores (3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609480" y="1676520"/>
            <a:ext cx="807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debe corregir las estimaciones para que sean crecientes entre 0 y 1, luego interpolarlas y hacer un eventual cambio de sopor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609480" y="2743200"/>
            <a:ext cx="36576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rección ascend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0" name="KIasc" descr=""/>
          <p:cNvPicPr/>
          <p:nvPr/>
        </p:nvPicPr>
        <p:blipFill>
          <a:blip r:embed="rId2"/>
          <a:stretch/>
        </p:blipFill>
        <p:spPr>
          <a:xfrm>
            <a:off x="485640" y="3267000"/>
            <a:ext cx="3857760" cy="3057480"/>
          </a:xfrm>
          <a:prstGeom prst="rect">
            <a:avLst/>
          </a:prstGeom>
          <a:ln w="0">
            <a:noFill/>
          </a:ln>
        </p:spPr>
      </p:pic>
      <p:pic>
        <p:nvPicPr>
          <p:cNvPr id="441" name="KIdes" descr=""/>
          <p:cNvPicPr/>
          <p:nvPr/>
        </p:nvPicPr>
        <p:blipFill>
          <a:blip r:embed="rId3"/>
          <a:stretch/>
        </p:blipFill>
        <p:spPr>
          <a:xfrm>
            <a:off x="482760" y="3265560"/>
            <a:ext cx="3860640" cy="3058920"/>
          </a:xfrm>
          <a:prstGeom prst="rect">
            <a:avLst/>
          </a:prstGeom>
          <a:ln w="0">
            <a:noFill/>
          </a:ln>
        </p:spPr>
      </p:pic>
      <p:sp>
        <p:nvSpPr>
          <p:cNvPr id="442" name=""/>
          <p:cNvSpPr/>
          <p:nvPr/>
        </p:nvSpPr>
        <p:spPr>
          <a:xfrm>
            <a:off x="609480" y="2743200"/>
            <a:ext cx="36576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rección descend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09480" y="2743200"/>
            <a:ext cx="36576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rección fi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4" name="KIcorr" descr=""/>
          <p:cNvPicPr/>
          <p:nvPr/>
        </p:nvPicPr>
        <p:blipFill>
          <a:blip r:embed="rId4"/>
          <a:stretch/>
        </p:blipFill>
        <p:spPr>
          <a:xfrm>
            <a:off x="482760" y="3265560"/>
            <a:ext cx="3860640" cy="3058920"/>
          </a:xfrm>
          <a:prstGeom prst="rect">
            <a:avLst/>
          </a:prstGeom>
          <a:ln w="0">
            <a:noFill/>
          </a:ln>
        </p:spPr>
      </p:pic>
      <p:sp>
        <p:nvSpPr>
          <p:cNvPr id="445" name=""/>
          <p:cNvSpPr/>
          <p:nvPr/>
        </p:nvSpPr>
        <p:spPr>
          <a:xfrm>
            <a:off x="4800600" y="2743200"/>
            <a:ext cx="36576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polación/extrapol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6" name="KIinterp" descr=""/>
          <p:cNvPicPr/>
          <p:nvPr/>
        </p:nvPicPr>
        <p:blipFill>
          <a:blip r:embed="rId5"/>
          <a:stretch/>
        </p:blipFill>
        <p:spPr>
          <a:xfrm>
            <a:off x="4724280" y="3265560"/>
            <a:ext cx="3861000" cy="3058920"/>
          </a:xfrm>
          <a:prstGeom prst="rect">
            <a:avLst/>
          </a:prstGeom>
          <a:ln w="0">
            <a:noFill/>
          </a:ln>
        </p:spPr>
      </p:pic>
      <p:sp>
        <p:nvSpPr>
          <p:cNvPr id="447" name=""/>
          <p:cNvSpPr/>
          <p:nvPr/>
        </p:nvSpPr>
        <p:spPr>
          <a:xfrm>
            <a:off x="4800600" y="2743200"/>
            <a:ext cx="36576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mbio de sopo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8" name="KIchangesupport" descr=""/>
          <p:cNvPicPr/>
          <p:nvPr/>
        </p:nvPicPr>
        <p:blipFill>
          <a:blip r:embed="rId6"/>
          <a:stretch/>
        </p:blipFill>
        <p:spPr>
          <a:xfrm>
            <a:off x="4724280" y="3265560"/>
            <a:ext cx="3861000" cy="3058920"/>
          </a:xfrm>
          <a:prstGeom prst="rect">
            <a:avLst/>
          </a:prstGeom>
          <a:ln w="0">
            <a:noFill/>
          </a:ln>
        </p:spPr>
      </p:pic>
      <p:sp>
        <p:nvSpPr>
          <p:cNvPr id="449" name="">
            <a:hlinkClick r:id="rId7" action="ppaction://hlinksldjump"/>
          </p:cNvPr>
          <p:cNvSpPr/>
          <p:nvPr/>
        </p:nvSpPr>
        <p:spPr>
          <a:xfrm>
            <a:off x="8534520" y="6248520"/>
            <a:ext cx="539640" cy="539640"/>
          </a:xfrm>
          <a:custGeom>
            <a:avLst/>
            <a:gdLst>
              <a:gd name="textAreaLeft" fmla="*/ 34920 w 539640"/>
              <a:gd name="textAreaRight" fmla="*/ 504720 w 539640"/>
              <a:gd name="textAreaTop" fmla="*/ 34920 h 539640"/>
              <a:gd name="textAreaBottom" fmla="*/ 504720 h 53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71ad4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219320" y="45720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Los estimadores tradicionales (5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85800" y="1523880"/>
            <a:ext cx="807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riging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usca mejorar la ponderación de los datos al tomar en cuenta: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" y="335268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la estructuración de la variable regionalizada (variograma)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" y="281952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las redundancias entre los datos (posibles agrupamientos)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85800" y="236232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sus distancias al sitio a estimar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" y="388620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vilegia los datos cercanos si el variograma es muy regular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85800" y="44197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arte la ponderación entre los datos si existe un efecto pepita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85800" y="4952880"/>
            <a:ext cx="807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caso de anisotropía, privilegia los datos ubicados a lo largo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de las direcciones de mayor alc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85800" y="586728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imismo, el kriging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antifica la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cisión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 la estimación.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219320" y="45720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Construcci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  <a:ea typeface="Times New Roman"/>
              </a:rPr>
              <a:t>ó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n del kriging 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85800" y="152388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sistema de kriging se obtiene al plantear tres restriccion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85800" y="2362320"/>
            <a:ext cx="738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tricción de </a:t>
            </a:r>
            <a:r>
              <a:rPr b="1" lang="es-CL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linealidad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914400" y="3048120"/>
            <a:ext cx="769608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ea z(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) la variable regionalizada en estudio, {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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1... n} los sitios con datos y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el sitio que se busca estim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14400" y="403848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a primera restricci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 consiste en escribir el estimador como una combinaci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n lineal ponderada de los dat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3276720" y="4991040"/>
                <a:ext cx="2819160" cy="76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z</m:t>
                        </m:r>
                      </m:e>
                      <m:sup/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+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α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α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z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α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23" name=""/>
          <p:cNvSpPr/>
          <p:nvPr/>
        </p:nvSpPr>
        <p:spPr>
          <a:xfrm>
            <a:off x="914400" y="5883120"/>
            <a:ext cx="7772400" cy="8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scar los ponderadores {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CL" sz="2400" spc="-1" strike="noStrike" baseline="-30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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.. n} y el coeficiente 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2T14:25:58Z</dcterms:created>
  <dc:creator>Depto. Ing. Minas</dc:creator>
  <dc:description/>
  <dc:language>en-US</dc:language>
  <cp:lastModifiedBy>Minas</cp:lastModifiedBy>
  <dcterms:modified xsi:type="dcterms:W3CDTF">2005-05-28T16:33:37Z</dcterms:modified>
  <cp:revision>158</cp:revision>
  <dc:subject/>
  <dc:title>Sin título de diapositiva</dc:title>
</cp:coreProperties>
</file>