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6AA-32B1-4A4F-955D-4FBC8F26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59D-3675-4F22-8938-A850AAA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B68-6095-4F2E-B776-DC198CA1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B66-C12A-4547-96CF-3338298E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52AF-26D1-4233-AB9E-0C7F228F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79D9-A17A-421F-B3C8-54EF8533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FB3D-D3E3-4C9E-88C7-E8E5E05E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1B43-6DBC-4027-BDA6-5901594A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4BD5-E9E3-407A-B2E5-B9030A81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32B0-EEBE-4913-BEEE-6DC8C011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BD2A-251E-4E46-83A5-987D811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DA0-A80F-4C5D-B32A-BA58D4E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489C-3500-4F53-8E9C-4A540911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30C3-85B5-4A75-B4B8-71471968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6620-6001-407A-8F40-98CBFA54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EACE-4474-4AB0-A11A-6DF2D36F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8E87-47FE-4EB7-8CE7-FAAD3595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56E-D3C5-4651-AD74-6BAA79AC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76E-CD6F-4822-A63A-DC5F2F39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25E-0F93-409B-B26F-2B8428E1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4A1-694F-410C-9C2D-6CF9B3E0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FBA-A6CA-4B40-AAA0-E745B90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DAD-2721-412B-8AEC-AE41FAA7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C59-1E82-476C-B817-A4474197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A1A7-D7F9-4DF0-A7ED-E77F9411217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6BA-143F-423C-A209-98D7D9B15AC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286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3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El cambio de sopo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regularizacion%20variograma" descr=""/>
          <p:cNvPicPr/>
          <p:nvPr/>
        </p:nvPicPr>
        <p:blipFill>
          <a:blip r:embed="rId2"/>
          <a:stretch/>
        </p:blipFill>
        <p:spPr>
          <a:xfrm>
            <a:off x="228600" y="2454120"/>
            <a:ext cx="8748720" cy="310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histplt_cambio_soporte2" descr=""/>
          <p:cNvPicPr/>
          <p:nvPr/>
        </p:nvPicPr>
        <p:blipFill>
          <a:blip r:embed="rId2"/>
          <a:stretch/>
        </p:blipFill>
        <p:spPr>
          <a:xfrm>
            <a:off x="776160" y="1459080"/>
            <a:ext cx="7529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histograma regularizado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514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isma media que el histograma pun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varianz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749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istinta (simetr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587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restricciones en el cambio de forma del histograma, regidas por 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ción de Cart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artierter" descr=""/>
          <p:cNvPicPr/>
          <p:nvPr/>
        </p:nvPicPr>
        <p:blipFill>
          <a:blip r:embed="rId2"/>
          <a:srcRect l="50527" t="0" r="0" b="51348"/>
          <a:stretch/>
        </p:blipFill>
        <p:spPr>
          <a:xfrm>
            <a:off x="4419720" y="1376280"/>
            <a:ext cx="2685960" cy="266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670280"/>
            <a:ext cx="3886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nube de puntos induce los histogramas para cada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s histogramas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gado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artierter" descr=""/>
          <p:cNvPicPr/>
          <p:nvPr/>
        </p:nvPicPr>
        <p:blipFill>
          <a:blip r:embed="rId3"/>
          <a:srcRect l="50527" t="0" r="0" b="0"/>
          <a:stretch/>
        </p:blipFill>
        <p:spPr>
          <a:xfrm>
            <a:off x="4419720" y="1371600"/>
            <a:ext cx="2685960" cy="5481720"/>
          </a:xfrm>
          <a:prstGeom prst="rect">
            <a:avLst/>
          </a:prstGeom>
          <a:ln w="0">
            <a:noFill/>
          </a:ln>
        </p:spPr>
      </p:pic>
      <p:pic>
        <p:nvPicPr>
          <p:cNvPr id="131" name="Cartierter" descr=""/>
          <p:cNvPicPr/>
          <p:nvPr/>
        </p:nvPicPr>
        <p:blipFill>
          <a:blip r:embed="rId4"/>
          <a:srcRect l="0" t="0" r="0" b="45787"/>
          <a:stretch/>
        </p:blipFill>
        <p:spPr>
          <a:xfrm>
            <a:off x="1676520" y="1371600"/>
            <a:ext cx="5429160" cy="297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10280" y="13762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regres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 evaluación glob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828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contexto minero, se desea prever la distribución global de leyes asociada al soporte de la unidad de selección, a partir de la distribución conocida de las muestras de soporte casi-pun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581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r el valor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91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ar la varianza de las leye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876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r la forma del histograma regular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stima la media global con un promedio ponderado de los datos disponibles {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797280"/>
            <a:ext cx="8077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termina 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con algoritmos geométricos, para “corregir” los efectos de las irregularidades de muestreo, atribuyendo un peso mayor a los datos más aislados: oper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grupa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562720"/>
            <a:ext cx="815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deben ser positivos y suma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276228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áreas de infl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eso de un dato es proporcional a su área de influencia en la zona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icultad en la definición de los bord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Thiessen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3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la zona en celdas rectangulares de igual peso; el peso de cada celda se reparte entre las muestras que pertenecen a esta cel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eldas%201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esultado depende de varios paráme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origen de la red de celdas (elegido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200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orientación de las celdas (en general, según los ejes d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coorden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267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tamañ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El efecto de sopor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preferencial en las altas leyes, se sue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tomar el tamaño de celda que minimiza el valor de la medi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desagrup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654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cualquiera, se puede escoger un tamañ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convencional, e.g. la separación promedio entre mues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edia%20versus%20tamamo%20celda" descr=""/>
          <p:cNvPicPr/>
          <p:nvPr/>
        </p:nvPicPr>
        <p:blipFill>
          <a:blip r:embed="rId2"/>
          <a:stretch/>
        </p:blipFill>
        <p:spPr>
          <a:xfrm>
            <a:off x="3048120" y="2682720"/>
            <a:ext cx="3195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ci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 estim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e mide por una “varianza de estimación”, la cual se expresa por medio del variograma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xpresión se simplifica cuando los ponderadores son iguales y el muestreo es aleatorio puro, aleatorio estratificado 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factores que influyen en la varianza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343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regularidad espa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952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número de 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u disposición geométr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ificación del muestre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reduce la varianza de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: muestreo 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013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de estimación de la media se calcula a partir de la siguiente fórmula aproxim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962520" y="3124080"/>
                <a:ext cx="1143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∘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6212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V es la celda de la grilla de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76520" y="5257800"/>
                <a:ext cx="1116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∘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600200" y="527364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varianza del error cometido al estimar 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la celda por el valor de su muestr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724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es el número total de 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valuar la varianza de los valores de bloques, existen 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un modelo variográfico (varianzas teór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327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modela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valores muestreados (casi-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puntu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26708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duce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valores regul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4952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buscada es la meseta de este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449520" y="5684760"/>
                <a:ext cx="2475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las varianz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arianzas experimentales dependen de dos factores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el soporte de las mediciones y el dominio muest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124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órmula de Krig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elación de adi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lantea l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08636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un bloque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as muestras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as muestras dentro del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8071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ta un muestreo relativamente d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análisis anteriores permiten calcular la media y la varianza de la variable regularizada, por ejemplo, la ley de cobre de las unidades de sel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048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oder seguir adelante, se requiere u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conocer la forma del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146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unto de partida es el histograma desagrupado de las muestras, al cual se aplica una transformación para obtener un modelo de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828800"/>
            <a:ext cx="8534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(datos de cobr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ones puntuales y regularizadas a 25m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hist%201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197" name="hist%2025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af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5562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modelo mantiene la forma del histograma puntual. No toma en cuenta la simetrización que acompaña e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[z(v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hist%201" descr=""/>
          <p:cNvPicPr/>
          <p:nvPr/>
        </p:nvPicPr>
        <p:blipFill>
          <a:blip r:embed="rId2"/>
          <a:stretch/>
        </p:blipFill>
        <p:spPr>
          <a:xfrm>
            <a:off x="609480" y="260820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3" name="hist%2025%20afin" descr=""/>
          <p:cNvPicPr/>
          <p:nvPr/>
        </p:nvPicPr>
        <p:blipFill>
          <a:blip r:embed="rId3"/>
          <a:stretch/>
        </p:blipFill>
        <p:spPr>
          <a:xfrm>
            <a:off x="4495680" y="260496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057400"/>
            <a:ext cx="807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puntu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regularizad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hist%201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8" name="hist%2025%20logn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057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ransformación matemátic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65760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br>
              <a:rPr sz="2400"/>
            </a:b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volumen sobre el cual se mide o se considera la variable en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go de son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dad de selección min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bloq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505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 in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lica la corrección lognormal (aunque el histograma puntual no cumpla la lognormalidad), luego ajusta el parámetr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modo que la transformación no altera la med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405320"/>
            <a:ext cx="78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lculado de manera que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y z(v) tengan igual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5672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334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étodo de corrección lognormal indirecta no es riguroso (no respeta exactamente la varianza de los blo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14018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con los datos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96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ción de la distribución de leyes reales de los bloques de 25m × 25m, con las distribuciones obtenidas por los modelos de corrección afín y corrección log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qqplt%20real-afin" descr=""/>
          <p:cNvPicPr/>
          <p:nvPr/>
        </p:nvPicPr>
        <p:blipFill>
          <a:blip r:embed="rId2"/>
          <a:stretch/>
        </p:blipFill>
        <p:spPr>
          <a:xfrm>
            <a:off x="1450800" y="3290760"/>
            <a:ext cx="3044880" cy="2881440"/>
          </a:xfrm>
          <a:prstGeom prst="rect">
            <a:avLst/>
          </a:prstGeom>
          <a:ln w="0">
            <a:noFill/>
          </a:ln>
        </p:spPr>
      </p:pic>
      <p:pic>
        <p:nvPicPr>
          <p:cNvPr id="224" name="qqplt%20real-logn" descr=""/>
          <p:cNvPicPr/>
          <p:nvPr/>
        </p:nvPicPr>
        <p:blipFill>
          <a:blip r:embed="rId3"/>
          <a:stretch/>
        </p:blipFill>
        <p:spPr>
          <a:xfrm>
            <a:off x="4495680" y="3290760"/>
            <a:ext cx="3044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057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modelos más complejos para especificar la forma del histograma de los blo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eneraliza la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33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os isofactoriales discre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asados en distribuciones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abilidad distintas a la distribución gaussi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952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puede usar las técnicas de simulación condicional, que entregan una solución nu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transforma los valores medidos en las muestras en valores cuyo histograma es gaussiano,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581280" y="2629080"/>
                <a:ext cx="15242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114800" y="3657600"/>
            <a:ext cx="76212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histbrut%201" descr=""/>
          <p:cNvPicPr/>
          <p:nvPr/>
        </p:nvPicPr>
        <p:blipFill>
          <a:blip r:embed="rId2"/>
          <a:stretch/>
        </p:blipFill>
        <p:spPr>
          <a:xfrm>
            <a:off x="316080" y="365904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36" name="histgauss%201" descr=""/>
          <p:cNvPicPr/>
          <p:nvPr/>
        </p:nvPicPr>
        <p:blipFill>
          <a:blip r:embed="rId3"/>
          <a:stretch/>
        </p:blipFill>
        <p:spPr>
          <a:xfrm>
            <a:off x="4811760" y="365760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09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valores de los bloques también pueden transformarse en valores gaussianos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657600"/>
            <a:ext cx="7621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81280" y="2619360"/>
                <a:ext cx="1667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histbrut%2025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44" name="histgauss%2025" descr=""/>
          <p:cNvPicPr/>
          <p:nvPr/>
        </p:nvPicPr>
        <p:blipFill>
          <a:blip r:embed="rId3"/>
          <a:stretch/>
        </p:blipFill>
        <p:spPr>
          <a:xfrm>
            <a:off x="4811760" y="365904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9880" y="4800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ada muestr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bicada en un bloque v, se supone que el par de valores {y(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y(v)} sigue una distribu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bigaussiana de coeficiente de cor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gausdis" descr=""/>
          <p:cNvPicPr/>
          <p:nvPr/>
        </p:nvPicPr>
        <p:blipFill>
          <a:blip r:embed="rId2"/>
          <a:stretch/>
        </p:blipFill>
        <p:spPr>
          <a:xfrm>
            <a:off x="2590920" y="3129120"/>
            <a:ext cx="39942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63188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Cartier permite entonces caracterizar la función de transformación de los bloqu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aquella de las muestra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613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 se deduce la distribu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de los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m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amente 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4876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 la correc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550224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iza el histograma al pasar de un soporte pe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uno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90720" y="3048120"/>
                <a:ext cx="2286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r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352680" y="2971800"/>
            <a:ext cx="50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ensidad gaussiana de varianz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90720" y="220968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s curvas de selectividad para describir los efectos </a:t>
            </a:r>
            <a:br>
              <a:rPr sz="4800"/>
            </a:b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de soporte e inform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urvas de selec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 son herramientas alternativas al histograma para visualizar la distribución de los valores de una variable. Entre ellas, las más important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733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media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que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nelaje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proporción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fracción del tonelaje total) que supera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197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cantidad de metal 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 como el producto del tonelaje por la ley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832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jerarquía de estas curvas según el soporte equivale a la relación de Cart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1523880"/>
            <a:ext cx="304920" cy="5181840"/>
          </a:xfrm>
          <a:custGeom>
            <a:avLst/>
            <a:gdLst>
              <a:gd name="textAreaLeft" fmla="*/ 0 w 304920"/>
              <a:gd name="textAreaRight" fmla="*/ 11016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4419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mT%201-25" descr=""/>
          <p:cNvPicPr/>
          <p:nvPr/>
        </p:nvPicPr>
        <p:blipFill>
          <a:blip r:embed="rId2"/>
          <a:stretch/>
        </p:blipFill>
        <p:spPr>
          <a:xfrm>
            <a:off x="5140440" y="156672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1" name="Tz%201-25" descr=""/>
          <p:cNvPicPr/>
          <p:nvPr/>
        </p:nvPicPr>
        <p:blipFill>
          <a:blip r:embed="rId3"/>
          <a:stretch/>
        </p:blipFill>
        <p:spPr>
          <a:xfrm>
            <a:off x="609480" y="149076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2" name="mz%201-25" descr=""/>
          <p:cNvPicPr/>
          <p:nvPr/>
        </p:nvPicPr>
        <p:blipFill>
          <a:blip r:embed="rId4"/>
          <a:stretch/>
        </p:blipFill>
        <p:spPr>
          <a:xfrm>
            <a:off x="609480" y="415764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de un bloque v se define como el promedio aritmético de los valores puntuales dentro de este blo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ble z(v) lleva el nombre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 “regularizada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bre el soporte v. El paso de la variable puntual a la variable de bloques se llama “cambio de soporte” o “regularizació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|v| designa el volumen del bloque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2957400"/>
                <a:ext cx="2376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va 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ntidad de metal es una función creciente y cóncava del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QT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3808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fecto de soporte se traduce en una jerarquía de las curvas cantidad de metal - tonelaje en función del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245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 de “selectividad” al cambiar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QT%201-25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1523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rrección afín asume que la curva metal - tonelaje de los bloques es un promedio ponderado entre la curva puntual y la recta lím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QT%20afin" descr=""/>
          <p:cNvPicPr/>
          <p:nvPr/>
        </p:nvPicPr>
        <p:blipFill>
          <a:blip r:embed="rId2"/>
          <a:stretch/>
        </p:blipFill>
        <p:spPr>
          <a:xfrm>
            <a:off x="2895480" y="309096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urvas de selectividad representan las reservas recuperables en un yacimiento (tonelaje, cantidad de metal, etc.). Dependen de tres fac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mientras más voluminoso el soporte,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menos sel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8098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algunos bloques de mineral son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subestimados y enviados equivocadamente a botadero; otr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bloques estériles son sobreestimados y enviados 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506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ricciones geométri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gunos bloques de alta l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eden ser abandonados si los costos para alcanzarlos 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masiado a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cisión de enviar un bloque a planta o botadero se efectúa en base a la ley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stimad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l bloque en lugar de la ley verdadera (desconoci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destino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067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respecto al efecto de soporte, el efecto de información provoca una pérdida adicional de sele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mT%201-25%20info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95" name="QT%201-25%20info" descr=""/>
          <p:cNvPicPr/>
          <p:nvPr/>
        </p:nvPicPr>
        <p:blipFill>
          <a:blip r:embed="rId3"/>
          <a:stretch/>
        </p:blipFill>
        <p:spPr>
          <a:xfrm>
            <a:off x="4537080" y="3657600"/>
            <a:ext cx="3394080" cy="2700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09480" y="253044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fecto de información producido al estimar la ley de cada bloque por la ley de su pozo de tronadur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rios modelos han sido desarrollados para cuantificar el efecto de información; entre ellos e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el 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 operac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882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resultado importante es el siguiente: si el método utilizado para estimar las leyes de bloques no tien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las curvas de selectividad de las leyes estimadas corresponden a las curvas de selectividad efectivas (incluyendo ambos efectos de soporte e informació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029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un método de estimación que suele tener poco sesgo condicional, a diferencia de otros estimadores tales como el inverso de la distancia o los polígonos de infl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condb" descr=""/>
          <p:cNvPicPr/>
          <p:nvPr/>
        </p:nvPicPr>
        <p:blipFill>
          <a:blip r:embed="rId2"/>
          <a:stretch/>
        </p:blipFill>
        <p:spPr>
          <a:xfrm>
            <a:off x="1787400" y="1374840"/>
            <a:ext cx="56041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mapas, variogramas e histogramas de las leyes de cobre y oro en los distintos soportes (1m × 1m, 5m × 5m, 25m × 25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30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la corrección afín de las leyes de cobre y oro a partir de las muestras de explo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, luego a partir de los pozos de la grilla 25m × 25m. Comparar las curvas tonelaje-ley obten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declu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histplt, gammaba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ffin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plo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qp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r las curva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bloqu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5m × 25m, asociadas al efecto de soporte y al efecto de información inducido al estimar cada bloque por su pozo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cond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que la regularización tenga un sentido físico, se requiere que la variable en estudio se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895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umulac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en un elemen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zón de solubil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es una variable ad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038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tencia de un e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648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395360"/>
            <a:ext cx="81532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_pozos25_Cu.ps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 de cobre - pozos centrales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   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   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3520" y="139536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plt_Cu_5m.ps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  2.5    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  2.5    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11.0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oporte 5m x 5m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[m]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[m]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3520" y="112068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145404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asociados a soportes distintos  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149688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DEC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4               -  columns for X, Y, Z, and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sum                  -file for summar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-file for output with data &amp;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 0.25                  -Y and Z cell anisotropy (Ysize=size*Yan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-0=look for minimum declustered mean (1=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8.0  48.0              -number of cell sizes, min size, max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-number of origin off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33520" y="142236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plt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sagrupado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148104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MA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5.0   25.0   12.0            -X,Y,Z size of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 11     1             -X,Y,Z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0.06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0.18    0.0   0.0   0.0   -  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-  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0.20    0.0   0.0   0.0   -  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-  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3886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valor de salida           es igual a la diferencia entre la varianza de las muestras y la varianza de los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743200" y="3962520"/>
                <a:ext cx="831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factor de reducción de varianza para la corrección afí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200400" y="547056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2   0.98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ps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64   0.93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ps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os pozo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nto la distribución estadística de los valores (histograma) como su estructuración en el espacio (variograma) dependen del soporte consid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320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tiene importantes consecuencias en la evaluación de yacimientos, pues los datos disponibles (sondajes, pozos de tronadura) no tienen el mismo soporte que las unidades 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1434960"/>
            <a:ext cx="8458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LO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s_Cu.ps                -outpu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                      -number of plots in X and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-first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-secon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-thir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-fourth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3692520"/>
            <a:ext cx="8458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QP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-file with first set of data (X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second set of data (Y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1.0e21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qpplt_afin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Q-Q plot, 1=P-P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number of points to plot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X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Y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reales.ps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estimados.p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 estimad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37688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5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.out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medias.out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1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co de una faena conocido completamente, con altura 12m. La variable considerada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apas_cambio_soporte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672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3341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so de un soporte pequ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 un soporte mayor es una o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do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uavizamiento” de los map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vargplt_cambio%20de%20soporte" descr=""/>
          <p:cNvPicPr/>
          <p:nvPr/>
        </p:nvPicPr>
        <p:blipFill>
          <a:blip r:embed="rId2"/>
          <a:stretch/>
        </p:blipFill>
        <p:spPr>
          <a:xfrm>
            <a:off x="2038320" y="1603440"/>
            <a:ext cx="49719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53972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presión matemática del variograma regulariza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l variograma puntu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03848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bloque v trasladado del vect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27432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49280" y="4540320"/>
                <a:ext cx="3780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338120" y="5257800"/>
                <a:ext cx="3571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13T13:19:55Z</dcterms:modified>
  <cp:revision>92</cp:revision>
  <dc:subject/>
  <dc:title>Sin título de diapositiva</dc:title>
</cp:coreProperties>
</file>