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8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42.png" ContentType="image/png"/>
  <Override PartName="/ppt/media/image31.png" ContentType="image/png"/>
  <Override PartName="/ppt/media/image29.png" ContentType="image/png"/>
  <Override PartName="/ppt/media/image43.png" ContentType="image/png"/>
  <Override PartName="/ppt/media/image32.png" ContentType="image/png"/>
  <Override PartName="/ppt/media/image44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3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0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8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</p:sldIdLst>
  <p:sldSz cx="9144000" cy="6858000"/>
  <p:notesSz cx="6858000" cy="11861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ABC90-7FD1-4C2F-AF44-4BA61D464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8280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94920" y="4077000"/>
            <a:ext cx="8280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2DC0F-D1A2-4086-B841-DE6FD616E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9492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3788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41763-96AD-44F1-BE0B-C3D556DBA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4640" y="155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94720" y="155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94920" y="407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4640" y="407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94720" y="407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C440B-56E5-4E07-8EAD-DA6511AB9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1F128-A375-4E32-B220-3BECD8E0C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8CEC7-4C90-4C43-A8DC-1FC2BB5E7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A1575-529F-40C6-A9CD-2B859D2F9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214E2-6D80-4355-AF6D-2854EB03D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5EA4A-D422-4A6C-85B9-F6DCE7D74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94920" y="476280"/>
            <a:ext cx="8280360" cy="40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37DA8-C135-4021-BD0D-1E25C500E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9492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2B251-A246-47D7-87BE-6AF449CFA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A7EA8-C944-4661-8452-FD49AC6D5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3788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DAC8B-84BC-4A04-9B8A-6BFB7AC34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94920" y="4077000"/>
            <a:ext cx="8280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5E463-B351-4EDE-A212-52CB291A0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8280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94920" y="4077000"/>
            <a:ext cx="8280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9B34C-B607-4432-8B05-8E96D28C1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9492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3788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C4FE1-CCF0-4180-AE4C-759B50264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94640" y="155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94720" y="155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94920" y="407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94640" y="407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94720" y="407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03BDD-A02D-419F-88F6-70736CAB0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AF467-9AF9-4D16-AF34-56379777D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258A7-0C86-441C-8404-E2E0D44E7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C5A07-BBF7-416C-9A76-0FB4EFEDD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94920" y="476280"/>
            <a:ext cx="8280360" cy="40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DC66D-1A4F-49A4-B398-F12F20DA4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9492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B98B3-13B0-4D39-A13C-102DA1EF2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3788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BA64E-89C1-4C73-9CAD-AEFEC55FC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94920" y="4077000"/>
            <a:ext cx="8280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B9F73-43EB-4595-9F5C-B445AD9BD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d4944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5424C-4F3E-44D0-B8B6-A09422745E25}" type="slidenum">
              <a:rPr b="0" lang="es-E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000" y="4581360"/>
            <a:ext cx="806436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d4944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78353-DB5C-4E1C-95C7-F02F728C65E0}" type="slidenum">
              <a:rPr b="0" lang="es-E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685800" y="1981080"/>
            <a:ext cx="77724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0e461d"/>
                </a:solidFill>
                <a:uFillTx/>
                <a:latin typeface="Times New Roman"/>
              </a:rPr>
              <a:t>Lecci</a:t>
            </a:r>
            <a:r>
              <a:rPr b="1" lang="en-US" sz="6000" spc="-1" strike="noStrike" u="sng">
                <a:solidFill>
                  <a:srgbClr val="0e461d"/>
                </a:solidFill>
                <a:uFillTx/>
                <a:latin typeface="Times New Roman"/>
                <a:ea typeface="Times New Roman"/>
              </a:rPr>
              <a:t>ó</a:t>
            </a:r>
            <a:r>
              <a:rPr b="1" lang="en-US" sz="6000" spc="-1" strike="noStrike" u="sng">
                <a:solidFill>
                  <a:srgbClr val="0e461d"/>
                </a:solidFill>
                <a:uFillTx/>
                <a:latin typeface="Times New Roman"/>
              </a:rPr>
              <a:t>n 2</a:t>
            </a:r>
            <a:r>
              <a:rPr b="1" lang="en-US" sz="6000" spc="-1" strike="noStrike">
                <a:solidFill>
                  <a:srgbClr val="0e461d"/>
                </a:solidFill>
                <a:latin typeface="Times New Roman"/>
              </a:rPr>
              <a:t>:</a:t>
            </a:r>
            <a:br>
              <a:rPr sz="6000"/>
            </a:br>
            <a:r>
              <a:rPr b="1" lang="en-US" sz="6000" spc="-1" strike="noStrike">
                <a:solidFill>
                  <a:srgbClr val="0e461d"/>
                </a:solidFill>
                <a:latin typeface="Times New Roman"/>
              </a:rPr>
              <a:t>An</a:t>
            </a:r>
            <a:r>
              <a:rPr b="1" lang="en-US" sz="6000" spc="-1" strike="noStrike">
                <a:solidFill>
                  <a:srgbClr val="0e461d"/>
                </a:solidFill>
                <a:latin typeface="Times New Roman"/>
                <a:ea typeface="Times New Roman"/>
              </a:rPr>
              <a:t>á</a:t>
            </a:r>
            <a:r>
              <a:rPr b="1" lang="en-US" sz="6000" spc="-1" strike="noStrike">
                <a:solidFill>
                  <a:srgbClr val="0e461d"/>
                </a:solidFill>
                <a:latin typeface="Times New Roman"/>
              </a:rPr>
              <a:t>lisis variogr</a:t>
            </a:r>
            <a:r>
              <a:rPr b="1" lang="en-US" sz="6000" spc="-1" strike="noStrike">
                <a:solidFill>
                  <a:srgbClr val="0e461d"/>
                </a:solidFill>
                <a:latin typeface="Times New Roman"/>
                <a:ea typeface="Times New Roman"/>
              </a:rPr>
              <a:t>á</a:t>
            </a:r>
            <a:r>
              <a:rPr b="1" lang="en-US" sz="6000" spc="-1" strike="noStrike">
                <a:solidFill>
                  <a:srgbClr val="0e461d"/>
                </a:solidFill>
                <a:latin typeface="Times New Roman"/>
              </a:rPr>
              <a:t>fico</a:t>
            </a:r>
            <a:br>
              <a:rPr sz="6000"/>
            </a:br>
            <a:r>
              <a:rPr b="1" lang="en-US" sz="6000" spc="-1" strike="noStrike">
                <a:solidFill>
                  <a:srgbClr val="0e461d"/>
                </a:solidFill>
                <a:latin typeface="Times New Roman"/>
              </a:rPr>
              <a:t>de datos regionalizado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219320" y="45720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Noción de correlación espacial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hscatt" descr=""/>
          <p:cNvPicPr/>
          <p:nvPr/>
        </p:nvPicPr>
        <p:blipFill>
          <a:blip r:embed="rId2"/>
          <a:stretch/>
        </p:blipFill>
        <p:spPr>
          <a:xfrm>
            <a:off x="228600" y="1160640"/>
            <a:ext cx="8610480" cy="56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219320" y="45720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Noción de correlación espacial (3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52280" y="199692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a dispersión de la nube aumenta con la distancia de separ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52280" y="2867040"/>
            <a:ext cx="8839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l examen de las nubes de correlación diferida indica cuán semejantes son dos muestras en función de la distancia que las separa. Es decir, permite apreciar la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correlación espacial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de los valores de la variable regionalizad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838080" y="2895480"/>
            <a:ext cx="7467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e461d"/>
                </a:solidFill>
                <a:latin typeface="Times New Roman"/>
              </a:rPr>
              <a:t>Herramientas variográfica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219320" y="45720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Correlograma experimental 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80880" y="199692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Una primera manera de medir la correlación espacial consiste en calcular el coeficiente de correlación de las nubes de correlación diferid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80880" y="3384720"/>
            <a:ext cx="8229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l reportar el valor de este coeficiente de correlación en función de la distancia de separación, se obtiene lo que se denomina el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correlograma experimental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de los datos. Generalmente, se trata de una función decreciente de la distancia; tiende a cero cuando ésta se vuelve muy gran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219320" y="45720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Correlograma experimental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correlograma" descr=""/>
          <p:cNvPicPr/>
          <p:nvPr/>
        </p:nvPicPr>
        <p:blipFill>
          <a:blip r:embed="rId2"/>
          <a:stretch/>
        </p:blipFill>
        <p:spPr>
          <a:xfrm>
            <a:off x="2038320" y="2465280"/>
            <a:ext cx="5124600" cy="43164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380880" y="175248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Ilust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219320" y="45720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Covarianza experiment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80880" y="152388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n lugar de visualizar el coeficiente de correlación, se visualiza la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covarianza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en función de la distancia de separació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covarianza" descr=""/>
          <p:cNvPicPr/>
          <p:nvPr/>
        </p:nvPicPr>
        <p:blipFill>
          <a:blip r:embed="rId2"/>
          <a:stretch/>
        </p:blipFill>
        <p:spPr>
          <a:xfrm>
            <a:off x="2035080" y="2462040"/>
            <a:ext cx="512784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219320" y="45720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Variograma experimental 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0880" y="2089080"/>
            <a:ext cx="8458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l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variograma experimental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se obtiene al visualizar el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momento de inercia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de las nubes de correlación diferida (distancia cuadrática promedio a la diagonal principal) en función de la distancia de separació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80880" y="382572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Generalmente, se trata de una función creciente de la distancia; se anula cuando ésta vale cer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80880" y="475632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xiste una relación entre todas las herramientas variográficas. En general, se prefiere utilizar el variograma en lugar de la covarianza o del correlogram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1219320" y="45720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Variograma experimental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variograma" descr=""/>
          <p:cNvPicPr/>
          <p:nvPr/>
        </p:nvPicPr>
        <p:blipFill>
          <a:blip r:embed="rId2"/>
          <a:stretch/>
        </p:blipFill>
        <p:spPr>
          <a:xfrm>
            <a:off x="2035080" y="2462040"/>
            <a:ext cx="5127840" cy="431964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380880" y="175248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Ilust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219320" y="45720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Variograma experimental (3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80880" y="152388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l variograma muestra características importantes de la variable regionalizad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80880" y="248292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1) el crecimiento indica la velocidad con la cual se desestructura </a:t>
            </a:r>
            <a:br>
              <a:rPr sz="2400"/>
            </a:b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  la variable en el espa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80880" y="342900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2) la distancia para la cual se estabiliza el variograma representa</a:t>
            </a:r>
            <a:br>
              <a:rPr sz="2400"/>
            </a:b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  la “zona de influencia” de una muestra; se llama </a:t>
            </a:r>
            <a:r>
              <a:rPr b="1" i="1" lang="es-CL" sz="2400" spc="-1" strike="noStrike">
                <a:solidFill>
                  <a:srgbClr val="000000"/>
                </a:solidFill>
                <a:latin typeface="Times New Roman"/>
              </a:rPr>
              <a:t>alc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437508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3) el comportamiento cerca del origen indica qué tan semejantes</a:t>
            </a:r>
            <a:br>
              <a:rPr sz="2400"/>
            </a:b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  son dos muestras muy cercanas, o sea, refleja la </a:t>
            </a:r>
            <a:r>
              <a:rPr b="1" i="1" lang="es-CL" sz="2400" spc="-1" strike="noStrike">
                <a:solidFill>
                  <a:srgbClr val="000000"/>
                </a:solidFill>
                <a:latin typeface="Times New Roman"/>
              </a:rPr>
              <a:t>continuidad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o</a:t>
            </a:r>
            <a:br>
              <a:rPr sz="2400"/>
            </a:b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es-CL" sz="2400" spc="-1" strike="noStrike">
                <a:solidFill>
                  <a:srgbClr val="000000"/>
                </a:solidFill>
                <a:latin typeface="Times New Roman"/>
              </a:rPr>
              <a:t>regularidad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de la variable en el espa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80880" y="571500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4) el cálculo del variograma puede hacerse a lo largo de distintas</a:t>
            </a:r>
            <a:br>
              <a:rPr sz="2400"/>
            </a:b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 direcciones del espacio y evidenciar una </a:t>
            </a:r>
            <a:r>
              <a:rPr b="1" i="1" lang="es-CL" sz="2400" spc="-1" strike="noStrike">
                <a:solidFill>
                  <a:srgbClr val="000000"/>
                </a:solidFill>
                <a:latin typeface="Times New Roman"/>
              </a:rPr>
              <a:t>anisotrop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2362320" y="3807000"/>
                <a:ext cx="4495680" cy="88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γ</m:t>
                        </m:r>
                      </m:e>
                    </m:acc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t xml:space="preserve">h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|</m:t>
                        </m:r>
                      </m:den>
                    </m:f>
                    <m:r>
                      <m:t xml:space="preserve"> 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t xml:space="preserve">h</m:t>
                        </m:r>
                        <m:r>
                          <m:t xml:space="preserve">)</m:t>
                        </m:r>
                      </m:sub>
                      <m:sup/>
                      <m:e>
                        <m:r>
                          <m:t xml:space="preserve"> </m:t>
                        </m:r>
                        <m:r>
                          <m:t xml:space="preserve">[</m:t>
                        </m:r>
                        <m:r>
                          <m:t xml:space="preserve">z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α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z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β</m:t>
                            </m:r>
                          </m:sub>
                        </m:sSub>
                        <m:r>
                          <m:t xml:space="preserve">)</m:t>
                        </m:r>
                        <m:sSup>
                          <m:e>
                            <m:r>
                              <m:t xml:space="preserve">]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43" name=""/>
          <p:cNvSpPr/>
          <p:nvPr/>
        </p:nvSpPr>
        <p:spPr>
          <a:xfrm>
            <a:off x="609480" y="4935600"/>
            <a:ext cx="7086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onde N(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) = {(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) tales que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|N(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)| es el cardinal de N(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3520" y="1600200"/>
            <a:ext cx="8076960" cy="8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notemos como {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CL" sz="2400" spc="-1" strike="noStrike" baseline="-30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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... n} los sitios de muestreo y como z(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la variable regionalizada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33520" y="2725560"/>
            <a:ext cx="8076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variograma experimental mide la desviación cuadrática promedio entre dos datos en función de su separació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219320" y="45720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Variograma experimental (4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47920" y="2895480"/>
            <a:ext cx="6324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e461d"/>
                </a:solidFill>
                <a:latin typeface="Times New Roman"/>
              </a:rPr>
              <a:t>Introducció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380880" y="160020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jemp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2133720"/>
            <a:ext cx="838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ideremos las siguientes observaciones espaciadas cada 100 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914400" y="281952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   3    6     4     2     1     1     2     4     3    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304920" y="3733920"/>
                <a:ext cx="846432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γ</m:t>
                        </m:r>
                      </m:e>
                    </m:acc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m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r>
                      <m:t xml:space="preserve">(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304920" y="4654440"/>
                <a:ext cx="7678440" cy="7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γ</m:t>
                        </m:r>
                      </m:e>
                    </m:acc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200</m:t>
                    </m:r>
                    <m:r>
                      <m:t xml:space="preserve">m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×</m:t>
                        </m:r>
                        <m:r>
                          <m:t xml:space="preserve">9</m:t>
                        </m:r>
                      </m:den>
                    </m:f>
                    <m:r>
                      <m:t xml:space="preserve"> 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4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304920" y="5562720"/>
                <a:ext cx="7202520" cy="75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γ</m:t>
                        </m:r>
                      </m:e>
                    </m:acc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300</m:t>
                    </m:r>
                    <m:r>
                      <m:t xml:space="preserve">m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×</m:t>
                        </m:r>
                        <m:r>
                          <m:t xml:space="preserve">8</m:t>
                        </m:r>
                      </m:den>
                    </m:f>
                    <m:r>
                      <m:t xml:space="preserve"> 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5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3" name=""/>
          <p:cNvSpPr/>
          <p:nvPr/>
        </p:nvSpPr>
        <p:spPr>
          <a:xfrm>
            <a:off x="1219320" y="45720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Variograma experimental (5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tolérances%20espagnol" descr=""/>
          <p:cNvPicPr/>
          <p:nvPr/>
        </p:nvPicPr>
        <p:blipFill>
          <a:blip r:embed="rId2"/>
          <a:stretch/>
        </p:blipFill>
        <p:spPr>
          <a:xfrm>
            <a:off x="1752480" y="2514600"/>
            <a:ext cx="5558040" cy="365760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457200" y="1447920"/>
            <a:ext cx="838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ando el muestreo es irregular, se suele definir parámetros de tolerancia, tanto en la longitud del vector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o en su orientación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219320" y="45720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Variograma experimental (6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228600" y="160020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ámetros que definir para calcular un variograma direc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57200" y="220968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im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57200" y="27432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lerancia en el acim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57200" y="327672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cho de banda horizon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57200" y="380988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lin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57200" y="43434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lerancia en la inclin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57200" y="487692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cho de banda vert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57200" y="54864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tancias (múltiplos de una distancia elemental = 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so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57200" y="609588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úmero de pas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219320" y="45720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Variograma experimental (7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457200" y="167652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variograma experimental es poco estable cuando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38080" y="228600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distancia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siderada es grande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8080" y="289548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muestreo es muy irregular o preferencial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838080" y="352116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distribución de los datos es muy asimétrica o contiene</a:t>
            </a:r>
            <a:br>
              <a:rPr sz="2400"/>
            </a:b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valores extrem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219320" y="45720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Variograma experimental (8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457200" y="144792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ternati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09480" y="213372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desagrupar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l variograma: poco usado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457200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sar otra herramienta estructu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09480" y="365760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sar otra fórmula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ara calcular el variograma experimental: se</a:t>
            </a:r>
            <a:br>
              <a:rPr sz="2400"/>
            </a:b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debe introducir hipótesis adicio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09480" y="274320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ransformar los dato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por ejemplo, pasar a logaritmo): volver</a:t>
            </a:r>
            <a:br>
              <a:rPr sz="2400"/>
            </a:b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a la variable inicial requiere hipótesis restricti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14400" y="510552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utilizables: covarianza, covarianza no centrada, correlogra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914400" y="556272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inservibles: variograma relativo, madograma, rodogra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219320" y="45720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Variograma experimental (9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228600" y="457200"/>
            <a:ext cx="87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Influencia de los par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  <a:ea typeface="Times New Roman"/>
              </a:rPr>
              <a:t>á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metros de c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  <a:ea typeface="Times New Roman"/>
              </a:rPr>
              <a:t>á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lculo 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57200" y="152388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Estudio de caso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: 256 datos en el espacio de dos dimens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09480" y="550224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¿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o influyen los par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á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etros de c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á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culo en el variograma </a:t>
            </a:r>
            <a:br>
              <a:rPr sz="2400"/>
            </a:b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experimental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datos%20color" descr=""/>
          <p:cNvPicPr/>
          <p:nvPr/>
        </p:nvPicPr>
        <p:blipFill>
          <a:blip r:embed="rId2"/>
          <a:stretch/>
        </p:blipFill>
        <p:spPr>
          <a:xfrm>
            <a:off x="533520" y="2209680"/>
            <a:ext cx="7989840" cy="31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228600" y="457200"/>
            <a:ext cx="87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Influencia de los par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  <a:ea typeface="Times New Roman"/>
              </a:rPr>
              <a:t>á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metros de c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  <a:ea typeface="Times New Roman"/>
              </a:rPr>
              <a:t>á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lculo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57200" y="129528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Influencia del pa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pasos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6289560" cy="457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457200"/>
            <a:ext cx="87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Influencia de los par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  <a:ea typeface="Times New Roman"/>
              </a:rPr>
              <a:t>á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metros de c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  <a:ea typeface="Times New Roman"/>
              </a:rPr>
              <a:t>á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lculo (3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57200" y="129528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Influencia de la tolerancia en el pa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tol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6289560" cy="457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228600" y="457200"/>
            <a:ext cx="87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Influencia de los par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  <a:ea typeface="Times New Roman"/>
              </a:rPr>
              <a:t>á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metros de c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  <a:ea typeface="Times New Roman"/>
              </a:rPr>
              <a:t>á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lculo (4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57200" y="129528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Influencia del n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ú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mero de pas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numpasos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6280200" cy="45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228600" y="457200"/>
            <a:ext cx="87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Influencia de los par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  <a:ea typeface="Times New Roman"/>
              </a:rPr>
              <a:t>á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metros de c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  <a:ea typeface="Times New Roman"/>
              </a:rPr>
              <a:t>á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lculo (5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57200" y="129528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Influencia de la herramienta estructu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tipo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6280200" cy="45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295280" y="457200"/>
            <a:ext cx="647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Los modelos probabil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  <a:ea typeface="Times New Roman"/>
              </a:rPr>
              <a:t>í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sticos 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198108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¿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Por qué recurrir a modelos probabil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ísticos?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2819520"/>
            <a:ext cx="76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n complejidad de las variables regionalizadas, en especial en las ciencias de la tier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62120" y="373392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a descripción determinística es inconcebible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228600" y="457200"/>
            <a:ext cx="87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Influencia de los par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  <a:ea typeface="Times New Roman"/>
              </a:rPr>
              <a:t>á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metros de c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  <a:ea typeface="Times New Roman"/>
              </a:rPr>
              <a:t>á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lculo (6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" y="129528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Influencia de la tolerancia angu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" name="atol" descr=""/>
          <p:cNvPicPr/>
          <p:nvPr/>
        </p:nvPicPr>
        <p:blipFill>
          <a:blip r:embed="rId2"/>
          <a:stretch/>
        </p:blipFill>
        <p:spPr>
          <a:xfrm>
            <a:off x="1447920" y="1832040"/>
            <a:ext cx="6280200" cy="45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2895480"/>
            <a:ext cx="7467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e461d"/>
                </a:solidFill>
                <a:latin typeface="Times New Roman"/>
              </a:rPr>
              <a:t>Variograma teóric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066680" y="45720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Variograma te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  <a:ea typeface="Times New Roman"/>
              </a:rPr>
              <a:t>ó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rico 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33520" y="160020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variograma experimental requiere ser modelad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990720" y="2209680"/>
            <a:ext cx="731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erfecto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los puntos obtenidos son experimentales, </a:t>
            </a:r>
            <a:br>
              <a:rPr sz="2400"/>
            </a:b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luego están sujetos a imprecisiones)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990720" y="3139920"/>
            <a:ext cx="723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ompleto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se calculó de manera discreta a lo largo</a:t>
            </a:r>
            <a:br>
              <a:rPr sz="2400"/>
            </a:b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de algunas direcciones del espacio)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85800" y="556272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E{ [Z(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– Z(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]</a:t>
            </a:r>
            <a:r>
              <a:rPr b="0" lang="es-CL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} / 2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33520" y="4191120"/>
            <a:ext cx="8076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l variograma te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rico se define al considerar los valores como aleatorios (denotados con may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ú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cula) y al utilizar una esperanza matem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á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tic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1066680" y="45720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Variograma te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  <a:ea typeface="Times New Roman"/>
              </a:rPr>
              <a:t>ó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rico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33520" y="160020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iedades del variograma teór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990720" y="220968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nción positiva: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990720" y="275904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nción par: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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990720" y="336852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ulidad en el origen: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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990720" y="397836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nción de tipo negativo condi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1371600" y="4587840"/>
                <a:ext cx="7086600" cy="82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∀</m:t>
                    </m:r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∈</m:t>
                    </m:r>
                    <m:r>
                      <m:rPr>
                        <m:lit/>
                        <m:nor/>
                      </m:rPr>
                      <m:t xml:space="preserve">R/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k</m:t>
                        </m:r>
                      </m:sup>
                      <m:e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nary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∀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 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k</m:t>
                        </m:r>
                      </m:sup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k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λ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λ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r>
                              <m:t xml:space="preserve">γ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≤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3" name=""/>
          <p:cNvSpPr/>
          <p:nvPr/>
        </p:nvSpPr>
        <p:spPr>
          <a:xfrm>
            <a:off x="990720" y="5502240"/>
            <a:ext cx="761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 distancias muy grandes, crece menos rápidamente que</a:t>
            </a:r>
            <a:br>
              <a:rPr sz="2400"/>
            </a:b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una parábo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1066680" y="45720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Variograma te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  <a:ea typeface="Times New Roman"/>
              </a:rPr>
              <a:t>ó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rico (3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33520" y="160020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racterísticas esenciales del variogra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33520" y="220968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portamiento en el ori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62120" y="283536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ientras m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á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 regular el variograma en el origen, m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á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 regular la variable regionalizada en el espacio. Se distingue tres tipos de comportamiento para el variogram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838080" y="4114800"/>
            <a:ext cx="76201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derivable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: variable regionalizada muy su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lineal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: variable regionalizada continu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discontinuo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(“efecto pepita”): variable regionalizada err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á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origen2" descr=""/>
          <p:cNvPicPr/>
          <p:nvPr/>
        </p:nvPicPr>
        <p:blipFill>
          <a:blip r:embed="rId2"/>
          <a:stretch/>
        </p:blipFill>
        <p:spPr>
          <a:xfrm>
            <a:off x="380880" y="1600200"/>
            <a:ext cx="8447040" cy="438624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1066680" y="45720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Variograma te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  <a:ea typeface="Times New Roman"/>
              </a:rPr>
              <a:t>ó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rico (4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1066680" y="45720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Variograma te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  <a:ea typeface="Times New Roman"/>
              </a:rPr>
              <a:t>ó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rico (5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33520" y="152388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portamiento al infini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62120" y="1981080"/>
            <a:ext cx="761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Frecuentemente, el variograma se estabiliza en torno a una meseta cuando la distancia crece infinitame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4" name="infinito%201" descr=""/>
          <p:cNvPicPr/>
          <p:nvPr/>
        </p:nvPicPr>
        <p:blipFill>
          <a:blip r:embed="rId2"/>
          <a:stretch/>
        </p:blipFill>
        <p:spPr>
          <a:xfrm>
            <a:off x="1751040" y="2898720"/>
            <a:ext cx="5640480" cy="365436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 flipV="1">
            <a:off x="6246720" y="3733920"/>
            <a:ext cx="0" cy="2209680"/>
          </a:xfrm>
          <a:prstGeom prst="line">
            <a:avLst/>
          </a:prstGeom>
          <a:ln w="38160">
            <a:solidFill>
              <a:srgbClr val="990033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3274560" y="3657600"/>
            <a:ext cx="2971800" cy="0"/>
          </a:xfrm>
          <a:prstGeom prst="line">
            <a:avLst/>
          </a:prstGeom>
          <a:ln w="3816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446120" y="3276720"/>
            <a:ext cx="1752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mese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= varianz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408640" y="617220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alc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1066680" y="45720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Variograma te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  <a:ea typeface="Times New Roman"/>
              </a:rPr>
              <a:t>ó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rico (6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infinito%202" descr=""/>
          <p:cNvPicPr/>
          <p:nvPr/>
        </p:nvPicPr>
        <p:blipFill>
          <a:blip r:embed="rId2"/>
          <a:stretch/>
        </p:blipFill>
        <p:spPr>
          <a:xfrm>
            <a:off x="2001960" y="2211480"/>
            <a:ext cx="5008320" cy="365580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762120" y="14479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 veces, el variograma sigue creciendo infinitame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1066680" y="45720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Variograma te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  <a:ea typeface="Times New Roman"/>
              </a:rPr>
              <a:t>ó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rico (7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33520" y="152388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portamiento direc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62120" y="1981080"/>
            <a:ext cx="784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l estudio de los variogramas direccionales permite identificar las anisotrop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í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s de la variable regionalizad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5" name="direccional2" descr=""/>
          <p:cNvPicPr/>
          <p:nvPr/>
        </p:nvPicPr>
        <p:blipFill>
          <a:blip r:embed="rId2"/>
          <a:stretch/>
        </p:blipFill>
        <p:spPr>
          <a:xfrm>
            <a:off x="380880" y="2971800"/>
            <a:ext cx="838224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1066680" y="45720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Variograma te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  <a:ea typeface="Times New Roman"/>
              </a:rPr>
              <a:t>ó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rico (8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33520" y="152388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Otras caracter</a:t>
            </a:r>
            <a:r>
              <a:rPr b="0" i="1" lang="es-CL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í</a:t>
            </a:r>
            <a:r>
              <a:rPr b="0" i="1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st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066680" y="2057400"/>
            <a:ext cx="762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000000"/>
                </a:solidFill>
                <a:latin typeface="Times New Roman"/>
              </a:rPr>
              <a:t>Periodicidade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: frecuente con fen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menos temporales, menos con fenómenos espaci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066680" y="297180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000000"/>
                </a:solidFill>
                <a:latin typeface="Times New Roman"/>
              </a:rPr>
              <a:t>Efecto de hoyo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: el variograma no es mon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to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0" name="hole" descr=""/>
          <p:cNvPicPr/>
          <p:nvPr/>
        </p:nvPicPr>
        <p:blipFill>
          <a:blip r:embed="rId2"/>
          <a:stretch/>
        </p:blipFill>
        <p:spPr>
          <a:xfrm>
            <a:off x="581040" y="3660840"/>
            <a:ext cx="7953480" cy="273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295280" y="457200"/>
            <a:ext cx="647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Los modelos probabil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  <a:ea typeface="Times New Roman"/>
              </a:rPr>
              <a:t>í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sticos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09480" y="1981080"/>
            <a:ext cx="76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ímites de la estadística clásica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9480" y="2819520"/>
            <a:ext cx="807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considera las observaciones como resultados (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izacione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independiente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 una misma variable aleatoria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dés%201" descr=""/>
          <p:cNvPicPr/>
          <p:nvPr/>
        </p:nvPicPr>
        <p:blipFill>
          <a:blip r:embed="rId2"/>
          <a:stretch/>
        </p:blipFill>
        <p:spPr>
          <a:xfrm>
            <a:off x="773280" y="3962520"/>
            <a:ext cx="7761240" cy="136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1066680" y="45720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Variograma te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  <a:ea typeface="Times New Roman"/>
              </a:rPr>
              <a:t>ó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rico (9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85800" y="1447920"/>
            <a:ext cx="7924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l variograma 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o proporciona una caracterizaci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 parcial de la variable regionalizada; varios rasgos estructurales no est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á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 descritos por esta herramienta, por ejemplo la conectividad o agrupaci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 espacial de las ley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3" name="El%20variograma%20no%20es%20todo256" descr=""/>
          <p:cNvPicPr/>
          <p:nvPr/>
        </p:nvPicPr>
        <p:blipFill>
          <a:blip r:embed="rId2"/>
          <a:stretch/>
        </p:blipFill>
        <p:spPr>
          <a:xfrm>
            <a:off x="390600" y="3124080"/>
            <a:ext cx="8372520" cy="27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228600" y="380880"/>
            <a:ext cx="891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Variograma te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  <a:ea typeface="Times New Roman"/>
              </a:rPr>
              <a:t>ó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rico (10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04920" y="2301840"/>
            <a:ext cx="838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variograma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el correlograma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y la covarianza C(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están relacionados entre sí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048120" y="3340080"/>
            <a:ext cx="28954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(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/ C(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(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–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(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– C(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04920" y="5121360"/>
            <a:ext cx="853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ando la distancia de separación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 vuelve infinita, la covarianza y el correlograma tienden a 0, y el variograma es igual a la varianz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04920" y="1676520"/>
            <a:ext cx="83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ciones con otras herramientas variográf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895480" y="6172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s-CL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(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1066680" y="45720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Modelos elementales 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33520" y="160020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ecto pepit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2" name="elemental%20pepa256" descr=""/>
          <p:cNvPicPr/>
          <p:nvPr/>
        </p:nvPicPr>
        <p:blipFill>
          <a:blip r:embed="rId2"/>
          <a:stretch/>
        </p:blipFill>
        <p:spPr>
          <a:xfrm>
            <a:off x="338040" y="2592360"/>
            <a:ext cx="8501040" cy="31989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2590920" y="1428840"/>
                <a:ext cx="3124080" cy="85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)</m:t>
                    </m:r>
                    <m:r>
                      <m:t xml:space="preserve">=</m:t>
                    </m:r>
                    <m:eqArr>
                      <m:e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  si </m:t>
                        </m:r>
                        <m:r>
                          <m:t xml:space="preserve">h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rPr>
                            <m:lit/>
                            <m:nor/>
                          </m:rPr>
                          <m:t xml:space="preserve"> en caso contrario</m:t>
                        </m:r>
                      </m:e>
                    </m:eqArr>
                    <m:r>
                      <m:t xml:space="preserve">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4" name=""/>
          <p:cNvSpPr/>
          <p:nvPr/>
        </p:nvSpPr>
        <p:spPr>
          <a:xfrm>
            <a:off x="609480" y="5791320"/>
            <a:ext cx="815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ste modelo se traduce en una ausencia total de correlaci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 en el espacio: dos muestras distintas tienen valores independien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1066680" y="45720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Modelos elementales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33520" y="190512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elo esféric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7" name="elemental%20esferico256" descr=""/>
          <p:cNvPicPr/>
          <p:nvPr/>
        </p:nvPicPr>
        <p:blipFill>
          <a:blip r:embed="rId2"/>
          <a:stretch/>
        </p:blipFill>
        <p:spPr>
          <a:xfrm>
            <a:off x="338040" y="2897280"/>
            <a:ext cx="8501040" cy="31986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2895480" y="1467000"/>
                <a:ext cx="4292640" cy="142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)</m:t>
                    </m:r>
                    <m:r>
                      <m:t xml:space="preserve">=</m:t>
                    </m:r>
                    <m:eqArr>
                      <m:e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 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 </m:t>
                            </m:r>
                            <m:f>
                              <m:num>
                                <m:r>
                                  <m:t xml:space="preserve">|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h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|</m:t>
                                </m:r>
                              </m:num>
                              <m:den>
                                <m:r>
                                  <m:t xml:space="preserve">a</m:t>
                                </m:r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 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|</m:t>
                                        </m:r>
                                        <m:r>
                                          <m:t xml:space="preserve"> </m:t>
                                        </m:r>
                                        <m:r>
                                          <m:t xml:space="preserve">h</m:t>
                                        </m:r>
                                        <m:r>
                                          <m:t xml:space="preserve"> </m:t>
                                        </m:r>
                                        <m:r>
                                          <m:t xml:space="preserve">|</m:t>
                                        </m:r>
                                      </m:num>
                                      <m:den>
                                        <m:r>
                                          <m:t xml:space="preserve">a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 si 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h</m:t>
                        </m:r>
                        <m:r>
                          <m:t xml:space="preserve"> 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≤</m:t>
                        </m:r>
                        <m:r>
                          <m:t xml:space="preserve">a</m:t>
                        </m:r>
                      </m:e>
                      <m:e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rPr>
                            <m:lit/>
                            <m:nor/>
                          </m:rPr>
                          <m:t xml:space="preserve"> en caso contrario</m:t>
                        </m:r>
                      </m:e>
                    </m:eqArr>
                    <m:r>
                      <m:t xml:space="preserve">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9" name=""/>
          <p:cNvSpPr/>
          <p:nvPr/>
        </p:nvSpPr>
        <p:spPr>
          <a:xfrm>
            <a:off x="609480" y="6095880"/>
            <a:ext cx="815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lcance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, meseta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1066680" y="45720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Modelos elementales (3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33520" y="160020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elo exponencia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2" name="elemental%20exponencial256" descr=""/>
          <p:cNvPicPr/>
          <p:nvPr/>
        </p:nvPicPr>
        <p:blipFill>
          <a:blip r:embed="rId2"/>
          <a:stretch/>
        </p:blipFill>
        <p:spPr>
          <a:xfrm>
            <a:off x="338040" y="2592360"/>
            <a:ext cx="8501040" cy="3198960"/>
          </a:xfrm>
          <a:prstGeom prst="rect">
            <a:avLst/>
          </a:prstGeom>
          <a:ln w="0">
            <a:noFill/>
          </a:ln>
        </p:spPr>
      </p:pic>
      <p:sp>
        <p:nvSpPr>
          <p:cNvPr id="263" name=""/>
          <p:cNvSpPr/>
          <p:nvPr/>
        </p:nvSpPr>
        <p:spPr>
          <a:xfrm>
            <a:off x="609480" y="5791320"/>
            <a:ext cx="815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l parámetro 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es el </a:t>
            </a:r>
            <a:r>
              <a:rPr b="1" i="1" lang="es-CL" sz="2400" spc="-1" strike="noStrike">
                <a:solidFill>
                  <a:srgbClr val="000000"/>
                </a:solidFill>
                <a:latin typeface="Times New Roman"/>
              </a:rPr>
              <a:t>alcance pr</a:t>
            </a:r>
            <a:r>
              <a:rPr b="1" i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á</a:t>
            </a:r>
            <a:r>
              <a:rPr b="1" i="1" lang="es-CL" sz="2400" spc="-1" strike="noStrike">
                <a:solidFill>
                  <a:srgbClr val="000000"/>
                </a:solidFill>
                <a:latin typeface="Times New Roman"/>
              </a:rPr>
              <a:t>ctico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: corresponde a la distancia para la cual el variograma llega al 95% de su meseta C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4" name=""/>
              <p:cNvSpPr txBox="1"/>
              <p:nvPr/>
            </p:nvSpPr>
            <p:spPr>
              <a:xfrm>
                <a:off x="3505320" y="1428840"/>
                <a:ext cx="3124080" cy="85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C</m:t>
                    </m:r>
                    <m:r>
                      <m:t xml:space="preserve"> 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3</m:t>
                                </m:r>
                                <m:r>
                                  <m:t xml:space="preserve">|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h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|</m:t>
                                </m:r>
                              </m:num>
                              <m:den>
                                <m:r>
                                  <m:t xml:space="preserve">a</m:t>
                                </m:r>
                              </m:den>
                            </m:f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1066680" y="45720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Modelos elementales (4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33520" y="160020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elo gaussian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7" name="elemental%20gaussiano256" descr=""/>
          <p:cNvPicPr/>
          <p:nvPr/>
        </p:nvPicPr>
        <p:blipFill>
          <a:blip r:embed="rId2"/>
          <a:stretch/>
        </p:blipFill>
        <p:spPr>
          <a:xfrm>
            <a:off x="338040" y="2592360"/>
            <a:ext cx="8501040" cy="31989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68" name=""/>
              <p:cNvSpPr txBox="1"/>
              <p:nvPr/>
            </p:nvSpPr>
            <p:spPr>
              <a:xfrm>
                <a:off x="3129120" y="1400040"/>
                <a:ext cx="326700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C</m:t>
                    </m:r>
                    <m:r>
                      <m:t xml:space="preserve"> 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3</m:t>
                                </m:r>
                                <m:r>
                                  <m:t xml:space="preserve">|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h</m:t>
                                </m:r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|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sSup>
                                  <m:e>
                                    <m:r>
                                      <m:t xml:space="preserve">a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69" name=""/>
          <p:cNvSpPr/>
          <p:nvPr/>
        </p:nvSpPr>
        <p:spPr>
          <a:xfrm>
            <a:off x="609480" y="5791320"/>
            <a:ext cx="815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lcance pr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á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tico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, meseta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1066680" y="45720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Modelos elementales (5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33520" y="160020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elo potenci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" y="5807160"/>
            <a:ext cx="815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l exponente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puede variar entre 0 (variograma pep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í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tico) y 2 (variograma parab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ico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3" name=""/>
              <p:cNvSpPr txBox="1"/>
              <p:nvPr/>
            </p:nvSpPr>
            <p:spPr>
              <a:xfrm>
                <a:off x="3048120" y="1633680"/>
                <a:ext cx="1454040" cy="42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ω</m:t>
                    </m:r>
                    <m:r>
                      <m:t xml:space="preserve"> </m:t>
                    </m:r>
                    <m:r>
                      <m:t xml:space="preserve">|</m:t>
                    </m:r>
                    <m:r>
                      <m:t xml:space="preserve"> </m:t>
                    </m:r>
                    <m:r>
                      <m:t xml:space="preserve">h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|</m:t>
                        </m:r>
                      </m:e>
                      <m:sup>
                        <m:r>
                          <m:t xml:space="preserve">θ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74" name=""/>
          <p:cNvSpPr/>
          <p:nvPr/>
        </p:nvSpPr>
        <p:spPr>
          <a:xfrm>
            <a:off x="533520" y="20574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ste variograma no posee alcance ni mese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5" name="elemental%20potencia256" descr=""/>
          <p:cNvPicPr/>
          <p:nvPr/>
        </p:nvPicPr>
        <p:blipFill>
          <a:blip r:embed="rId2"/>
          <a:stretch/>
        </p:blipFill>
        <p:spPr>
          <a:xfrm>
            <a:off x="338040" y="2592360"/>
            <a:ext cx="8501040" cy="31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1066680" y="45720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Modelos elementales (6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33520" y="160020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elo seno cardina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8" name=""/>
              <p:cNvSpPr txBox="1"/>
              <p:nvPr/>
            </p:nvSpPr>
            <p:spPr>
              <a:xfrm>
                <a:off x="3762360" y="1395360"/>
                <a:ext cx="3076560" cy="90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C</m:t>
                    </m:r>
                    <m:r>
                      <m:t xml:space="preserve"> 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a</m:t>
                            </m:r>
                          </m:num>
                          <m:den>
                            <m:r>
                              <m:t xml:space="preserve">|</m:t>
                            </m:r>
                            <m:r>
                              <m:t xml:space="preserve"> </m:t>
                            </m:r>
                            <m:r>
                              <m:t xml:space="preserve">h</m:t>
                            </m:r>
                            <m:r>
                              <m:t xml:space="preserve"> </m:t>
                            </m:r>
                            <m:r>
                              <m:t xml:space="preserve">|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|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h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|</m:t>
                                </m:r>
                              </m:num>
                              <m:den>
                                <m:r>
                                  <m:t xml:space="preserve">a</m:t>
                                </m:r>
                              </m:den>
                            </m:f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79" name=""/>
          <p:cNvSpPr/>
          <p:nvPr/>
        </p:nvSpPr>
        <p:spPr>
          <a:xfrm>
            <a:off x="533520" y="579132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lcance pr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á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tico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20.4 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, semi-período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4.5 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, meseta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0" name="elemental%20seno%20cardenal%20256" descr=""/>
          <p:cNvPicPr/>
          <p:nvPr/>
        </p:nvPicPr>
        <p:blipFill>
          <a:blip r:embed="rId2"/>
          <a:stretch/>
        </p:blipFill>
        <p:spPr>
          <a:xfrm>
            <a:off x="338040" y="2592360"/>
            <a:ext cx="8501040" cy="31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838080" y="2895480"/>
            <a:ext cx="7467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e461d"/>
                </a:solidFill>
                <a:latin typeface="Times New Roman"/>
              </a:rPr>
              <a:t>Modelamient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1066680" y="45720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Modelos anidados 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80880" y="1371600"/>
            <a:ext cx="815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ara obtener modelos más complejos, se puede sumar varios variogramas elementales. En este caso, se habla de “variogramas anidados”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80880" y="5959440"/>
            <a:ext cx="830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l uso de variogramas anidados permite modelar cambios de pendientes en los variogramas direcciona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5" name="anidado" descr=""/>
          <p:cNvPicPr/>
          <p:nvPr/>
        </p:nvPicPr>
        <p:blipFill>
          <a:blip r:embed="rId2"/>
          <a:stretch/>
        </p:blipFill>
        <p:spPr>
          <a:xfrm>
            <a:off x="2465280" y="3062160"/>
            <a:ext cx="4087800" cy="28814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86" name=""/>
              <p:cNvSpPr txBox="1"/>
              <p:nvPr/>
            </p:nvSpPr>
            <p:spPr>
              <a:xfrm>
                <a:off x="2590920" y="2463840"/>
                <a:ext cx="39430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γ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γ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γ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295280" y="457200"/>
            <a:ext cx="647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Los modelos probabil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  <a:ea typeface="Times New Roman"/>
              </a:rPr>
              <a:t>í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sticos (3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09480" y="2133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independencia entre valore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ide una previsión precisa de un valor no muestrea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dés%202" descr=""/>
          <p:cNvPicPr/>
          <p:nvPr/>
        </p:nvPicPr>
        <p:blipFill>
          <a:blip r:embed="rId2"/>
          <a:stretch/>
        </p:blipFill>
        <p:spPr>
          <a:xfrm>
            <a:off x="228600" y="3352680"/>
            <a:ext cx="8675640" cy="13701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685800" y="51055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interpretación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ásica carece de realis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1066680" y="45720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Modelos anidados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762120" y="1371600"/>
            <a:ext cx="7772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l concepto de variogramas anidados permite explicar una de las causas del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efecto pepita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: se trata de un modelo anidado de alcance muy corto con respecto a la escala de observación (“micro-estructura”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9" name="genesis%20pepa" descr=""/>
          <p:cNvPicPr/>
          <p:nvPr/>
        </p:nvPicPr>
        <p:blipFill>
          <a:blip r:embed="rId2"/>
          <a:stretch/>
        </p:blipFill>
        <p:spPr>
          <a:xfrm>
            <a:off x="831960" y="3124080"/>
            <a:ext cx="7626240" cy="26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1066680" y="45720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Modelos anidados (3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762120" y="1523880"/>
            <a:ext cx="76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Otras causas que generan un efecto pepita en el variograma experimental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990720" y="396252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rores de medición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990720" y="464832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rores en la ubicación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 las muestras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990720" y="533412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estreo preferencial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n zonas de mayor variab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990720" y="243828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porte de la medición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masiado pequeño: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219320" y="2971800"/>
            <a:ext cx="754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a amplitud del efecto pepita es inversamente proporcional al volumen de la muest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1066680" y="45720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Anisotropías 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33520" y="160020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i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609480" y="2286000"/>
            <a:ext cx="8077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Un variograma es 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isótropo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si es idéntico en todas las direcciones del espacio. En caso contrario, existe 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anisotropía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, la cual indica que la variable regionalizada posee direcciones preferenciales en cuanto a su continuid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1066680" y="45720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Anisotropías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33520" y="160020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entif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09480" y="2286000"/>
            <a:ext cx="8077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Una herramienta eficaz para detectar las anisotropías consiste en graficar el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mapa variográfico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, o sea el mapa de isovalores del variograma experimental en función de la separación (distancia y orientación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533520" y="2209680"/>
            <a:ext cx="8076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l mapa variográfico dibuja elipses (2D) o elipsoides (3D). Sólo se requiere especificar las direcciones principales (ortogonales) y los alcances correspondien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066680" y="45720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Anisotropías (3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33520" y="160020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elamiento: anisotropía geométr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6" name="anisotropia%20geometrica%20color256" descr=""/>
          <p:cNvPicPr/>
          <p:nvPr/>
        </p:nvPicPr>
        <p:blipFill>
          <a:blip r:embed="rId2"/>
          <a:stretch/>
        </p:blipFill>
        <p:spPr>
          <a:xfrm>
            <a:off x="914400" y="3701880"/>
            <a:ext cx="7424640" cy="26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1066680" y="45720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Anisotropías (4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33520" y="160020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elamiento: anisotropía z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09480" y="2057400"/>
            <a:ext cx="7925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l mapa variográfico dibuja bandas; se trata de un caso límite de anisotropía geométrica, donde el alcance en una dirección </a:t>
            </a:r>
            <a:br>
              <a:rPr sz="2400"/>
            </a:b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e vuelve muy grande. A la escala de trabajo, la meseta cambia según la direc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0" name="anisotropia%20zonal%20color256" descr=""/>
          <p:cNvPicPr/>
          <p:nvPr/>
        </p:nvPicPr>
        <p:blipFill>
          <a:blip r:embed="rId2"/>
          <a:stretch/>
        </p:blipFill>
        <p:spPr>
          <a:xfrm>
            <a:off x="914400" y="3701880"/>
            <a:ext cx="7424640" cy="26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1066680" y="45720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Anisotropías (5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33520" y="160020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elamiento: anisotropías complej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09480" y="213372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e obtiene formas más complejas de anisotropía al superponer anisotropías geométricas y/o zonales de orientación y razón diferen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4" name="anisotropia%20compleja%20color256" descr=""/>
          <p:cNvPicPr/>
          <p:nvPr/>
        </p:nvPicPr>
        <p:blipFill>
          <a:blip r:embed="rId2"/>
          <a:stretch/>
        </p:blipFill>
        <p:spPr>
          <a:xfrm>
            <a:off x="990720" y="3700440"/>
            <a:ext cx="6992640" cy="27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066680" y="45720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Anisotropías (6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33520" y="160020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jemplo de ajus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7" name="ajuste%20anisotropo" descr=""/>
          <p:cNvPicPr/>
          <p:nvPr/>
        </p:nvPicPr>
        <p:blipFill>
          <a:blip r:embed="rId2"/>
          <a:stretch/>
        </p:blipFill>
        <p:spPr>
          <a:xfrm>
            <a:off x="2604960" y="2286000"/>
            <a:ext cx="4024440" cy="2700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18" name=""/>
              <p:cNvSpPr txBox="1"/>
              <p:nvPr/>
            </p:nvSpPr>
            <p:spPr>
              <a:xfrm>
                <a:off x="1103400" y="5124600"/>
                <a:ext cx="419076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γ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ste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pep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2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esf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80</m:t>
                    </m:r>
                    <m:r>
                      <m:t xml:space="preserve">m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9" name=""/>
              <p:cNvSpPr txBox="1"/>
              <p:nvPr/>
            </p:nvSpPr>
            <p:spPr>
              <a:xfrm>
                <a:off x="1066680" y="5581800"/>
                <a:ext cx="426420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γ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orte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pep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4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esf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m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0" name=""/>
              <p:cNvSpPr txBox="1"/>
              <p:nvPr/>
            </p:nvSpPr>
            <p:spPr>
              <a:xfrm>
                <a:off x="1079640" y="6039000"/>
                <a:ext cx="431316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γ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ertical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pep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2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esf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80</m:t>
                    </m:r>
                    <m:r>
                      <m:t xml:space="preserve">m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1" name=""/>
          <p:cNvSpPr/>
          <p:nvPr/>
        </p:nvSpPr>
        <p:spPr>
          <a:xfrm>
            <a:off x="5522760" y="5105520"/>
            <a:ext cx="152640" cy="1295280"/>
          </a:xfrm>
          <a:custGeom>
            <a:avLst/>
            <a:gdLst>
              <a:gd name="textAreaLeft" fmla="*/ 0 w 152640"/>
              <a:gd name="textAreaRight" fmla="*/ 55080 w 15264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562720" y="533412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¿Cuál es el modelo tridimensiona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1066680" y="45720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Anisotropías (7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4" name=""/>
              <p:cNvSpPr txBox="1"/>
              <p:nvPr/>
            </p:nvSpPr>
            <p:spPr>
              <a:xfrm>
                <a:off x="571680" y="2244600"/>
                <a:ext cx="419076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γ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ste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pep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2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esf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80</m:t>
                    </m:r>
                    <m:r>
                      <m:t xml:space="preserve">m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5" name=""/>
              <p:cNvSpPr txBox="1"/>
              <p:nvPr/>
            </p:nvSpPr>
            <p:spPr>
              <a:xfrm>
                <a:off x="471600" y="2854440"/>
                <a:ext cx="631008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γ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orte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pep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2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esf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m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esf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m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6" name=""/>
              <p:cNvSpPr txBox="1"/>
              <p:nvPr/>
            </p:nvSpPr>
            <p:spPr>
              <a:xfrm>
                <a:off x="328680" y="3463920"/>
                <a:ext cx="835812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γ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ertical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pep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2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esf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80</m:t>
                    </m:r>
                    <m:r>
                      <m:t xml:space="preserve">m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esf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80</m:t>
                    </m:r>
                    <m:r>
                      <m:t xml:space="preserve">m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esf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80</m:t>
                    </m:r>
                    <m:r>
                      <m:t xml:space="preserve">m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7" name=""/>
          <p:cNvSpPr/>
          <p:nvPr/>
        </p:nvSpPr>
        <p:spPr>
          <a:xfrm>
            <a:off x="4724280" y="2225520"/>
            <a:ext cx="19051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990033"/>
                </a:solidFill>
                <a:latin typeface="Times New Roman"/>
              </a:rPr>
              <a:t>+ 0.12 esf(</a:t>
            </a:r>
            <a:r>
              <a:rPr b="0" lang="en-US" sz="2300" spc="-1" strike="noStrike">
                <a:solidFill>
                  <a:srgbClr val="990033"/>
                </a:solidFill>
                <a:latin typeface="Symbol"/>
                <a:ea typeface="Symbol"/>
              </a:rPr>
              <a:t></a:t>
            </a:r>
            <a:r>
              <a:rPr b="0" lang="en-US" sz="2300" spc="-1" strike="noStrike">
                <a:solidFill>
                  <a:srgbClr val="990033"/>
                </a:solidFill>
                <a:latin typeface="Times New Roman"/>
              </a:rPr>
              <a:t>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781680" y="2835360"/>
            <a:ext cx="19051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990033"/>
                </a:solidFill>
                <a:latin typeface="Times New Roman"/>
              </a:rPr>
              <a:t>+ 0.18 esf(</a:t>
            </a:r>
            <a:r>
              <a:rPr b="0" lang="en-US" sz="2300" spc="-1" strike="noStrike">
                <a:solidFill>
                  <a:srgbClr val="990033"/>
                </a:solidFill>
                <a:latin typeface="Symbol"/>
                <a:ea typeface="Symbol"/>
              </a:rPr>
              <a:t></a:t>
            </a:r>
            <a:r>
              <a:rPr b="0" lang="en-US" sz="2300" spc="-1" strike="noStrike">
                <a:solidFill>
                  <a:srgbClr val="990033"/>
                </a:solidFill>
                <a:latin typeface="Times New Roman"/>
              </a:rPr>
              <a:t>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781680" y="2239920"/>
            <a:ext cx="19051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990033"/>
                </a:solidFill>
                <a:latin typeface="Times New Roman"/>
              </a:rPr>
              <a:t>+ 0.18 esf(</a:t>
            </a:r>
            <a:r>
              <a:rPr b="0" lang="en-US" sz="2300" spc="-1" strike="noStrike">
                <a:solidFill>
                  <a:srgbClr val="990033"/>
                </a:solidFill>
                <a:latin typeface="Symbol"/>
                <a:ea typeface="Symbol"/>
              </a:rPr>
              <a:t></a:t>
            </a:r>
            <a:r>
              <a:rPr b="0" lang="en-US" sz="2300" spc="-1" strike="noStrike">
                <a:solidFill>
                  <a:srgbClr val="990033"/>
                </a:solidFill>
                <a:latin typeface="Times New Roman"/>
              </a:rPr>
              <a:t>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rot="5400000">
            <a:off x="4305240" y="129960"/>
            <a:ext cx="457200" cy="8153280"/>
          </a:xfrm>
          <a:custGeom>
            <a:avLst/>
            <a:gdLst>
              <a:gd name="textAreaLeft" fmla="*/ 0 w 457200"/>
              <a:gd name="textAreaRight" fmla="*/ 164880 w 457200"/>
              <a:gd name="textAreaTop" fmla="*/ 212400 h 8153280"/>
              <a:gd name="textAreaBottom" fmla="*/ 7940880 h 815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1" name=""/>
              <p:cNvSpPr txBox="1"/>
              <p:nvPr/>
            </p:nvSpPr>
            <p:spPr>
              <a:xfrm>
                <a:off x="1724040" y="4511520"/>
                <a:ext cx="6481800" cy="82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γ</m:t>
                        </m:r>
                        <m:r>
                          <m:t xml:space="preserve">(</m:t>
                        </m:r>
                        <m:r>
                          <m:t xml:space="preserve">h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pep</m:t>
                        </m:r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2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esf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80</m:t>
                        </m:r>
                        <m:r>
                          <m:t xml:space="preserve">m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t xml:space="preserve">m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80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esf</m:t>
                        </m:r>
                        <m:r>
                          <m:t xml:space="preserve">(</m:t>
                        </m:r>
                        <m:r>
                          <m:t xml:space="preserve">∞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t xml:space="preserve">m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80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esf</m:t>
                        </m:r>
                        <m:r>
                          <m:t xml:space="preserve">(</m:t>
                        </m:r>
                        <m:r>
                          <m:t xml:space="preserve">∞</m:t>
                        </m:r>
                        <m:r>
                          <m:t xml:space="preserve">,</m:t>
                        </m:r>
                        <m:r>
                          <m:t xml:space="preserve">∞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80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32" name=""/>
          <p:cNvSpPr/>
          <p:nvPr/>
        </p:nvSpPr>
        <p:spPr>
          <a:xfrm>
            <a:off x="533520" y="5486400"/>
            <a:ext cx="8001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erificació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la suma de las mesetas v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.13 + 0.42 + 0.12 + 0.18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0.85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eseta to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57200" y="161604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elo tridimens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1066680" y="45720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Consideraciones prácticas 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09480" y="186048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Generalmente, se busca modelar anisotropías sencillas, con 2 ó </a:t>
            </a:r>
            <a:br>
              <a:rPr sz="2400"/>
            </a:b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3 direcciones principales ortogonales entre s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914400" y="269892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buscar la elipse o el elipsoide que mejor se acerca al mapa</a:t>
            </a:r>
            <a:br>
              <a:rPr sz="2400"/>
            </a:b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  variográfic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09480" y="3765600"/>
            <a:ext cx="807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l variograma experimental es poco confiable para distancias</a:t>
            </a:r>
            <a:br>
              <a:rPr sz="2400"/>
            </a:b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grandes (superiores a la mitad del diámetro del campo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09480" y="490860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a meseta del variograma (varianza te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rica) puede diferir de la </a:t>
            </a:r>
            <a:br>
              <a:rPr sz="2400"/>
            </a:b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varianza del histograma (varianza emp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í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rica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295280" y="457200"/>
            <a:ext cx="647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El modelo geoestadístico 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09480" y="205740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considera “interacciones” entre las observaciones, de modo de tomar en cuenta sus dependencias espacia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dés%203" descr=""/>
          <p:cNvPicPr/>
          <p:nvPr/>
        </p:nvPicPr>
        <p:blipFill>
          <a:blip r:embed="rId2"/>
          <a:stretch/>
        </p:blipFill>
        <p:spPr>
          <a:xfrm>
            <a:off x="239760" y="3352680"/>
            <a:ext cx="8675640" cy="13701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609480" y="5181480"/>
            <a:ext cx="815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podrá estimar el valor en un sitio no muestreado gracias a su interacción con los sitios circundan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1066680" y="45720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Consideraciones prácticas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09480" y="359712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esconfiar de los procedimientos de ajuste autom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á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t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990720" y="4130640"/>
            <a:ext cx="76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l an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á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isis variogr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á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fico debe ser un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trabajo interactivo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br>
              <a:rPr sz="2400"/>
            </a:b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  donde el usuario tiene la palabra fin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09480" y="198108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e debe prestar atención a la representatividad de los puntos </a:t>
            </a:r>
            <a:br>
              <a:rPr sz="2400"/>
            </a:b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experimentales, a la información disponible sobre la variable</a:t>
            </a:r>
            <a:br>
              <a:rPr sz="2400"/>
            </a:b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regionalizada y a la escala de trabaj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09480" y="52578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o existe un modelo únic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1066680" y="45720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Aplicaci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  <a:ea typeface="Times New Roman"/>
              </a:rPr>
              <a:t>ó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n a los datos mineros 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533520" y="160020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udio de anisotropía (mapa variográfic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09480" y="5562720"/>
            <a:ext cx="807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destaca la dirección vertical, en oposición con las direcciones horizontales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7" name="varmap%20Cu%20color%20256" descr=""/>
          <p:cNvPicPr/>
          <p:nvPr/>
        </p:nvPicPr>
        <p:blipFill>
          <a:blip r:embed="rId2"/>
          <a:stretch/>
        </p:blipFill>
        <p:spPr>
          <a:xfrm>
            <a:off x="609480" y="2246400"/>
            <a:ext cx="805032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/>
          <p:nvPr/>
        </p:nvSpPr>
        <p:spPr>
          <a:xfrm>
            <a:off x="1066680" y="45720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Aplicaci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  <a:ea typeface="Times New Roman"/>
              </a:rPr>
              <a:t>ó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n a los datos mineros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33520" y="160020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ograma experimen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85800" y="2209680"/>
            <a:ext cx="807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culado cada 20m en el plano horizontal y 12m en la vertical (con tolerancia angular de 15º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1" name="gamv" descr=""/>
          <p:cNvPicPr/>
          <p:nvPr/>
        </p:nvPicPr>
        <p:blipFill>
          <a:blip r:embed="rId2"/>
          <a:stretch/>
        </p:blipFill>
        <p:spPr>
          <a:xfrm>
            <a:off x="2305080" y="3357720"/>
            <a:ext cx="4324320" cy="31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1066680" y="45720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Aplicaci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  <a:ea typeface="Times New Roman"/>
              </a:rPr>
              <a:t>ó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n a los datos mineros (3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33520" y="160020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ograma model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85800" y="220968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erposición de tres modelos: pepita, esférico y exponenci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5" name="vmodel" descr=""/>
          <p:cNvPicPr/>
          <p:nvPr/>
        </p:nvPicPr>
        <p:blipFill>
          <a:blip r:embed="rId2"/>
          <a:stretch/>
        </p:blipFill>
        <p:spPr>
          <a:xfrm>
            <a:off x="2305080" y="3355920"/>
            <a:ext cx="4324320" cy="3197160"/>
          </a:xfrm>
          <a:prstGeom prst="rect">
            <a:avLst/>
          </a:prstGeom>
          <a:ln w="0">
            <a:noFill/>
          </a:ln>
        </p:spPr>
      </p:pic>
      <p:sp>
        <p:nvSpPr>
          <p:cNvPr id="356" name=""/>
          <p:cNvSpPr/>
          <p:nvPr/>
        </p:nvSpPr>
        <p:spPr>
          <a:xfrm>
            <a:off x="990720" y="274320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0.06 pep + 0.18 esf (100m) + 0.2 exp(40m,40m,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838080" y="2895480"/>
            <a:ext cx="7467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e461d"/>
                </a:solidFill>
                <a:latin typeface="Times New Roman"/>
              </a:rPr>
              <a:t>Validación cruzad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1066680" y="45720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La validaci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  <a:ea typeface="Times New Roman"/>
              </a:rPr>
              <a:t>ó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n cruzada 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685800" y="251460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ear el modelo teórico de variogra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685800" y="304812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arar la calidad de varios modelos posibles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85800" y="358128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ear los parámetros del kriging (vecindad...)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33520" y="182880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/>
          <p:nvPr/>
        </p:nvSpPr>
        <p:spPr>
          <a:xfrm>
            <a:off x="1066680" y="45720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La validaci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  <a:ea typeface="Times New Roman"/>
              </a:rPr>
              <a:t>ó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n cruzada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" y="251460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imar sucesivamente (por kriging) cada dato considerando</a:t>
            </a:r>
            <a:br>
              <a:rPr sz="2400"/>
            </a:b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solamente los datos restantes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85800" y="335268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cular el </a:t>
            </a:r>
            <a:r>
              <a:rPr b="1" i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ror de estimación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valor estimado menos valor </a:t>
            </a:r>
            <a:br>
              <a:rPr sz="2400"/>
            </a:b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real) cometido en cada sitio con dato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685800" y="4267080"/>
            <a:ext cx="77724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udiar la calidad de los errores de estimación por medio de</a:t>
            </a:r>
            <a:br>
              <a:rPr sz="2400"/>
            </a:b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herramientas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adísticas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gráficas.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puede complementar</a:t>
            </a:r>
            <a:br>
              <a:rPr sz="2400"/>
            </a:b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con el estudio de los </a:t>
            </a:r>
            <a:r>
              <a:rPr b="1" i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rores estandarizado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es decir, los </a:t>
            </a:r>
            <a:br>
              <a:rPr sz="2400"/>
            </a:b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errores divididos por su desviación estándar calculada por el </a:t>
            </a:r>
            <a:br>
              <a:rPr sz="2400"/>
            </a:b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kriging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33520" y="182880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ip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1066680" y="45720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La validaci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  <a:ea typeface="Times New Roman"/>
              </a:rPr>
              <a:t>ó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n cruzada (3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33520" y="182880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lustración con los datos de cobre (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0" name="cross_locmap256" descr=""/>
          <p:cNvPicPr/>
          <p:nvPr/>
        </p:nvPicPr>
        <p:blipFill>
          <a:blip r:embed="rId2"/>
          <a:stretch/>
        </p:blipFill>
        <p:spPr>
          <a:xfrm>
            <a:off x="447840" y="2590920"/>
            <a:ext cx="3590640" cy="3238560"/>
          </a:xfrm>
          <a:prstGeom prst="rect">
            <a:avLst/>
          </a:prstGeom>
          <a:ln w="0">
            <a:noFill/>
          </a:ln>
        </p:spPr>
      </p:pic>
      <p:pic>
        <p:nvPicPr>
          <p:cNvPr id="371" name="cross_histplt_err" descr=""/>
          <p:cNvPicPr/>
          <p:nvPr/>
        </p:nvPicPr>
        <p:blipFill>
          <a:blip r:embed="rId3"/>
          <a:stretch/>
        </p:blipFill>
        <p:spPr>
          <a:xfrm>
            <a:off x="4037040" y="2590920"/>
            <a:ext cx="4726080" cy="32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>
            <a:off x="1066680" y="45720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La validaci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  <a:ea typeface="Times New Roman"/>
              </a:rPr>
              <a:t>ó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n cruzada (4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33520" y="182880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lustración con los datos de cobre (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4" name="cross_scatplt" descr=""/>
          <p:cNvPicPr/>
          <p:nvPr/>
        </p:nvPicPr>
        <p:blipFill>
          <a:blip r:embed="rId2"/>
          <a:stretch/>
        </p:blipFill>
        <p:spPr>
          <a:xfrm>
            <a:off x="4906800" y="2590920"/>
            <a:ext cx="4160880" cy="3240000"/>
          </a:xfrm>
          <a:prstGeom prst="rect">
            <a:avLst/>
          </a:prstGeom>
          <a:ln w="0">
            <a:noFill/>
          </a:ln>
        </p:spPr>
      </p:pic>
      <p:pic>
        <p:nvPicPr>
          <p:cNvPr id="375" name="cross_histplt_stderr" descr=""/>
          <p:cNvPicPr/>
          <p:nvPr/>
        </p:nvPicPr>
        <p:blipFill>
          <a:blip r:embed="rId3"/>
          <a:stretch/>
        </p:blipFill>
        <p:spPr>
          <a:xfrm>
            <a:off x="228600" y="2590920"/>
            <a:ext cx="4726080" cy="32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1066680" y="45720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La validaci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  <a:ea typeface="Times New Roman"/>
              </a:rPr>
              <a:t>ó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n cruzada (5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57200" y="205740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edias de los errores y de los errores estandariz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457200" y="304812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varianza de los err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57200" y="403848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varianza de los errores estandariz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57200" y="541008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ube de dispersión entre valores reales y estim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609480" y="243828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ben ser cercanas a cero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stimador sin sesg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609480" y="3429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be ser la más baja posible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stimador precis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609480" y="4495680"/>
            <a:ext cx="807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be ser cercana a 1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l variograma cuantifica adecuadamente la incertidumb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09480" y="586728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regresión debe acercarse a la diagonal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sesgo condicion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80880" y="1447920"/>
            <a:ext cx="815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ctores que considerar para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 la validación del mode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609480" y="2057400"/>
            <a:ext cx="815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interpretación geoestadística es satisfactoria, puesto que las variables regionalizadas presentan dos aspectos complement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09480" y="525780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a interacci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 entre dos valores (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resorte) se cuantifica por las herramientas “variográficas”: principalmente el </a:t>
            </a:r>
            <a:r>
              <a:rPr b="1" i="1" lang="es-CL" sz="2400" spc="-1" strike="noStrike">
                <a:solidFill>
                  <a:srgbClr val="000000"/>
                </a:solidFill>
                <a:latin typeface="Times New Roman"/>
              </a:rPr>
              <a:t>variograma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, pero también el correlograma o la covarian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8080" y="32004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un 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aspecto 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aleatorio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ausante de las irregularidades loc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38080" y="396252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un 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aspecto estructural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que refleja las caracter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í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ticas globales</a:t>
            </a:r>
            <a:br>
              <a:rPr sz="2400"/>
            </a:b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del fen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meno (continuidad, anisotropía, etc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457200"/>
            <a:ext cx="647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El modelo geoestadístico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/>
          <p:nvPr/>
        </p:nvSpPr>
        <p:spPr>
          <a:xfrm>
            <a:off x="1066680" y="45720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La validaci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  <a:ea typeface="Times New Roman"/>
              </a:rPr>
              <a:t>ó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n cruzada (6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80880" y="1447920"/>
            <a:ext cx="815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udio del insesgo condi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600200" y="2743200"/>
            <a:ext cx="6400800" cy="39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Ley de corte  [%Cu]       Media efectiva         Media estima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s-ES_tradnl" sz="1600" spc="-1" strike="noStrike">
                <a:solidFill>
                  <a:srgbClr val="000000"/>
                </a:solidFill>
                <a:latin typeface="Courier New"/>
              </a:rPr>
              <a:t>0.00          1.054          1.05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s-ES_tradnl" sz="1600" spc="-1" strike="noStrike">
                <a:solidFill>
                  <a:srgbClr val="000000"/>
                </a:solidFill>
                <a:latin typeface="Courier New"/>
              </a:rPr>
              <a:t>0.20          1.054          1.05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s-ES_tradnl" sz="1600" spc="-1" strike="noStrike">
                <a:solidFill>
                  <a:srgbClr val="000000"/>
                </a:solidFill>
                <a:latin typeface="Courier New"/>
              </a:rPr>
              <a:t>0.40          1.092          1.0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s-ES_tradnl" sz="1600" spc="-1" strike="noStrike">
                <a:solidFill>
                  <a:srgbClr val="000000"/>
                </a:solidFill>
                <a:latin typeface="Courier New"/>
              </a:rPr>
              <a:t>0.60          1.182          1.18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s-ES_tradnl" sz="1600" spc="-1" strike="noStrike">
                <a:solidFill>
                  <a:srgbClr val="000000"/>
                </a:solidFill>
                <a:latin typeface="Courier New"/>
              </a:rPr>
              <a:t>0.80          1.299          1.3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s-ES_tradnl" sz="1600" spc="-1" strike="noStrike">
                <a:solidFill>
                  <a:srgbClr val="000000"/>
                </a:solidFill>
                <a:latin typeface="Courier New"/>
              </a:rPr>
              <a:t>1.00          1.446          1.45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s-ES_tradnl" sz="1600" spc="-1" strike="noStrike">
                <a:solidFill>
                  <a:srgbClr val="000000"/>
                </a:solidFill>
                <a:latin typeface="Courier New"/>
              </a:rPr>
              <a:t>1.20          1.628          1.62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s-ES_tradnl" sz="1600" spc="-1" strike="noStrike">
                <a:solidFill>
                  <a:srgbClr val="000000"/>
                </a:solidFill>
                <a:latin typeface="Courier New"/>
              </a:rPr>
              <a:t>1.40          1.849          1.84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s-ES_tradnl" sz="1600" spc="-1" strike="noStrike">
                <a:solidFill>
                  <a:srgbClr val="000000"/>
                </a:solidFill>
                <a:latin typeface="Courier New"/>
              </a:rPr>
              <a:t>1.60          2.043          2.04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s-ES_tradnl" sz="1600" spc="-1" strike="noStrike">
                <a:solidFill>
                  <a:srgbClr val="000000"/>
                </a:solidFill>
                <a:latin typeface="Courier New"/>
              </a:rPr>
              <a:t>1.80          2.325          2.2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s-ES_tradnl" sz="1600" spc="-1" strike="noStrike">
                <a:solidFill>
                  <a:srgbClr val="000000"/>
                </a:solidFill>
                <a:latin typeface="Courier New"/>
              </a:rPr>
              <a:t>2.00          2.608          2.56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s-ES_tradnl" sz="1600" spc="-1" strike="noStrike">
                <a:solidFill>
                  <a:srgbClr val="000000"/>
                </a:solidFill>
                <a:latin typeface="Courier New"/>
              </a:rPr>
              <a:t>2.20          2.996          2.92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s-ES_tradnl" sz="1600" spc="-1" strike="noStrike">
                <a:solidFill>
                  <a:srgbClr val="000000"/>
                </a:solidFill>
                <a:latin typeface="Courier New"/>
              </a:rPr>
              <a:t>2.40          3.301          3.12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s-ES_tradnl" sz="1600" spc="-1" strike="noStrike">
                <a:solidFill>
                  <a:srgbClr val="000000"/>
                </a:solidFill>
                <a:latin typeface="Courier New"/>
              </a:rPr>
              <a:t>2.60          3.746          3.4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s-ES_tradnl" sz="1600" spc="-1" strike="noStrike">
                <a:solidFill>
                  <a:srgbClr val="000000"/>
                </a:solidFill>
                <a:latin typeface="Courier New"/>
              </a:rPr>
              <a:t>2.80          3.970          3.65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609480" y="184464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rar las leyes promedio reales y estimadas al seleccionar los datos cuyos valore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stimado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uperan una ley de co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/>
          <p:nvPr/>
        </p:nvSpPr>
        <p:spPr>
          <a:xfrm>
            <a:off x="1066680" y="45720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La validaci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  <a:ea typeface="Times New Roman"/>
              </a:rPr>
              <a:t>ó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n cruzada (7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0880" y="1447920"/>
            <a:ext cx="815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udio del insesgo condi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2" name="cross_condbias" descr=""/>
          <p:cNvPicPr/>
          <p:nvPr/>
        </p:nvPicPr>
        <p:blipFill>
          <a:blip r:embed="rId2"/>
          <a:stretch/>
        </p:blipFill>
        <p:spPr>
          <a:xfrm>
            <a:off x="1066680" y="2324160"/>
            <a:ext cx="6845400" cy="323856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/>
          <p:nvPr/>
        </p:nvSpPr>
        <p:spPr>
          <a:xfrm>
            <a:off x="685800" y="57913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 este caso, el sesgo condicional es despreci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1600200" y="457200"/>
            <a:ext cx="59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Ejercici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533520" y="1676520"/>
            <a:ext cx="8076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Realizar el an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á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isis variogr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á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fico de las leyes de cobre y oro en los sondajes de explo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838080" y="2514600"/>
            <a:ext cx="76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varmap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pixelplt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gamv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vargplt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v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33520" y="4419720"/>
            <a:ext cx="8076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mparar los variogramas calculados a lo largo de la direcci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 este de (a) la ley de cobre de los pozos de tronadura, (b) la ley de cobre de los bloques de 5m × 5m × 12m y (c) la ley de cobre de los bloques de 25m × 25m × 12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838080" y="6019920"/>
            <a:ext cx="76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gam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vargp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33520" y="3200400"/>
            <a:ext cx="80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Realizar una validaci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 cruzada de los modelos variogr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á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f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838080" y="3733920"/>
            <a:ext cx="76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kt3d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locxyz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histplt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scatplt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condb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/>
          <p:nvPr/>
        </p:nvSpPr>
        <p:spPr>
          <a:xfrm>
            <a:off x="990720" y="2482920"/>
            <a:ext cx="7162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e461d"/>
                </a:solidFill>
                <a:latin typeface="Times New Roman"/>
              </a:rPr>
              <a:t>Archivos de par</a:t>
            </a:r>
            <a:r>
              <a:rPr b="1" lang="en-US" sz="4800" spc="-1" strike="noStrike">
                <a:solidFill>
                  <a:srgbClr val="0e461d"/>
                </a:solidFill>
                <a:latin typeface="Times New Roman"/>
                <a:ea typeface="Times New Roman"/>
              </a:rPr>
              <a:t>á</a:t>
            </a:r>
            <a:r>
              <a:rPr b="1" lang="en-US" sz="4800" spc="-1" strike="noStrike">
                <a:solidFill>
                  <a:srgbClr val="0e461d"/>
                </a:solidFill>
                <a:latin typeface="Times New Roman"/>
              </a:rPr>
              <a:t>metros de los programas GSLib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/>
          <p:nvPr/>
        </p:nvSpPr>
        <p:spPr>
          <a:xfrm>
            <a:off x="533520" y="1243080"/>
            <a:ext cx="8458200" cy="538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urier New"/>
              </a:rPr>
              <a:t>     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Parameters for VARMA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*****************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START OF PARAMETER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muestras.dat                 -file with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 4                        -   number of variables: column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-1.0        1.0e21           -   trimming lim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                            -1=regular grid, 0=scattered val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50   50    1                -if =1: nx,     ny,   n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.0  1.0  1.0                -       xsiz, ysiz, zsi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 2   3                    -if =0: columns for x,y, z coordin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varmap_Cu.out                -file for variogram 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0    10     5              -nxlag, nylag, nzla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20.0   20.0   12.0           -dxlag, dylag, dzla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                          -minimum number of pai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                            -standardize sill? (0=no, 1=y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                          -number of variogra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 1   1                    -tail, head, variogram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type 1 = traditional semivario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2 = traditional cross semivario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3 = covari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4 = correlo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5 = general relative semivario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6 = pairwise relative semivario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7 = semivariogram of logarith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8 = semimado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9 = indicator semivariogram - continu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0= indicator semivariogram - catego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066680" y="45720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Mapa variogr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  <a:ea typeface="Times New Roman"/>
              </a:rPr>
              <a:t>á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fico 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/>
          <p:nvPr/>
        </p:nvSpPr>
        <p:spPr>
          <a:xfrm>
            <a:off x="533520" y="1243080"/>
            <a:ext cx="8458200" cy="538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urier New"/>
              </a:rPr>
              <a:t>     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Parameters for PIXELP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*******************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START OF PARAMETER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varmap_Cu.out                    -file with gridded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                              -  column number for vari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-1.0    1.0e21                   -  data trimming lim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varmap_Cu.ps                     -file with PostScript 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                              -realization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21   -200   20.0                 -nx,xmn,xsi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21   -200   20.0                 -ny,ymn,ysi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1    -60   12.0                 -nz,zmn,zsi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                              -slice orientation: 1=XY, 2=XZ, 3=Y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6                                -slice number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Mapa variografico (planta)       -Tit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Distancia este [m]               -X lab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Distancia norte [m]              -Y lab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                                -0=arithmetic, 1=log sc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                              -0=gray scale, 1=color sc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                                -0=continuous, 1=catego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.0  0.5   0.1                   -continuous:  min, max, incr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2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                          -categorical: number of categ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   3    Code_One              -category(), code(), name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2     1    Code_Tw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Color Codes for Categorical Variable Plotting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=red, 2=orange, 3=yellow, 4=light green, 5=green, 6=light blue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7=dark blue, 8=violet, 9=white, 10=black, 11=purple, 12=brown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3=pink, 14=intermediate green, 15=gr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1066680" y="45720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Mapa variogr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  <a:ea typeface="Times New Roman"/>
              </a:rPr>
              <a:t>á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fico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/>
          <p:nvPr/>
        </p:nvSpPr>
        <p:spPr>
          <a:xfrm>
            <a:off x="533520" y="1243080"/>
            <a:ext cx="8458200" cy="538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urier New"/>
              </a:rPr>
              <a:t>     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Parameters for GAM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***************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START OF PARAMETER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muestras.dat                      -file with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 2   3                         -   columns for X, Y, Z coordin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 4                             -   number of variables,col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-1.0     1.0e21                   -   trimming lim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gamv_Cu_omnihoriz.out             -file for variogram 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0                                -number of la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20.0                              -lag separation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0.0                              -lag toler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                               -number of dir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.0  90.0 9999   0.0  20.0  5.0   -azm,atol,bandh,dip,dtol,band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                                 -standardize sills? (0=no, 1=y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                               -number of variogra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 1   1                         -tail var., head var., variogram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type 1 = traditional semivario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2 = traditional cross semivario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3 = covari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4 = correlo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5 = general relative semivario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6 = pairwise relative semivario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7 = semivariogram of logarith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8 = semimado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9 = indicator semivariogram - continu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0= indicator semivariogram - catego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562720" y="4740120"/>
            <a:ext cx="3124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cimu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zimu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: desde el norte hacia el es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5654520"/>
            <a:ext cx="342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inclinación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dip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): hacia arrib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066680" y="45720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Variograma experimental 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/>
          <p:nvPr/>
        </p:nvSpPr>
        <p:spPr>
          <a:xfrm>
            <a:off x="533520" y="1243080"/>
            <a:ext cx="8458200" cy="538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urier New"/>
              </a:rPr>
              <a:t>     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Parameters for GAM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***************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START OF PARAMETER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muestras.dat                      -file with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 2   3                         -   columns for X, Y, Z coordin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 4                             -   number of variables,col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-1.0     1.0e21                   -   trimming lim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gamv_Cu_vertical.out              -file for variogram 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5                                 -number of la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2.0                              -lag separation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6.0                               -lag toler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                               -number of dir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.0  90.0 9999  90.0  15.0 9999   -azm,atol,bandh,dip,dtol,band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                                 -standardize sills? (0=no, 1=y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                               -number of variogra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 1   1                         -tail var., head var., variogram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type 1 = traditional semivario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2 = traditional cross semivario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3 = covari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4 = correlo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5 = general relative semivario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6 = pairwise relative semivario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7 = semivariogram of logarith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8 = semimado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9 = indicator semivariogram - continu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0= indicator semivariogram - catego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1066680" y="45720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Variograma experimental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/>
          <p:nvPr/>
        </p:nvSpPr>
        <p:spPr>
          <a:xfrm>
            <a:off x="533520" y="1219320"/>
            <a:ext cx="845820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urier New"/>
              </a:rPr>
              <a:t>     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Parameters for VARGP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******************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START OF PARAMETER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gamv_Cu.ps                   -file for PostScript 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2                            -number of variograms to pl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.0   200.0                  -distance  limits (from data if max&lt;mi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.0    0.5                   -variogram limits (from data if max&lt;mi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      1.0                   -plot sill (0=no,1=yes), sill valu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Variograma experimental      -Title for vario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gamv_Cu_omnihoriz.out        -1 file with variogram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  1   1   1    10         -  variogram #, dash #, pts?, line?, col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gamv_Cu_vertical.out         -1 file with variogram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  1   1   1     1         -  variogram #, dash #, pts?, line?, col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Color Codes for Variogram Lines/Poi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=red, 2=orange, 3=yellow, 4=light green, 5=green, 6=light blue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7=dark blue, 8=violet, 9=white, 10=black, 11=purple, 12=brown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3=pink, 14=intermediate green, 15=gr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066680" y="45720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Variograma experimental (3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/>
          <p:nvPr/>
        </p:nvSpPr>
        <p:spPr>
          <a:xfrm>
            <a:off x="533520" y="1219320"/>
            <a:ext cx="84582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urier New"/>
              </a:rPr>
              <a:t>     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Parameters for V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*****************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START OF PARAMETER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v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model</a:t>
            </a: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_Cu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.var                -file for variogram 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2   200                      -number of directions and la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.0   0.0    1.0            -azm, dip, lag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.0  90.0    0.3            -azm, dip, lag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2    0.06                    -nst, nugget eff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  0.18  0.0   0.0   0.0   -it,cc,ang1,ang2,ang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00.0  100.0  100.0  -a_hmax, a_hmin, a_ve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2    0.20  0.0   0.0   0.0   -it,cc,ang1,ang2,ang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40.0   40.0  99999  -a_hmax, a_hmin, a_ve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33520" y="380988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os tipos de modelo disponibles s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762120" y="426708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: esfér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762120" y="472428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: exponen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62120" y="518148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: gaussia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62120" y="563868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: potencia (exponente = 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a_hmax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]0,2[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762120" y="609588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: coseno (v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á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ido sólo en una dimensi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1066680" y="45720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Variograma modelado 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219320" y="45720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Objetivo del análisis variográfic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57200" y="2438280"/>
            <a:ext cx="838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escribir las principales propiedades de la distribución espacial de la variable regionalizada en estudio, más allá de un simple reporte de los valores (perfiles, mapa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57200" y="396252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¿Qué tan continua es la variable en el espaci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/>
          <p:nvPr/>
        </p:nvSpPr>
        <p:spPr>
          <a:xfrm>
            <a:off x="304920" y="137160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Convenci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n para los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á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ngu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457200" y="228600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as direcciones principales de anisotrop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í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 (ortogonales entre 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í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) quedan definidas a partir de tres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á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gul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457200" y="320040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ang1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(acimut o 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azimut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): el eje norte (Y) rota hacia el eje este (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685800" y="365760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obtenci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 de un nuevo referencial (X’,Y’,Z’) con Z’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57200" y="4267080"/>
            <a:ext cx="85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ang2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(inclinaci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 o 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dip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): el eje Y’ rota hacia el eje vertical (Z’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685800" y="472428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obtenci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 de un nuevo referencial (X”,Y”,Z”) con X”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X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685800" y="579132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obtenci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 del referencial fi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1066680" y="45720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Variograma modelado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457200" y="5334120"/>
            <a:ext cx="85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ang3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(buzamiento, 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plunge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o 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pitch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): el eje X” rota hacia el eje Z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/>
          <p:nvPr/>
        </p:nvSpPr>
        <p:spPr>
          <a:xfrm>
            <a:off x="533520" y="1219320"/>
            <a:ext cx="845820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Courier New"/>
              </a:rPr>
              <a:t>     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Parameters for VARGP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******************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START OF PARAMETER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vmodel_Cu.ps                 -file for PostScript 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4                            -number of variograms to pl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.0   200.0                  -distance  limits (from data if max&lt;mi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.0    0.5                   -variogram limits (from data if max&lt;mi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      1.0                   -plot sill (0=no,1=yes), sill valu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Variograma modelado cobre    -Title for vario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gamv_Cu_omnihoriz.out        -1 file with variogram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  1   1   1    10         -  variogram #, dash #, pts?, line?, col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gamv_Cu_vertical.out         -1 file with variogram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  1   1   1     1         -  variogram #, dash #, pts?, line?, col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vmodel_Cu.var                -1 file with variogram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  0   0   1    10         -  variogram #, dash #, pts?, line?, col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vmodel_Cu.var                -1 file with variogram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2    0   0   1     1         -  variogram #, dash #, pts?, line?, col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Color Codes for Variogram Lines/Poi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=red, 2=orange, 3=yellow, 4=light green, 5=green, 6=light blue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7=dark blue, 8=violet, 9=white, 10=black, 11=purple, 12=brown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3=pink, 14=intermediate green, 15=gr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066680" y="45720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Variograma modelado (3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"/>
          <p:cNvSpPr/>
          <p:nvPr/>
        </p:nvSpPr>
        <p:spPr>
          <a:xfrm>
            <a:off x="533520" y="914400"/>
            <a:ext cx="8458200" cy="59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Parameters for KT3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***************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START OF PARAMETER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muestras.dat                     -file with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  1  2  3  4  0                 -   columns for DH,X,Y,Z,var,sec v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-1.0   1.0e21                    -   trimming lim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                              -option: 0=grid, 1=cross, 2=jackknif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No_se_lee_esta_linea.dat         -file with jackknife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 2   0    3    0              -   columns for X,Y,Z,vr and sec v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                                -debugging level: 0,1,2,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validacion.dbg                   -file for debugging 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validacion_Cu.out                -file for kriged 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50   0.5    1.0                  -nx,xmn,xsi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50   0.5    1.0                  -ny,ymn,ysi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  0.5    1.0                  -nz,zmn,zsi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    1      1                  -x,y and z block discret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2    24                          -min, max data for krig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3                                -max per octant (0-&gt; not us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00.0  100.0  150.0              -maximum search rad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.0   0.0   0.0                 -angles for search ellipso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   2.302                      -0=SK,1=OK,2=non-st SK,3=ex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 0 0 0 0 0 0 0 0                -drift: x,y,z,xx,yy,zz,xy,xz,z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                                -0, variable; 1, estimate tr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extdrift.dat                     -gridded file with drift/me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4                                -  column number in gridded f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2    0.06                        -nst, nugget eff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  0.18  0.0   0.0   0.0       -it,cc,ang1,ang2,ang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00.0  100.0  100.0     -a_hmax, a_hmin, a_ve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2    0.20  0.0   0.0   0.0       -it,cc,ang1,ang2,ang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40.0  40.0  99999      -a_hmax, a_hmin, a_ve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1066680" y="30492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Validación cruzada 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3520" y="1452600"/>
            <a:ext cx="84582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Parameters for locxy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*****************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START OF PARAMETER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validacion_Cu.out               -file with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 2   7                       -   columns for X, Y, vari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3   -1.0e21   1.0e21            -   columns for Z and coordinate lim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-99.    1.0e21                  -   trimming lim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mapa_validacion_Cu.ps           -file for PostScript 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.0     400.                    -xmn,xm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.0     600.                    -ymn,ym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                             -0=data values, 1=cross valid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                               -0=arithmetic,  1=log sc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                         -0=gray scale,  1=color sc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                               -0=no labels,   1=label each lo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.0    1.5    0.25              -gray/color scale: min, max, incr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.5                             -label size: 0.1(sml)-1(reg)-10(bi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Mapa de errores de validacion cruzada       -Tit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1066680" y="30492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Validación cruzada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/>
          <p:nvPr/>
        </p:nvSpPr>
        <p:spPr>
          <a:xfrm>
            <a:off x="533520" y="1452600"/>
            <a:ext cx="84582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Courier New"/>
              </a:rPr>
              <a:t>     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Parameters for HISTP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******************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START OF PARAMETER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v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alidacion_Cu.out            -file with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8   0                        -   columns for variable and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-99.0     1.0e21             -   trimming lim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hist_stderrores_validacion_Cu.ps   -file for PostScript 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-3.0      3.0                -attribute minimum and maxim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-1.0                         -frequency maximum (&lt;0 for automati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30                           -number of 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                            -0=arithmetic, 1=log sc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                            -0=frequency,  1=cumulative histo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                            -   number of cum. quantiles (&lt;0 for al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2                            -number of decimal places (&lt;0 for auto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Histograma de errores estandarizados               -tit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.5                          -positioning of stats (L to R: -1 to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-1.1e21                      -reference value for box pl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1066680" y="30492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Validación cruzada (3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/>
          <p:nvPr/>
        </p:nvSpPr>
        <p:spPr>
          <a:xfrm>
            <a:off x="533520" y="1452600"/>
            <a:ext cx="8458200" cy="26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Parameters for SCATP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******************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START OF PARAMETER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validacion_Cu.out                 -file with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5   4   0    0                    -  columns for X, Y, wt, third va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-1.0   1.0e21                     -  trimming lim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scatplt_validacion_Cu.ps          -file for Postscript 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.0     3.0      0                -X min and max, (0=arith, 1=lo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.0     3.0      0                -Y min and max, (0=arith, 1=lo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                               -plot every nth data poi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.5                               -bullet size: 0.1(sml)-1(reg)-10(bi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.0      2.0                      -limits for third variable gray sc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Valores reales vs estimados       -tit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066680" y="30492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Validación cruzada (4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/>
          <p:nvPr/>
        </p:nvSpPr>
        <p:spPr>
          <a:xfrm>
            <a:off x="533520" y="1452600"/>
            <a:ext cx="8458200" cy="21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Courier New"/>
              </a:rPr>
              <a:t>     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CONDBIAS: Conditional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****************************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START OF PARAMETER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validacion_Cu.out                       \Input data f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5   4                                   \column for estimate, 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-1.0   1.0e21                           \tmin,tma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regresion_Cu.out                        \Output for conditional bi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20                                      \number of 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leyes_medias_Cu.out                     \Output for mean above cuto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30   0.0   0.1                          \number of cutoffs, start, in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066680" y="30492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Validación cruzada (5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533520" y="3905280"/>
            <a:ext cx="8458200" cy="26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Parameters for SCATP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******************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START OF PARAMETER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regresion_Cu.out                  -file with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 2   0    0                    -  columns for X, Y, wt, third va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-1.0   1.0e21                     -  trimming lim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regresion_validacion_Cu.ps        -file for Postscript 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.0     3.0      0                -X min and max, (0=arith, 1=lo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.0     3.0      0                -Y min and max, (0=arith, 1=lo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                               -plot every nth data poi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.5                               -bullet size: 0.1(sml)-1(reg)-10(bi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.0      2.0                      -limits for third variable gray sc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Regresion valores reales vs estimados       -tit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"/>
          <p:cNvSpPr/>
          <p:nvPr/>
        </p:nvSpPr>
        <p:spPr>
          <a:xfrm>
            <a:off x="533520" y="990720"/>
            <a:ext cx="8458200" cy="56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Courier New"/>
              </a:rPr>
              <a:t>     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Parameters for G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**************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START OF PARAMETER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Grilla_5x5.dat        -file with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3   4   5   6         -   number of variables, column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-1.0      1.0e21      -   trimming lim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gam_Cu_grilla5x5.out  -file for variogram 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                   -grid or realization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80   2.5   5.0        -nx, xmn, xsi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20  2.5   5.0        -ny, ymn, ysi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1  11.0  12.0        -nz, zmn, zsi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40                 -number of directions, number of la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0  0              -ixd(1),iyd(1),izd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                     -standardize sill? (0=no, 1=y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3                     -number of variogra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 1   1             -tail variable, head variable, variogram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2   2   1             -tail variable, head variable, variogram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3   3   1             -tail variable, head variable, variogram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type 1 = traditional semivario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2 = traditional cross semivario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3 = covari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4 = correlo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5 = general relative semivario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6 = pairwise relative semivario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7 = semivariogram of logarith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8 = semimado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9 = indicator semivariogram - continu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0= indicator semivariogram - catego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066680" y="30492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Variograma de datos en grilla 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"/>
          <p:cNvSpPr/>
          <p:nvPr/>
        </p:nvSpPr>
        <p:spPr>
          <a:xfrm>
            <a:off x="533520" y="1301760"/>
            <a:ext cx="845820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     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Parameters for VARGP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******************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START OF PARAMETER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gam_Cu_grilla5x5.ps          -file for PostScript 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3                            -number of variograms to pl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.0   201.0                  -distance  limits (from data if max&lt;mi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.0    0.5                   -variogram limits (from data if max&lt;mi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      1.0                   -plot sill (0=no,1=yes), sill valu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Variogramas pozos y bloques  -Title for vario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gam_Cu_grilla5x5.out         -1 file with variogram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  0   0   1    10         -  variogram #, dash #, pts?, line?, col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gam_Cu_grilla5x5.out         -1 file with variogram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2    0   0   1     1         -  variogram #, dash #, pts?, line?, col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gam_Cu_grilla5x5.out         -1 file with variogram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3    0   0   1     7         -  variogram #, dash #, pts?, line?, col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Color Codes for Variogram Lines/Poi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=red, 2=orange, 3=yellow, 4=light green, 5=green, 6=light blue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7=dark blue, 8=violet, 9=white, 10=black, 11=purple, 12=brown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3=pink, 14=intermediate green, 15=gr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066680" y="30492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Variograma de datos en grilla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219320" y="45720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Noción de correlación espacial 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80880" y="1600200"/>
            <a:ext cx="838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Volvemos al ejemplo de las 2376 muestras de exploración en un yacimiento de tipo pórfido cuprífer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880" y="571500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Observemos las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nubes de correlación diferida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para seis distancias de separación: 0, 2, 10, 20, 50 y 100 met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locmap%20Cu" descr=""/>
          <p:cNvPicPr/>
          <p:nvPr/>
        </p:nvPicPr>
        <p:blipFill>
          <a:blip r:embed="rId2"/>
          <a:srcRect l="0" t="0" r="62128" b="0"/>
          <a:stretch/>
        </p:blipFill>
        <p:spPr>
          <a:xfrm>
            <a:off x="762120" y="2590920"/>
            <a:ext cx="2361960" cy="2877840"/>
          </a:xfrm>
          <a:prstGeom prst="rect">
            <a:avLst/>
          </a:prstGeom>
          <a:ln w="0">
            <a:noFill/>
          </a:ln>
        </p:spPr>
      </p:pic>
      <p:pic>
        <p:nvPicPr>
          <p:cNvPr id="112" name="locmap%20Cu" descr=""/>
          <p:cNvPicPr/>
          <p:nvPr/>
        </p:nvPicPr>
        <p:blipFill>
          <a:blip r:embed="rId3"/>
          <a:srcRect l="86741" t="0" r="0" b="0"/>
          <a:stretch/>
        </p:blipFill>
        <p:spPr>
          <a:xfrm>
            <a:off x="3124080" y="2590920"/>
            <a:ext cx="827280" cy="2877840"/>
          </a:xfrm>
          <a:prstGeom prst="rect">
            <a:avLst/>
          </a:prstGeom>
          <a:ln w="0">
            <a:noFill/>
          </a:ln>
        </p:spPr>
      </p:pic>
      <p:pic>
        <p:nvPicPr>
          <p:cNvPr id="113" name="histplt%20declus%20Cu" descr=""/>
          <p:cNvPicPr/>
          <p:nvPr/>
        </p:nvPicPr>
        <p:blipFill>
          <a:blip r:embed="rId4"/>
          <a:stretch/>
        </p:blipFill>
        <p:spPr>
          <a:xfrm>
            <a:off x="4495680" y="2590920"/>
            <a:ext cx="3988080" cy="28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2T14:25:58Z</dcterms:created>
  <dc:creator>Depto. Ing. Minas</dc:creator>
  <dc:description/>
  <dc:language>en-US</dc:language>
  <cp:lastModifiedBy>Minas</cp:lastModifiedBy>
  <dcterms:modified xsi:type="dcterms:W3CDTF">2005-05-12T23:09:24Z</dcterms:modified>
  <cp:revision>195</cp:revision>
  <dc:subject/>
  <dc:title>Sin título de diapositiva</dc:title>
</cp:coreProperties>
</file>