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6E3-75CE-47FE-AC7D-9BDAE3EB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3AF-0C76-4761-8356-C692516C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DBE-4FB3-43E2-A503-F7A98D7D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F7D-E04B-4B9E-BD70-F4B868E9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608D-0A9F-4792-880E-EB351B81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6D3C-50AE-41BD-8C93-F78C4B87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21C-AD63-4F16-A360-247E1AEE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20EF-ADE2-460C-8B17-5AA5A0F4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0546-9AE9-4D85-B534-8257E44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648-D8D7-42EF-997F-CB3FEB02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48F4-BDDF-4521-A6C8-5F72A0FB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585-528A-4816-8975-E927DE7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206F-7717-4EF9-99EC-8078746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E69A-D22E-4077-A2E3-9ACF9C6C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50C-2051-4D8F-A237-C8E1A82B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377-FA39-48B7-ACEB-3714DAAA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698B-3D1B-430D-9DDB-DA997C87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798-C8C3-4177-BA34-B8A0605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700-4BC5-41CE-B6A5-AF652B3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ED8-0C65-4287-B844-2D9388A8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628-8D86-4658-8E61-5A451B1E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DE5-84C7-444A-8F84-A68D448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3AF-6A16-4187-BCE6-BF1F10F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1D3-6EBB-46B6-A5AE-097B1DC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208A-5C70-4799-99A9-E300E177E98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AB74-C3E2-4CCD-B300-B52C44191ED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n 2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lisis variogr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fico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de datos regionalizad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scatt" descr=""/>
          <p:cNvPicPr/>
          <p:nvPr/>
        </p:nvPicPr>
        <p:blipFill>
          <a:blip r:embed="rId2"/>
          <a:stretch/>
        </p:blipFill>
        <p:spPr>
          <a:xfrm>
            <a:off x="228600" y="1160640"/>
            <a:ext cx="861048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99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spersión de la nube aumenta con la distanci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6704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amen de las nubes de correlación diferida indica cuán semejantes son dos muestras en función de la distancia que las separa. Es decir, permite apreciar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ación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valore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Herramientas variográf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9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primera manera de medir la correlación espacial consiste en calcular el coeficiente de correlación de las nubes de correlación dife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384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reportar el valor de este coeficiente de correlación en función de la distancia de separación, se obtiene lo que se denomin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datos. Generalmente, se trata de una función decreciente de la distancia; tiende a cero cuando ésta se vuelve muy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orrelograma" descr=""/>
          <p:cNvPicPr/>
          <p:nvPr/>
        </p:nvPicPr>
        <p:blipFill>
          <a:blip r:embed="rId2"/>
          <a:stretch/>
        </p:blipFill>
        <p:spPr>
          <a:xfrm>
            <a:off x="2038320" y="2465280"/>
            <a:ext cx="5124600" cy="431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varianza 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ugar de visualizar el coeficiente de correlación, se visualiz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ovarianz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89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obtiene al visualiz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mento de inerci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s nubes de correlación diferida (distancia cuadrática promedio a la diagonal principal)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25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trata de una función creciente de la distancia; se anula cuando ésta vale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75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una relación entre todas las herramientas variográficas. En general, se prefiere utilizar el variograma en lugar de la covarianza o del correl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ariogram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muestra características importantes de la variable regionaliz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482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) el crecimiento indica la velocidad con la cual se desestructur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42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) la distancia para la cual se estabiliza el variograma represent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“zona de influencia” de una muestra;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375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) el comportamiento cerca del origen indica qué tan semejant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son dos muestras muy cercanas, o sea, refleja l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ontinu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gular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4) el cálculo del variograma puede hacerse a lo largo de distint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direcciones del espacio y evidenciar un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62320" y="3807000"/>
                <a:ext cx="4495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9480" y="4935600"/>
            <a:ext cx="708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n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= {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tales qu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| es el cardinal 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8076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mos como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.. n} los sitios de muestreo y como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a variable regionalizad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255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mide la desviación cuadrática promedio entre dos datos en función de su separ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28954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mos las siguientes observaciones espaciadas cada 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819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3    6     4     2     1     1     2     4     3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920" y="3733920"/>
                <a:ext cx="8464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654440"/>
                <a:ext cx="7678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5562720"/>
                <a:ext cx="7202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olérances%20espagnol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55804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447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muestreo es irregular, se suele definir parámetros de tolerancia, tanto en la longitud del vector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n su orienta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ámetros que definir para calcular un variograma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43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el 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276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la 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s (múltiplos de una distancia elemental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676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es poco estable cuan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anci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ada es gran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estreo es muy irregular o preferenci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211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los datos es muy asimétrica o contien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133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agru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: poco usa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657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fórmul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alcular el variograma experimental: s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be introducir hipótesi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ormar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r ejemplo, pasar a logaritmo): volve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la variable inicial requiere hipótesis restri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zables: covarianza, covarianza no centrada, correl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rvibles: variograma relativo, madograma, rod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udio de c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256 datos en el espacio de d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02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 influyen los 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tros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en el variogram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xperimen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atos%20colo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989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en 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tol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num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ipo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or qué recurrir a modelos probabil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sticos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mplejidad de las variables regionalizadas, en especial en las cienci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descripción determinística es inconcebi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atol" descr=""/>
          <p:cNvPicPr/>
          <p:nvPr/>
        </p:nvPicPr>
        <p:blipFill>
          <a:blip r:embed="rId2"/>
          <a:stretch/>
        </p:blipFill>
        <p:spPr>
          <a:xfrm>
            <a:off x="1447920" y="183204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riograma teór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requiere ser model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s puntos obtenidos son experimentales,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uego están sujetos a imprecisione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139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calculó de manera discreta a lo larg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algunas direcciones del espacio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{ [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/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191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o se define al considerar los valores como aleatorios (denotados con ma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ula) y al utilizar una esperanza mate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del variograma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ositiva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7590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ar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368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dad en el origen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978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de tipo negativ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71600" y="4587840"/>
                <a:ext cx="708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90720" y="55022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istancias muy grandes, crece menos rápidamente qu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a pará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enciales del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en el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35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entra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el variograma en el origen,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la variable regionalizada en el espacio. Se distingue tres tipos de comportamiento para 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148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erivab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muy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scontinu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“efecto pepita”): variable regionalizada er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rigen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7040" cy="438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al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ecuentemente, el variograma se estabiliza en torno a una meseta cuando la distancia crece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nfinito%201" descr=""/>
          <p:cNvPicPr/>
          <p:nvPr/>
        </p:nvPicPr>
        <p:blipFill>
          <a:blip r:embed="rId2"/>
          <a:stretch/>
        </p:blipFill>
        <p:spPr>
          <a:xfrm>
            <a:off x="1751040" y="2898720"/>
            <a:ext cx="5640480" cy="36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6246720" y="3733920"/>
            <a:ext cx="0" cy="220968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4560" y="3657600"/>
            <a:ext cx="297180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2767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es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6172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nfinito%202" descr=""/>
          <p:cNvPicPr/>
          <p:nvPr/>
        </p:nvPicPr>
        <p:blipFill>
          <a:blip r:embed="rId2"/>
          <a:stretch/>
        </p:blipFill>
        <p:spPr>
          <a:xfrm>
            <a:off x="2001960" y="2211480"/>
            <a:ext cx="5008320" cy="365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veces, el variograma sigue creciendo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81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studio de los variogramas direccionales permite identificar las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direccional2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as caracter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í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057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eriodicidad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frecuente con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s temporales, menos con fenómenos espa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fecto de hoy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variograma no es mo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hole" descr=""/>
          <p:cNvPicPr/>
          <p:nvPr/>
        </p:nvPicPr>
        <p:blipFill>
          <a:blip r:embed="rId2"/>
          <a:stretch/>
        </p:blipFill>
        <p:spPr>
          <a:xfrm>
            <a:off x="581040" y="3660840"/>
            <a:ext cx="7953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 la estadística clásic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s observaciones como resultad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pendient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misma variable aleatori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és%201" descr=""/>
          <p:cNvPicPr/>
          <p:nvPr/>
        </p:nvPicPr>
        <p:blipFill>
          <a:blip r:embed="rId2"/>
          <a:stretch/>
        </p:blipFill>
        <p:spPr>
          <a:xfrm>
            <a:off x="773280" y="3962520"/>
            <a:ext cx="776124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4479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proporciona una caracter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parcial de la variable regionalizada; varios rasgos estructurales no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scritos por esta herramienta, por ejemplo la conectividad o agrup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pacial de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%20variograma%20no%20es%20todo256" descr=""/>
          <p:cNvPicPr/>
          <p:nvPr/>
        </p:nvPicPr>
        <p:blipFill>
          <a:blip r:embed="rId2"/>
          <a:stretch/>
        </p:blipFill>
        <p:spPr>
          <a:xfrm>
            <a:off x="390600" y="3124080"/>
            <a:ext cx="8372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018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orrel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la covarianza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tán relacionados entre 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34008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/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2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distancia de separació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vuelve infinita, la covarianza y el correlograma tienden a 0, y el variograma es igual a la varia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otras herramientas var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pep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elemental%20pep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una ausencia total de correl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el espacio: dos muestras distintas tienen valores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sfé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lemental%20esferico256" descr=""/>
          <p:cNvPicPr/>
          <p:nvPr/>
        </p:nvPicPr>
        <p:blipFill>
          <a:blip r:embed="rId2"/>
          <a:stretch/>
        </p:blipFill>
        <p:spPr>
          <a:xfrm>
            <a:off x="338040" y="2897280"/>
            <a:ext cx="8501040" cy="31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1467000"/>
                <a:ext cx="4292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|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09480" y="6095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xpon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lemental%20exponencial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rámetr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t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rresponde a la distancia para la cual el variograma llega al 95% de su meseta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gauss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elemental%20gaussiano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129120" y="1400040"/>
                <a:ext cx="3267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09480" y="57913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071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ponent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uede variar entre 0 (variograma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) y 2 (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48120" y="1633680"/>
                <a:ext cx="1454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3352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variograma no posee alcance ni mes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elemental%20potenci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o card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62360" y="1395360"/>
                <a:ext cx="30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3352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0.4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mi-perío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5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elemental%20seno%20cardenal%20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odela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371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obtener modelos más complejos, se puede sumar varios variogramas elementales. En este caso, se habla de “variogramas anidad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959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uso de variogramas anidados permite modelar cambios de pendientes en los variogramas direc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anidado" descr=""/>
          <p:cNvPicPr/>
          <p:nvPr/>
        </p:nvPicPr>
        <p:blipFill>
          <a:blip r:embed="rId2"/>
          <a:stretch/>
        </p:blipFill>
        <p:spPr>
          <a:xfrm>
            <a:off x="2465280" y="3062160"/>
            <a:ext cx="408780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90920" y="2463840"/>
                <a:ext cx="394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ependencia entre val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de una previsión precisa de un valor no muestr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és%202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ásica carece de re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371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cepto de variogramas anidados permite explicar una de las causas d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epi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trata de un modelo anidado de alcance muy corto con respecto a la escala de observación (“micro-estructura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enesis%20pepa" descr=""/>
          <p:cNvPicPr/>
          <p:nvPr/>
        </p:nvPicPr>
        <p:blipFill>
          <a:blip r:embed="rId2"/>
          <a:stretch/>
        </p:blipFill>
        <p:spPr>
          <a:xfrm>
            <a:off x="831960" y="3124080"/>
            <a:ext cx="7626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as causas que generan un efecto pepita en el variograma experimen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de medi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n la ubic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muestr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o preferen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zonas de mayor var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orte de la medi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masiado pequeño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971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amplitud del efecto pepita es inversamente proporcional al volume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variograma e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sótrop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i es idéntico en todas las direcciones del espacio. En caso contrario, exis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cual indica que la variable regionalizada posee direcciones preferenciales en cuanto a su continu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herramienta eficaz para detectar las anisotropías consiste en grafic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pa variográf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o sea el mapa de isovalores del variograma experimental en función de la separación (distancia y ori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elipses (2D) o elipsoides (3D). Sólo se requiere especificar las direcciones principales (ortogonales) y los alcance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nisotropia%20geometrica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057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bandas; se trata de un caso límite de anisotropía geométrica, donde el alcance en una direcció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vuelve muy grande. A la escala de trabajo, la meseta cambia según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anisotropia%20zonal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s compl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obtiene formas más complejas de anisotropía al superponer anisotropías geométricas y/o zonales de orientación y razón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anisotropia%20compleja%20color256" descr=""/>
          <p:cNvPicPr/>
          <p:nvPr/>
        </p:nvPicPr>
        <p:blipFill>
          <a:blip r:embed="rId2"/>
          <a:stretch/>
        </p:blipFill>
        <p:spPr>
          <a:xfrm>
            <a:off x="990720" y="3700440"/>
            <a:ext cx="6992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ajuste%20anisotropo" descr=""/>
          <p:cNvPicPr/>
          <p:nvPr/>
        </p:nvPicPr>
        <p:blipFill>
          <a:blip r:embed="rId2"/>
          <a:stretch/>
        </p:blipFill>
        <p:spPr>
          <a:xfrm>
            <a:off x="2604960" y="2286000"/>
            <a:ext cx="402444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03400" y="512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066680" y="5581800"/>
                <a:ext cx="4264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079640" y="6039000"/>
                <a:ext cx="4313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522760" y="510552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l es el modelo tridimens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1680" y="224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1600" y="2854440"/>
                <a:ext cx="6310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8680" y="3463920"/>
                <a:ext cx="835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24280" y="22255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2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283536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22399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305240" y="129960"/>
            <a:ext cx="457200" cy="8153280"/>
          </a:xfrm>
          <a:custGeom>
            <a:avLst/>
            <a:gdLst>
              <a:gd name="textAreaLeft" fmla="*/ 0 w 457200"/>
              <a:gd name="textAreaRight" fmla="*/ 164880 w 457200"/>
              <a:gd name="textAreaTop" fmla="*/ 212400 h 8153280"/>
              <a:gd name="textAreaBottom" fmla="*/ 7940880 h 815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724040" y="4511520"/>
                <a:ext cx="648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3352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suma de las mesetas 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3 + 0.42 + 0.12 + 0.1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et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616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tr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860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busca modelar anisotropías sencillas, con 2 ó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 direcciones principales ortogonales entre 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98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la elipse o el elipsoide que mejor se acerca al map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vari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765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experimental es poco confiable para distanci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grandes (superiores a la mitad del diámetro del camp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90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eseta del variograma (varianz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 puede diferir de l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varianza del histograma (varianza em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“interacciones” entre las observaciones, de modo de tomar en cuenta sus dependencias espa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és%203" descr=""/>
          <p:cNvPicPr/>
          <p:nvPr/>
        </p:nvPicPr>
        <p:blipFill>
          <a:blip r:embed="rId2"/>
          <a:stretch/>
        </p:blipFill>
        <p:spPr>
          <a:xfrm>
            <a:off x="23976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181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drá estimar el valor en un sitio no muestreado gracias a su interacción con los sitios circund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359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onfiar de los procedimientos de ajuste auto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4130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be ser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rabajo interac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onde el usuario tiene la palabr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debe prestar atención a la representatividad de los punt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xperimentales, a la información disponible sobre la variabl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regionalizada y a la escala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xiste un modelo ú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anisotropía (mapa variográ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taca la dirección vertical, en oposición con las direcciones horizonta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varmap%20Cu%20color%20256" descr=""/>
          <p:cNvPicPr/>
          <p:nvPr/>
        </p:nvPicPr>
        <p:blipFill>
          <a:blip r:embed="rId2"/>
          <a:stretch/>
        </p:blipFill>
        <p:spPr>
          <a:xfrm>
            <a:off x="609480" y="2246400"/>
            <a:ext cx="8050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do cada 20m en el plano horizontal y 12m en la vertical (con tolerancia angular de 15º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gamv" descr=""/>
          <p:cNvPicPr/>
          <p:nvPr/>
        </p:nvPicPr>
        <p:blipFill>
          <a:blip r:embed="rId2"/>
          <a:stretch/>
        </p:blipFill>
        <p:spPr>
          <a:xfrm>
            <a:off x="2305080" y="3357720"/>
            <a:ext cx="4324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mode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posición de tres modelos: pepita, esférico y expone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vmodel" descr=""/>
          <p:cNvPicPr/>
          <p:nvPr/>
        </p:nvPicPr>
        <p:blipFill>
          <a:blip r:embed="rId2"/>
          <a:stretch/>
        </p:blipFill>
        <p:spPr>
          <a:xfrm>
            <a:off x="2305080" y="3355920"/>
            <a:ext cx="4324320" cy="3197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9072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 pep + 0.18 esf (100m) + 0.2 exp(40m,40m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lidación cruz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el modelo teórico de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3048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la calidad de varios modelos posi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los parámetros del kriging (vecindad...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r sucesivamente (por kriging) cada dato consideran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olamente los datos restan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3352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 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or estimado menos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al) cometido en cada sitio con dat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42670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la calidad de los errores de estimación por medio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íst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gráficas.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complementa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 el estudio de los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standariz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s decir, l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rrores divididos por su desviación estándar calculada por el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krig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cross_locmap256" descr=""/>
          <p:cNvPicPr/>
          <p:nvPr/>
        </p:nvPicPr>
        <p:blipFill>
          <a:blip r:embed="rId2"/>
          <a:stretch/>
        </p:blipFill>
        <p:spPr>
          <a:xfrm>
            <a:off x="447840" y="2590920"/>
            <a:ext cx="3590640" cy="3238560"/>
          </a:xfrm>
          <a:prstGeom prst="rect">
            <a:avLst/>
          </a:prstGeom>
          <a:ln w="0">
            <a:noFill/>
          </a:ln>
        </p:spPr>
      </p:pic>
      <p:pic>
        <p:nvPicPr>
          <p:cNvPr id="371" name="cross_histplt_err" descr=""/>
          <p:cNvPicPr/>
          <p:nvPr/>
        </p:nvPicPr>
        <p:blipFill>
          <a:blip r:embed="rId3"/>
          <a:stretch/>
        </p:blipFill>
        <p:spPr>
          <a:xfrm>
            <a:off x="403704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ross_scatplt" descr=""/>
          <p:cNvPicPr/>
          <p:nvPr/>
        </p:nvPicPr>
        <p:blipFill>
          <a:blip r:embed="rId2"/>
          <a:stretch/>
        </p:blipFill>
        <p:spPr>
          <a:xfrm>
            <a:off x="4906800" y="2590920"/>
            <a:ext cx="4160880" cy="3240000"/>
          </a:xfrm>
          <a:prstGeom prst="rect">
            <a:avLst/>
          </a:prstGeom>
          <a:ln w="0">
            <a:noFill/>
          </a:ln>
        </p:spPr>
      </p:pic>
      <p:pic>
        <p:nvPicPr>
          <p:cNvPr id="375" name="cross_histplt_stderr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as de los errores y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048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be de dispersión entre valores reales y estim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cercanas a cer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sin ses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la más baja posibl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4495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cercana a 1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 cuantifica adecuadamente la incertidu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gresión debe acercarse a la diagon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que considerar par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 valid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057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geoestadística es satisfactoria, puesto que las variables regionalizadas presentan dos 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intera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tre dos valores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sorte) se cuantifica por las herramientas “variográficas”: principalmente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ogr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pero también el correlograma o la covar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usante de las irregularidad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estructur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que refleja las caract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as global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el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 (continuidad, anisotrop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743200"/>
            <a:ext cx="64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ey de corte  [%Cu]       Media efectiva         Media esti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0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2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40          1.092          1.0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60          1.182          1.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80          1.299          1.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00          1.446          1.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20          1.628          1.6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40          1.849          1.8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60          2.043          2.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80          2.325          2.2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00          2.608          2.5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20          2.996          2.9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40          3.301          3.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60          3.746          3.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80          3.970          3.6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84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 las leyes promedio reales y estimadas al seleccionar los datos cuyos valo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cross_condbias" descr=""/>
          <p:cNvPicPr/>
          <p:nvPr/>
        </p:nvPicPr>
        <p:blipFill>
          <a:blip r:embed="rId2"/>
          <a:stretch/>
        </p:blipFill>
        <p:spPr>
          <a:xfrm>
            <a:off x="1066680" y="2324160"/>
            <a:ext cx="6845400" cy="3238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" y="5791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el sesgo condicional es desprec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 las leyes de cobre y oro en los sondajes de exp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ma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v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variogramas calculados a lo largo de la dire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te de (a) la ley de cobre de los pozos de tronadura, (b) la ley de cobre de los bloques de 5m × 5m × 12m y (c) la ley de cobre de los bloques de 25m × 25m × 12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una valid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ruzada de los modelo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3733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-   number of variables: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1=regular grid, 0=scatt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50    1                -if =1: nx,     ny,   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1.0  1.0                -       xsiz, ysiz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-if =0: columns for x,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10     5              -nxlag, nylag, n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20.0   12.0           -dxlag, dylag, d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minimum number of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-tail, head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1.0e21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ps     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-60   12.0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variografico (planta)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este [m]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norte [m]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0.5   0.1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.0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 0.0  20.0  5.0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740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desde el norte hacia el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654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clin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: hacia ar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.0 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90.0  15.0 9999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1219320"/>
            <a:ext cx="8458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.ps  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experimental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12193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_Cu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var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00                      -number of directions and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 1.0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   0.3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tipos de modelo disponibl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181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tencia (exponente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_h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]0,2[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seno (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do sólo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 del análisis variográ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ribir las principales propiedades de la distribución espacial de la variable regionalizada en estudio, más allá de un simple reporte de los valores (perfiles, map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tan continua es la variable en el espa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ven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para l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g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direcciones principales de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(ortogonale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quedan definidas a partir de tr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g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200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acimut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norte (Y) rota hacia el eje este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657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’,Y’,Z’) con Z’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267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incl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Y’ rota hacia el eje vertical (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”,Y”,Z”) con X”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referenci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5334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buzamient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lu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X” rota hacia el eje 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3520" y="1219320"/>
            <a:ext cx="8458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ps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modelado cobre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3520" y="914400"/>
            <a:ext cx="84582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_se_lee_esta_linea.dat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3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.dbg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1      1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    1.0e21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validacion_Cu.ps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400.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600.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5    0.25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de errores de validacion cruzada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lidacion_Cu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0     1.0e21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stderrores_validacion_Cu.ps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3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 errores estandarizados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145260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validacion_Cu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145260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_medias_Cu.out       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390528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validacion_Cu.ps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 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33520" y="9907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3520" y="130176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pozos y bloques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olvemos al ejemplo de las 2376 muestras de exploración en un yacimiento de tipo pórfido cupríf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1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ervemos la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ón difer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seis distancias de separación: 0, 2, 10, 20, 50 y 100 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cmap%20Cu" descr=""/>
          <p:cNvPicPr/>
          <p:nvPr/>
        </p:nvPicPr>
        <p:blipFill>
          <a:blip r:embed="rId2"/>
          <a:srcRect l="0" t="0" r="62128" b="0"/>
          <a:stretch/>
        </p:blipFill>
        <p:spPr>
          <a:xfrm>
            <a:off x="762120" y="2590920"/>
            <a:ext cx="2361960" cy="2877840"/>
          </a:xfrm>
          <a:prstGeom prst="rect">
            <a:avLst/>
          </a:prstGeom>
          <a:ln w="0">
            <a:noFill/>
          </a:ln>
        </p:spPr>
      </p:pic>
      <p:pic>
        <p:nvPicPr>
          <p:cNvPr id="112" name="locmap%20Cu" descr=""/>
          <p:cNvPicPr/>
          <p:nvPr/>
        </p:nvPicPr>
        <p:blipFill>
          <a:blip r:embed="rId3"/>
          <a:srcRect l="86741" t="0" r="0" b="0"/>
          <a:stretch/>
        </p:blipFill>
        <p:spPr>
          <a:xfrm>
            <a:off x="3124080" y="2590920"/>
            <a:ext cx="827280" cy="2877840"/>
          </a:xfrm>
          <a:prstGeom prst="rect">
            <a:avLst/>
          </a:prstGeom>
          <a:ln w="0">
            <a:noFill/>
          </a:ln>
        </p:spPr>
      </p:pic>
      <p:pic>
        <p:nvPicPr>
          <p:cNvPr id="113" name="histplt%20declus%20Cu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3988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2T23:09:24Z</dcterms:modified>
  <cp:revision>195</cp:revision>
  <dc:subject/>
  <dc:title>Sin título de diapositiva</dc:title>
</cp:coreProperties>
</file>