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</p:sldIdLst>
  <p:sldSz cx="9144000" cy="6858000"/>
  <p:notesSz cx="6858000" cy="11861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3783-9916-4857-988D-6E14176F2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AE48-1AF0-49E8-B212-98C3573F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5245-9902-4693-83E9-509AAFF26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D264-050A-42FD-99E4-FF871B167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113DA-13DC-4BDE-B366-3E410EE64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F2920-6C25-4D3C-BC90-47FDF618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8BA3-8240-4403-B2FA-D5FE850F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281B-E403-4D9D-98A1-7B310C98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2138-55FC-405A-8C8E-38FD229C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9DA7-B561-45D6-A707-5FDD6BE2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1DF8-1891-4340-9E49-04C2A642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3148-31A3-44E6-B4D3-BEF8F51A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0C20D-7049-46BC-916F-BF61BB44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5A95-455B-4BB2-BF13-980E5C9C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2EC5-58FC-44F4-8FE8-4EBA770E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E14B6-EA43-4A7E-9453-D68DBB3E2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655A-EAB8-4D88-B600-C326315E7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9F9A-E72E-4B53-8D8C-5E3D6010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8549-EB4C-4D93-99F2-BE21D027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7142-0E3A-47D7-88D9-8126B258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22FC-E241-4B46-993A-DB53AAD6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0AF1-F67D-458D-B528-2F734B0A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D210-D51C-44A3-8F64-50351187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2B09-91C1-480E-A8FB-B84941BB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9A9E-E41C-4AB9-80AF-E38556029520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8948-2550-4E60-845A-110ECE74A3B1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981080"/>
            <a:ext cx="7772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e461d"/>
                </a:solidFill>
                <a:uFillTx/>
                <a:latin typeface="Times New Roman"/>
              </a:rPr>
              <a:t>Lecci</a:t>
            </a:r>
            <a:r>
              <a:rPr b="1" lang="en-US" sz="6000" spc="-1" strike="noStrike" u="sng">
                <a:solidFill>
                  <a:srgbClr val="0e461d"/>
                </a:solidFill>
                <a:uFillTx/>
                <a:latin typeface="Times New Roman"/>
                <a:ea typeface="Times New Roman"/>
              </a:rPr>
              <a:t>ó</a:t>
            </a:r>
            <a:r>
              <a:rPr b="1" lang="en-US" sz="6000" spc="-1" strike="noStrike" u="sng">
                <a:solidFill>
                  <a:srgbClr val="0e461d"/>
                </a:solidFill>
                <a:uFillTx/>
                <a:latin typeface="Times New Roman"/>
              </a:rPr>
              <a:t>n 2</a:t>
            </a:r>
            <a:r>
              <a:rPr b="1" lang="en-US" sz="6000" spc="-1" strike="noStrike">
                <a:solidFill>
                  <a:srgbClr val="0e461d"/>
                </a:solidFill>
                <a:latin typeface="Times New Roman"/>
              </a:rPr>
              <a:t>:</a:t>
            </a:r>
            <a:br>
              <a:rPr sz="6000"/>
            </a:br>
            <a:r>
              <a:rPr b="1" lang="en-US" sz="6000" spc="-1" strike="noStrike">
                <a:solidFill>
                  <a:srgbClr val="0e461d"/>
                </a:solidFill>
                <a:latin typeface="Times New Roman"/>
              </a:rPr>
              <a:t>An</a:t>
            </a:r>
            <a:r>
              <a:rPr b="1" lang="en-US" sz="6000" spc="-1" strike="noStrike">
                <a:solidFill>
                  <a:srgbClr val="0e461d"/>
                </a:solidFill>
                <a:latin typeface="Times New Roman"/>
                <a:ea typeface="Times New Roman"/>
              </a:rPr>
              <a:t>á</a:t>
            </a:r>
            <a:r>
              <a:rPr b="1" lang="en-US" sz="6000" spc="-1" strike="noStrike">
                <a:solidFill>
                  <a:srgbClr val="0e461d"/>
                </a:solidFill>
                <a:latin typeface="Times New Roman"/>
              </a:rPr>
              <a:t>lisis variogr</a:t>
            </a:r>
            <a:r>
              <a:rPr b="1" lang="en-US" sz="6000" spc="-1" strike="noStrike">
                <a:solidFill>
                  <a:srgbClr val="0e461d"/>
                </a:solidFill>
                <a:latin typeface="Times New Roman"/>
                <a:ea typeface="Times New Roman"/>
              </a:rPr>
              <a:t>á</a:t>
            </a:r>
            <a:r>
              <a:rPr b="1" lang="en-US" sz="6000" spc="-1" strike="noStrike">
                <a:solidFill>
                  <a:srgbClr val="0e461d"/>
                </a:solidFill>
                <a:latin typeface="Times New Roman"/>
              </a:rPr>
              <a:t>fico</a:t>
            </a:r>
            <a:br>
              <a:rPr sz="6000"/>
            </a:br>
            <a:r>
              <a:rPr b="1" lang="en-US" sz="6000" spc="-1" strike="noStrike">
                <a:solidFill>
                  <a:srgbClr val="0e461d"/>
                </a:solidFill>
                <a:latin typeface="Times New Roman"/>
              </a:rPr>
              <a:t>de datos regionalizad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oción de correlación espacial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hscatt" descr=""/>
          <p:cNvPicPr/>
          <p:nvPr/>
        </p:nvPicPr>
        <p:blipFill>
          <a:blip r:embed="rId2"/>
          <a:stretch/>
        </p:blipFill>
        <p:spPr>
          <a:xfrm>
            <a:off x="228600" y="1160640"/>
            <a:ext cx="8610480" cy="56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oción de correlación espacial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19969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dispersión de la nube aumenta con la distancia de sepa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2867040"/>
            <a:ext cx="883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examen de las nubes de correlación diferida indica cuán semejantes son dos muestras en función de la distancia que las separa. Es decir, permite apreciar la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orrelación espaci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de los valores de la variable regionaliz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38080" y="289548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e461d"/>
                </a:solidFill>
                <a:latin typeface="Times New Roman"/>
              </a:rPr>
              <a:t>Herramientas variográfic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rrelograma experimental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19969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na primera manera de medir la correlación espacial consiste en calcular el coeficiente de correlación de las nubes de correlación difer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338472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l reportar el valor de este coeficiente de correlación en función de la distancia de separación, se obtiene lo que se denomina el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orrelograma experimen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de los datos. Generalmente, se trata de una función decreciente de la distancia; tiende a cero cuando ésta se vuelve muy gran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rrelograma experimental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correlograma" descr=""/>
          <p:cNvPicPr/>
          <p:nvPr/>
        </p:nvPicPr>
        <p:blipFill>
          <a:blip r:embed="rId2"/>
          <a:stretch/>
        </p:blipFill>
        <p:spPr>
          <a:xfrm>
            <a:off x="2038320" y="2465280"/>
            <a:ext cx="5124600" cy="43164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80880" y="17524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lu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varianza experimen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5238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lugar de visualizar el coeficiente de correlación, se visualiza la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ovarianz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en función de la distancia de separ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covarianza" descr=""/>
          <p:cNvPicPr/>
          <p:nvPr/>
        </p:nvPicPr>
        <p:blipFill>
          <a:blip r:embed="rId2"/>
          <a:stretch/>
        </p:blipFill>
        <p:spPr>
          <a:xfrm>
            <a:off x="2035080" y="2462040"/>
            <a:ext cx="51278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208908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variograma experimen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se obtiene al visualizar el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omento de inerci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de las nubes de correlación diferida (distancia cuadrática promedio a la diagonal principal) en función de la distancia de separ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38257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eneralmente, se trata de una función creciente de la distancia; se anula cuando ésta vale c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7563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 una relación entre todas las herramientas variográficas. En general, se prefiere utilizar el variograma en lugar de la covarianza o del correlogra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variograma" descr=""/>
          <p:cNvPicPr/>
          <p:nvPr/>
        </p:nvPicPr>
        <p:blipFill>
          <a:blip r:embed="rId2"/>
          <a:stretch/>
        </p:blipFill>
        <p:spPr>
          <a:xfrm>
            <a:off x="2035080" y="2462040"/>
            <a:ext cx="5127840" cy="43196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80880" y="17524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lu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5238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variograma muestra características importantes de la variable regionaliza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24829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) el crecimiento indica la velocidad con la cual se desestructura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la variable en el espa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34290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) la distancia para la cual se estabiliza el variograma representa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la “zona de influencia” de una muestra; se llama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alc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43750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3) el comportamiento cerca del origen indica qué tan semejante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son dos muestras muy cercanas, o sea, refleja la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continuidad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regularidad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de la variable en el espa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57150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4) el cálculo del variograma puede hacerse a lo largo de distinta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direcciones del espacio y evidenciar una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aniso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362320" y="3807000"/>
                <a:ext cx="449568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</m:den>
                    </m:f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sub>
                      <m:sup/>
                      <m:e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609480" y="4935600"/>
            <a:ext cx="7086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onde N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 = {(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 tales que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|N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| es el cardinal de N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1600200"/>
            <a:ext cx="807696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otemos como {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... n} los sitios de muestreo y como z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la variable regionalizad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27255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variograma experimental mide la desviación cuadrática promedio entre dos datos en función de su separació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47920" y="289548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e461d"/>
                </a:solidFill>
                <a:latin typeface="Times New Roman"/>
              </a:rPr>
              <a:t>Introducció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80880" y="1600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21337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emos las siguientes observaciones espaciadas cada 10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28195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   3    6     4     2     1     1     2     4     3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04920" y="3733920"/>
                <a:ext cx="84643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(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04920" y="4654440"/>
                <a:ext cx="76784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04920" y="5562720"/>
                <a:ext cx="720252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tolérances%20espagnol" descr=""/>
          <p:cNvPicPr/>
          <p:nvPr/>
        </p:nvPicPr>
        <p:blipFill>
          <a:blip r:embed="rId2"/>
          <a:stretch/>
        </p:blipFill>
        <p:spPr>
          <a:xfrm>
            <a:off x="1752480" y="2514600"/>
            <a:ext cx="5558040" cy="36576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57200" y="14479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el muestreo es irregular, se suele definir parámetros de tolerancia, tanto en la longitud del vector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o en su orientació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16002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ámetros que definir para calcular un variograma direc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22096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m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27432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lerancia en el acim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32767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cho de banda horizo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3809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43434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lerancia en la incl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48769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cho de banda ver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54864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ias (múltiplos de una distancia elemental =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6095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úmero de p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7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57200" y="16765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variograma experimental es poco estable cuando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22860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istancia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siderada es grand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28954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uestreo es muy irregular o preferencial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52116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istribución de los datos es muy asimétrica o contiene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valores extre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8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57200" y="14479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21337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sagrupa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 variograma: poco usado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4572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sar otra herramienta estruc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36576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sar otra fórmul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 calcular el variograma experimental: se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ebe introducir hipótesis adi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27432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nsformar los da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or ejemplo, pasar a logaritmo): volver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 la variable inicial requiere hipótesis restric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51055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tilizables: covarianza, covarianza no centrada, correl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55627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servibles: variograma relativo, madograma, rod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9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28600" y="4572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 los par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etros de c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culo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1523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studio de ca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256 datos en el espacio de dos dimen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550224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 influyen los pa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tros de c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culo en el variograma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experimenta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datos%20color" descr=""/>
          <p:cNvPicPr/>
          <p:nvPr/>
        </p:nvPicPr>
        <p:blipFill>
          <a:blip r:embed="rId2"/>
          <a:stretch/>
        </p:blipFill>
        <p:spPr>
          <a:xfrm>
            <a:off x="533520" y="2209680"/>
            <a:ext cx="798984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28600" y="4572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 los par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etros de c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culo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1295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fluencia del pa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asos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628956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4572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 los par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etros de c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culo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1295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fluencia de la tolerancia en el pa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tol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628956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28600" y="4572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 los par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etros de c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culo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1295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fluencia del n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ero de p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numpasos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62802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28600" y="4572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 los par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etros de c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culo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295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fluencia de la herramienta estruc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tipo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62802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295280" y="4572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os modelos probabil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í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stico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9810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or qué recurrir a modelos probabil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sticos?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28195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 complejidad de las variables regionalizadas, en especial en las ciencias de la 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37339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descripción determinística es inconcebibl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28600" y="4572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 los par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etros de c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culo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1295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fluencia de la tolerancia ang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atol" descr=""/>
          <p:cNvPicPr/>
          <p:nvPr/>
        </p:nvPicPr>
        <p:blipFill>
          <a:blip r:embed="rId2"/>
          <a:stretch/>
        </p:blipFill>
        <p:spPr>
          <a:xfrm>
            <a:off x="1447920" y="1832040"/>
            <a:ext cx="62802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289548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e461d"/>
                </a:solidFill>
                <a:latin typeface="Times New Roman"/>
              </a:rPr>
              <a:t>Variograma teóric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te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rico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variograma experimental requiere ser model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0720" y="22096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erfect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los puntos obtenidos son experimentales,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luego están sujetos a imprecisiones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31399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plet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e calculó de manera discreta a lo largo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e algunas direcciones del espacio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5562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E{ [Z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Z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} / 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419112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variograma t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co se define al considerar los valores como aleatorios (denotados con may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cula) y al utilizar una esperanza mate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te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rico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iedades del variograma teó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22096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positiva: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275904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par: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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33685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lidad en el origen: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397836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de tipo negativo con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371600" y="4587840"/>
                <a:ext cx="70866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R/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∀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990720" y="550224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distancias muy grandes, crece menos rápidamente que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una paráb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te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rico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acterísticas esenciales del vari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2209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ortamiento en el or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28353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ientras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 regular el variograma en el origen,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 regular la variable regionalizada en el espacio. Se distingue tres tipos de comportamiento para el variogra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4114800"/>
            <a:ext cx="7620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erivabl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variable regionalizada muy su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line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variable regionalizada contin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iscontinu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(“efecto pepita”): variable regionalizada er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origen2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8447040" cy="43862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te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rico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te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rico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1523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ortamiento al infin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19810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recuentemente, el variograma se estabiliza en torno a una meseta cuando la distancia crece infinit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infinito%201" descr=""/>
          <p:cNvPicPr/>
          <p:nvPr/>
        </p:nvPicPr>
        <p:blipFill>
          <a:blip r:embed="rId2"/>
          <a:stretch/>
        </p:blipFill>
        <p:spPr>
          <a:xfrm>
            <a:off x="1751040" y="2898720"/>
            <a:ext cx="5640480" cy="36543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 flipV="1">
            <a:off x="6246720" y="3733920"/>
            <a:ext cx="0" cy="2209680"/>
          </a:xfrm>
          <a:prstGeom prst="line">
            <a:avLst/>
          </a:prstGeom>
          <a:ln w="38160">
            <a:solidFill>
              <a:srgbClr val="990033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274560" y="3657600"/>
            <a:ext cx="2971800" cy="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46120" y="327672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mes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= varia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08640" y="61722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alc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te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rico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infinito%202" descr=""/>
          <p:cNvPicPr/>
          <p:nvPr/>
        </p:nvPicPr>
        <p:blipFill>
          <a:blip r:embed="rId2"/>
          <a:stretch/>
        </p:blipFill>
        <p:spPr>
          <a:xfrm>
            <a:off x="2001960" y="2211480"/>
            <a:ext cx="5008320" cy="36558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762120" y="14479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 veces, el variograma sigue creciendo infinit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te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rico (7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1523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ortamiento direc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19810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estudio de los variogramas direccionales permite identificar las anisotrop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s de la variable regionaliz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direccional2" descr=""/>
          <p:cNvPicPr/>
          <p:nvPr/>
        </p:nvPicPr>
        <p:blipFill>
          <a:blip r:embed="rId2"/>
          <a:stretch/>
        </p:blipFill>
        <p:spPr>
          <a:xfrm>
            <a:off x="380880" y="2971800"/>
            <a:ext cx="838224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te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rico (8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1523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ras caracter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í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66680" y="20574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Periodicidad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frecuente con fe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menos temporales, menos con fenómenos espa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66680" y="29718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Efecto de hoy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el variograma no es mo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hole" descr=""/>
          <p:cNvPicPr/>
          <p:nvPr/>
        </p:nvPicPr>
        <p:blipFill>
          <a:blip r:embed="rId2"/>
          <a:stretch/>
        </p:blipFill>
        <p:spPr>
          <a:xfrm>
            <a:off x="581040" y="3660840"/>
            <a:ext cx="795348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295280" y="4572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os modelos probabil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í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stico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9810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mites de la estadística clásica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28195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sidera las observaciones como resultados (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acion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dependient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una misma variable aleatori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dés%201" descr=""/>
          <p:cNvPicPr/>
          <p:nvPr/>
        </p:nvPicPr>
        <p:blipFill>
          <a:blip r:embed="rId2"/>
          <a:stretch/>
        </p:blipFill>
        <p:spPr>
          <a:xfrm>
            <a:off x="773280" y="3962520"/>
            <a:ext cx="7761240" cy="13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te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rico (9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144792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variograma 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 proporciona una caracteriz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parcial de la variable regionalizada; varios rasgos estructurales no est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scritos por esta herramienta, por ejemplo la conectividad o agrup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espacial de las ley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El%20variograma%20no%20es%20todo256" descr=""/>
          <p:cNvPicPr/>
          <p:nvPr/>
        </p:nvPicPr>
        <p:blipFill>
          <a:blip r:embed="rId2"/>
          <a:stretch/>
        </p:blipFill>
        <p:spPr>
          <a:xfrm>
            <a:off x="390600" y="3124080"/>
            <a:ext cx="837252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28600" y="38088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te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rico (1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230184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variogram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el correlogram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y la covarianza C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stán relacionados entre s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8120" y="3340080"/>
            <a:ext cx="2895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/ C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C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512136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la distancia de separación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vuelve infinita, la covarianza y el correlograma tienden a 0, y el variograma es igual a la varianz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16765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ciones con otras herramientas variográ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895480" y="6172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elementale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cto pepi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elemental%20pepa256" descr=""/>
          <p:cNvPicPr/>
          <p:nvPr/>
        </p:nvPicPr>
        <p:blipFill>
          <a:blip r:embed="rId2"/>
          <a:stretch/>
        </p:blipFill>
        <p:spPr>
          <a:xfrm>
            <a:off x="338040" y="2592360"/>
            <a:ext cx="8501040" cy="3198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2590920" y="1428840"/>
                <a:ext cx="3124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si 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en caso contrario</m:t>
                        </m:r>
                      </m:e>
                    </m:eqArr>
                    <m:r>
                      <m:t xml:space="preserve">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609480" y="579132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e modelo se traduce en una ausencia total de correl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en el espacio: dos muestras distintas tienen valores independ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elementale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520" y="1905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esfér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elemental%20esferico256" descr=""/>
          <p:cNvPicPr/>
          <p:nvPr/>
        </p:nvPicPr>
        <p:blipFill>
          <a:blip r:embed="rId2"/>
          <a:stretch/>
        </p:blipFill>
        <p:spPr>
          <a:xfrm>
            <a:off x="338040" y="2897280"/>
            <a:ext cx="8501040" cy="3198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895480" y="1467000"/>
                <a:ext cx="4292640" cy="14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|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|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|</m:t>
                                        </m:r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h</m:t>
                                        </m:r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|</m:t>
                                        </m:r>
                                      </m:num>
                                      <m:den>
                                        <m:r>
                                          <m:t xml:space="preserve">a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si 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h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en caso contrario</m:t>
                        </m:r>
                      </m:e>
                    </m:eqArr>
                    <m:r>
                      <m:t xml:space="preserve">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609480" y="609588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lcance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meset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elementale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exponen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elemental%20exponencial256" descr=""/>
          <p:cNvPicPr/>
          <p:nvPr/>
        </p:nvPicPr>
        <p:blipFill>
          <a:blip r:embed="rId2"/>
          <a:stretch/>
        </p:blipFill>
        <p:spPr>
          <a:xfrm>
            <a:off x="338040" y="2592360"/>
            <a:ext cx="8501040" cy="319896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609480" y="579132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parámetro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es el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alcance pr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ctic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corresponde a la distancia para la cual el variograma llega al 95% de su meseta 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505320" y="1428840"/>
                <a:ext cx="3124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|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elementales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gaussian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elemental%20gaussiano256" descr=""/>
          <p:cNvPicPr/>
          <p:nvPr/>
        </p:nvPicPr>
        <p:blipFill>
          <a:blip r:embed="rId2"/>
          <a:stretch/>
        </p:blipFill>
        <p:spPr>
          <a:xfrm>
            <a:off x="338040" y="2592360"/>
            <a:ext cx="8501040" cy="3198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129120" y="1400040"/>
                <a:ext cx="32670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|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609480" y="57913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lcance p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tico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meset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elementales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pot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580716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exponente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puede variar entre 0 (variograma pep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ico) y 2 (variograma parab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ico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3048120" y="1633680"/>
                <a:ext cx="14540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|</m:t>
                    </m:r>
                    <m:r>
                      <m:t xml:space="preserve"> </m:t>
                    </m:r>
                    <m:r>
                      <m:t xml:space="preserve">h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θ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533520" y="20574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e variograma no posee alcance ni mes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elemental%20potencia256" descr=""/>
          <p:cNvPicPr/>
          <p:nvPr/>
        </p:nvPicPr>
        <p:blipFill>
          <a:blip r:embed="rId2"/>
          <a:stretch/>
        </p:blipFill>
        <p:spPr>
          <a:xfrm>
            <a:off x="338040" y="2592360"/>
            <a:ext cx="850104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elementales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seno cardin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3762360" y="1395360"/>
                <a:ext cx="307656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t xml:space="preserve"> </m:t>
                            </m:r>
                            <m:r>
                              <m:t xml:space="preserve">h</m:t>
                            </m:r>
                            <m:r>
                              <m:t xml:space="preserve"> </m:t>
                            </m:r>
                            <m:r>
                              <m:t xml:space="preserve">|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|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|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>
            <a:off x="533520" y="57913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lcance p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tico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0.4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semi-período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.5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meset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elemental%20seno%20cardenal%20256" descr=""/>
          <p:cNvPicPr/>
          <p:nvPr/>
        </p:nvPicPr>
        <p:blipFill>
          <a:blip r:embed="rId2"/>
          <a:stretch/>
        </p:blipFill>
        <p:spPr>
          <a:xfrm>
            <a:off x="338040" y="2592360"/>
            <a:ext cx="850104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838080" y="289548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e461d"/>
                </a:solidFill>
                <a:latin typeface="Times New Roman"/>
              </a:rPr>
              <a:t>Modelamie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anidado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0880" y="137160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obtener modelos más complejos, se puede sumar varios variogramas elementales. En este caso, se habla de “variogramas anidados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595944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uso de variogramas anidados permite modelar cambios de pendientes en los variogramas direcci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anidado" descr=""/>
          <p:cNvPicPr/>
          <p:nvPr/>
        </p:nvPicPr>
        <p:blipFill>
          <a:blip r:embed="rId2"/>
          <a:stretch/>
        </p:blipFill>
        <p:spPr>
          <a:xfrm>
            <a:off x="2465280" y="3062160"/>
            <a:ext cx="4087800" cy="2881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2590920" y="2463840"/>
                <a:ext cx="3943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95280" y="4572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os modelos probabil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í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stico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2133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independencia entre valor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ide una previsión precisa de un valor no muestre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dés%202" descr=""/>
          <p:cNvPicPr/>
          <p:nvPr/>
        </p:nvPicPr>
        <p:blipFill>
          <a:blip r:embed="rId2"/>
          <a:stretch/>
        </p:blipFill>
        <p:spPr>
          <a:xfrm>
            <a:off x="228600" y="3352680"/>
            <a:ext cx="8675640" cy="1370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85800" y="5105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interpretación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ásica carece de real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anidado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62120" y="137160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concepto de variogramas anidados permite explicar una de las causas del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fecto pepi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se trata de un modelo anidado de alcance muy corto con respecto a la escala de observación (“micro-estructura”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genesis%20pepa" descr=""/>
          <p:cNvPicPr/>
          <p:nvPr/>
        </p:nvPicPr>
        <p:blipFill>
          <a:blip r:embed="rId2"/>
          <a:stretch/>
        </p:blipFill>
        <p:spPr>
          <a:xfrm>
            <a:off x="831960" y="3124080"/>
            <a:ext cx="762624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anidado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15238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as causas que generan un efecto pepita en el variograma experimenta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90720" y="39625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es de medició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90720" y="46483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es en la ubic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s muestra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53341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estreo preferenci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zonas de mayor var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90720" y="2438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porte de la medi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masiado pequeño: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19320" y="29718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amplitud del efecto pepita es inversamente proporcional al volumen de la mue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nisotropía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9480" y="228600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n variograma es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isótrop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si es idéntico en todas las direcciones del espacio. En caso contrario, existe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nisotropí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la cual indica que la variable regionalizada posee direcciones preferenciales en cuanto a su continu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nisotropía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228600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na herramienta eficaz para detectar las anisotropías consiste en graficar el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apa variográfic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o sea el mapa de isovalores del variograma experimental en función de la separación (distancia y orientació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533520" y="220968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mapa variográfico dibuja elipses (2D) o elipsoides (3D). Sólo se requiere especificar las direcciones principales (ortogonales) y los alcances correspond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nisotropía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amiento: anisotropía geomét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anisotropia%20geometrica%20color256" descr=""/>
          <p:cNvPicPr/>
          <p:nvPr/>
        </p:nvPicPr>
        <p:blipFill>
          <a:blip r:embed="rId2"/>
          <a:stretch/>
        </p:blipFill>
        <p:spPr>
          <a:xfrm>
            <a:off x="914400" y="3701880"/>
            <a:ext cx="742464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nisotropías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amiento: anisotropía 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9480" y="2057400"/>
            <a:ext cx="792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mapa variográfico dibuja bandas; se trata de un caso límite de anisotropía geométrica, donde el alcance en una dirección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vuelve muy grande. A la escala de trabajo, la meseta cambia según la dire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anisotropia%20zonal%20color256" descr=""/>
          <p:cNvPicPr/>
          <p:nvPr/>
        </p:nvPicPr>
        <p:blipFill>
          <a:blip r:embed="rId2"/>
          <a:stretch/>
        </p:blipFill>
        <p:spPr>
          <a:xfrm>
            <a:off x="914400" y="3701880"/>
            <a:ext cx="742464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nisotropías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amiento: anisotropías comple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948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obtiene formas más complejas de anisotropía al superponer anisotropías geométricas y/o zonales de orientación y razón difer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anisotropia%20compleja%20color256" descr=""/>
          <p:cNvPicPr/>
          <p:nvPr/>
        </p:nvPicPr>
        <p:blipFill>
          <a:blip r:embed="rId2"/>
          <a:stretch/>
        </p:blipFill>
        <p:spPr>
          <a:xfrm>
            <a:off x="990720" y="3700440"/>
            <a:ext cx="699264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nisotropías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 de aju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ajuste%20anisotropo" descr=""/>
          <p:cNvPicPr/>
          <p:nvPr/>
        </p:nvPicPr>
        <p:blipFill>
          <a:blip r:embed="rId2"/>
          <a:stretch/>
        </p:blipFill>
        <p:spPr>
          <a:xfrm>
            <a:off x="2604960" y="2286000"/>
            <a:ext cx="4024440" cy="2700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1103400" y="5124600"/>
                <a:ext cx="41907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t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ep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1066680" y="5581800"/>
                <a:ext cx="4264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ort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ep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1079640" y="6039000"/>
                <a:ext cx="43131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ertica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ep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>
            <a:off x="5522760" y="5105520"/>
            <a:ext cx="152640" cy="1295280"/>
          </a:xfrm>
          <a:custGeom>
            <a:avLst/>
            <a:gdLst>
              <a:gd name="textAreaLeft" fmla="*/ 0 w 152640"/>
              <a:gd name="textAreaRight" fmla="*/ 55080 w 15264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¿Cuál es el modelo tridimensio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nisotropías (7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71680" y="2244600"/>
                <a:ext cx="41907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t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ep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471600" y="2854440"/>
                <a:ext cx="63100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ort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ep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328680" y="3463920"/>
                <a:ext cx="83581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ertica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ep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7" name=""/>
          <p:cNvSpPr/>
          <p:nvPr/>
        </p:nvSpPr>
        <p:spPr>
          <a:xfrm>
            <a:off x="4724280" y="2225520"/>
            <a:ext cx="1905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0033"/>
                </a:solidFill>
                <a:latin typeface="Times New Roman"/>
              </a:rPr>
              <a:t>+ 0.12 esf(</a:t>
            </a:r>
            <a:r>
              <a:rPr b="0" lang="en-US" sz="2300" spc="-1" strike="noStrike">
                <a:solidFill>
                  <a:srgbClr val="990033"/>
                </a:solidFill>
                <a:latin typeface="Symbol"/>
                <a:ea typeface="Symbol"/>
              </a:rPr>
              <a:t></a:t>
            </a:r>
            <a:r>
              <a:rPr b="0" lang="en-US" sz="2300" spc="-1" strike="noStrike">
                <a:solidFill>
                  <a:srgbClr val="990033"/>
                </a:solidFill>
                <a:latin typeface="Times New Roman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1680" y="2835360"/>
            <a:ext cx="1905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0033"/>
                </a:solidFill>
                <a:latin typeface="Times New Roman"/>
              </a:rPr>
              <a:t>+ 0.18 esf(</a:t>
            </a:r>
            <a:r>
              <a:rPr b="0" lang="en-US" sz="2300" spc="-1" strike="noStrike">
                <a:solidFill>
                  <a:srgbClr val="990033"/>
                </a:solidFill>
                <a:latin typeface="Symbol"/>
                <a:ea typeface="Symbol"/>
              </a:rPr>
              <a:t></a:t>
            </a:r>
            <a:r>
              <a:rPr b="0" lang="en-US" sz="2300" spc="-1" strike="noStrike">
                <a:solidFill>
                  <a:srgbClr val="990033"/>
                </a:solidFill>
                <a:latin typeface="Times New Roman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781680" y="2239920"/>
            <a:ext cx="1905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0033"/>
                </a:solidFill>
                <a:latin typeface="Times New Roman"/>
              </a:rPr>
              <a:t>+ 0.18 esf(</a:t>
            </a:r>
            <a:r>
              <a:rPr b="0" lang="en-US" sz="2300" spc="-1" strike="noStrike">
                <a:solidFill>
                  <a:srgbClr val="990033"/>
                </a:solidFill>
                <a:latin typeface="Symbol"/>
                <a:ea typeface="Symbol"/>
              </a:rPr>
              <a:t></a:t>
            </a:r>
            <a:r>
              <a:rPr b="0" lang="en-US" sz="2300" spc="-1" strike="noStrike">
                <a:solidFill>
                  <a:srgbClr val="990033"/>
                </a:solidFill>
                <a:latin typeface="Times New Roman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5400000">
            <a:off x="4305240" y="129960"/>
            <a:ext cx="457200" cy="8153280"/>
          </a:xfrm>
          <a:custGeom>
            <a:avLst/>
            <a:gdLst>
              <a:gd name="textAreaLeft" fmla="*/ 0 w 457200"/>
              <a:gd name="textAreaRight" fmla="*/ 164880 w 457200"/>
              <a:gd name="textAreaTop" fmla="*/ 212400 h 8153280"/>
              <a:gd name="textAreaBottom" fmla="*/ 7940880 h 815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724040" y="4511520"/>
                <a:ext cx="648180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ep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s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sf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sf</m:t>
                        </m:r>
                        <m:r>
                          <m:t xml:space="preserve">(</m:t>
                        </m:r>
                        <m:r>
                          <m:t xml:space="preserve">∞</m:t>
                        </m:r>
                        <m:r>
                          <m:t xml:space="preserve">,</m:t>
                        </m:r>
                        <m:r>
                          <m:t xml:space="preserve">∞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533520" y="548640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rificació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la suma de las mesetas v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13 + 0.42 + 0.12 + 0.18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8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seta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" y="16160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tridimen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nsideraciones práctica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18604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eneralmente, se busca modelar anisotropías sencillas, con 2 ó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 direcciones principales ortogonales entre s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14400" y="2698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uscar la elipse o el elipsoide que mejor se acerca al mapa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variográf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9480" y="37656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variograma experimental es poco confiable para distancia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grandes (superiores a la mitad del diámetro del camp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9480" y="49086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meseta del variograma (varianza t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ca) puede diferir de la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varianza del histograma (varianza emp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c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95280" y="4572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 modelo geoestadístico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0574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sidera “interacciones” entre las observaciones, de modo de tomar en cuenta sus dependencias espaci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dés%203" descr=""/>
          <p:cNvPicPr/>
          <p:nvPr/>
        </p:nvPicPr>
        <p:blipFill>
          <a:blip r:embed="rId2"/>
          <a:stretch/>
        </p:blipFill>
        <p:spPr>
          <a:xfrm>
            <a:off x="239760" y="3352680"/>
            <a:ext cx="8675640" cy="1370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09480" y="518148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odrá estimar el valor en un sitio no muestreado gracias a su interacción con los sitios circund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nsideraciones práctica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9480" y="35971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sconfiar de los procedimientos de ajuste auto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90720" y="41306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a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isis variog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co debe ser un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trabajo interactiv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donde el usuario tiene la palabra f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9480" y="19810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debe prestar atención a la representatividad de los puntos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experimentales, a la información disponible sobre la variable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regionalizada y a la escala de traba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52578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o existe un modelo ún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plic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a los datos minero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udio de anisotropía (mapa variográf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9480" y="55627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staca la dirección vertical, en oposición con las direcciones horizontal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varmap%20Cu%20color%20256" descr=""/>
          <p:cNvPicPr/>
          <p:nvPr/>
        </p:nvPicPr>
        <p:blipFill>
          <a:blip r:embed="rId2"/>
          <a:stretch/>
        </p:blipFill>
        <p:spPr>
          <a:xfrm>
            <a:off x="609480" y="2246400"/>
            <a:ext cx="80503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plic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a los datos minero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grama experi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" y="22096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do cada 20m en el plano horizontal y 12m en la vertical (con tolerancia angular de 15º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gamv" descr=""/>
          <p:cNvPicPr/>
          <p:nvPr/>
        </p:nvPicPr>
        <p:blipFill>
          <a:blip r:embed="rId2"/>
          <a:stretch/>
        </p:blipFill>
        <p:spPr>
          <a:xfrm>
            <a:off x="2305080" y="3357720"/>
            <a:ext cx="4324320" cy="31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plic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a los datos minero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33520" y="1600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grama model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2209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posición de tres modelos: pepita, esférico y exponen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vmodel" descr=""/>
          <p:cNvPicPr/>
          <p:nvPr/>
        </p:nvPicPr>
        <p:blipFill>
          <a:blip r:embed="rId2"/>
          <a:stretch/>
        </p:blipFill>
        <p:spPr>
          <a:xfrm>
            <a:off x="2305080" y="3355920"/>
            <a:ext cx="4324320" cy="31971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990720" y="27432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.06 pep + 0.18 esf (100m) + 0.2 exp(40m,40m,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838080" y="289548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e461d"/>
                </a:solidFill>
                <a:latin typeface="Times New Roman"/>
              </a:rPr>
              <a:t>Validación cruza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a valid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cruzad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85800" y="2514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ear el modelo teórico de vari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" y="30481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ar la calidad de varios modelos posibl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35812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ear los parámetros del kriging (vecindad...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3520" y="18288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a valid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cruzad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" y="2514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r sucesivamente (por kriging) cada dato considerando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solamente los datos restant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5800" y="33526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r el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 de estim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valor estimado menos valor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real) cometido en cada sitio con dato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4267080"/>
            <a:ext cx="7772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udiar la calidad de los errores de estimación por medio de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herramienta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dística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gráficas.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complementar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con el estudio de los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es estandariz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s decir, los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errores divididos por su desviación estándar calculada por el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krigin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33520" y="18288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a valid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cruzada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18288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ustración con los datos de cobr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cross_locmap256" descr=""/>
          <p:cNvPicPr/>
          <p:nvPr/>
        </p:nvPicPr>
        <p:blipFill>
          <a:blip r:embed="rId2"/>
          <a:stretch/>
        </p:blipFill>
        <p:spPr>
          <a:xfrm>
            <a:off x="447840" y="2590920"/>
            <a:ext cx="3590640" cy="3238560"/>
          </a:xfrm>
          <a:prstGeom prst="rect">
            <a:avLst/>
          </a:prstGeom>
          <a:ln w="0">
            <a:noFill/>
          </a:ln>
        </p:spPr>
      </p:pic>
      <p:pic>
        <p:nvPicPr>
          <p:cNvPr id="371" name="cross_histplt_err" descr=""/>
          <p:cNvPicPr/>
          <p:nvPr/>
        </p:nvPicPr>
        <p:blipFill>
          <a:blip r:embed="rId3"/>
          <a:stretch/>
        </p:blipFill>
        <p:spPr>
          <a:xfrm>
            <a:off x="4037040" y="2590920"/>
            <a:ext cx="47260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a valid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cruzada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33520" y="18288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ustración con los datos de cobr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cross_scatplt" descr=""/>
          <p:cNvPicPr/>
          <p:nvPr/>
        </p:nvPicPr>
        <p:blipFill>
          <a:blip r:embed="rId2"/>
          <a:stretch/>
        </p:blipFill>
        <p:spPr>
          <a:xfrm>
            <a:off x="4906800" y="2590920"/>
            <a:ext cx="4160880" cy="3240000"/>
          </a:xfrm>
          <a:prstGeom prst="rect">
            <a:avLst/>
          </a:prstGeom>
          <a:ln w="0">
            <a:noFill/>
          </a:ln>
        </p:spPr>
      </p:pic>
      <p:pic>
        <p:nvPicPr>
          <p:cNvPr id="375" name="cross_histplt_stderr" descr=""/>
          <p:cNvPicPr/>
          <p:nvPr/>
        </p:nvPicPr>
        <p:blipFill>
          <a:blip r:embed="rId3"/>
          <a:stretch/>
        </p:blipFill>
        <p:spPr>
          <a:xfrm>
            <a:off x="228600" y="2590920"/>
            <a:ext cx="47260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a valid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cruzada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" y="20574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dias de los errores y de los errores estandar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7200" y="30481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arianza de los err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57200" y="40384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arianza de los errores estandar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57200" y="54100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ube de dispersión entre valores reales y estim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9480" y="24382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en ser cercanas a cero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imador sin sesg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9480" y="3429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e ser la más baja posible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imador preci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09480" y="44956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e ser cercana a 1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 variograma cuantifica adecuadamente la incertidumb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480" y="58672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gresión debe acercarse a la diagonal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sesgo condic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0880" y="14479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es que considerar para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la validación del 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09480" y="205740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interpretación geoestadística es satisfactoria, puesto que las variables regionalizadas presentan dos aspectos complem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52578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interac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entre dos valores (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resorte) se cuantifica por las herramientas “variográficas”: principalmente el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variogram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pero también el correlograma o la covari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32004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specto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leatorio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usante de las irregularidades lo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3962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specto estructur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que refleja las caracte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ticas globale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del fe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meno (continuidad, anisotropía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4572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 modelo geoestadístico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a valid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cruzada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0880" y="14479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udio del insesgo con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2743200"/>
            <a:ext cx="64008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Ley de corte  [%Cu]       Media efectiva         Media estim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0.00          1.054          1.0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0.20          1.054          1.0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0.40          1.092          1.0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0.60          1.182          1.1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0.80          1.299          1.3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1.00          1.446          1.45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1.20          1.628          1.6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1.40          1.849          1.8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1.60          2.043          2.0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1.80          2.325          2.2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2.00          2.608          2.5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2.20          2.996          2.9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2.40          3.301          3.1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2.60          3.746          3.4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2.80          3.970          3.65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9480" y="184464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ar las leyes promedio reales y estimadas al seleccionar los datos cuyos valor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stimad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peran una ley de c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a valid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cruzada (7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0880" y="14479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udio del insesgo con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cross_condbias" descr=""/>
          <p:cNvPicPr/>
          <p:nvPr/>
        </p:nvPicPr>
        <p:blipFill>
          <a:blip r:embed="rId2"/>
          <a:stretch/>
        </p:blipFill>
        <p:spPr>
          <a:xfrm>
            <a:off x="1066680" y="2324160"/>
            <a:ext cx="6845400" cy="32385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685800" y="57913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este caso, el sesgo condicional es desprec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160020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jercic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33520" y="167652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alizar el a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isis variog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co de las leyes de cobre y oro en los sondajes de expl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8080" y="25146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varma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pixel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gamv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varg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v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3520" y="441972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arar los variogramas calculados a lo largo de la direc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este de (a) la ley de cobre de los pozos de tronadura, (b) la ley de cobre de los bloques de 5m × 5m × 12m y (c) la ley de cobre de los bloques de 25m × 25m × 12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38080" y="60199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gam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vargp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33520" y="32004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alizar una valid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cruzada de los modelos variog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38080" y="37339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kt3d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locxyz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hist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scat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ondb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990720" y="2482920"/>
            <a:ext cx="716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e461d"/>
                </a:solidFill>
                <a:latin typeface="Times New Roman"/>
              </a:rPr>
              <a:t>Archivos de par</a:t>
            </a:r>
            <a:r>
              <a:rPr b="1" lang="en-US" sz="4800" spc="-1" strike="noStrike">
                <a:solidFill>
                  <a:srgbClr val="0e461d"/>
                </a:solidFill>
                <a:latin typeface="Times New Roman"/>
                <a:ea typeface="Times New Roman"/>
              </a:rPr>
              <a:t>á</a:t>
            </a:r>
            <a:r>
              <a:rPr b="1" lang="en-US" sz="4800" spc="-1" strike="noStrike">
                <a:solidFill>
                  <a:srgbClr val="0e461d"/>
                </a:solidFill>
                <a:latin typeface="Times New Roman"/>
              </a:rPr>
              <a:t>metros de los programas GSLi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533520" y="1243080"/>
            <a:ext cx="845820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VAR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uestras.dat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4                        -   number of variables: column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   1.0e21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1=regular grid, 0=scattered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0   50    1                -if =1: nx,     ny,   n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.0  1.0  1.0                -       xsiz, ysiz, 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3                    -if =0: columns for x,y, z coordin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rmap_Cu.out                -file for vari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    10     5              -nxlag, nylag, nzl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0.0   20.0   12.0           -dxlag, dylag, dzl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-minimum number of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standardize sill? (0=no, 1=y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-number of vari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1   1                    -tail, head, variogr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type 1 = traditional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= traditional cross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= covar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= corr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= general relative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6 = pairwise relative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 = semivariogram of logarith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= semimad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9 = indicator semivariogram - continu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= indicator semivariogram - catego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apa variogr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fico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533520" y="1243080"/>
            <a:ext cx="845820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PIXEL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rmap_Cu.out                    -file with gridded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  column number for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1.0e21                   -  data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rmap_Cu.ps                     -file with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realization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1   -200   20.0                 -nx,xmn,x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1   -200   20.0                 -ny,ymn,y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1    -60   12.0                 -nz,zmn,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slice orientation: 1=XY, 2=XZ, 3=Y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6                                -slice number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apa variografico (planta)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Distancia este [m]               -X la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Distancia norte [m]              -Y la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=arithmetic,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0=gray scale, 1=color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=continuous, 1=catego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0.5   0.1                   -continuous:  min, max, incr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  -categorical: number of categ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3    Code_One              -category(), code(), name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1    Code_Tw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lor Codes for Categorical Variable Plott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=red, 2=orange, 3=yellow, 4=light green, 5=green, 6=light blu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=dark blue, 8=violet, 9=white, 10=black, 11=purple, 12=brow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3=pink, 14=intermediate green, 15=g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apa variogr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á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fico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533520" y="1243080"/>
            <a:ext cx="845820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AM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uestras.dat     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3                         -   columns for X, Y, Z coordin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4                             -   number of variables,co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1.0e21     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v_Cu_omnihoriz.out             -file for vari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                                -number of l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0.0                              -lag separation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.0                              -lag tole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 -number of dir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90.0 9999   0.0  20.0  5.0   -azm,atol,bandh,dip,dtol,band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 -standardize sills? (0=no, 1=y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 -number of vari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1   1                         -tail var., head var., variogr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type 1 = traditional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= traditional cross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= covar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= corr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= general relative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6 = pairwise relative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 = semivariogram of logarith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= semimad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9 = indicator semivariogram - continu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= indicator semivariogram - catego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562720" y="47401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im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zim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 desde el norte hacia el e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56545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clina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: hacia arri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533520" y="1243080"/>
            <a:ext cx="845820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AM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uestras.dat     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3                         -   columns for X, Y, Z coordin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4                             -   number of variables,co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1.0e21     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v_Cu_vertical.out              -file for vari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                                -number of l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2.0                              -lag separation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6.0                               -lag tole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 -number of dir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90.0 9999  90.0  15.0 9999   -azm,atol,bandh,dip,dtol,band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 -standardize sills? (0=no, 1=y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 -number of vari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1   1                         -tail var., head var., variogr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type 1 = traditional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= traditional cross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= covar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= corr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= general relative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6 = pairwise relative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 = semivariogram of logarith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= semimad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9 = indicator semivariogram - continu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= indicator semivariogram - catego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533520" y="1219320"/>
            <a:ext cx="84582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VARG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v_Cu.ps         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-number of variograms to 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200.0                  -distance  limits (from data if max&lt;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0.5                   -variogram limits (from data if max&lt;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1.0                   -plot sill (0=no,1=yes), sill val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riograma experimental      -Title for 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v_Cu_omnihoriz.out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1   1   1    10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v_Cu_vertical.out 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1   1   1     1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lor Codes for Variogram Lines/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=red, 2=orange, 3=yellow, 4=light green, 5=green, 6=light blu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=dark blue, 8=violet, 9=white, 10=black, 11=purple, 12=brow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3=pink, 14=intermediate green, 15=g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experimental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533520" y="1219320"/>
            <a:ext cx="8458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V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odel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_Cu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.var                -file for vari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200                      -number of directions and l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0.0    1.0            -azm, dip, lag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90.0    0.3            -azm, dip, lag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06                    -nst, nugget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.18  0.0   0.0   0.0  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100.0  100.0 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20  0.0   0.0   0.0  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0.0   40.0  99999 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3520" y="3809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tipos de modelo disponible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62120" y="4267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esfé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2120" y="47242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expon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62120" y="51814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gaussi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120" y="56386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potencia (exponente =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_hma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]0,2[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62120" y="6095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coseno (v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ido sólo en una dimen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modelado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Objetivo del análisis variográf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24382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scribir las principales propiedades de la distribución espacial de la variable regionalizada en estudio, más allá de un simple reporte de los valores (perfiles, map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39625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Qué tan continua es la variable en el espaci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304920" y="13716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onvenci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 para los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g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57200" y="22860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s direcciones principales de anisotrop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 (ortogonales entre 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 quedan definidas a partir de tre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gu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57200" y="32004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ng1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(acimut o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zimut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: el eje norte (Y) rota hacia el eje este 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5800" y="36576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bten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 un nuevo referencial (X’,Y’,Z’) con Z’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57200" y="42670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ng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(inclin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o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ip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: el eje Y’ rota hacia el eje vertical (Z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85800" y="4724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bten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 un nuevo referencial (X”,Y”,Z”) con X”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X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57913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bten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l referencial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modelado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" y="53341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ng3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(buzamiento,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plung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pitc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: el eje X” rota hacia el eje Z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533520" y="1219320"/>
            <a:ext cx="84582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VARG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model_Cu.ps       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                         -number of variograms to 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200.0                  -distance  limits (from data if max&lt;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0.5                   -variogram limits (from data if max&lt;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1.0                   -plot sill (0=no,1=yes), sill val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riograma modelado cobre    -Title for 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v_Cu_omnihoriz.out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1   1   1    10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v_Cu_vertical.out 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1   1   1     1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model_Cu.var        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   0   1    10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model_Cu.var        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   0   1     1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lor Codes for Variogram Lines/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=red, 2=orange, 3=yellow, 4=light green, 5=green, 6=light blu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=dark blue, 8=violet, 9=white, 10=black, 11=purple, 12=brow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3=pink, 14=intermediate green, 15=g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modelado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533520" y="914400"/>
            <a:ext cx="8458200" cy="59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KT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uestras.dat    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1  2  3  4  0                 -   columns for DH,X,Y,Z,var,sec v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-option: 0=grid, 1=cross, 2=jackkn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No_se_lee_esta_linea.dat         -file with jackknif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0    3    0              -   columns for X,Y,Z,vr and sec v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debugging level: 0,1,2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lidacion.dbg                   -file for debugging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lidacion_Cu.out                -file for kriged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0   0.5    1.0                  -nx,xmn,x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0   0.5    1.0                  -ny,ymn,y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.5    1.0                  -nz,zmn,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1      1                  -x,y and z block discret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24                          -min, max data for kri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                            -max per octant (0-&gt; not us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100.0  150.0              -maximum search rad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0.0   0.0                 -angles for search ellips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2.302                      -0=SK,1=OK,2=non-st SK,3=ex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0 0 0 0 0 0 0 0                -drift: x,y,z,xx,yy,zz,xy,xz,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, variable; 1, estimate tr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extdrift.dat                     -gridded file with drift/m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                             -  column number in gridded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06                        -nst, nugget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.18  0.0   0.0   0.0      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100.0  100.0    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20  0.0   0.0   0.0      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0.0  40.0  99999     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lidación cruzad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3520" y="1452600"/>
            <a:ext cx="84582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locxy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lidacion_Cu.out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7                       -   columns for X, Y,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-1.0e21   1.0e21            -   columns for Z and coordinate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99.    1.0e21    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apa_validacion_Cu.ps 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400.                    -xmn,xm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600.                    -ymn,ym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-0=data values, 1=cross 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-0=arithmetic, 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 -0=gray scale,  1=color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-0=no labels,   1=label each 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1.5    0.25              -gray/color scale: min, max, inc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5                             -label size: 0.1(sml)-1(reg)-10(bi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apa de errores de validacion cruzada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lidación cruzad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533520" y="1452600"/>
            <a:ext cx="84582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HIST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alidacion_Cu.out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  0                        -   columns for variabl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99.0     1.0e21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hist_stderrores_validacion_Cu.ps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3.0      3.0                -attribute minimum and max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                    -frequency maximum (&lt;0 for automat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                        -number of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0=arithmetic,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0=frequency,  1=cumulative hist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   number of cum. quantiles (&lt;0 for a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-number of decimal places (&lt;0 for auto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Histograma de errores estandarizados     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.5                          -positioning of stats (L to R: -1 to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1e21                      -reference value for box 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lidación cruzada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533520" y="1452600"/>
            <a:ext cx="845820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SCAT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lidacion_Cu.out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  4   0    0                    -  columns for X, Y, wt, third v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 -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catplt_validacion_Cu.ps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3.0      0                -X min and max, (0=arith, 1=lo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3.0      0                -Y min and max, (0=arith, 1=lo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 -plot every nth data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5                               -bullet size: 0.1(sml)-1(reg)-10(bi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 2.0                      -limits for third variable gray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lores reales vs estimados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lidación cruzada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533520" y="1452600"/>
            <a:ext cx="845820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NDBIAS: Conditional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lidacion_Cu.out                       \Input data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  4                                   \column for estimate,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       \tmin,t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regresion_Cu.out                        \Output for conditional b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0                                      \number of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leyes_medias_Cu.out                     \Output for mean above cut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0.0   0.1                          \number of cutoffs, start, i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lidación cruzada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33520" y="3905280"/>
            <a:ext cx="845820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SCAT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regresion_Cu.out 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0    0                    -  columns for X, Y, wt, third v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 -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regresion_validacion_Cu.ps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3.0      0                -X min and max, (0=arith, 1=lo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3.0      0                -Y min and max, (0=arith, 1=lo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 -plot every nth data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.5                               -bullet size: 0.1(sml)-1(reg)-10(bi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 2.0                      -limits for third variable gray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Regresion valores reales vs estimados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533520" y="990720"/>
            <a:ext cx="84582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G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5x5.dat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4   5   6         -   number of variables, column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   1.0e21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_Cu_grilla5x5.out  -file for vari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-grid or realization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0   2.5   5.0        -nx, xmn, x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20  2.5   5.0        -ny, ymn, y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1  11.0  12.0        -nz, zmn, 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40                 -number of directions, number of l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0  0              -ixd(1),iyd(1),izd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-standardize sill? (0=no, 1=y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                 -number of vari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1   1             -tail variable, head variable, variogr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2   1             -tail variable, head variable, variogr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3   1             -tail variable, head variable, variogr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type 1 = traditional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= traditional cross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= covar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= corr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= general relative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6 = pairwise relative semi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 = semivariogram of logarith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8 = semimad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9 = indicator semivariogram - continu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= indicator semivariogram - catego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de datos en grill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533520" y="1301760"/>
            <a:ext cx="845820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VARG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_Cu_grilla5x5.ps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                        -number of variograms to 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201.0                  -distance  limits (from data if max&lt;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0.5                   -variogram limits (from data if max&lt;m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1.0                   -plot sill (0=no,1=yes), sill val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Variogramas pozos y bloques  -Title for vari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_Cu_grilla5x5.out 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   0   1    10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_Cu_grilla5x5.out 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   0   1     1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am_Cu_grilla5x5.out         -1 file with variogra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0   0   1     7         -  variogram #, dash #, pts?, line?,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lor Codes for Variogram Lines/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=red, 2=orange, 3=yellow, 4=light green, 5=green, 6=light blu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=dark blue, 8=violet, 9=white, 10=black, 11=purple, 12=brow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3=pink, 14=intermediate green, 15=g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066680" y="304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Variograma de datos en grill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oción de correlación espacial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160020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olvemos al ejemplo de las 2376 muestras de exploración en un yacimiento de tipo pórfido cuprífer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57150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bservemos las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ubes de correlación diferi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para seis distancias de separación: 0, 2, 10, 20, 50 y 100 me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locmap%20Cu" descr=""/>
          <p:cNvPicPr/>
          <p:nvPr/>
        </p:nvPicPr>
        <p:blipFill>
          <a:blip r:embed="rId2"/>
          <a:srcRect l="0" t="0" r="62128" b="0"/>
          <a:stretch/>
        </p:blipFill>
        <p:spPr>
          <a:xfrm>
            <a:off x="762120" y="2590920"/>
            <a:ext cx="2361960" cy="2877840"/>
          </a:xfrm>
          <a:prstGeom prst="rect">
            <a:avLst/>
          </a:prstGeom>
          <a:ln w="0">
            <a:noFill/>
          </a:ln>
        </p:spPr>
      </p:pic>
      <p:pic>
        <p:nvPicPr>
          <p:cNvPr id="112" name="locmap%20Cu" descr=""/>
          <p:cNvPicPr/>
          <p:nvPr/>
        </p:nvPicPr>
        <p:blipFill>
          <a:blip r:embed="rId3"/>
          <a:srcRect l="86741" t="0" r="0" b="0"/>
          <a:stretch/>
        </p:blipFill>
        <p:spPr>
          <a:xfrm>
            <a:off x="3124080" y="2590920"/>
            <a:ext cx="827280" cy="2877840"/>
          </a:xfrm>
          <a:prstGeom prst="rect">
            <a:avLst/>
          </a:prstGeom>
          <a:ln w="0">
            <a:noFill/>
          </a:ln>
        </p:spPr>
      </p:pic>
      <p:pic>
        <p:nvPicPr>
          <p:cNvPr id="113" name="histplt%20declus%20Cu" descr=""/>
          <p:cNvPicPr/>
          <p:nvPr/>
        </p:nvPicPr>
        <p:blipFill>
          <a:blip r:embed="rId4"/>
          <a:stretch/>
        </p:blipFill>
        <p:spPr>
          <a:xfrm>
            <a:off x="4495680" y="2590920"/>
            <a:ext cx="398808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2T14:25:58Z</dcterms:created>
  <dc:creator>Depto. Ing. Minas</dc:creator>
  <dc:description/>
  <dc:language>en-US</dc:language>
  <cp:lastModifiedBy>Minas</cp:lastModifiedBy>
  <dcterms:modified xsi:type="dcterms:W3CDTF">2005-05-12T23:09:24Z</dcterms:modified>
  <cp:revision>195</cp:revision>
  <dc:subject/>
  <dc:title>Sin título de diapositiva</dc:title>
</cp:coreProperties>
</file>