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17.png" ContentType="image/png"/>
  <Override PartName="/ppt/media/image32.jpeg" ContentType="image/jpeg"/>
  <Override PartName="/ppt/media/image29.jpeg" ContentType="image/jpeg"/>
  <Override PartName="/ppt/media/image43.jpeg" ContentType="image/jpeg"/>
  <Override PartName="/ppt/media/image5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0.jpeg" ContentType="image/jpeg"/>
  <Override PartName="/ppt/media/image31.wmf" ContentType="image/x-wmf"/>
  <Override PartName="/ppt/media/image12.wmf" ContentType="image/x-wmf"/>
  <Override PartName="/ppt/media/image4.png" ContentType="image/png"/>
  <Override PartName="/ppt/media/image30.jpeg" ContentType="image/jpeg"/>
  <Override PartName="/ppt/media/image7.wmf" ContentType="image/x-wmf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0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2A2-41DC-4CCE-8AA4-A2F387DC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083-2805-4010-8DA0-D6AEA3A5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792-2245-4242-AD7F-A2ABB39A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57B-248D-4ED5-8CC6-78B1175D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1F41-F30D-464F-A7D1-6F922F4D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8C90-0AE2-430A-A001-E9977F97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53FC-07A3-4AF0-9967-D1B4B345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105D-4E1D-4F43-8EA8-A371B5E9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AD01-1E13-43BA-801C-F8E417CA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7133-0235-4B94-9F74-52649A1C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5E42-9085-48AA-A760-9306EDE4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B24-4797-4B9F-903D-BB77840E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2A9B-F64C-4085-A8BB-59689BB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1AAC-EBD7-402E-9604-AB60AB28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0B21-A51A-4F64-9725-9A407349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88E7-4602-4DFE-B29D-80BE236F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8BF1-9F66-4E9B-9BCC-DD719523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0F5-562A-4D3D-A8CD-0A8BD6CB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C9B-0CA1-4A43-A5F6-EF7B9C8E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C6C-6C89-4308-A577-79977D22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6A6-AF0E-4D04-B84E-AF574E85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D4D-5512-4731-ACEB-77B4DE3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7AE-7609-4C24-A6FD-8D59F0D3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625-4CE8-4CA6-ACA3-42D1A5D5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2FB8-F434-4CDA-AE74-B71F542D16FF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DA6D-4E3B-4CA1-908B-916D57DA9AEE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133720"/>
            <a:ext cx="777240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S AVANZADOS DE TRATAMIENTO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 DE AGU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aría Pía Mena P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8377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NORMAS DE EMISIÓ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828800"/>
            <a:ext cx="79246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609 (1998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9797b7"/>
                </a:solidFill>
                <a:latin typeface="Comic Sans MS"/>
              </a:rPr>
              <a:t>Regulación de Contaminantes asociados a las Descargas de Residuos Industriales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l sistema de alcantarillad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ffcc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7ccd9"/>
                </a:solidFill>
                <a:latin typeface="Century Gothic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90 (2001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Contaminantes asociados a Descargas de Residuos Líquidos a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perfici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DS N°46 (2002)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Residuos Líquidos a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bterránea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05120"/>
            <a:ext cx="8001000" cy="41148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212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3808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stablecimientos Industriales con Sistema de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Tratamiento Autoriz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5280" y="1828800"/>
            <a:ext cx="7086240" cy="3352680"/>
            <a:chOff x="1295280" y="1828800"/>
            <a:chExt cx="7086240" cy="3352680"/>
          </a:xfrm>
        </p:grpSpPr>
        <p:grpSp>
          <p:nvGrpSpPr>
            <p:cNvPr id="159" name=""/>
            <p:cNvGrpSpPr/>
            <p:nvPr/>
          </p:nvGrpSpPr>
          <p:grpSpPr>
            <a:xfrm>
              <a:off x="1302120" y="1832400"/>
              <a:ext cx="7071120" cy="3344760"/>
              <a:chOff x="1302120" y="1832400"/>
              <a:chExt cx="7071120" cy="334476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302120" y="1832400"/>
                <a:ext cx="1949040" cy="477720"/>
                <a:chOff x="1302120" y="1832400"/>
                <a:chExt cx="1949040" cy="477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369440" y="183240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02120" y="183240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251520" y="1832400"/>
                <a:ext cx="1707120" cy="477720"/>
                <a:chOff x="3251520" y="1832400"/>
                <a:chExt cx="1707120" cy="477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3195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2515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59000" y="1832400"/>
                <a:ext cx="1706400" cy="477720"/>
                <a:chOff x="4959000" y="1832400"/>
                <a:chExt cx="1706400" cy="477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6320" y="183240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59000" y="183240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666120" y="1832400"/>
                <a:ext cx="1707120" cy="477720"/>
                <a:chOff x="6666120" y="1832400"/>
                <a:chExt cx="1707120" cy="477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7341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6661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302120" y="2310120"/>
                <a:ext cx="1949040" cy="477720"/>
                <a:chOff x="1302120" y="2310120"/>
                <a:chExt cx="1949040" cy="477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69440" y="23101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02120" y="23101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251520" y="2310120"/>
                <a:ext cx="1707120" cy="477720"/>
                <a:chOff x="3251520" y="2310120"/>
                <a:chExt cx="1707120" cy="477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3195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515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59000" y="2310120"/>
                <a:ext cx="1706400" cy="477720"/>
                <a:chOff x="4959000" y="2310120"/>
                <a:chExt cx="1706400" cy="477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026320" y="23101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59000" y="23101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666120" y="2310120"/>
                <a:ext cx="1707120" cy="477720"/>
                <a:chOff x="6666120" y="2310120"/>
                <a:chExt cx="1707120" cy="477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7341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6661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302120" y="2787840"/>
                <a:ext cx="1949040" cy="478080"/>
                <a:chOff x="1302120" y="2787840"/>
                <a:chExt cx="1949040" cy="478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369440" y="278784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302120" y="278784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251520" y="2787840"/>
                <a:ext cx="1707120" cy="478080"/>
                <a:chOff x="3251520" y="2787840"/>
                <a:chExt cx="1707120" cy="4780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195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2515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59000" y="2787840"/>
                <a:ext cx="1706400" cy="478080"/>
                <a:chOff x="4959000" y="2787840"/>
                <a:chExt cx="1706400" cy="47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26320" y="278784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59000" y="278784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666120" y="2787840"/>
                <a:ext cx="1707120" cy="478080"/>
                <a:chOff x="6666120" y="2787840"/>
                <a:chExt cx="1707120" cy="478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7341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6661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302120" y="3265920"/>
                <a:ext cx="1949040" cy="477720"/>
                <a:chOff x="1302120" y="3265920"/>
                <a:chExt cx="1949040" cy="477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369440" y="32659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V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2120" y="32659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251520" y="3265920"/>
                <a:ext cx="1707120" cy="477720"/>
                <a:chOff x="3251520" y="3265920"/>
                <a:chExt cx="1707120" cy="477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3195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2515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959000" y="3265920"/>
                <a:ext cx="1706400" cy="477720"/>
                <a:chOff x="4959000" y="3265920"/>
                <a:chExt cx="1706400" cy="477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026320" y="32659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9000" y="32659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666120" y="3265920"/>
                <a:ext cx="1707120" cy="477720"/>
                <a:chOff x="6666120" y="3265920"/>
                <a:chExt cx="1707120" cy="477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7341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661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302120" y="3743640"/>
                <a:ext cx="1949040" cy="477720"/>
                <a:chOff x="1302120" y="3743640"/>
                <a:chExt cx="1949040" cy="477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69440" y="37436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02120" y="37436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251520" y="3743640"/>
                <a:ext cx="1707120" cy="477720"/>
                <a:chOff x="3251520" y="3743640"/>
                <a:chExt cx="1707120" cy="477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195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9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515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959000" y="3743640"/>
                <a:ext cx="1706400" cy="477720"/>
                <a:chOff x="4959000" y="3743640"/>
                <a:chExt cx="1706400" cy="477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026320" y="37436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959000" y="37436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666120" y="3743640"/>
                <a:ext cx="1707120" cy="477720"/>
                <a:chOff x="6666120" y="3743640"/>
                <a:chExt cx="1707120" cy="477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341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6661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302120" y="4221360"/>
                <a:ext cx="1949040" cy="478080"/>
                <a:chOff x="1302120" y="4221360"/>
                <a:chExt cx="1949040" cy="478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369440" y="422136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302120" y="422136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251520" y="4221360"/>
                <a:ext cx="1707120" cy="478080"/>
                <a:chOff x="3251520" y="4221360"/>
                <a:chExt cx="1707120" cy="478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195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515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959000" y="4221360"/>
                <a:ext cx="1706400" cy="478080"/>
                <a:chOff x="4959000" y="4221360"/>
                <a:chExt cx="1706400" cy="478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26320" y="422136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59000" y="422136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666120" y="4221360"/>
                <a:ext cx="1707120" cy="478080"/>
                <a:chOff x="6666120" y="4221360"/>
                <a:chExt cx="1707120" cy="478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7341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4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6661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302120" y="4699440"/>
                <a:ext cx="1949040" cy="477720"/>
                <a:chOff x="1302120" y="4699440"/>
                <a:chExt cx="1949040" cy="477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369440" y="46994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2120" y="46994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251520" y="4699440"/>
                <a:ext cx="1707120" cy="477720"/>
                <a:chOff x="3251520" y="4699440"/>
                <a:chExt cx="1707120" cy="477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3195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2515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959000" y="4699440"/>
                <a:ext cx="1706400" cy="477720"/>
                <a:chOff x="4959000" y="4699440"/>
                <a:chExt cx="1706400" cy="477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026320" y="46994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M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59000" y="46994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666120" y="4699440"/>
                <a:ext cx="1707120" cy="477720"/>
                <a:chOff x="6666120" y="4699440"/>
                <a:chExt cx="1707120" cy="477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7341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6661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1295280" y="1828800"/>
              <a:ext cx="7086240" cy="3352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676520" y="525780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Arial"/>
              </a:rPr>
              <a:t>SISS, 2003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84680" y="838080"/>
            <a:ext cx="72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de l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gu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esiduales en Chile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9480" y="2514600"/>
            <a:ext cx="8076960" cy="3124080"/>
            <a:chOff x="609480" y="2514600"/>
            <a:chExt cx="8076960" cy="3124080"/>
          </a:xfrm>
        </p:grpSpPr>
        <p:grpSp>
          <p:nvGrpSpPr>
            <p:cNvPr id="250" name=""/>
            <p:cNvGrpSpPr/>
            <p:nvPr/>
          </p:nvGrpSpPr>
          <p:grpSpPr>
            <a:xfrm>
              <a:off x="616320" y="2517840"/>
              <a:ext cx="8061480" cy="3116880"/>
              <a:chOff x="616320" y="2517840"/>
              <a:chExt cx="8061480" cy="3116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616320" y="2517840"/>
                <a:ext cx="2455560" cy="444960"/>
                <a:chOff x="616320" y="2517840"/>
                <a:chExt cx="2455560" cy="444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81480" y="251784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ecnología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6320" y="251784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072240" y="2517840"/>
                <a:ext cx="1621440" cy="444960"/>
                <a:chOff x="3072240" y="2517840"/>
                <a:chExt cx="1621440" cy="444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138120" y="251784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199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072240" y="251784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694400" y="2517840"/>
                <a:ext cx="1991520" cy="444960"/>
                <a:chOff x="4694400" y="2517840"/>
                <a:chExt cx="1991520" cy="444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759560" y="251784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200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9440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686280" y="2517840"/>
                <a:ext cx="1991520" cy="444960"/>
                <a:chOff x="6686280" y="2517840"/>
                <a:chExt cx="1991520" cy="444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752160" y="251784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Al 200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8628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16320" y="2962800"/>
                <a:ext cx="2455560" cy="445320"/>
                <a:chOff x="616320" y="2962800"/>
                <a:chExt cx="2455560" cy="4453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81480" y="296280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odos activ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6320" y="296280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072240" y="2962800"/>
                <a:ext cx="1621440" cy="445320"/>
                <a:chOff x="3072240" y="2962800"/>
                <a:chExt cx="1621440" cy="4453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38120" y="296280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72240" y="296280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694400" y="2962800"/>
                <a:ext cx="1991520" cy="445320"/>
                <a:chOff x="4694400" y="2962800"/>
                <a:chExt cx="1991520" cy="4453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759560" y="296280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69440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86280" y="2962800"/>
                <a:ext cx="1991520" cy="445320"/>
                <a:chOff x="6686280" y="2962800"/>
                <a:chExt cx="1991520" cy="4453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752160" y="296280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7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68628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16320" y="3408480"/>
                <a:ext cx="2455560" cy="444960"/>
                <a:chOff x="616320" y="3408480"/>
                <a:chExt cx="2455560" cy="444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81480" y="340848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estabilizac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6320" y="340848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072240" y="3408480"/>
                <a:ext cx="1621440" cy="444960"/>
                <a:chOff x="3072240" y="3408480"/>
                <a:chExt cx="1621440" cy="444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138120" y="340848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2240" y="340848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694400" y="3408480"/>
                <a:ext cx="1991520" cy="444960"/>
                <a:chOff x="4694400" y="3408480"/>
                <a:chExt cx="1991520" cy="444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759560" y="340848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69440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686280" y="3408480"/>
                <a:ext cx="1991520" cy="444960"/>
                <a:chOff x="6686280" y="3408480"/>
                <a:chExt cx="1991520" cy="444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752160" y="340848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68628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16320" y="3853440"/>
                <a:ext cx="2455560" cy="445320"/>
                <a:chOff x="616320" y="3853440"/>
                <a:chExt cx="2455560" cy="445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81480" y="3853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aireada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6320" y="3853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072240" y="3853440"/>
                <a:ext cx="1621440" cy="445320"/>
                <a:chOff x="3072240" y="3853440"/>
                <a:chExt cx="1621440" cy="4453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38120" y="3853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072240" y="3853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694400" y="3853440"/>
                <a:ext cx="1991520" cy="445320"/>
                <a:chOff x="4694400" y="3853440"/>
                <a:chExt cx="1991520" cy="445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759560" y="3853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9440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686280" y="3853440"/>
                <a:ext cx="1991520" cy="445320"/>
                <a:chOff x="6686280" y="3853440"/>
                <a:chExt cx="1991520" cy="445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752160" y="3853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7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8628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16320" y="4299120"/>
                <a:ext cx="2455560" cy="444960"/>
                <a:chOff x="616320" y="4299120"/>
                <a:chExt cx="2455560" cy="444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81480" y="429912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Emisarios submarin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6320" y="429912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072240" y="4299120"/>
                <a:ext cx="1621440" cy="444960"/>
                <a:chOff x="3072240" y="4299120"/>
                <a:chExt cx="1621440" cy="444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138120" y="429912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72240" y="429912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694400" y="4299120"/>
                <a:ext cx="1991520" cy="444960"/>
                <a:chOff x="4694400" y="4299120"/>
                <a:chExt cx="1991520" cy="444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759560" y="429912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69440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686280" y="4299120"/>
                <a:ext cx="1991520" cy="444960"/>
                <a:chOff x="6686280" y="4299120"/>
                <a:chExt cx="1991520" cy="444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752160" y="429912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68628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16320" y="4744440"/>
                <a:ext cx="2455560" cy="445320"/>
                <a:chOff x="616320" y="4744440"/>
                <a:chExt cx="2455560" cy="445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81480" y="4744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Otr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6320" y="4744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072240" y="4744440"/>
                <a:ext cx="1621440" cy="445320"/>
                <a:chOff x="3072240" y="4744440"/>
                <a:chExt cx="1621440" cy="445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138120" y="4744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072240" y="4744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694400" y="4744440"/>
                <a:ext cx="1991520" cy="445320"/>
                <a:chOff x="4694400" y="4744440"/>
                <a:chExt cx="1991520" cy="445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759560" y="4744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69440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686280" y="4744440"/>
                <a:ext cx="1991520" cy="445320"/>
                <a:chOff x="6686280" y="4744440"/>
                <a:chExt cx="1991520" cy="445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752160" y="4744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8628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16320" y="5189760"/>
                <a:ext cx="2455560" cy="444960"/>
                <a:chOff x="616320" y="5189760"/>
                <a:chExt cx="2455560" cy="444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81480" y="518976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16320" y="518976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072240" y="5189760"/>
                <a:ext cx="1621440" cy="444960"/>
                <a:chOff x="3072240" y="5189760"/>
                <a:chExt cx="1621440" cy="444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138120" y="518976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8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72240" y="518976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694400" y="5189760"/>
                <a:ext cx="1991520" cy="444960"/>
                <a:chOff x="4694400" y="5189760"/>
                <a:chExt cx="1991520" cy="444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759560" y="518976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5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69440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686280" y="5189760"/>
                <a:ext cx="1991520" cy="444960"/>
                <a:chOff x="6686280" y="5189760"/>
                <a:chExt cx="1991520" cy="444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752160" y="518976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8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8628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609480" y="2514600"/>
              <a:ext cx="8076960" cy="3124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24760" y="502920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podemos lograr en cada tratamient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otencial%20remocion" descr=""/>
          <p:cNvPicPr/>
          <p:nvPr/>
        </p:nvPicPr>
        <p:blipFill>
          <a:blip r:embed="rId2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86480" y="571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Metcalf &amp; Edd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2280" y="152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de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Contaminantes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Orgánicos en el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Tratamiento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cundar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2" name="remocion%20organicos%20LAC1" descr=""/>
          <p:cNvPicPr/>
          <p:nvPr/>
        </p:nvPicPr>
        <p:blipFill>
          <a:blip r:embed="rId2"/>
          <a:stretch/>
        </p:blipFill>
        <p:spPr>
          <a:xfrm>
            <a:off x="762120" y="673200"/>
            <a:ext cx="784836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7621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Comportamiento de Contaminantes Orgánicos en e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4" name="remocion%20organicos%20LAC2" descr=""/>
          <p:cNvPicPr/>
          <p:nvPr/>
        </p:nvPicPr>
        <p:blipFill>
          <a:blip r:embed="rId2"/>
          <a:stretch/>
        </p:blipFill>
        <p:spPr>
          <a:xfrm>
            <a:off x="533520" y="1595520"/>
            <a:ext cx="81532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447920"/>
            <a:ext cx="81532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leccionamos el Tratamiento Adecuad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Procesos de Tratamient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eliminar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im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Terciario o Procesos Avan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8" name="Procesos1" descr=""/>
          <p:cNvPicPr/>
          <p:nvPr/>
        </p:nvPicPr>
        <p:blipFill>
          <a:blip r:embed="rId2"/>
          <a:stretch/>
        </p:blipFill>
        <p:spPr>
          <a:xfrm>
            <a:off x="685800" y="-30240"/>
            <a:ext cx="769608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884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06080" y="3608280"/>
            <a:ext cx="5031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NUTRIENT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762120"/>
            <a:ext cx="815328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Acerca del Tratamiento de Aguas y los Contaminant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Cualquier sustancia utilizada en la sociedad estará presente en las aguas residua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l agua puede ser tratada hasta cualquier grado de pureza, a costos cada vez más altos.  Sin embargo, independiente de cuan bueno sea el tratamiento, siempre existirá un residuo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cero” o “estándar no detectable” es una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ta deseable pero inalcanz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No es posible la política de la “descarga cero”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(U.S. Congress, 1970)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914400"/>
            <a:ext cx="79246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utrientes más importa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itrógeno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ógen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Amoniaco (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 + 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+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i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a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=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(Usualmente las concentraciones de estos compuestos se informan relativas al nitrógeno, peso molecular 14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Fósfor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rto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3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70% (soluble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oli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990720"/>
            <a:ext cx="754380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guas Servidas Doméstica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200 -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QO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450 - 7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N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30 -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5 - 1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35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in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65%   mayor parte solub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En aguas servidas domésticas N total </a:t>
            </a:r>
            <a:r>
              <a:rPr b="0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TKN;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y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prácticamente ause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65400" y="1143000"/>
            <a:ext cx="84956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Efecto de los Nutrientes en Cursos de Agu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 Kg de N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-N puede teóricamente estimular la produc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6 Kg de algas (20 Kg DQO), considerando la bioma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Algal como C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0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263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10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N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50 mg N/l indirectamente 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pueden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roduc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ir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1000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i un 1 Kg de P fuera acumulado por algas fotosintéticas y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utilizado para producir nuevas algas a partir de la fotosíntesis,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e producirían 111 Kg de algas a las que corresponde una DQ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38 Kg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0 mg P/l indirectamente producen 138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38080" y="762120"/>
            <a:ext cx="792504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utrientes en Aguas Servidas Domésticas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ógeno orgáni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2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soluble no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KN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particulado no biodegradable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7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+  O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 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&lt; 7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pH &gt; 7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1828800"/>
            <a:ext cx="75960" cy="213372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76212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IFICACIÓN BIOLÓG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roceso Autotrófico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ergía para crecimiento bacteriano es derivada de la oxidación de compuestos nitrogen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2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 bicarbonat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 utilizado como fuente de carbono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523880" y="3429000"/>
                <a:ext cx="59436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Nitrosomonas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Nitrobacter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609480" y="56386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 requieren 4,57 mg de O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por cada mg de NH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-N nitrific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7621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i se considera el crecimiento celular, las ecuaciones anteriores se transforman 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914400" y="1523880"/>
                <a:ext cx="7772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itrosomona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itrobact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33520" y="3048120"/>
            <a:ext cx="8169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Producción celular de nitrificantes es mucho menor que producción de heterótrofas (aprox. 10%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Alcalinida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371600" y="4495680"/>
                <a:ext cx="5791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09480" y="5486400"/>
            <a:ext cx="81536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xidación de cada mg/l de NH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N</a:t>
            </a:r>
            <a:r>
              <a:rPr b="1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ducirá la alcalinidad en 7,14 mg/l de CaCO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480" y="762120"/>
            <a:ext cx="79250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Requerimientos de las Bacterias Nitrificant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emperatur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&gt;15°C hasta 3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4" marL="182880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Óptimo a 25-28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eficiente Arrhenius: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= 1,02 para T° 7-1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= 1,08 – 1,10 (Metcalf &amp; Eddy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H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8 – 9;  óptimo ~ 8,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 &lt; 6,6, tasa de nitrificación disminuye significativam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&lt; 5,5, no hay nitrific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Materia orgánic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baja concentr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0,5  alta actividad de bacterias nitrifica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6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cción nitrificante muy baj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iempo de retención celular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 &gt; 5dí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Comic Sans MS"/>
              </a:rPr>
              <a:t>DENITRIFICACIÓN BIOLÓG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Proceso heterótrofo en que las bacterias utilizan carbono orgánico como fuente de energía y nitratos (o nitritos) como aceptor de electrones, en ausencia de oxígeno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ANOXIA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En estas condiciones los nitratos son reducidos a nitrógeno gas, el que escapa a la atmósfera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3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61760" y="3200400"/>
            <a:ext cx="8039160" cy="2664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Cuando el nitrato es el aceptor de electrones, la masa equivalente de oxígeno (como O) e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= 2.86 mg O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producción de biomasa es levemente menor que en el caso de la respiración aeróbica, aproximadamente 0,5 gr SSV/g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reduci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476760" cy="92736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sp>
        <p:nvSpPr>
          <p:cNvPr id="369" name=""/>
          <p:cNvSpPr/>
          <p:nvPr/>
        </p:nvSpPr>
        <p:spPr>
          <a:xfrm>
            <a:off x="855000" y="990720"/>
            <a:ext cx="5886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global de nitrato (empírica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759720" cy="739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querimientos para Denitrificación Biológic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12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nitrato (o nitrito) (compuestos producidos en la nitrificació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2.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usencia de oxígeno disuelt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Cuando OD = 0 mg/L, se logra 100% denitrificación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Sí OD &gt; 0.5 mg/L, la denitrificación no es significativa ya que el oxígeno previene la formación de la enzima necesaria para sustituir el oxígeno por nitrato como aceptor de electrones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Una biomasa facultativa (microorganismos con el sistema enzimático para utiliza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un donante de electrones adecuado (fuente de energía).  Puede ser interna (materia orgánica naturalmente presente en las aguas servidas), externa (p.e. adición de metanol) o autogenerado (nutrientes liberados durante la muerte de organismos en el proces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</a:t>
            </a:r>
            <a:r>
              <a:rPr b="0" lang="es-CL" sz="2000" spc="-1" strike="noStrike">
                <a:solidFill>
                  <a:srgbClr val="660066"/>
                </a:solidFill>
                <a:latin typeface="Comic Sans MS"/>
              </a:rPr>
              <a:t>La adición de DQO fácilmente biodegradable incrementa el potencial de denitrificación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920" y="1219320"/>
            <a:ext cx="8722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 claramente imposible identificar todas las sustancia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orgánicas cuya presencia pudiera representar una preocup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gua debido a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levado número de compuestos que se producen anualment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mund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etardo en la información acerca de los efectos adverso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mbiente y especialmente en los efectos crónicos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salud de las persona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sumiendo que las condiciones anóxicas se mantienen y la concentración de oxígeno disuelto es despreciable, la tasa de denitrificación depende básicamente de la naturaleza y cantidad de carbón disponible.  Los microorganismos denitrificantes son menos sensibles a la temperatura, pH y sustancias inhibitorias que los microorganismos nitrificante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pH:   6,5 - 8,5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Temperatura: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5 - 60°C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=  1,06 - 1,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800080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Fuente externa de Carbono más común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: Metanol (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 + 0,92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92H</a:t>
            </a:r>
            <a:r>
              <a:rPr b="0" lang="es-CL" sz="2200" spc="-1" strike="noStrike" baseline="30000">
                <a:solidFill>
                  <a:srgbClr val="545472"/>
                </a:solidFill>
                <a:latin typeface="Comic Sans MS"/>
              </a:rPr>
              <a:t>+ </a:t>
            </a:r>
            <a:r>
              <a:rPr b="0" lang="es-CL" sz="2200" spc="-1" strike="noStrike" baseline="30000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0,065C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5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7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N + 0,43N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7C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2,25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Requerimiento sustrato: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2,3 - 3,5 gr/gr 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Denitrificación ocurre completamente si se adiciona suficiente metanol....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Sobredosis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 alta DBO en el efluent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392720" cy="398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Efectos de la Denitrificació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8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denitrificación biológica produce un incremento en la alcalinidad.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Se recuperan 3.57 mg/L de alcalinidad (como CaCO3) por cada 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denitrificad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ado que durante la nitrificación, se consumen 7.14 mg/L de alcalinidad por cada 1 mg NH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nitrificado, para residuos con baja alcalinidad se recomienda la nitrificación-denitrificación en sistemas combinados para prevenir un descenso del pH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ebido a que para la nitrificación se requieren 4.57 mg O/mg N, y en la denitrificación se recuperan 2.86 mg O/mg N, al tener nitrificación y denitrificación en un mismo sistema biológico, es posible disminuir 2.86/4.57•100 = 63% de la demanda de oxígen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Remoción Biológica de Fósforo se promueve la acción de ciertos microorganismos que tienen la capacidad de almacenar intracelularmente mayores cantidades de fósforo que las requeridas para los procesos metabólicos básicos.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De este modo, la remoción se realiza a través de la disposición de lodos, debido a que la biomasa contiene una proporción mayor de fósforo en relación a lodos activados convencionale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s condiciones para que este fenómeno ocurra son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 población bacteriana debe estar sometida a una etapa verdaderamente anaeróbica en alguna etapa del proceso (Ausencia de 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,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 y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etapa anaerobia debe existir un sustrato orgánico fácilmente degradable, especialmente ácidos volátiles de cadena corta (ácidos acético y propiónico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96840" y="666360"/>
            <a:ext cx="5351400" cy="731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Mecanismo de Remoción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936800" y="2203560"/>
            <a:ext cx="901800" cy="596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16600" y="1860480"/>
            <a:ext cx="225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Facultative bacte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52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86440" y="184788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2139840"/>
            <a:ext cx="1511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cetate pl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27640" y="2114640"/>
            <a:ext cx="209556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21200" y="2495520"/>
            <a:ext cx="825480" cy="1652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368760" y="1670040"/>
            <a:ext cx="330120" cy="6984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107040" y="1370160"/>
            <a:ext cx="432720" cy="305280"/>
            <a:chOff x="6107040" y="1370160"/>
            <a:chExt cx="432720" cy="305280"/>
          </a:xfrm>
        </p:grpSpPr>
        <p:sp>
          <p:nvSpPr>
            <p:cNvPr id="389" name=""/>
            <p:cNvSpPr/>
            <p:nvPr/>
          </p:nvSpPr>
          <p:spPr>
            <a:xfrm>
              <a:off x="6107040" y="13701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41040" y="137016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632640" y="150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632640" y="1281240"/>
            <a:ext cx="205560" cy="182880"/>
            <a:chOff x="6632640" y="1281240"/>
            <a:chExt cx="205560" cy="182880"/>
          </a:xfrm>
        </p:grpSpPr>
        <p:sp>
          <p:nvSpPr>
            <p:cNvPr id="393" name=""/>
            <p:cNvSpPr/>
            <p:nvPr/>
          </p:nvSpPr>
          <p:spPr>
            <a:xfrm>
              <a:off x="6632640" y="12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7080" y="12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90760" y="2190600"/>
            <a:ext cx="1180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213520" y="2114640"/>
            <a:ext cx="27936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36760" y="1987560"/>
            <a:ext cx="54612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59520" y="1905120"/>
            <a:ext cx="2184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45472"/>
                </a:solidFill>
                <a:latin typeface="Arial"/>
              </a:rPr>
              <a:t>Acinetobacter spp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6280" y="3683160"/>
            <a:ext cx="8331120" cy="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927000" y="3206880"/>
            <a:ext cx="0" cy="45720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520" y="2965320"/>
            <a:ext cx="124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n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10240" y="2216160"/>
            <a:ext cx="1639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(Phosphor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remov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bacteria, slow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grow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39960" y="3714840"/>
            <a:ext cx="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4440" y="4133880"/>
            <a:ext cx="977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59640" y="25970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72240" y="25844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91080" y="4083120"/>
            <a:ext cx="209556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632200" y="3333600"/>
            <a:ext cx="749160" cy="71136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64720" y="5272200"/>
            <a:ext cx="430560" cy="366120"/>
            <a:chOff x="3564720" y="5272200"/>
            <a:chExt cx="430560" cy="366120"/>
          </a:xfrm>
        </p:grpSpPr>
        <p:sp>
          <p:nvSpPr>
            <p:cNvPr id="410" name=""/>
            <p:cNvSpPr/>
            <p:nvPr/>
          </p:nvSpPr>
          <p:spPr>
            <a:xfrm>
              <a:off x="3564720" y="52722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56960" y="52722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93480" y="54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93480" y="5162400"/>
            <a:ext cx="193320" cy="213480"/>
            <a:chOff x="3993480" y="5162400"/>
            <a:chExt cx="193320" cy="213480"/>
          </a:xfrm>
        </p:grpSpPr>
        <p:sp>
          <p:nvSpPr>
            <p:cNvPr id="414" name=""/>
            <p:cNvSpPr/>
            <p:nvPr/>
          </p:nvSpPr>
          <p:spPr>
            <a:xfrm>
              <a:off x="3993480" y="5162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26680" y="5162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H="1" flipV="1">
            <a:off x="4413240" y="3854160"/>
            <a:ext cx="698400" cy="6858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24600" y="44258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37200" y="44132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25920" y="432432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184280" y="4133880"/>
            <a:ext cx="469800" cy="1778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1440" y="4616280"/>
            <a:ext cx="0" cy="3430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91120" y="5029200"/>
            <a:ext cx="101592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930480" y="4819680"/>
            <a:ext cx="101628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57560" y="4603680"/>
            <a:ext cx="35568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520" y="476712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27800" y="476712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32280" y="476712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7640" y="4767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451680" y="4767120"/>
            <a:ext cx="309240" cy="344520"/>
            <a:chOff x="3451680" y="4767120"/>
            <a:chExt cx="309240" cy="344520"/>
          </a:xfrm>
        </p:grpSpPr>
        <p:sp>
          <p:nvSpPr>
            <p:cNvPr id="430" name=""/>
            <p:cNvSpPr/>
            <p:nvPr/>
          </p:nvSpPr>
          <p:spPr>
            <a:xfrm>
              <a:off x="3451680" y="476712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68760" y="4913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130880" y="5149800"/>
            <a:ext cx="1168560" cy="457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54920" y="5721480"/>
            <a:ext cx="158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New biomas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360" y="4832280"/>
            <a:ext cx="394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02360" y="5010120"/>
            <a:ext cx="241200" cy="62244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554440" y="5638680"/>
            <a:ext cx="599040" cy="375480"/>
            <a:chOff x="5554440" y="5638680"/>
            <a:chExt cx="599040" cy="375480"/>
          </a:xfrm>
        </p:grpSpPr>
        <p:grpSp>
          <p:nvGrpSpPr>
            <p:cNvPr id="437" name=""/>
            <p:cNvGrpSpPr/>
            <p:nvPr/>
          </p:nvGrpSpPr>
          <p:grpSpPr>
            <a:xfrm>
              <a:off x="5554440" y="5638680"/>
              <a:ext cx="456120" cy="366120"/>
              <a:chOff x="5554440" y="5638680"/>
              <a:chExt cx="456120" cy="36612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4440" y="563868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72240" y="563868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6053760" y="5800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202080" y="56037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399360" y="5603760"/>
            <a:ext cx="291960" cy="404280"/>
            <a:chOff x="6399360" y="5603760"/>
            <a:chExt cx="291960" cy="404280"/>
          </a:xfrm>
        </p:grpSpPr>
        <p:sp>
          <p:nvSpPr>
            <p:cNvPr id="443" name=""/>
            <p:cNvSpPr/>
            <p:nvPr/>
          </p:nvSpPr>
          <p:spPr>
            <a:xfrm>
              <a:off x="6399360" y="56037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70360" y="5748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697080" y="55627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98680" y="49593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24600" y="4946760"/>
            <a:ext cx="72360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81360" y="24321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7280" y="2419200"/>
            <a:ext cx="723600" cy="24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07440" cy="395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Biológica de Fósforo (BPR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663560" y="2095560"/>
            <a:ext cx="5689800" cy="952560"/>
          </a:xfrm>
          <a:prstGeom prst="rect">
            <a:avLst/>
          </a:prstGeom>
          <a:noFill/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9320" y="2577960"/>
            <a:ext cx="13971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11480" y="2101680"/>
            <a:ext cx="0" cy="95256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16080" y="2603520"/>
            <a:ext cx="43200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2280" y="2603520"/>
            <a:ext cx="102888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82680" y="1962000"/>
            <a:ext cx="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2480" y="1574640"/>
            <a:ext cx="1806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Return slud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1680" y="2641680"/>
            <a:ext cx="10738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Influen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57080" y="2641680"/>
            <a:ext cx="1337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n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86560" y="2654280"/>
            <a:ext cx="1037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17440" y="2666880"/>
            <a:ext cx="1392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o clarifi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63560" y="3378240"/>
            <a:ext cx="0" cy="246384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5854680"/>
            <a:ext cx="55753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3327480"/>
            <a:ext cx="0" cy="25020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89120" y="4266720"/>
            <a:ext cx="165240" cy="343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905120" y="4101840"/>
            <a:ext cx="114120" cy="2156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070000" y="3949200"/>
            <a:ext cx="127080" cy="203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47840" y="3809880"/>
            <a:ext cx="190440" cy="190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489040" y="3695760"/>
            <a:ext cx="241560" cy="164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781360" y="3645000"/>
            <a:ext cx="19044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22560" y="3619440"/>
            <a:ext cx="63720" cy="76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37040" y="3670200"/>
            <a:ext cx="139680" cy="330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27480" y="4051440"/>
            <a:ext cx="63360" cy="126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41600" y="4229280"/>
            <a:ext cx="177840" cy="2286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70200" y="4457880"/>
            <a:ext cx="222480" cy="177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36960" y="4686480"/>
            <a:ext cx="292320" cy="139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876920"/>
            <a:ext cx="368280" cy="114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60920" y="5041800"/>
            <a:ext cx="787320" cy="2541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99000" y="5346720"/>
            <a:ext cx="66060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10360" y="5499000"/>
            <a:ext cx="380880" cy="12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29400" y="5562720"/>
            <a:ext cx="622440" cy="25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89120" y="3505320"/>
            <a:ext cx="203040" cy="8254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43280" y="4381560"/>
            <a:ext cx="63360" cy="25380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4686480"/>
            <a:ext cx="190440" cy="2793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98600" y="5016600"/>
            <a:ext cx="406440" cy="19044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55800" y="5257800"/>
            <a:ext cx="444600" cy="889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51160" y="5397480"/>
            <a:ext cx="927000" cy="1396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29280" y="5587920"/>
            <a:ext cx="685800" cy="381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65840" y="5689440"/>
            <a:ext cx="92700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5727600"/>
            <a:ext cx="128268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240" y="4419720"/>
            <a:ext cx="80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Conc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23800" y="5867280"/>
            <a:ext cx="715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im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47200" y="4686480"/>
            <a:ext cx="1171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ol. BO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01520" y="4152960"/>
            <a:ext cx="2274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rthophosphoru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96" name="EBNPR" descr=""/>
          <p:cNvPicPr/>
          <p:nvPr/>
        </p:nvPicPr>
        <p:blipFill>
          <a:blip r:embed="rId2"/>
          <a:stretch/>
        </p:blipFill>
        <p:spPr>
          <a:xfrm>
            <a:off x="1792440" y="-20520"/>
            <a:ext cx="5559120" cy="68990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09480" y="120600"/>
            <a:ext cx="435240" cy="67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NITROGEN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001000" cy="783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Nutrientes (BNR)</a:t>
            </a:r>
            <a:br>
              <a:rPr sz="2400"/>
            </a:b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Comparación de Proces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5680" y="2209320"/>
            <a:ext cx="8712000" cy="2723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utrient removal   Sludge              Effluent       Process            Cost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apability       disposal  Chem. filtration  Oper.   Oper.       impac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        N          impact    req.     req.        flexib. reliability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hostrip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         M        Least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ardenph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ea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Oxidation ditch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 NA  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A2/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UC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emical treat.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H          H        Least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3218760" y="1600200"/>
            <a:ext cx="3085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(Daigger et al., 1986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3124080"/>
            <a:ext cx="86612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2209680"/>
            <a:ext cx="86360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105520"/>
            <a:ext cx="86551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2286000"/>
            <a:ext cx="0" cy="276228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915400" y="2286000"/>
            <a:ext cx="0" cy="27432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5334120"/>
            <a:ext cx="860580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Daigger, G.T., Smith, J.J., and Simpkin, T.J. (1986).  </a:t>
            </a:r>
            <a:r>
              <a:rPr b="0" i="1" lang="en-US" sz="1600" spc="-1" strike="noStrike">
                <a:solidFill>
                  <a:srgbClr val="545472"/>
                </a:solidFill>
                <a:latin typeface="Arial"/>
              </a:rPr>
              <a:t>Removal of Nutrients from Wastewater Using Biological Processes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, Presented at the 59th Annual Conference of the Central States Water Pollution Control Association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Remoción de Orgánicos Traza:</a:t>
            </a: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Procesos de Adsorció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8" name="adsorcion7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11" name="adsorptionvsabsorption2" descr="Adsorption versus Absorption"/>
          <p:cNvPicPr/>
          <p:nvPr/>
        </p:nvPicPr>
        <p:blipFill>
          <a:blip r:embed="rId2"/>
          <a:stretch/>
        </p:blipFill>
        <p:spPr>
          <a:xfrm>
            <a:off x="1371600" y="1027080"/>
            <a:ext cx="6172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0640" y="1195560"/>
            <a:ext cx="83703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EEUU </a:t>
            </a:r>
            <a:r>
              <a:rPr b="1" lang="es-ES_tradnl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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 Lista de Contaminantes Prioritarios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base d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recuencia de ocurrencia del compuesto en el agu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sponibilidad de estándares químicos para la cuantific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el compuest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asa de producción de la sustanci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tabilidad química de la sustanci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dsorción puede ocurrir en superficie variadas como óxidos de aluminio y fierro, sílice, arcillas y materiales sintéticos.  Adsorbente más común:  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cc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rea superficial de los poros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(500-1500 m</a:t>
            </a:r>
            <a:r>
              <a:rPr b="0" lang="es-ES_tradnl" sz="2000" spc="-1" strike="noStrike" baseline="30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/gr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Relación As/masa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Se fabrica a partir de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madera, aserrín, pepas de frutas, cáscara de coco, carbón o residuos de petróleo.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ctivación consiste en una carbonización seguida de aire o vapor caliente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temperatura de activación afecta la capacidad adsorbente del material.  En general una activación a 400ºC produce un carbón con buena capacidad de adsorción alcalina; la activación a 1000ºC genera un carbón con buena capacidad de adsorción ácida.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Usos del 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 potable: compuestos que causan olor, sabor y/o color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s servidas: compuestos orgánic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RILs: compuestos orgánicos tóxicos, solventes, productos farmacéuticos, etc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Generalmente se usa en forma granular, ya sea en en columnas de operación en batch o con flujo continuo, o en lechos fluidizados.  Ocasionalmente se usa en polvo, en operaciones donde no es recuperado para regeneración.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Capacidad de adsorción del carbón para un soluto determinado depende de las propiedades de ambo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l proceso de adsorción es dependiente del pH y la temperatura, así como de la concentración del compuesto a adsorber (adsorbato)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ntre las características del adsorbato interesa el peso molecular, solubilidad y polaridad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s posible adsorber algunos compuestos químicos inorgánicos.  En este caso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ltos valores de pH favorecen la adsorción de cat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, en tanto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bajos valores de pH favorecen la adsorción de an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2120" y="2139840"/>
            <a:ext cx="7543800" cy="3399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914400" y="3808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Compuestos Orgánicos Típicamente Removi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or Adsorción en Carbón Activ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541008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O`Brian et al. </a:t>
            </a: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“Removal of organic compounds from industrial wastewaters using granular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carbon column processes” (1983) EPA-600/8-83-011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Tipos de Carbón Activad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685800"/>
            <a:ext cx="7772400" cy="59436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19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4" name="smgranular" descr="Granular Activated Carbon"/>
          <p:cNvPicPr/>
          <p:nvPr/>
        </p:nvPicPr>
        <p:blipFill>
          <a:blip r:embed="rId2"/>
          <a:stretch/>
        </p:blipFill>
        <p:spPr>
          <a:xfrm>
            <a:off x="914400" y="685800"/>
            <a:ext cx="2819520" cy="19321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6" name="smpowder" descr="Powder Activated Carbon"/>
          <p:cNvPicPr/>
          <p:nvPr/>
        </p:nvPicPr>
        <p:blipFill>
          <a:blip r:embed="rId3"/>
          <a:stretch/>
        </p:blipFill>
        <p:spPr>
          <a:xfrm>
            <a:off x="914400" y="2666880"/>
            <a:ext cx="2819520" cy="1903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619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8" name="smpellets" descr="Pelleted Activated Carbon"/>
          <p:cNvPicPr/>
          <p:nvPr/>
        </p:nvPicPr>
        <p:blipFill>
          <a:blip r:embed="rId4"/>
          <a:stretch/>
        </p:blipFill>
        <p:spPr>
          <a:xfrm>
            <a:off x="914400" y="4648320"/>
            <a:ext cx="2819520" cy="1917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3182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08520" y="838080"/>
            <a:ext cx="447336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Granular (G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Partículas de forma irregular con tamaños entre 0,2-5 mm.  Aplicaciones en fase líquida y gaseosa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olvo (P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Carbón pulverizado con tamaño &lt; 0,18 mm (US Mesh 80).  Aplicaciones en fase líquida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ellets</a:t>
            </a: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Forma cilíndrica con diámetro entre 0,8-5 mm. Usado en aplicaciones en fase gaseosa debido a la baja pérdida de carga, alta resistencia mecánica y bajo contenido de polvo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2" name="~AUT000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4" name="AC%20reactivation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82240" cy="50990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33520" y="5700600"/>
            <a:ext cx="284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 Narrow"/>
              </a:rPr>
              <a:t>Reactivación del Carb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12960" y="24354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9" name="GAC%20oulu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900800" y="6019920"/>
            <a:ext cx="53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de Agua Potab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52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4" name="wwflowdiagram" descr="Waste Water Flow Diagram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6561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413000" y="609480"/>
            <a:ext cx="63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Residuos Industrial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54960" y="5532480"/>
            <a:ext cx="46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AC: Carbón Activado en Polv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GAC: Carbón Activado 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8000" y="365760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Gas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9" name="AC%201scrubbe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4572000" cy="2963880"/>
          </a:xfrm>
          <a:prstGeom prst="rect">
            <a:avLst/>
          </a:prstGeom>
          <a:ln w="0">
            <a:noFill/>
          </a:ln>
        </p:spPr>
      </p:pic>
      <p:pic>
        <p:nvPicPr>
          <p:cNvPr id="550" name="AC%20dbodour" descr=""/>
          <p:cNvPicPr/>
          <p:nvPr/>
        </p:nvPicPr>
        <p:blipFill>
          <a:blip r:embed="rId3"/>
          <a:stretch/>
        </p:blipFill>
        <p:spPr>
          <a:xfrm>
            <a:off x="4419720" y="3252960"/>
            <a:ext cx="4305240" cy="3020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508720" y="265896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Ol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84160"/>
            <a:ext cx="807732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ctualmente, la lista de contaminantes prioritarios incluye 126 compuestos entre los que se encuentran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Hidrocarburos Aromáticos Policíclicos (PAH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encen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Met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oxinas y furan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rsé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ifenilos Policlorados (PCB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Solventes Clor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luorur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 controla?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608120" y="449568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Compuestos Inorgánico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762120"/>
            <a:ext cx="80010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precipitación química es el proceso por el cual una sustancia soluble es convertida a una forma insoluble ya sea por una reacción química o por cambios en la composición del solvente.  Los sólidos precipitados pueden ser removidos por sedimentación y/o filtr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moción durante la precipitación química depende básicamente de la solubilidad teórica de la mayoría de las especies formadas, lo cual es función del pH, concentración, temperatura y otros; y de la separación de los sólidos desde la solución acuosa (sedimentación – filtración)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267080"/>
            <a:ext cx="822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el tratamiento de agua potable los metales pesados son generalmente precipitados como hidróxidos mediante la adición de cal (Ca(OH)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 o hidróxido de sodio (NaOH) para obtener el pH de solubilidad mínima; esto ocurre como coprecipitación durante el proceso de coagulación - floculación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838080"/>
            <a:ext cx="792504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os metales pesados también se pueden precipitar como sulfuros y en algunos casos como carbonatos.  La solubilidad de los sulfuros y carbonatos es menor que la de los hidróxidos y por lo tanto pueden lograrse menores concentraciones del metal en el efluente; adicionalmente, los sulfuros no presentan el comportamiento anfótero de los hidróxidos</a:t>
            </a: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838080"/>
            <a:ext cx="79250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1" name="solubilidad%20hidroxidos" descr=""/>
          <p:cNvPicPr/>
          <p:nvPr/>
        </p:nvPicPr>
        <p:blipFill>
          <a:blip r:embed="rId2"/>
          <a:stretch/>
        </p:blipFill>
        <p:spPr>
          <a:xfrm>
            <a:off x="0" y="533520"/>
            <a:ext cx="5002200" cy="5715000"/>
          </a:xfrm>
          <a:prstGeom prst="rect">
            <a:avLst/>
          </a:prstGeom>
          <a:ln w="0">
            <a:noFill/>
          </a:ln>
        </p:spPr>
      </p:pic>
      <p:pic>
        <p:nvPicPr>
          <p:cNvPr id="562" name="solubilidad%20sulfuros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4449960" cy="57909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05160" y="63244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Hidróxi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47320" y="63244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Sulfur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7" name="Sistem%20precipitación" descr=""/>
          <p:cNvPicPr/>
          <p:nvPr/>
        </p:nvPicPr>
        <p:blipFill>
          <a:blip r:embed="rId2"/>
          <a:stretch/>
        </p:blipFill>
        <p:spPr>
          <a:xfrm>
            <a:off x="1066680" y="1290600"/>
            <a:ext cx="7239240" cy="4415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833480" y="575640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Esquema de Precipitación Químic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Concentraciones posibles de obtener mediante 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286000" y="1676520"/>
            <a:ext cx="4647960" cy="4800240"/>
            <a:chOff x="2286000" y="1676520"/>
            <a:chExt cx="4647960" cy="4800240"/>
          </a:xfrm>
        </p:grpSpPr>
        <p:grpSp>
          <p:nvGrpSpPr>
            <p:cNvPr id="572" name=""/>
            <p:cNvGrpSpPr/>
            <p:nvPr/>
          </p:nvGrpSpPr>
          <p:grpSpPr>
            <a:xfrm>
              <a:off x="2291400" y="1683000"/>
              <a:ext cx="4635360" cy="4786200"/>
              <a:chOff x="2291400" y="1683000"/>
              <a:chExt cx="4635360" cy="47862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291400" y="1683000"/>
                <a:ext cx="2337120" cy="870120"/>
                <a:chOff x="2291400" y="1683000"/>
                <a:chExt cx="2337120" cy="8701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345400" y="1683000"/>
                  <a:ext cx="22280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91400" y="1683000"/>
                  <a:ext cx="233712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628880" y="1683000"/>
                <a:ext cx="2297880" cy="870120"/>
                <a:chOff x="4628880" y="1683000"/>
                <a:chExt cx="2297880" cy="8701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682880" y="1683000"/>
                  <a:ext cx="218916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ncentración, 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g/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628880" y="1683000"/>
                  <a:ext cx="22978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291400" y="2553480"/>
                <a:ext cx="2337120" cy="3915720"/>
                <a:chOff x="2291400" y="2553480"/>
                <a:chExt cx="2337120" cy="3915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345400" y="2553480"/>
                  <a:ext cx="222804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Arsénic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Ba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adm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r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bre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lúor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ierr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anganes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rcu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Níquel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ata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Selen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Zinc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1400" y="2553480"/>
                  <a:ext cx="233712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4628880" y="2553480"/>
                <a:ext cx="2297880" cy="3915720"/>
                <a:chOff x="4628880" y="2553480"/>
                <a:chExt cx="2297880" cy="39157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682880" y="2553480"/>
                  <a:ext cx="218916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 – 6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4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0 – 20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 – 1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1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5 – 2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628880" y="2553480"/>
                  <a:ext cx="229788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"/>
            <p:cNvSpPr/>
            <p:nvPr/>
          </p:nvSpPr>
          <p:spPr>
            <a:xfrm>
              <a:off x="2286000" y="1676520"/>
              <a:ext cx="4647960" cy="480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7200" y="838080"/>
            <a:ext cx="82296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INTERCAMBIO ION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acción química entre los iones en la fase líquida y los iones en la fase sólida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iertos iones en solución son capturados preferencialmente por el sólido de intercambio iónico, y dado que la electroneutralidad debe mantenerse, el sólido de intercambio libera iones de reemplazo a la solu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Usos más comunes: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-  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alin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amonia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metales pesa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-  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tratamiento residuos radiactiv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3276720"/>
            <a:ext cx="769608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762120" y="119232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1447920"/>
            <a:ext cx="6477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a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Mg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ólido de intercamb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saturada la resina, se debe regenerar con una solución salina saturada y posteriormente lavar 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0666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</a:t>
            </a:r>
            <a:endParaRPr b="0" lang="en-US" sz="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762120"/>
            <a:ext cx="800100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l agua pasa primero a través de una resina catiónica cargada con ion hidrógen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 Re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M Re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catiónica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nº de valenci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remov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osteriormente pasa a través de una resina aniónica cargada con ion hidroxil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z Re OH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Re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  +  z OH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aniónica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valenci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exhaustas, la resina catiónica se regenera con H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o HCl y la resina aniónica con NaOH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838080"/>
            <a:ext cx="868680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AT: Best Available Technology Economically Achiev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dio más apropiado para controlar la descarga directa de tóxicos y contaminantes no convencionales a cursos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ceptores.  Representa la tecnología que tiene mejor rendimiento a costos razonab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CT: Best Conventional Pollutant Control Technology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técnico para la descarga puntual de industrias en contaminantes convencionales (DBO, SST, Coliformes fecales, pH, aceites y grasas)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PT: Best Practicable Control Technology Currently Avail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Límites para los efluentes se basan generalmente en valores promedio de los mejores rendimientos de plantas existentes.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90720" y="1752480"/>
          <a:ext cx="73152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73152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" y="1295280"/>
            <a:ext cx="78487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acción del intercambio del sodio es la más común, la que se utiliza para la remoción de cationes desde el agua.  La reacción puede ser representada por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a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R   +    Mg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Mg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R    +     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 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cat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esina de intercambio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1066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" y="1219320"/>
            <a:ext cx="8153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de la resina de sodio es llevada a cabo con una solución concentrada de cloruro de sodio, de la siguiente forma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g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    +    2 Na Cl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Na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R    +    Mg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l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produce una solución concentrada que contiene todos los iones removidos.  Aunque los metales de preocupación están ahora presentes en la solución de salmuera, el volumen es menor a la situación original.  Dependiendo del elemento que se está removiendo, es necesario definir cuidadosamente las condiciones de eliminación de las salmueras utiliza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Para los intercambiadores catiónicos típicos (resinas de ácidos fuertes), la serie de preferencias para el intercambio de cationes es la siguiente (Clifford et al., 1986)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R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B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Pb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d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u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o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Z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M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U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A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s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K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H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L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En el caso de los intercambiadores aniónicos típicos, la serie de preferencias para los aniones es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H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B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H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HA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OH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1066680"/>
            <a:ext cx="800100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as resinas de intercambio iónico tienen un número limitado de sitios de intercambio disponibles; la concentración total en la fase sólida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se denomina “capacidad de intercambio iónico”.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ado que un intercambiador catiónico debe permanecer eléctricamente neutro durante la reacción, todos los sitios de intercambio deben ser ocupados por suficientes cationes para balancear la carga negativa d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.e. en un sistema que involucra 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y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la suma de concentración de estos iones en la fase sólida debe ser siempre igual a la capacidad de intercambio catiónico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 general la capacidad de intercambio se expresa en términos de miliequivalentes de soluto por 100 gramos de resina; valores comunes se encuentran entre 200 – 600 meq/100 gr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838080"/>
            <a:ext cx="80010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ones Posibles de obtener en e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Tratamiento mediante Intercambio 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    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ón, </a:t>
            </a:r>
            <a:r>
              <a:rPr b="1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g/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Bario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30 –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dmio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r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10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bre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anganes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rcuri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ata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Zinc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Lankford, P. &amp; Eckenfelder, W. (1990) Toxicity Reduction in Industrial Effluents. Van Nostrand Reinhold, NY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47760" y="4571640"/>
            <a:ext cx="5181480" cy="49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91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0066"/>
                </a:solidFill>
                <a:latin typeface="Comic Sans MS"/>
              </a:rPr>
              <a:t>Procesos de Membra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rocesos%20separacion" descr=""/>
          <p:cNvPicPr/>
          <p:nvPr/>
        </p:nvPicPr>
        <p:blipFill>
          <a:blip r:embed="rId2"/>
          <a:stretch/>
        </p:blipFill>
        <p:spPr>
          <a:xfrm>
            <a:off x="228600" y="47520"/>
            <a:ext cx="8763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0880" y="669960"/>
            <a:ext cx="845820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elícula delgada que separa dos fases y actúa como u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barrera selectiva al transporte de materia.  Su efectiv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pende de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naturaleza de los elementos a separar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 fuerza que se aplica sobre el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s características de la membra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rocesos de 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 aquel donde la corriente de alimentación se divide en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Flujo de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erme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conteniendo el material que ha pasado a través de la membrana y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rechaz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que contiene los elementos que no la atraviesan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procesos se pueden clasificar en función de la fuerz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romotora, mecanismo de separación, estructura d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 y fases de contacto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Operaciones%20membranas" descr=""/>
          <p:cNvPicPr/>
          <p:nvPr/>
        </p:nvPicPr>
        <p:blipFill>
          <a:blip r:embed="rId2"/>
          <a:stretch/>
        </p:blipFill>
        <p:spPr>
          <a:xfrm>
            <a:off x="0" y="84600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219320"/>
            <a:ext cx="754380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Qué pasa en Chile?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Al año 1997 se estimaba que existían 552.000 establecimientos de actividad económica, constituyendo la industria manufacturera un 7,4% del total nacional, es decir, cerca de 41.000 establecimientos industriales en el país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n la Región Metropolitana se concentra casi un 50% de la actividad industrial del paí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rocesos Productivos </a:t>
            </a:r>
            <a:r>
              <a:rPr b="0" lang="es-ES_tradnl" sz="20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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Aguas Residuales (RILes)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0880" y="1066680"/>
            <a:ext cx="83822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peraciones por Pres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fuerza actuante es una diferencia de presión a través de la membrana.  En esta categoría se encuentra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Micr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M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Ultra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U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Nan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N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Osmósis Inversa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RO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Micr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M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MF eliminan los contaminantes por un proceso de separación basado en la retención sobr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uperficie de la membrana.  El tamaño de poros de 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s está entre 0,05 – 5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bido al tamaño de los poros se utiliza principalmente para eliminación de partículas (turbiedad) y microorganismo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Opera bajo presiones en el rango 70 – 2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Ultra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U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UF son porosas y asimétricas, permiten sólo rechazo de solutos gruesos y todo tipo de microorganismos (virus y bacterias), los que son retenidos mediante exclusión por tamañ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rangos de tamaño relativo de poros van desde 0,003 – 0,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, abarcando rango molecular y parte de los rangos iónicos y macromolecula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50 a 5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0880" y="1066680"/>
            <a:ext cx="83822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Nan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N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transferencia de iones a través de la membrana está controlada por difusión.  Las membranas NF son capaces de rechazar contaminantes de tamaño 0,0007 a 0,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puede llevar a cabo la remoción de sales, dureza, patógenos, turbiedad, compuestos orgánicos sintéticos y pestici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0,5 – 1,5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smósis Inversa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RO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es capaz de rechazar contaminantes o partículas con diámetros tan pequeños como 0,00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e utiliza principalmente para desalinización de agua de mar, en la cual las concentraciones de SDT se encuentran en el rango 35 – 45 gr/l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presiones necesarias para el agua de mar están en el rango 5 a 8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8" name="Comparación3" descr=""/>
          <p:cNvPicPr/>
          <p:nvPr/>
        </p:nvPicPr>
        <p:blipFill>
          <a:blip r:embed="rId2"/>
          <a:stretch/>
        </p:blipFill>
        <p:spPr>
          <a:xfrm>
            <a:off x="380880" y="1308240"/>
            <a:ext cx="8534520" cy="48304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990840" y="63244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(Continúa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1" name="Comparación4" descr=""/>
          <p:cNvPicPr/>
          <p:nvPr/>
        </p:nvPicPr>
        <p:blipFill>
          <a:blip r:embed="rId2"/>
          <a:stretch/>
        </p:blipFill>
        <p:spPr>
          <a:xfrm>
            <a:off x="228600" y="1238400"/>
            <a:ext cx="891540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04920" y="838080"/>
            <a:ext cx="8458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onfiguraciones de Módulos de Membran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3" name="configuracion%20membranas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143000" y="990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5" name="4a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267440" cy="2732040"/>
          </a:xfrm>
          <a:prstGeom prst="rect">
            <a:avLst/>
          </a:prstGeom>
          <a:ln w="0">
            <a:noFill/>
          </a:ln>
        </p:spPr>
      </p:pic>
      <p:pic>
        <p:nvPicPr>
          <p:cNvPr id="626" name="4b" descr=""/>
          <p:cNvPicPr/>
          <p:nvPr/>
        </p:nvPicPr>
        <p:blipFill>
          <a:blip r:embed="rId3"/>
          <a:stretch/>
        </p:blipFill>
        <p:spPr>
          <a:xfrm>
            <a:off x="4343400" y="1596960"/>
            <a:ext cx="4648320" cy="4221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58920" y="46656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0880" y="5791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 Invers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Esquema%20retencion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9154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34340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contaminantes es necesario remover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28600" y="762120"/>
            <a:ext cx="8686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sión Osmótica (</a:t>
            </a:r>
            <a:r>
              <a:rPr b="1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Diferencia de presión a través de una membrana, necesaria para invertir el flujo desde una solución más concentrada a otra menos concentrada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8204,76*(T+273)*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presión osmótica, P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T = temperatura, °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= suma de la concentración molal (moles/Kg) de todos los constituyentes en la solución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˜ 75,8 KPa por cada 1000 mg/l de SD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sión Osmótica: Sal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440" y="1554120"/>
            <a:ext cx="6473880" cy="360"/>
            <a:chOff x="1440" y="1554120"/>
            <a:chExt cx="6473880" cy="360"/>
          </a:xfrm>
        </p:grpSpPr>
        <p:sp>
          <p:nvSpPr>
            <p:cNvPr id="633" name=""/>
            <p:cNvSpPr/>
            <p:nvPr/>
          </p:nvSpPr>
          <p:spPr>
            <a:xfrm>
              <a:off x="1440" y="155412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1440" y="1554120"/>
              <a:ext cx="6473880" cy="360"/>
              <a:chOff x="1440" y="1554120"/>
              <a:chExt cx="6473880" cy="36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1144440" y="1549440"/>
            <a:ext cx="6856200" cy="3759120"/>
            <a:chOff x="1144440" y="1549440"/>
            <a:chExt cx="6856200" cy="3759120"/>
          </a:xfrm>
        </p:grpSpPr>
        <p:grpSp>
          <p:nvGrpSpPr>
            <p:cNvPr id="638" name=""/>
            <p:cNvGrpSpPr/>
            <p:nvPr/>
          </p:nvGrpSpPr>
          <p:grpSpPr>
            <a:xfrm>
              <a:off x="1149120" y="1554120"/>
              <a:ext cx="6846840" cy="3749760"/>
              <a:chOff x="1149120" y="1554120"/>
              <a:chExt cx="6846840" cy="37497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1149120" y="1554120"/>
                <a:ext cx="2355840" cy="244440"/>
                <a:chOff x="1149120" y="1554120"/>
                <a:chExt cx="2355840" cy="244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ALTS: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3504960" y="1554120"/>
                <a:ext cx="2239920" cy="244440"/>
                <a:chOff x="3504960" y="1554120"/>
                <a:chExt cx="2239920" cy="2444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ncentra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744880" y="1554120"/>
                <a:ext cx="2251080" cy="244440"/>
                <a:chOff x="5744880" y="1554120"/>
                <a:chExt cx="2251080" cy="244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Osmotic Pressur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1149120" y="1798560"/>
                <a:ext cx="2355840" cy="914400"/>
                <a:chOff x="1149120" y="1798560"/>
                <a:chExt cx="2355840" cy="9144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Chloride, NaC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504960" y="1798560"/>
                <a:ext cx="2239920" cy="914400"/>
                <a:chOff x="3504960" y="1798560"/>
                <a:chExt cx="2239920" cy="9144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0.5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744880" y="1798560"/>
                <a:ext cx="2251080" cy="914400"/>
                <a:chOff x="5744880" y="1798560"/>
                <a:chExt cx="2251080" cy="9144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2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149120" y="2712960"/>
                <a:ext cx="2355840" cy="914400"/>
                <a:chOff x="1149120" y="2712960"/>
                <a:chExt cx="2355840" cy="9144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Sulfate, Na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0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3504960" y="2712960"/>
                <a:ext cx="2239920" cy="914400"/>
                <a:chOff x="3504960" y="2712960"/>
                <a:chExt cx="2239920" cy="9144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5744880" y="2712960"/>
                <a:ext cx="2251080" cy="914400"/>
                <a:chOff x="5744880" y="2712960"/>
                <a:chExt cx="2251080" cy="9144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4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6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1149120" y="3627360"/>
                <a:ext cx="2355840" cy="762120"/>
                <a:chOff x="1149120" y="3627360"/>
                <a:chExt cx="2355840" cy="7621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 Chloride, CaCl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504960" y="3627360"/>
                <a:ext cx="2239920" cy="762120"/>
                <a:chOff x="3504960" y="3627360"/>
                <a:chExt cx="2239920" cy="7621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744880" y="3627360"/>
                <a:ext cx="2251080" cy="762120"/>
                <a:chOff x="5744880" y="3627360"/>
                <a:chExt cx="2251080" cy="7621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1149120" y="4389480"/>
                <a:ext cx="2355840" cy="914400"/>
                <a:chOff x="1149120" y="4389480"/>
                <a:chExt cx="2355840" cy="9144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 Sulfate, CuSO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504960" y="4389480"/>
                <a:ext cx="2239920" cy="914400"/>
                <a:chOff x="3504960" y="4389480"/>
                <a:chExt cx="2239920" cy="9144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744880" y="4389480"/>
                <a:ext cx="2251080" cy="914400"/>
                <a:chOff x="5744880" y="4389480"/>
                <a:chExt cx="2251080" cy="9144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7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31 psi</a:t>
                  </a: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 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4" name=""/>
            <p:cNvSpPr/>
            <p:nvPr/>
          </p:nvSpPr>
          <p:spPr>
            <a:xfrm>
              <a:off x="1144440" y="1549440"/>
              <a:ext cx="6856200" cy="3759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687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689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1752480" y="1219320"/>
            <a:ext cx="5867280" cy="4866840"/>
            <a:chOff x="1752480" y="1219320"/>
            <a:chExt cx="5867280" cy="4866840"/>
          </a:xfrm>
        </p:grpSpPr>
        <p:grpSp>
          <p:nvGrpSpPr>
            <p:cNvPr id="692" name=""/>
            <p:cNvGrpSpPr/>
            <p:nvPr/>
          </p:nvGrpSpPr>
          <p:grpSpPr>
            <a:xfrm>
              <a:off x="1757160" y="1224000"/>
              <a:ext cx="5857200" cy="4856400"/>
              <a:chOff x="1757160" y="1224000"/>
              <a:chExt cx="5857200" cy="485640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757160" y="1224000"/>
                <a:ext cx="5857200" cy="251640"/>
                <a:chOff x="1757160" y="1224000"/>
                <a:chExt cx="5857200" cy="2516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TIONS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757160" y="1476000"/>
                <a:ext cx="907560" cy="566640"/>
                <a:chOff x="1757160" y="1476000"/>
                <a:chExt cx="907560" cy="5666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m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665080" y="1476000"/>
                <a:ext cx="1026720" cy="566640"/>
                <a:chOff x="2665080" y="1476000"/>
                <a:chExt cx="1026720" cy="5666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ymbo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692160" y="1476000"/>
                <a:ext cx="1593000" cy="566640"/>
                <a:chOff x="3692160" y="1476000"/>
                <a:chExt cx="1593000" cy="566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Rejec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85880" y="1476000"/>
                <a:ext cx="1164240" cy="566640"/>
                <a:chOff x="5285880" y="1476000"/>
                <a:chExt cx="1164240" cy="5666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Passage (Average)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450480" y="1476000"/>
                <a:ext cx="1163880" cy="566640"/>
                <a:chOff x="6450480" y="1476000"/>
                <a:chExt cx="1163880" cy="5666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ximum Concentration Percent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1757160" y="2043360"/>
                <a:ext cx="907560" cy="251640"/>
                <a:chOff x="1757160" y="2043360"/>
                <a:chExt cx="907560" cy="2516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665080" y="2043360"/>
                <a:ext cx="1026720" cy="251640"/>
                <a:chOff x="2665080" y="2043360"/>
                <a:chExt cx="1026720" cy="2516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3692160" y="2043360"/>
                <a:ext cx="1593000" cy="251640"/>
                <a:chOff x="3692160" y="2043360"/>
                <a:chExt cx="1593000" cy="2516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285880" y="2043360"/>
                <a:ext cx="1164240" cy="251640"/>
                <a:chOff x="5285880" y="2043360"/>
                <a:chExt cx="1164240" cy="2516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6450480" y="2043360"/>
                <a:ext cx="1163880" cy="251640"/>
                <a:chOff x="6450480" y="2043360"/>
                <a:chExt cx="1163880" cy="2516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757160" y="2295720"/>
                <a:ext cx="907560" cy="251640"/>
                <a:chOff x="1757160" y="2295720"/>
                <a:chExt cx="907560" cy="2516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2665080" y="2295720"/>
                <a:ext cx="1026720" cy="251640"/>
                <a:chOff x="2665080" y="2295720"/>
                <a:chExt cx="1026720" cy="251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692160" y="2295720"/>
                <a:ext cx="1593000" cy="251640"/>
                <a:chOff x="3692160" y="2295720"/>
                <a:chExt cx="1593000" cy="2516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5285880" y="2295720"/>
                <a:ext cx="1164240" cy="251640"/>
                <a:chOff x="5285880" y="2295720"/>
                <a:chExt cx="1164240" cy="2516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450480" y="2295720"/>
                <a:ext cx="1163880" cy="251640"/>
                <a:chOff x="6450480" y="2295720"/>
                <a:chExt cx="1163880" cy="2516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1757160" y="2548080"/>
                <a:ext cx="907560" cy="251640"/>
                <a:chOff x="1757160" y="2548080"/>
                <a:chExt cx="907560" cy="2516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gnesium</a:t>
                  </a:r>
                  <a:endParaRPr b="0" lang="en-US" sz="11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665080" y="2548080"/>
                <a:ext cx="1026720" cy="251640"/>
                <a:chOff x="2665080" y="2548080"/>
                <a:chExt cx="1026720" cy="2516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692160" y="2548080"/>
                <a:ext cx="1593000" cy="251640"/>
                <a:chOff x="3692160" y="2548080"/>
                <a:chExt cx="1593000" cy="2516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285880" y="2548080"/>
                <a:ext cx="1164240" cy="251640"/>
                <a:chOff x="5285880" y="2548080"/>
                <a:chExt cx="1164240" cy="2516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450480" y="2548080"/>
                <a:ext cx="1163880" cy="251640"/>
                <a:chOff x="6450480" y="2548080"/>
                <a:chExt cx="1163880" cy="2516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757160" y="2800080"/>
                <a:ext cx="907560" cy="251640"/>
                <a:chOff x="1757160" y="2800080"/>
                <a:chExt cx="907560" cy="251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tass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665080" y="2800080"/>
                <a:ext cx="1026720" cy="251640"/>
                <a:chOff x="2665080" y="2800080"/>
                <a:chExt cx="1026720" cy="2516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K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3692160" y="2800080"/>
                <a:ext cx="1593000" cy="251640"/>
                <a:chOff x="3692160" y="2800080"/>
                <a:chExt cx="1593000" cy="2516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285880" y="2800080"/>
                <a:ext cx="1164240" cy="251640"/>
                <a:chOff x="5285880" y="2800080"/>
                <a:chExt cx="1164240" cy="2516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6450480" y="2800080"/>
                <a:ext cx="1163880" cy="251640"/>
                <a:chOff x="6450480" y="2800080"/>
                <a:chExt cx="1163880" cy="2516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757160" y="3052440"/>
                <a:ext cx="907560" cy="251640"/>
                <a:chOff x="1757160" y="3052440"/>
                <a:chExt cx="907560" cy="2516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Iron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665080" y="3052440"/>
                <a:ext cx="1026720" cy="251640"/>
                <a:chOff x="2665080" y="3052440"/>
                <a:chExt cx="1026720" cy="2516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3692160" y="3052440"/>
                <a:ext cx="1593000" cy="251640"/>
                <a:chOff x="3692160" y="3052440"/>
                <a:chExt cx="1593000" cy="2516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285880" y="3052440"/>
                <a:ext cx="1164240" cy="251640"/>
                <a:chOff x="5285880" y="3052440"/>
                <a:chExt cx="1164240" cy="2516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450480" y="3052440"/>
                <a:ext cx="1163880" cy="251640"/>
                <a:chOff x="6450480" y="3052440"/>
                <a:chExt cx="1163880" cy="251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757160" y="3304800"/>
                <a:ext cx="907560" cy="251640"/>
                <a:chOff x="1757160" y="3304800"/>
                <a:chExt cx="907560" cy="2516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nganes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665080" y="3304800"/>
                <a:ext cx="1026720" cy="251640"/>
                <a:chOff x="2665080" y="3304800"/>
                <a:chExt cx="1026720" cy="2516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692160" y="3304800"/>
                <a:ext cx="1593000" cy="251640"/>
                <a:chOff x="3692160" y="3304800"/>
                <a:chExt cx="1593000" cy="251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5285880" y="3304800"/>
                <a:ext cx="1164240" cy="251640"/>
                <a:chOff x="5285880" y="3304800"/>
                <a:chExt cx="1164240" cy="2516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450480" y="3304800"/>
                <a:ext cx="1163880" cy="251640"/>
                <a:chOff x="6450480" y="3304800"/>
                <a:chExt cx="1163880" cy="2516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1757160" y="3557160"/>
                <a:ext cx="907560" cy="252000"/>
                <a:chOff x="1757160" y="3557160"/>
                <a:chExt cx="907560" cy="2520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umin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2665080" y="3557160"/>
                <a:ext cx="1026720" cy="252000"/>
                <a:chOff x="2665080" y="3557160"/>
                <a:chExt cx="1026720" cy="2520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+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3692160" y="3557160"/>
                <a:ext cx="1593000" cy="252000"/>
                <a:chOff x="3692160" y="3557160"/>
                <a:chExt cx="1593000" cy="252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5285880" y="3557160"/>
                <a:ext cx="1164240" cy="252000"/>
                <a:chOff x="5285880" y="3557160"/>
                <a:chExt cx="1164240" cy="2520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6450480" y="3557160"/>
                <a:ext cx="1163880" cy="252000"/>
                <a:chOff x="6450480" y="3557160"/>
                <a:chExt cx="1163880" cy="2520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1757160" y="3809880"/>
                <a:ext cx="907560" cy="251640"/>
                <a:chOff x="1757160" y="3809880"/>
                <a:chExt cx="907560" cy="2516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mmon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665080" y="3809880"/>
                <a:ext cx="1026720" cy="251640"/>
                <a:chOff x="2665080" y="3809880"/>
                <a:chExt cx="1026720" cy="2516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H4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3692160" y="3809880"/>
                <a:ext cx="1593000" cy="251640"/>
                <a:chOff x="3692160" y="3809880"/>
                <a:chExt cx="1593000" cy="2516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8-9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285880" y="3809880"/>
                <a:ext cx="1164240" cy="251640"/>
                <a:chOff x="5285880" y="3809880"/>
                <a:chExt cx="1164240" cy="2516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6450480" y="3809880"/>
                <a:ext cx="1163880" cy="251640"/>
                <a:chOff x="6450480" y="3809880"/>
                <a:chExt cx="1163880" cy="2516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1757160" y="4062240"/>
                <a:ext cx="907560" cy="251640"/>
                <a:chOff x="1757160" y="4062240"/>
                <a:chExt cx="907560" cy="2516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2665080" y="4062240"/>
                <a:ext cx="1026720" cy="251640"/>
                <a:chOff x="2665080" y="4062240"/>
                <a:chExt cx="1026720" cy="2516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u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692160" y="4062240"/>
                <a:ext cx="1593000" cy="251640"/>
                <a:chOff x="3692160" y="4062240"/>
                <a:chExt cx="1593000" cy="2516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5285880" y="4062240"/>
                <a:ext cx="1164240" cy="251640"/>
                <a:chOff x="5285880" y="4062240"/>
                <a:chExt cx="1164240" cy="2516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450480" y="4062240"/>
                <a:ext cx="1163880" cy="251640"/>
                <a:chOff x="6450480" y="4062240"/>
                <a:chExt cx="1163880" cy="2516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57160" y="4314600"/>
                <a:ext cx="907560" cy="251640"/>
                <a:chOff x="1757160" y="4314600"/>
                <a:chExt cx="907560" cy="2516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ckel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65080" y="4314600"/>
                <a:ext cx="1026720" cy="251640"/>
                <a:chOff x="2665080" y="4314600"/>
                <a:chExt cx="1026720" cy="2516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3692160" y="4314600"/>
                <a:ext cx="1593000" cy="251640"/>
                <a:chOff x="3692160" y="4314600"/>
                <a:chExt cx="1593000" cy="2516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285880" y="4314600"/>
                <a:ext cx="1164240" cy="251640"/>
                <a:chOff x="5285880" y="4314600"/>
                <a:chExt cx="1164240" cy="2516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450480" y="4314600"/>
                <a:ext cx="1163880" cy="251640"/>
                <a:chOff x="6450480" y="4314600"/>
                <a:chExt cx="1163880" cy="2516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1757160" y="4566960"/>
                <a:ext cx="907560" cy="251640"/>
                <a:chOff x="1757160" y="4566960"/>
                <a:chExt cx="907560" cy="2516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inc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665080" y="4566960"/>
                <a:ext cx="1026720" cy="251640"/>
                <a:chOff x="2665080" y="4566960"/>
                <a:chExt cx="1026720" cy="25164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3692160" y="4566960"/>
                <a:ext cx="1593000" cy="251640"/>
                <a:chOff x="3692160" y="4566960"/>
                <a:chExt cx="1593000" cy="2516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5285880" y="4566960"/>
                <a:ext cx="1164240" cy="251640"/>
                <a:chOff x="5285880" y="4566960"/>
                <a:chExt cx="1164240" cy="25164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6450480" y="4566960"/>
                <a:ext cx="1163880" cy="251640"/>
                <a:chOff x="6450480" y="4566960"/>
                <a:chExt cx="1163880" cy="2516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1757160" y="4819320"/>
                <a:ext cx="907560" cy="251640"/>
                <a:chOff x="1757160" y="4819320"/>
                <a:chExt cx="907560" cy="2516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tront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2665080" y="4819320"/>
                <a:ext cx="1026720" cy="251640"/>
                <a:chOff x="2665080" y="4819320"/>
                <a:chExt cx="1026720" cy="251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r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3692160" y="4819320"/>
                <a:ext cx="1593000" cy="251640"/>
                <a:chOff x="3692160" y="4819320"/>
                <a:chExt cx="1593000" cy="2516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5285880" y="4819320"/>
                <a:ext cx="1164240" cy="251640"/>
                <a:chOff x="5285880" y="4819320"/>
                <a:chExt cx="1164240" cy="2516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6450480" y="4819320"/>
                <a:ext cx="1163880" cy="251640"/>
                <a:chOff x="6450480" y="4819320"/>
                <a:chExt cx="1163880" cy="2516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1757160" y="5071680"/>
                <a:ext cx="907560" cy="251640"/>
                <a:chOff x="1757160" y="5071680"/>
                <a:chExt cx="907560" cy="25164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ardnes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2665080" y="5071680"/>
                <a:ext cx="1026720" cy="251640"/>
                <a:chOff x="2665080" y="5071680"/>
                <a:chExt cx="1026720" cy="2516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 and Mg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3692160" y="5071680"/>
                <a:ext cx="1593000" cy="251640"/>
                <a:chOff x="3692160" y="5071680"/>
                <a:chExt cx="1593000" cy="2516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5285880" y="5071680"/>
                <a:ext cx="1164240" cy="251640"/>
                <a:chOff x="5285880" y="5071680"/>
                <a:chExt cx="1164240" cy="2516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6450480" y="5071680"/>
                <a:ext cx="1163880" cy="251640"/>
                <a:chOff x="6450480" y="5071680"/>
                <a:chExt cx="1163880" cy="2516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1757160" y="5324040"/>
                <a:ext cx="907560" cy="251640"/>
                <a:chOff x="1757160" y="5324040"/>
                <a:chExt cx="907560" cy="2516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dm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665080" y="5324040"/>
                <a:ext cx="1026720" cy="251640"/>
                <a:chOff x="2665080" y="5324040"/>
                <a:chExt cx="1026720" cy="2516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d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3692160" y="5324040"/>
                <a:ext cx="1593000" cy="251640"/>
                <a:chOff x="3692160" y="5324040"/>
                <a:chExt cx="1593000" cy="251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5285880" y="5324040"/>
                <a:ext cx="1164240" cy="251640"/>
                <a:chOff x="5285880" y="5324040"/>
                <a:chExt cx="1164240" cy="2516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6450480" y="5324040"/>
                <a:ext cx="1163880" cy="251640"/>
                <a:chOff x="6450480" y="5324040"/>
                <a:chExt cx="1163880" cy="2516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1757160" y="5576400"/>
                <a:ext cx="907560" cy="251640"/>
                <a:chOff x="1757160" y="5576400"/>
                <a:chExt cx="907560" cy="251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v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2665080" y="5576400"/>
                <a:ext cx="1026720" cy="251640"/>
                <a:chOff x="2665080" y="5576400"/>
                <a:chExt cx="1026720" cy="2516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g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3692160" y="5576400"/>
                <a:ext cx="1593000" cy="251640"/>
                <a:chOff x="3692160" y="5576400"/>
                <a:chExt cx="1593000" cy="2516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5285880" y="5576400"/>
                <a:ext cx="1164240" cy="251640"/>
                <a:chOff x="5285880" y="5576400"/>
                <a:chExt cx="1164240" cy="2516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6450480" y="5576400"/>
                <a:ext cx="1163880" cy="251640"/>
                <a:chOff x="6450480" y="5576400"/>
                <a:chExt cx="1163880" cy="251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1757160" y="5828760"/>
                <a:ext cx="907560" cy="251640"/>
                <a:chOff x="1757160" y="5828760"/>
                <a:chExt cx="907560" cy="2516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ercury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2665080" y="5828760"/>
                <a:ext cx="1026720" cy="251640"/>
                <a:chOff x="2665080" y="5828760"/>
                <a:chExt cx="1026720" cy="2516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692160" y="5828760"/>
                <a:ext cx="1593000" cy="251640"/>
                <a:chOff x="3692160" y="5828760"/>
                <a:chExt cx="1593000" cy="2516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285880" y="5828760"/>
                <a:ext cx="1164240" cy="251640"/>
                <a:chOff x="5285880" y="5828760"/>
                <a:chExt cx="1164240" cy="2516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6450480" y="5828760"/>
                <a:ext cx="1163880" cy="251640"/>
                <a:chOff x="6450480" y="5828760"/>
                <a:chExt cx="1163880" cy="2516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1752480" y="1219320"/>
              <a:ext cx="5867280" cy="4866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954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956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1440" y="1519200"/>
            <a:ext cx="6473880" cy="360"/>
            <a:chOff x="1440" y="1519200"/>
            <a:chExt cx="6473880" cy="360"/>
          </a:xfrm>
        </p:grpSpPr>
        <p:sp>
          <p:nvSpPr>
            <p:cNvPr id="959" name=""/>
            <p:cNvSpPr/>
            <p:nvPr/>
          </p:nvSpPr>
          <p:spPr>
            <a:xfrm>
              <a:off x="1440" y="15192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440" y="1519200"/>
              <a:ext cx="6473880" cy="360"/>
              <a:chOff x="1440" y="1519200"/>
              <a:chExt cx="6473880" cy="360"/>
            </a:xfrm>
          </p:grpSpPr>
          <p:sp>
            <p:nvSpPr>
              <p:cNvPr id="961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1523880" y="1295280"/>
            <a:ext cx="6324480" cy="4114440"/>
            <a:chOff x="1523880" y="1295280"/>
            <a:chExt cx="6324480" cy="4114440"/>
          </a:xfrm>
        </p:grpSpPr>
        <p:grpSp>
          <p:nvGrpSpPr>
            <p:cNvPr id="964" name=""/>
            <p:cNvGrpSpPr/>
            <p:nvPr/>
          </p:nvGrpSpPr>
          <p:grpSpPr>
            <a:xfrm>
              <a:off x="1528920" y="1299960"/>
              <a:ext cx="6313680" cy="4103640"/>
              <a:chOff x="1528920" y="1299960"/>
              <a:chExt cx="6313680" cy="410364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528920" y="1299960"/>
                <a:ext cx="6313680" cy="262080"/>
                <a:chOff x="1528920" y="1299960"/>
                <a:chExt cx="6313680" cy="2620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NION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528920" y="1562400"/>
                <a:ext cx="978120" cy="262080"/>
                <a:chOff x="1528920" y="1562400"/>
                <a:chExt cx="978120" cy="2620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l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507400" y="1562400"/>
                <a:ext cx="1106640" cy="262080"/>
                <a:chOff x="2507400" y="1562400"/>
                <a:chExt cx="1106640" cy="26208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l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14760" y="1562400"/>
                <a:ext cx="1717200" cy="262080"/>
                <a:chOff x="3614760" y="1562400"/>
                <a:chExt cx="1717200" cy="2620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5332680" y="1562400"/>
                <a:ext cx="1254960" cy="262080"/>
                <a:chOff x="5332680" y="1562400"/>
                <a:chExt cx="1254960" cy="2620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588000" y="1562400"/>
                <a:ext cx="1254600" cy="262080"/>
                <a:chOff x="6588000" y="1562400"/>
                <a:chExt cx="1254600" cy="2620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1528920" y="1825200"/>
                <a:ext cx="978120" cy="262080"/>
                <a:chOff x="1528920" y="1825200"/>
                <a:chExt cx="978120" cy="2620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icarbon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2507400" y="1825200"/>
                <a:ext cx="1106640" cy="262080"/>
                <a:chOff x="2507400" y="1825200"/>
                <a:chExt cx="1106640" cy="2620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C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614760" y="1825200"/>
                <a:ext cx="1717200" cy="262080"/>
                <a:chOff x="3614760" y="1825200"/>
                <a:chExt cx="1717200" cy="2620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332680" y="1825200"/>
                <a:ext cx="1254960" cy="262080"/>
                <a:chOff x="5332680" y="1825200"/>
                <a:chExt cx="1254960" cy="2620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88000" y="1825200"/>
                <a:ext cx="1254600" cy="262080"/>
                <a:chOff x="6588000" y="1825200"/>
                <a:chExt cx="1254600" cy="2620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1528920" y="2087640"/>
                <a:ext cx="978120" cy="262080"/>
                <a:chOff x="1528920" y="2087640"/>
                <a:chExt cx="978120" cy="2620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2507400" y="2087640"/>
                <a:ext cx="1106640" cy="262080"/>
                <a:chOff x="2507400" y="2087640"/>
                <a:chExt cx="1106640" cy="2620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3614760" y="2087640"/>
                <a:ext cx="1717200" cy="262080"/>
                <a:chOff x="3614760" y="2087640"/>
                <a:chExt cx="1717200" cy="2620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5332680" y="2087640"/>
                <a:ext cx="1254960" cy="262080"/>
                <a:chOff x="5332680" y="2087640"/>
                <a:chExt cx="1254960" cy="2620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588000" y="2087640"/>
                <a:ext cx="1254600" cy="262080"/>
                <a:chOff x="6588000" y="2087640"/>
                <a:chExt cx="1254600" cy="2620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1528920" y="2350440"/>
                <a:ext cx="978120" cy="262080"/>
                <a:chOff x="1528920" y="2350440"/>
                <a:chExt cx="978120" cy="2620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t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2507400" y="2350440"/>
                <a:ext cx="1106640" cy="262080"/>
                <a:chOff x="2507400" y="2350440"/>
                <a:chExt cx="1106640" cy="26208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3614760" y="2350440"/>
                <a:ext cx="1717200" cy="262080"/>
                <a:chOff x="3614760" y="2350440"/>
                <a:chExt cx="1717200" cy="262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3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5332680" y="2350440"/>
                <a:ext cx="1254960" cy="262080"/>
                <a:chOff x="5332680" y="2350440"/>
                <a:chExt cx="1254960" cy="2620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6588000" y="2350440"/>
                <a:ext cx="1254600" cy="262080"/>
                <a:chOff x="6588000" y="2350440"/>
                <a:chExt cx="1254600" cy="2620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1528920" y="2613240"/>
                <a:ext cx="978120" cy="262440"/>
                <a:chOff x="1528920" y="2613240"/>
                <a:chExt cx="978120" cy="262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lu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2507400" y="2613240"/>
                <a:ext cx="1106640" cy="262440"/>
                <a:chOff x="2507400" y="2613240"/>
                <a:chExt cx="1106640" cy="26244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614760" y="2613240"/>
                <a:ext cx="1717200" cy="262440"/>
                <a:chOff x="3614760" y="2613240"/>
                <a:chExt cx="1717200" cy="2624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332680" y="2613240"/>
                <a:ext cx="1254960" cy="262440"/>
                <a:chOff x="5332680" y="2613240"/>
                <a:chExt cx="1254960" cy="262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6588000" y="2613240"/>
                <a:ext cx="1254600" cy="262440"/>
                <a:chOff x="6588000" y="2613240"/>
                <a:chExt cx="1254600" cy="2624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1528920" y="2876040"/>
                <a:ext cx="978120" cy="262080"/>
                <a:chOff x="1528920" y="2876040"/>
                <a:chExt cx="978120" cy="26208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ic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2507400" y="2876040"/>
                <a:ext cx="1106640" cy="262080"/>
                <a:chOff x="2507400" y="2876040"/>
                <a:chExt cx="1106640" cy="26208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O2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3614760" y="2876040"/>
                <a:ext cx="1717200" cy="262080"/>
                <a:chOff x="3614760" y="2876040"/>
                <a:chExt cx="1717200" cy="26208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5332680" y="2876040"/>
                <a:ext cx="1254960" cy="262080"/>
                <a:chOff x="5332680" y="2876040"/>
                <a:chExt cx="1254960" cy="26208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6588000" y="2876040"/>
                <a:ext cx="1254600" cy="262080"/>
                <a:chOff x="6588000" y="2876040"/>
                <a:chExt cx="1254600" cy="26208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528920" y="3138840"/>
                <a:ext cx="978120" cy="262080"/>
                <a:chOff x="1528920" y="3138840"/>
                <a:chExt cx="978120" cy="2620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hosph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2507400" y="3138840"/>
                <a:ext cx="1106640" cy="262080"/>
                <a:chOff x="2507400" y="3138840"/>
                <a:chExt cx="1106640" cy="2620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4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614760" y="3138840"/>
                <a:ext cx="1717200" cy="262080"/>
                <a:chOff x="3614760" y="3138840"/>
                <a:chExt cx="1717200" cy="2620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5332680" y="3138840"/>
                <a:ext cx="1254960" cy="262080"/>
                <a:chOff x="5332680" y="3138840"/>
                <a:chExt cx="1254960" cy="2620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6588000" y="3138840"/>
                <a:ext cx="1254600" cy="262080"/>
                <a:chOff x="6588000" y="3138840"/>
                <a:chExt cx="1254600" cy="26208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1528920" y="3401640"/>
                <a:ext cx="978120" cy="262080"/>
                <a:chOff x="1528920" y="3401640"/>
                <a:chExt cx="978120" cy="26208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om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2507400" y="3401640"/>
                <a:ext cx="1106640" cy="262080"/>
                <a:chOff x="2507400" y="3401640"/>
                <a:chExt cx="1106640" cy="26208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614760" y="3401640"/>
                <a:ext cx="1717200" cy="262080"/>
                <a:chOff x="3614760" y="3401640"/>
                <a:chExt cx="1717200" cy="2620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5332680" y="3401640"/>
                <a:ext cx="1254960" cy="262080"/>
                <a:chOff x="5332680" y="3401640"/>
                <a:chExt cx="1254960" cy="26208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6588000" y="3401640"/>
                <a:ext cx="1254600" cy="262080"/>
                <a:chOff x="6588000" y="3401640"/>
                <a:chExt cx="1254600" cy="26208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1528920" y="3664080"/>
                <a:ext cx="978120" cy="262080"/>
                <a:chOff x="1528920" y="3664080"/>
                <a:chExt cx="978120" cy="2620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o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2507400" y="3664080"/>
                <a:ext cx="1106640" cy="262080"/>
                <a:chOff x="2507400" y="3664080"/>
                <a:chExt cx="1106640" cy="26208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4O7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614760" y="3664080"/>
                <a:ext cx="1717200" cy="262080"/>
                <a:chOff x="3614760" y="3664080"/>
                <a:chExt cx="1717200" cy="26208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5-70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5332680" y="3664080"/>
                <a:ext cx="1254960" cy="262080"/>
                <a:chOff x="5332680" y="3664080"/>
                <a:chExt cx="1254960" cy="26208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6588000" y="3664080"/>
                <a:ext cx="1254600" cy="262080"/>
                <a:chOff x="6588000" y="3664080"/>
                <a:chExt cx="1254600" cy="26208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1528920" y="3926880"/>
                <a:ext cx="978120" cy="262080"/>
                <a:chOff x="1528920" y="3926880"/>
                <a:chExt cx="978120" cy="26208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rom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507400" y="3926880"/>
                <a:ext cx="1106640" cy="262080"/>
                <a:chOff x="2507400" y="3926880"/>
                <a:chExt cx="1106640" cy="26208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r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614760" y="3926880"/>
                <a:ext cx="1717200" cy="262080"/>
                <a:chOff x="3614760" y="3926880"/>
                <a:chExt cx="1717200" cy="26208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332680" y="3926880"/>
                <a:ext cx="1254960" cy="262080"/>
                <a:chOff x="5332680" y="3926880"/>
                <a:chExt cx="1254960" cy="2620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588000" y="3926880"/>
                <a:ext cx="1254600" cy="262080"/>
                <a:chOff x="6588000" y="3926880"/>
                <a:chExt cx="1254600" cy="2620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528920" y="4189320"/>
                <a:ext cx="978120" cy="262080"/>
                <a:chOff x="1528920" y="4189320"/>
                <a:chExt cx="978120" cy="26208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507400" y="4189320"/>
                <a:ext cx="1106640" cy="262080"/>
                <a:chOff x="2507400" y="4189320"/>
                <a:chExt cx="1106640" cy="2620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N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3614760" y="4189320"/>
                <a:ext cx="1717200" cy="262080"/>
                <a:chOff x="3614760" y="4189320"/>
                <a:chExt cx="1717200" cy="26208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5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5332680" y="4189320"/>
                <a:ext cx="1254960" cy="262080"/>
                <a:chOff x="5332680" y="4189320"/>
                <a:chExt cx="1254960" cy="262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6588000" y="4189320"/>
                <a:ext cx="1254600" cy="262080"/>
                <a:chOff x="6588000" y="4189320"/>
                <a:chExt cx="1254600" cy="2620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528920" y="4452120"/>
                <a:ext cx="978120" cy="262080"/>
                <a:chOff x="1528920" y="4452120"/>
                <a:chExt cx="978120" cy="2620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i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2507400" y="4452120"/>
                <a:ext cx="1106640" cy="262080"/>
                <a:chOff x="2507400" y="4452120"/>
                <a:chExt cx="1106640" cy="2620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614760" y="4452120"/>
                <a:ext cx="1717200" cy="262080"/>
                <a:chOff x="3614760" y="4452120"/>
                <a:chExt cx="1717200" cy="2620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5332680" y="4452120"/>
                <a:ext cx="1254960" cy="262080"/>
                <a:chOff x="5332680" y="4452120"/>
                <a:chExt cx="1254960" cy="2620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588000" y="4452120"/>
                <a:ext cx="1254600" cy="262080"/>
                <a:chOff x="6588000" y="4452120"/>
                <a:chExt cx="1254600" cy="2620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8920" y="4714920"/>
                <a:ext cx="978120" cy="262080"/>
                <a:chOff x="1528920" y="4714920"/>
                <a:chExt cx="978120" cy="2620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Thio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507400" y="4714920"/>
                <a:ext cx="1106640" cy="262080"/>
                <a:chOff x="2507400" y="4714920"/>
                <a:chExt cx="1106640" cy="2620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2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614760" y="4714920"/>
                <a:ext cx="1717200" cy="262080"/>
                <a:chOff x="3614760" y="4714920"/>
                <a:chExt cx="1717200" cy="2620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332680" y="4714920"/>
                <a:ext cx="1254960" cy="262080"/>
                <a:chOff x="5332680" y="4714920"/>
                <a:chExt cx="1254960" cy="2620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6588000" y="4714920"/>
                <a:ext cx="1254600" cy="262080"/>
                <a:chOff x="6588000" y="4714920"/>
                <a:chExt cx="1254600" cy="2620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1528920" y="4977360"/>
                <a:ext cx="978120" cy="426240"/>
                <a:chOff x="1528920" y="4977360"/>
                <a:chExt cx="978120" cy="42624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rro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507400" y="4977360"/>
                <a:ext cx="1106640" cy="426240"/>
                <a:chOff x="2507400" y="4977360"/>
                <a:chExt cx="1106640" cy="42624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(CN)6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14760" y="4977360"/>
                <a:ext cx="1717200" cy="426240"/>
                <a:chOff x="3614760" y="4977360"/>
                <a:chExt cx="1717200" cy="42624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332680" y="4977360"/>
                <a:ext cx="1254960" cy="426240"/>
                <a:chOff x="5332680" y="4977360"/>
                <a:chExt cx="1254960" cy="4262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588000" y="4977360"/>
                <a:ext cx="1254600" cy="426240"/>
                <a:chOff x="6588000" y="4977360"/>
                <a:chExt cx="1254600" cy="42624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1523880" y="1295280"/>
              <a:ext cx="6324480" cy="4114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1523880" y="5486400"/>
            <a:ext cx="6400440" cy="685800"/>
            <a:chOff x="1523880" y="5486400"/>
            <a:chExt cx="6400440" cy="685800"/>
          </a:xfrm>
        </p:grpSpPr>
        <p:sp>
          <p:nvSpPr>
            <p:cNvPr id="1180" name=""/>
            <p:cNvSpPr/>
            <p:nvPr/>
          </p:nvSpPr>
          <p:spPr>
            <a:xfrm>
              <a:off x="1523880" y="5486400"/>
              <a:ext cx="6400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3880" y="5486400"/>
              <a:ext cx="64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Must watch for precipitation, other ion controls maximum concentration.</a:t>
              </a:r>
              <a:br>
                <a:rPr sz="1200"/>
              </a:b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*Extremely dependent on pH; tends to be an exception to the rule.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3" name="Membrana%20espiral%20esq" descr=""/>
          <p:cNvPicPr/>
          <p:nvPr/>
        </p:nvPicPr>
        <p:blipFill>
          <a:blip r:embed="rId2"/>
          <a:stretch/>
        </p:blipFill>
        <p:spPr>
          <a:xfrm>
            <a:off x="228600" y="1389240"/>
            <a:ext cx="89154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membrana%20espiral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3465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6" name="Membrana%20hollow%20fiber%20esq" descr=""/>
          <p:cNvPicPr/>
          <p:nvPr/>
        </p:nvPicPr>
        <p:blipFill>
          <a:blip r:embed="rId2"/>
          <a:stretch/>
        </p:blipFill>
        <p:spPr>
          <a:xfrm>
            <a:off x="990720" y="1317600"/>
            <a:ext cx="74674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685800" y="76212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tapa fundamental para controlar el ensuciamiento de las membran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8" name="Pretratamiento%20membranas" descr=""/>
          <p:cNvPicPr/>
          <p:nvPr/>
        </p:nvPicPr>
        <p:blipFill>
          <a:blip r:embed="rId2"/>
          <a:stretch/>
        </p:blipFill>
        <p:spPr>
          <a:xfrm>
            <a:off x="838080" y="1909800"/>
            <a:ext cx="746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762120"/>
            <a:ext cx="81532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Pretratamiento incluye desinfección, coagulación, acidificación, filtración, decloración, control sales poco solubles y microfiltra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sinfec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Hipoclorito de sodi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Clarifica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Técnicas convencionales de filtración.  Cada fabricante especifica el máximo nivel de turbiedad o IDS (índice de ensuciamiento de membranas)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cloración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: Necesario en el caso de membranas de poliamida que no admiten cloro ni ningún oxidante.  Se utiliza bisulfito sódico o filtros de carbón activad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57834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Comic Sans MS"/>
              </a:rPr>
              <a:t>Esquema Normativo Eflue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19:59:01Z</dcterms:created>
  <dc:creator>mpm</dc:creator>
  <dc:description/>
  <dc:language>en-US</dc:language>
  <cp:lastModifiedBy>Dii</cp:lastModifiedBy>
  <dcterms:modified xsi:type="dcterms:W3CDTF">2004-08-13T21:41:06Z</dcterms:modified>
  <cp:revision>23</cp:revision>
  <dc:subject/>
  <dc:title>Presentación de PowerPoint</dc:title>
</cp:coreProperties>
</file>