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26.jpeg" ContentType="image/jpeg"/>
  <Override PartName="/ppt/media/image17.png" ContentType="image/png"/>
  <Override PartName="/ppt/media/image32.jpeg" ContentType="image/jpeg"/>
  <Override PartName="/ppt/media/image29.jpeg" ContentType="image/jpeg"/>
  <Override PartName="/ppt/media/image43.jpeg" ContentType="image/jpeg"/>
  <Override PartName="/ppt/media/image5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40.jpeg" ContentType="image/jpeg"/>
  <Override PartName="/ppt/media/image31.wmf" ContentType="image/x-wmf"/>
  <Override PartName="/ppt/media/image12.wmf" ContentType="image/x-wmf"/>
  <Override PartName="/ppt/media/image4.png" ContentType="image/png"/>
  <Override PartName="/ppt/media/image30.jpeg" ContentType="image/jpeg"/>
  <Override PartName="/ppt/media/image7.wmf" ContentType="image/x-wmf"/>
  <Override PartName="/ppt/media/image6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10.jpeg" ContentType="image/jpeg"/>
  <Override PartName="/ppt/media/image14.png" ContentType="image/png"/>
  <Override PartName="/ppt/media/image35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89A-7233-4FAF-8A32-E527031C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C1D4-A2E6-4EE4-8E9D-BB3A9227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15B-EF2E-4A28-80AC-D4446C5E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57C-FF25-43AD-898F-5F6938B5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F103-3CF8-40C5-8D0B-52171782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EC6A-8748-4B0C-B339-536836C1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3786-E81A-496F-BA04-31AA7A4F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CFD9-7D92-405E-BC5A-E09BAE8E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C2E9-55EA-4F07-81D8-C6D2289B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9DAA-AE86-4B5C-AD0C-15F88B9E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D9D3-C620-44C1-A5E0-65CAA2C7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275-5BB3-4E4B-A99B-C6230700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E565-77AE-429F-8B2A-D9E7CE0F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177B-2D2A-46A3-9607-DDD5C2A0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FB4B-67BF-4C31-9096-DE301B70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3DA5-0737-4114-BB38-9AA0468E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17AF-7811-4998-8595-F446864A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8AC-2776-4112-8AF0-E3948098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A93-E7E1-4839-AA72-8AAF7C83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A30-ABF2-4185-A2DB-3A159725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52F-CDA6-4E71-9428-BA773D20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57B-162F-44DA-9BA9-A0D4619B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066-A7EC-4729-BB2C-5F24CB76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E48-C07C-4F8E-9D49-43337377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AE4D-E60E-4384-AE3D-BE525EEE4B58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2DC0-85AE-466D-8595-4F987C73A80B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133720"/>
            <a:ext cx="777240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PROCESOS AVANZADOS DE TRATAMIENTO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 DE AGUA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María Pía Mena P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440" y="837720"/>
            <a:ext cx="6248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NORMAS DE EMISIÓ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828800"/>
            <a:ext cx="79246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DS 609 (1998)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9797b7"/>
                </a:solidFill>
                <a:latin typeface="Comic Sans MS"/>
              </a:rPr>
              <a:t>Regulación de Contaminantes asociados a las Descargas de Residuos Industriales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l sistema de alcantarillad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ccffcc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7ccd9"/>
                </a:solidFill>
                <a:latin typeface="Century Gothic"/>
              </a:rPr>
              <a:t> 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DS 90 (2001)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8888ae"/>
                </a:solidFill>
                <a:latin typeface="Comic Sans MS"/>
              </a:rPr>
              <a:t>Regulación de Contaminantes asociados a Descargas de Residuos Líquidos a</a:t>
            </a:r>
            <a:r>
              <a:rPr b="1" lang="es-ES_tradnl" sz="2200" spc="-1" strike="noStrike">
                <a:solidFill>
                  <a:srgbClr val="a7ccd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guas Superficial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cc00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9999ff"/>
              </a:buClr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DS N°46 (2002)</a:t>
            </a:r>
            <a:r>
              <a:rPr b="1" lang="es-ES_tradnl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8888ae"/>
                </a:solidFill>
                <a:latin typeface="Comic Sans MS"/>
              </a:rPr>
              <a:t>Regulación de Residuos Líquidos a</a:t>
            </a:r>
            <a:r>
              <a:rPr b="1" lang="es-ES_tradnl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Aguas Subterránea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905120"/>
            <a:ext cx="8001000" cy="411480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62120"/>
            <a:ext cx="9144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3808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Establecimientos Industriales con Sistema de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Tratamiento Autorizad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95280" y="1828800"/>
            <a:ext cx="7086240" cy="3352680"/>
            <a:chOff x="1295280" y="1828800"/>
            <a:chExt cx="7086240" cy="3352680"/>
          </a:xfrm>
        </p:grpSpPr>
        <p:grpSp>
          <p:nvGrpSpPr>
            <p:cNvPr id="159" name=""/>
            <p:cNvGrpSpPr/>
            <p:nvPr/>
          </p:nvGrpSpPr>
          <p:grpSpPr>
            <a:xfrm>
              <a:off x="1302120" y="1832400"/>
              <a:ext cx="7071120" cy="3344760"/>
              <a:chOff x="1302120" y="1832400"/>
              <a:chExt cx="7071120" cy="334476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1302120" y="1832400"/>
                <a:ext cx="1949040" cy="477720"/>
                <a:chOff x="1302120" y="1832400"/>
                <a:chExt cx="1949040" cy="477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369440" y="183240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eg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02120" y="183240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3251520" y="1832400"/>
                <a:ext cx="1707120" cy="477720"/>
                <a:chOff x="3251520" y="1832400"/>
                <a:chExt cx="1707120" cy="477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319560" y="183240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EI Autoriz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251520" y="183240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59000" y="1832400"/>
                <a:ext cx="1706400" cy="477720"/>
                <a:chOff x="4959000" y="1832400"/>
                <a:chExt cx="1706400" cy="477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026320" y="183240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eg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59000" y="183240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6666120" y="1832400"/>
                <a:ext cx="1707120" cy="477720"/>
                <a:chOff x="6666120" y="1832400"/>
                <a:chExt cx="1707120" cy="477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734160" y="183240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EI Autoriz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666120" y="183240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1302120" y="2310120"/>
                <a:ext cx="1949040" cy="477720"/>
                <a:chOff x="1302120" y="2310120"/>
                <a:chExt cx="1949040" cy="477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369440" y="231012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302120" y="231012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251520" y="2310120"/>
                <a:ext cx="1707120" cy="477720"/>
                <a:chOff x="3251520" y="2310120"/>
                <a:chExt cx="1707120" cy="477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319560" y="23101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251520" y="23101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959000" y="2310120"/>
                <a:ext cx="1706400" cy="477720"/>
                <a:chOff x="4959000" y="2310120"/>
                <a:chExt cx="1706400" cy="477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026320" y="231012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59000" y="231012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666120" y="2310120"/>
                <a:ext cx="1707120" cy="477720"/>
                <a:chOff x="6666120" y="2310120"/>
                <a:chExt cx="1707120" cy="477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734160" y="23101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666120" y="23101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1302120" y="2787840"/>
                <a:ext cx="1949040" cy="478080"/>
                <a:chOff x="1302120" y="2787840"/>
                <a:chExt cx="1949040" cy="478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369440" y="2787840"/>
                  <a:ext cx="1813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302120" y="2787840"/>
                  <a:ext cx="194904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251520" y="2787840"/>
                <a:ext cx="1707120" cy="478080"/>
                <a:chOff x="3251520" y="2787840"/>
                <a:chExt cx="1707120" cy="4780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319560" y="278784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251520" y="278784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959000" y="2787840"/>
                <a:ext cx="1706400" cy="478080"/>
                <a:chOff x="4959000" y="2787840"/>
                <a:chExt cx="1706400" cy="478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026320" y="2787840"/>
                  <a:ext cx="157104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X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59000" y="2787840"/>
                  <a:ext cx="1706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666120" y="2787840"/>
                <a:ext cx="1707120" cy="478080"/>
                <a:chOff x="6666120" y="2787840"/>
                <a:chExt cx="1707120" cy="478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734160" y="278784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666120" y="278784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1302120" y="3265920"/>
                <a:ext cx="1949040" cy="477720"/>
                <a:chOff x="1302120" y="3265920"/>
                <a:chExt cx="1949040" cy="477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369440" y="326592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IV</a:t>
                  </a: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02120" y="326592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251520" y="3265920"/>
                <a:ext cx="1707120" cy="477720"/>
                <a:chOff x="3251520" y="3265920"/>
                <a:chExt cx="1707120" cy="4777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319560" y="32659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251520" y="32659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959000" y="3265920"/>
                <a:ext cx="1706400" cy="477720"/>
                <a:chOff x="4959000" y="3265920"/>
                <a:chExt cx="1706400" cy="477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026320" y="326592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959000" y="326592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666120" y="3265920"/>
                <a:ext cx="1707120" cy="477720"/>
                <a:chOff x="6666120" y="3265920"/>
                <a:chExt cx="1707120" cy="477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734160" y="326592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666120" y="326592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302120" y="3743640"/>
                <a:ext cx="1949040" cy="477720"/>
                <a:chOff x="1302120" y="3743640"/>
                <a:chExt cx="1949040" cy="477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369440" y="374364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302120" y="374364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251520" y="3743640"/>
                <a:ext cx="1707120" cy="477720"/>
                <a:chOff x="3251520" y="3743640"/>
                <a:chExt cx="1707120" cy="4777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319560" y="37436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9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251520" y="37436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959000" y="3743640"/>
                <a:ext cx="1706400" cy="477720"/>
                <a:chOff x="4959000" y="3743640"/>
                <a:chExt cx="1706400" cy="477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026320" y="374364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959000" y="374364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666120" y="3743640"/>
                <a:ext cx="1707120" cy="477720"/>
                <a:chOff x="6666120" y="3743640"/>
                <a:chExt cx="1707120" cy="4777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734160" y="37436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666120" y="37436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1302120" y="4221360"/>
                <a:ext cx="1949040" cy="478080"/>
                <a:chOff x="1302120" y="4221360"/>
                <a:chExt cx="1949040" cy="4780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369440" y="4221360"/>
                  <a:ext cx="1813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302120" y="4221360"/>
                  <a:ext cx="194904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251520" y="4221360"/>
                <a:ext cx="1707120" cy="478080"/>
                <a:chOff x="3251520" y="4221360"/>
                <a:chExt cx="1707120" cy="4780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319560" y="422136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251520" y="422136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959000" y="4221360"/>
                <a:ext cx="1706400" cy="478080"/>
                <a:chOff x="4959000" y="4221360"/>
                <a:chExt cx="1706400" cy="4780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026320" y="4221360"/>
                  <a:ext cx="157104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X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959000" y="4221360"/>
                  <a:ext cx="1706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6666120" y="4221360"/>
                <a:ext cx="1707120" cy="478080"/>
                <a:chOff x="6666120" y="4221360"/>
                <a:chExt cx="1707120" cy="4780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6734160" y="4221360"/>
                  <a:ext cx="1570680" cy="47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4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666120" y="4221360"/>
                  <a:ext cx="170712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302120" y="4699440"/>
                <a:ext cx="1949040" cy="477720"/>
                <a:chOff x="1302120" y="4699440"/>
                <a:chExt cx="1949040" cy="4777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369440" y="4699440"/>
                  <a:ext cx="1813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VII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302120" y="4699440"/>
                  <a:ext cx="194904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3251520" y="4699440"/>
                <a:ext cx="1707120" cy="477720"/>
                <a:chOff x="3251520" y="4699440"/>
                <a:chExt cx="1707120" cy="4777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3319560" y="46994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251520" y="46994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959000" y="4699440"/>
                <a:ext cx="1706400" cy="477720"/>
                <a:chOff x="4959000" y="4699440"/>
                <a:chExt cx="1706400" cy="477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026320" y="4699440"/>
                  <a:ext cx="157104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RM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59000" y="4699440"/>
                  <a:ext cx="170640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666120" y="4699440"/>
                <a:ext cx="1707120" cy="477720"/>
                <a:chOff x="6666120" y="4699440"/>
                <a:chExt cx="1707120" cy="477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6734160" y="4699440"/>
                  <a:ext cx="1570680" cy="47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Arial"/>
                    </a:rPr>
                    <a:t>11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666120" y="4699440"/>
                  <a:ext cx="1707120" cy="47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>
              <a:off x="1295280" y="1828800"/>
              <a:ext cx="7086240" cy="3352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676520" y="5257800"/>
            <a:ext cx="54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Arial"/>
              </a:rPr>
              <a:t>SISS, 2003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1295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84680" y="838080"/>
            <a:ext cx="72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Tratamiento de las 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guas 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esiduales en Chile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09480" y="2514600"/>
            <a:ext cx="8076960" cy="3124080"/>
            <a:chOff x="609480" y="2514600"/>
            <a:chExt cx="8076960" cy="3124080"/>
          </a:xfrm>
        </p:grpSpPr>
        <p:grpSp>
          <p:nvGrpSpPr>
            <p:cNvPr id="250" name=""/>
            <p:cNvGrpSpPr/>
            <p:nvPr/>
          </p:nvGrpSpPr>
          <p:grpSpPr>
            <a:xfrm>
              <a:off x="616320" y="2517840"/>
              <a:ext cx="8061480" cy="3116880"/>
              <a:chOff x="616320" y="2517840"/>
              <a:chExt cx="8061480" cy="31168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616320" y="2517840"/>
                <a:ext cx="2455560" cy="444960"/>
                <a:chOff x="616320" y="2517840"/>
                <a:chExt cx="2455560" cy="444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81480" y="251784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Tecnología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6320" y="251784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072240" y="2517840"/>
                <a:ext cx="1621440" cy="444960"/>
                <a:chOff x="3072240" y="2517840"/>
                <a:chExt cx="1621440" cy="444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138120" y="251784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Dic. 199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072240" y="251784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4694400" y="2517840"/>
                <a:ext cx="1991520" cy="444960"/>
                <a:chOff x="4694400" y="2517840"/>
                <a:chExt cx="1991520" cy="4449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759560" y="251784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Dic. 2002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694400" y="251784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686280" y="2517840"/>
                <a:ext cx="1991520" cy="444960"/>
                <a:chOff x="6686280" y="2517840"/>
                <a:chExt cx="1991520" cy="444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752160" y="251784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Al 2009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686280" y="251784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16320" y="2962800"/>
                <a:ext cx="2455560" cy="445320"/>
                <a:chOff x="616320" y="2962800"/>
                <a:chExt cx="2455560" cy="4453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81480" y="296280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odos activad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16320" y="296280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072240" y="2962800"/>
                <a:ext cx="1621440" cy="445320"/>
                <a:chOff x="3072240" y="2962800"/>
                <a:chExt cx="1621440" cy="4453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38120" y="296280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072240" y="296280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694400" y="2962800"/>
                <a:ext cx="1991520" cy="445320"/>
                <a:chOff x="4694400" y="2962800"/>
                <a:chExt cx="1991520" cy="4453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759560" y="296280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6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694400" y="296280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686280" y="2962800"/>
                <a:ext cx="1991520" cy="445320"/>
                <a:chOff x="6686280" y="2962800"/>
                <a:chExt cx="1991520" cy="4453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752160" y="296280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7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686280" y="296280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16320" y="3408480"/>
                <a:ext cx="2455560" cy="444960"/>
                <a:chOff x="616320" y="3408480"/>
                <a:chExt cx="2455560" cy="4449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81480" y="340848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agunas estabilización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16320" y="340848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3072240" y="3408480"/>
                <a:ext cx="1621440" cy="444960"/>
                <a:chOff x="3072240" y="3408480"/>
                <a:chExt cx="1621440" cy="4449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138120" y="340848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6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072240" y="340848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4694400" y="3408480"/>
                <a:ext cx="1991520" cy="444960"/>
                <a:chOff x="4694400" y="3408480"/>
                <a:chExt cx="1991520" cy="4449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759560" y="340848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694400" y="340848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6686280" y="3408480"/>
                <a:ext cx="1991520" cy="444960"/>
                <a:chOff x="6686280" y="3408480"/>
                <a:chExt cx="1991520" cy="444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752160" y="340848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686280" y="340848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616320" y="3853440"/>
                <a:ext cx="2455560" cy="445320"/>
                <a:chOff x="616320" y="3853440"/>
                <a:chExt cx="2455560" cy="4453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681480" y="385344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Lagunas aireada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16320" y="385344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072240" y="3853440"/>
                <a:ext cx="1621440" cy="445320"/>
                <a:chOff x="3072240" y="3853440"/>
                <a:chExt cx="1621440" cy="4453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138120" y="385344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9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072240" y="385344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694400" y="3853440"/>
                <a:ext cx="1991520" cy="445320"/>
                <a:chOff x="4694400" y="3853440"/>
                <a:chExt cx="1991520" cy="4453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759560" y="385344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4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694400" y="3853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686280" y="3853440"/>
                <a:ext cx="1991520" cy="445320"/>
                <a:chOff x="6686280" y="3853440"/>
                <a:chExt cx="1991520" cy="445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752160" y="385344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70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86280" y="3853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16320" y="4299120"/>
                <a:ext cx="2455560" cy="444960"/>
                <a:chOff x="616320" y="4299120"/>
                <a:chExt cx="2455560" cy="4449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81480" y="429912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Emisarios submarin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16320" y="429912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072240" y="4299120"/>
                <a:ext cx="1621440" cy="444960"/>
                <a:chOff x="3072240" y="4299120"/>
                <a:chExt cx="1621440" cy="444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138120" y="429912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072240" y="429912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694400" y="4299120"/>
                <a:ext cx="1991520" cy="444960"/>
                <a:chOff x="4694400" y="4299120"/>
                <a:chExt cx="1991520" cy="4449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759560" y="429912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2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694400" y="429912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6686280" y="4299120"/>
                <a:ext cx="1991520" cy="444960"/>
                <a:chOff x="6686280" y="4299120"/>
                <a:chExt cx="1991520" cy="444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752160" y="429912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3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686280" y="429912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16320" y="4744440"/>
                <a:ext cx="2455560" cy="445320"/>
                <a:chOff x="616320" y="4744440"/>
                <a:chExt cx="2455560" cy="445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81480" y="4744440"/>
                  <a:ext cx="23248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Otros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16320" y="4744440"/>
                  <a:ext cx="245556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072240" y="4744440"/>
                <a:ext cx="1621440" cy="445320"/>
                <a:chOff x="3072240" y="4744440"/>
                <a:chExt cx="1621440" cy="4453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138120" y="4744440"/>
                  <a:ext cx="148968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072240" y="4744440"/>
                  <a:ext cx="162144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694400" y="4744440"/>
                <a:ext cx="1991520" cy="445320"/>
                <a:chOff x="4694400" y="4744440"/>
                <a:chExt cx="1991520" cy="4453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759560" y="4744440"/>
                  <a:ext cx="186084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694400" y="4744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686280" y="4744440"/>
                <a:ext cx="1991520" cy="445320"/>
                <a:chOff x="6686280" y="4744440"/>
                <a:chExt cx="1991520" cy="445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752160" y="4744440"/>
                  <a:ext cx="1860120" cy="44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686280" y="4744440"/>
                  <a:ext cx="1991520" cy="44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16320" y="5189760"/>
                <a:ext cx="2455560" cy="444960"/>
                <a:chOff x="616320" y="5189760"/>
                <a:chExt cx="2455560" cy="4449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81480" y="5189760"/>
                  <a:ext cx="23248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TOTA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16320" y="5189760"/>
                  <a:ext cx="245556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072240" y="5189760"/>
                <a:ext cx="1621440" cy="444960"/>
                <a:chOff x="3072240" y="5189760"/>
                <a:chExt cx="1621440" cy="4449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138120" y="5189760"/>
                  <a:ext cx="148968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81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072240" y="5189760"/>
                  <a:ext cx="162144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694400" y="5189760"/>
                <a:ext cx="1991520" cy="444960"/>
                <a:chOff x="4694400" y="5189760"/>
                <a:chExt cx="1991520" cy="4449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759560" y="5189760"/>
                  <a:ext cx="186084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152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694400" y="518976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6686280" y="5189760"/>
                <a:ext cx="1991520" cy="444960"/>
                <a:chOff x="6686280" y="5189760"/>
                <a:chExt cx="1991520" cy="4449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6752160" y="5189760"/>
                  <a:ext cx="1860120" cy="44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Comic Sans MS"/>
                      <a:ea typeface="Times New Roman"/>
                    </a:rPr>
                    <a:t>288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686280" y="5189760"/>
                  <a:ext cx="1991520" cy="44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" name=""/>
            <p:cNvSpPr/>
            <p:nvPr/>
          </p:nvSpPr>
          <p:spPr>
            <a:xfrm>
              <a:off x="609480" y="2514600"/>
              <a:ext cx="8076960" cy="3124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24760" y="5029200"/>
            <a:ext cx="66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Qué podemos lograr en cada tratamiento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otencial%20remocion" descr=""/>
          <p:cNvPicPr/>
          <p:nvPr/>
        </p:nvPicPr>
        <p:blipFill>
          <a:blip r:embed="rId2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86480" y="57150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Metcalf &amp; Eddy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52280" y="152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Remoción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 de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Contaminantes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Orgánicos en el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Tratamiento</a:t>
            </a:r>
            <a:r>
              <a:rPr b="1" lang="es-MX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Secundari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2" name="remocion%20organicos%20LAC1" descr=""/>
          <p:cNvPicPr/>
          <p:nvPr/>
        </p:nvPicPr>
        <p:blipFill>
          <a:blip r:embed="rId2"/>
          <a:stretch/>
        </p:blipFill>
        <p:spPr>
          <a:xfrm>
            <a:off x="762120" y="673200"/>
            <a:ext cx="784836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762120"/>
            <a:ext cx="78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Comportamiento de Contaminantes Orgánicos en e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4" name="remocion%20organicos%20LAC2" descr=""/>
          <p:cNvPicPr/>
          <p:nvPr/>
        </p:nvPicPr>
        <p:blipFill>
          <a:blip r:embed="rId2"/>
          <a:stretch/>
        </p:blipFill>
        <p:spPr>
          <a:xfrm>
            <a:off x="533520" y="1595520"/>
            <a:ext cx="815328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57200" y="1447920"/>
            <a:ext cx="815328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Cómo seleccionamos el Tratamiento Adecuado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Procesos de Tratamient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Preliminar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Prim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Secundari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ratamiento Terciario o Procesos Avanz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48" name="Procesos1" descr=""/>
          <p:cNvPicPr/>
          <p:nvPr/>
        </p:nvPicPr>
        <p:blipFill>
          <a:blip r:embed="rId2"/>
          <a:stretch/>
        </p:blipFill>
        <p:spPr>
          <a:xfrm>
            <a:off x="685800" y="-30240"/>
            <a:ext cx="7696080" cy="68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57200" y="884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06080" y="3608280"/>
            <a:ext cx="5031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Comic Sans MS"/>
              </a:rPr>
              <a:t>REMOCIÓN DE NUTRIENTE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762120"/>
            <a:ext cx="8153280" cy="52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Acerca del Tratamiento de Aguas y los Contaminant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Cualquier sustancia utilizada en la sociedad estará presente en las aguas residuale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l agua puede ser tratada hasta cualquier grado de pureza, a costos cada vez más altos.  Sin embargo, independiente de cuan bueno sea el tratamiento, siempre existirá un residuo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stándar cero” o “estándar no detectable” es una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eta deseable pero inalcanz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No es posible la política de la “descarga cero”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(U.S. Congress, 1970)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914400"/>
            <a:ext cx="792468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Nutrientes más important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Nitrógeno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ógeno orgá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Amoniaco (NH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 + NH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4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+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itos (NO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-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Nitratos (NO</a:t>
            </a:r>
            <a:r>
              <a:rPr b="0" lang="es-ES_tradn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ES_tradnl" sz="2200" spc="-1" strike="noStrike" baseline="30000">
                <a:solidFill>
                  <a:srgbClr val="545472"/>
                </a:solidFill>
                <a:latin typeface="Comic Sans MS"/>
              </a:rPr>
              <a:t>=</a:t>
            </a:r>
            <a:r>
              <a:rPr b="0" lang="es-ES_tradnl" sz="22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(Usualmente las concentraciones de estos compuestos se informan relativas al nitrógeno, peso molecular 14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Fósforo</a:t>
            </a: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Fósforo orgá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Ortofosfatos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(P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3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70% (soluble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olifosfatos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(P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990720"/>
            <a:ext cx="754380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guas Servidas Doméstica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200 - 3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QO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450 - 7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N total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30 -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 total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5 - 1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rgánic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35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inorgánico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65%   mayor parte solub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En aguas servidas domésticas N total </a:t>
            </a:r>
            <a:r>
              <a:rPr b="0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TKN; NO</a:t>
            </a:r>
            <a:r>
              <a:rPr b="0" lang="en-US" sz="2000" spc="-1" strike="noStrike" baseline="-25000">
                <a:solidFill>
                  <a:srgbClr val="545472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y NO</a:t>
            </a:r>
            <a:r>
              <a:rPr b="0" lang="en-US" sz="2000" spc="-1" strike="noStrike" baseline="-25000">
                <a:solidFill>
                  <a:srgbClr val="545472"/>
                </a:solidFill>
                <a:latin typeface="Tahoma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  <a:ea typeface="Times New Roman"/>
              </a:rPr>
              <a:t> prácticamente ausent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65400" y="1143000"/>
            <a:ext cx="84956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Efecto de los Nutrientes en Cursos de Agu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1 Kg de NH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4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-N puede teóricamente estimular la produc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de 16 Kg de algas (20 Kg DQO), considerando la biomas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Algal como C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06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H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263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10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N</a:t>
            </a:r>
            <a:r>
              <a:rPr b="0" lang="es-ES" sz="2200" spc="-1" strike="noStrike" baseline="-25000">
                <a:solidFill>
                  <a:srgbClr val="545472"/>
                </a:solidFill>
                <a:latin typeface="Comic Sans MS"/>
              </a:rPr>
              <a:t>16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  </a:t>
            </a:r>
            <a:r>
              <a:rPr b="0" lang="es-ES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50 mg N/l indirectamente </a:t>
            </a:r>
            <a:r>
              <a:rPr b="0" lang="es-MX" sz="2200" spc="-1" strike="noStrike">
                <a:solidFill>
                  <a:srgbClr val="545472"/>
                </a:solidFill>
                <a:latin typeface="Comic Sans MS"/>
              </a:rPr>
              <a:t>pueden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produc</a:t>
            </a:r>
            <a:r>
              <a:rPr b="0" lang="es-MX" sz="2200" spc="-1" strike="noStrike">
                <a:solidFill>
                  <a:srgbClr val="545472"/>
                </a:solidFill>
                <a:latin typeface="Comic Sans MS"/>
              </a:rPr>
              <a:t>ir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1000 mg DQO/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Si un 1 Kg de P fuera acumulado por algas fotosintéticas y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utilizado para producir nuevas algas a partir de la fotosíntesis,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Se producirían 111 Kg de algas a las que corresponde una DQ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De 138 Kg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 </a:t>
            </a:r>
            <a:r>
              <a:rPr b="0" lang="es-ES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545472"/>
                </a:solidFill>
                <a:latin typeface="Comic Sans MS"/>
              </a:rPr>
              <a:t>10 mg P/l indirectamente producen 138 mg DQO/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38080" y="762120"/>
            <a:ext cx="792504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utrientes en Aguas Servidas Domésticas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itrógeno orgánico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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25%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-soluble no biodegradable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KN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-particulado no biodegradable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 biodegradable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%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moniaco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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	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75%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Amoniaco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+  O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 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&lt; 7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pH &gt; 7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76520" y="1828800"/>
            <a:ext cx="75960" cy="2133720"/>
          </a:xfrm>
          <a:custGeom>
            <a:avLst/>
            <a:gdLst>
              <a:gd name="textAreaLeft" fmla="*/ 48600 w 75960"/>
              <a:gd name="textAreaRight" fmla="*/ 76320 w 759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762120"/>
            <a:ext cx="7924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NITRIFICACIÓN BIOLÓGIC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Proceso Autotrófico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nergía para crecimiento bacteriano es derivada de la oxidación de compuestos nitrogen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545472"/>
                </a:solidFill>
                <a:latin typeface="Comic Sans MS"/>
                <a:ea typeface="Times New Roman"/>
              </a:rPr>
              <a:t>2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 bicarbonato</a:t>
            </a:r>
            <a:r>
              <a:rPr b="0" lang="en-US" sz="2200" spc="-1" strike="noStrike" baseline="-25000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 utilizado como fuente de carbono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523880" y="3429000"/>
                <a:ext cx="594360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Nitrosomonas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Nitrobacter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609480" y="56386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Se requieren 4,57 mg de O</a:t>
            </a:r>
            <a:r>
              <a:rPr b="1" lang="es-ES" sz="20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 por cada mg de NH</a:t>
            </a:r>
            <a:r>
              <a:rPr b="1" lang="es-ES" sz="20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-N nitrificad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57200" y="7621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Si se considera el crecimiento celular, las ecuaciones anteriores se transforman e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914400" y="1523880"/>
                <a:ext cx="77724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itrosomona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9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itrobact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=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533520" y="3048120"/>
            <a:ext cx="81691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Producción celular de nitrificantes es mucho menor que producción de heterótrofas (aprox. 10%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Alcalinidad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371600" y="4495680"/>
                <a:ext cx="5791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609480" y="5486400"/>
            <a:ext cx="815364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Oxidación de cada mg/l de NH</a:t>
            </a:r>
            <a:r>
              <a:rPr b="1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N</a:t>
            </a:r>
            <a:r>
              <a:rPr b="1" lang="es-E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reducirá la alcalinidad en 7,14 mg/l de CaCO</a:t>
            </a:r>
            <a:r>
              <a:rPr b="1" lang="es-E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3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09480" y="762120"/>
            <a:ext cx="792504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Requerimientos de las Bacterias Nitrificant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emperatura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&gt;15°C hasta 35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4" marL="182880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Óptimo a 25-28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oeficiente Arrhenius: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= 1,02 para T° 7-15°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= 1,08 – 1,10 (Metcalf &amp; Eddy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pH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8 – 9;  óptimo ~ 8,3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pH &lt; 6,6, tasa de nitrificación disminuye significativament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pH&lt; 5,5, no hay nitrific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Materia orgánica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baja concentr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/TKN: 0,5  alta actividad de bacterias nitrificant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BO/TKN: 6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acción nitrificante muy baj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Tiempo de retención celular: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 &gt; 5dí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Comic Sans MS"/>
              </a:rPr>
              <a:t>DENITRIFICACIÓN BIOLÓGIC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Proceso heterótrofo en que las bacterias utilizan carbono orgánico como fuente de energía y nitratos (o nitritos) como aceptor de electrones, en ausencia de oxígeno </a:t>
            </a:r>
            <a:r>
              <a:rPr b="0" lang="es-CL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ANOXIA 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En estas condiciones los nitratos son reducidos a nitrógeno gas, el que escapa a la atmósfera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NO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3</a:t>
            </a:r>
            <a:r>
              <a:rPr b="1" lang="en-US" sz="2000" spc="-1" strike="noStrike" baseline="30000">
                <a:solidFill>
                  <a:srgbClr val="80008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NO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r>
              <a:rPr b="1" lang="en-US" sz="2000" spc="-1" strike="noStrike" baseline="30000">
                <a:solidFill>
                  <a:srgbClr val="80008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 NO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 N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O </a:t>
            </a:r>
            <a:r>
              <a:rPr b="1" lang="en-US" sz="2000" spc="-1" strike="noStrike">
                <a:solidFill>
                  <a:srgbClr val="800080"/>
                </a:solidFill>
                <a:latin typeface="Monotype Sorts"/>
                <a:ea typeface="Monotype Sorts"/>
              </a:rPr>
              <a:t>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N</a:t>
            </a:r>
            <a:r>
              <a:rPr b="1" lang="en-US" sz="2000" spc="-1" strike="noStrike" baseline="-25000">
                <a:solidFill>
                  <a:srgbClr val="80008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761760" y="3200400"/>
            <a:ext cx="8039160" cy="2664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Cuando el nitrato es el aceptor de electrones, la masa equivalente de oxígeno (como O) e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 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1 mg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= 2.86 mg O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La producción de biomasa es levemente menor que en el caso de la respiración aeróbica, aproximadamente 0,5 gr SSV/gr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reduci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476760" cy="927360"/>
          </a:xfrm>
          <a:prstGeom prst="rect">
            <a:avLst/>
          </a:prstGeom>
          <a:ln w="12600">
            <a:solidFill>
              <a:srgbClr val="660066"/>
            </a:solidFill>
            <a:miter/>
          </a:ln>
        </p:spPr>
      </p:pic>
      <p:sp>
        <p:nvSpPr>
          <p:cNvPr id="369" name=""/>
          <p:cNvSpPr/>
          <p:nvPr/>
        </p:nvSpPr>
        <p:spPr>
          <a:xfrm>
            <a:off x="855000" y="990720"/>
            <a:ext cx="58867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moción global de nitrato (empírica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759720" cy="739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querimientos para Denitrificación Biológic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12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Presencia de nitrato (o nitrito) (compuestos producidos en la nitrificación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2.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Ausencia de oxígeno disuelt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 Cuando OD = 0 mg/L, se logra 100% denitrificación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 Sí OD &gt; 0.5 mg/L, la denitrificación no es significativa ya que el oxígeno previene la formación de la enzima necesaria para sustituir el oxígeno por nitrato como aceptor de electrones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     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Una biomasa facultativa (microorganismos con el sistema enzimático para utilizar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buClr>
                <a:srgbClr val="545472"/>
              </a:buClr>
              <a:buSzPct val="90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Presencia de un donante de electrones adecuado (fuente de energía).  Puede ser interna (materia orgánica naturalmente presente en las aguas servidas), externa (p.e. adición de metanol) o autogenerado (nutrientes liberados durante la muerte de organismos en el proceso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       </a:t>
            </a:r>
            <a:r>
              <a:rPr b="0" lang="es-CL" sz="2000" spc="-1" strike="noStrike">
                <a:solidFill>
                  <a:srgbClr val="660066"/>
                </a:solidFill>
                <a:latin typeface="Comic Sans MS"/>
              </a:rPr>
              <a:t>La adición de DQO fácilmente biodegradable incrementa el potencial de denitrificación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884160"/>
            <a:ext cx="8077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5920" y="1219320"/>
            <a:ext cx="8722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s claramente imposible identificar todas las sustancias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orgánicas cuya presencia pudiera representar una preocupación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agua debido a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levado número de compuestos que se producen anualment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mundo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retardo en la información acerca de los efectos adversos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n el ambiente y especialmente en los efectos crónicos sobre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la salud de las persona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Factores que influyen en la 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Denitrificació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Asumiendo que las condiciones anóxicas se mantienen y la concentración de oxígeno disuelto es despreciable, la tasa de denitrificación depende básicamente de la naturaleza y cantidad de carbón disponible.  Los microorganismos denitrificantes son menos sensibles a la temperatura, pH y sustancias inhibitorias que los microorganismos nitrificante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pH:   6,5 - 8,5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Temperatura:  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5 - 60°C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Symbol"/>
                <a:ea typeface="Symbol"/>
              </a:rPr>
              <a:t>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=  1,06 - 1,3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CL" sz="2400" spc="-1" strike="noStrike">
                <a:solidFill>
                  <a:srgbClr val="800080"/>
                </a:solidFill>
                <a:latin typeface="Comic Sans MS"/>
              </a:rPr>
              <a:t>Factores que influyen en la 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Denitrificació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Fuente externa de Carbono más común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: Metanol (C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H)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C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H + 0,92N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0,92H</a:t>
            </a:r>
            <a:r>
              <a:rPr b="0" lang="es-CL" sz="2200" spc="-1" strike="noStrike" baseline="30000">
                <a:solidFill>
                  <a:srgbClr val="545472"/>
                </a:solidFill>
                <a:latin typeface="Comic Sans MS"/>
              </a:rPr>
              <a:t>+ </a:t>
            </a:r>
            <a:r>
              <a:rPr b="0" lang="es-CL" sz="2200" spc="-1" strike="noStrike" baseline="30000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0,065C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5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7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N + 0,43N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0,7C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+ 2,25H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O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Requerimiento sustrato: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2,3 - 3,5 gr/gr NO</a:t>
            </a:r>
            <a:r>
              <a:rPr b="0" lang="es-CL" sz="22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Denitrificación ocurre completamente si se adiciona suficiente metanol....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200" spc="-1" strike="noStrike">
                <a:solidFill>
                  <a:srgbClr val="660066"/>
                </a:solidFill>
                <a:latin typeface="Comic Sans MS"/>
              </a:rPr>
              <a:t>Sobredosis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CL" sz="22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</a:t>
            </a:r>
            <a:r>
              <a:rPr b="0" lang="es-CL" sz="2200" spc="-1" strike="noStrike">
                <a:solidFill>
                  <a:srgbClr val="545472"/>
                </a:solidFill>
                <a:latin typeface="Comic Sans MS"/>
              </a:rPr>
              <a:t>  alta DBO en el efluente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4392720" cy="398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Efectos de la Denitrificació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84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93840" indent="-393840">
              <a:lnSpc>
                <a:spcPct val="87000"/>
              </a:lnSpc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La denitrificación biológica produce un incremento en la alcalinidad.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  Se recuperan 3.57 mg/L de alcalinidad (como CaCO3) por cada 1 mg NO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denitrificad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87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87000"/>
              </a:lnSpc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Dado que durante la nitrificación, se consumen 7.14 mg/L de alcalinidad por cada 1 mg NH</a:t>
            </a:r>
            <a:r>
              <a:rPr b="0" lang="es-CL" sz="20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-N nitrificado, para residuos con baja alcalinidad se recomienda la nitrificación-denitrificación en sistemas combinados para prevenir un descenso del pH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94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-393840">
              <a:lnSpc>
                <a:spcPct val="94000"/>
              </a:lnSpc>
              <a:spcBef>
                <a:spcPts val="476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Comic Sans MS"/>
              </a:rPr>
              <a:t>Debido a que para la nitrificación se requieren 4.57 mg O/mg N, y en la denitrificación se recuperan 2.86 mg O/mg N, al tener nitrificación y denitrificación en un mismo sistema biológico, es posible disminuir 2.86/4.57•100 = 63% de la demanda de oxígeno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93840" indent="0">
              <a:lnSpc>
                <a:spcPct val="87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MOCIÓN BIOLÓGICA DE FÓSFOR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En la Remoción Biológica de Fósforo se promueve la acción de ciertos microorganismos que tienen la capacidad de almacenar intracelularmente mayores cantidades de fósforo que las requeridas para los procesos metabólicos básicos.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De este modo, la remoción se realiza a través de la disposición de lodos, debido a que la biomasa contiene una proporción mayor de fósforo en relación a lodos activados convencionale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Las condiciones para que este fenómeno ocurra son: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13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La población bacteriana debe estar sometida a una etapa verdaderamente anaeróbica en alguna etapa del proceso (Ausencia de 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, N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2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 y NO</a:t>
            </a:r>
            <a:r>
              <a:rPr b="0" lang="es-CL" sz="1800" spc="-1" strike="noStrike" baseline="-25000">
                <a:solidFill>
                  <a:srgbClr val="545472"/>
                </a:solidFill>
                <a:latin typeface="Comic Sans MS"/>
              </a:rPr>
              <a:t>3</a:t>
            </a: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13"/>
              </a:spcBef>
              <a:buClr>
                <a:srgbClr val="545472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Comic Sans MS"/>
              </a:rPr>
              <a:t>En la etapa anaerobia debe existir un sustrato orgánico fácilmente degradable, especialmente ácidos volátiles de cadena corta (ácidos acético y propiónico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96840" y="666360"/>
            <a:ext cx="5351400" cy="731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Mecanismo de Remoción de Fósfor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1936800" y="2203560"/>
            <a:ext cx="901800" cy="596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16600" y="1860480"/>
            <a:ext cx="2259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Facultative bacte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52520" y="2489040"/>
            <a:ext cx="7239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73360" y="2489040"/>
            <a:ext cx="7239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86440" y="1847880"/>
            <a:ext cx="90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2139840"/>
            <a:ext cx="15112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cetate plu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27640" y="2114640"/>
            <a:ext cx="2095560" cy="1218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21200" y="2495520"/>
            <a:ext cx="825480" cy="1652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6368760" y="1670040"/>
            <a:ext cx="330120" cy="6984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107040" y="1370160"/>
            <a:ext cx="432720" cy="305280"/>
            <a:chOff x="6107040" y="1370160"/>
            <a:chExt cx="432720" cy="305280"/>
          </a:xfrm>
        </p:grpSpPr>
        <p:sp>
          <p:nvSpPr>
            <p:cNvPr id="389" name=""/>
            <p:cNvSpPr/>
            <p:nvPr/>
          </p:nvSpPr>
          <p:spPr>
            <a:xfrm>
              <a:off x="6107040" y="13701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41040" y="137016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6632640" y="1501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632640" y="1281240"/>
            <a:ext cx="205560" cy="182880"/>
            <a:chOff x="6632640" y="1281240"/>
            <a:chExt cx="205560" cy="182880"/>
          </a:xfrm>
        </p:grpSpPr>
        <p:sp>
          <p:nvSpPr>
            <p:cNvPr id="393" name=""/>
            <p:cNvSpPr/>
            <p:nvPr/>
          </p:nvSpPr>
          <p:spPr>
            <a:xfrm>
              <a:off x="6632640" y="128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7080" y="128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590760" y="2190600"/>
            <a:ext cx="1180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5213520" y="2114640"/>
            <a:ext cx="279360" cy="419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936760" y="1987560"/>
            <a:ext cx="54612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59520" y="1905120"/>
            <a:ext cx="2184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45472"/>
                </a:solidFill>
                <a:latin typeface="Arial"/>
              </a:rPr>
              <a:t>Acinetobacter spp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6280" y="3683160"/>
            <a:ext cx="8331120" cy="0"/>
          </a:xfrm>
          <a:prstGeom prst="line">
            <a:avLst/>
          </a:prstGeom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927000" y="3206880"/>
            <a:ext cx="0" cy="45720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5520" y="2965320"/>
            <a:ext cx="124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naerobi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10240" y="2216160"/>
            <a:ext cx="1639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(Phosphoru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removin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bacteria, slow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grower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39960" y="3714840"/>
            <a:ext cx="0" cy="419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4440" y="4133880"/>
            <a:ext cx="977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erobi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59640" y="259704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B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72240" y="2584440"/>
            <a:ext cx="55872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91080" y="4083120"/>
            <a:ext cx="2095560" cy="1218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632200" y="3333600"/>
            <a:ext cx="749160" cy="71136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64720" y="5272200"/>
            <a:ext cx="430560" cy="366120"/>
            <a:chOff x="3564720" y="5272200"/>
            <a:chExt cx="430560" cy="366120"/>
          </a:xfrm>
        </p:grpSpPr>
        <p:sp>
          <p:nvSpPr>
            <p:cNvPr id="410" name=""/>
            <p:cNvSpPr/>
            <p:nvPr/>
          </p:nvSpPr>
          <p:spPr>
            <a:xfrm>
              <a:off x="3564720" y="52722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56960" y="527220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93480" y="5433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993480" y="5162400"/>
            <a:ext cx="193320" cy="213480"/>
            <a:chOff x="3993480" y="5162400"/>
            <a:chExt cx="193320" cy="213480"/>
          </a:xfrm>
        </p:grpSpPr>
        <p:sp>
          <p:nvSpPr>
            <p:cNvPr id="414" name=""/>
            <p:cNvSpPr/>
            <p:nvPr/>
          </p:nvSpPr>
          <p:spPr>
            <a:xfrm>
              <a:off x="3993480" y="5162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26680" y="5162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H="1" flipV="1">
            <a:off x="4413240" y="3854160"/>
            <a:ext cx="698400" cy="6858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24600" y="442584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B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37200" y="4413240"/>
            <a:ext cx="55872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25920" y="4324320"/>
            <a:ext cx="90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184280" y="4133880"/>
            <a:ext cx="469800" cy="1778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51440" y="4616280"/>
            <a:ext cx="0" cy="3430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191120" y="5029200"/>
            <a:ext cx="1015920" cy="203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930480" y="4819680"/>
            <a:ext cx="1016280" cy="20304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57560" y="4603680"/>
            <a:ext cx="355680" cy="5968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666520" y="476712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27800" y="4767120"/>
            <a:ext cx="21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32280" y="476712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7640" y="47671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451680" y="4767120"/>
            <a:ext cx="309240" cy="344520"/>
            <a:chOff x="3451680" y="4767120"/>
            <a:chExt cx="309240" cy="344520"/>
          </a:xfrm>
        </p:grpSpPr>
        <p:sp>
          <p:nvSpPr>
            <p:cNvPr id="430" name=""/>
            <p:cNvSpPr/>
            <p:nvPr/>
          </p:nvSpPr>
          <p:spPr>
            <a:xfrm>
              <a:off x="3451680" y="4767120"/>
              <a:ext cx="217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68760" y="49132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130880" y="5149800"/>
            <a:ext cx="1168560" cy="4572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54920" y="5721480"/>
            <a:ext cx="1587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New biomas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360" y="4832280"/>
            <a:ext cx="39420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02360" y="5010120"/>
            <a:ext cx="241200" cy="62244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5554440" y="5638680"/>
            <a:ext cx="599040" cy="375480"/>
            <a:chOff x="5554440" y="5638680"/>
            <a:chExt cx="599040" cy="375480"/>
          </a:xfrm>
        </p:grpSpPr>
        <p:grpSp>
          <p:nvGrpSpPr>
            <p:cNvPr id="437" name=""/>
            <p:cNvGrpSpPr/>
            <p:nvPr/>
          </p:nvGrpSpPr>
          <p:grpSpPr>
            <a:xfrm>
              <a:off x="5554440" y="5638680"/>
              <a:ext cx="456120" cy="366120"/>
              <a:chOff x="5554440" y="5638680"/>
              <a:chExt cx="456120" cy="366120"/>
            </a:xfrm>
          </p:grpSpPr>
          <p:sp>
            <p:nvSpPr>
              <p:cNvPr id="438" name=""/>
              <p:cNvSpPr/>
              <p:nvPr/>
            </p:nvSpPr>
            <p:spPr>
              <a:xfrm>
                <a:off x="5554440" y="5638680"/>
                <a:ext cx="220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72240" y="5638680"/>
                <a:ext cx="238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6053760" y="5800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6202080" y="56037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399360" y="5603760"/>
            <a:ext cx="291960" cy="404280"/>
            <a:chOff x="6399360" y="5603760"/>
            <a:chExt cx="291960" cy="404280"/>
          </a:xfrm>
        </p:grpSpPr>
        <p:sp>
          <p:nvSpPr>
            <p:cNvPr id="443" name=""/>
            <p:cNvSpPr/>
            <p:nvPr/>
          </p:nvSpPr>
          <p:spPr>
            <a:xfrm>
              <a:off x="6399360" y="56037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70360" y="5748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697080" y="55627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98680" y="4959360"/>
            <a:ext cx="83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-P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24600" y="4946760"/>
            <a:ext cx="723600" cy="241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81360" y="2432160"/>
            <a:ext cx="83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-P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07280" y="2419200"/>
            <a:ext cx="723600" cy="24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407440" cy="395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moción Biológica de Fósforo (BPR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1663560" y="2095560"/>
            <a:ext cx="5689800" cy="952560"/>
          </a:xfrm>
          <a:prstGeom prst="rect">
            <a:avLst/>
          </a:prstGeom>
          <a:noFill/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9320" y="2577960"/>
            <a:ext cx="139716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11480" y="2101680"/>
            <a:ext cx="0" cy="952560"/>
          </a:xfrm>
          <a:prstGeom prst="line">
            <a:avLst/>
          </a:prstGeom>
          <a:ln w="1260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16080" y="2603520"/>
            <a:ext cx="43200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02280" y="2603520"/>
            <a:ext cx="1028880" cy="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82680" y="1962000"/>
            <a:ext cx="0" cy="596880"/>
          </a:xfrm>
          <a:prstGeom prst="line">
            <a:avLst/>
          </a:prstGeom>
          <a:ln w="1260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52480" y="1574640"/>
            <a:ext cx="1806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Return sludg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1680" y="2641680"/>
            <a:ext cx="10738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Influen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57080" y="2641680"/>
            <a:ext cx="13374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Anaerobi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86560" y="2654280"/>
            <a:ext cx="1037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Aerobic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17440" y="2666880"/>
            <a:ext cx="13924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To clarifie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63560" y="3378240"/>
            <a:ext cx="0" cy="246384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76520" y="5854680"/>
            <a:ext cx="557532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4080" y="3327480"/>
            <a:ext cx="0" cy="250200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689120" y="4266720"/>
            <a:ext cx="165240" cy="3430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905120" y="4101840"/>
            <a:ext cx="114120" cy="2156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070000" y="3949200"/>
            <a:ext cx="127080" cy="2034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247840" y="3809880"/>
            <a:ext cx="190440" cy="190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489040" y="3695760"/>
            <a:ext cx="241560" cy="1648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781360" y="3645000"/>
            <a:ext cx="190440" cy="101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022560" y="3619440"/>
            <a:ext cx="63720" cy="763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37040" y="3670200"/>
            <a:ext cx="139680" cy="330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27480" y="4051440"/>
            <a:ext cx="63360" cy="126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41600" y="4229280"/>
            <a:ext cx="177840" cy="2286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70200" y="4457880"/>
            <a:ext cx="222480" cy="177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36960" y="4686480"/>
            <a:ext cx="292320" cy="139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4876920"/>
            <a:ext cx="368280" cy="1141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60920" y="5041800"/>
            <a:ext cx="787320" cy="2541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99000" y="5346720"/>
            <a:ext cx="660600" cy="101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10360" y="5499000"/>
            <a:ext cx="380880" cy="129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629400" y="5562720"/>
            <a:ext cx="622440" cy="25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89120" y="3505320"/>
            <a:ext cx="203040" cy="82548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43280" y="4381560"/>
            <a:ext cx="63360" cy="25380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4686480"/>
            <a:ext cx="190440" cy="2793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98600" y="5016600"/>
            <a:ext cx="406440" cy="19044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55800" y="5257800"/>
            <a:ext cx="444600" cy="8892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51160" y="5397480"/>
            <a:ext cx="927000" cy="13968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29280" y="5587920"/>
            <a:ext cx="685800" cy="381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65840" y="5689440"/>
            <a:ext cx="927000" cy="129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43600" y="5727600"/>
            <a:ext cx="1282680" cy="12960"/>
          </a:xfrm>
          <a:prstGeom prst="line">
            <a:avLst/>
          </a:prstGeom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24240" y="4419720"/>
            <a:ext cx="807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Conc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23800" y="5867280"/>
            <a:ext cx="7156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Tim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47200" y="4686480"/>
            <a:ext cx="11714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Sol. BO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01520" y="4152960"/>
            <a:ext cx="2274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rthophosphoru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136520" y="179712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96" name="EBNPR" descr=""/>
          <p:cNvPicPr/>
          <p:nvPr/>
        </p:nvPicPr>
        <p:blipFill>
          <a:blip r:embed="rId2"/>
          <a:stretch/>
        </p:blipFill>
        <p:spPr>
          <a:xfrm>
            <a:off x="1792440" y="-20520"/>
            <a:ext cx="5559120" cy="68990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609480" y="120600"/>
            <a:ext cx="435240" cy="67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REMO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FÓSFOR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NITROGEN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8001000" cy="783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Remoción Biológica de Nutrientes (BNR)</a:t>
            </a:r>
            <a:br>
              <a:rPr sz="2400"/>
            </a:br>
            <a:r>
              <a:rPr b="1" lang="es-CL" sz="2400" spc="-1" strike="noStrike">
                <a:solidFill>
                  <a:srgbClr val="660066"/>
                </a:solidFill>
                <a:latin typeface="Comic Sans MS"/>
              </a:rPr>
              <a:t>Comparación de Proceso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5680" y="2209320"/>
            <a:ext cx="8712000" cy="2723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Nutrient removal   Sludge              Effluent       Process            Cost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capability       disposal  Chem. filtration  Oper.   Oper.       impac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        N          impact    req.     req.        flexib. reliability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hostrip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e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ittle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         M        Least        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M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ardenpho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ea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H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Oxidation ditch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NA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 NA           M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A2/O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L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UC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           L        Most         M         M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M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286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1778040"/>
                <a:tab algn="l" pos="2577960"/>
                <a:tab algn="l" pos="3454560"/>
                <a:tab algn="l" pos="4406760"/>
                <a:tab algn="l" pos="5143680"/>
                <a:tab algn="l" pos="6172200"/>
                <a:tab algn="l" pos="701028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Chemical treat.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Best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Little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H          H        Least        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B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           H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3218760" y="1600200"/>
            <a:ext cx="30855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Comic Sans MS"/>
              </a:rPr>
              <a:t>(Daigger et al., 1986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3124080"/>
            <a:ext cx="866124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2209680"/>
            <a:ext cx="863604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5105520"/>
            <a:ext cx="8655120" cy="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" y="2286000"/>
            <a:ext cx="0" cy="276228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915400" y="2286000"/>
            <a:ext cx="0" cy="2743200"/>
          </a:xfrm>
          <a:prstGeom prst="line">
            <a:avLst/>
          </a:prstGeom>
          <a:ln w="255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5334120"/>
            <a:ext cx="860580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Daigger, G.T., Smith, J.J., and Simpkin, T.J. (1986).  </a:t>
            </a:r>
            <a:r>
              <a:rPr b="0" i="1" lang="en-US" sz="1600" spc="-1" strike="noStrike">
                <a:solidFill>
                  <a:srgbClr val="545472"/>
                </a:solidFill>
                <a:latin typeface="Arial"/>
              </a:rPr>
              <a:t>Removal of Nutrients from Wastewater Using Biological Processes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, Presented at the 59th Annual Conference of the Central States Water Pollution Control Association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Remoción de Orgánicos Traza:</a:t>
            </a:r>
            <a:br>
              <a:rPr sz="3200"/>
            </a:b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Procesos de Adsorció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08" name="adsorcion7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3581640" cy="26863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3200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200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11" name="adsorptionvsabsorption2" descr="Adsorption versus Absorption"/>
          <p:cNvPicPr/>
          <p:nvPr/>
        </p:nvPicPr>
        <p:blipFill>
          <a:blip r:embed="rId2"/>
          <a:stretch/>
        </p:blipFill>
        <p:spPr>
          <a:xfrm>
            <a:off x="1371600" y="1027080"/>
            <a:ext cx="6172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884160"/>
            <a:ext cx="8077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0640" y="1195560"/>
            <a:ext cx="837036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EEUU </a:t>
            </a:r>
            <a:r>
              <a:rPr b="1" lang="es-ES_tradnl" sz="2200" spc="-1" strike="noStrike">
                <a:solidFill>
                  <a:srgbClr val="660066"/>
                </a:solidFill>
                <a:latin typeface="Wingdings"/>
                <a:ea typeface="Wingdings"/>
              </a:rPr>
              <a:t></a:t>
            </a:r>
            <a:r>
              <a:rPr b="1" lang="es-ES_tradnl" sz="2200" spc="-1" strike="noStrike">
                <a:solidFill>
                  <a:srgbClr val="660066"/>
                </a:solidFill>
                <a:latin typeface="Comic Sans MS"/>
              </a:rPr>
              <a:t> Lista de Contaminantes Prioritarios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sobre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la base de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Frecuencia de ocurrencia del compuesto en el agua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isponibilidad de estándares químicos para la cuantificación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el compuesto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Tasa de producción de la sustancia;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Estabilidad química de la sustancia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adsorción puede ocurrir en superficie variadas como óxidos de aluminio y fierro, sílice, arcillas y materiales sintéticos.  Adsorbente más común:  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Carbón Activa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125"/>
              </a:spcBef>
              <a:buClr>
                <a:srgbClr val="6600cc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Area superficial de los poros muy grand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(500-1500 m</a:t>
            </a:r>
            <a:r>
              <a:rPr b="0" lang="es-ES_tradnl" sz="2000" spc="-1" strike="noStrike" baseline="30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/gr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125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Relación As/masa muy grand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Se fabrica a partir de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 madera, aserrín, pepas de frutas, cáscara de coco, carbón o residuos de petróleo.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activación consiste en una carbonización seguida de aire o vapor caliente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La temperatura de activación afecta la capacidad adsorbente del material.  En general una activación a 400ºC produce un carbón con buena capacidad de adsorción alcalina; la activación a 1000ºC genera un carbón con buena capacidad de adsorción ácida.</a:t>
            </a:r>
            <a:r>
              <a:rPr b="0" lang="es-ES_tradnl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Usos del Carbón Activado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de agua potable: compuestos que causan olor, sabor y/o color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de aguas servidas: compuestos orgánic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 algn="just">
              <a:lnSpc>
                <a:spcPct val="85000"/>
              </a:lnSpc>
              <a:spcBef>
                <a:spcPts val="499"/>
              </a:spcBef>
              <a:buClr>
                <a:srgbClr val="660066"/>
              </a:buClr>
              <a:buSzPct val="8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Tratamiento RILs: compuestos orgánicos tóxicos, solventes, productos farmacéuticos, etc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Generalmente se usa en forma granular, ya sea en en columnas de operación en batch o con flujo continuo, o en lechos fluidizados.  Ocasionalmente se usa en polvo, en operaciones donde no es recuperado para regeneración.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Capacidad de adsorción del carbón para un soluto determinado depende de las propiedades de ambo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Comic Sans MS"/>
              </a:rPr>
              <a:t>Carbón Activad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l proceso de adsorción es dependiente del pH y la temperatura, así como de la concentración del compuesto a adsorber (adsorbato)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ntre las características del adsorbato interesa el peso molecular, solubilidad y polaridad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Es posible adsorber algunos compuestos químicos inorgánicos.  En este caso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altos valores de pH favorecen la adsorción de cationes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, en tanto</a:t>
            </a:r>
            <a:r>
              <a:rPr b="0" lang="es-ES_tradnl" sz="20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</a:rPr>
              <a:t>bajos valores de pH favorecen la adsorción de aniones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.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762120" y="2139840"/>
            <a:ext cx="7543800" cy="33991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914400" y="3808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Compuestos Orgánicos Típicamente Removid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    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por Adsorción en Carbón Activad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14400" y="5410080"/>
            <a:ext cx="762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545472"/>
                </a:solidFill>
                <a:latin typeface="Arial"/>
                <a:ea typeface="Arial"/>
              </a:rPr>
              <a:t>O`Brian et al. </a:t>
            </a:r>
            <a:r>
              <a:rPr b="0" lang="en-US" sz="1400" spc="-1" strike="noStrike">
                <a:solidFill>
                  <a:srgbClr val="545472"/>
                </a:solidFill>
                <a:latin typeface="Arial"/>
                <a:ea typeface="Arial"/>
              </a:rPr>
              <a:t>“Removal of organic compounds from industrial wastewaters using granular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1400" spc="-1" strike="noStrike">
                <a:solidFill>
                  <a:srgbClr val="545472"/>
                </a:solidFill>
                <a:latin typeface="Arial"/>
                <a:ea typeface="Arial"/>
              </a:rPr>
              <a:t>carbon column processes” (1983) EPA-600/8-83-011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Tipos de Carbón Activado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685800"/>
            <a:ext cx="7772400" cy="594360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61944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4" name="smgranular" descr="Granular Activated Carbon"/>
          <p:cNvPicPr/>
          <p:nvPr/>
        </p:nvPicPr>
        <p:blipFill>
          <a:blip r:embed="rId2"/>
          <a:stretch/>
        </p:blipFill>
        <p:spPr>
          <a:xfrm>
            <a:off x="914400" y="685800"/>
            <a:ext cx="2819520" cy="19321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6" name="smpowder" descr="Powder Activated Carbon"/>
          <p:cNvPicPr/>
          <p:nvPr/>
        </p:nvPicPr>
        <p:blipFill>
          <a:blip r:embed="rId3"/>
          <a:stretch/>
        </p:blipFill>
        <p:spPr>
          <a:xfrm>
            <a:off x="914400" y="2666880"/>
            <a:ext cx="2819520" cy="190368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61944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28" name="smpellets" descr="Pelleted Activated Carbon"/>
          <p:cNvPicPr/>
          <p:nvPr/>
        </p:nvPicPr>
        <p:blipFill>
          <a:blip r:embed="rId4"/>
          <a:stretch/>
        </p:blipFill>
        <p:spPr>
          <a:xfrm>
            <a:off x="914400" y="4648320"/>
            <a:ext cx="2819520" cy="19177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53182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08520" y="838080"/>
            <a:ext cx="447336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Granular (GA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Partículas de forma irregular con tamaños entre 0,2-5 mm.  Aplicaciones en fase líquida y gaseosa.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en Polvo (PA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Carbón pulverizado con tamaño &lt; 0,18 mm (US Mesh 80).  Aplicaciones en fase líquida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45472"/>
                </a:solidFill>
                <a:latin typeface="Comic Sans MS"/>
              </a:rPr>
              <a:t>Carbón Activado en Pellets</a:t>
            </a: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</a:rPr>
              <a:t>Forma cilíndrica con diámetro entre 0,8-5 mm. Usado en aplicaciones en fase gaseosa debido a la baja pérdida de carga, alta resistencia mecánica y bajo contenido de polvo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2" name="~AUT0009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4" name="AC%20reactivation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382240" cy="50990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433520" y="5700600"/>
            <a:ext cx="284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 Narrow"/>
              </a:rPr>
              <a:t>Reactivación del Carb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581280" y="4876920"/>
            <a:ext cx="58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526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812960" y="2435400"/>
            <a:ext cx="18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39" name="GAC%20oulu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8001000" cy="5067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900800" y="6019920"/>
            <a:ext cx="53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tamiento de Agua Potabl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581280" y="4876920"/>
            <a:ext cx="58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526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52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4" name="wwflowdiagram" descr="Waste Water Flow Diagram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6561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413000" y="609480"/>
            <a:ext cx="63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tamiento Residuos Industriale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54960" y="5532480"/>
            <a:ext cx="46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PAC: Carbón Activado en Polv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GAC: Carbón Activado 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18000" y="3657600"/>
            <a:ext cx="27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Tratamiento de Gas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9" name="AC%201scrubber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4572000" cy="2963880"/>
          </a:xfrm>
          <a:prstGeom prst="rect">
            <a:avLst/>
          </a:prstGeom>
          <a:ln w="0">
            <a:noFill/>
          </a:ln>
        </p:spPr>
      </p:pic>
      <p:pic>
        <p:nvPicPr>
          <p:cNvPr id="550" name="AC%20dbodour" descr=""/>
          <p:cNvPicPr/>
          <p:nvPr/>
        </p:nvPicPr>
        <p:blipFill>
          <a:blip r:embed="rId3"/>
          <a:stretch/>
        </p:blipFill>
        <p:spPr>
          <a:xfrm>
            <a:off x="4419720" y="3252960"/>
            <a:ext cx="4305240" cy="30207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5508720" y="2658960"/>
            <a:ext cx="29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Tratamiento de Olor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84160"/>
            <a:ext cx="807732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Actualmente, la lista de contaminantes prioritarios incluye 126 compuestos entre los que se encuentran: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Hidrocarburos Aromáticos Policíclicos (PAHs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Bencen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Metal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Dioxinas y furan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Arsén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Bifenilos Policlorados (PCBs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Solventes Clor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Fluorur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Cómo se controla?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660066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608120" y="449568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66"/>
                </a:solidFill>
                <a:latin typeface="Comic Sans MS"/>
              </a:rPr>
              <a:t>Remoción de Compuestos Inorgánico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762120"/>
            <a:ext cx="800100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CIPITACIÓN QUÍMICA Y CO-PRECIPI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precipitación química es el proceso por el cual una sustancia soluble es convertida a una forma insoluble ya sea por una reacción química o por cambios en la composición del solvente.  Los sólidos precipitados pueden ser removidos por sedimentación y/o filtración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moción durante la precipitación química depende básicamente de la solubilidad teórica de la mayoría de las especies formadas, lo cual es función del pH, concentración, temperatura y otros; y de la separación de los sólidos desde la solución acuosa (sedimentación – filtración)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4267080"/>
            <a:ext cx="82296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el tratamiento de agua potable los metales pesados son generalmente precipitados como hidróxidos mediante la adición de cal (Ca(OH)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 o hidróxido de sodio (NaOH) para obtener el pH de solubilidad mínima; esto ocurre como coprecipitación durante el proceso de coagulación - floculación.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09480" y="838080"/>
            <a:ext cx="7925040" cy="69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acción de precipitación con hidróxidos es muy similar para todos los metales catiónicos (M</a:t>
            </a:r>
            <a:r>
              <a:rPr b="0" lang="es-ES_tradnl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, independientemente de sí se utiliza hidróxido de sodio o cal.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general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 OH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e acuerdo a las ecuaciones anteriores, existen grandes diferencias en la generación de precipitados.  En caso de usar cal, además del metal correspondiente, se precipitará carbonato de calcio, sulfato de calcio y el exceso de hidróxido.  En caso de usar hidróxido de sodio, sólo precipitarán los hidróxidos metálicos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Los metales pesados también se pueden precipitar como sulfuros y en algunos casos como carbonatos.  La solubilidad de los sulfuros y carbonatos es menor que la de los hidróxidos y por lo tanto pueden lograrse menores concentraciones del metal en el efluente; adicionalmente, los sulfuros no presentan el comportamiento anfótero de los hidróxidos</a:t>
            </a:r>
            <a:r>
              <a:rPr b="0" lang="es-ES_tradnl" sz="1100" spc="-1" strike="noStrike">
                <a:solidFill>
                  <a:srgbClr val="545472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09480" y="838080"/>
            <a:ext cx="792504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La reacción de precipitación con hidróxidos es muy similar para todos los metales catiónicos (M</a:t>
            </a:r>
            <a:r>
              <a:rPr b="0" lang="es-ES_tradnl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), independientemente de sí se utiliza hidróxido de sodio o cal. 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En general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Ca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M</a:t>
            </a:r>
            <a:r>
              <a:rPr b="0" lang="en-US" sz="1800" spc="-1" strike="noStrike" baseline="30000">
                <a:solidFill>
                  <a:srgbClr val="545472"/>
                </a:solidFill>
                <a:latin typeface="Comic Sans MS"/>
                <a:ea typeface="Arial"/>
              </a:rPr>
              <a:t>++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 OH 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M(OH)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+   Na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SO</a:t>
            </a:r>
            <a:r>
              <a:rPr b="0" lang="en-US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                    </a:t>
            </a:r>
            <a:r>
              <a:rPr b="0" lang="es-ES_tradnl" sz="18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Cl</a:t>
            </a:r>
            <a:r>
              <a:rPr b="0" lang="es-ES_tradnl" sz="1800" spc="-1" strike="noStrike" baseline="-30000">
                <a:solidFill>
                  <a:srgbClr val="545472"/>
                </a:solidFill>
                <a:latin typeface="Comic Sans MS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e acuerdo a las ecuaciones anteriores, existen grandes diferencias en la generación de precipitados.  En caso de usar cal, además del metal correspondiente, se precipitará carbonato de calcio, sulfato de calcio y el exceso de hidróxido.  En caso de usar hidróxido de sodio, sólo precipitarán los hidróxidos metálicos.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520" y="762120"/>
            <a:ext cx="800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61" name="solubilidad%20hidroxidos" descr=""/>
          <p:cNvPicPr/>
          <p:nvPr/>
        </p:nvPicPr>
        <p:blipFill>
          <a:blip r:embed="rId2"/>
          <a:stretch/>
        </p:blipFill>
        <p:spPr>
          <a:xfrm>
            <a:off x="0" y="533520"/>
            <a:ext cx="5002200" cy="5715000"/>
          </a:xfrm>
          <a:prstGeom prst="rect">
            <a:avLst/>
          </a:prstGeom>
          <a:ln w="0">
            <a:noFill/>
          </a:ln>
        </p:spPr>
      </p:pic>
      <p:pic>
        <p:nvPicPr>
          <p:cNvPr id="562" name="solubilidad%20sulfuros" descr=""/>
          <p:cNvPicPr/>
          <p:nvPr/>
        </p:nvPicPr>
        <p:blipFill>
          <a:blip r:embed="rId3"/>
          <a:stretch/>
        </p:blipFill>
        <p:spPr>
          <a:xfrm>
            <a:off x="4495680" y="533520"/>
            <a:ext cx="4449960" cy="57909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605160" y="632448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Solubilidad de Hidróxid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47320" y="63244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Solubilidad de Sulfur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762120"/>
            <a:ext cx="800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67" name="Sistem%20precipitación" descr=""/>
          <p:cNvPicPr/>
          <p:nvPr/>
        </p:nvPicPr>
        <p:blipFill>
          <a:blip r:embed="rId2"/>
          <a:stretch/>
        </p:blipFill>
        <p:spPr>
          <a:xfrm>
            <a:off x="1066680" y="1290600"/>
            <a:ext cx="7239240" cy="44150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833480" y="5756400"/>
            <a:ext cx="38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Esquema de Precipitación Químic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762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Concentraciones posibles de obtener mediante Precipitación Química y Co-precipi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286000" y="1676520"/>
            <a:ext cx="4647960" cy="4800240"/>
            <a:chOff x="2286000" y="1676520"/>
            <a:chExt cx="4647960" cy="4800240"/>
          </a:xfrm>
        </p:grpSpPr>
        <p:grpSp>
          <p:nvGrpSpPr>
            <p:cNvPr id="572" name=""/>
            <p:cNvGrpSpPr/>
            <p:nvPr/>
          </p:nvGrpSpPr>
          <p:grpSpPr>
            <a:xfrm>
              <a:off x="2291400" y="1683000"/>
              <a:ext cx="4635360" cy="4786200"/>
              <a:chOff x="2291400" y="1683000"/>
              <a:chExt cx="4635360" cy="47862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2291400" y="1683000"/>
                <a:ext cx="2337120" cy="870120"/>
                <a:chOff x="2291400" y="1683000"/>
                <a:chExt cx="2337120" cy="8701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345400" y="1683000"/>
                  <a:ext cx="22280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eta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291400" y="1683000"/>
                  <a:ext cx="233712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4628880" y="1683000"/>
                <a:ext cx="2297880" cy="870120"/>
                <a:chOff x="4628880" y="1683000"/>
                <a:chExt cx="2297880" cy="8701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4682880" y="1683000"/>
                  <a:ext cx="218916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oncentración, </a:t>
                  </a: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s-ES_tradnl" sz="16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g/l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628880" y="1683000"/>
                  <a:ext cx="229788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2291400" y="2553480"/>
                <a:ext cx="2337120" cy="3915720"/>
                <a:chOff x="2291400" y="2553480"/>
                <a:chExt cx="2337120" cy="3915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345400" y="2553480"/>
                  <a:ext cx="2228040" cy="39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Arsénic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Bar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adm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rom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Cobre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Flúor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Fierr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anganes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Mercur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Níquel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Plata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Plom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Selenio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Zinc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291400" y="2553480"/>
                  <a:ext cx="2337120" cy="391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4628880" y="2553480"/>
                <a:ext cx="2297880" cy="3915720"/>
                <a:chOff x="4628880" y="2553480"/>
                <a:chExt cx="2297880" cy="391572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4682880" y="2553480"/>
                  <a:ext cx="2189160" cy="39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3 – 6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30 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40 – 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 – 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0 – 20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2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2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 – 1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50 – 15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5 – 25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2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45472"/>
                      </a:solidFill>
                      <a:latin typeface="Arial"/>
                      <a:ea typeface="Arial"/>
                    </a:rPr>
                    <a:t>10 – 300</a:t>
                  </a: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628880" y="2553480"/>
                  <a:ext cx="2297880" cy="391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5" name=""/>
            <p:cNvSpPr/>
            <p:nvPr/>
          </p:nvSpPr>
          <p:spPr>
            <a:xfrm>
              <a:off x="2286000" y="1676520"/>
              <a:ext cx="4647960" cy="4800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457200" y="838080"/>
            <a:ext cx="822960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INTERCAMBIO IONIC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Reacción química entre los iones en la fase líquida y los iones en la fase sólida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ciertos iones en solución son capturados preferencialmente por el sólido de intercambio iónico, y dado que la electroneutralidad debe mantenerse, el sólido de intercambio libera iones de reemplazo a la solución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Comic Sans MS"/>
              </a:rPr>
              <a:t>Usos más comunes: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545472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</a:rPr>
              <a:t>-  ablandamient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desmineral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desalin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remoción amonia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-  remoción metales pesad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-  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tratamiento residuos radiactiv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3520" y="3276720"/>
            <a:ext cx="769608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762120" y="119232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371600" y="1447920"/>
            <a:ext cx="64771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Ablandamient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C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+  2 Na Ex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Ca Ex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2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Mg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+  2 Na Ex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Mg Ex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2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 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sólido de intercambi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una vez saturada la resina, se debe regenerar con una solución salina saturada y posteriormente lavar el intercambiado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14400" y="10666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7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</a:t>
            </a:r>
            <a:endParaRPr b="0" lang="en-US" sz="7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5800" y="762120"/>
            <a:ext cx="800100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Wingdings"/>
                <a:ea typeface="Wingdings"/>
              </a:rPr>
              <a:t></a:t>
            </a:r>
            <a:r>
              <a:rPr b="0" lang="es-ES_tradnl" sz="7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 u="sng">
                <a:solidFill>
                  <a:srgbClr val="545472"/>
                </a:solidFill>
                <a:uFillTx/>
                <a:latin typeface="Comic Sans MS"/>
                <a:ea typeface="Times New Roman"/>
              </a:rPr>
              <a:t>Desmineralizació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 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l agua pasa primero a través de una resina catiónica cargada con ion hidrógeno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x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x H Re 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M Re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x H</a:t>
            </a:r>
            <a:r>
              <a:rPr b="0" lang="en-US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pecie catiónica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nº de valenci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 remove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545472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osteriormente pasa a través de una resina aniónica cargada con ion hidroxilo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z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 +  z Re OH  </a:t>
            </a:r>
            <a:r>
              <a:rPr b="0" lang="es-ES_tradnl" sz="2000" spc="-1" strike="noStrike">
                <a:solidFill>
                  <a:srgbClr val="545472"/>
                </a:solidFill>
                <a:latin typeface="Monotype Sorts"/>
                <a:ea typeface="Monotype Sorts"/>
              </a:rPr>
              <a:t>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Re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z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A  +  z OH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-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specie aniónica 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valenci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545472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 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una vez exhaustas, la resina catiónica se regenera con H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S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4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o HCl y la resina aniónica con NaOH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838080"/>
            <a:ext cx="8686800" cy="55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AT: Best Available Technology Economically Achiev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edio más apropiado para controlar la descarga directa de tóxicos y contaminantes no convencionales a cursos </a:t>
            </a:r>
            <a:r>
              <a:rPr b="0" lang="es-ES_tradnl" sz="2200" spc="-1" strike="noStrike">
                <a:solidFill>
                  <a:srgbClr val="660066"/>
                </a:solidFill>
                <a:latin typeface="Comic Sans MS"/>
              </a:rPr>
              <a:t>r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ceptores.  Representa la tecnología que tiene mejor rendimiento a costos razonables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CT: Best Conventional Pollutant Control Technology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Estándar técnico para la descarga puntual de industrias en contaminantes convencionales (DBO, SST, Coliformes fecales, pH, aceites y grasas)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Comic Sans MS"/>
              </a:rPr>
              <a:t>BPT: Best Practicable Control Technology Currently Available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Límites para los efluentes se basan generalmente en valores promedio de los mejores rendimientos de plantas existentes.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90720" y="1752480"/>
          <a:ext cx="73152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752480"/>
                    <a:ext cx="73152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7200" y="1295280"/>
            <a:ext cx="784872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La reacción del intercambio del sodio es la más común, la que se utiliza para la remoción de cationes desde el agua.  La reacción puede ser representada por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(HC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Ca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(HCO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Na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R   +    Mg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SO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Mg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R    +     Na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SO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Cl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 M</a:t>
            </a:r>
            <a:r>
              <a:rPr b="0" lang="en-U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Cl</a:t>
            </a:r>
            <a:r>
              <a:rPr b="0" lang="en-U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=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tal catióni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=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esina de intercambio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480" y="1066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" y="1219320"/>
            <a:ext cx="81532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La regeneración de la resina de sodio es llevada a cabo con una solución concentrada de cloruro de sodio, de la siguiente forma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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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C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g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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R    +    2 Na Cl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Na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R    +    Mg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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Cl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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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M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La regeneración produce una solución concentrada que contiene todos los iones removidos.  Aunque los metales de preocupación están ahora presentes en la solución de salmuera, el volumen es menor a la situación original.  Dependiendo del elemento que se está removiendo, es necesario definir cuidadosamente las condiciones de eliminación de las salmueras utilizad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48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Para los intercambiadores catiónicos típicos (resinas de ácidos fuertes), la serie de preferencias para el intercambio de cationes es la siguiente (Clifford et al., 1986)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R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B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Pb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r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i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d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u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o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Zn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Mg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U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Ag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s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K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H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a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Li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En el caso de los intercambiadores aniónicos típicos, la serie de preferencias para los aniones es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H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l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e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S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N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r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Br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HP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, HAs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4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, SeO</a:t>
            </a:r>
            <a:r>
              <a:rPr b="0" lang="es-ES" sz="2000" spc="-1" strike="noStrike" baseline="-30000">
                <a:solidFill>
                  <a:srgbClr val="545472"/>
                </a:solidFill>
                <a:latin typeface="Arial"/>
                <a:ea typeface="Arial"/>
              </a:rPr>
              <a:t>3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2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N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Cl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r>
              <a:rPr b="0" lang="es-ES" sz="2000" spc="-1" strike="noStrike">
                <a:solidFill>
                  <a:srgbClr val="545472"/>
                </a:solidFill>
                <a:latin typeface="Arial"/>
                <a:ea typeface="Arial"/>
              </a:rPr>
              <a:t> &gt; OH</a:t>
            </a:r>
            <a:r>
              <a:rPr b="0" lang="es-ES" sz="2000" spc="-1" strike="noStrike" baseline="30000">
                <a:solidFill>
                  <a:srgbClr val="545472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1066680"/>
            <a:ext cx="800100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Las resinas de intercambio iónico tienen un número limitado de sitios de intercambio disponibles; la concentración total en la fase sólida q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se denomina “capacidad de intercambio iónico”.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Dado que un intercambiador catiónico debe permanecer eléctricamente neutro durante la reacción, todos los sitios de intercambio deben ser ocupados por suficientes cationes para balancear la carga negativa del intercambiado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p.e. en un sistema que involucra C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Mg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2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 y Na</a:t>
            </a:r>
            <a:r>
              <a:rPr b="0" lang="es-ES_tradnl" sz="2000" spc="-1" strike="noStrike" baseline="30000">
                <a:solidFill>
                  <a:srgbClr val="545472"/>
                </a:solidFill>
                <a:latin typeface="Comic Sans MS"/>
                <a:ea typeface="Times New Roman"/>
              </a:rPr>
              <a:t>+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, la suma de concentración de estos iones en la fase sólida debe ser siempre igual a la capacidad de intercambio catiónico q</a:t>
            </a:r>
            <a:r>
              <a:rPr b="0" lang="es-ES_tradnl" sz="2000" spc="-1" strike="noStrike" baseline="-30000">
                <a:solidFill>
                  <a:srgbClr val="545472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En general la capacidad de intercambio se expresa en términos de miliequivalentes de soluto por 100 gramos de resina; valores comunes se encuentran entre 200 – 600 meq/100 gr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371600" y="144792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45472"/>
                </a:solidFill>
                <a:latin typeface="Comic Sans MS"/>
                <a:ea typeface="Times New Roman"/>
              </a:rPr>
              <a:t> 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9480" y="838080"/>
            <a:ext cx="80010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ncentraciones Posibles de obtener en el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Tratamiento mediante Intercambio Iónico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tal     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ncentración, </a:t>
            </a:r>
            <a:r>
              <a:rPr b="1" lang="es-ES_tradnl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1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g/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Bario            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30 – 3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admio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rom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10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Cobre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anganes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0 –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Mercuri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Plata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1 – 5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Plomo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Zinc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          5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Lankford, P. &amp; Eckenfelder, W. (1990) Toxicity Reduction in Industrial Effluents. Van Nostrand Reinhold, NY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36520" y="179712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047760" y="4571640"/>
            <a:ext cx="5181480" cy="495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28600" indent="0">
              <a:lnSpc>
                <a:spcPct val="91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60066"/>
                </a:solidFill>
                <a:latin typeface="Comic Sans MS"/>
              </a:rPr>
              <a:t>Procesos de Membran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rocesos%20separacion" descr=""/>
          <p:cNvPicPr/>
          <p:nvPr/>
        </p:nvPicPr>
        <p:blipFill>
          <a:blip r:embed="rId2"/>
          <a:stretch/>
        </p:blipFill>
        <p:spPr>
          <a:xfrm>
            <a:off x="228600" y="47520"/>
            <a:ext cx="87631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80880" y="669960"/>
            <a:ext cx="845820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Membran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Película delgada que separa dos fases y actúa como u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barrera selectiva al transporte de materia.  Su efectivida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pende de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naturaleza de los elementos a separar,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 la fuerza que se aplica sobre ell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 las características de la membra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54547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Procesos de Membran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 aquel donde la corriente de alimentación se divide en un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Flujo de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permead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conteniendo el material que ha pasado a través de la membrana y un </a:t>
            </a:r>
            <a:r>
              <a:rPr b="1" lang="es-ES" sz="2000" spc="-1" strike="noStrike">
                <a:solidFill>
                  <a:srgbClr val="660066"/>
                </a:solidFill>
                <a:latin typeface="Comic Sans MS"/>
              </a:rPr>
              <a:t>rechazo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que contiene los elementos que no la atraviesan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os procesos se pueden clasificar en función de la fuerz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promotora, mecanismo de separación, estructura de l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embrana y fases de contacto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Operaciones%20membranas" descr=""/>
          <p:cNvPicPr/>
          <p:nvPr/>
        </p:nvPicPr>
        <p:blipFill>
          <a:blip r:embed="rId2"/>
          <a:stretch/>
        </p:blipFill>
        <p:spPr>
          <a:xfrm>
            <a:off x="0" y="846000"/>
            <a:ext cx="91440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1219320"/>
            <a:ext cx="754380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Qué pasa en Chile?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Al año 1997 se estimaba que existían 552.000 establecimientos de actividad económica, constituyendo la industria manufacturera un 7,4% del total nacional, es decir, cerca de 41.000 establecimientos industriales en el país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En la Región Metropolitana se concentra casi un 50% de la actividad industrial del paí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Procesos Productivos </a:t>
            </a:r>
            <a:r>
              <a:rPr b="0" lang="es-ES_tradnl" sz="2000" spc="-1" strike="noStrike">
                <a:solidFill>
                  <a:srgbClr val="660066"/>
                </a:solidFill>
                <a:latin typeface="Monotype Sorts"/>
                <a:ea typeface="Monotype Sorts"/>
              </a:rPr>
              <a:t></a:t>
            </a:r>
            <a:r>
              <a:rPr b="0" lang="es-ES_tradnl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 Aguas Residuales (RILes)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80880" y="1066680"/>
            <a:ext cx="83822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Operaciones por Pres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fuerza actuante es una diferencia de presión a través de la membrana.  En esta categoría se encuentra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Micro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M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Ultra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U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Nanofiltración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NF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45472"/>
                </a:solidFill>
                <a:latin typeface="Comic Sans MS"/>
              </a:rPr>
              <a:t>Osmósis Inversa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 (RO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Micro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M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membranas MF eliminan los contaminantes por un proceso de separación basado en la retención sobre la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Superficie de la membrana.  El tamaño de poros de l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embranas está entre 0,05 – 5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Debido al tamaño de los poros se utiliza principalmente para eliminación de partículas (turbiedad) y microorganismo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Opera bajo presiones en el rango 70 – 200 K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Ultra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U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membranas UF son porosas y asimétricas, permiten sólo rechazo de solutos gruesos y todo tipo de microorganismos (virus y bacterias), los que son retenidos mediante exclusión por tamañ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os rangos de tamaño relativo de poros van desde 0,003 – 0,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, abarcando rango molecular y parte de los rangos iónicos y macromolecula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presión de trabajo se encuentra entre 50 a 500 K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80880" y="1066680"/>
            <a:ext cx="83822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Nanofiltración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NF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transferencia de iones a través de la membrana está controlada por difusión.  Las membranas NF son capaces de rechazar contaminantes de tamaño 0,0007 a 0,0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te proceso puede llevar a cabo la remoción de sales, dureza, patógenos, turbiedad, compuestos orgánicos sintéticos y pesticid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 presión de trabajo se encuentra entre 0,5 – 1,5 M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380880" y="1066680"/>
            <a:ext cx="83822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Osmósis Inversa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(RO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Este proceso es capaz de rechazar contaminantes o partículas con diámetros tan pequeños como 0,0001 </a:t>
            </a:r>
            <a:r>
              <a:rPr b="0" lang="es-ES" sz="2000" spc="-1" strike="noStrike">
                <a:solidFill>
                  <a:srgbClr val="545472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Se utiliza principalmente para desalinización de agua de mar, en la cual las concentraciones de SDT se encuentran en el rango 35 – 45 gr/l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45472"/>
                </a:solidFill>
                <a:latin typeface="Comic Sans MS"/>
              </a:rPr>
              <a:t>Las presiones necesarias para el agua de mar están en el rango 5 a 8 MPa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ocesos de Membrana v/s otros Procesos Tratamien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18" name="Comparación3" descr=""/>
          <p:cNvPicPr/>
          <p:nvPr/>
        </p:nvPicPr>
        <p:blipFill>
          <a:blip r:embed="rId2"/>
          <a:stretch/>
        </p:blipFill>
        <p:spPr>
          <a:xfrm>
            <a:off x="380880" y="1308240"/>
            <a:ext cx="8534520" cy="483048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6990840" y="63244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Comic Sans MS"/>
              </a:rPr>
              <a:t>(Continúa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049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ocesos de Membrana v/s otros Procesos Tratamien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1" name="Comparación4" descr=""/>
          <p:cNvPicPr/>
          <p:nvPr/>
        </p:nvPicPr>
        <p:blipFill>
          <a:blip r:embed="rId2"/>
          <a:stretch/>
        </p:blipFill>
        <p:spPr>
          <a:xfrm>
            <a:off x="228600" y="1238400"/>
            <a:ext cx="891540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304920" y="838080"/>
            <a:ext cx="8458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Configuraciones de Módulos de Membranas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3" name="configuracion%20membranas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80769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143000" y="990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PROCESO DE OSMOSIS INVERS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25" name="4a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267440" cy="2732040"/>
          </a:xfrm>
          <a:prstGeom prst="rect">
            <a:avLst/>
          </a:prstGeom>
          <a:ln w="0">
            <a:noFill/>
          </a:ln>
        </p:spPr>
      </p:pic>
      <p:pic>
        <p:nvPicPr>
          <p:cNvPr id="626" name="4b" descr=""/>
          <p:cNvPicPr/>
          <p:nvPr/>
        </p:nvPicPr>
        <p:blipFill>
          <a:blip r:embed="rId3"/>
          <a:stretch/>
        </p:blipFill>
        <p:spPr>
          <a:xfrm>
            <a:off x="4343400" y="1596960"/>
            <a:ext cx="4648320" cy="4221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258920" y="466560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smosi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0880" y="579132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Comic Sans MS"/>
              </a:rPr>
              <a:t>Osmosis Invers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Esquema%20retencion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9154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a7ccd9"/>
              </a:buClr>
              <a:buSzPct val="90000"/>
              <a:buFont typeface="Wing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4343400"/>
            <a:ext cx="66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Qué contaminantes es necesario remover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28600" y="762120"/>
            <a:ext cx="86868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Comic Sans MS"/>
              </a:rPr>
              <a:t>PROCESO DE OSMOSIS INVERSA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sión Osmótica (</a:t>
            </a:r>
            <a:r>
              <a:rPr b="1" lang="es-ES" sz="24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Diferencia de presión a través de una membrana, necesaria para invertir el flujo desde una solución más concentrada a otra menos concentrada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= 8204,76*(T+273)*</a:t>
            </a: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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</a:t>
            </a:r>
            <a:r>
              <a:rPr b="0" lang="es-ES" sz="2200" spc="-1" strike="noStrike" baseline="-25000">
                <a:solidFill>
                  <a:srgbClr val="660066"/>
                </a:solidFill>
                <a:latin typeface="Comic Sans MS"/>
              </a:rPr>
              <a:t>i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Symbol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= presión osmótica, P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T = temperatura, °C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0066"/>
                </a:solidFill>
                <a:latin typeface="Symbol"/>
                <a:ea typeface="Symbol"/>
              </a:rPr>
              <a:t>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m</a:t>
            </a:r>
            <a:r>
              <a:rPr b="0" lang="es-ES" sz="2200" spc="-1" strike="noStrike" baseline="-25000">
                <a:solidFill>
                  <a:srgbClr val="660066"/>
                </a:solidFill>
                <a:latin typeface="Comic Sans MS"/>
              </a:rPr>
              <a:t>i</a:t>
            </a:r>
            <a:r>
              <a:rPr b="0" lang="es-ES" sz="2200" spc="-1" strike="noStrike">
                <a:solidFill>
                  <a:srgbClr val="660066"/>
                </a:solidFill>
                <a:latin typeface="Comic Sans MS"/>
              </a:rPr>
              <a:t> = suma de la concentración molal (moles/Kg) de todos los constituyentes en la solución.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660066"/>
                </a:solidFill>
                <a:latin typeface="Comic Sans MS"/>
              </a:rPr>
              <a:t>˜ 75,8 KPa por cada 1000 mg/l de SD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esión Osmótica: Sal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440" y="1554120"/>
            <a:ext cx="6473880" cy="360"/>
            <a:chOff x="1440" y="1554120"/>
            <a:chExt cx="6473880" cy="360"/>
          </a:xfrm>
        </p:grpSpPr>
        <p:sp>
          <p:nvSpPr>
            <p:cNvPr id="633" name=""/>
            <p:cNvSpPr/>
            <p:nvPr/>
          </p:nvSpPr>
          <p:spPr>
            <a:xfrm>
              <a:off x="1440" y="155412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1440" y="1554120"/>
              <a:ext cx="6473880" cy="360"/>
              <a:chOff x="1440" y="1554120"/>
              <a:chExt cx="6473880" cy="36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0" y="155412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440" y="155412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" name=""/>
          <p:cNvGrpSpPr/>
          <p:nvPr/>
        </p:nvGrpSpPr>
        <p:grpSpPr>
          <a:xfrm>
            <a:off x="1144440" y="1549440"/>
            <a:ext cx="6856200" cy="3759120"/>
            <a:chOff x="1144440" y="1549440"/>
            <a:chExt cx="6856200" cy="3759120"/>
          </a:xfrm>
        </p:grpSpPr>
        <p:grpSp>
          <p:nvGrpSpPr>
            <p:cNvPr id="638" name=""/>
            <p:cNvGrpSpPr/>
            <p:nvPr/>
          </p:nvGrpSpPr>
          <p:grpSpPr>
            <a:xfrm>
              <a:off x="1149120" y="1554120"/>
              <a:ext cx="6846840" cy="3749760"/>
              <a:chOff x="1149120" y="1554120"/>
              <a:chExt cx="6846840" cy="374976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1149120" y="1554120"/>
                <a:ext cx="2355840" cy="244440"/>
                <a:chOff x="1149120" y="1554120"/>
                <a:chExt cx="2355840" cy="24444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1149120" y="1554120"/>
                  <a:ext cx="235584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ALTS: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49120" y="1554120"/>
                  <a:ext cx="235584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3504960" y="1554120"/>
                <a:ext cx="2239920" cy="244440"/>
                <a:chOff x="3504960" y="1554120"/>
                <a:chExt cx="2239920" cy="24444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3504960" y="1554120"/>
                  <a:ext cx="223992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ncentration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504960" y="1554120"/>
                  <a:ext cx="223992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5744880" y="1554120"/>
                <a:ext cx="2251080" cy="244440"/>
                <a:chOff x="5744880" y="1554120"/>
                <a:chExt cx="2251080" cy="2444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5744880" y="1554120"/>
                  <a:ext cx="225108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Osmotic Pressure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44880" y="1554120"/>
                  <a:ext cx="2251080" cy="24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1149120" y="1798560"/>
                <a:ext cx="2355840" cy="914400"/>
                <a:chOff x="1149120" y="1798560"/>
                <a:chExt cx="2355840" cy="91440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1149120" y="179856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 Chloride, NaCl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49120" y="179856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504960" y="1798560"/>
                <a:ext cx="2239920" cy="914400"/>
                <a:chOff x="3504960" y="1798560"/>
                <a:chExt cx="2239920" cy="91440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504960" y="179856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0.5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.5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504960" y="179856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5744880" y="1798560"/>
                <a:ext cx="2251080" cy="914400"/>
                <a:chOff x="5744880" y="1798560"/>
                <a:chExt cx="2251080" cy="9144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744880" y="179856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2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10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44880" y="179856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1149120" y="2712960"/>
                <a:ext cx="2355840" cy="914400"/>
                <a:chOff x="1149120" y="2712960"/>
                <a:chExt cx="2355840" cy="9144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1149120" y="271296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 Sulfate, Na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0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49120" y="271296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3504960" y="2712960"/>
                <a:ext cx="2239920" cy="914400"/>
                <a:chOff x="3504960" y="2712960"/>
                <a:chExt cx="2239920" cy="9144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3504960" y="271296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504960" y="271296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5744880" y="2712960"/>
                <a:ext cx="2251080" cy="914400"/>
                <a:chOff x="5744880" y="2712960"/>
                <a:chExt cx="2251080" cy="91440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5744880" y="271296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10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04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68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744880" y="271296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1149120" y="3627360"/>
                <a:ext cx="2355840" cy="762120"/>
                <a:chOff x="1149120" y="3627360"/>
                <a:chExt cx="2355840" cy="7621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1149120" y="3627360"/>
                  <a:ext cx="23558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lcium Chloride, CaCl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49120" y="3627360"/>
                  <a:ext cx="2355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3504960" y="3627360"/>
                <a:ext cx="2239920" cy="762120"/>
                <a:chOff x="3504960" y="3627360"/>
                <a:chExt cx="2239920" cy="7621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3504960" y="3627360"/>
                  <a:ext cx="22399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.5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504960" y="3627360"/>
                  <a:ext cx="2239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5744880" y="3627360"/>
                <a:ext cx="2251080" cy="762120"/>
                <a:chOff x="5744880" y="3627360"/>
                <a:chExt cx="2251080" cy="76212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744880" y="3627360"/>
                  <a:ext cx="22510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 psi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08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744880" y="3627360"/>
                  <a:ext cx="22510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1149120" y="4389480"/>
                <a:ext cx="2355840" cy="914400"/>
                <a:chOff x="1149120" y="4389480"/>
                <a:chExt cx="2355840" cy="91440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1149120" y="4389480"/>
                  <a:ext cx="2355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pper Sulfate, CuSO</a:t>
                  </a:r>
                  <a:r>
                    <a:rPr b="0" lang="es-ES" sz="1400" spc="-1" strike="noStrike" baseline="-30000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149120" y="4389480"/>
                  <a:ext cx="2355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504960" y="4389480"/>
                <a:ext cx="2239920" cy="914400"/>
                <a:chOff x="3504960" y="4389480"/>
                <a:chExt cx="2239920" cy="91440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504960" y="4389480"/>
                  <a:ext cx="223992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.0%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.0%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504960" y="4389480"/>
                  <a:ext cx="2239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5744880" y="4389480"/>
                <a:ext cx="2251080" cy="914400"/>
                <a:chOff x="5744880" y="4389480"/>
                <a:chExt cx="2251080" cy="9144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5744880" y="4389480"/>
                  <a:ext cx="225108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7 psi 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15 psi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31 psi</a:t>
                  </a: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 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744880" y="4389480"/>
                  <a:ext cx="2251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4" name=""/>
            <p:cNvSpPr/>
            <p:nvPr/>
          </p:nvSpPr>
          <p:spPr>
            <a:xfrm>
              <a:off x="1144440" y="1549440"/>
              <a:ext cx="6856200" cy="3759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CHAZ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1440" y="1076400"/>
            <a:ext cx="6473880" cy="360"/>
            <a:chOff x="1440" y="1076400"/>
            <a:chExt cx="6473880" cy="360"/>
          </a:xfrm>
        </p:grpSpPr>
        <p:sp>
          <p:nvSpPr>
            <p:cNvPr id="687" name=""/>
            <p:cNvSpPr/>
            <p:nvPr/>
          </p:nvSpPr>
          <p:spPr>
            <a:xfrm>
              <a:off x="1440" y="10764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440" y="1076400"/>
              <a:ext cx="6473880" cy="360"/>
              <a:chOff x="1440" y="1076400"/>
              <a:chExt cx="6473880" cy="360"/>
            </a:xfrm>
          </p:grpSpPr>
          <p:sp>
            <p:nvSpPr>
              <p:cNvPr id="689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1" name=""/>
          <p:cNvGrpSpPr/>
          <p:nvPr/>
        </p:nvGrpSpPr>
        <p:grpSpPr>
          <a:xfrm>
            <a:off x="1752480" y="1219320"/>
            <a:ext cx="5867280" cy="4866840"/>
            <a:chOff x="1752480" y="1219320"/>
            <a:chExt cx="5867280" cy="4866840"/>
          </a:xfrm>
        </p:grpSpPr>
        <p:grpSp>
          <p:nvGrpSpPr>
            <p:cNvPr id="692" name=""/>
            <p:cNvGrpSpPr/>
            <p:nvPr/>
          </p:nvGrpSpPr>
          <p:grpSpPr>
            <a:xfrm>
              <a:off x="1757160" y="1224000"/>
              <a:ext cx="5857200" cy="4856400"/>
              <a:chOff x="1757160" y="1224000"/>
              <a:chExt cx="5857200" cy="485640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1757160" y="1224000"/>
                <a:ext cx="5857200" cy="251640"/>
                <a:chOff x="1757160" y="1224000"/>
                <a:chExt cx="5857200" cy="25164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1757160" y="1224000"/>
                  <a:ext cx="58572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TIONS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757160" y="1224000"/>
                  <a:ext cx="58572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1757160" y="1476000"/>
                <a:ext cx="907560" cy="566640"/>
                <a:chOff x="1757160" y="1476000"/>
                <a:chExt cx="907560" cy="5666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757160" y="1476000"/>
                  <a:ext cx="90756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ame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757160" y="1476000"/>
                  <a:ext cx="90756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2665080" y="1476000"/>
                <a:ext cx="1026720" cy="566640"/>
                <a:chOff x="2665080" y="1476000"/>
                <a:chExt cx="1026720" cy="56664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2665080" y="1476000"/>
                  <a:ext cx="102672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ymbol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665080" y="1476000"/>
                  <a:ext cx="102672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3692160" y="1476000"/>
                <a:ext cx="1593000" cy="566640"/>
                <a:chOff x="3692160" y="1476000"/>
                <a:chExt cx="1593000" cy="5666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692160" y="1476000"/>
                  <a:ext cx="159300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ercent Rejection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692160" y="1476000"/>
                  <a:ext cx="159300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5285880" y="1476000"/>
                <a:ext cx="1164240" cy="566640"/>
                <a:chOff x="5285880" y="1476000"/>
                <a:chExt cx="1164240" cy="5666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5285880" y="1476000"/>
                  <a:ext cx="116424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ercent Passage (Average)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285880" y="1476000"/>
                  <a:ext cx="116424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450480" y="1476000"/>
                <a:ext cx="1163880" cy="566640"/>
                <a:chOff x="6450480" y="1476000"/>
                <a:chExt cx="1163880" cy="56664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450480" y="1476000"/>
                  <a:ext cx="1163880" cy="56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ximum Concentration Percent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450480" y="1476000"/>
                  <a:ext cx="1163880" cy="56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1757160" y="2043360"/>
                <a:ext cx="907560" cy="251640"/>
                <a:chOff x="1757160" y="2043360"/>
                <a:chExt cx="907560" cy="2516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57160" y="20433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dium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757160" y="20433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665080" y="2043360"/>
                <a:ext cx="1026720" cy="251640"/>
                <a:chOff x="2665080" y="2043360"/>
                <a:chExt cx="1026720" cy="2516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2665080" y="20433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a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665080" y="20433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3692160" y="2043360"/>
                <a:ext cx="1593000" cy="251640"/>
                <a:chOff x="3692160" y="2043360"/>
                <a:chExt cx="1593000" cy="2516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3692160" y="20433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692160" y="20433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5285880" y="2043360"/>
                <a:ext cx="1164240" cy="251640"/>
                <a:chOff x="5285880" y="2043360"/>
                <a:chExt cx="1164240" cy="25164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5285880" y="20433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285880" y="20433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6450480" y="2043360"/>
                <a:ext cx="1163880" cy="251640"/>
                <a:chOff x="6450480" y="2043360"/>
                <a:chExt cx="1163880" cy="2516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6450480" y="20433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450480" y="20433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1757160" y="2295720"/>
                <a:ext cx="907560" cy="251640"/>
                <a:chOff x="1757160" y="2295720"/>
                <a:chExt cx="907560" cy="25164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1757160" y="229572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lcium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757160" y="229572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2665080" y="2295720"/>
                <a:ext cx="1026720" cy="251640"/>
                <a:chOff x="2665080" y="2295720"/>
                <a:chExt cx="1026720" cy="2516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2665080" y="229572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665080" y="229572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692160" y="2295720"/>
                <a:ext cx="1593000" cy="251640"/>
                <a:chOff x="3692160" y="2295720"/>
                <a:chExt cx="1593000" cy="2516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692160" y="229572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692160" y="229572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5285880" y="2295720"/>
                <a:ext cx="1164240" cy="251640"/>
                <a:chOff x="5285880" y="2295720"/>
                <a:chExt cx="1164240" cy="2516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5285880" y="229572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285880" y="229572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450480" y="2295720"/>
                <a:ext cx="1163880" cy="251640"/>
                <a:chOff x="6450480" y="2295720"/>
                <a:chExt cx="1163880" cy="2516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6450480" y="229572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450480" y="229572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1757160" y="2548080"/>
                <a:ext cx="907560" cy="251640"/>
                <a:chOff x="1757160" y="2548080"/>
                <a:chExt cx="907560" cy="2516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1757160" y="25480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gnesium</a:t>
                  </a:r>
                  <a:endParaRPr b="0" lang="en-US" sz="11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757160" y="25480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665080" y="2548080"/>
                <a:ext cx="1026720" cy="251640"/>
                <a:chOff x="2665080" y="2548080"/>
                <a:chExt cx="1026720" cy="2516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2665080" y="25480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g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665080" y="25480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3692160" y="2548080"/>
                <a:ext cx="1593000" cy="251640"/>
                <a:chOff x="3692160" y="2548080"/>
                <a:chExt cx="1593000" cy="2516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692160" y="25480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692160" y="25480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5285880" y="2548080"/>
                <a:ext cx="1164240" cy="251640"/>
                <a:chOff x="5285880" y="2548080"/>
                <a:chExt cx="1164240" cy="2516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285880" y="25480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285880" y="25480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6450480" y="2548080"/>
                <a:ext cx="1163880" cy="251640"/>
                <a:chOff x="6450480" y="2548080"/>
                <a:chExt cx="1163880" cy="2516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6450480" y="25480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450480" y="25480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757160" y="2800080"/>
                <a:ext cx="907560" cy="251640"/>
                <a:chOff x="1757160" y="2800080"/>
                <a:chExt cx="907560" cy="2516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757160" y="28000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otass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757160" y="28000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2665080" y="2800080"/>
                <a:ext cx="1026720" cy="251640"/>
                <a:chOff x="2665080" y="2800080"/>
                <a:chExt cx="1026720" cy="25164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2665080" y="28000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K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665080" y="28000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3692160" y="2800080"/>
                <a:ext cx="1593000" cy="251640"/>
                <a:chOff x="3692160" y="2800080"/>
                <a:chExt cx="1593000" cy="2516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3692160" y="28000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692160" y="28000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5285880" y="2800080"/>
                <a:ext cx="1164240" cy="251640"/>
                <a:chOff x="5285880" y="2800080"/>
                <a:chExt cx="1164240" cy="25164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5285880" y="28000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285880" y="28000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6450480" y="2800080"/>
                <a:ext cx="1163880" cy="251640"/>
                <a:chOff x="6450480" y="2800080"/>
                <a:chExt cx="1163880" cy="25164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6450480" y="28000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450480" y="28000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1757160" y="3052440"/>
                <a:ext cx="907560" cy="251640"/>
                <a:chOff x="1757160" y="3052440"/>
                <a:chExt cx="907560" cy="25164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1757160" y="30524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Iron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757160" y="30524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2665080" y="3052440"/>
                <a:ext cx="1026720" cy="251640"/>
                <a:chOff x="2665080" y="3052440"/>
                <a:chExt cx="1026720" cy="2516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2665080" y="30524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2665080" y="30524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3692160" y="3052440"/>
                <a:ext cx="1593000" cy="251640"/>
                <a:chOff x="3692160" y="3052440"/>
                <a:chExt cx="1593000" cy="25164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3692160" y="30524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692160" y="30524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5285880" y="3052440"/>
                <a:ext cx="1164240" cy="251640"/>
                <a:chOff x="5285880" y="3052440"/>
                <a:chExt cx="1164240" cy="25164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285880" y="30524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285880" y="30524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6450480" y="3052440"/>
                <a:ext cx="1163880" cy="251640"/>
                <a:chOff x="6450480" y="3052440"/>
                <a:chExt cx="1163880" cy="2516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6450480" y="30524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450480" y="30524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1757160" y="3304800"/>
                <a:ext cx="907560" cy="251640"/>
                <a:chOff x="1757160" y="3304800"/>
                <a:chExt cx="907560" cy="25164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1757160" y="33048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anganes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757160" y="33048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2665080" y="3304800"/>
                <a:ext cx="1026720" cy="251640"/>
                <a:chOff x="2665080" y="3304800"/>
                <a:chExt cx="1026720" cy="25164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665080" y="33048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n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665080" y="33048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3692160" y="3304800"/>
                <a:ext cx="1593000" cy="251640"/>
                <a:chOff x="3692160" y="3304800"/>
                <a:chExt cx="1593000" cy="2516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3692160" y="33048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692160" y="33048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5285880" y="3304800"/>
                <a:ext cx="1164240" cy="251640"/>
                <a:chOff x="5285880" y="3304800"/>
                <a:chExt cx="1164240" cy="25164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5285880" y="33048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285880" y="33048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6450480" y="3304800"/>
                <a:ext cx="1163880" cy="251640"/>
                <a:chOff x="6450480" y="3304800"/>
                <a:chExt cx="1163880" cy="25164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450480" y="33048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450480" y="33048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1757160" y="3557160"/>
                <a:ext cx="907560" cy="252000"/>
                <a:chOff x="1757160" y="3557160"/>
                <a:chExt cx="907560" cy="25200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1757160" y="3557160"/>
                  <a:ext cx="90756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lumin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757160" y="3557160"/>
                  <a:ext cx="90756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2665080" y="3557160"/>
                <a:ext cx="1026720" cy="252000"/>
                <a:chOff x="2665080" y="3557160"/>
                <a:chExt cx="1026720" cy="25200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2665080" y="3557160"/>
                  <a:ext cx="102672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l+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665080" y="3557160"/>
                  <a:ext cx="102672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3692160" y="3557160"/>
                <a:ext cx="1593000" cy="252000"/>
                <a:chOff x="3692160" y="3557160"/>
                <a:chExt cx="1593000" cy="252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692160" y="3557160"/>
                  <a:ext cx="159300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692160" y="3557160"/>
                  <a:ext cx="159300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5285880" y="3557160"/>
                <a:ext cx="1164240" cy="252000"/>
                <a:chOff x="5285880" y="3557160"/>
                <a:chExt cx="1164240" cy="25200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5285880" y="3557160"/>
                  <a:ext cx="116424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285880" y="3557160"/>
                  <a:ext cx="116424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6450480" y="3557160"/>
                <a:ext cx="1163880" cy="252000"/>
                <a:chOff x="6450480" y="3557160"/>
                <a:chExt cx="1163880" cy="25200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6450480" y="3557160"/>
                  <a:ext cx="116388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450480" y="3557160"/>
                  <a:ext cx="116388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1757160" y="3809880"/>
                <a:ext cx="907560" cy="251640"/>
                <a:chOff x="1757160" y="3809880"/>
                <a:chExt cx="907560" cy="25164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1757160" y="38098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mmon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757160" y="38098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2665080" y="3809880"/>
                <a:ext cx="1026720" cy="251640"/>
                <a:chOff x="2665080" y="3809880"/>
                <a:chExt cx="1026720" cy="25164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2665080" y="38098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H4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2665080" y="38098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3692160" y="3809880"/>
                <a:ext cx="1593000" cy="251640"/>
                <a:chOff x="3692160" y="3809880"/>
                <a:chExt cx="1593000" cy="25164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3692160" y="38098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8-9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692160" y="38098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5285880" y="3809880"/>
                <a:ext cx="1164240" cy="251640"/>
                <a:chOff x="5285880" y="3809880"/>
                <a:chExt cx="1164240" cy="2516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5285880" y="38098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285880" y="38098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6450480" y="3809880"/>
                <a:ext cx="1163880" cy="251640"/>
                <a:chOff x="6450480" y="3809880"/>
                <a:chExt cx="1163880" cy="25164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6450480" y="38098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450480" y="38098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1757160" y="4062240"/>
                <a:ext cx="907560" cy="251640"/>
                <a:chOff x="1757160" y="4062240"/>
                <a:chExt cx="907560" cy="2516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1757160" y="40622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opper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757160" y="40622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"/>
              <p:cNvGrpSpPr/>
              <p:nvPr/>
            </p:nvGrpSpPr>
            <p:grpSpPr>
              <a:xfrm>
                <a:off x="2665080" y="4062240"/>
                <a:ext cx="1026720" cy="251640"/>
                <a:chOff x="2665080" y="4062240"/>
                <a:chExt cx="1026720" cy="25164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2665080" y="40622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u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665080" y="40622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3692160" y="4062240"/>
                <a:ext cx="1593000" cy="251640"/>
                <a:chOff x="3692160" y="4062240"/>
                <a:chExt cx="1593000" cy="25164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3692160" y="40622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692160" y="40622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5285880" y="4062240"/>
                <a:ext cx="1164240" cy="251640"/>
                <a:chOff x="5285880" y="4062240"/>
                <a:chExt cx="1164240" cy="25164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5285880" y="40622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285880" y="40622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6450480" y="4062240"/>
                <a:ext cx="1163880" cy="251640"/>
                <a:chOff x="6450480" y="4062240"/>
                <a:chExt cx="1163880" cy="25164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6450480" y="40622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450480" y="40622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1757160" y="4314600"/>
                <a:ext cx="907560" cy="251640"/>
                <a:chOff x="1757160" y="4314600"/>
                <a:chExt cx="907560" cy="25164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757160" y="43146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ckel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757160" y="43146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2665080" y="4314600"/>
                <a:ext cx="1026720" cy="251640"/>
                <a:chOff x="2665080" y="4314600"/>
                <a:chExt cx="1026720" cy="25164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2665080" y="43146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665080" y="43146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3692160" y="4314600"/>
                <a:ext cx="1593000" cy="251640"/>
                <a:chOff x="3692160" y="4314600"/>
                <a:chExt cx="1593000" cy="2516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3692160" y="43146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692160" y="43146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5285880" y="4314600"/>
                <a:ext cx="1164240" cy="251640"/>
                <a:chOff x="5285880" y="4314600"/>
                <a:chExt cx="1164240" cy="25164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5285880" y="43146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285880" y="43146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6450480" y="4314600"/>
                <a:ext cx="1163880" cy="251640"/>
                <a:chOff x="6450480" y="4314600"/>
                <a:chExt cx="1163880" cy="25164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6450480" y="43146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450480" y="43146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1757160" y="4566960"/>
                <a:ext cx="907560" cy="251640"/>
                <a:chOff x="1757160" y="4566960"/>
                <a:chExt cx="907560" cy="25164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1757160" y="45669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Zinc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757160" y="45669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2665080" y="4566960"/>
                <a:ext cx="1026720" cy="251640"/>
                <a:chOff x="2665080" y="4566960"/>
                <a:chExt cx="1026720" cy="25164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2665080" y="45669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Zn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665080" y="45669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3692160" y="4566960"/>
                <a:ext cx="1593000" cy="251640"/>
                <a:chOff x="3692160" y="4566960"/>
                <a:chExt cx="1593000" cy="25164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92160" y="45669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692160" y="45669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5285880" y="4566960"/>
                <a:ext cx="1164240" cy="251640"/>
                <a:chOff x="5285880" y="4566960"/>
                <a:chExt cx="1164240" cy="25164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5285880" y="45669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85880" y="45669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6450480" y="4566960"/>
                <a:ext cx="1163880" cy="251640"/>
                <a:chOff x="6450480" y="4566960"/>
                <a:chExt cx="1163880" cy="25164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6450480" y="45669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450480" y="45669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1757160" y="4819320"/>
                <a:ext cx="907560" cy="251640"/>
                <a:chOff x="1757160" y="4819320"/>
                <a:chExt cx="907560" cy="25164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1757160" y="481932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tront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757160" y="481932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2665080" y="4819320"/>
                <a:ext cx="1026720" cy="251640"/>
                <a:chOff x="2665080" y="4819320"/>
                <a:chExt cx="1026720" cy="2516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2665080" y="481932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r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65080" y="481932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"/>
              <p:cNvGrpSpPr/>
              <p:nvPr/>
            </p:nvGrpSpPr>
            <p:grpSpPr>
              <a:xfrm>
                <a:off x="3692160" y="4819320"/>
                <a:ext cx="1593000" cy="251640"/>
                <a:chOff x="3692160" y="4819320"/>
                <a:chExt cx="1593000" cy="25164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3692160" y="481932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692160" y="481932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5285880" y="4819320"/>
                <a:ext cx="1164240" cy="251640"/>
                <a:chOff x="5285880" y="4819320"/>
                <a:chExt cx="1164240" cy="25164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5285880" y="481932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285880" y="481932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6450480" y="4819320"/>
                <a:ext cx="1163880" cy="251640"/>
                <a:chOff x="6450480" y="4819320"/>
                <a:chExt cx="1163880" cy="25164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6450480" y="481932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450480" y="481932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1757160" y="5071680"/>
                <a:ext cx="907560" cy="251640"/>
                <a:chOff x="1757160" y="5071680"/>
                <a:chExt cx="907560" cy="25164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1757160" y="507168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ardness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757160" y="507168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2665080" y="5071680"/>
                <a:ext cx="1026720" cy="251640"/>
                <a:chOff x="2665080" y="5071680"/>
                <a:chExt cx="1026720" cy="25164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2665080" y="507168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 and Mg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665080" y="507168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3692160" y="5071680"/>
                <a:ext cx="1593000" cy="251640"/>
                <a:chOff x="3692160" y="5071680"/>
                <a:chExt cx="1593000" cy="2516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3692160" y="507168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692160" y="507168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5285880" y="5071680"/>
                <a:ext cx="1164240" cy="251640"/>
                <a:chOff x="5285880" y="5071680"/>
                <a:chExt cx="1164240" cy="25164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5285880" y="507168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285880" y="507168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6450480" y="5071680"/>
                <a:ext cx="1163880" cy="251640"/>
                <a:chOff x="6450480" y="5071680"/>
                <a:chExt cx="1163880" cy="25164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6450480" y="507168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50480" y="507168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1757160" y="5324040"/>
                <a:ext cx="907560" cy="251640"/>
                <a:chOff x="1757160" y="5324040"/>
                <a:chExt cx="907560" cy="25164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1757160" y="532404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admium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757160" y="532404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2665080" y="5324040"/>
                <a:ext cx="1026720" cy="251640"/>
                <a:chOff x="2665080" y="5324040"/>
                <a:chExt cx="1026720" cy="25164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2665080" y="532404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d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2665080" y="532404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3692160" y="5324040"/>
                <a:ext cx="1593000" cy="251640"/>
                <a:chOff x="3692160" y="5324040"/>
                <a:chExt cx="1593000" cy="2516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3692160" y="532404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692160" y="532404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5285880" y="5324040"/>
                <a:ext cx="1164240" cy="251640"/>
                <a:chOff x="5285880" y="5324040"/>
                <a:chExt cx="1164240" cy="25164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5285880" y="532404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285880" y="532404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6450480" y="5324040"/>
                <a:ext cx="1163880" cy="251640"/>
                <a:chOff x="6450480" y="5324040"/>
                <a:chExt cx="1163880" cy="25164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6450480" y="532404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0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450480" y="532404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1757160" y="5576400"/>
                <a:ext cx="907560" cy="251640"/>
                <a:chOff x="1757160" y="5576400"/>
                <a:chExt cx="907560" cy="2516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1757160" y="557640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lver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757160" y="557640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2665080" y="5576400"/>
                <a:ext cx="1026720" cy="251640"/>
                <a:chOff x="2665080" y="5576400"/>
                <a:chExt cx="1026720" cy="25164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2665080" y="557640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g+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2665080" y="557640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3692160" y="5576400"/>
                <a:ext cx="1593000" cy="251640"/>
                <a:chOff x="3692160" y="5576400"/>
                <a:chExt cx="1593000" cy="2516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3692160" y="557640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692160" y="557640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5285880" y="5576400"/>
                <a:ext cx="1164240" cy="251640"/>
                <a:chOff x="5285880" y="5576400"/>
                <a:chExt cx="1164240" cy="25164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5285880" y="557640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285880" y="557640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6450480" y="5576400"/>
                <a:ext cx="1163880" cy="251640"/>
                <a:chOff x="6450480" y="5576400"/>
                <a:chExt cx="1163880" cy="2516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6450480" y="557640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450480" y="557640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1757160" y="5828760"/>
                <a:ext cx="907560" cy="251640"/>
                <a:chOff x="1757160" y="5828760"/>
                <a:chExt cx="907560" cy="25164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1757160" y="5828760"/>
                  <a:ext cx="9075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Mercury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1757160" y="5828760"/>
                  <a:ext cx="90756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2665080" y="5828760"/>
                <a:ext cx="1026720" cy="251640"/>
                <a:chOff x="2665080" y="5828760"/>
                <a:chExt cx="1026720" cy="25164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2665080" y="5828760"/>
                  <a:ext cx="10267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g+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2665080" y="5828760"/>
                  <a:ext cx="102672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3692160" y="5828760"/>
                <a:ext cx="1593000" cy="251640"/>
                <a:chOff x="3692160" y="5828760"/>
                <a:chExt cx="1593000" cy="25164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692160" y="5828760"/>
                  <a:ext cx="159300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6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692160" y="5828760"/>
                  <a:ext cx="159300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5285880" y="5828760"/>
                <a:ext cx="1164240" cy="251640"/>
                <a:chOff x="5285880" y="5828760"/>
                <a:chExt cx="1164240" cy="25164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5285880" y="5828760"/>
                  <a:ext cx="116424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285880" y="5828760"/>
                  <a:ext cx="116424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6450480" y="5828760"/>
                <a:ext cx="1163880" cy="251640"/>
                <a:chOff x="6450480" y="5828760"/>
                <a:chExt cx="1163880" cy="25164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6450480" y="5828760"/>
                  <a:ext cx="116388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6450480" y="5828760"/>
                  <a:ext cx="1163880" cy="25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1" name=""/>
            <p:cNvSpPr/>
            <p:nvPr/>
          </p:nvSpPr>
          <p:spPr>
            <a:xfrm>
              <a:off x="1752480" y="1219320"/>
              <a:ext cx="5867280" cy="4866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RECHAZ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440" y="1076400"/>
            <a:ext cx="6473880" cy="360"/>
            <a:chOff x="1440" y="1076400"/>
            <a:chExt cx="6473880" cy="360"/>
          </a:xfrm>
        </p:grpSpPr>
        <p:sp>
          <p:nvSpPr>
            <p:cNvPr id="954" name=""/>
            <p:cNvSpPr/>
            <p:nvPr/>
          </p:nvSpPr>
          <p:spPr>
            <a:xfrm>
              <a:off x="1440" y="10764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1440" y="1076400"/>
              <a:ext cx="6473880" cy="360"/>
              <a:chOff x="1440" y="1076400"/>
              <a:chExt cx="6473880" cy="360"/>
            </a:xfrm>
          </p:grpSpPr>
          <p:sp>
            <p:nvSpPr>
              <p:cNvPr id="956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440" y="10764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1440" y="1519200"/>
            <a:ext cx="6473880" cy="360"/>
            <a:chOff x="1440" y="1519200"/>
            <a:chExt cx="6473880" cy="360"/>
          </a:xfrm>
        </p:grpSpPr>
        <p:sp>
          <p:nvSpPr>
            <p:cNvPr id="959" name=""/>
            <p:cNvSpPr/>
            <p:nvPr/>
          </p:nvSpPr>
          <p:spPr>
            <a:xfrm>
              <a:off x="1440" y="1519200"/>
              <a:ext cx="5018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440" y="1519200"/>
              <a:ext cx="6473880" cy="360"/>
              <a:chOff x="1440" y="1519200"/>
              <a:chExt cx="6473880" cy="360"/>
            </a:xfrm>
          </p:grpSpPr>
          <p:sp>
            <p:nvSpPr>
              <p:cNvPr id="961" name=""/>
              <p:cNvSpPr/>
              <p:nvPr/>
            </p:nvSpPr>
            <p:spPr>
              <a:xfrm>
                <a:off x="1440" y="15192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440" y="1519200"/>
                <a:ext cx="647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1523880" y="1295280"/>
            <a:ext cx="6324480" cy="4114440"/>
            <a:chOff x="1523880" y="1295280"/>
            <a:chExt cx="6324480" cy="4114440"/>
          </a:xfrm>
        </p:grpSpPr>
        <p:grpSp>
          <p:nvGrpSpPr>
            <p:cNvPr id="964" name=""/>
            <p:cNvGrpSpPr/>
            <p:nvPr/>
          </p:nvGrpSpPr>
          <p:grpSpPr>
            <a:xfrm>
              <a:off x="1528920" y="1299960"/>
              <a:ext cx="6313680" cy="4103640"/>
              <a:chOff x="1528920" y="1299960"/>
              <a:chExt cx="6313680" cy="4103640"/>
            </a:xfrm>
          </p:grpSpPr>
          <p:grpSp>
            <p:nvGrpSpPr>
              <p:cNvPr id="965" name=""/>
              <p:cNvGrpSpPr/>
              <p:nvPr/>
            </p:nvGrpSpPr>
            <p:grpSpPr>
              <a:xfrm>
                <a:off x="1528920" y="1299960"/>
                <a:ext cx="6313680" cy="262080"/>
                <a:chOff x="1528920" y="1299960"/>
                <a:chExt cx="6313680" cy="26208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1528920" y="1299960"/>
                  <a:ext cx="631368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ANIONS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528920" y="1299960"/>
                  <a:ext cx="631368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1528920" y="1562400"/>
                <a:ext cx="978120" cy="262080"/>
                <a:chOff x="1528920" y="1562400"/>
                <a:chExt cx="978120" cy="26208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1528920" y="156240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hlor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528920" y="156240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2507400" y="1562400"/>
                <a:ext cx="1106640" cy="262080"/>
                <a:chOff x="2507400" y="1562400"/>
                <a:chExt cx="1106640" cy="26208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2507400" y="156240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l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507400" y="156240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3614760" y="1562400"/>
                <a:ext cx="1717200" cy="262080"/>
                <a:chOff x="3614760" y="1562400"/>
                <a:chExt cx="1717200" cy="26208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614760" y="156240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614760" y="156240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5332680" y="1562400"/>
                <a:ext cx="1254960" cy="262080"/>
                <a:chOff x="5332680" y="1562400"/>
                <a:chExt cx="1254960" cy="26208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5332680" y="156240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332680" y="156240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588000" y="1562400"/>
                <a:ext cx="1254600" cy="262080"/>
                <a:chOff x="6588000" y="1562400"/>
                <a:chExt cx="1254600" cy="26208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588000" y="156240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6588000" y="156240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1528920" y="1825200"/>
                <a:ext cx="978120" cy="262080"/>
                <a:chOff x="1528920" y="1825200"/>
                <a:chExt cx="978120" cy="26208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1528920" y="182520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icarbon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528920" y="182520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2507400" y="1825200"/>
                <a:ext cx="1106640" cy="262080"/>
                <a:chOff x="2507400" y="1825200"/>
                <a:chExt cx="1106640" cy="26208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2507400" y="182520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HCO3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507400" y="182520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3614760" y="1825200"/>
                <a:ext cx="1717200" cy="262080"/>
                <a:chOff x="3614760" y="1825200"/>
                <a:chExt cx="1717200" cy="26208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3614760" y="182520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614760" y="182520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5332680" y="1825200"/>
                <a:ext cx="1254960" cy="262080"/>
                <a:chOff x="5332680" y="1825200"/>
                <a:chExt cx="1254960" cy="2620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5332680" y="182520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332680" y="182520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588000" y="1825200"/>
                <a:ext cx="1254600" cy="262080"/>
                <a:chOff x="6588000" y="1825200"/>
                <a:chExt cx="1254600" cy="26208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588000" y="182520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-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588000" y="182520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1528920" y="2087640"/>
                <a:ext cx="978120" cy="262080"/>
                <a:chOff x="1528920" y="2087640"/>
                <a:chExt cx="978120" cy="26208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1528920" y="20876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ulf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1528920" y="20876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2507400" y="2087640"/>
                <a:ext cx="1106640" cy="262080"/>
                <a:chOff x="2507400" y="2087640"/>
                <a:chExt cx="1106640" cy="2620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2507400" y="20876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4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2507400" y="20876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3614760" y="2087640"/>
                <a:ext cx="1717200" cy="262080"/>
                <a:chOff x="3614760" y="2087640"/>
                <a:chExt cx="1717200" cy="26208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3614760" y="20876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614760" y="20876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5332680" y="2087640"/>
                <a:ext cx="1254960" cy="262080"/>
                <a:chOff x="5332680" y="2087640"/>
                <a:chExt cx="1254960" cy="26208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5332680" y="20876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332680" y="20876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6588000" y="2087640"/>
                <a:ext cx="1254600" cy="262080"/>
                <a:chOff x="6588000" y="2087640"/>
                <a:chExt cx="1254600" cy="26208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6588000" y="20876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588000" y="20876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3" name=""/>
              <p:cNvGrpSpPr/>
              <p:nvPr/>
            </p:nvGrpSpPr>
            <p:grpSpPr>
              <a:xfrm>
                <a:off x="1528920" y="2350440"/>
                <a:ext cx="978120" cy="262080"/>
                <a:chOff x="1528920" y="2350440"/>
                <a:chExt cx="978120" cy="26208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1528920" y="23504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itr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528920" y="23504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2507400" y="2350440"/>
                <a:ext cx="1106640" cy="262080"/>
                <a:chOff x="2507400" y="2350440"/>
                <a:chExt cx="1106640" cy="26208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2507400" y="23504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NO3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2507400" y="23504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9" name=""/>
              <p:cNvGrpSpPr/>
              <p:nvPr/>
            </p:nvGrpSpPr>
            <p:grpSpPr>
              <a:xfrm>
                <a:off x="3614760" y="2350440"/>
                <a:ext cx="1717200" cy="262080"/>
                <a:chOff x="3614760" y="2350440"/>
                <a:chExt cx="1717200" cy="26208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3614760" y="23504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3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614760" y="23504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2" name=""/>
              <p:cNvGrpSpPr/>
              <p:nvPr/>
            </p:nvGrpSpPr>
            <p:grpSpPr>
              <a:xfrm>
                <a:off x="5332680" y="2350440"/>
                <a:ext cx="1254960" cy="262080"/>
                <a:chOff x="5332680" y="2350440"/>
                <a:chExt cx="1254960" cy="26208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5332680" y="23504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332680" y="23504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5" name=""/>
              <p:cNvGrpSpPr/>
              <p:nvPr/>
            </p:nvGrpSpPr>
            <p:grpSpPr>
              <a:xfrm>
                <a:off x="6588000" y="2350440"/>
                <a:ext cx="1254600" cy="262080"/>
                <a:chOff x="6588000" y="2350440"/>
                <a:chExt cx="1254600" cy="26208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6588000" y="23504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588000" y="23504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1528920" y="2613240"/>
                <a:ext cx="978120" cy="262440"/>
                <a:chOff x="1528920" y="2613240"/>
                <a:chExt cx="978120" cy="26244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1528920" y="2613240"/>
                  <a:ext cx="97812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luor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528920" y="2613240"/>
                  <a:ext cx="97812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1" name=""/>
              <p:cNvGrpSpPr/>
              <p:nvPr/>
            </p:nvGrpSpPr>
            <p:grpSpPr>
              <a:xfrm>
                <a:off x="2507400" y="2613240"/>
                <a:ext cx="1106640" cy="262440"/>
                <a:chOff x="2507400" y="2613240"/>
                <a:chExt cx="1106640" cy="26244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2507400" y="2613240"/>
                  <a:ext cx="110664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2507400" y="2613240"/>
                  <a:ext cx="110664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3614760" y="2613240"/>
                <a:ext cx="1717200" cy="262440"/>
                <a:chOff x="3614760" y="2613240"/>
                <a:chExt cx="1717200" cy="26244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3614760" y="2613240"/>
                  <a:ext cx="171720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614760" y="2613240"/>
                  <a:ext cx="171720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5332680" y="2613240"/>
                <a:ext cx="1254960" cy="262440"/>
                <a:chOff x="5332680" y="2613240"/>
                <a:chExt cx="1254960" cy="26244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5332680" y="2613240"/>
                  <a:ext cx="125496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332680" y="2613240"/>
                  <a:ext cx="125496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6588000" y="2613240"/>
                <a:ext cx="1254600" cy="262440"/>
                <a:chOff x="6588000" y="2613240"/>
                <a:chExt cx="1254600" cy="26244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6588000" y="2613240"/>
                  <a:ext cx="125460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588000" y="2613240"/>
                  <a:ext cx="1254600" cy="26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1528920" y="2876040"/>
                <a:ext cx="978120" cy="262080"/>
                <a:chOff x="1528920" y="2876040"/>
                <a:chExt cx="978120" cy="26208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1528920" y="28760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lic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528920" y="28760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2507400" y="2876040"/>
                <a:ext cx="1106640" cy="262080"/>
                <a:chOff x="2507400" y="2876040"/>
                <a:chExt cx="1106640" cy="26208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2507400" y="28760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iO2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507400" y="28760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9" name=""/>
              <p:cNvGrpSpPr/>
              <p:nvPr/>
            </p:nvGrpSpPr>
            <p:grpSpPr>
              <a:xfrm>
                <a:off x="3614760" y="2876040"/>
                <a:ext cx="1717200" cy="262080"/>
                <a:chOff x="3614760" y="2876040"/>
                <a:chExt cx="1717200" cy="26208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3614760" y="28760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5-97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614760" y="28760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5332680" y="2876040"/>
                <a:ext cx="1254960" cy="262080"/>
                <a:chOff x="5332680" y="2876040"/>
                <a:chExt cx="1254960" cy="26208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5332680" y="28760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5332680" y="28760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6588000" y="2876040"/>
                <a:ext cx="1254600" cy="262080"/>
                <a:chOff x="6588000" y="2876040"/>
                <a:chExt cx="1254600" cy="26208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6588000" y="28760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588000" y="28760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1528920" y="3138840"/>
                <a:ext cx="978120" cy="262080"/>
                <a:chOff x="1528920" y="3138840"/>
                <a:chExt cx="978120" cy="26208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1528920" y="31388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hosph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1528920" y="31388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2507400" y="3138840"/>
                <a:ext cx="1106640" cy="262080"/>
                <a:chOff x="2507400" y="3138840"/>
                <a:chExt cx="1106640" cy="26208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2507400" y="31388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PO4-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2507400" y="31388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3614760" y="3138840"/>
                <a:ext cx="1717200" cy="262080"/>
                <a:chOff x="3614760" y="3138840"/>
                <a:chExt cx="1717200" cy="26208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614760" y="31388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614760" y="31388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5332680" y="3138840"/>
                <a:ext cx="1254960" cy="262080"/>
                <a:chOff x="5332680" y="3138840"/>
                <a:chExt cx="1254960" cy="26208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5332680" y="31388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332680" y="31388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6588000" y="3138840"/>
                <a:ext cx="1254600" cy="262080"/>
                <a:chOff x="6588000" y="3138840"/>
                <a:chExt cx="1254600" cy="26208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6588000" y="31388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588000" y="31388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1528920" y="3401640"/>
                <a:ext cx="978120" cy="262080"/>
                <a:chOff x="1528920" y="3401640"/>
                <a:chExt cx="978120" cy="26208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1528920" y="340164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rom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528920" y="340164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2507400" y="3401640"/>
                <a:ext cx="1106640" cy="262080"/>
                <a:chOff x="2507400" y="3401640"/>
                <a:chExt cx="1106640" cy="26208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2507400" y="340164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r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2507400" y="340164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3614760" y="3401640"/>
                <a:ext cx="1717200" cy="262080"/>
                <a:chOff x="3614760" y="3401640"/>
                <a:chExt cx="1717200" cy="26208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3614760" y="340164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4-9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614760" y="340164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5332680" y="3401640"/>
                <a:ext cx="1254960" cy="262080"/>
                <a:chOff x="5332680" y="3401640"/>
                <a:chExt cx="1254960" cy="26208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5332680" y="340164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5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5332680" y="340164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6588000" y="3401640"/>
                <a:ext cx="1254600" cy="262080"/>
                <a:chOff x="6588000" y="3401640"/>
                <a:chExt cx="1254600" cy="26208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6588000" y="340164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-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588000" y="340164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1528920" y="3664080"/>
                <a:ext cx="978120" cy="262080"/>
                <a:chOff x="1528920" y="3664080"/>
                <a:chExt cx="978120" cy="26208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1528920" y="366408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or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1528920" y="366408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2507400" y="3664080"/>
                <a:ext cx="1106640" cy="262080"/>
                <a:chOff x="2507400" y="3664080"/>
                <a:chExt cx="1106640" cy="26208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2507400" y="366408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B4O7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507400" y="366408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614760" y="3664080"/>
                <a:ext cx="1717200" cy="262080"/>
                <a:chOff x="3614760" y="3664080"/>
                <a:chExt cx="1717200" cy="26208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614760" y="366408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35-70*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614760" y="366408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5332680" y="3664080"/>
                <a:ext cx="1254960" cy="262080"/>
                <a:chOff x="5332680" y="3664080"/>
                <a:chExt cx="1254960" cy="26208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5332680" y="366408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332680" y="366408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6588000" y="3664080"/>
                <a:ext cx="1254600" cy="262080"/>
                <a:chOff x="6588000" y="3664080"/>
                <a:chExt cx="1254600" cy="26208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6588000" y="366408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6588000" y="366408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1528920" y="3926880"/>
                <a:ext cx="978120" cy="262080"/>
                <a:chOff x="1528920" y="3926880"/>
                <a:chExt cx="978120" cy="26208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1528920" y="392688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hrom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1528920" y="392688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507400" y="3926880"/>
                <a:ext cx="1106640" cy="262080"/>
                <a:chOff x="2507400" y="3926880"/>
                <a:chExt cx="1106640" cy="26208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507400" y="392688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rO4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507400" y="392688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3614760" y="3926880"/>
                <a:ext cx="1717200" cy="262080"/>
                <a:chOff x="3614760" y="3926880"/>
                <a:chExt cx="1717200" cy="26208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3614760" y="392688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-98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614760" y="392688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332680" y="3926880"/>
                <a:ext cx="1254960" cy="262080"/>
                <a:chOff x="5332680" y="3926880"/>
                <a:chExt cx="1254960" cy="26208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332680" y="392688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6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332680" y="392688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6588000" y="3926880"/>
                <a:ext cx="1254600" cy="262080"/>
                <a:chOff x="6588000" y="3926880"/>
                <a:chExt cx="1254600" cy="26208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6588000" y="392688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6588000" y="392688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1528920" y="4189320"/>
                <a:ext cx="978120" cy="262080"/>
                <a:chOff x="1528920" y="4189320"/>
                <a:chExt cx="978120" cy="26208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1528920" y="41893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yan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528920" y="41893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507400" y="4189320"/>
                <a:ext cx="1106640" cy="262080"/>
                <a:chOff x="2507400" y="4189320"/>
                <a:chExt cx="1106640" cy="26208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507400" y="41893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CN-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507400" y="41893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3614760" y="4189320"/>
                <a:ext cx="1717200" cy="262080"/>
                <a:chOff x="3614760" y="4189320"/>
                <a:chExt cx="1717200" cy="26208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3614760" y="41893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0-95**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3614760" y="41893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5332680" y="4189320"/>
                <a:ext cx="1254960" cy="262080"/>
                <a:chOff x="5332680" y="4189320"/>
                <a:chExt cx="1254960" cy="262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5332680" y="41893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-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5332680" y="41893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6588000" y="4189320"/>
                <a:ext cx="1254600" cy="262080"/>
                <a:chOff x="6588000" y="4189320"/>
                <a:chExt cx="1254600" cy="26208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6588000" y="41893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4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6588000" y="41893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1528920" y="4452120"/>
                <a:ext cx="978120" cy="262080"/>
                <a:chOff x="1528920" y="4452120"/>
                <a:chExt cx="978120" cy="26208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1528920" y="44521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ulfi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528920" y="44521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2507400" y="4452120"/>
                <a:ext cx="1106640" cy="262080"/>
                <a:chOff x="2507400" y="4452120"/>
                <a:chExt cx="1106640" cy="26208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2507400" y="44521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O3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507400" y="44521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3614760" y="4452120"/>
                <a:ext cx="1717200" cy="262080"/>
                <a:chOff x="3614760" y="4452120"/>
                <a:chExt cx="1717200" cy="26208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3614760" y="44521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8-99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614760" y="44521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5332680" y="4452120"/>
                <a:ext cx="1254960" cy="262080"/>
                <a:chOff x="5332680" y="4452120"/>
                <a:chExt cx="1254960" cy="2620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5332680" y="44521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5332680" y="44521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6588000" y="4452120"/>
                <a:ext cx="1254600" cy="262080"/>
                <a:chOff x="6588000" y="4452120"/>
                <a:chExt cx="1254600" cy="2620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6588000" y="44521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588000" y="44521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1528920" y="4714920"/>
                <a:ext cx="978120" cy="262080"/>
                <a:chOff x="1528920" y="4714920"/>
                <a:chExt cx="978120" cy="2620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1528920" y="4714920"/>
                  <a:ext cx="97812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Thiosulfat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528920" y="4714920"/>
                  <a:ext cx="97812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2507400" y="4714920"/>
                <a:ext cx="1106640" cy="262080"/>
                <a:chOff x="2507400" y="4714920"/>
                <a:chExt cx="1106640" cy="2620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2507400" y="4714920"/>
                  <a:ext cx="110664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S2O3-2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507400" y="4714920"/>
                  <a:ext cx="110664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3614760" y="4714920"/>
                <a:ext cx="1717200" cy="262080"/>
                <a:chOff x="3614760" y="4714920"/>
                <a:chExt cx="1717200" cy="26208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3614760" y="4714920"/>
                  <a:ext cx="17172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614760" y="4714920"/>
                  <a:ext cx="17172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5332680" y="4714920"/>
                <a:ext cx="1254960" cy="262080"/>
                <a:chOff x="5332680" y="4714920"/>
                <a:chExt cx="1254960" cy="2620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5332680" y="4714920"/>
                  <a:ext cx="125496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332680" y="4714920"/>
                  <a:ext cx="125496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6588000" y="4714920"/>
                <a:ext cx="1254600" cy="262080"/>
                <a:chOff x="6588000" y="4714920"/>
                <a:chExt cx="1254600" cy="2620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6588000" y="4714920"/>
                  <a:ext cx="1254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0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6588000" y="4714920"/>
                  <a:ext cx="1254600" cy="26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1528920" y="4977360"/>
                <a:ext cx="978120" cy="426240"/>
                <a:chOff x="1528920" y="4977360"/>
                <a:chExt cx="978120" cy="42624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1528920" y="4977360"/>
                  <a:ext cx="97812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rrocyanide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1528920" y="4977360"/>
                  <a:ext cx="97812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2507400" y="4977360"/>
                <a:ext cx="1106640" cy="426240"/>
                <a:chOff x="2507400" y="4977360"/>
                <a:chExt cx="1106640" cy="42624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2507400" y="4977360"/>
                  <a:ext cx="110664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Fe(CN)6-3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507400" y="4977360"/>
                  <a:ext cx="110664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3614760" y="4977360"/>
                <a:ext cx="1717200" cy="426240"/>
                <a:chOff x="3614760" y="4977360"/>
                <a:chExt cx="1717200" cy="42624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3614760" y="4977360"/>
                  <a:ext cx="17172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99+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614760" y="4977360"/>
                  <a:ext cx="171720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5332680" y="4977360"/>
                <a:ext cx="1254960" cy="426240"/>
                <a:chOff x="5332680" y="4977360"/>
                <a:chExt cx="1254960" cy="42624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5332680" y="4977360"/>
                  <a:ext cx="125496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1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332680" y="4977360"/>
                  <a:ext cx="125496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6588000" y="4977360"/>
                <a:ext cx="1254600" cy="426240"/>
                <a:chOff x="6588000" y="4977360"/>
                <a:chExt cx="1254600" cy="42624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6588000" y="4977360"/>
                  <a:ext cx="12546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05050"/>
                      </a:solidFill>
                      <a:latin typeface="Tahoma"/>
                      <a:ea typeface="Tahoma"/>
                    </a:rPr>
                    <a:t>8-14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588000" y="4977360"/>
                  <a:ext cx="1254600" cy="42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1523880" y="1295280"/>
              <a:ext cx="6324480" cy="4114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1523880" y="5486400"/>
            <a:ext cx="6400440" cy="685800"/>
            <a:chOff x="1523880" y="5486400"/>
            <a:chExt cx="6400440" cy="685800"/>
          </a:xfrm>
        </p:grpSpPr>
        <p:sp>
          <p:nvSpPr>
            <p:cNvPr id="1180" name=""/>
            <p:cNvSpPr/>
            <p:nvPr/>
          </p:nvSpPr>
          <p:spPr>
            <a:xfrm>
              <a:off x="1523880" y="5486400"/>
              <a:ext cx="6400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523880" y="5486400"/>
              <a:ext cx="6400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505050"/>
                  </a:solidFill>
                  <a:latin typeface="Tahoma"/>
                  <a:ea typeface="Tahoma"/>
                </a:rPr>
                <a:t>*Must watch for precipitation, other ion controls maximum concentration.</a:t>
              </a:r>
              <a:br>
                <a:rPr sz="1200"/>
              </a:br>
              <a:r>
                <a:rPr b="0" lang="es-ES" sz="1200" spc="-1" strike="noStrike">
                  <a:solidFill>
                    <a:srgbClr val="505050"/>
                  </a:solidFill>
                  <a:latin typeface="Tahoma"/>
                  <a:ea typeface="Tahoma"/>
                </a:rPr>
                <a:t>**Extremely dependent on pH; tends to be an exception to the rule.</a:t>
              </a: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ISTEMAS DE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3" name="Membrana%20espiral%20esq" descr=""/>
          <p:cNvPicPr/>
          <p:nvPr/>
        </p:nvPicPr>
        <p:blipFill>
          <a:blip r:embed="rId2"/>
          <a:stretch/>
        </p:blipFill>
        <p:spPr>
          <a:xfrm>
            <a:off x="228600" y="1389240"/>
            <a:ext cx="89154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membrana%20espiral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34653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1143000" y="762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ISTEMAS DE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6" name="Membrana%20hollow%20fiber%20esq" descr=""/>
          <p:cNvPicPr/>
          <p:nvPr/>
        </p:nvPicPr>
        <p:blipFill>
          <a:blip r:embed="rId2"/>
          <a:stretch/>
        </p:blipFill>
        <p:spPr>
          <a:xfrm>
            <a:off x="990720" y="1317600"/>
            <a:ext cx="74674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685800" y="76212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PRETRATAMIENT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tapa fundamental para controlar el ensuciamiento de las membran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188" name="Pretratamiento%20membranas" descr=""/>
          <p:cNvPicPr/>
          <p:nvPr/>
        </p:nvPicPr>
        <p:blipFill>
          <a:blip r:embed="rId2"/>
          <a:stretch/>
        </p:blipFill>
        <p:spPr>
          <a:xfrm>
            <a:off x="838080" y="1909800"/>
            <a:ext cx="7467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685800" y="762120"/>
            <a:ext cx="81532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PRETRATAMIENTO EN OSMOSIS INVER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Pretratamiento incluye desinfección, coagulación, acidificación, filtración, decloración, control sales poco solubles y microfiltración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Desinfección: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Hipoclorito de sodi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Clarificación: 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Técnicas convencionales de filtración.  Cada fabricante especifica el máximo nivel de turbiedad o IDS (índice de ensuciamiento de membranas)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0066"/>
                </a:solidFill>
                <a:uFillTx/>
                <a:latin typeface="Comic Sans MS"/>
              </a:rPr>
              <a:t>Decloración</a:t>
            </a:r>
            <a:r>
              <a:rPr b="0" lang="es-ES" sz="2000" spc="-1" strike="noStrike">
                <a:solidFill>
                  <a:srgbClr val="660066"/>
                </a:solidFill>
                <a:latin typeface="Comic Sans MS"/>
              </a:rPr>
              <a:t>: Necesario en el caso de membranas de poliamida que no admiten cloro ni ningún oxidante.  Se utiliza bisulfito sódico o filtros de carbón activad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c7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0" y="578340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Comic Sans MS"/>
              </a:rPr>
              <a:t>Esquema Normativo Efluente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19:59:01Z</dcterms:created>
  <dc:creator>mpm</dc:creator>
  <dc:description/>
  <dc:language>en-US</dc:language>
  <cp:lastModifiedBy>Dii</cp:lastModifiedBy>
  <dcterms:modified xsi:type="dcterms:W3CDTF">2004-08-13T21:41:06Z</dcterms:modified>
  <cp:revision>23</cp:revision>
  <dc:subject/>
  <dc:title>Presentación de PowerPoint</dc:title>
</cp:coreProperties>
</file>