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8E07E-80C6-40A1-929C-21AC105C4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0C811-8302-4F33-96C7-AAE36FE01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83746-9A26-498A-9A5E-D761F791B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66DE5-C448-41DB-813F-44B6734DE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F5212-3201-4DC0-99D6-F95311B29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C561C-37F5-4A20-9614-6F90AC2FD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FA4DE-48A3-4404-A13B-5FE3EEC89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F82DF-14BE-4DB3-8360-80B517089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AEDF6-477C-414A-8803-505AADA0F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BEE86-902B-44A2-871D-7A59054BF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7CDF8-6317-4E32-AB56-2FE3FDDD2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F9DA-773F-45F3-8413-48A02931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28AE4-E6FB-44A6-9A20-6BBF38ED0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D37FD-BA01-40C8-B1A3-8EDFF8E9A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5315A-6D90-44F4-9037-9217F5093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D9606-1C64-4889-A3D1-4F187FB61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A403C-2992-49B9-9FF5-24F701DF2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FBCB5-B281-4FE4-BD4F-0DD2694FF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CDC05-BC0C-43FF-AC0F-AE94C56B4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DD4FC-4CEA-4B66-8A31-EAC1322C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A408-5071-45F8-8387-32A5DB270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2D0A2-547E-4DE1-BF15-C0A0BDA4E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E756C-5036-430E-AA4B-4BC746196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80F6-6EB4-4184-A812-A3A1959CE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DE2F-B9AB-4B47-9982-6A5CF6D910A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575F-6BD1-4983-8B44-629C8F637E0A}"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ahoma"/>
              </a:rPr>
              <a:t>PROGRAMA DE POSTITULO EN CONTROL Y GESTION AMBIENTAL</a:t>
            </a:r>
            <a:endParaRPr b="0" lang="en-US" sz="2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2279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PICOS AVANZADOS EN CONTAMINACION DE AGUAS</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RTAMIENTO DE CONTAMINANTES EN MEDIO ACUATICO</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f.Ana Maria Sancha 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620640"/>
            <a:ext cx="77932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piedades físico-químicas y partición o distribución del contaminante</a:t>
            </a:r>
            <a:br>
              <a:rPr sz="2800"/>
            </a:b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da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de vap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ficientes de partición ó distribu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LUBILIDAD</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se refiere a la máxima concentración del contaminante que se disuelve en una cantidad definida de agua pura.La temperatura y el pH pueden influir sobre ell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depende de la naturaleza química y mas concretamente de la estructura molecular del contaminante.</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se adsorben con baja afinidad en los suelos.La solubilidad también afecta la volatilidad desde el agu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tienden a ser menos volátiles y también muy biodegrad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SION DE VAPOR</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da de la volatilidad del contaminante.La tasa de volatilidad depende de temperatura, velocidad del viento, condiciones del suelo, características de adsorción y solubilidad en agua.</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taminantes con presiones de vapor bajas y una alta afinidad por suelos o agua tienen menores probabilidades de evaporarse y llegar al aire que aquellos con una presión de vapor alta y con menor afinidad por el agua o suelo.</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sión de vapor depende de la temperatura y de la estructura molecul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4"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La partición ambiental se refiere a la distribución de un compuesto químico en compartimientos ambientales (suelo, aire, agua, biota).</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Un ecosistema puede ser considerado como una serie de compartimentos homogéneos. La concentración de un tóxico en  cualquier compartimento se relaciona con la concentración en cualquier otro compartimiento, a través de coeficientes de partición o distribución específ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Los contaminantes se desplazarán desde su punto de entrada, en el ambiente acuático, hasta el compartimiento ambiental hacia el  cual tienen mayor afinidad. Desde este compartimiento, las sustancias pueden ser transferidas nuevamente a otro compartimiento. Los contaminantes pueden experimentar transformaciones químicas en cada uno de los compartimientos ambiental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cuya solubilidad en agua es muy alta se descarga en el suelo, permanecerá ahí hasta que entre en contacto con el agua, en la cual se disuelve y transfie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de gran afinidad con el suelo se descarga en el agua, llegará rápidamente a los sedimentos y permanecerá en ello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sustancias  aniónicas, en general, tienen una fuerte afinidad con el agua y las catiónicas con el suel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OCTANOL/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ow</a:t>
            </a:r>
            <a:r>
              <a:rPr b="1" lang="es-ES_tradnl" sz="2400" spc="-1" strike="noStrike">
                <a:solidFill>
                  <a:srgbClr val="333399"/>
                </a:solidFill>
                <a:latin typeface="Arial"/>
              </a:rPr>
              <a:t>)</a:t>
            </a:r>
            <a:endParaRPr b="0" lang="en-US" sz="2400" spc="-1" strike="noStrike">
              <a:solidFill>
                <a:srgbClr val="333399"/>
              </a:solidFill>
              <a:latin typeface="Tahoma"/>
            </a:endParaRPr>
          </a:p>
        </p:txBody>
      </p:sp>
      <p:sp>
        <p:nvSpPr>
          <p:cNvPr id="128" name="PlaceHolder 2"/>
          <p:cNvSpPr>
            <a:spLocks noGrp="1"/>
          </p:cNvSpPr>
          <p:nvPr>
            <p:ph/>
          </p:nvPr>
        </p:nvSpPr>
        <p:spPr>
          <a:xfrm>
            <a:off x="685800" y="3213000"/>
            <a:ext cx="7772400" cy="3035520"/>
          </a:xfrm>
          <a:prstGeom prst="rect">
            <a:avLst/>
          </a:prstGeom>
          <a:noFill/>
          <a:ln w="0">
            <a:noFill/>
          </a:ln>
        </p:spPr>
        <p:txBody>
          <a:bodyPr lIns="90000" rIns="90000" tIns="46800" bIns="46800"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K</a:t>
            </a:r>
            <a:r>
              <a:rPr b="0" lang="es-ES_tradnl" sz="2000" spc="-1" strike="noStrike" baseline="-25000">
                <a:solidFill>
                  <a:srgbClr val="000000"/>
                </a:solidFill>
                <a:latin typeface="Arial"/>
              </a:rPr>
              <a:t>ow</a:t>
            </a:r>
            <a:r>
              <a:rPr b="0" lang="es-ES_tradnl" sz="2000" spc="-1" strike="noStrike">
                <a:solidFill>
                  <a:srgbClr val="000000"/>
                </a:solidFill>
                <a:latin typeface="Arial"/>
              </a:rPr>
              <a:t> es una medida de la lipofilicidad o de la afinidad con los lípidos de una sustancia disuelta en agua.  A mayor K</a:t>
            </a:r>
            <a:r>
              <a:rPr b="0" lang="es-ES_tradnl" sz="2000" spc="-1" strike="noStrike" baseline="-25000">
                <a:solidFill>
                  <a:srgbClr val="000000"/>
                </a:solidFill>
                <a:latin typeface="Arial"/>
              </a:rPr>
              <a:t>ow</a:t>
            </a:r>
            <a:r>
              <a:rPr b="0" lang="es-ES_tradnl" sz="2000" spc="-1" strike="noStrike">
                <a:solidFill>
                  <a:srgbClr val="000000"/>
                </a:solidFill>
                <a:latin typeface="Arial"/>
              </a:rPr>
              <a:t> mayor es la probabilidad que el compuesto se particione en el octanol a que permanezca en el agua. El octanol se usa como sustituto de los lípidos (grasas) y K</a:t>
            </a:r>
            <a:r>
              <a:rPr b="0" lang="es-ES_tradnl" sz="2000" spc="-1" strike="noStrike" baseline="-25000">
                <a:solidFill>
                  <a:srgbClr val="000000"/>
                </a:solidFill>
                <a:latin typeface="Arial"/>
              </a:rPr>
              <a:t>ow</a:t>
            </a:r>
            <a:r>
              <a:rPr b="0" lang="es-ES_tradnl" sz="2000" spc="-1" strike="noStrike">
                <a:solidFill>
                  <a:srgbClr val="000000"/>
                </a:solidFill>
                <a:latin typeface="Arial"/>
              </a:rPr>
              <a:t> puede usarse para predecir bioconcentración en organism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octanol por sus propiedades físico-químicas es similar en muchos aspectos a la materia orgánica, débilmente polar, presente en suelos y tejidos lipídicos de la biota.</a:t>
            </a:r>
            <a:endParaRPr b="0" lang="en-US" sz="20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1763640" y="2205000"/>
                <a:ext cx="5302440" cy="631800"/>
              </a:xfrm>
              <a:prstGeom prst="rect">
                <a:avLst/>
              </a:prstGeom>
            </p:spPr>
            <p:txBody>
              <a:bodyPr/>
              <a:p>
                <a14:m>
                  <m:oMath xmlns:m="http://schemas.openxmlformats.org/officeDocument/2006/math">
                    <m:sSub>
                      <m:e>
                        <m:r>
                          <m:t xml:space="preserve">K</m:t>
                        </m:r>
                      </m:e>
                      <m:sub>
                        <m:r>
                          <m:rPr>
                            <m:lit/>
                            <m:nor/>
                          </m:rPr>
                          <m:t xml:space="preserve">ow</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octanol</m:t>
                        </m:r>
                        <m:r>
                          <m:t xml:space="preserve"> </m:t>
                        </m:r>
                        <m:r>
                          <m:t xml:space="preserve">(</m:t>
                        </m:r>
                        <m:sSub>
                          <m:e>
                            <m:r>
                              <m:t xml:space="preserve">C</m:t>
                            </m:r>
                          </m:e>
                          <m:sub>
                            <m:r>
                              <m:t xml:space="preserve">o</m:t>
                            </m:r>
                          </m:sub>
                        </m:sSub>
                        <m:r>
                          <m:t xml:space="preserve">)</m:t>
                        </m:r>
                      </m:num>
                      <m:den>
                        <m:r>
                          <m:rPr>
                            <m:lit/>
                            <m:nor/>
                          </m:rPr>
                          <m:t xml:space="preserve">concentración</m:t>
                        </m:r>
                        <m:r>
                          <m:t xml:space="preserve"> </m:t>
                        </m:r>
                        <m:r>
                          <m:rPr>
                            <m:lit/>
                            <m:nor/>
                          </m:rPr>
                          <m:t xml:space="preserve">de</m:t>
                        </m:r>
                        <m:r>
                          <m:t xml:space="preserve"> </m:t>
                        </m:r>
                        <m:r>
                          <m:rPr>
                            <m:lit/>
                            <m:nor/>
                          </m:rPr>
                          <m:t xml:space="preserve">compuesto</m:t>
                        </m:r>
                        <m:r>
                          <m:t xml:space="preserve"> </m:t>
                        </m:r>
                        <m:r>
                          <m:rPr>
                            <m:lit/>
                            <m:nor/>
                          </m:rPr>
                          <m:t xml:space="preserve">en</m:t>
                        </m:r>
                        <m:r>
                          <m:t xml:space="preserve"> </m:t>
                        </m:r>
                        <m:r>
                          <m:rPr>
                            <m:lit/>
                            <m:nor/>
                          </m:rPr>
                          <m:t xml:space="preserve">agua</m:t>
                        </m:r>
                        <m:r>
                          <m:t xml:space="preserve"> </m:t>
                        </m:r>
                        <m:r>
                          <m:t xml:space="preserve">(</m:t>
                        </m:r>
                        <m:sSub>
                          <m:e>
                            <m:r>
                              <m:t xml:space="preserve">C</m:t>
                            </m:r>
                          </m:e>
                          <m:sub>
                            <m:r>
                              <m:t xml:space="preserve">w</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SUELO/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d</a:t>
            </a:r>
            <a:r>
              <a:rPr b="1" lang="es-ES_tradnl" sz="2400" spc="-1" strike="noStrike">
                <a:solidFill>
                  <a:srgbClr val="333399"/>
                </a:solidFill>
                <a:latin typeface="Arial"/>
              </a:rPr>
              <a:t> ó K</a:t>
            </a:r>
            <a:r>
              <a:rPr b="1" lang="es-ES_tradnl" sz="2400" spc="-1" strike="noStrike" baseline="-25000">
                <a:solidFill>
                  <a:srgbClr val="333399"/>
                </a:solidFill>
                <a:latin typeface="Arial"/>
              </a:rPr>
              <a:t>sorb</a:t>
            </a:r>
            <a:endParaRPr b="0" lang="en-US" sz="2400" spc="-1" strike="noStrike">
              <a:solidFill>
                <a:srgbClr val="333399"/>
              </a:solidFill>
              <a:latin typeface="Tahoma"/>
            </a:endParaRPr>
          </a:p>
        </p:txBody>
      </p:sp>
      <p:sp>
        <p:nvSpPr>
          <p:cNvPr id="131" name="PlaceHolder 2"/>
          <p:cNvSpPr>
            <a:spLocks noGrp="1"/>
          </p:cNvSpPr>
          <p:nvPr>
            <p:ph/>
          </p:nvPr>
        </p:nvSpPr>
        <p:spPr>
          <a:xfrm>
            <a:off x="685800" y="1981080"/>
            <a:ext cx="7772400" cy="2887920"/>
          </a:xfrm>
          <a:prstGeom prst="rect">
            <a:avLst/>
          </a:prstGeom>
          <a:noFill/>
          <a:ln w="0">
            <a:noFill/>
          </a:ln>
        </p:spPr>
        <p:txBody>
          <a:bodyPr lIns="90000" rIns="90000" tIns="46800" bIns="46800" anchor="t">
            <a:normAutofit fontScale="96000"/>
          </a:bodyPr>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entre las fases sólidas abióticas (suelo, sedimento o partículas suspendidas) y el agua se conoce como K</a:t>
            </a:r>
            <a:r>
              <a:rPr b="0" lang="es-ES_tradnl" sz="2200" spc="-1" strike="noStrike" baseline="-25000">
                <a:solidFill>
                  <a:srgbClr val="000000"/>
                </a:solidFill>
                <a:latin typeface="Arial"/>
              </a:rPr>
              <a:t>d</a:t>
            </a:r>
            <a:r>
              <a:rPr b="0" lang="es-ES_tradnl" sz="2200" spc="-1" strike="noStrike">
                <a:solidFill>
                  <a:srgbClr val="000000"/>
                </a:solidFill>
                <a:latin typeface="Arial"/>
              </a:rPr>
              <a:t> ó K</a:t>
            </a:r>
            <a:r>
              <a:rPr b="0" lang="es-ES_tradnl" sz="2200" spc="-1" strike="noStrike" baseline="-25000">
                <a:solidFill>
                  <a:srgbClr val="000000"/>
                </a:solidFill>
                <a:latin typeface="Arial"/>
              </a:rPr>
              <a:t>sorb</a:t>
            </a:r>
            <a:r>
              <a:rPr b="0" lang="es-ES_tradnl" sz="2200" spc="-1" strike="noStrike">
                <a:solidFill>
                  <a:srgbClr val="000000"/>
                </a:solidFill>
                <a:latin typeface="Arial"/>
              </a:rPr>
              <a:t>.</a:t>
            </a:r>
            <a:endParaRPr b="0" lang="en-US" sz="2200" spc="-1" strike="noStrike">
              <a:solidFill>
                <a:srgbClr val="000000"/>
              </a:solidFill>
              <a:latin typeface="Tahoma"/>
            </a:endParaRPr>
          </a:p>
          <a:p>
            <a:pPr marL="329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K</a:t>
            </a:r>
            <a:r>
              <a:rPr b="0" lang="es-ES_tradnl" sz="2200" spc="-1" strike="noStrike" baseline="-25000">
                <a:solidFill>
                  <a:srgbClr val="000000"/>
                </a:solidFill>
                <a:latin typeface="Arial"/>
              </a:rPr>
              <a:t>d</a:t>
            </a:r>
            <a:r>
              <a:rPr b="0" lang="es-ES_tradnl" sz="2200" spc="-1" strike="noStrike">
                <a:solidFill>
                  <a:srgbClr val="000000"/>
                </a:solidFill>
                <a:latin typeface="Arial"/>
              </a:rPr>
              <a:t> es función de la habilidad del contaminante de sorberse en la materia orgánica contenida en el suelo o sedimento y del contenido orgánico del suelo o sedimento. </a:t>
            </a:r>
            <a:endParaRPr b="0" lang="en-US" sz="2200" spc="-1" strike="noStrike">
              <a:solidFill>
                <a:srgbClr val="000000"/>
              </a:solidFill>
              <a:latin typeface="Tahoma"/>
            </a:endParaRPr>
          </a:p>
          <a:p>
            <a:pPr marL="3290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2" name=""/>
              <p:cNvSpPr txBox="1"/>
              <p:nvPr/>
            </p:nvSpPr>
            <p:spPr>
              <a:xfrm>
                <a:off x="1619280" y="5373720"/>
                <a:ext cx="5749920" cy="663480"/>
              </a:xfrm>
              <a:prstGeom prst="rect">
                <a:avLst/>
              </a:prstGeom>
            </p:spPr>
            <p:txBody>
              <a:bodyPr/>
              <a:p>
                <a14:m>
                  <m:oMath xmlns:m="http://schemas.openxmlformats.org/officeDocument/2006/math">
                    <m:sSub>
                      <m:e>
                        <m:r>
                          <m:t xml:space="preserve">K</m:t>
                        </m:r>
                      </m:e>
                      <m:sub>
                        <m:r>
                          <m:rPr>
                            <m:lit/>
                            <m:nor/>
                          </m:rPr>
                          <m:t xml:space="preserve">sorb</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fase</m:t>
                        </m:r>
                        <m:r>
                          <m:t xml:space="preserve"> </m:t>
                        </m:r>
                        <m:r>
                          <m:rPr>
                            <m:lit/>
                            <m:nor/>
                          </m:rPr>
                          <m:t xml:space="preserve">sólida</m:t>
                        </m:r>
                      </m:num>
                      <m:den>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EFICIENTE DE PARTICION CARBON ORGANICO /AGUA</a:t>
            </a:r>
            <a:br>
              <a:rPr sz="2000"/>
            </a:br>
            <a:r>
              <a:rPr b="1" lang="es-ES_tradnl" sz="3000" spc="-1" strike="noStrike">
                <a:solidFill>
                  <a:srgbClr val="333399"/>
                </a:solidFill>
                <a:latin typeface="Arial"/>
              </a:rPr>
              <a:t> (K</a:t>
            </a:r>
            <a:r>
              <a:rPr b="1" lang="es-ES_tradnl" sz="3000" spc="-1" strike="noStrike" baseline="-25000">
                <a:solidFill>
                  <a:srgbClr val="333399"/>
                </a:solidFill>
                <a:latin typeface="Arial"/>
              </a:rPr>
              <a:t>oc</a:t>
            </a:r>
            <a:r>
              <a:rPr b="1" lang="es-ES_tradnl" sz="3000" spc="-1" strike="noStrike">
                <a:solidFill>
                  <a:srgbClr val="333399"/>
                </a:solidFill>
                <a:latin typeface="Arial"/>
              </a:rPr>
              <a:t>)</a:t>
            </a:r>
            <a:endParaRPr b="0" lang="en-US" sz="3000" spc="-1" strike="noStrike">
              <a:solidFill>
                <a:srgbClr val="333399"/>
              </a:solidFill>
              <a:latin typeface="Tahoma"/>
            </a:endParaRPr>
          </a:p>
        </p:txBody>
      </p:sp>
      <p:sp>
        <p:nvSpPr>
          <p:cNvPr id="13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Proporciona una medida del grado de partición de un contaminante entre carbón orgánico y agua. A mayor valor de K</a:t>
            </a:r>
            <a:r>
              <a:rPr b="0" lang="es-ES_tradnl" sz="2300" spc="-1" strike="noStrike" baseline="-25000">
                <a:solidFill>
                  <a:srgbClr val="000000"/>
                </a:solidFill>
                <a:latin typeface="Arial"/>
              </a:rPr>
              <a:t>oc</a:t>
            </a:r>
            <a:r>
              <a:rPr b="0" lang="es-ES_tradnl" sz="2300" spc="-1" strike="noStrike">
                <a:solidFill>
                  <a:srgbClr val="000000"/>
                </a:solidFill>
                <a:latin typeface="Arial"/>
              </a:rPr>
              <a:t> es mas probable que el compuesto se una al suelo o sedimento a que permanezca en el agua.</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EFICIENTE DE PARTICION AIRE/AGUA</a:t>
            </a:r>
            <a:endParaRPr b="0" lang="en-US" sz="2800" spc="-1" strike="noStrike">
              <a:solidFill>
                <a:srgbClr val="333399"/>
              </a:solidFill>
              <a:latin typeface="Tahoma"/>
            </a:endParaRPr>
          </a:p>
        </p:txBody>
      </p:sp>
      <p:sp>
        <p:nvSpPr>
          <p:cNvPr id="136" name="PlaceHolder 2"/>
          <p:cNvSpPr>
            <a:spLocks noGrp="1"/>
          </p:cNvSpPr>
          <p:nvPr>
            <p:ph/>
          </p:nvPr>
        </p:nvSpPr>
        <p:spPr>
          <a:xfrm>
            <a:off x="685800" y="1981080"/>
            <a:ext cx="7772400" cy="2455920"/>
          </a:xfrm>
          <a:prstGeom prst="rect">
            <a:avLst/>
          </a:prstGeom>
          <a:noFill/>
          <a:ln w="0">
            <a:noFill/>
          </a:ln>
        </p:spPr>
        <p:txBody>
          <a:bodyPr lIns="90000" rIns="90000" tIns="46800" bIns="46800" anchor="t">
            <a:normAutofit fontScale="92000"/>
          </a:bodyPr>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onstante de la Ley de Henry ó el coeficiente de partición aire-agua (H) es una indicación del comportamiento de particionamiento probable de un compuesto químico entre la atmósfera y el cuerpo de agua.</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propiedades del compuesto que influencian la partición entre aire/agua son la solubilidad en agua y la presión de vapor. </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692360" y="5589720"/>
                <a:ext cx="5317920" cy="774720"/>
              </a:xfrm>
              <a:prstGeom prst="rect">
                <a:avLst/>
              </a:prstGeom>
            </p:spPr>
            <p:txBody>
              <a:bodyPr/>
              <a:p>
                <a14:m>
                  <m:oMath xmlns:m="http://schemas.openxmlformats.org/officeDocument/2006/math">
                    <m:r>
                      <m:t xml:space="preserve">H</m:t>
                    </m:r>
                    <m:r>
                      <m:t xml:space="preserve">=</m:t>
                    </m:r>
                    <m:f>
                      <m:num>
                        <m:r>
                          <m:rPr>
                            <m:lit/>
                            <m:nor/>
                          </m:rPr>
                          <m:t xml:space="preserve">Presión</m:t>
                        </m:r>
                        <m:r>
                          <m:t xml:space="preserve"> </m:t>
                        </m:r>
                        <m:r>
                          <m:rPr>
                            <m:lit/>
                            <m:nor/>
                          </m:rPr>
                          <m:t xml:space="preserve">parcial</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ire</m:t>
                        </m:r>
                      </m:num>
                      <m:den>
                        <m:r>
                          <m:rPr>
                            <m:lit/>
                            <m:nor/>
                          </m:rPr>
                          <m:t xml:space="preserve">Concentración</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ACTOR DE BIOCONCENTRACION</a:t>
            </a:r>
            <a:endParaRPr b="0" lang="en-US" sz="3000" spc="-1" strike="noStrike">
              <a:solidFill>
                <a:srgbClr val="333399"/>
              </a:solidFill>
              <a:latin typeface="Tahoma"/>
            </a:endParaRPr>
          </a:p>
        </p:txBody>
      </p:sp>
      <p:sp>
        <p:nvSpPr>
          <p:cNvPr id="139" name="PlaceHolder 2"/>
          <p:cNvSpPr>
            <a:spLocks noGrp="1"/>
          </p:cNvSpPr>
          <p:nvPr>
            <p:ph/>
          </p:nvPr>
        </p:nvSpPr>
        <p:spPr>
          <a:xfrm>
            <a:off x="611280" y="2276640"/>
            <a:ext cx="7772400" cy="101592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El factor de bioconcentración (BCF) describe la distribución de un soluto entre un pez y el agua.</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2411280" y="3933720"/>
                <a:ext cx="3600720" cy="995400"/>
              </a:xfrm>
              <a:prstGeom prst="rect">
                <a:avLst/>
              </a:prstGeom>
            </p:spPr>
            <p:txBody>
              <a:bodyPr/>
              <a:p>
                <a14:m>
                  <m:oMath xmlns:m="http://schemas.openxmlformats.org/officeDocument/2006/math">
                    <m:r>
                      <m:rPr>
                        <m:lit/>
                        <m:nor/>
                      </m:rPr>
                      <m:t xml:space="preserve">BCF</m:t>
                    </m:r>
                    <m:r>
                      <m:t xml:space="preserve">=</m:t>
                    </m:r>
                    <m:f>
                      <m:num>
                        <m:r>
                          <m:rPr>
                            <m:lit/>
                            <m:nor/>
                          </m:rPr>
                          <m:t xml:space="preserve">Conc</m:t>
                        </m:r>
                        <m:r>
                          <m:rPr>
                            <m:lit/>
                            <m:nor/>
                          </m:rPr>
                          <m:t xml:space="preserve">.</m:t>
                        </m:r>
                        <m:r>
                          <m:t xml:space="preserve"> </m:t>
                        </m:r>
                        <m:r>
                          <m:rPr>
                            <m:lit/>
                            <m:nor/>
                          </m:rPr>
                          <m:t xml:space="preserve">de</m:t>
                        </m:r>
                        <m:r>
                          <m:t xml:space="preserve"> </m:t>
                        </m:r>
                        <m:r>
                          <m:rPr>
                            <m:lit/>
                            <m:nor/>
                          </m:rPr>
                          <m:t xml:space="preserve">pez</m:t>
                        </m:r>
                      </m:num>
                      <m:den>
                        <m:r>
                          <m:rPr>
                            <m:lit/>
                            <m:nor/>
                          </m:rPr>
                          <m:t xml:space="preserve">Conc</m:t>
                        </m:r>
                        <m:r>
                          <m:rPr>
                            <m:lit/>
                            <m:nor/>
                          </m:rPr>
                          <m:t xml:space="preserve">.</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GUNAS VARIABLES  A CONSIDERAR EN EL COMPORTAMIENTO DE  CONTAMINANTES  QUE SE INTRODUCEN EN EL MEDIO ACUATICO</a:t>
            </a:r>
            <a:endParaRPr b="0" lang="en-US" sz="2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Características generales de  los sistemas acuático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ondiciones ambientales locale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ropiedades físico-químicas y partición o distribu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rocesos que pueden afectar la concentración, transformación y remo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Factores que pueden modificar la toxicidad, a organismos acuáticos,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Y BIOACUMULACION DE CONTAMINANTES</a:t>
            </a:r>
            <a:endParaRPr b="0" lang="en-US" sz="3000" spc="-1" strike="noStrike">
              <a:solidFill>
                <a:srgbClr val="333399"/>
              </a:solidFill>
              <a:latin typeface="Tahoma"/>
            </a:endParaRPr>
          </a:p>
        </p:txBody>
      </p:sp>
      <p:sp>
        <p:nvSpPr>
          <p:cNvPr id="142" name="PlaceHolder 2"/>
          <p:cNvSpPr>
            <a:spLocks noGrp="1"/>
          </p:cNvSpPr>
          <p:nvPr>
            <p:ph/>
          </p:nvPr>
        </p:nvSpPr>
        <p:spPr>
          <a:xfrm>
            <a:off x="685800" y="1981080"/>
            <a:ext cx="7772400" cy="367992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artición de las sustancias contaminantes es de gran importancia en los fenómenos de bioconcentración y bioacumula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rganismos acuáticos en contacto con el agua contaminada, con una sustancia que tiene un alto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actuarán como la fase no polar del sistema binario y acumularán la sustancia tóxica a través de un proceso de parti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os factores de bioacumulación y bioconcentración (FBA y FBC) se relacionan bien con el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se deben tener en cuenta además otras propiedades de las sustancias como la resistencia a todo tipo de degradación. La degradación biológica incluyendo los cambios metabólicos y la excreción pueden tener un papel importante en el proceso de bioacumulació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rPr>
              <a:t>AFINIDAD DE LAS SUSTANCIAS QUMICAS CON LOS DIFERENTES COMPARTIMIENTOS AMBIENTALES EN FUNCION DE LAS CARACTERISTICAS FISICO-QUIMICAS DE LOS CONTAMINANTES</a:t>
            </a:r>
            <a:endParaRPr b="0" lang="en-US" sz="1900" spc="-1" strike="noStrike">
              <a:solidFill>
                <a:srgbClr val="333399"/>
              </a:solidFill>
              <a:latin typeface="Tahoma"/>
            </a:endParaRPr>
          </a:p>
        </p:txBody>
      </p:sp>
      <p:pic>
        <p:nvPicPr>
          <p:cNvPr id="144" name="" descr=""/>
          <p:cNvPicPr/>
          <p:nvPr/>
        </p:nvPicPr>
        <p:blipFill>
          <a:blip r:embed="rId1"/>
          <a:stretch/>
        </p:blipFill>
        <p:spPr>
          <a:xfrm>
            <a:off x="539640" y="2492280"/>
            <a:ext cx="8275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MPORTAMIENTO AMBIENTAL DE CONTAMINANTES</a:t>
            </a:r>
            <a:endParaRPr b="0" lang="en-US" sz="3000" spc="-1" strike="noStrike">
              <a:solidFill>
                <a:srgbClr val="333399"/>
              </a:solidFill>
              <a:latin typeface="Tahoma"/>
            </a:endParaRPr>
          </a:p>
        </p:txBody>
      </p:sp>
      <p:sp>
        <p:nvSpPr>
          <p:cNvPr id="14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K</a:t>
            </a:r>
            <a:r>
              <a:rPr b="0" lang="es-ES_tradnl" sz="2300" spc="-1" strike="noStrike" baseline="-25000">
                <a:solidFill>
                  <a:srgbClr val="000000"/>
                </a:solidFill>
                <a:latin typeface="Arial"/>
              </a:rPr>
              <a:t>ow</a:t>
            </a:r>
            <a:r>
              <a:rPr b="0" lang="es-ES_tradnl" sz="2300" spc="-1" strike="noStrike">
                <a:solidFill>
                  <a:srgbClr val="000000"/>
                </a:solidFill>
                <a:latin typeface="Arial"/>
              </a:rPr>
              <a:t> menor 2 indica bajo potencial de partición a la fase lipídica, de organismos así poco potencial de bioconcentrarse.</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Log K</a:t>
            </a:r>
            <a:r>
              <a:rPr b="0" lang="es-ES_tradnl" sz="2300" spc="-1" strike="noStrike" baseline="-25000">
                <a:solidFill>
                  <a:srgbClr val="000000"/>
                </a:solidFill>
                <a:latin typeface="Arial"/>
              </a:rPr>
              <a:t>oc</a:t>
            </a:r>
            <a:r>
              <a:rPr b="0" lang="es-ES_tradnl" sz="2300" spc="-1" strike="noStrike">
                <a:solidFill>
                  <a:srgbClr val="000000"/>
                </a:solidFill>
                <a:latin typeface="Arial"/>
              </a:rPr>
              <a:t> </a:t>
            </a:r>
            <a:r>
              <a:rPr b="0" lang="es-ES_tradnl" sz="2300" spc="-1" strike="noStrike">
                <a:solidFill>
                  <a:srgbClr val="000000"/>
                </a:solidFill>
                <a:latin typeface="Symbol"/>
                <a:ea typeface="Symbol"/>
              </a:rPr>
              <a:t></a:t>
            </a:r>
            <a:r>
              <a:rPr b="0" lang="es-ES_tradnl" sz="2300" spc="-1" strike="noStrike">
                <a:solidFill>
                  <a:srgbClr val="000000"/>
                </a:solidFill>
                <a:latin typeface="Arial"/>
              </a:rPr>
              <a:t> 2 indica que se producirá poca adsorción al suelo.</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Presión de vapor baja indica poca volatilida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920" y="2636640"/>
            <a:ext cx="7772400" cy="113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PROCESOS QUE PUEDEN AFECTAR LA CONCENTRACION, TRANSFORMACION Y REMOCION DEL CONTAMINANTE</a:t>
            </a:r>
            <a:br>
              <a:rPr sz="2800"/>
            </a:br>
            <a:endParaRPr b="0" lang="en-US" sz="28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os biótico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cesos abiótic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SOS QUE PUEDEN AFECTAR LA CONCENTRACION,TRANSFORMACION Y REMOCION DEL CONTAMINANTE</a:t>
            </a:r>
            <a:endParaRPr b="0" lang="en-US" sz="2400" spc="-1" strike="noStrike">
              <a:solidFill>
                <a:srgbClr val="333399"/>
              </a:solidFill>
              <a:latin typeface="Tahoma"/>
            </a:endParaRPr>
          </a:p>
        </p:txBody>
      </p:sp>
      <p:sp>
        <p:nvSpPr>
          <p:cNvPr id="150" name="PlaceHolder 2"/>
          <p:cNvSpPr>
            <a:spLocks noGrp="1"/>
          </p:cNvSpPr>
          <p:nvPr>
            <p:ph/>
          </p:nvPr>
        </p:nvSpPr>
        <p:spPr>
          <a:xfrm>
            <a:off x="457200" y="2895120"/>
            <a:ext cx="7772400" cy="2460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complejos                                           Intercambio iónico</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pitación y coprecipitación                                  Adsorción y desor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íntesis algal                                                             Degradación bacterial</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cciones químicas                                                Filtr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loculación                                                                Absorción y desorción de gase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gradación natural                                                 Reacciones fotoquímica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tosíntesis y respiración                                         Sediment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manda de Oxígeno de Sedimentos                      Volatiliz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MACION DE COMPLEJOS/ CONTAMINANTE AFECTADO</a:t>
            </a:r>
            <a:endParaRPr b="0" lang="en-US" sz="20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ción de complejos con ligandos orgánicos ó inorgánicos regula la concentración de metales en agua contribuyendo así a enmascarar la presencia de metales en agua.</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El pH afecta el grado de formación de complejos y por lo tanto la especiación de los contaminantes.</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 o especie en que se presentan los iones metálicos en solución es importante para determinar sus efectos químicos, bioquímicos y biológicos.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1" lang="es-ES_tradnl" sz="2200" spc="-1" strike="noStrike">
                <a:solidFill>
                  <a:srgbClr val="000000"/>
                </a:solidFill>
                <a:latin typeface="Arial"/>
              </a:rPr>
              <a:t>Metal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CAMBIO IONICO/CONTAMINANTE AFECTADO</a:t>
            </a:r>
            <a:endParaRPr b="0" lang="en-US" sz="20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El intercambio iónico afecta la movilidad y ocurrencia de sustancias químicas en el agua y ejerce un control importante en la calidad del agua en la interfase agua-sedimento.</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En aguas naturales las arcillas minerales, hidróxidos de Fe, óxidos de Mn y materia orgánica pueden actuar como intercambiadores alterando así la composición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CIPITACION Y COPRECIPITACION/ CONTAMINANTE AFECTADO</a:t>
            </a:r>
            <a:endParaRPr b="0" lang="en-US" sz="1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Las reacciones de precipitación remueven constituyentes del agua. La coprecipitación es la precipitación simultánea de un compuesto soluble y uno insoluble. La precipitación y coprecipitación son importantes en la remoción de trazas metálicas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La tasa y grado de formación de precipitados depende del constituyente y de las condiciones ambientales.</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DSORCION Y DESORCION /CONTAMINANTE AFECTADO</a:t>
            </a:r>
            <a:endParaRPr b="0" lang="en-US" sz="2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uchos constituyentes químicos tienden a adherirse o sorberse sobre sólidos. Los procesos de adsorción combinados con sedimentación de sólidos promueven la remoción de estos constituyentes que en muchas ocasiones no son degradados.</a:t>
            </a:r>
            <a:endParaRPr b="0" lang="en-US" sz="23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materiales disponibles como sorbentes incluyen arcillas minerales, coloides orgánicos o inorgánicos y superficies y tejidos de organismos presentes en el agua.</a:t>
            </a:r>
            <a:endParaRPr b="0" lang="en-US" sz="21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Metales; trazas orgánicas; 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INTESIS ALGAL /CONTAMINANTE AFECTADO</a:t>
            </a:r>
            <a:endParaRPr b="0" lang="en-US" sz="22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a síntesis algal utiliza los nutrientes presentes en el medio acuático para  la formación de tejido celular.</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RACTERISTICAS GENERALES DE SISTEMAS ACUATICOS</a:t>
            </a:r>
            <a:endParaRPr b="0" lang="en-US" sz="28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g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íos y arroy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guas Subterránea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e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tuario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GRADACION BACTERIANA/CONTAMINANTE AFECTADO</a:t>
            </a:r>
            <a:endParaRPr b="0" lang="en-US" sz="1800" spc="-1" strike="noStrike">
              <a:solidFill>
                <a:srgbClr val="333399"/>
              </a:solidFill>
              <a:latin typeface="Tahoma"/>
            </a:endParaRPr>
          </a:p>
        </p:txBody>
      </p:sp>
      <p:sp>
        <p:nvSpPr>
          <p:cNvPr id="162"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degradación bacterial (aeróbica o anaeróbica) es el proceso más importante de remoción y transformación de los constituyentes liberados al medio ambiente.</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transformación bacterial de compuestos orgánicos tóxicos es también de gran importancia.</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de las reacciones asociadas al proceso de biodegradación microbiana son oxidación, reducción, hidrólisis y metilación.</a:t>
            </a:r>
            <a:endParaRPr b="0" lang="en-US" sz="21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BO</a:t>
            </a:r>
            <a:r>
              <a:rPr b="1" lang="es-ES_tradnl" sz="2000" spc="-1" strike="noStrike" baseline="-25000">
                <a:solidFill>
                  <a:srgbClr val="000000"/>
                </a:solidFill>
                <a:latin typeface="Arial"/>
              </a:rPr>
              <a:t>5</a:t>
            </a:r>
            <a:r>
              <a:rPr b="1" lang="es-ES_tradnl" sz="2000" spc="-1" strike="noStrike">
                <a:solidFill>
                  <a:srgbClr val="000000"/>
                </a:solidFill>
                <a:latin typeface="Arial"/>
              </a:rPr>
              <a:t>; nitrificación; desnitrificación; reducción de sulfatos; fermentación anaerobia (en sedimentos del lecho), conversión de contaminantes orgánicos etc.</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REACCIONES QUIMICAS /CONTAMINANTE AFECTADO</a:t>
            </a:r>
            <a:endParaRPr b="0" lang="en-US" sz="2200" spc="-1" strike="noStrike">
              <a:solidFill>
                <a:srgbClr val="333399"/>
              </a:solidFill>
              <a:latin typeface="Tahoma"/>
            </a:endParaRPr>
          </a:p>
        </p:txBody>
      </p:sp>
      <p:sp>
        <p:nvSpPr>
          <p:cNvPr id="1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1800" spc="-1" strike="noStrike">
                <a:solidFill>
                  <a:srgbClr val="000000"/>
                </a:solidFill>
                <a:latin typeface="Arial"/>
              </a:rPr>
              <a:t>La hidrólisis de compuestos orgánicos puede generar compuestos más vulnerables a la biodegradación y fotolisis y más solubles.Los productos hidrolizados de metales multivalentes se adsorben más rápido en la interfase partícula-agua que los iones metálicos no hidrolizados.</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fotólisis puede producir quiebre de enlaces, oxidación, hidrólisis, etc. Las tasas de fotolisis están influenciadas por el color, la claridad del agua  y el material suspendido.</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s reacciones de óxido-reducción pueden alterar el comportamiento de muchos contaminantes.La fotosíntesis y la degradación bacteriana son determinantes en el potencial redox.</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1" lang="es-ES_tradnl" sz="1800" spc="-1" strike="noStrike">
                <a:solidFill>
                  <a:srgbClr val="000000"/>
                </a:solidFill>
                <a:latin typeface="Arial"/>
              </a:rPr>
              <a:t>Degradación de orgánicos, intercambio específico de iones, sustitución de element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ILTRACION /CONTAMINANTE AFECTADO</a:t>
            </a:r>
            <a:endParaRPr b="0" lang="en-US" sz="22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Remoción de sólidos suspendidos y coloidales por filtración (mecánica y de contacto), sedimentación, intercepción, impactación y adsorció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SST;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LOCULACION /CONTAMINANTE AFECTADO</a:t>
            </a:r>
            <a:endParaRPr b="0" lang="en-US" sz="22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loculación es el término empleado para describir la aglomeración de pequeñas partículas en partículas más grandes que pueden ser removidas por sedimentación y filtración. La floculación ocurre por gradientes diferenciales de velocidad, los cuales permiten la colisión entre partículas para formar partículas más grande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Material suspendido (SS);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SORCION Y DESORCION DE GASES/CONTAMINANTE AFECTADO</a:t>
            </a:r>
            <a:endParaRPr b="0" lang="en-US" sz="1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ceso por el cual un gas es retenido por un líquido se conoce como adsorción. Por ejemplo, cuando la concentración de oxígeno disuelto en un cuerpo de agua, con superficie libre, está por debajo de la concentración de saturación, ocurre una transferencia neta del oxígeno de la atmósfera a la columna de agua. La velocidad de transferencia es proporcional al déficit de oxígeno con respecto a la condición de saturación. La incorporación de oxígeno al agua se conoce como reaireación.  </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orción ocurre cuando la concentración de gas en un líquido supera la condición de saturación y ocurre transferencia del gas desde el líquido a la atmósfera.</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O</a:t>
            </a:r>
            <a:r>
              <a:rPr b="1" lang="es-ES_tradnl" sz="2300" spc="-1" strike="noStrike" baseline="-25000">
                <a:solidFill>
                  <a:srgbClr val="000000"/>
                </a:solidFill>
                <a:latin typeface="Arial"/>
              </a:rPr>
              <a:t>2</a:t>
            </a:r>
            <a:r>
              <a:rPr b="1" lang="es-ES_tradnl" sz="2300" spc="-1" strike="noStrike">
                <a:solidFill>
                  <a:srgbClr val="000000"/>
                </a:solidFill>
                <a:latin typeface="Arial"/>
              </a:rPr>
              <a:t>, CO</a:t>
            </a:r>
            <a:r>
              <a:rPr b="1" lang="es-ES_tradnl" sz="2300" spc="-1" strike="noStrike" baseline="-25000">
                <a:solidFill>
                  <a:srgbClr val="000000"/>
                </a:solidFill>
                <a:latin typeface="Arial"/>
              </a:rPr>
              <a:t>2</a:t>
            </a:r>
            <a:r>
              <a:rPr b="1" lang="es-ES_tradnl" sz="2300" spc="-1" strike="noStrike">
                <a:solidFill>
                  <a:srgbClr val="000000"/>
                </a:solidFill>
                <a:latin typeface="Arial"/>
              </a:rPr>
              <a:t>, CH</a:t>
            </a:r>
            <a:r>
              <a:rPr b="1" lang="es-ES_tradnl" sz="2300" spc="-1" strike="noStrike" baseline="-25000">
                <a:solidFill>
                  <a:srgbClr val="000000"/>
                </a:solidFill>
                <a:latin typeface="Arial"/>
              </a:rPr>
              <a:t>4</a:t>
            </a:r>
            <a:r>
              <a:rPr b="1" lang="es-ES_tradnl" sz="2300" spc="-1" strike="noStrike">
                <a:solidFill>
                  <a:srgbClr val="000000"/>
                </a:solidFill>
                <a:latin typeface="Arial"/>
              </a:rPr>
              <a:t>, NH</a:t>
            </a:r>
            <a:r>
              <a:rPr b="1" lang="es-ES_tradnl" sz="2300" spc="-1" strike="noStrike" baseline="-25000">
                <a:solidFill>
                  <a:srgbClr val="000000"/>
                </a:solidFill>
                <a:latin typeface="Arial"/>
              </a:rPr>
              <a:t>3</a:t>
            </a:r>
            <a:r>
              <a:rPr b="1" lang="es-ES_tradnl" sz="2300" spc="-1" strike="noStrike">
                <a:solidFill>
                  <a:srgbClr val="000000"/>
                </a:solidFill>
                <a:latin typeface="Arial"/>
              </a:rPr>
              <a:t>, H</a:t>
            </a:r>
            <a:r>
              <a:rPr b="1" lang="es-ES_tradnl" sz="2300" spc="-1" strike="noStrike" baseline="-25000">
                <a:solidFill>
                  <a:srgbClr val="000000"/>
                </a:solidFill>
                <a:latin typeface="Arial"/>
              </a:rPr>
              <a:t>2</a:t>
            </a:r>
            <a:r>
              <a:rPr b="1" lang="es-ES_tradnl" sz="2300" spc="-1" strike="noStrike">
                <a:solidFill>
                  <a:srgbClr val="000000"/>
                </a:solidFill>
                <a:latin typeface="Arial"/>
              </a:rPr>
              <a:t>S</a:t>
            </a:r>
            <a:r>
              <a:rPr b="0" lang="es-ES_tradnl" sz="2300" spc="-1" strike="noStrike">
                <a:solidFill>
                  <a:srgbClr val="000000"/>
                </a:solidFill>
                <a:latin typeface="Arial"/>
              </a:rPr>
              <a:t>                                                                                </a:t>
            </a:r>
            <a:endParaRPr b="0" lang="en-US" sz="2300" spc="-1" strike="noStrike">
              <a:solidFill>
                <a:srgbClr val="000000"/>
              </a:solidFill>
              <a:latin typeface="Tahoma"/>
            </a:endParaRPr>
          </a:p>
          <a:p>
            <a:pPr marL="32580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GRADACION NATURAL/CONTAMINANTE AFECTADO</a:t>
            </a:r>
            <a:endParaRPr b="0" lang="en-US" sz="2200" spc="-1" strike="noStrike">
              <a:solidFill>
                <a:srgbClr val="333399"/>
              </a:solidFill>
              <a:latin typeface="Tahoma"/>
            </a:endParaRPr>
          </a:p>
        </p:txBody>
      </p:sp>
      <p:sp>
        <p:nvSpPr>
          <p:cNvPr id="172"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n la naturaleza, los constituyentes se pueden degradar por varias razones tales como la mortalidad en el caso de bacterias y la oxidación fotoquímica en algunos constituyentes orgánicos. La degradación natural sigue el comportamiento de una cinética de primer orde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Plantas; animales; protistas (algas, hongos, protozoos), eubacterias (la mayoría de bacterias) arqueobacterias, virus; sustancias radiactivas; masa vegetal.</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ACCIONES FOTOQUIMICAS /CONTAMINANTE AFECTADO</a:t>
            </a:r>
            <a:endParaRPr b="0" lang="en-US" sz="2000" spc="-1" strike="noStrike">
              <a:solidFill>
                <a:srgbClr val="333399"/>
              </a:solidFill>
              <a:latin typeface="Tahoma"/>
            </a:endParaRPr>
          </a:p>
        </p:txBody>
      </p:sp>
      <p:sp>
        <p:nvSpPr>
          <p:cNvPr id="174"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radiación solar estimula la ocurrencia de muchas reacciones químicas. La radiación a una longitud de onda cercana al rango ultravioleta (UV) visible es una causa conocida del rompimiento de muchas moléculas de compuestos orgánica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Oxidación de compuestos orgánicos e inorgánico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TOSINTESIS Y RESPIRACION /CONTAMINANTE AFECTADO</a:t>
            </a:r>
            <a:endParaRPr b="0" lang="en-US" sz="1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Durante el día, las algas presentes en los cuerpos de agua producen oxígeno por medio de la fotosíntesis. Como consecuencia, las concentraciones de oxígeno pueden alcanza valores entre 30 y 40 mg/L. Durante la noche, las algas respiran consumiendo oxígeno. En aquellos lugares donde existen grandes crecimientos de algas, el oxígeno puede llegar a agotarse durante la noche.</a:t>
            </a:r>
            <a:endParaRPr b="0" lang="en-US" sz="2300" spc="-1" strike="noStrike">
              <a:solidFill>
                <a:srgbClr val="000000"/>
              </a:solidFill>
              <a:latin typeface="Tahoma"/>
            </a:endParaRPr>
          </a:p>
          <a:p>
            <a:pPr marL="3394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Algas, lentejas de agua; macrofitas suspendidas; NH</a:t>
            </a:r>
            <a:r>
              <a:rPr b="1" lang="es-ES_tradnl" sz="2300" spc="-1" strike="noStrike" baseline="-25000">
                <a:solidFill>
                  <a:srgbClr val="000000"/>
                </a:solidFill>
                <a:latin typeface="Arial"/>
              </a:rPr>
              <a:t>4</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EDIMENTACION /CONTAMINANTE AFECTADO</a:t>
            </a:r>
            <a:endParaRPr b="0" lang="en-US" sz="2200" spc="-1" strike="noStrike">
              <a:solidFill>
                <a:srgbClr val="333399"/>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s sólidos suspendidos presentes en las aguas residuales tratadas se sedimentan en los cuerpos de agua receptores. Este sedimento se incrementa por floculación y disminuye por turbulencia del medio. En ríos y zonas costeras, la turbulencia es con frecuencia suficiente para distribuir los sólidos suspendidos en toda la columna de agua.</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Sólidos Suspendidos Tot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MANDA DE OXIGENO DE SEDIMENTOS /CONTAMINANTE AFECTADO</a:t>
            </a:r>
            <a:endParaRPr b="0" lang="en-US" sz="1600" spc="-1" strike="noStrike">
              <a:solidFill>
                <a:srgbClr val="333399"/>
              </a:solidFill>
              <a:latin typeface="Tahoma"/>
            </a:endParaRPr>
          </a:p>
        </p:txBody>
      </p:sp>
      <p:sp>
        <p:nvSpPr>
          <p:cNvPr id="18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ólidos suspendidos del agua sedimentarán después de un tiempo, alcanzando el fondo. Debido a que parte del sedimento es orgánico, éste se puede degradar bien sea en forma aerobia como anaerobia, dependiendo de las condiciones. Las algas que sedimentan también se degradan pero en forma mucho más lenta. Si la degradación se realiza bajo condiciones aerobias existirá una demanda de oxigeno adicional en el cuerpo de agua.</a:t>
            </a:r>
            <a:endParaRPr b="0" lang="en-US" sz="2000" spc="-1" strike="noStrike">
              <a:solidFill>
                <a:srgbClr val="000000"/>
              </a:solidFill>
              <a:latin typeface="Tahoma"/>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a:t>
            </a:r>
            <a:r>
              <a:rPr b="1" lang="en-US" sz="2200" spc="-1" strike="noStrike" baseline="-25000">
                <a:solidFill>
                  <a:srgbClr val="000000"/>
                </a:solidFill>
                <a:latin typeface="Arial"/>
              </a:rPr>
              <a:t>2</a:t>
            </a:r>
            <a:r>
              <a:rPr b="1" lang="en-US" sz="2200" spc="-1" strike="noStrike">
                <a:solidFill>
                  <a:srgbClr val="000000"/>
                </a:solidFill>
                <a:latin typeface="Arial"/>
              </a:rPr>
              <a:t>, DBO de partícul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GO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mpo de reten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térmic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égimen de tributari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OLATILIZACION /CONTAMINANTE AFECTADO</a:t>
            </a:r>
            <a:endParaRPr b="0" lang="en-US" sz="22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La volatilización es un importante proceso de transporte para muchos compuestos químicos de baja solubilidad y baja polaridad.-</a:t>
            </a:r>
            <a:r>
              <a:rPr b="0" lang="en-US" sz="2000" spc="-1" strike="noStrike">
                <a:solidFill>
                  <a:srgbClr val="000000"/>
                </a:solidFill>
                <a:latin typeface="Arial"/>
              </a:rPr>
              <a:t>	</a:t>
            </a:r>
            <a:r>
              <a:rPr b="0" lang="en-US" sz="2000" spc="-1" strike="noStrike">
                <a:solidFill>
                  <a:srgbClr val="000000"/>
                </a:solidFill>
                <a:latin typeface="Arial"/>
              </a:rPr>
              <a:t>La tasa de volatilización está influenciada por la turbulencia del agua y la velocidad del viento.</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ausencia de arcilla o coloides orgánicos la mayoría de los compuestos orgánicos de baja solubilidad se volatilizarán rápidamente del agu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compuestos orgánicos que se volatilizan rápidamente son llamados COV (compuestos orgánicos volátiles).</a:t>
            </a:r>
            <a:endParaRPr b="0" lang="en-US" sz="20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V; NH</a:t>
            </a:r>
            <a:r>
              <a:rPr b="1" lang="en-US" sz="2300" spc="-1" strike="noStrike" baseline="-25000">
                <a:solidFill>
                  <a:srgbClr val="000000"/>
                </a:solidFill>
                <a:latin typeface="Arial"/>
              </a:rPr>
              <a:t>3</a:t>
            </a:r>
            <a:r>
              <a:rPr b="1" lang="en-US" sz="2300" spc="-1" strike="noStrike">
                <a:solidFill>
                  <a:srgbClr val="000000"/>
                </a:solidFill>
                <a:latin typeface="Arial"/>
              </a:rPr>
              <a:t>, CH</a:t>
            </a:r>
            <a:r>
              <a:rPr b="1" lang="en-US" sz="2300" spc="-1" strike="noStrike" baseline="-25000">
                <a:solidFill>
                  <a:srgbClr val="000000"/>
                </a:solidFill>
                <a:latin typeface="Arial"/>
              </a:rPr>
              <a:t>4</a:t>
            </a:r>
            <a:r>
              <a:rPr b="1" lang="en-US" sz="2300" spc="-1" strike="noStrike">
                <a:solidFill>
                  <a:srgbClr val="000000"/>
                </a:solidFill>
                <a:latin typeface="Arial"/>
              </a:rPr>
              <a:t>, H</a:t>
            </a:r>
            <a:r>
              <a:rPr b="1" lang="en-US" sz="2300" spc="-1" strike="noStrike" baseline="-25000">
                <a:solidFill>
                  <a:srgbClr val="000000"/>
                </a:solidFill>
                <a:latin typeface="Arial"/>
              </a:rPr>
              <a:t>2</a:t>
            </a:r>
            <a:r>
              <a:rPr b="1" lang="en-US" sz="2300" spc="-1" strike="noStrike">
                <a:solidFill>
                  <a:srgbClr val="000000"/>
                </a:solidFill>
                <a:latin typeface="Arial"/>
              </a:rPr>
              <a:t>S otros gas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836280"/>
            <a:ext cx="7792920" cy="14619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PUEDEN MODIFICAR LA TOXICIDAD DEL CONTAMINANTE A ORGANISMOS ACUATICOS.</a:t>
            </a:r>
            <a:br>
              <a:rPr sz="2400"/>
            </a:br>
            <a:endParaRPr b="0" lang="en-US" sz="2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peciación del contaminan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esencia de otros contaminan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diciones el organis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86" name="" descr=""/>
          <p:cNvPicPr/>
          <p:nvPr/>
        </p:nvPicPr>
        <p:blipFill>
          <a:blip r:embed="rId1"/>
          <a:stretch/>
        </p:blipFill>
        <p:spPr>
          <a:xfrm>
            <a:off x="255600" y="2421000"/>
            <a:ext cx="8888400" cy="302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XICIDAD DE METALES EN EL AMBIENTE ACUATICO</a:t>
            </a:r>
            <a:endParaRPr b="0" lang="en-US" sz="2400" spc="-1" strike="noStrike">
              <a:solidFill>
                <a:srgbClr val="333399"/>
              </a:solidFill>
              <a:latin typeface="Tahoma"/>
            </a:endParaRPr>
          </a:p>
        </p:txBody>
      </p:sp>
      <p:pic>
        <p:nvPicPr>
          <p:cNvPr id="188" name="" descr=""/>
          <p:cNvPicPr/>
          <p:nvPr/>
        </p:nvPicPr>
        <p:blipFill>
          <a:blip r:embed="rId1"/>
          <a:stretch/>
        </p:blipFill>
        <p:spPr>
          <a:xfrm>
            <a:off x="250920" y="2205000"/>
            <a:ext cx="8642160" cy="2613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0" name="" descr=""/>
          <p:cNvPicPr/>
          <p:nvPr/>
        </p:nvPicPr>
        <p:blipFill>
          <a:blip r:embed="rId1"/>
          <a:stretch/>
        </p:blipFill>
        <p:spPr>
          <a:xfrm>
            <a:off x="395280" y="2349360"/>
            <a:ext cx="9396360" cy="262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2" name="" descr=""/>
          <p:cNvPicPr/>
          <p:nvPr/>
        </p:nvPicPr>
        <p:blipFill>
          <a:blip r:embed="rId1"/>
          <a:stretch/>
        </p:blipFill>
        <p:spPr>
          <a:xfrm>
            <a:off x="539640" y="2276640"/>
            <a:ext cx="834876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IOS Y ARROYOS</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GUAS SUBTERRANEAS</a:t>
            </a:r>
            <a:endParaRPr b="0" lang="en-US" sz="28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 de fluj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enu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RE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y 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lación (corrientes) y ol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os natural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ios antropogénic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UARIOS</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miento de mare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in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ctuaciones en temperatura y oxígeno disuelt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da diversidad  de especi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dimentos, sedimentación y resuspensió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ONDICIONES AMBIENTALES LOCALE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xigeno disuelt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 disuelto y particulad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trien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H, alcalinidad y acidez</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mperatur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urbieda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urez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idos disueltos tot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n</cp:lastModifiedBy>
  <cp:lastPrinted>2003-08-06T16:10:04Z</cp:lastPrinted>
  <dcterms:modified xsi:type="dcterms:W3CDTF">2004-08-12T18:34:18Z</dcterms:modified>
  <cp:revision>631</cp:revision>
  <dc:subject/>
  <dc:title> GENERALIDADES </dc:title>
</cp:coreProperties>
</file>