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E6F-544B-447B-AFC3-87DAF734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57A-869F-415B-B5C3-C97C94E7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234D-9B36-4F52-80DF-1283A253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661-0B86-4E7E-A553-8665153F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8496-50D6-49BD-A257-ECC84AB7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BFF-8E1C-45A9-8771-FB12A62B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D4B-0EA6-4EAB-9AFB-F9F277EA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F7E-0EF7-432C-93CB-6E969475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D1AA-3C03-4E38-A70D-92047E0B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F44-E3F6-4ED8-A000-17733FBD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B37-AD7C-4160-8AE2-C4852787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4B46-82D3-4B12-A270-D7517FC0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226F-8928-449A-B505-CBA2D83F3104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0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CULTAD DE CIENCIAS FÍSICAS Y MATEM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CUELA DE POSTG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284720" y="1125360"/>
            <a:ext cx="798480" cy="165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2873520"/>
            <a:ext cx="9144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PLOMADO EN MEDIO 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ODULO INTEG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UDITORIAS 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f. Roberto Corval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GOSTO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990720"/>
            <a:ext cx="4343400" cy="222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AUDITORIA DE ESTRATEGIAS AMBI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Imagen y política empresa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uesta en práctica 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estrategias ambi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Comun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990720"/>
            <a:ext cx="4191120" cy="222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AUDITORIA DE LA EFICIENCIA ECOLO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Cumplimiento prescrip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legales generales, segurid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y procesos produ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Control de materias pr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Análisis de ries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3573360"/>
            <a:ext cx="4321080" cy="1923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AUDITORIA ECOLOGICA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Desarrollo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roceso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Información y rot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Env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16360" y="3573360"/>
            <a:ext cx="4191120" cy="1923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AUDITORIA DE FUNCIONES APOYO A PRODU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Adquisi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Infraestru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Funciones Específicas de las </a:t>
            </a:r>
            <a:br>
              <a:rPr sz="3200"/>
            </a:b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Auditoría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057400"/>
            <a:ext cx="4419720" cy="459720"/>
          </a:xfrm>
          <a:prstGeom prst="rect">
            <a:avLst/>
          </a:prstGeom>
          <a:gradFill rotWithShape="0">
            <a:gsLst>
              <a:gs pos="0">
                <a:srgbClr val="96bf96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be0e3"/>
                </a:solidFill>
                <a:latin typeface="Arial"/>
              </a:rPr>
              <a:t>VERIFIC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057400"/>
            <a:ext cx="4191120" cy="459720"/>
          </a:xfrm>
          <a:prstGeom prst="rect">
            <a:avLst/>
          </a:prstGeom>
          <a:gradFill rotWithShape="0">
            <a:gsLst>
              <a:gs pos="0">
                <a:srgbClr val="96bf96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be0e3"/>
                </a:solidFill>
                <a:latin typeface="Arial"/>
              </a:rPr>
              <a:t>IDENTIFIC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819520"/>
            <a:ext cx="4419720" cy="1923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Normativa Ambiental vig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Metas inter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Cumplimiento de la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Ambiental de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Efectividad del S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2819520"/>
            <a:ext cx="4191120" cy="1923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Areas que es necesario mejor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o correg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Incumplimientos de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roblemas ambi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oten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Metodología General para la Ejecución de las Auditoría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32960" y="1295280"/>
            <a:ext cx="1736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ETAP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1916280"/>
            <a:ext cx="6985080" cy="2289240"/>
          </a:xfrm>
          <a:prstGeom prst="rect">
            <a:avLst/>
          </a:prstGeom>
          <a:gradFill rotWithShape="0">
            <a:gsLst>
              <a:gs pos="0">
                <a:srgbClr val="96bf96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be0e3"/>
                </a:solidFill>
                <a:latin typeface="Arial"/>
              </a:rPr>
              <a:t>DEFINICION DE PARAMETROS INICI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Tamaño equipo au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Características equipo au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Regulaciones y/o estánd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Visitas a instalaciones exter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Cantidad de instalaciones a audi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Frecuencias de las Auditor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2276640"/>
            <a:ext cx="6934320" cy="2594160"/>
          </a:xfrm>
          <a:prstGeom prst="rect">
            <a:avLst/>
          </a:prstGeom>
          <a:gradFill rotWithShape="0">
            <a:gsLst>
              <a:gs pos="0">
                <a:srgbClr val="96bf96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be0e3"/>
                </a:solidFill>
                <a:latin typeface="Arial"/>
              </a:rPr>
              <a:t>PRE-AUDITO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Inform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Registro Histó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Dat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Emisiones atmosféricas, líquidas y sól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Almacenamiento de materias primas, insumos y pr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2637000"/>
            <a:ext cx="6934320" cy="2289240"/>
          </a:xfrm>
          <a:prstGeom prst="rect">
            <a:avLst/>
          </a:prstGeom>
          <a:gradFill rotWithShape="0">
            <a:gsLst>
              <a:gs pos="0">
                <a:srgbClr val="96bf96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be0e3"/>
                </a:solidFill>
                <a:latin typeface="Arial"/>
              </a:rPr>
              <a:t>AUDITORIA PROPIAMENTE DIC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Análisis de la Pre- Audito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Estudio de planos y dia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Aplicación de Fichas d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Visitas inspectivas a insta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Revisión de arch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Reuniones con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3068640"/>
            <a:ext cx="6985080" cy="3508920"/>
          </a:xfrm>
          <a:prstGeom prst="rect">
            <a:avLst/>
          </a:prstGeom>
          <a:gradFill rotWithShape="0">
            <a:gsLst>
              <a:gs pos="0">
                <a:srgbClr val="96bf96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be0e3"/>
                </a:solidFill>
                <a:latin typeface="Arial"/>
              </a:rPr>
              <a:t>COMUNICACIÓN DE RESULT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Objetivos, alcances, metodología y equipo au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Anteced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- Descripción de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- Normativa y regulaciones a audi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- Histó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- Política 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resentación de Resulta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- Emi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-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Análisis de resultados y 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22400" y="304920"/>
            <a:ext cx="3411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ICHAS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219320"/>
            <a:ext cx="7777080" cy="18601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a1cf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ISTA A: INFORMACIO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AZO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IREC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OTACION DE PERS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CARGADO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QUIPO AUD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1523880"/>
            <a:ext cx="7777080" cy="20732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a1cf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ISTA B: ADMINISTRACION Y PRODUC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RGANIGRAMA 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RGANIGRAMA GERENCIA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LUJOS ADMINISTRA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IAGRAMAS DE OPERACIONES UNIT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LUJOS DE PRODU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LUJOS DE MATERIAS PRI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LUJOS DE ENER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ISTORICO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1828800"/>
            <a:ext cx="7777080" cy="18601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a1cf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ISTA C: EMISIONES ATMOSFE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UENTES EMIS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AMIN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QUIPOS DE MONITOR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QUIPOS DE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RMAS Y REGUL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CHAS Y RESULTADOS DE EMI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2133720"/>
            <a:ext cx="7777080" cy="1647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a1cf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ISTA D: RESIDUOS LIQU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UENTES EMIS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AMIN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QUIPOS DE MONITOR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STEMAS DE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RMAS Y REGUL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LTADOS DE EMI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438280"/>
            <a:ext cx="7777080" cy="18601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a1cf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ISTA E: RESIDUOS SOL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UENTES CONTAMIN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LUMENES Y CARACTERIZ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RMAS Y REGUL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743200"/>
            <a:ext cx="7777080" cy="1647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a1cf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ISTA F: EMISIONES DE RU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UENTES EMIS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QUIPOS DE MONITOR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STEMAS DE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RMAS Y REGUL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LTADOS DE EMI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3048120"/>
            <a:ext cx="7777080" cy="1647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a1cf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ISTAG: ALMACENAMIENTO DE COMBUST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PO DE COMBUSTI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OCALIZACION DE DEPOS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RMAS Y REGUL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PO Y CARATERISTICAS DE DEPOS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DAS DE SEGURIDAD IMPLEMENT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8760" y="3352680"/>
            <a:ext cx="7793280" cy="14338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a1cf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ISTA H: ALMACENAMIENTO DE OTROS MATERIALES PELIGRO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PO DE MATER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RMAS Y REGUL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UGAR DE DEPOS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PO Y CARACTERISTICAS DE DEPOS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RMAS DE SEGURIDAD IMPLEMENT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Presentación de Resultados de las Auditoría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2762280"/>
            <a:ext cx="219096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3080" y="2690640"/>
            <a:ext cx="175284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UB-AREA 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QUI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2666880"/>
            <a:ext cx="1752480" cy="580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MI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REGISTRA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2666880"/>
            <a:ext cx="1758960" cy="5806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STANDAR Y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REGULAC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3417840"/>
            <a:ext cx="219096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3798720"/>
            <a:ext cx="219096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4179960"/>
            <a:ext cx="219096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4560840"/>
            <a:ext cx="219096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RVICI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4941720"/>
            <a:ext cx="219096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POR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3080" y="3390840"/>
            <a:ext cx="17575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ALDERA S.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3772080"/>
            <a:ext cx="17334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ORNO  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152960"/>
            <a:ext cx="17334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ORNO 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4533840"/>
            <a:ext cx="17334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ALDERA C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4915080"/>
            <a:ext cx="17334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AMION 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3390840"/>
            <a:ext cx="1752480" cy="368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80 mg/m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3735360"/>
            <a:ext cx="1752480" cy="3762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4116240"/>
            <a:ext cx="1752480" cy="3765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4497480"/>
            <a:ext cx="1752480" cy="3762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4878360"/>
            <a:ext cx="1752480" cy="3762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3390840"/>
            <a:ext cx="1752840" cy="3682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56 mg/m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3772080"/>
            <a:ext cx="1752840" cy="3762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4152960"/>
            <a:ext cx="1752840" cy="3762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533840"/>
            <a:ext cx="1752840" cy="3762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915080"/>
            <a:ext cx="1752840" cy="3762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4915080"/>
            <a:ext cx="1752840" cy="3762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876920"/>
            <a:ext cx="1752480" cy="3762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2095560"/>
            <a:ext cx="1752480" cy="398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81680" y="2095560"/>
            <a:ext cx="1758960" cy="398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AB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16120" y="2101680"/>
            <a:ext cx="22208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M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TMOSFERICA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2117880"/>
            <a:ext cx="175248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9320" y="1752480"/>
            <a:ext cx="135108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REA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79040" y="1776240"/>
            <a:ext cx="136476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MIS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ATMOS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6600" y="1776240"/>
            <a:ext cx="135252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RESIDUO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SOLI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4160" y="1776240"/>
            <a:ext cx="135252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RESIDUO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LIQUIDO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24960" y="1776240"/>
            <a:ext cx="138636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SUELO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71080" y="1776240"/>
            <a:ext cx="1377000" cy="580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RU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438280"/>
            <a:ext cx="135252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BODE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819520"/>
            <a:ext cx="135252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T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3200400"/>
            <a:ext cx="135252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INTU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581280"/>
            <a:ext cx="135252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ROCE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3962520"/>
            <a:ext cx="135252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SERVICI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4343400"/>
            <a:ext cx="135252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TRA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2438280"/>
            <a:ext cx="13716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2819520"/>
            <a:ext cx="1352520" cy="366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3200400"/>
            <a:ext cx="1352520" cy="366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3581280"/>
            <a:ext cx="1352520" cy="366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3962520"/>
            <a:ext cx="135252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4343400"/>
            <a:ext cx="135252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5105520"/>
            <a:ext cx="28195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 CORRESPON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2438280"/>
            <a:ext cx="1352520" cy="366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2819520"/>
            <a:ext cx="1352520" cy="366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3200400"/>
            <a:ext cx="135252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3581280"/>
            <a:ext cx="135252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962520"/>
            <a:ext cx="135252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4343400"/>
            <a:ext cx="135252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438280"/>
            <a:ext cx="135252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2819520"/>
            <a:ext cx="1352520" cy="366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3200400"/>
            <a:ext cx="135252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3581280"/>
            <a:ext cx="135252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3962520"/>
            <a:ext cx="1352520" cy="366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4343400"/>
            <a:ext cx="135252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2438280"/>
            <a:ext cx="135252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2819520"/>
            <a:ext cx="135252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9920" y="3200400"/>
            <a:ext cx="135252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3581280"/>
            <a:ext cx="1352520" cy="366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3962520"/>
            <a:ext cx="135252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4343400"/>
            <a:ext cx="135252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67480" y="2438280"/>
            <a:ext cx="135252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67480" y="2819520"/>
            <a:ext cx="1352520" cy="366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67480" y="3200400"/>
            <a:ext cx="135252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67480" y="3581280"/>
            <a:ext cx="1352520" cy="366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467480" y="3962520"/>
            <a:ext cx="1352520" cy="36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467480" y="4343400"/>
            <a:ext cx="1352520" cy="366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5589720"/>
            <a:ext cx="2819520" cy="307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IN NECESIDAD DE AC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50480" y="5105520"/>
            <a:ext cx="2988000" cy="307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NOR NECESIDAD DE AC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9760" y="5562720"/>
            <a:ext cx="2949840" cy="307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N NECESIDAD DE ACC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67480" y="2438280"/>
            <a:ext cx="13716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19520"/>
            <a:ext cx="13716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4343400"/>
            <a:ext cx="13716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67480" y="3200400"/>
            <a:ext cx="13716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67480" y="4343400"/>
            <a:ext cx="13716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4343400"/>
            <a:ext cx="13716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3962520"/>
            <a:ext cx="13716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3200400"/>
            <a:ext cx="13716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4343400"/>
            <a:ext cx="137160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62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MATRIZ DE PRIORIDADES DE AC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ESENTACION DE RECOMENDACIONES DE AC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1066680"/>
            <a:ext cx="1905120" cy="642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1066680"/>
            <a:ext cx="2241720" cy="642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C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SPECI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96760" y="1066680"/>
            <a:ext cx="994680" cy="642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U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63800" y="1066680"/>
            <a:ext cx="956520" cy="642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L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55600" y="1066680"/>
            <a:ext cx="903240" cy="642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I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43800" y="1066680"/>
            <a:ext cx="1339920" cy="642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SPO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905120"/>
            <a:ext cx="1905120" cy="520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1905120"/>
            <a:ext cx="2216160" cy="520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sarrollo programa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1905120"/>
            <a:ext cx="990720" cy="520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1905120"/>
            <a:ext cx="914400" cy="520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1905120"/>
            <a:ext cx="914400" cy="520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1905120"/>
            <a:ext cx="1339920" cy="520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2514600"/>
            <a:ext cx="1905120" cy="733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ADQUISI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2514600"/>
            <a:ext cx="2216160" cy="1159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plicar parámetros a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 la compra de ma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ima e insu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2514600"/>
            <a:ext cx="990720" cy="73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u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2514600"/>
            <a:ext cx="914400" cy="73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53080" y="2514600"/>
            <a:ext cx="914400" cy="73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43800" y="2514600"/>
            <a:ext cx="1339920" cy="73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276720"/>
            <a:ext cx="1905120" cy="733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RODUC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3276720"/>
            <a:ext cx="2216160" cy="73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stalar sistema de ab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miento en caldera N</a:t>
            </a:r>
            <a:r>
              <a:rPr b="1" lang="es-ES_tradnl" sz="1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3276720"/>
            <a:ext cx="990720" cy="73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15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3276720"/>
            <a:ext cx="914400" cy="73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3276720"/>
            <a:ext cx="914400" cy="73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43800" y="3276720"/>
            <a:ext cx="1339920" cy="73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4038480"/>
            <a:ext cx="1905120" cy="733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GERE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MEDIO AMB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09680" y="4038480"/>
            <a:ext cx="2216160" cy="73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odificación del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manejo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4038480"/>
            <a:ext cx="990720" cy="73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62720" y="4038480"/>
            <a:ext cx="914400" cy="73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53080" y="4038480"/>
            <a:ext cx="914400" cy="73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43800" y="4038480"/>
            <a:ext cx="1339920" cy="73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p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4800600"/>
            <a:ext cx="1905120" cy="733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MANTEN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4800600"/>
            <a:ext cx="2216160" cy="73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grama de inspec- ción equipos de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4800600"/>
            <a:ext cx="990720" cy="73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800600"/>
            <a:ext cx="914400" cy="73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3080" y="4800600"/>
            <a:ext cx="914400" cy="73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43800" y="4800600"/>
            <a:ext cx="1339920" cy="73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p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nten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Conclusiones Gene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3600" y="990720"/>
            <a:ext cx="7328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ESTION AMBIENTAL ELEMENTO NECESARIO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DMINISTRACION EMPRESARIAL MOD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UDITORIAS AMBIENTALES CONSTITUYEN UNA HERRAMI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UNDAMENTAL EN SISTEMA DE GESTION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TANTO LOS SGA, COMO LAS AUDITORIAS DEBEN 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ARÁCTER DE VOLU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S AUDITORIAS AMBIENTALES DEBERIAN SER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ECANISMO DE SEGUIMIENTO DE PROYECTOS QUE HAN S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OMETIDOS A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OS RESULTADOS DE LAS AUDITORIAS AMBIENT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BERIAN SER PU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TANTO EL SGA EN SI MISMO COMO LAS AUDIT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MBIENTALES Y AUDITORES DEBEN SER ACREDI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228600"/>
            <a:ext cx="761976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MARCO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5600" y="1687680"/>
            <a:ext cx="1963800" cy="703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8680" y="1447920"/>
            <a:ext cx="196236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2133720"/>
            <a:ext cx="1981080" cy="703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MPA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3657600"/>
            <a:ext cx="6400800" cy="1008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EGISL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XIGENCIAS DE MERCADOS INTERNACIONALES PREOCUPACION CIUDAD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5029200"/>
            <a:ext cx="640080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CORPORACION DE ASPECTOS AMBI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971800" y="1676520"/>
            <a:ext cx="1523880" cy="304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981080"/>
            <a:ext cx="144792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809880"/>
            <a:ext cx="609840" cy="1600200"/>
          </a:xfrm>
          <a:custGeom>
            <a:avLst/>
            <a:gdLst>
              <a:gd name="textAreaLeft" fmla="*/ 81720 w 609840"/>
              <a:gd name="textAreaRight" fmla="*/ 528120 w 60984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971800"/>
            <a:ext cx="609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380880"/>
            <a:ext cx="76201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Arial Black"/>
              </a:rPr>
              <a:t>GESTION AMBI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7560" y="1109520"/>
            <a:ext cx="465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CUATRO RAZ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133720"/>
            <a:ext cx="4267440" cy="459720"/>
          </a:xfrm>
          <a:prstGeom prst="rect">
            <a:avLst/>
          </a:prstGeom>
          <a:gradFill rotWithShape="0">
            <a:gsLst>
              <a:gs pos="0">
                <a:srgbClr val="6a6a6a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GIS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352680"/>
            <a:ext cx="4267440" cy="459720"/>
          </a:xfrm>
          <a:prstGeom prst="rect">
            <a:avLst/>
          </a:prstGeom>
          <a:gradFill rotWithShape="0">
            <a:gsLst>
              <a:gs pos="0">
                <a:srgbClr val="6a6a6a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4495680"/>
            <a:ext cx="4267440" cy="459720"/>
          </a:xfrm>
          <a:prstGeom prst="rect">
            <a:avLst/>
          </a:prstGeom>
          <a:gradFill rotWithShape="0">
            <a:gsLst>
              <a:gs pos="0">
                <a:srgbClr val="6a6a6a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M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2320" y="5638680"/>
            <a:ext cx="4243680" cy="459720"/>
          </a:xfrm>
          <a:prstGeom prst="rect">
            <a:avLst/>
          </a:prstGeom>
          <a:gradFill rotWithShape="0">
            <a:gsLst>
              <a:gs pos="0">
                <a:srgbClr val="6a6a6a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ENEFICIOS ECONO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1981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32004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43434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54864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51440" y="2170080"/>
            <a:ext cx="3117600" cy="3682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EYES Y REGLAMENT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640" y="3352680"/>
            <a:ext cx="3129840" cy="3682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ALIDAD, EXIGENCIAS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70160" y="4495680"/>
            <a:ext cx="3099240" cy="3682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OMUNIDAD, AUTO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8000" y="5638680"/>
            <a:ext cx="3039840" cy="3682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USO EFICIENT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 Black"/>
              </a:rPr>
              <a:t>Sistemas de Gestión Amb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8960" y="9907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Elementos Básicos de un SG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1752480"/>
            <a:ext cx="5333760" cy="459720"/>
          </a:xfrm>
          <a:prstGeom prst="rect">
            <a:avLst/>
          </a:prstGeom>
          <a:gradFill rotWithShape="0">
            <a:gsLst>
              <a:gs pos="0">
                <a:srgbClr val="96bf96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be0e3"/>
                </a:solidFill>
                <a:latin typeface="Arial"/>
              </a:rPr>
              <a:t>ESTRUCTURA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2514600"/>
            <a:ext cx="5333760" cy="459720"/>
          </a:xfrm>
          <a:prstGeom prst="rect">
            <a:avLst/>
          </a:prstGeom>
          <a:gradFill rotWithShape="0">
            <a:gsLst>
              <a:gs pos="0">
                <a:srgbClr val="96bf96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be0e3"/>
                </a:solidFill>
                <a:latin typeface="Arial"/>
              </a:rPr>
              <a:t>POLITICA AMBIENTAL EXPLI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3276720"/>
            <a:ext cx="5333760" cy="459720"/>
          </a:xfrm>
          <a:prstGeom prst="rect">
            <a:avLst/>
          </a:prstGeom>
          <a:gradFill rotWithShape="0">
            <a:gsLst>
              <a:gs pos="0">
                <a:srgbClr val="96bf96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be0e3"/>
                </a:solidFill>
                <a:latin typeface="Arial"/>
              </a:rPr>
              <a:t>SISTEMA DE INFORM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9080" y="4038480"/>
            <a:ext cx="5357880" cy="825480"/>
          </a:xfrm>
          <a:prstGeom prst="rect">
            <a:avLst/>
          </a:prstGeom>
          <a:gradFill rotWithShape="0">
            <a:gsLst>
              <a:gs pos="0">
                <a:srgbClr val="96bf96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be0e3"/>
                </a:solidFill>
                <a:latin typeface="Arial"/>
              </a:rPr>
              <a:t>HERRAMIENTAS DE SEGU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be0e3"/>
                </a:solidFill>
                <a:latin typeface="Arial"/>
              </a:rPr>
              <a:t>SISTEMATICO Y PERIO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3809880"/>
            <a:ext cx="678168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5181480"/>
            <a:ext cx="11430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98400" y="5715000"/>
            <a:ext cx="57646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bbe0e3"/>
                </a:solidFill>
                <a:latin typeface="Arial"/>
              </a:rPr>
              <a:t>AUDITORIA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Arial Black"/>
              </a:rPr>
              <a:t>Auditorías Ambient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838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459080"/>
            <a:ext cx="914400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MARA INTERNACIONAL DE COMERCIO (1988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STRUMENTO DE GESTIÓN QUE CONSISTE EN UNA EVALUACIÓN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SISTEMÁTIC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PERIÓDIC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OBJETIV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DEL RENDIMIENTO DE LA ORGANIZACIÓN; DE LOS SISTEMAS DE GESTIÓN Y DEL EQUIPO INTRODUCIDO PARA LIMITAR Y EVALUAR EL IMPACO MEDIOAMBIENTAL DE LAS ACTIVIDADES INDUST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00536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SO 1400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CESO DE VERIFICACIÓN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SISTEMÁTICO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Y FUNDAMENTADO PARA OBTENER Y EVALUAR EN FORMA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OBJETIV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EVIDENCIA QUE PERMITA DETERMINAR DÓNDE EL SISTEMA DE GESTIÓN AMBIENTAL DE UNA ORGANIZACIÓN CUMPLE CON LOS CRITERIOS DEL S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Objetivo Fundamental de las Auditoría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0480" y="2590920"/>
            <a:ext cx="8164800" cy="2226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cc00"/>
                </a:solidFill>
                <a:latin typeface="Arial"/>
              </a:rPr>
              <a:t>Determinar si el Sistema de Gestión Ambien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cc00"/>
                </a:solidFill>
                <a:latin typeface="Arial"/>
              </a:rPr>
              <a:t>está en conformidad con lo planific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cc00"/>
                </a:solidFill>
                <a:latin typeface="Arial"/>
              </a:rPr>
              <a:t>en cuanto al control ambien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cc00"/>
                </a:solidFill>
                <a:latin typeface="Arial"/>
              </a:rPr>
              <a:t>y  si éste ha sido implemen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cc00"/>
                </a:solidFill>
                <a:latin typeface="Arial"/>
              </a:rPr>
              <a:t>en forma efi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38088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Criterios para la Definición de Objetivos Específicos de las Auditoría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05120"/>
            <a:ext cx="7924680" cy="3751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Importancia que la Empresa atribuye al 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Orientación de objetivos a actividades y/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resultado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Factibilidad de alcanzar los objetivos en el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previ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Posibilidad de medir los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Posibilidad de controlar el cumplimiento d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304920"/>
            <a:ext cx="8458200" cy="609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Objetivos Específicos Tí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7924680" cy="3385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Determinación y documentación del estad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Identificación y evaluación de mejoras en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protección del med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Identificación y evaluación de mejoras del S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Desarrollo de un sistema de informació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Optimización del uso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Mejora de la relación de la Empresa con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autoridades y com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38088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Definición de los Alcances de las Auditoría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05120"/>
            <a:ext cx="7924680" cy="4240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Dividir ámbito en unidades produc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-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- Ciclo de vida d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- Organización empresa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- Competencias y distribución de t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- Comunicaciones (interna y exte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- Política y calificación del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Aspectos específicos a ser Auditados:</a:t>
            </a: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- Auditoría de Estrategias Ambi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- Auditoría de la Eficiencia Ec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- Auditoría Ecológica de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bbe0e3"/>
                </a:solidFill>
                <a:latin typeface="Arial"/>
              </a:rPr>
              <a:t>- Auditorías de funciones de apoyo a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0:28:52Z</dcterms:created>
  <dc:creator>ROBERTO CORVALÁN</dc:creator>
  <dc:description/>
  <dc:language>en-US</dc:language>
  <cp:lastModifiedBy>Dii</cp:lastModifiedBy>
  <dcterms:modified xsi:type="dcterms:W3CDTF">2004-08-04T18:50:30Z</dcterms:modified>
  <cp:revision>6</cp:revision>
  <dc:subject/>
  <dc:title>Diapositiva 1</dc:title>
</cp:coreProperties>
</file>