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976-4A29-48D8-810B-497FCED0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9B4-FC73-48D3-B9A4-89AFF43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2BF-D8F7-45F5-8F1A-43CE081C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3B9-23B2-456B-85AB-8CBE6083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5AE-7E94-4EC6-A07A-B02DD31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F32-650E-4C19-B710-70518C3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905-9D37-473C-B107-69DFF9B7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6B8-8B39-411D-82E5-32E014A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C21-8B40-4B66-8619-904526F2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6E2-4490-498D-9EE6-02B0E3F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727-F569-4A57-9933-9275E3C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BB3-0B78-4E6C-91CB-53CD1FB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D48AFD-D4A8-4CE4-85AA-A209AB6893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UNDAMENTOS DE ACUSTICA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ugenio Collad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esión Acú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Combinación de Nive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cala de Frecu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spectro Sono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opagación del So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islación y absor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4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22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371600" y="0"/>
            <a:ext cx="64450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RECINTO CERRADO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(REVERBERACIO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49160" y="1030320"/>
            <a:ext cx="7842240" cy="4646520"/>
            <a:chOff x="749160" y="1030320"/>
            <a:chExt cx="7842240" cy="4646520"/>
          </a:xfrm>
        </p:grpSpPr>
        <p:sp>
          <p:nvSpPr>
            <p:cNvPr id="430" name=""/>
            <p:cNvSpPr/>
            <p:nvPr/>
          </p:nvSpPr>
          <p:spPr>
            <a:xfrm>
              <a:off x="749160" y="1030320"/>
              <a:ext cx="363240" cy="433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320" y="1030320"/>
              <a:ext cx="7107480" cy="37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21320" y="1030320"/>
              <a:ext cx="370080" cy="439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5280" y="5337000"/>
              <a:ext cx="7836120" cy="339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048040" y="2987640"/>
            <a:ext cx="4862520" cy="1093680"/>
            <a:chOff x="2048040" y="2987640"/>
            <a:chExt cx="4862520" cy="1093680"/>
          </a:xfrm>
        </p:grpSpPr>
        <p:grpSp>
          <p:nvGrpSpPr>
            <p:cNvPr id="435" name=""/>
            <p:cNvGrpSpPr/>
            <p:nvPr/>
          </p:nvGrpSpPr>
          <p:grpSpPr>
            <a:xfrm>
              <a:off x="2048040" y="2987640"/>
              <a:ext cx="1684080" cy="1093680"/>
              <a:chOff x="2048040" y="2987640"/>
              <a:chExt cx="1684080" cy="1093680"/>
            </a:xfrm>
          </p:grpSpPr>
          <p:graphicFrame>
            <p:nvGraphicFramePr>
              <p:cNvPr id="436" name=""/>
              <p:cNvGraphicFramePr/>
              <p:nvPr/>
            </p:nvGraphicFramePr>
            <p:xfrm>
              <a:off x="3305160" y="2987640"/>
              <a:ext cx="426960" cy="730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05160" y="2987640"/>
                        <a:ext cx="426960" cy="73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8" name=""/>
              <p:cNvGraphicFramePr/>
              <p:nvPr/>
            </p:nvGraphicFramePr>
            <p:xfrm>
              <a:off x="2625840" y="3025800"/>
              <a:ext cx="745920" cy="480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25840" y="3025800"/>
                        <a:ext cx="745920" cy="48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0" name=""/>
              <p:cNvGraphicFramePr/>
              <p:nvPr/>
            </p:nvGraphicFramePr>
            <p:xfrm>
              <a:off x="2048040" y="3108240"/>
              <a:ext cx="728640" cy="973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048040" y="3108240"/>
                        <a:ext cx="728640" cy="97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2" name=""/>
            <p:cNvGraphicFramePr/>
            <p:nvPr/>
          </p:nvGraphicFramePr>
          <p:xfrm>
            <a:off x="6213600" y="3160800"/>
            <a:ext cx="696960" cy="88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13600" y="3160800"/>
                      <a:ext cx="696960" cy="88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4" name=""/>
          <p:cNvGrpSpPr/>
          <p:nvPr/>
        </p:nvGrpSpPr>
        <p:grpSpPr>
          <a:xfrm>
            <a:off x="3857760" y="3048120"/>
            <a:ext cx="2216160" cy="706320"/>
            <a:chOff x="3857760" y="3048120"/>
            <a:chExt cx="2216160" cy="706320"/>
          </a:xfrm>
        </p:grpSpPr>
        <p:sp>
          <p:nvSpPr>
            <p:cNvPr id="445" name=""/>
            <p:cNvSpPr/>
            <p:nvPr/>
          </p:nvSpPr>
          <p:spPr>
            <a:xfrm>
              <a:off x="3857760" y="3373560"/>
              <a:ext cx="22161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4800" y="3048120"/>
              <a:ext cx="11700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DIRECT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111320" y="1425240"/>
            <a:ext cx="7107120" cy="3915000"/>
            <a:chOff x="1111320" y="1425240"/>
            <a:chExt cx="7107120" cy="3915000"/>
          </a:xfrm>
        </p:grpSpPr>
        <p:sp>
          <p:nvSpPr>
            <p:cNvPr id="448" name=""/>
            <p:cNvSpPr/>
            <p:nvPr/>
          </p:nvSpPr>
          <p:spPr>
            <a:xfrm>
              <a:off x="1411200" y="1673280"/>
              <a:ext cx="14544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111320" y="1425240"/>
              <a:ext cx="7107120" cy="3915000"/>
              <a:chOff x="1111320" y="1425240"/>
              <a:chExt cx="7107120" cy="391500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3006720" y="1442520"/>
                <a:ext cx="154296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32400" y="1477800"/>
                <a:ext cx="1771560" cy="1648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3043080" y="1425240"/>
                <a:ext cx="3846600" cy="1717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53320" y="1425600"/>
                <a:ext cx="1365120" cy="8143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63800" y="2222640"/>
                <a:ext cx="1737000" cy="9032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25800" y="3551400"/>
                <a:ext cx="1469880" cy="1753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495680" y="3639960"/>
                <a:ext cx="1684440" cy="1665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06720" y="3568680"/>
                <a:ext cx="2305080" cy="17715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311800" y="3639600"/>
                <a:ext cx="957240" cy="16830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128600" y="2115720"/>
                <a:ext cx="1702080" cy="1027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46240" y="1477800"/>
                <a:ext cx="442800" cy="6559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06680" y="1460520"/>
                <a:ext cx="4556160" cy="1754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128240" y="3568680"/>
                <a:ext cx="1684440" cy="1133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11320" y="4702320"/>
                <a:ext cx="1860480" cy="6206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936880" y="3603240"/>
                <a:ext cx="3030480" cy="17017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62400" y="3622680"/>
                <a:ext cx="4059000" cy="1700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404120" y="4206600"/>
                <a:ext cx="744480" cy="1098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6852960" y="3603600"/>
                <a:ext cx="1276200" cy="603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143000" y="5791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La reverberación multiplica el sonido y aumenta los niveles sonoros lejos de la fue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15880" y="1309680"/>
            <a:ext cx="7455240" cy="1728360"/>
            <a:chOff x="1415880" y="1309680"/>
            <a:chExt cx="7455240" cy="1728360"/>
          </a:xfrm>
        </p:grpSpPr>
        <p:sp>
          <p:nvSpPr>
            <p:cNvPr id="477" name=""/>
            <p:cNvSpPr/>
            <p:nvPr/>
          </p:nvSpPr>
          <p:spPr>
            <a:xfrm flipV="1">
              <a:off x="1415880" y="1312560"/>
              <a:ext cx="3184560" cy="172548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6440" y="1309680"/>
              <a:ext cx="2684520" cy="167472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51460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-429120" y="803880"/>
            <a:ext cx="10260720" cy="10157040"/>
            <a:chOff x="-429120" y="803880"/>
            <a:chExt cx="10260720" cy="10157040"/>
          </a:xfrm>
        </p:grpSpPr>
        <p:sp>
          <p:nvSpPr>
            <p:cNvPr id="481" name=""/>
            <p:cNvSpPr/>
            <p:nvPr/>
          </p:nvSpPr>
          <p:spPr>
            <a:xfrm rot="13200000">
              <a:off x="867600" y="2469240"/>
              <a:ext cx="7666920" cy="682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11840" y="3260880"/>
              <a:ext cx="186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DIFRACC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162160" y="3922200"/>
            <a:ext cx="6523200" cy="437760"/>
            <a:chOff x="2162160" y="3922200"/>
            <a:chExt cx="6523200" cy="437760"/>
          </a:xfrm>
        </p:grpSpPr>
        <p:sp>
          <p:nvSpPr>
            <p:cNvPr id="484" name=""/>
            <p:cNvSpPr/>
            <p:nvPr/>
          </p:nvSpPr>
          <p:spPr>
            <a:xfrm flipV="1">
              <a:off x="2162160" y="3922200"/>
              <a:ext cx="4660920" cy="3240"/>
            </a:xfrm>
            <a:prstGeom prst="line">
              <a:avLst/>
            </a:prstGeom>
            <a:ln w="10152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6800" y="3962520"/>
              <a:ext cx="2068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TRANSMIS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0" y="755640"/>
            <a:ext cx="9144000" cy="4743360"/>
            <a:chOff x="0" y="755640"/>
            <a:chExt cx="9144000" cy="4743360"/>
          </a:xfrm>
        </p:grpSpPr>
        <p:sp>
          <p:nvSpPr>
            <p:cNvPr id="487" name=""/>
            <p:cNvSpPr/>
            <p:nvPr/>
          </p:nvSpPr>
          <p:spPr>
            <a:xfrm>
              <a:off x="0" y="494496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0" y="75564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8120" y="2595600"/>
              <a:ext cx="377640" cy="234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514440" y="3411360"/>
            <a:ext cx="1063440" cy="827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440" y="341136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"/>
          <p:cNvSpPr/>
          <p:nvPr/>
        </p:nvSpPr>
        <p:spPr>
          <a:xfrm>
            <a:off x="1752480" y="304920"/>
            <a:ext cx="58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UNA PANTALL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541008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TRANSMISION depende de la AISLACION de la pantall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DIFRACCION disminuye con la FRECUENCIA del sonid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REFLEXION depende de la ABSORCION de la superfici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4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80880" y="38088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L SONIDO SOBRE UN MU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27520" y="1303200"/>
            <a:ext cx="1152360" cy="49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31960" y="4570560"/>
            <a:ext cx="2972160" cy="2250720"/>
            <a:chOff x="831960" y="4570560"/>
            <a:chExt cx="2972160" cy="2250720"/>
          </a:xfrm>
        </p:grpSpPr>
        <p:sp>
          <p:nvSpPr>
            <p:cNvPr id="504" name=""/>
            <p:cNvSpPr/>
            <p:nvPr/>
          </p:nvSpPr>
          <p:spPr>
            <a:xfrm rot="19680000">
              <a:off x="1671120" y="4957560"/>
              <a:ext cx="1884600" cy="1476360"/>
            </a:xfrm>
            <a:prstGeom prst="rightArrow">
              <a:avLst>
                <a:gd name="adj1" fmla="val 75009"/>
                <a:gd name="adj2" fmla="val 63831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1960" y="4811760"/>
              <a:ext cx="1434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76360" y="831240"/>
            <a:ext cx="2997720" cy="1738080"/>
            <a:chOff x="576360" y="831240"/>
            <a:chExt cx="2997720" cy="1738080"/>
          </a:xfrm>
        </p:grpSpPr>
        <p:sp>
          <p:nvSpPr>
            <p:cNvPr id="507" name=""/>
            <p:cNvSpPr/>
            <p:nvPr/>
          </p:nvSpPr>
          <p:spPr>
            <a:xfrm rot="12900000">
              <a:off x="1830240" y="1199880"/>
              <a:ext cx="1602000" cy="1000080"/>
            </a:xfrm>
            <a:prstGeom prst="rightArrow">
              <a:avLst>
                <a:gd name="adj1" fmla="val 75009"/>
                <a:gd name="adj2" fmla="val 80101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6360" y="1436760"/>
              <a:ext cx="17985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LEX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UPERFICI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0" y="3489480"/>
            <a:ext cx="8763120" cy="457200"/>
            <a:chOff x="0" y="3489480"/>
            <a:chExt cx="8763120" cy="457200"/>
          </a:xfrm>
        </p:grpSpPr>
        <p:sp>
          <p:nvSpPr>
            <p:cNvPr id="510" name=""/>
            <p:cNvSpPr/>
            <p:nvPr/>
          </p:nvSpPr>
          <p:spPr>
            <a:xfrm>
              <a:off x="2379600" y="3489480"/>
              <a:ext cx="1211400" cy="430200"/>
            </a:xfrm>
            <a:prstGeom prst="leftArrow">
              <a:avLst>
                <a:gd name="adj1" fmla="val 50000"/>
                <a:gd name="adj2" fmla="val 14078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6120" y="3516480"/>
              <a:ext cx="1211040" cy="430200"/>
            </a:xfrm>
            <a:prstGeom prst="rightArrow">
              <a:avLst>
                <a:gd name="adj1" fmla="val 50000"/>
                <a:gd name="adj2" fmla="val 140766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3529080"/>
              <a:ext cx="25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37160" y="3594240"/>
              <a:ext cx="2325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ADIACION SONOR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141800" y="2343240"/>
            <a:ext cx="3630600" cy="495720"/>
            <a:chOff x="4141800" y="2343240"/>
            <a:chExt cx="3630600" cy="495720"/>
          </a:xfrm>
        </p:grpSpPr>
        <p:grpSp>
          <p:nvGrpSpPr>
            <p:cNvPr id="515" name=""/>
            <p:cNvGrpSpPr/>
            <p:nvPr/>
          </p:nvGrpSpPr>
          <p:grpSpPr>
            <a:xfrm>
              <a:off x="4141800" y="2343240"/>
              <a:ext cx="476280" cy="461880"/>
              <a:chOff x="4141800" y="2343240"/>
              <a:chExt cx="476280" cy="461880"/>
            </a:xfrm>
          </p:grpSpPr>
          <p:sp>
            <p:nvSpPr>
              <p:cNvPr id="516" name=""/>
              <p:cNvSpPr/>
              <p:nvPr/>
            </p:nvSpPr>
            <p:spPr>
              <a:xfrm>
                <a:off x="4141800" y="2343240"/>
                <a:ext cx="233280" cy="461880"/>
              </a:xfrm>
              <a:prstGeom prst="leftArrow">
                <a:avLst>
                  <a:gd name="adj1" fmla="val 50000"/>
                  <a:gd name="adj2" fmla="val 4999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84800" y="2343240"/>
                <a:ext cx="233280" cy="4618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ff6699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371480" y="2470320"/>
                <a:ext cx="3240" cy="20304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998960" y="2441520"/>
              <a:ext cx="277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VIMIENT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227480" y="1365120"/>
            <a:ext cx="4535640" cy="749520"/>
            <a:chOff x="4227480" y="1365120"/>
            <a:chExt cx="4535640" cy="749520"/>
          </a:xfrm>
        </p:grpSpPr>
        <p:sp>
          <p:nvSpPr>
            <p:cNvPr id="521" name=""/>
            <p:cNvSpPr/>
            <p:nvPr/>
          </p:nvSpPr>
          <p:spPr>
            <a:xfrm>
              <a:off x="4227480" y="1365120"/>
              <a:ext cx="308160" cy="749520"/>
            </a:xfrm>
            <a:prstGeom prst="upArrow">
              <a:avLst>
                <a:gd name="adj1" fmla="val 50000"/>
                <a:gd name="adj2" fmla="val 121601"/>
              </a:avLst>
            </a:prstGeom>
            <a:solidFill>
              <a:srgbClr val="0033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91040" y="1447920"/>
              <a:ext cx="3772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ESTRUCTURA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90920" y="3002040"/>
            <a:ext cx="5424480" cy="335880"/>
            <a:chOff x="3490920" y="3002040"/>
            <a:chExt cx="5424480" cy="335880"/>
          </a:xfrm>
        </p:grpSpPr>
        <p:sp>
          <p:nvSpPr>
            <p:cNvPr id="524" name=""/>
            <p:cNvSpPr/>
            <p:nvPr/>
          </p:nvSpPr>
          <p:spPr>
            <a:xfrm>
              <a:off x="3490920" y="3164040"/>
              <a:ext cx="20210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70560" y="3002040"/>
              <a:ext cx="3444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PROPAGACION POR PORO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105440" y="4241880"/>
            <a:ext cx="3133440" cy="2426400"/>
            <a:chOff x="4105440" y="4241880"/>
            <a:chExt cx="3133440" cy="2426400"/>
          </a:xfrm>
        </p:grpSpPr>
        <p:sp>
          <p:nvSpPr>
            <p:cNvPr id="527" name=""/>
            <p:cNvSpPr/>
            <p:nvPr/>
          </p:nvSpPr>
          <p:spPr>
            <a:xfrm>
              <a:off x="4105440" y="4241880"/>
              <a:ext cx="626760" cy="689040"/>
            </a:xfrm>
            <a:prstGeom prst="downArrow">
              <a:avLst>
                <a:gd name="adj1" fmla="val 50000"/>
                <a:gd name="adj2" fmla="val 54973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24240" y="5065560"/>
              <a:ext cx="400320" cy="506520"/>
            </a:xfrm>
            <a:prstGeom prst="downArrow">
              <a:avLst>
                <a:gd name="adj1" fmla="val 50000"/>
                <a:gd name="adj2" fmla="val 63270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5722920"/>
              <a:ext cx="277920" cy="352440"/>
            </a:xfrm>
            <a:prstGeom prst="downArrow">
              <a:avLst>
                <a:gd name="adj1" fmla="val 50000"/>
                <a:gd name="adj2" fmla="val 63412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43400" y="6199200"/>
              <a:ext cx="182520" cy="220680"/>
            </a:xfrm>
            <a:prstGeom prst="downArrow">
              <a:avLst>
                <a:gd name="adj1" fmla="val 50000"/>
                <a:gd name="adj2" fmla="val 60459"/>
              </a:avLst>
            </a:prstGeom>
            <a:solidFill>
              <a:srgbClr val="ff00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6332400"/>
              <a:ext cx="2744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CALOR DISIPAD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3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40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04840" y="4202640"/>
              <a:ext cx="3972960" cy="2645280"/>
              <a:chOff x="204840" y="4202640"/>
              <a:chExt cx="3972960" cy="2645280"/>
            </a:xfrm>
          </p:grpSpPr>
          <p:sp>
            <p:nvSpPr>
              <p:cNvPr id="542" name=""/>
              <p:cNvSpPr/>
              <p:nvPr/>
            </p:nvSpPr>
            <p:spPr>
              <a:xfrm rot="19920000">
                <a:off x="1542600" y="4655880"/>
                <a:ext cx="2365560" cy="1738080"/>
              </a:xfrm>
              <a:prstGeom prst="rightArrow">
                <a:avLst>
                  <a:gd name="adj1" fmla="val 75009"/>
                  <a:gd name="adj2" fmla="val 68057"/>
                </a:avLst>
              </a:prstGeom>
              <a:solidFill>
                <a:srgbClr val="96969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4840" y="4697280"/>
                <a:ext cx="2563920" cy="10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INCIDENTE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Arial"/>
                  </a:rPr>
                  <a:t>100%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"/>
          <p:cNvGrpSpPr/>
          <p:nvPr/>
        </p:nvGrpSpPr>
        <p:grpSpPr>
          <a:xfrm>
            <a:off x="1027080" y="947880"/>
            <a:ext cx="2740680" cy="2531520"/>
            <a:chOff x="1027080" y="947880"/>
            <a:chExt cx="2740680" cy="2531520"/>
          </a:xfrm>
        </p:grpSpPr>
        <p:sp>
          <p:nvSpPr>
            <p:cNvPr id="545" name=""/>
            <p:cNvSpPr/>
            <p:nvPr/>
          </p:nvSpPr>
          <p:spPr>
            <a:xfrm rot="12360000">
              <a:off x="1486080" y="1655280"/>
              <a:ext cx="2070000" cy="1443240"/>
            </a:xfrm>
            <a:prstGeom prst="rightArrow">
              <a:avLst>
                <a:gd name="adj1" fmla="val 75009"/>
                <a:gd name="adj2" fmla="val 71720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27080" y="9478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9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54600" y="2533680"/>
            <a:ext cx="2563920" cy="1512720"/>
            <a:chOff x="4854600" y="2533680"/>
            <a:chExt cx="2563920" cy="1512720"/>
          </a:xfrm>
        </p:grpSpPr>
        <p:sp>
          <p:nvSpPr>
            <p:cNvPr id="548" name=""/>
            <p:cNvSpPr/>
            <p:nvPr/>
          </p:nvSpPr>
          <p:spPr>
            <a:xfrm>
              <a:off x="4925880" y="3551400"/>
              <a:ext cx="703440" cy="495000"/>
            </a:xfrm>
            <a:prstGeom prst="rightArrow">
              <a:avLst>
                <a:gd name="adj1" fmla="val 50000"/>
                <a:gd name="adj2" fmla="val 71061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54600" y="25336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2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2286000" y="228600"/>
            <a:ext cx="39625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ISLA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SOLID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976560" y="5229360"/>
            <a:ext cx="3292560" cy="1585800"/>
            <a:chOff x="3976560" y="5229360"/>
            <a:chExt cx="3292560" cy="1585800"/>
          </a:xfrm>
        </p:grpSpPr>
        <p:sp>
          <p:nvSpPr>
            <p:cNvPr id="552" name=""/>
            <p:cNvSpPr/>
            <p:nvPr/>
          </p:nvSpPr>
          <p:spPr>
            <a:xfrm>
              <a:off x="3976560" y="5765760"/>
              <a:ext cx="633600" cy="1049400"/>
            </a:xfrm>
            <a:prstGeom prst="downArrow">
              <a:avLst>
                <a:gd name="adj1" fmla="val 50000"/>
                <a:gd name="adj2" fmla="val 828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5200" y="5229360"/>
              <a:ext cx="2563920" cy="15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PROPAG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ESTRUCTU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6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791320" y="3429000"/>
            <a:ext cx="3160440" cy="533520"/>
            <a:chOff x="5791320" y="3429000"/>
            <a:chExt cx="3160440" cy="533520"/>
          </a:xfrm>
        </p:grpSpPr>
        <p:sp>
          <p:nvSpPr>
            <p:cNvPr id="555" name=""/>
            <p:cNvSpPr/>
            <p:nvPr/>
          </p:nvSpPr>
          <p:spPr>
            <a:xfrm>
              <a:off x="5791320" y="342900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3429000"/>
              <a:ext cx="316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17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3429000"/>
            <a:ext cx="3160800" cy="533520"/>
            <a:chOff x="0" y="3429000"/>
            <a:chExt cx="3160800" cy="533520"/>
          </a:xfrm>
        </p:grpSpPr>
        <p:sp>
          <p:nvSpPr>
            <p:cNvPr id="558" name=""/>
            <p:cNvSpPr/>
            <p:nvPr/>
          </p:nvSpPr>
          <p:spPr>
            <a:xfrm>
              <a:off x="0" y="3429000"/>
              <a:ext cx="28954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42900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56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04840" y="1371600"/>
            <a:ext cx="4459320" cy="5476320"/>
            <a:chOff x="204840" y="1371600"/>
            <a:chExt cx="4459320" cy="5476320"/>
          </a:xfrm>
        </p:grpSpPr>
        <p:sp>
          <p:nvSpPr>
            <p:cNvPr id="568" name=""/>
            <p:cNvSpPr/>
            <p:nvPr/>
          </p:nvSpPr>
          <p:spPr>
            <a:xfrm>
              <a:off x="3925800" y="1371600"/>
              <a:ext cx="738360" cy="503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9920000">
              <a:off x="1542600" y="4655880"/>
              <a:ext cx="2365560" cy="1738080"/>
            </a:xfrm>
            <a:prstGeom prst="rightArrow">
              <a:avLst>
                <a:gd name="adj1" fmla="val 75009"/>
                <a:gd name="adj2" fmla="val 68057"/>
              </a:avLst>
            </a:prstGeom>
            <a:solidFill>
              <a:srgbClr val="96969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4840" y="469728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INCIDEN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11280" y="1387440"/>
            <a:ext cx="2563920" cy="1337760"/>
            <a:chOff x="1511280" y="1387440"/>
            <a:chExt cx="2563920" cy="1337760"/>
          </a:xfrm>
        </p:grpSpPr>
        <p:sp>
          <p:nvSpPr>
            <p:cNvPr id="572" name=""/>
            <p:cNvSpPr/>
            <p:nvPr/>
          </p:nvSpPr>
          <p:spPr>
            <a:xfrm rot="12660000">
              <a:off x="2220480" y="1941120"/>
              <a:ext cx="1069920" cy="547560"/>
            </a:xfrm>
            <a:prstGeom prst="rightArrow">
              <a:avLst>
                <a:gd name="adj1" fmla="val 75009"/>
                <a:gd name="adj2" fmla="val 97708"/>
              </a:avLst>
            </a:prstGeom>
            <a:solidFill>
              <a:srgbClr val="99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11280" y="138744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1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876920" y="2666880"/>
            <a:ext cx="2563560" cy="2179800"/>
            <a:chOff x="4876920" y="2666880"/>
            <a:chExt cx="2563560" cy="2179800"/>
          </a:xfrm>
        </p:grpSpPr>
        <p:sp>
          <p:nvSpPr>
            <p:cNvPr id="575" name=""/>
            <p:cNvSpPr/>
            <p:nvPr/>
          </p:nvSpPr>
          <p:spPr>
            <a:xfrm>
              <a:off x="5029200" y="3429000"/>
              <a:ext cx="2203560" cy="1417680"/>
            </a:xfrm>
            <a:prstGeom prst="rightArrow">
              <a:avLst>
                <a:gd name="adj1" fmla="val 50000"/>
                <a:gd name="adj2" fmla="val 77724"/>
              </a:avLst>
            </a:prstGeom>
            <a:solidFill>
              <a:srgbClr val="3366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76920" y="2666880"/>
              <a:ext cx="2563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TRANSMIT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133720" y="228600"/>
            <a:ext cx="434340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PANEL ABSORBE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(POROS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91320" y="2133720"/>
            <a:ext cx="3352680" cy="533160"/>
            <a:chOff x="5791320" y="2133720"/>
            <a:chExt cx="3352680" cy="533160"/>
          </a:xfrm>
        </p:grpSpPr>
        <p:sp>
          <p:nvSpPr>
            <p:cNvPr id="579" name=""/>
            <p:cNvSpPr/>
            <p:nvPr/>
          </p:nvSpPr>
          <p:spPr>
            <a:xfrm>
              <a:off x="5791320" y="2133720"/>
              <a:ext cx="3124080" cy="533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3200" y="2133720"/>
              <a:ext cx="316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800000"/>
                  </a:solidFill>
                  <a:latin typeface="Arial"/>
                </a:rPr>
                <a:t>AISLACION   = 3 dB</a:t>
              </a:r>
              <a:r>
                <a:rPr b="0" lang="es-ES_tradnl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862440" y="1371600"/>
            <a:ext cx="3406680" cy="5051520"/>
            <a:chOff x="3862440" y="1371600"/>
            <a:chExt cx="3406680" cy="5051520"/>
          </a:xfrm>
        </p:grpSpPr>
        <p:sp>
          <p:nvSpPr>
            <p:cNvPr id="582" name=""/>
            <p:cNvSpPr/>
            <p:nvPr/>
          </p:nvSpPr>
          <p:spPr>
            <a:xfrm>
              <a:off x="3862440" y="5305320"/>
              <a:ext cx="863640" cy="1117800"/>
            </a:xfrm>
            <a:prstGeom prst="downArrow">
              <a:avLst>
                <a:gd name="adj1" fmla="val 50000"/>
                <a:gd name="adj2" fmla="val 64720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5200" y="5229360"/>
              <a:ext cx="2563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ABSORBI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35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86200" y="1371600"/>
              <a:ext cx="863640" cy="1117440"/>
            </a:xfrm>
            <a:prstGeom prst="upArrow">
              <a:avLst>
                <a:gd name="adj1" fmla="val 50000"/>
                <a:gd name="adj2" fmla="val 64688"/>
              </a:avLst>
            </a:prstGeom>
            <a:solidFill>
              <a:srgbClr val="ff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28600" y="2895480"/>
            <a:ext cx="3200400" cy="534600"/>
            <a:chOff x="228600" y="2895480"/>
            <a:chExt cx="3200400" cy="534600"/>
          </a:xfrm>
        </p:grpSpPr>
        <p:sp>
          <p:nvSpPr>
            <p:cNvPr id="586" name=""/>
            <p:cNvSpPr/>
            <p:nvPr/>
          </p:nvSpPr>
          <p:spPr>
            <a:xfrm>
              <a:off x="228600" y="2895480"/>
              <a:ext cx="3124080" cy="53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297180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ABSORCION = 85 %</a:t>
              </a: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2860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US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066680"/>
            <a:ext cx="79246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SONIDO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Variaciones rápidas de la presión atmosfér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442120"/>
            <a:ext cx="833436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Arial"/>
              </a:rPr>
              <a:t>PRESION ACUSTICA: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iferencia entre presión instantáne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y presión atmosférica med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1676520"/>
            <a:ext cx="7620120" cy="3734640"/>
            <a:chOff x="685800" y="1676520"/>
            <a:chExt cx="7620120" cy="3734640"/>
          </a:xfrm>
        </p:grpSpPr>
        <p:sp>
          <p:nvSpPr>
            <p:cNvPr id="54" name=""/>
            <p:cNvSpPr/>
            <p:nvPr/>
          </p:nvSpPr>
          <p:spPr>
            <a:xfrm>
              <a:off x="762120" y="1676520"/>
              <a:ext cx="0" cy="3429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5029200"/>
              <a:ext cx="754380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175248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PRE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8880" y="5105520"/>
              <a:ext cx="990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841480"/>
              <a:ext cx="4268880" cy="314640"/>
            </a:xfrm>
            <a:custGeom>
              <a:avLst/>
              <a:gdLst/>
              <a:ahLst/>
              <a:rect l="l" t="t" r="r" b="b"/>
              <a:pathLst>
                <a:path w="2689" h="198">
                  <a:moveTo>
                    <a:pt x="0" y="34"/>
                  </a:moveTo>
                  <a:lnTo>
                    <a:pt x="19" y="53"/>
                  </a:lnTo>
                  <a:lnTo>
                    <a:pt x="34" y="58"/>
                  </a:lnTo>
                  <a:lnTo>
                    <a:pt x="43" y="72"/>
                  </a:lnTo>
                  <a:lnTo>
                    <a:pt x="58" y="72"/>
                  </a:lnTo>
                  <a:lnTo>
                    <a:pt x="77" y="82"/>
                  </a:lnTo>
                  <a:lnTo>
                    <a:pt x="96" y="92"/>
                  </a:lnTo>
                  <a:lnTo>
                    <a:pt x="115" y="92"/>
                  </a:lnTo>
                  <a:lnTo>
                    <a:pt x="130" y="96"/>
                  </a:lnTo>
                  <a:lnTo>
                    <a:pt x="145" y="96"/>
                  </a:lnTo>
                  <a:lnTo>
                    <a:pt x="159" y="101"/>
                  </a:lnTo>
                  <a:lnTo>
                    <a:pt x="174" y="101"/>
                  </a:lnTo>
                  <a:lnTo>
                    <a:pt x="188" y="101"/>
                  </a:lnTo>
                  <a:lnTo>
                    <a:pt x="203" y="111"/>
                  </a:lnTo>
                  <a:lnTo>
                    <a:pt x="222" y="116"/>
                  </a:lnTo>
                  <a:lnTo>
                    <a:pt x="236" y="120"/>
                  </a:lnTo>
                  <a:lnTo>
                    <a:pt x="251" y="120"/>
                  </a:lnTo>
                  <a:lnTo>
                    <a:pt x="270" y="135"/>
                  </a:lnTo>
                  <a:lnTo>
                    <a:pt x="285" y="140"/>
                  </a:lnTo>
                  <a:lnTo>
                    <a:pt x="300" y="144"/>
                  </a:lnTo>
                  <a:lnTo>
                    <a:pt x="338" y="149"/>
                  </a:lnTo>
                  <a:lnTo>
                    <a:pt x="367" y="149"/>
                  </a:lnTo>
                  <a:lnTo>
                    <a:pt x="396" y="154"/>
                  </a:lnTo>
                  <a:lnTo>
                    <a:pt x="410" y="159"/>
                  </a:lnTo>
                  <a:lnTo>
                    <a:pt x="425" y="159"/>
                  </a:lnTo>
                  <a:lnTo>
                    <a:pt x="459" y="164"/>
                  </a:lnTo>
                  <a:lnTo>
                    <a:pt x="473" y="168"/>
                  </a:lnTo>
                  <a:lnTo>
                    <a:pt x="493" y="168"/>
                  </a:lnTo>
                  <a:lnTo>
                    <a:pt x="512" y="173"/>
                  </a:lnTo>
                  <a:lnTo>
                    <a:pt x="541" y="178"/>
                  </a:lnTo>
                  <a:lnTo>
                    <a:pt x="555" y="178"/>
                  </a:lnTo>
                  <a:lnTo>
                    <a:pt x="570" y="178"/>
                  </a:lnTo>
                  <a:lnTo>
                    <a:pt x="609" y="183"/>
                  </a:lnTo>
                  <a:lnTo>
                    <a:pt x="623" y="183"/>
                  </a:lnTo>
                  <a:lnTo>
                    <a:pt x="638" y="188"/>
                  </a:lnTo>
                  <a:lnTo>
                    <a:pt x="666" y="188"/>
                  </a:lnTo>
                  <a:lnTo>
                    <a:pt x="681" y="188"/>
                  </a:lnTo>
                  <a:lnTo>
                    <a:pt x="695" y="188"/>
                  </a:lnTo>
                  <a:lnTo>
                    <a:pt x="735" y="188"/>
                  </a:lnTo>
                  <a:lnTo>
                    <a:pt x="773" y="188"/>
                  </a:lnTo>
                  <a:lnTo>
                    <a:pt x="787" y="188"/>
                  </a:lnTo>
                  <a:lnTo>
                    <a:pt x="807" y="188"/>
                  </a:lnTo>
                  <a:lnTo>
                    <a:pt x="845" y="188"/>
                  </a:lnTo>
                  <a:lnTo>
                    <a:pt x="875" y="188"/>
                  </a:lnTo>
                  <a:lnTo>
                    <a:pt x="913" y="188"/>
                  </a:lnTo>
                  <a:lnTo>
                    <a:pt x="961" y="188"/>
                  </a:lnTo>
                  <a:lnTo>
                    <a:pt x="1039" y="188"/>
                  </a:lnTo>
                  <a:lnTo>
                    <a:pt x="1087" y="192"/>
                  </a:lnTo>
                  <a:lnTo>
                    <a:pt x="1146" y="192"/>
                  </a:lnTo>
                  <a:lnTo>
                    <a:pt x="1160" y="192"/>
                  </a:lnTo>
                  <a:lnTo>
                    <a:pt x="1174" y="192"/>
                  </a:lnTo>
                  <a:lnTo>
                    <a:pt x="1189" y="183"/>
                  </a:lnTo>
                  <a:lnTo>
                    <a:pt x="1218" y="183"/>
                  </a:lnTo>
                  <a:lnTo>
                    <a:pt x="1237" y="178"/>
                  </a:lnTo>
                  <a:lnTo>
                    <a:pt x="1276" y="173"/>
                  </a:lnTo>
                  <a:lnTo>
                    <a:pt x="1291" y="173"/>
                  </a:lnTo>
                  <a:lnTo>
                    <a:pt x="1310" y="164"/>
                  </a:lnTo>
                  <a:lnTo>
                    <a:pt x="1343" y="164"/>
                  </a:lnTo>
                  <a:lnTo>
                    <a:pt x="1358" y="164"/>
                  </a:lnTo>
                  <a:lnTo>
                    <a:pt x="1372" y="164"/>
                  </a:lnTo>
                  <a:lnTo>
                    <a:pt x="1421" y="159"/>
                  </a:lnTo>
                  <a:lnTo>
                    <a:pt x="1455" y="159"/>
                  </a:lnTo>
                  <a:lnTo>
                    <a:pt x="1484" y="159"/>
                  </a:lnTo>
                  <a:lnTo>
                    <a:pt x="1498" y="154"/>
                  </a:lnTo>
                  <a:lnTo>
                    <a:pt x="1512" y="154"/>
                  </a:lnTo>
                  <a:lnTo>
                    <a:pt x="1541" y="154"/>
                  </a:lnTo>
                  <a:lnTo>
                    <a:pt x="1581" y="149"/>
                  </a:lnTo>
                  <a:lnTo>
                    <a:pt x="1595" y="144"/>
                  </a:lnTo>
                  <a:lnTo>
                    <a:pt x="1609" y="135"/>
                  </a:lnTo>
                  <a:lnTo>
                    <a:pt x="1624" y="125"/>
                  </a:lnTo>
                  <a:lnTo>
                    <a:pt x="1643" y="120"/>
                  </a:lnTo>
                  <a:lnTo>
                    <a:pt x="1657" y="116"/>
                  </a:lnTo>
                  <a:lnTo>
                    <a:pt x="1672" y="106"/>
                  </a:lnTo>
                  <a:lnTo>
                    <a:pt x="1691" y="96"/>
                  </a:lnTo>
                  <a:lnTo>
                    <a:pt x="1706" y="87"/>
                  </a:lnTo>
                  <a:lnTo>
                    <a:pt x="1721" y="72"/>
                  </a:lnTo>
                  <a:lnTo>
                    <a:pt x="1735" y="68"/>
                  </a:lnTo>
                  <a:lnTo>
                    <a:pt x="1750" y="63"/>
                  </a:lnTo>
                  <a:lnTo>
                    <a:pt x="1764" y="77"/>
                  </a:lnTo>
                  <a:lnTo>
                    <a:pt x="1769" y="92"/>
                  </a:lnTo>
                  <a:lnTo>
                    <a:pt x="1774" y="111"/>
                  </a:lnTo>
                  <a:lnTo>
                    <a:pt x="1788" y="125"/>
                  </a:lnTo>
                  <a:lnTo>
                    <a:pt x="1793" y="140"/>
                  </a:lnTo>
                  <a:lnTo>
                    <a:pt x="1802" y="154"/>
                  </a:lnTo>
                  <a:lnTo>
                    <a:pt x="1807" y="168"/>
                  </a:lnTo>
                  <a:lnTo>
                    <a:pt x="1817" y="183"/>
                  </a:lnTo>
                  <a:lnTo>
                    <a:pt x="1826" y="197"/>
                  </a:lnTo>
                  <a:lnTo>
                    <a:pt x="1826" y="183"/>
                  </a:lnTo>
                  <a:lnTo>
                    <a:pt x="1826" y="168"/>
                  </a:lnTo>
                  <a:lnTo>
                    <a:pt x="1826" y="154"/>
                  </a:lnTo>
                  <a:lnTo>
                    <a:pt x="1826" y="140"/>
                  </a:lnTo>
                  <a:lnTo>
                    <a:pt x="1836" y="125"/>
                  </a:lnTo>
                  <a:lnTo>
                    <a:pt x="1847" y="111"/>
                  </a:lnTo>
                  <a:lnTo>
                    <a:pt x="1861" y="101"/>
                  </a:lnTo>
                  <a:lnTo>
                    <a:pt x="1866" y="87"/>
                  </a:lnTo>
                  <a:lnTo>
                    <a:pt x="1875" y="72"/>
                  </a:lnTo>
                  <a:lnTo>
                    <a:pt x="1885" y="58"/>
                  </a:lnTo>
                  <a:lnTo>
                    <a:pt x="1890" y="44"/>
                  </a:lnTo>
                  <a:lnTo>
                    <a:pt x="1895" y="29"/>
                  </a:lnTo>
                  <a:lnTo>
                    <a:pt x="1904" y="15"/>
                  </a:lnTo>
                  <a:lnTo>
                    <a:pt x="1904" y="0"/>
                  </a:lnTo>
                  <a:lnTo>
                    <a:pt x="1923" y="5"/>
                  </a:lnTo>
                  <a:lnTo>
                    <a:pt x="1933" y="44"/>
                  </a:lnTo>
                  <a:lnTo>
                    <a:pt x="1943" y="58"/>
                  </a:lnTo>
                  <a:lnTo>
                    <a:pt x="1947" y="77"/>
                  </a:lnTo>
                  <a:lnTo>
                    <a:pt x="1952" y="92"/>
                  </a:lnTo>
                  <a:lnTo>
                    <a:pt x="1962" y="106"/>
                  </a:lnTo>
                  <a:lnTo>
                    <a:pt x="1962" y="120"/>
                  </a:lnTo>
                  <a:lnTo>
                    <a:pt x="1967" y="135"/>
                  </a:lnTo>
                  <a:lnTo>
                    <a:pt x="1982" y="149"/>
                  </a:lnTo>
                  <a:lnTo>
                    <a:pt x="1987" y="164"/>
                  </a:lnTo>
                  <a:lnTo>
                    <a:pt x="1992" y="183"/>
                  </a:lnTo>
                  <a:lnTo>
                    <a:pt x="2001" y="168"/>
                  </a:lnTo>
                  <a:lnTo>
                    <a:pt x="2001" y="154"/>
                  </a:lnTo>
                  <a:lnTo>
                    <a:pt x="2006" y="140"/>
                  </a:lnTo>
                  <a:lnTo>
                    <a:pt x="2011" y="120"/>
                  </a:lnTo>
                  <a:lnTo>
                    <a:pt x="2020" y="106"/>
                  </a:lnTo>
                  <a:lnTo>
                    <a:pt x="2030" y="92"/>
                  </a:lnTo>
                  <a:lnTo>
                    <a:pt x="2040" y="77"/>
                  </a:lnTo>
                  <a:lnTo>
                    <a:pt x="2059" y="77"/>
                  </a:lnTo>
                  <a:lnTo>
                    <a:pt x="2064" y="92"/>
                  </a:lnTo>
                  <a:lnTo>
                    <a:pt x="2068" y="106"/>
                  </a:lnTo>
                  <a:lnTo>
                    <a:pt x="2078" y="120"/>
                  </a:lnTo>
                  <a:lnTo>
                    <a:pt x="2078" y="135"/>
                  </a:lnTo>
                  <a:lnTo>
                    <a:pt x="2088" y="120"/>
                  </a:lnTo>
                  <a:lnTo>
                    <a:pt x="2097" y="106"/>
                  </a:lnTo>
                  <a:lnTo>
                    <a:pt x="2097" y="92"/>
                  </a:lnTo>
                  <a:lnTo>
                    <a:pt x="2107" y="77"/>
                  </a:lnTo>
                  <a:lnTo>
                    <a:pt x="2121" y="72"/>
                  </a:lnTo>
                  <a:lnTo>
                    <a:pt x="2137" y="87"/>
                  </a:lnTo>
                  <a:lnTo>
                    <a:pt x="2146" y="101"/>
                  </a:lnTo>
                  <a:lnTo>
                    <a:pt x="2156" y="116"/>
                  </a:lnTo>
                  <a:lnTo>
                    <a:pt x="2165" y="135"/>
                  </a:lnTo>
                  <a:lnTo>
                    <a:pt x="2175" y="149"/>
                  </a:lnTo>
                  <a:lnTo>
                    <a:pt x="2185" y="164"/>
                  </a:lnTo>
                  <a:lnTo>
                    <a:pt x="2199" y="168"/>
                  </a:lnTo>
                  <a:lnTo>
                    <a:pt x="2199" y="154"/>
                  </a:lnTo>
                  <a:lnTo>
                    <a:pt x="2204" y="140"/>
                  </a:lnTo>
                  <a:lnTo>
                    <a:pt x="2213" y="125"/>
                  </a:lnTo>
                  <a:lnTo>
                    <a:pt x="2218" y="111"/>
                  </a:lnTo>
                  <a:lnTo>
                    <a:pt x="2223" y="96"/>
                  </a:lnTo>
                  <a:lnTo>
                    <a:pt x="2233" y="82"/>
                  </a:lnTo>
                  <a:lnTo>
                    <a:pt x="2237" y="68"/>
                  </a:lnTo>
                  <a:lnTo>
                    <a:pt x="2242" y="53"/>
                  </a:lnTo>
                  <a:lnTo>
                    <a:pt x="2252" y="39"/>
                  </a:lnTo>
                  <a:lnTo>
                    <a:pt x="2272" y="48"/>
                  </a:lnTo>
                  <a:lnTo>
                    <a:pt x="2277" y="63"/>
                  </a:lnTo>
                  <a:lnTo>
                    <a:pt x="2291" y="77"/>
                  </a:lnTo>
                  <a:lnTo>
                    <a:pt x="2296" y="92"/>
                  </a:lnTo>
                  <a:lnTo>
                    <a:pt x="2301" y="106"/>
                  </a:lnTo>
                  <a:lnTo>
                    <a:pt x="2310" y="120"/>
                  </a:lnTo>
                  <a:lnTo>
                    <a:pt x="2315" y="135"/>
                  </a:lnTo>
                  <a:lnTo>
                    <a:pt x="2330" y="154"/>
                  </a:lnTo>
                  <a:lnTo>
                    <a:pt x="2344" y="164"/>
                  </a:lnTo>
                  <a:lnTo>
                    <a:pt x="2349" y="149"/>
                  </a:lnTo>
                  <a:lnTo>
                    <a:pt x="2354" y="135"/>
                  </a:lnTo>
                  <a:lnTo>
                    <a:pt x="2368" y="120"/>
                  </a:lnTo>
                  <a:lnTo>
                    <a:pt x="2373" y="106"/>
                  </a:lnTo>
                  <a:lnTo>
                    <a:pt x="2378" y="92"/>
                  </a:lnTo>
                  <a:lnTo>
                    <a:pt x="2392" y="82"/>
                  </a:lnTo>
                  <a:lnTo>
                    <a:pt x="2397" y="96"/>
                  </a:lnTo>
                  <a:lnTo>
                    <a:pt x="2407" y="111"/>
                  </a:lnTo>
                  <a:lnTo>
                    <a:pt x="2417" y="125"/>
                  </a:lnTo>
                  <a:lnTo>
                    <a:pt x="2431" y="111"/>
                  </a:lnTo>
                  <a:lnTo>
                    <a:pt x="2431" y="96"/>
                  </a:lnTo>
                  <a:lnTo>
                    <a:pt x="2446" y="92"/>
                  </a:lnTo>
                  <a:lnTo>
                    <a:pt x="2460" y="111"/>
                  </a:lnTo>
                  <a:lnTo>
                    <a:pt x="2470" y="125"/>
                  </a:lnTo>
                  <a:lnTo>
                    <a:pt x="2484" y="135"/>
                  </a:lnTo>
                  <a:lnTo>
                    <a:pt x="2499" y="144"/>
                  </a:lnTo>
                  <a:lnTo>
                    <a:pt x="2518" y="140"/>
                  </a:lnTo>
                  <a:lnTo>
                    <a:pt x="2527" y="125"/>
                  </a:lnTo>
                  <a:lnTo>
                    <a:pt x="2542" y="116"/>
                  </a:lnTo>
                  <a:lnTo>
                    <a:pt x="2557" y="101"/>
                  </a:lnTo>
                  <a:lnTo>
                    <a:pt x="2572" y="92"/>
                  </a:lnTo>
                  <a:lnTo>
                    <a:pt x="2586" y="82"/>
                  </a:lnTo>
                  <a:lnTo>
                    <a:pt x="2600" y="92"/>
                  </a:lnTo>
                  <a:lnTo>
                    <a:pt x="2605" y="106"/>
                  </a:lnTo>
                  <a:lnTo>
                    <a:pt x="2615" y="120"/>
                  </a:lnTo>
                  <a:lnTo>
                    <a:pt x="2629" y="120"/>
                  </a:lnTo>
                  <a:lnTo>
                    <a:pt x="2644" y="120"/>
                  </a:lnTo>
                  <a:lnTo>
                    <a:pt x="2658" y="120"/>
                  </a:lnTo>
                  <a:lnTo>
                    <a:pt x="2672" y="116"/>
                  </a:lnTo>
                  <a:lnTo>
                    <a:pt x="2688" y="106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520" y="2895480"/>
              <a:ext cx="2841480" cy="225720"/>
            </a:xfrm>
            <a:custGeom>
              <a:avLst/>
              <a:gdLst/>
              <a:ahLst/>
              <a:rect l="l" t="t" r="r" b="b"/>
              <a:pathLst>
                <a:path w="1790" h="142">
                  <a:moveTo>
                    <a:pt x="0" y="96"/>
                  </a:moveTo>
                  <a:lnTo>
                    <a:pt x="3" y="70"/>
                  </a:lnTo>
                  <a:lnTo>
                    <a:pt x="22" y="64"/>
                  </a:lnTo>
                  <a:lnTo>
                    <a:pt x="42" y="51"/>
                  </a:lnTo>
                  <a:lnTo>
                    <a:pt x="61" y="45"/>
                  </a:lnTo>
                  <a:lnTo>
                    <a:pt x="80" y="38"/>
                  </a:lnTo>
                  <a:lnTo>
                    <a:pt x="106" y="26"/>
                  </a:lnTo>
                  <a:lnTo>
                    <a:pt x="131" y="13"/>
                  </a:lnTo>
                  <a:lnTo>
                    <a:pt x="150" y="6"/>
                  </a:lnTo>
                  <a:lnTo>
                    <a:pt x="170" y="0"/>
                  </a:lnTo>
                  <a:lnTo>
                    <a:pt x="189" y="0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304" y="0"/>
                  </a:lnTo>
                  <a:lnTo>
                    <a:pt x="323" y="0"/>
                  </a:lnTo>
                  <a:lnTo>
                    <a:pt x="342" y="0"/>
                  </a:lnTo>
                  <a:lnTo>
                    <a:pt x="362" y="0"/>
                  </a:lnTo>
                  <a:lnTo>
                    <a:pt x="381" y="0"/>
                  </a:lnTo>
                  <a:lnTo>
                    <a:pt x="400" y="0"/>
                  </a:lnTo>
                  <a:lnTo>
                    <a:pt x="419" y="6"/>
                  </a:lnTo>
                  <a:lnTo>
                    <a:pt x="438" y="6"/>
                  </a:lnTo>
                  <a:lnTo>
                    <a:pt x="458" y="13"/>
                  </a:lnTo>
                  <a:lnTo>
                    <a:pt x="483" y="19"/>
                  </a:lnTo>
                  <a:lnTo>
                    <a:pt x="502" y="26"/>
                  </a:lnTo>
                  <a:lnTo>
                    <a:pt x="522" y="38"/>
                  </a:lnTo>
                  <a:lnTo>
                    <a:pt x="541" y="38"/>
                  </a:lnTo>
                  <a:lnTo>
                    <a:pt x="579" y="45"/>
                  </a:lnTo>
                  <a:lnTo>
                    <a:pt x="598" y="58"/>
                  </a:lnTo>
                  <a:lnTo>
                    <a:pt x="618" y="45"/>
                  </a:lnTo>
                  <a:lnTo>
                    <a:pt x="637" y="45"/>
                  </a:lnTo>
                  <a:lnTo>
                    <a:pt x="656" y="45"/>
                  </a:lnTo>
                  <a:lnTo>
                    <a:pt x="662" y="77"/>
                  </a:lnTo>
                  <a:lnTo>
                    <a:pt x="682" y="83"/>
                  </a:lnTo>
                  <a:lnTo>
                    <a:pt x="682" y="64"/>
                  </a:lnTo>
                  <a:lnTo>
                    <a:pt x="701" y="58"/>
                  </a:lnTo>
                  <a:lnTo>
                    <a:pt x="720" y="70"/>
                  </a:lnTo>
                  <a:lnTo>
                    <a:pt x="739" y="58"/>
                  </a:lnTo>
                  <a:lnTo>
                    <a:pt x="758" y="45"/>
                  </a:lnTo>
                  <a:lnTo>
                    <a:pt x="778" y="64"/>
                  </a:lnTo>
                  <a:lnTo>
                    <a:pt x="790" y="90"/>
                  </a:lnTo>
                  <a:lnTo>
                    <a:pt x="810" y="96"/>
                  </a:lnTo>
                  <a:lnTo>
                    <a:pt x="835" y="77"/>
                  </a:lnTo>
                  <a:lnTo>
                    <a:pt x="864" y="48"/>
                  </a:lnTo>
                  <a:lnTo>
                    <a:pt x="848" y="45"/>
                  </a:lnTo>
                  <a:lnTo>
                    <a:pt x="867" y="45"/>
                  </a:lnTo>
                  <a:lnTo>
                    <a:pt x="886" y="45"/>
                  </a:lnTo>
                  <a:lnTo>
                    <a:pt x="906" y="38"/>
                  </a:lnTo>
                  <a:lnTo>
                    <a:pt x="925" y="38"/>
                  </a:lnTo>
                  <a:lnTo>
                    <a:pt x="944" y="51"/>
                  </a:lnTo>
                  <a:lnTo>
                    <a:pt x="963" y="51"/>
                  </a:lnTo>
                  <a:lnTo>
                    <a:pt x="982" y="51"/>
                  </a:lnTo>
                  <a:lnTo>
                    <a:pt x="1008" y="51"/>
                  </a:lnTo>
                  <a:lnTo>
                    <a:pt x="1027" y="51"/>
                  </a:lnTo>
                  <a:lnTo>
                    <a:pt x="1046" y="51"/>
                  </a:lnTo>
                  <a:lnTo>
                    <a:pt x="1066" y="58"/>
                  </a:lnTo>
                  <a:lnTo>
                    <a:pt x="1091" y="64"/>
                  </a:lnTo>
                  <a:lnTo>
                    <a:pt x="1117" y="77"/>
                  </a:lnTo>
                  <a:lnTo>
                    <a:pt x="1162" y="83"/>
                  </a:lnTo>
                  <a:lnTo>
                    <a:pt x="1213" y="102"/>
                  </a:lnTo>
                  <a:lnTo>
                    <a:pt x="1277" y="109"/>
                  </a:lnTo>
                  <a:lnTo>
                    <a:pt x="1315" y="115"/>
                  </a:lnTo>
                  <a:lnTo>
                    <a:pt x="1354" y="115"/>
                  </a:lnTo>
                  <a:lnTo>
                    <a:pt x="1373" y="128"/>
                  </a:lnTo>
                  <a:lnTo>
                    <a:pt x="1392" y="128"/>
                  </a:lnTo>
                  <a:lnTo>
                    <a:pt x="1411" y="134"/>
                  </a:lnTo>
                  <a:lnTo>
                    <a:pt x="1430" y="134"/>
                  </a:lnTo>
                  <a:lnTo>
                    <a:pt x="1450" y="141"/>
                  </a:lnTo>
                  <a:lnTo>
                    <a:pt x="1469" y="141"/>
                  </a:lnTo>
                  <a:lnTo>
                    <a:pt x="1488" y="141"/>
                  </a:lnTo>
                  <a:lnTo>
                    <a:pt x="1507" y="141"/>
                  </a:lnTo>
                  <a:lnTo>
                    <a:pt x="1526" y="141"/>
                  </a:lnTo>
                  <a:lnTo>
                    <a:pt x="1546" y="141"/>
                  </a:lnTo>
                  <a:lnTo>
                    <a:pt x="1565" y="141"/>
                  </a:lnTo>
                  <a:lnTo>
                    <a:pt x="1590" y="134"/>
                  </a:lnTo>
                  <a:lnTo>
                    <a:pt x="1610" y="134"/>
                  </a:lnTo>
                  <a:lnTo>
                    <a:pt x="1654" y="115"/>
                  </a:lnTo>
                  <a:lnTo>
                    <a:pt x="1699" y="102"/>
                  </a:lnTo>
                  <a:lnTo>
                    <a:pt x="1725" y="96"/>
                  </a:lnTo>
                  <a:lnTo>
                    <a:pt x="1770" y="83"/>
                  </a:lnTo>
                  <a:lnTo>
                    <a:pt x="1789" y="83"/>
                  </a:lnTo>
                </a:path>
              </a:pathLst>
            </a:custGeom>
            <a:noFill/>
            <a:ln cap="rnd" w="255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400" y="2362320"/>
              <a:ext cx="1219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ONID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0280" y="2516040"/>
              <a:ext cx="761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677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2057400"/>
              <a:ext cx="19814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CUST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2 x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-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hasta 20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05720" y="28195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5720" y="327672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6600" y="281952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40320" y="3002040"/>
              <a:ext cx="0" cy="1981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25909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PRESION ATMOSFERIC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(Aprox. 10</a:t>
              </a:r>
              <a:r>
                <a:rPr b="0" lang="es-ES_tradnl" sz="1400" spc="-1" strike="noStrike" baseline="30000">
                  <a:solidFill>
                    <a:srgbClr val="ffffcc"/>
                  </a:solidFill>
                  <a:latin typeface="Arial"/>
                </a:rPr>
                <a:t>5</a:t>
              </a:r>
              <a:r>
                <a:rPr b="0" lang="es-ES_tradnl" sz="1400" spc="-1" strike="noStrike">
                  <a:solidFill>
                    <a:srgbClr val="ffffcc"/>
                  </a:solidFill>
                  <a:latin typeface="Arial"/>
                </a:rPr>
                <a:t> Pa)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4000" y="3718080"/>
              <a:ext cx="120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SILENCI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17680" y="2637000"/>
              <a:ext cx="60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71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12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NIVEL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720" y="1020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 audición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la men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Se denomina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y tiene un valor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2 x 10</a:t>
            </a:r>
            <a:r>
              <a:rPr b="0" lang="es-ES_tradnl" sz="1800" spc="-1" strike="noStrike" baseline="30000">
                <a:solidFill>
                  <a:srgbClr val="ffffcc"/>
                </a:solidFill>
                <a:latin typeface="Arial"/>
              </a:rPr>
              <a:t>-5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Pa (Pasca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Umbral del dolor     :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Es la mayor presión acústica audible por el oído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humano. Es aproximadamente 1.000.000 de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veces mayor que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66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Nivel Sonoro NS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: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cala logarítmica de presión acústica referida al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umbral de audición p</a:t>
            </a:r>
            <a:r>
              <a:rPr b="0" lang="es-ES_tradnl" sz="1800" spc="-1" strike="noStrike" baseline="-25000">
                <a:solidFill>
                  <a:srgbClr val="ffffcc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, expresada en dB (decib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NS =  2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 = 10 log (p/p</a:t>
            </a:r>
            <a:r>
              <a:rPr b="0" lang="es-ES_tradnl" sz="2000" spc="-1" strike="noStrike" baseline="-25000">
                <a:solidFill>
                  <a:srgbClr val="99ff33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99ff33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99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8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422520" y="3425760"/>
            <a:ext cx="4189680" cy="58104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7080" y="4138560"/>
            <a:ext cx="8134200" cy="1782000"/>
            <a:chOff x="127080" y="4138560"/>
            <a:chExt cx="8134200" cy="1782000"/>
          </a:xfrm>
        </p:grpSpPr>
        <p:grpSp>
          <p:nvGrpSpPr>
            <p:cNvPr id="88" name=""/>
            <p:cNvGrpSpPr/>
            <p:nvPr/>
          </p:nvGrpSpPr>
          <p:grpSpPr>
            <a:xfrm>
              <a:off x="127080" y="4138560"/>
              <a:ext cx="8134200" cy="1782000"/>
              <a:chOff x="127080" y="4138560"/>
              <a:chExt cx="8134200" cy="1782000"/>
            </a:xfrm>
          </p:grpSpPr>
          <p:sp>
            <p:nvSpPr>
              <p:cNvPr id="89" name=""/>
              <p:cNvSpPr/>
              <p:nvPr/>
            </p:nvSpPr>
            <p:spPr>
              <a:xfrm>
                <a:off x="3124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6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48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1008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7220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343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28120" y="4952880"/>
                <a:ext cx="0" cy="1144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127080" y="4138560"/>
                <a:ext cx="8134200" cy="1782000"/>
                <a:chOff x="127080" y="4138560"/>
                <a:chExt cx="8134200" cy="1782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7440" y="4576680"/>
                  <a:ext cx="26226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Presión Acústica    (Pa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27080" y="5568840"/>
                  <a:ext cx="2701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Nivel Sonoro           (dB)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7800" y="5584680"/>
                  <a:ext cx="419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648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100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4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17212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6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9342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8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2004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81800" y="5584680"/>
                  <a:ext cx="755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2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12840" y="5010120"/>
                  <a:ext cx="7643880" cy="0"/>
                </a:xfrm>
                <a:prstGeom prst="line">
                  <a:avLst/>
                </a:prstGeom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774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5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37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4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99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3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060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2300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58512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46880" y="4608360"/>
                  <a:ext cx="914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2x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3184560" y="4427280"/>
                  <a:ext cx="4538520" cy="32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672080" y="4138560"/>
                  <a:ext cx="15238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Arial"/>
                    </a:rPr>
                    <a:t>Rango audible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11200" y="5149800"/>
                  <a:ext cx="45964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          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2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4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6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8  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0          </a:t>
                  </a:r>
                  <a:r>
                    <a:rPr b="0" lang="en-US" sz="1600" spc="-1" strike="noStrike">
                      <a:solidFill>
                        <a:srgbClr val="ff9900"/>
                      </a:solidFill>
                      <a:latin typeface="Arial"/>
                    </a:rPr>
                    <a:t>10</a:t>
                  </a:r>
                  <a:r>
                    <a:rPr b="0" lang="en-US" sz="1600" spc="-1" strike="noStrike" baseline="30000">
                      <a:solidFill>
                        <a:srgbClr val="ff99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3920" y="5132520"/>
                  <a:ext cx="269712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Energía relativa    (p/p</a:t>
                  </a:r>
                  <a:r>
                    <a:rPr b="0" lang="es-ES_tradnl" sz="1600" spc="-1" strike="noStrike" baseline="-25000">
                      <a:solidFill>
                        <a:srgbClr val="ffffcc"/>
                      </a:solidFill>
                      <a:latin typeface="Arial Rounded MT Bold"/>
                    </a:rPr>
                    <a:t>o</a:t>
                  </a: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Arial Rounded MT Bold"/>
                    </a:rPr>
                    <a:t>)</a:t>
                  </a:r>
                  <a:r>
                    <a:rPr b="0" lang="es-ES_tradnl" sz="1600" spc="-1" strike="noStrike" baseline="30000">
                      <a:solidFill>
                        <a:srgbClr val="ffffcc"/>
                      </a:solidFill>
                      <a:latin typeface="Arial Rounded MT Bold"/>
                    </a:rPr>
                    <a:t>2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7732800" y="440064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59000" y="4392720"/>
              <a:ext cx="0" cy="114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ESION  Y  NIVEL VS. TIEM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1531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23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4840" y="1257480"/>
            <a:ext cx="8124840" cy="2290680"/>
            <a:chOff x="204840" y="1257480"/>
            <a:chExt cx="8124840" cy="2290680"/>
          </a:xfrm>
        </p:grpSpPr>
        <p:sp>
          <p:nvSpPr>
            <p:cNvPr id="130" name=""/>
            <p:cNvSpPr/>
            <p:nvPr/>
          </p:nvSpPr>
          <p:spPr>
            <a:xfrm>
              <a:off x="204840" y="187308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Presió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Acustic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Pa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1065240" y="1257480"/>
            <a:ext cx="7264440" cy="2290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5240" y="1257480"/>
                      <a:ext cx="726444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228600" y="3780000"/>
            <a:ext cx="8153280" cy="2241360"/>
            <a:chOff x="228600" y="3780000"/>
            <a:chExt cx="8153280" cy="2241360"/>
          </a:xfrm>
        </p:grpSpPr>
        <p:sp>
          <p:nvSpPr>
            <p:cNvPr id="134" name=""/>
            <p:cNvSpPr/>
            <p:nvPr/>
          </p:nvSpPr>
          <p:spPr>
            <a:xfrm>
              <a:off x="228600" y="4572000"/>
              <a:ext cx="1219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Nive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Sonoro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ffffcc"/>
                  </a:solidFill>
                  <a:latin typeface="Arial"/>
                </a:rPr>
                <a:t>(en dB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103400" y="3780000"/>
            <a:ext cx="7278480" cy="224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3780000"/>
                      <a:ext cx="727848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UMA DE NIVELES SONOR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523880"/>
            <a:ext cx="5562360" cy="854640"/>
            <a:chOff x="1219320" y="1523880"/>
            <a:chExt cx="5562360" cy="854640"/>
          </a:xfrm>
        </p:grpSpPr>
        <p:sp>
          <p:nvSpPr>
            <p:cNvPr id="139" name=""/>
            <p:cNvSpPr/>
            <p:nvPr/>
          </p:nvSpPr>
          <p:spPr>
            <a:xfrm>
              <a:off x="1219320" y="15238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1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1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1981080"/>
              <a:ext cx="55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Arial Rounded MT Bold"/>
                </a:rPr>
                <a:t>NIVEL 2 =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 Nivel  generado por la fuente 2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88920" y="2587680"/>
            <a:ext cx="7061400" cy="858960"/>
            <a:chOff x="988920" y="2587680"/>
            <a:chExt cx="7061400" cy="858960"/>
          </a:xfrm>
        </p:grpSpPr>
        <p:sp>
          <p:nvSpPr>
            <p:cNvPr id="142" name=""/>
            <p:cNvSpPr/>
            <p:nvPr/>
          </p:nvSpPr>
          <p:spPr>
            <a:xfrm>
              <a:off x="988920" y="2587680"/>
              <a:ext cx="7061400" cy="858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1240" y="2827440"/>
              <a:ext cx="6553080" cy="45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NIVEL(1+2) = 10 Log ( 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1/10 +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0 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Arial"/>
                </a:rPr>
                <a:t>Nivel2/10 </a:t>
              </a: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03200" y="3973680"/>
            <a:ext cx="6387120" cy="523080"/>
            <a:chOff x="403200" y="3973680"/>
            <a:chExt cx="6387120" cy="523080"/>
          </a:xfrm>
        </p:grpSpPr>
        <p:graphicFrame>
          <p:nvGraphicFramePr>
            <p:cNvPr id="145" name=""/>
            <p:cNvGraphicFramePr/>
            <p:nvPr/>
          </p:nvGraphicFramePr>
          <p:xfrm>
            <a:off x="403200" y="3973680"/>
            <a:ext cx="770040" cy="51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200" y="3973680"/>
                      <a:ext cx="77004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5344920" y="4038480"/>
              <a:ext cx="144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      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3200" y="4664160"/>
            <a:ext cx="6351480" cy="582480"/>
            <a:chOff x="403200" y="4664160"/>
            <a:chExt cx="6351480" cy="582480"/>
          </a:xfrm>
        </p:grpSpPr>
        <p:graphicFrame>
          <p:nvGraphicFramePr>
            <p:cNvPr id="149" name=""/>
            <p:cNvGraphicFramePr/>
            <p:nvPr/>
          </p:nvGraphicFramePr>
          <p:xfrm>
            <a:off x="403200" y="4664160"/>
            <a:ext cx="77004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200" y="4664160"/>
                      <a:ext cx="77004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393920" y="4735440"/>
            <a:ext cx="769680" cy="5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93920" y="47354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357880" y="47242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3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200" y="5410080"/>
            <a:ext cx="6351480" cy="522360"/>
            <a:chOff x="403200" y="5410080"/>
            <a:chExt cx="6351480" cy="522360"/>
          </a:xfrm>
        </p:grpSpPr>
        <p:graphicFrame>
          <p:nvGraphicFramePr>
            <p:cNvPr id="155" name=""/>
            <p:cNvGraphicFramePr/>
            <p:nvPr/>
          </p:nvGraphicFramePr>
          <p:xfrm>
            <a:off x="403200" y="5421240"/>
            <a:ext cx="693720" cy="51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200" y="5421240"/>
                      <a:ext cx="6937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1393920" y="5421240"/>
            <a:ext cx="769680" cy="51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939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384280" y="5421240"/>
            <a:ext cx="770040" cy="511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8428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375000" y="5421240"/>
            <a:ext cx="770040" cy="511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75000" y="5421240"/>
                      <a:ext cx="7700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365720" y="5421240"/>
            <a:ext cx="769680" cy="51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365720" y="5421240"/>
                      <a:ext cx="76968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5357880" y="5410080"/>
              <a:ext cx="139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7 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659640" y="3728880"/>
            <a:ext cx="2150640" cy="2225880"/>
            <a:chOff x="6659640" y="3728880"/>
            <a:chExt cx="2150640" cy="2225880"/>
          </a:xfrm>
        </p:grpSpPr>
        <p:sp>
          <p:nvSpPr>
            <p:cNvPr id="167" name=""/>
            <p:cNvSpPr/>
            <p:nvPr/>
          </p:nvSpPr>
          <p:spPr>
            <a:xfrm>
              <a:off x="6659640" y="3728880"/>
              <a:ext cx="74304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</a:t>
              </a:r>
              <a:endParaRPr b="0" lang="en-US" sz="1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472428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 Rounded MT Bold"/>
                </a:rPr>
                <a:t>x + 9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70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560" y="2905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CALA DE FRECUENC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40184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6699"/>
                </a:solidFill>
                <a:latin typeface="Arial"/>
              </a:rPr>
              <a:t>FRECUENCIA f :</a:t>
            </a:r>
            <a:r>
              <a:rPr b="0" lang="es-ES_tradnl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Es el número de variaciones de la presión acústica por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segundo. Se mide en Hz (Hertz) y se gráfica en forma 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Arial"/>
              </a:rPr>
              <a:t>     logarítmic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520" y="2606760"/>
            <a:ext cx="8913960" cy="907920"/>
            <a:chOff x="182520" y="2606760"/>
            <a:chExt cx="8913960" cy="907920"/>
          </a:xfrm>
        </p:grpSpPr>
        <p:sp>
          <p:nvSpPr>
            <p:cNvPr id="179" name=""/>
            <p:cNvSpPr/>
            <p:nvPr/>
          </p:nvSpPr>
          <p:spPr>
            <a:xfrm>
              <a:off x="487440" y="3070080"/>
              <a:ext cx="81532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3044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77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152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600" y="2992320"/>
              <a:ext cx="0" cy="155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01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06600" y="260676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260676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16840" y="260676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200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9840" y="2606760"/>
              <a:ext cx="60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ffcc"/>
                  </a:solidFill>
                  <a:latin typeface="Arial"/>
                </a:rPr>
                <a:t>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Inf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162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Grav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30640" y="31478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edi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9800" y="314784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Agu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6280" y="3147840"/>
              <a:ext cx="1600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Ultrasonid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19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612080" y="6103800"/>
            <a:ext cx="2263680" cy="458280"/>
          </a:xfrm>
          <a:prstGeom prst="rect">
            <a:avLst/>
          </a:prstGeom>
          <a:noFill/>
          <a:ln w="1260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período T = 1/ 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79960" y="4421160"/>
            <a:ext cx="4051080" cy="1523880"/>
            <a:chOff x="4179960" y="4421160"/>
            <a:chExt cx="4051080" cy="1523880"/>
          </a:xfrm>
        </p:grpSpPr>
        <p:sp>
          <p:nvSpPr>
            <p:cNvPr id="203" name=""/>
            <p:cNvSpPr/>
            <p:nvPr/>
          </p:nvSpPr>
          <p:spPr>
            <a:xfrm>
              <a:off x="4251240" y="4421160"/>
              <a:ext cx="0" cy="1523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4960" y="5500800"/>
              <a:ext cx="22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800" spc="-1" strike="noStrike">
                  <a:solidFill>
                    <a:srgbClr val="ff6699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179960" y="5213160"/>
              <a:ext cx="3851280" cy="46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4360" y="5229360"/>
              <a:ext cx="1066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Tiemp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1240" y="4421160"/>
              <a:ext cx="2271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Arial"/>
                </a:rPr>
                <a:t>Presión acústic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4512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57800" y="4962600"/>
              <a:ext cx="8712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43480" y="4962600"/>
              <a:ext cx="92160" cy="488880"/>
            </a:xfrm>
            <a:custGeom>
              <a:avLst/>
              <a:gdLst/>
              <a:ahLst/>
              <a:rect l="l" t="t" r="r" b="b"/>
              <a:pathLst>
                <a:path w="58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3"/>
                  </a:lnTo>
                  <a:lnTo>
                    <a:pt x="52" y="17"/>
                  </a:lnTo>
                  <a:lnTo>
                    <a:pt x="52" y="11"/>
                  </a:lnTo>
                  <a:lnTo>
                    <a:pt x="53" y="7"/>
                  </a:lnTo>
                  <a:lnTo>
                    <a:pt x="55" y="1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708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276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49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060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92760" y="4957920"/>
              <a:ext cx="8712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78440" y="4957920"/>
              <a:ext cx="9036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88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56280" y="4957920"/>
              <a:ext cx="6012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2" y="306"/>
                  </a:lnTo>
                  <a:lnTo>
                    <a:pt x="25" y="307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4962600"/>
              <a:ext cx="8748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3" y="307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7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5120" y="4962600"/>
              <a:ext cx="88920" cy="48888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0" y="11"/>
                  </a:lnTo>
                  <a:lnTo>
                    <a:pt x="51" y="7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08720" y="4960800"/>
              <a:ext cx="8712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9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440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50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84760" y="4960800"/>
              <a:ext cx="87480" cy="48924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3" y="307"/>
                  </a:lnTo>
                  <a:lnTo>
                    <a:pt x="26" y="303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6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0440" y="4960800"/>
              <a:ext cx="88920" cy="489240"/>
            </a:xfrm>
            <a:custGeom>
              <a:avLst/>
              <a:gdLst/>
              <a:ahLst/>
              <a:rect l="l" t="t" r="r" b="b"/>
              <a:pathLst>
                <a:path w="56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4" y="307"/>
                  </a:lnTo>
                  <a:lnTo>
                    <a:pt x="27" y="303"/>
                  </a:lnTo>
                  <a:lnTo>
                    <a:pt x="29" y="297"/>
                  </a:lnTo>
                  <a:lnTo>
                    <a:pt x="49" y="24"/>
                  </a:lnTo>
                  <a:lnTo>
                    <a:pt x="49" y="16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3" y="1"/>
                  </a:lnTo>
                  <a:lnTo>
                    <a:pt x="55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260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8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2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8280" y="4957920"/>
              <a:ext cx="90720" cy="490320"/>
            </a:xfrm>
            <a:custGeom>
              <a:avLst/>
              <a:gdLst/>
              <a:ahLst/>
              <a:rect l="l" t="t" r="r" b="b"/>
              <a:pathLst>
                <a:path w="57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4" y="2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9000" y="4957920"/>
              <a:ext cx="88920" cy="490320"/>
            </a:xfrm>
            <a:custGeom>
              <a:avLst/>
              <a:gdLst/>
              <a:ahLst/>
              <a:rect l="l" t="t" r="r" b="b"/>
              <a:pathLst>
                <a:path w="56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4" y="308"/>
                  </a:lnTo>
                  <a:lnTo>
                    <a:pt x="26" y="304"/>
                  </a:lnTo>
                  <a:lnTo>
                    <a:pt x="28" y="297"/>
                  </a:lnTo>
                  <a:lnTo>
                    <a:pt x="49" y="24"/>
                  </a:lnTo>
                  <a:lnTo>
                    <a:pt x="49" y="17"/>
                  </a:lnTo>
                  <a:lnTo>
                    <a:pt x="50" y="11"/>
                  </a:lnTo>
                  <a:lnTo>
                    <a:pt x="51" y="6"/>
                  </a:lnTo>
                  <a:lnTo>
                    <a:pt x="52" y="3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6120" y="4957920"/>
              <a:ext cx="60480" cy="490320"/>
            </a:xfrm>
            <a:custGeom>
              <a:avLst/>
              <a:gdLst/>
              <a:ahLst/>
              <a:rect l="l" t="t" r="r" b="b"/>
              <a:pathLst>
                <a:path w="3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0" y="302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7" y="304"/>
                  </a:lnTo>
                  <a:lnTo>
                    <a:pt x="29" y="297"/>
                  </a:lnTo>
                  <a:lnTo>
                    <a:pt x="37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88040" y="4962600"/>
              <a:ext cx="27000" cy="25236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0" y="158"/>
                  </a:moveTo>
                  <a:lnTo>
                    <a:pt x="10" y="24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1800" y="4962600"/>
              <a:ext cx="9072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5"/>
                  </a:lnTo>
                  <a:lnTo>
                    <a:pt x="18" y="283"/>
                  </a:lnTo>
                  <a:lnTo>
                    <a:pt x="19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5" y="307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3960" y="4962600"/>
              <a:ext cx="85680" cy="48888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5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6"/>
                  </a:lnTo>
                  <a:lnTo>
                    <a:pt x="22" y="307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88200" y="4962600"/>
              <a:ext cx="90360" cy="48888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6"/>
                  </a:lnTo>
                  <a:lnTo>
                    <a:pt x="26" y="307"/>
                  </a:lnTo>
                  <a:lnTo>
                    <a:pt x="28" y="304"/>
                  </a:lnTo>
                  <a:lnTo>
                    <a:pt x="29" y="297"/>
                  </a:lnTo>
                  <a:lnTo>
                    <a:pt x="50" y="23"/>
                  </a:lnTo>
                  <a:lnTo>
                    <a:pt x="51" y="17"/>
                  </a:lnTo>
                  <a:lnTo>
                    <a:pt x="51" y="11"/>
                  </a:lnTo>
                  <a:lnTo>
                    <a:pt x="52" y="7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32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1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74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3" y="1"/>
                  </a:lnTo>
                  <a:lnTo>
                    <a:pt x="5" y="7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1" y="301"/>
                  </a:lnTo>
                  <a:lnTo>
                    <a:pt x="23" y="305"/>
                  </a:lnTo>
                  <a:lnTo>
                    <a:pt x="26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9640" y="4960800"/>
              <a:ext cx="85680" cy="489240"/>
            </a:xfrm>
            <a:custGeom>
              <a:avLst/>
              <a:gdLst/>
              <a:ahLst/>
              <a:rect l="l" t="t" r="r" b="b"/>
              <a:pathLst>
                <a:path w="54" h="308">
                  <a:moveTo>
                    <a:pt x="0" y="1"/>
                  </a:moveTo>
                  <a:lnTo>
                    <a:pt x="1" y="2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5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1"/>
                  </a:lnTo>
                  <a:lnTo>
                    <a:pt x="20" y="305"/>
                  </a:lnTo>
                  <a:lnTo>
                    <a:pt x="22" y="307"/>
                  </a:lnTo>
                  <a:lnTo>
                    <a:pt x="25" y="303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6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0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3880" y="4960800"/>
              <a:ext cx="90360" cy="489240"/>
            </a:xfrm>
            <a:custGeom>
              <a:avLst/>
              <a:gdLst/>
              <a:ahLst/>
              <a:rect l="l" t="t" r="r" b="b"/>
              <a:pathLst>
                <a:path w="57" h="308">
                  <a:moveTo>
                    <a:pt x="0" y="0"/>
                  </a:moveTo>
                  <a:lnTo>
                    <a:pt x="2" y="1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5"/>
                  </a:lnTo>
                  <a:lnTo>
                    <a:pt x="18" y="283"/>
                  </a:lnTo>
                  <a:lnTo>
                    <a:pt x="20" y="297"/>
                  </a:lnTo>
                  <a:lnTo>
                    <a:pt x="20" y="301"/>
                  </a:lnTo>
                  <a:lnTo>
                    <a:pt x="23" y="305"/>
                  </a:lnTo>
                  <a:lnTo>
                    <a:pt x="25" y="307"/>
                  </a:lnTo>
                  <a:lnTo>
                    <a:pt x="28" y="303"/>
                  </a:lnTo>
                  <a:lnTo>
                    <a:pt x="29" y="297"/>
                  </a:lnTo>
                  <a:lnTo>
                    <a:pt x="50" y="24"/>
                  </a:lnTo>
                  <a:lnTo>
                    <a:pt x="50" y="16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1"/>
                  </a:lnTo>
                  <a:lnTo>
                    <a:pt x="56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7480" y="4957920"/>
              <a:ext cx="85680" cy="490320"/>
            </a:xfrm>
            <a:custGeom>
              <a:avLst/>
              <a:gdLst/>
              <a:ahLst/>
              <a:rect l="l" t="t" r="r" b="b"/>
              <a:pathLst>
                <a:path w="54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3" y="14"/>
                  </a:lnTo>
                  <a:lnTo>
                    <a:pt x="4" y="26"/>
                  </a:lnTo>
                  <a:lnTo>
                    <a:pt x="16" y="283"/>
                  </a:lnTo>
                  <a:lnTo>
                    <a:pt x="17" y="297"/>
                  </a:lnTo>
                  <a:lnTo>
                    <a:pt x="18" y="302"/>
                  </a:lnTo>
                  <a:lnTo>
                    <a:pt x="21" y="306"/>
                  </a:lnTo>
                  <a:lnTo>
                    <a:pt x="22" y="308"/>
                  </a:lnTo>
                  <a:lnTo>
                    <a:pt x="25" y="304"/>
                  </a:lnTo>
                  <a:lnTo>
                    <a:pt x="27" y="297"/>
                  </a:lnTo>
                  <a:lnTo>
                    <a:pt x="47" y="24"/>
                  </a:lnTo>
                  <a:lnTo>
                    <a:pt x="47" y="17"/>
                  </a:lnTo>
                  <a:lnTo>
                    <a:pt x="48" y="11"/>
                  </a:lnTo>
                  <a:lnTo>
                    <a:pt x="49" y="6"/>
                  </a:lnTo>
                  <a:lnTo>
                    <a:pt x="51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21360" y="4957920"/>
              <a:ext cx="92160" cy="490320"/>
            </a:xfrm>
            <a:custGeom>
              <a:avLst/>
              <a:gdLst/>
              <a:ahLst/>
              <a:rect l="l" t="t" r="r" b="b"/>
              <a:pathLst>
                <a:path w="58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7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1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9" y="304"/>
                  </a:lnTo>
                  <a:lnTo>
                    <a:pt x="30" y="297"/>
                  </a:lnTo>
                  <a:lnTo>
                    <a:pt x="51" y="24"/>
                  </a:lnTo>
                  <a:lnTo>
                    <a:pt x="52" y="17"/>
                  </a:lnTo>
                  <a:lnTo>
                    <a:pt x="53" y="11"/>
                  </a:lnTo>
                  <a:lnTo>
                    <a:pt x="53" y="6"/>
                  </a:lnTo>
                  <a:lnTo>
                    <a:pt x="55" y="2"/>
                  </a:lnTo>
                  <a:lnTo>
                    <a:pt x="57" y="1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3520" y="4957920"/>
              <a:ext cx="87480" cy="490320"/>
            </a:xfrm>
            <a:custGeom>
              <a:avLst/>
              <a:gdLst/>
              <a:ahLst/>
              <a:rect l="l" t="t" r="r" b="b"/>
              <a:pathLst>
                <a:path w="55" h="309">
                  <a:moveTo>
                    <a:pt x="0" y="2"/>
                  </a:moveTo>
                  <a:lnTo>
                    <a:pt x="1" y="3"/>
                  </a:lnTo>
                  <a:lnTo>
                    <a:pt x="3" y="8"/>
                  </a:lnTo>
                  <a:lnTo>
                    <a:pt x="4" y="14"/>
                  </a:lnTo>
                  <a:lnTo>
                    <a:pt x="5" y="26"/>
                  </a:lnTo>
                  <a:lnTo>
                    <a:pt x="17" y="283"/>
                  </a:lnTo>
                  <a:lnTo>
                    <a:pt x="18" y="297"/>
                  </a:lnTo>
                  <a:lnTo>
                    <a:pt x="19" y="302"/>
                  </a:lnTo>
                  <a:lnTo>
                    <a:pt x="21" y="306"/>
                  </a:lnTo>
                  <a:lnTo>
                    <a:pt x="23" y="308"/>
                  </a:lnTo>
                  <a:lnTo>
                    <a:pt x="26" y="304"/>
                  </a:lnTo>
                  <a:lnTo>
                    <a:pt x="27" y="297"/>
                  </a:lnTo>
                  <a:lnTo>
                    <a:pt x="48" y="24"/>
                  </a:lnTo>
                  <a:lnTo>
                    <a:pt x="48" y="17"/>
                  </a:lnTo>
                  <a:lnTo>
                    <a:pt x="49" y="11"/>
                  </a:lnTo>
                  <a:lnTo>
                    <a:pt x="50" y="6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9200" y="4957920"/>
              <a:ext cx="61920" cy="490320"/>
            </a:xfrm>
            <a:custGeom>
              <a:avLst/>
              <a:gdLst/>
              <a:ahLst/>
              <a:rect l="l" t="t" r="r" b="b"/>
              <a:pathLst>
                <a:path w="39" h="309">
                  <a:moveTo>
                    <a:pt x="0" y="0"/>
                  </a:moveTo>
                  <a:lnTo>
                    <a:pt x="3" y="2"/>
                  </a:lnTo>
                  <a:lnTo>
                    <a:pt x="5" y="7"/>
                  </a:lnTo>
                  <a:lnTo>
                    <a:pt x="5" y="14"/>
                  </a:lnTo>
                  <a:lnTo>
                    <a:pt x="6" y="26"/>
                  </a:lnTo>
                  <a:lnTo>
                    <a:pt x="19" y="283"/>
                  </a:lnTo>
                  <a:lnTo>
                    <a:pt x="20" y="297"/>
                  </a:lnTo>
                  <a:lnTo>
                    <a:pt x="20" y="302"/>
                  </a:lnTo>
                  <a:lnTo>
                    <a:pt x="23" y="306"/>
                  </a:lnTo>
                  <a:lnTo>
                    <a:pt x="25" y="308"/>
                  </a:lnTo>
                  <a:lnTo>
                    <a:pt x="28" y="304"/>
                  </a:lnTo>
                  <a:lnTo>
                    <a:pt x="30" y="297"/>
                  </a:lnTo>
                  <a:lnTo>
                    <a:pt x="38" y="165"/>
                  </a:lnTo>
                </a:path>
              </a:pathLst>
            </a:custGeom>
            <a:noFill/>
            <a:ln cap="rnd" w="12600">
              <a:solidFill>
                <a:srgbClr val="40ff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718240" y="4752720"/>
              <a:ext cx="322200" cy="6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34040" y="4754520"/>
              <a:ext cx="358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2320" y="4635360"/>
              <a:ext cx="715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ffffcc"/>
                  </a:solidFill>
                  <a:latin typeface="Arial"/>
                </a:rPr>
                <a:t>T  = 2 ms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03900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126120" y="4683240"/>
              <a:ext cx="0" cy="1936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22520" y="3429000"/>
            <a:ext cx="5875200" cy="717840"/>
            <a:chOff x="1622520" y="3429000"/>
            <a:chExt cx="5875200" cy="717840"/>
          </a:xfrm>
        </p:grpSpPr>
        <p:sp>
          <p:nvSpPr>
            <p:cNvPr id="250" name=""/>
            <p:cNvSpPr/>
            <p:nvPr/>
          </p:nvSpPr>
          <p:spPr>
            <a:xfrm>
              <a:off x="1630440" y="3765600"/>
              <a:ext cx="58561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5200" y="3780000"/>
              <a:ext cx="221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ANGO AUDIB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97720" y="3429000"/>
              <a:ext cx="0" cy="3808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2520" y="3666960"/>
              <a:ext cx="0" cy="142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7840" y="4419720"/>
            <a:ext cx="3475800" cy="1523880"/>
            <a:chOff x="357840" y="4419720"/>
            <a:chExt cx="3475800" cy="1523880"/>
          </a:xfrm>
        </p:grpSpPr>
        <p:sp>
          <p:nvSpPr>
            <p:cNvPr id="255" name=""/>
            <p:cNvSpPr/>
            <p:nvPr/>
          </p:nvSpPr>
          <p:spPr>
            <a:xfrm>
              <a:off x="554040" y="5194440"/>
              <a:ext cx="3279600" cy="140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70160" y="4740120"/>
              <a:ext cx="48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57840" y="4419720"/>
              <a:ext cx="3444120" cy="1523880"/>
              <a:chOff x="357840" y="4419720"/>
              <a:chExt cx="3444120" cy="1523880"/>
            </a:xfrm>
          </p:grpSpPr>
          <p:sp>
            <p:nvSpPr>
              <p:cNvPr id="258" name=""/>
              <p:cNvSpPr/>
              <p:nvPr/>
            </p:nvSpPr>
            <p:spPr>
              <a:xfrm>
                <a:off x="635040" y="4962600"/>
                <a:ext cx="128520" cy="252360"/>
              </a:xfrm>
              <a:custGeom>
                <a:avLst/>
                <a:gdLst/>
                <a:ahLst/>
                <a:rect l="l" t="t" r="r" b="b"/>
                <a:pathLst>
                  <a:path w="81" h="159">
                    <a:moveTo>
                      <a:pt x="0" y="158"/>
                    </a:moveTo>
                    <a:lnTo>
                      <a:pt x="49" y="24"/>
                    </a:lnTo>
                    <a:lnTo>
                      <a:pt x="52" y="17"/>
                    </a:lnTo>
                    <a:lnTo>
                      <a:pt x="54" y="11"/>
                    </a:lnTo>
                    <a:lnTo>
                      <a:pt x="58" y="7"/>
                    </a:lnTo>
                    <a:lnTo>
                      <a:pt x="67" y="3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5000" y="4962600"/>
                <a:ext cx="497160" cy="48888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6"/>
                    </a:lnTo>
                    <a:lnTo>
                      <a:pt x="141" y="307"/>
                    </a:lnTo>
                    <a:lnTo>
                      <a:pt x="158" y="304"/>
                    </a:lnTo>
                    <a:lnTo>
                      <a:pt x="167" y="297"/>
                    </a:lnTo>
                    <a:lnTo>
                      <a:pt x="281" y="23"/>
                    </a:lnTo>
                    <a:lnTo>
                      <a:pt x="284" y="17"/>
                    </a:lnTo>
                    <a:lnTo>
                      <a:pt x="286" y="11"/>
                    </a:lnTo>
                    <a:lnTo>
                      <a:pt x="290" y="7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73320" y="4962600"/>
                <a:ext cx="480960" cy="48888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2"/>
                    </a:moveTo>
                    <a:lnTo>
                      <a:pt x="9" y="3"/>
                    </a:lnTo>
                    <a:lnTo>
                      <a:pt x="19" y="8"/>
                    </a:lnTo>
                    <a:lnTo>
                      <a:pt x="22" y="15"/>
                    </a:lnTo>
                    <a:lnTo>
                      <a:pt x="27" y="26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6"/>
                    </a:lnTo>
                    <a:lnTo>
                      <a:pt x="132" y="307"/>
                    </a:lnTo>
                    <a:lnTo>
                      <a:pt x="147" y="304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7"/>
                    </a:lnTo>
                    <a:lnTo>
                      <a:pt x="277" y="11"/>
                    </a:lnTo>
                    <a:lnTo>
                      <a:pt x="282" y="7"/>
                    </a:lnTo>
                    <a:lnTo>
                      <a:pt x="291" y="3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54280" y="4962600"/>
                <a:ext cx="501480" cy="488880"/>
              </a:xfrm>
              <a:custGeom>
                <a:avLst/>
                <a:gdLst/>
                <a:ahLst/>
                <a:rect l="l" t="t" r="r" b="b"/>
                <a:pathLst>
                  <a:path w="316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4" y="14"/>
                    </a:lnTo>
                    <a:lnTo>
                      <a:pt x="39" y="25"/>
                    </a:lnTo>
                    <a:lnTo>
                      <a:pt x="106" y="283"/>
                    </a:lnTo>
                    <a:lnTo>
                      <a:pt x="113" y="297"/>
                    </a:lnTo>
                    <a:lnTo>
                      <a:pt x="119" y="301"/>
                    </a:lnTo>
                    <a:lnTo>
                      <a:pt x="130" y="306"/>
                    </a:lnTo>
                    <a:lnTo>
                      <a:pt x="143" y="307"/>
                    </a:lnTo>
                    <a:lnTo>
                      <a:pt x="159" y="304"/>
                    </a:lnTo>
                    <a:lnTo>
                      <a:pt x="168" y="297"/>
                    </a:lnTo>
                    <a:lnTo>
                      <a:pt x="284" y="23"/>
                    </a:lnTo>
                    <a:lnTo>
                      <a:pt x="287" y="17"/>
                    </a:lnTo>
                    <a:lnTo>
                      <a:pt x="289" y="11"/>
                    </a:lnTo>
                    <a:lnTo>
                      <a:pt x="293" y="7"/>
                    </a:lnTo>
                    <a:lnTo>
                      <a:pt x="302" y="1"/>
                    </a:lnTo>
                    <a:lnTo>
                      <a:pt x="315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78080" y="4960800"/>
                <a:ext cx="482760" cy="489240"/>
              </a:xfrm>
              <a:custGeom>
                <a:avLst/>
                <a:gdLst/>
                <a:ahLst/>
                <a:rect l="l" t="t" r="r" b="b"/>
                <a:pathLst>
                  <a:path w="304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4" y="14"/>
                    </a:lnTo>
                    <a:lnTo>
                      <a:pt x="27" y="25"/>
                    </a:lnTo>
                    <a:lnTo>
                      <a:pt x="94" y="283"/>
                    </a:lnTo>
                    <a:lnTo>
                      <a:pt x="101" y="297"/>
                    </a:lnTo>
                    <a:lnTo>
                      <a:pt x="108" y="301"/>
                    </a:lnTo>
                    <a:lnTo>
                      <a:pt x="119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6" y="297"/>
                    </a:lnTo>
                    <a:lnTo>
                      <a:pt x="272" y="24"/>
                    </a:lnTo>
                    <a:lnTo>
                      <a:pt x="275" y="16"/>
                    </a:lnTo>
                    <a:lnTo>
                      <a:pt x="277" y="11"/>
                    </a:lnTo>
                    <a:lnTo>
                      <a:pt x="281" y="6"/>
                    </a:lnTo>
                    <a:lnTo>
                      <a:pt x="290" y="2"/>
                    </a:lnTo>
                    <a:lnTo>
                      <a:pt x="303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62280" y="4960800"/>
                <a:ext cx="496800" cy="489240"/>
              </a:xfrm>
              <a:custGeom>
                <a:avLst/>
                <a:gdLst/>
                <a:ahLst/>
                <a:rect l="l" t="t" r="r" b="b"/>
                <a:pathLst>
                  <a:path w="313" h="308">
                    <a:moveTo>
                      <a:pt x="0" y="0"/>
                    </a:moveTo>
                    <a:lnTo>
                      <a:pt x="16" y="1"/>
                    </a:lnTo>
                    <a:lnTo>
                      <a:pt x="30" y="7"/>
                    </a:lnTo>
                    <a:lnTo>
                      <a:pt x="33" y="14"/>
                    </a:lnTo>
                    <a:lnTo>
                      <a:pt x="37" y="25"/>
                    </a:lnTo>
                    <a:lnTo>
                      <a:pt x="104" y="283"/>
                    </a:lnTo>
                    <a:lnTo>
                      <a:pt x="111" y="297"/>
                    </a:lnTo>
                    <a:lnTo>
                      <a:pt x="117" y="301"/>
                    </a:lnTo>
                    <a:lnTo>
                      <a:pt x="129" y="305"/>
                    </a:lnTo>
                    <a:lnTo>
                      <a:pt x="141" y="307"/>
                    </a:lnTo>
                    <a:lnTo>
                      <a:pt x="158" y="303"/>
                    </a:lnTo>
                    <a:lnTo>
                      <a:pt x="167" y="297"/>
                    </a:lnTo>
                    <a:lnTo>
                      <a:pt x="281" y="24"/>
                    </a:lnTo>
                    <a:lnTo>
                      <a:pt x="284" y="16"/>
                    </a:lnTo>
                    <a:lnTo>
                      <a:pt x="286" y="11"/>
                    </a:lnTo>
                    <a:lnTo>
                      <a:pt x="290" y="6"/>
                    </a:lnTo>
                    <a:lnTo>
                      <a:pt x="299" y="1"/>
                    </a:lnTo>
                    <a:lnTo>
                      <a:pt x="312" y="1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70240" y="4960800"/>
                <a:ext cx="480960" cy="489240"/>
              </a:xfrm>
              <a:custGeom>
                <a:avLst/>
                <a:gdLst/>
                <a:ahLst/>
                <a:rect l="l" t="t" r="r" b="b"/>
                <a:pathLst>
                  <a:path w="303" h="308">
                    <a:moveTo>
                      <a:pt x="0" y="1"/>
                    </a:moveTo>
                    <a:lnTo>
                      <a:pt x="9" y="2"/>
                    </a:lnTo>
                    <a:lnTo>
                      <a:pt x="19" y="8"/>
                    </a:lnTo>
                    <a:lnTo>
                      <a:pt x="22" y="14"/>
                    </a:lnTo>
                    <a:lnTo>
                      <a:pt x="27" y="25"/>
                    </a:lnTo>
                    <a:lnTo>
                      <a:pt x="95" y="283"/>
                    </a:lnTo>
                    <a:lnTo>
                      <a:pt x="101" y="297"/>
                    </a:lnTo>
                    <a:lnTo>
                      <a:pt x="107" y="301"/>
                    </a:lnTo>
                    <a:lnTo>
                      <a:pt x="120" y="305"/>
                    </a:lnTo>
                    <a:lnTo>
                      <a:pt x="132" y="307"/>
                    </a:lnTo>
                    <a:lnTo>
                      <a:pt x="147" y="303"/>
                    </a:lnTo>
                    <a:lnTo>
                      <a:pt x="157" y="297"/>
                    </a:lnTo>
                    <a:lnTo>
                      <a:pt x="271" y="24"/>
                    </a:lnTo>
                    <a:lnTo>
                      <a:pt x="274" y="16"/>
                    </a:lnTo>
                    <a:lnTo>
                      <a:pt x="277" y="11"/>
                    </a:lnTo>
                    <a:lnTo>
                      <a:pt x="282" y="6"/>
                    </a:lnTo>
                    <a:lnTo>
                      <a:pt x="291" y="2"/>
                    </a:lnTo>
                    <a:lnTo>
                      <a:pt x="302" y="0"/>
                    </a:lnTo>
                  </a:path>
                </a:pathLst>
              </a:custGeom>
              <a:noFill/>
              <a:ln cap="rnd" w="12600">
                <a:solidFill>
                  <a:srgbClr val="40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320" y="4419720"/>
                <a:ext cx="0" cy="15238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92280" y="5497560"/>
                <a:ext cx="2209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800" spc="-1" strike="noStrike">
                    <a:solidFill>
                      <a:srgbClr val="ff6699"/>
                    </a:solidFill>
                    <a:latin typeface="Arial"/>
                  </a:rPr>
                  <a:t>100 Hz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5320" y="4419720"/>
                <a:ext cx="190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Arial"/>
                  </a:rPr>
                  <a:t>Presión acústica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47840" y="4962600"/>
                <a:ext cx="25560" cy="0"/>
              </a:xfrm>
              <a:prstGeom prst="line">
                <a:avLst/>
              </a:prstGeom>
              <a:ln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90000" y="4613400"/>
                <a:ext cx="785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000" spc="-1" strike="noStrike">
                    <a:solidFill>
                      <a:srgbClr val="ffffcc"/>
                    </a:solidFill>
                    <a:latin typeface="Arial"/>
                  </a:rPr>
                  <a:t>T  = 10 ms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768760" y="468000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262240" y="4675320"/>
                <a:ext cx="0" cy="1936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57840" y="509256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782720" y="3144960"/>
            <a:ext cx="0" cy="155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83760" y="510696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92120" y="2082960"/>
            <a:ext cx="8267760" cy="3249360"/>
          </a:xfrm>
          <a:custGeom>
            <a:avLst/>
            <a:gdLst/>
            <a:ahLst/>
            <a:rect l="l" t="t" r="r" b="b"/>
            <a:pathLst>
              <a:path w="5208" h="2047">
                <a:moveTo>
                  <a:pt x="0" y="0"/>
                </a:moveTo>
                <a:lnTo>
                  <a:pt x="5207" y="0"/>
                </a:lnTo>
                <a:lnTo>
                  <a:pt x="5207" y="2046"/>
                </a:lnTo>
                <a:lnTo>
                  <a:pt x="0" y="2046"/>
                </a:lnTo>
                <a:lnTo>
                  <a:pt x="0" y="0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SPECTRO SONOR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27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9760" y="1963800"/>
            <a:ext cx="8610120" cy="3477600"/>
            <a:chOff x="149760" y="1963800"/>
            <a:chExt cx="8610120" cy="3477600"/>
          </a:xfrm>
        </p:grpSpPr>
        <p:grpSp>
          <p:nvGrpSpPr>
            <p:cNvPr id="285" name=""/>
            <p:cNvGrpSpPr/>
            <p:nvPr/>
          </p:nvGrpSpPr>
          <p:grpSpPr>
            <a:xfrm>
              <a:off x="149760" y="1963800"/>
              <a:ext cx="8610120" cy="3477600"/>
              <a:chOff x="149760" y="1963800"/>
              <a:chExt cx="8610120" cy="34776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2120" y="2082960"/>
                <a:ext cx="8267760" cy="3249360"/>
              </a:xfrm>
              <a:custGeom>
                <a:avLst/>
                <a:gdLst/>
                <a:ahLst/>
                <a:rect l="l" t="t" r="r" b="b"/>
                <a:pathLst>
                  <a:path w="5208" h="2047">
                    <a:moveTo>
                      <a:pt x="0" y="0"/>
                    </a:moveTo>
                    <a:lnTo>
                      <a:pt x="5207" y="0"/>
                    </a:lnTo>
                    <a:lnTo>
                      <a:pt x="5207" y="2046"/>
                    </a:lnTo>
                    <a:lnTo>
                      <a:pt x="0" y="20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2800" y="521172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5560" y="474804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5560" y="42847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560" y="381960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6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560" y="3355920"/>
                <a:ext cx="31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8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760" y="28926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760" y="242892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2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760" y="19638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ffffcc"/>
                    </a:solidFill>
                    <a:latin typeface="Arial"/>
                  </a:rPr>
                  <a:t>140</a:t>
                </a:r>
                <a:endParaRPr b="0" lang="en-US" sz="9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" y="2087640"/>
                <a:ext cx="8384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NIVE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1600" spc="-1" strike="noStrike">
                    <a:solidFill>
                      <a:srgbClr val="ffffcc"/>
                    </a:solidFill>
                    <a:latin typeface="Arial"/>
                  </a:rPr>
                  <a:t>dB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92120" y="2082960"/>
              <a:ext cx="0" cy="3247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440" y="48672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440" y="4402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440" y="39387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0440" y="34750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440" y="301140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440" y="25462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0440" y="208296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68560" y="2963880"/>
            <a:ext cx="5905440" cy="1719360"/>
            <a:chOff x="2068560" y="2963880"/>
            <a:chExt cx="5905440" cy="1719360"/>
          </a:xfrm>
        </p:grpSpPr>
        <p:sp>
          <p:nvSpPr>
            <p:cNvPr id="305" name=""/>
            <p:cNvSpPr/>
            <p:nvPr/>
          </p:nvSpPr>
          <p:spPr>
            <a:xfrm>
              <a:off x="2068560" y="3822840"/>
              <a:ext cx="5905440" cy="860400"/>
            </a:xfrm>
            <a:custGeom>
              <a:avLst/>
              <a:gdLst/>
              <a:ahLst/>
              <a:rect l="l" t="t" r="r" b="b"/>
              <a:pathLst>
                <a:path w="3720" h="542">
                  <a:moveTo>
                    <a:pt x="0" y="0"/>
                  </a:moveTo>
                  <a:lnTo>
                    <a:pt x="246" y="117"/>
                  </a:lnTo>
                  <a:lnTo>
                    <a:pt x="495" y="146"/>
                  </a:lnTo>
                  <a:lnTo>
                    <a:pt x="744" y="248"/>
                  </a:lnTo>
                  <a:lnTo>
                    <a:pt x="990" y="292"/>
                  </a:lnTo>
                  <a:lnTo>
                    <a:pt x="1239" y="336"/>
                  </a:lnTo>
                  <a:lnTo>
                    <a:pt x="1488" y="365"/>
                  </a:lnTo>
                  <a:lnTo>
                    <a:pt x="1734" y="409"/>
                  </a:lnTo>
                  <a:lnTo>
                    <a:pt x="1983" y="424"/>
                  </a:lnTo>
                  <a:lnTo>
                    <a:pt x="2232" y="438"/>
                  </a:lnTo>
                  <a:lnTo>
                    <a:pt x="2478" y="511"/>
                  </a:lnTo>
                  <a:lnTo>
                    <a:pt x="2727" y="526"/>
                  </a:lnTo>
                  <a:lnTo>
                    <a:pt x="2975" y="541"/>
                  </a:lnTo>
                  <a:lnTo>
                    <a:pt x="3222" y="511"/>
                  </a:lnTo>
                  <a:lnTo>
                    <a:pt x="3471" y="409"/>
                  </a:lnTo>
                  <a:lnTo>
                    <a:pt x="3719" y="219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2963880"/>
              <a:ext cx="5905440" cy="1208160"/>
            </a:xfrm>
            <a:custGeom>
              <a:avLst/>
              <a:gdLst/>
              <a:ahLst/>
              <a:rect l="l" t="t" r="r" b="b"/>
              <a:pathLst>
                <a:path w="3720" h="761">
                  <a:moveTo>
                    <a:pt x="0" y="541"/>
                  </a:moveTo>
                  <a:lnTo>
                    <a:pt x="246" y="205"/>
                  </a:lnTo>
                  <a:lnTo>
                    <a:pt x="495" y="103"/>
                  </a:lnTo>
                  <a:lnTo>
                    <a:pt x="744" y="30"/>
                  </a:lnTo>
                  <a:lnTo>
                    <a:pt x="990" y="15"/>
                  </a:lnTo>
                  <a:lnTo>
                    <a:pt x="1239" y="0"/>
                  </a:lnTo>
                  <a:lnTo>
                    <a:pt x="1488" y="15"/>
                  </a:lnTo>
                  <a:lnTo>
                    <a:pt x="1734" y="30"/>
                  </a:lnTo>
                  <a:lnTo>
                    <a:pt x="1983" y="59"/>
                  </a:lnTo>
                  <a:lnTo>
                    <a:pt x="2232" y="103"/>
                  </a:lnTo>
                  <a:lnTo>
                    <a:pt x="2478" y="132"/>
                  </a:lnTo>
                  <a:lnTo>
                    <a:pt x="2727" y="220"/>
                  </a:lnTo>
                  <a:lnTo>
                    <a:pt x="2975" y="322"/>
                  </a:lnTo>
                  <a:lnTo>
                    <a:pt x="3222" y="366"/>
                  </a:lnTo>
                  <a:lnTo>
                    <a:pt x="3471" y="497"/>
                  </a:lnTo>
                  <a:lnTo>
                    <a:pt x="3719" y="760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2840" y="3124080"/>
              <a:ext cx="1431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USIC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54440" y="3475080"/>
            <a:ext cx="4725720" cy="976320"/>
            <a:chOff x="2854440" y="3475080"/>
            <a:chExt cx="4725720" cy="976320"/>
          </a:xfrm>
        </p:grpSpPr>
        <p:sp>
          <p:nvSpPr>
            <p:cNvPr id="309" name=""/>
            <p:cNvSpPr/>
            <p:nvPr/>
          </p:nvSpPr>
          <p:spPr>
            <a:xfrm>
              <a:off x="2854440" y="3938760"/>
              <a:ext cx="4725720" cy="512640"/>
            </a:xfrm>
            <a:custGeom>
              <a:avLst/>
              <a:gdLst/>
              <a:ahLst/>
              <a:rect l="l" t="t" r="r" b="b"/>
              <a:pathLst>
                <a:path w="2977" h="323">
                  <a:moveTo>
                    <a:pt x="0" y="0"/>
                  </a:moveTo>
                  <a:lnTo>
                    <a:pt x="249" y="102"/>
                  </a:lnTo>
                  <a:lnTo>
                    <a:pt x="495" y="146"/>
                  </a:lnTo>
                  <a:lnTo>
                    <a:pt x="744" y="117"/>
                  </a:lnTo>
                  <a:lnTo>
                    <a:pt x="993" y="175"/>
                  </a:lnTo>
                  <a:lnTo>
                    <a:pt x="1239" y="161"/>
                  </a:lnTo>
                  <a:lnTo>
                    <a:pt x="1488" y="146"/>
                  </a:lnTo>
                  <a:lnTo>
                    <a:pt x="1737" y="263"/>
                  </a:lnTo>
                  <a:lnTo>
                    <a:pt x="1983" y="292"/>
                  </a:lnTo>
                  <a:lnTo>
                    <a:pt x="2232" y="307"/>
                  </a:lnTo>
                  <a:lnTo>
                    <a:pt x="2480" y="322"/>
                  </a:lnTo>
                  <a:lnTo>
                    <a:pt x="2727" y="322"/>
                  </a:lnTo>
                  <a:lnTo>
                    <a:pt x="2976" y="278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4440" y="3475080"/>
              <a:ext cx="4725720" cy="906480"/>
            </a:xfrm>
            <a:custGeom>
              <a:avLst/>
              <a:gdLst/>
              <a:ahLst/>
              <a:rect l="l" t="t" r="r" b="b"/>
              <a:pathLst>
                <a:path w="2977" h="571">
                  <a:moveTo>
                    <a:pt x="0" y="292"/>
                  </a:moveTo>
                  <a:lnTo>
                    <a:pt x="249" y="234"/>
                  </a:lnTo>
                  <a:lnTo>
                    <a:pt x="495" y="146"/>
                  </a:lnTo>
                  <a:lnTo>
                    <a:pt x="744" y="102"/>
                  </a:lnTo>
                  <a:lnTo>
                    <a:pt x="993" y="14"/>
                  </a:lnTo>
                  <a:lnTo>
                    <a:pt x="1239" y="0"/>
                  </a:lnTo>
                  <a:lnTo>
                    <a:pt x="1488" y="14"/>
                  </a:lnTo>
                  <a:lnTo>
                    <a:pt x="1737" y="29"/>
                  </a:lnTo>
                  <a:lnTo>
                    <a:pt x="1983" y="146"/>
                  </a:lnTo>
                  <a:lnTo>
                    <a:pt x="2232" y="248"/>
                  </a:lnTo>
                  <a:lnTo>
                    <a:pt x="2480" y="292"/>
                  </a:lnTo>
                  <a:lnTo>
                    <a:pt x="2727" y="336"/>
                  </a:lnTo>
                  <a:lnTo>
                    <a:pt x="2976" y="570"/>
                  </a:lnTo>
                </a:path>
              </a:pathLst>
            </a:custGeom>
            <a:noFill/>
            <a:ln cap="rnd"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1920" y="3795840"/>
              <a:ext cx="293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CONVERSAC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43440" y="5292360"/>
            <a:ext cx="8768880" cy="698040"/>
            <a:chOff x="343440" y="5292360"/>
            <a:chExt cx="8768880" cy="698040"/>
          </a:xfrm>
        </p:grpSpPr>
        <p:sp>
          <p:nvSpPr>
            <p:cNvPr id="313" name=""/>
            <p:cNvSpPr/>
            <p:nvPr/>
          </p:nvSpPr>
          <p:spPr>
            <a:xfrm>
              <a:off x="460440" y="5330880"/>
              <a:ext cx="63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120" y="5330880"/>
              <a:ext cx="8265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921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2780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685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5444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63996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4308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216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00228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914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57872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364600" y="5292360"/>
              <a:ext cx="0" cy="74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3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932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8440" y="53881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25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6284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51960" y="538812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1048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6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8512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1000" y="5388120"/>
              <a:ext cx="441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29520" y="5388120"/>
              <a:ext cx="50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6000</a:t>
              </a:r>
              <a:endParaRPr b="0" lang="en-US" sz="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2400" y="5654520"/>
              <a:ext cx="2239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FRECUENCIA (HZ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6520" y="2500200"/>
            <a:ext cx="8196480" cy="2738520"/>
            <a:chOff x="596520" y="2500200"/>
            <a:chExt cx="8196480" cy="2738520"/>
          </a:xfrm>
        </p:grpSpPr>
        <p:grpSp>
          <p:nvGrpSpPr>
            <p:cNvPr id="339" name=""/>
            <p:cNvGrpSpPr/>
            <p:nvPr/>
          </p:nvGrpSpPr>
          <p:grpSpPr>
            <a:xfrm>
              <a:off x="887400" y="2500200"/>
              <a:ext cx="7905600" cy="2738520"/>
              <a:chOff x="887400" y="2500200"/>
              <a:chExt cx="7905600" cy="2738520"/>
            </a:xfrm>
          </p:grpSpPr>
          <p:sp>
            <p:nvSpPr>
              <p:cNvPr id="340" name=""/>
              <p:cNvSpPr/>
              <p:nvPr/>
            </p:nvSpPr>
            <p:spPr>
              <a:xfrm>
                <a:off x="887400" y="2523960"/>
                <a:ext cx="7872480" cy="2714760"/>
              </a:xfrm>
              <a:custGeom>
                <a:avLst/>
                <a:gdLst/>
                <a:ahLst/>
                <a:rect l="l" t="t" r="r" b="b"/>
                <a:pathLst>
                  <a:path w="4959" h="1710">
                    <a:moveTo>
                      <a:pt x="0" y="307"/>
                    </a:moveTo>
                    <a:lnTo>
                      <a:pt x="246" y="599"/>
                    </a:lnTo>
                    <a:lnTo>
                      <a:pt x="495" y="745"/>
                    </a:lnTo>
                    <a:lnTo>
                      <a:pt x="744" y="891"/>
                    </a:lnTo>
                    <a:lnTo>
                      <a:pt x="990" y="1066"/>
                    </a:lnTo>
                    <a:lnTo>
                      <a:pt x="1239" y="1183"/>
                    </a:lnTo>
                    <a:lnTo>
                      <a:pt x="1488" y="1227"/>
                    </a:lnTo>
                    <a:lnTo>
                      <a:pt x="1734" y="1359"/>
                    </a:lnTo>
                    <a:lnTo>
                      <a:pt x="1983" y="1476"/>
                    </a:lnTo>
                    <a:lnTo>
                      <a:pt x="2232" y="1505"/>
                    </a:lnTo>
                    <a:lnTo>
                      <a:pt x="2478" y="1592"/>
                    </a:lnTo>
                    <a:lnTo>
                      <a:pt x="2727" y="1651"/>
                    </a:lnTo>
                    <a:lnTo>
                      <a:pt x="2976" y="1680"/>
                    </a:lnTo>
                    <a:lnTo>
                      <a:pt x="3222" y="1709"/>
                    </a:lnTo>
                    <a:lnTo>
                      <a:pt x="3471" y="1622"/>
                    </a:lnTo>
                    <a:lnTo>
                      <a:pt x="3719" y="1519"/>
                    </a:lnTo>
                    <a:lnTo>
                      <a:pt x="3966" y="1476"/>
                    </a:lnTo>
                    <a:lnTo>
                      <a:pt x="4215" y="1402"/>
                    </a:lnTo>
                    <a:lnTo>
                      <a:pt x="4463" y="1183"/>
                    </a:lnTo>
                    <a:lnTo>
                      <a:pt x="4710" y="891"/>
                    </a:lnTo>
                    <a:lnTo>
                      <a:pt x="4958" y="0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87400" y="2500200"/>
                <a:ext cx="7872480" cy="513000"/>
              </a:xfrm>
              <a:custGeom>
                <a:avLst/>
                <a:gdLst/>
                <a:ahLst/>
                <a:rect l="l" t="t" r="r" b="b"/>
                <a:pathLst>
                  <a:path w="4959" h="323">
                    <a:moveTo>
                      <a:pt x="0" y="322"/>
                    </a:moveTo>
                    <a:lnTo>
                      <a:pt x="246" y="132"/>
                    </a:lnTo>
                    <a:lnTo>
                      <a:pt x="495" y="88"/>
                    </a:lnTo>
                    <a:lnTo>
                      <a:pt x="744" y="29"/>
                    </a:lnTo>
                    <a:lnTo>
                      <a:pt x="990" y="15"/>
                    </a:lnTo>
                    <a:lnTo>
                      <a:pt x="1239" y="0"/>
                    </a:lnTo>
                    <a:lnTo>
                      <a:pt x="1488" y="15"/>
                    </a:lnTo>
                    <a:lnTo>
                      <a:pt x="1734" y="15"/>
                    </a:lnTo>
                    <a:lnTo>
                      <a:pt x="1983" y="29"/>
                    </a:lnTo>
                    <a:lnTo>
                      <a:pt x="2232" y="29"/>
                    </a:lnTo>
                    <a:lnTo>
                      <a:pt x="2478" y="44"/>
                    </a:lnTo>
                    <a:lnTo>
                      <a:pt x="2727" y="59"/>
                    </a:lnTo>
                    <a:lnTo>
                      <a:pt x="2976" y="88"/>
                    </a:lnTo>
                    <a:lnTo>
                      <a:pt x="3222" y="102"/>
                    </a:lnTo>
                    <a:lnTo>
                      <a:pt x="3471" y="117"/>
                    </a:lnTo>
                    <a:lnTo>
                      <a:pt x="3719" y="102"/>
                    </a:lnTo>
                    <a:lnTo>
                      <a:pt x="3966" y="29"/>
                    </a:lnTo>
                    <a:lnTo>
                      <a:pt x="4215" y="0"/>
                    </a:lnTo>
                    <a:lnTo>
                      <a:pt x="4463" y="0"/>
                    </a:lnTo>
                    <a:lnTo>
                      <a:pt x="4710" y="15"/>
                    </a:lnTo>
                    <a:lnTo>
                      <a:pt x="4958" y="15"/>
                    </a:lnTo>
                  </a:path>
                </a:pathLst>
              </a:custGeom>
              <a:noFill/>
              <a:ln cap="rnd" w="507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86600" y="2637000"/>
                <a:ext cx="1706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Arial"/>
                  </a:rPr>
                  <a:t>SONIDO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520" y="4732200"/>
              <a:ext cx="179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INAUDIB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ANGOS DE NIVEL Y FRECUENCIA AUDI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59436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La mayor parte de la vida humana se desarrolla en ambientes entre 40 y 80 d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861080" y="1027080"/>
            <a:ext cx="3520800" cy="173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ISTANCIA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IV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1,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2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 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1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x 10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48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0" y="2086920"/>
            <a:ext cx="9142560" cy="3396240"/>
            <a:chOff x="0" y="2086920"/>
            <a:chExt cx="9142560" cy="3396240"/>
          </a:xfrm>
        </p:grpSpPr>
        <p:grpSp>
          <p:nvGrpSpPr>
            <p:cNvPr id="355" name=""/>
            <p:cNvGrpSpPr/>
            <p:nvPr/>
          </p:nvGrpSpPr>
          <p:grpSpPr>
            <a:xfrm>
              <a:off x="2344320" y="2086920"/>
              <a:ext cx="1733760" cy="2768400"/>
              <a:chOff x="2344320" y="2086920"/>
              <a:chExt cx="1733760" cy="276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941560" y="2086920"/>
                <a:ext cx="1136520" cy="2768400"/>
                <a:chOff x="2941560" y="2086920"/>
                <a:chExt cx="1136520" cy="27684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141720" y="2086920"/>
                  <a:ext cx="936360" cy="27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2" y="204"/>
                      </a:moveTo>
                      <a:arcTo wR="10800" hR="10800" stAng="-4730013" swAng="92188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2" y="204"/>
                      </a:moveTo>
                      <a:arcTo wR="10800" hR="10800" stAng="-4730013" swAng="9218889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071520" y="2263680"/>
                  <a:ext cx="809640" cy="2380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923" swAng="91931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923" swAng="91931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41560" y="2469960"/>
                  <a:ext cx="752040" cy="201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94" y="205"/>
                      </a:moveTo>
                      <a:arcTo wR="10800" hR="10800" stAng="-4729071" swAng="9232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94" y="205"/>
                      </a:moveTo>
                      <a:arcTo wR="10800" hR="10800" stAng="-4729071" swAng="923256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567160" y="2603880"/>
                <a:ext cx="958320" cy="1838880"/>
                <a:chOff x="2567160" y="2603880"/>
                <a:chExt cx="958320" cy="1838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5280" y="2603880"/>
                  <a:ext cx="790200" cy="183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9" y="202"/>
                      </a:moveTo>
                      <a:arcTo wR="10800" hR="10800" stAng="-4734110" swAng="92381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9" y="202"/>
                      </a:moveTo>
                      <a:arcTo wR="10800" hR="10800" stAng="-4734110" swAng="9238115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678760" y="2721600"/>
                  <a:ext cx="684720" cy="1581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04" y="188"/>
                      </a:moveTo>
                      <a:arcTo wR="10800" hR="10800" stAng="-4758389" swAng="92849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04" y="188"/>
                      </a:moveTo>
                      <a:arcTo wR="10800" hR="10800" stAng="-4758389" swAng="9284913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67160" y="2855880"/>
                  <a:ext cx="637560" cy="133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1" y="206"/>
                      </a:moveTo>
                      <a:arcTo wR="10800" hR="10800" stAng="-4727086" swAng="9223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1" y="206"/>
                      </a:moveTo>
                      <a:arcTo wR="10800" hR="10800" stAng="-4727086" swAng="9223930"/>
                    </a:path>
                  </a:pathLst>
                </a:custGeom>
                <a:noFill/>
                <a:ln cap="rnd"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2487600" y="2972160"/>
                <a:ext cx="574200" cy="11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83" y="203"/>
                    </a:moveTo>
                    <a:arcTo wR="10800" hR="10800" stAng="-4732644" swAng="9246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83" y="203"/>
                    </a:moveTo>
                    <a:arcTo wR="10800" hR="10800" stAng="-4732644" swAng="9246835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06240" y="3044520"/>
                <a:ext cx="498600" cy="100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89" y="185"/>
                    </a:moveTo>
                    <a:arcTo wR="10800" hR="10800" stAng="-4763199" swAng="9295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89" y="185"/>
                    </a:moveTo>
                    <a:arcTo wR="10800" hR="10800" stAng="-4763199" swAng="9295820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44320" y="3178800"/>
                <a:ext cx="428760" cy="78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75" y="201"/>
                    </a:moveTo>
                    <a:arcTo wR="10800" hR="10800" stAng="-4735421" swAng="92035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75" y="201"/>
                    </a:moveTo>
                    <a:arcTo wR="10800" hR="10800" stAng="-4735421" swAng="9203526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88960" y="3291480"/>
                <a:ext cx="260280" cy="59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41" y="158"/>
                    </a:moveTo>
                    <a:arcTo wR="10800" hR="10800" stAng="-4810969" swAng="93147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41" y="158"/>
                    </a:moveTo>
                    <a:arcTo wR="10800" hR="10800" stAng="-4810969" swAng="9314757"/>
                  </a:path>
                </a:pathLst>
              </a:custGeom>
              <a:noFill/>
              <a:ln cap="rnd"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68" name=""/>
            <p:cNvGraphicFramePr/>
            <p:nvPr/>
          </p:nvGraphicFramePr>
          <p:xfrm>
            <a:off x="1382760" y="3108240"/>
            <a:ext cx="1063440" cy="827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760" y="3108240"/>
                      <a:ext cx="106344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4929120"/>
              <a:ext cx="9142560" cy="5540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60520" y="3251160"/>
            <a:ext cx="1038240" cy="167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20" y="3251160"/>
                      <a:ext cx="1038240" cy="16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4191120" y="3200400"/>
            <a:ext cx="1901880" cy="1733400"/>
            <a:chOff x="4191120" y="3200400"/>
            <a:chExt cx="1901880" cy="1733400"/>
          </a:xfrm>
        </p:grpSpPr>
        <p:graphicFrame>
          <p:nvGraphicFramePr>
            <p:cNvPr id="374" name=""/>
            <p:cNvGraphicFramePr/>
            <p:nvPr/>
          </p:nvGraphicFramePr>
          <p:xfrm>
            <a:off x="4191120" y="3429000"/>
            <a:ext cx="1304640" cy="150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91120" y="342900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4800600" y="3200400"/>
              <a:ext cx="129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Arial"/>
                </a:rPr>
                <a:t>90 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988320" y="3200400"/>
            <a:ext cx="1923840" cy="1698480"/>
            <a:chOff x="6988320" y="3200400"/>
            <a:chExt cx="1923840" cy="1698480"/>
          </a:xfrm>
        </p:grpSpPr>
        <p:graphicFrame>
          <p:nvGraphicFramePr>
            <p:cNvPr id="378" name=""/>
            <p:cNvGraphicFramePr/>
            <p:nvPr/>
          </p:nvGraphicFramePr>
          <p:xfrm>
            <a:off x="6988320" y="3394080"/>
            <a:ext cx="1304640" cy="150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88320" y="3394080"/>
                      <a:ext cx="130464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7620120" y="3200400"/>
              <a:ext cx="129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84d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76520" y="3366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FECTO DE LA DISTANC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410080"/>
            <a:ext cx="815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ff9900"/>
                </a:solidFill>
                <a:uFillTx/>
                <a:latin typeface="Arial"/>
              </a:rPr>
              <a:t>ATENUACION POR DOBLE DISTANCIA</a:t>
            </a:r>
            <a:r>
              <a:rPr b="0" lang="es-ES_tradnl" sz="2400" spc="-1" strike="noStrike">
                <a:solidFill>
                  <a:srgbClr val="ff9900"/>
                </a:solidFill>
                <a:latin typeface="Arial"/>
              </a:rPr>
              <a:t> = </a:t>
            </a: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6 d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114300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in obstrucciones, el sonido se propaga en forma esférica, atenuándose a medida que la energía acústica emitida se distribuye en una esfera cada vez mayor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6615000" y="5869080"/>
            <a:ext cx="3159000" cy="1977120"/>
            <a:chOff x="6615000" y="5869080"/>
            <a:chExt cx="3159000" cy="1977120"/>
          </a:xfrm>
        </p:grpSpPr>
        <p:sp>
          <p:nvSpPr>
            <p:cNvPr id="385" name=""/>
            <p:cNvSpPr/>
            <p:nvPr/>
          </p:nvSpPr>
          <p:spPr>
            <a:xfrm>
              <a:off x="6615000" y="6450120"/>
              <a:ext cx="1009440" cy="8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650" swAng="10773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650" swAng="10773300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5440" y="6227640"/>
              <a:ext cx="718920" cy="12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92"/>
                  </a:moveTo>
                  <a:arcTo wR="10800" hR="10800" stAng="-10765484" swAng="107306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92"/>
                  </a:moveTo>
                  <a:arcTo wR="10800" hR="10800" stAng="-10765484" swAng="10730661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7480" y="6021360"/>
              <a:ext cx="10616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0"/>
                  </a:moveTo>
                  <a:arcTo wR="10800" hR="10800" stAng="-10793492" swAng="10786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0"/>
                  </a:moveTo>
                  <a:arcTo wR="10800" hR="10800" stAng="-10793492" swAng="10786966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53560" y="6010200"/>
              <a:ext cx="86472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978" swAng="10773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978" swAng="10773859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13640" y="5869080"/>
              <a:ext cx="1260360" cy="19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445" swAng="53724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445" swAng="5372445"/>
                </a:path>
              </a:pathLst>
            </a:custGeom>
            <a:gradFill rotWithShape="0">
              <a:gsLst>
                <a:gs pos="0">
                  <a:srgbClr val="86868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81960" y="6553080"/>
              <a:ext cx="246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biente consultor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00040" y="932040"/>
            <a:ext cx="3228840" cy="2831400"/>
            <a:chOff x="500040" y="932040"/>
            <a:chExt cx="3228840" cy="2831400"/>
          </a:xfrm>
        </p:grpSpPr>
        <p:sp>
          <p:nvSpPr>
            <p:cNvPr id="392" name=""/>
            <p:cNvSpPr/>
            <p:nvPr/>
          </p:nvSpPr>
          <p:spPr>
            <a:xfrm>
              <a:off x="512640" y="3235320"/>
              <a:ext cx="24624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0040" y="1344600"/>
              <a:ext cx="306360" cy="3063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5160" y="1652760"/>
              <a:ext cx="655920" cy="15444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3040" y="1622520"/>
              <a:ext cx="1496880" cy="15746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352520" y="932040"/>
              <a:ext cx="968400" cy="22618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39920" y="1635120"/>
              <a:ext cx="1488960" cy="155880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640" y="3305160"/>
              <a:ext cx="2641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Pla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36880" y="1390680"/>
              <a:ext cx="1682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ff33"/>
                  </a:solidFill>
                  <a:latin typeface="Arial"/>
                </a:rPr>
                <a:t>Sonido es reflej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276800" y="853920"/>
            <a:ext cx="5017680" cy="6511680"/>
            <a:chOff x="4276800" y="853920"/>
            <a:chExt cx="5017680" cy="6511680"/>
          </a:xfrm>
        </p:grpSpPr>
        <p:sp>
          <p:nvSpPr>
            <p:cNvPr id="401" name=""/>
            <p:cNvSpPr/>
            <p:nvPr/>
          </p:nvSpPr>
          <p:spPr>
            <a:xfrm rot="13680000">
              <a:off x="5121720" y="2994480"/>
              <a:ext cx="3327480" cy="375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924440" y="853920"/>
              <a:ext cx="3983040" cy="3222360"/>
              <a:chOff x="4924440" y="853920"/>
              <a:chExt cx="3983040" cy="322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5597640" y="1300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29480" y="1627200"/>
                <a:ext cx="655560" cy="154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77000" y="1596960"/>
                <a:ext cx="1496880" cy="157500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4924440" y="10191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7364520" y="977760"/>
                <a:ext cx="1542960" cy="2160720"/>
              </a:xfrm>
              <a:prstGeom prst="line">
                <a:avLst/>
              </a:prstGeom>
              <a:ln w="25560">
                <a:solidFill>
                  <a:srgbClr val="99ff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83320" y="3618000"/>
                <a:ext cx="3071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"/>
                  </a:rPr>
                  <a:t>Superficie Convex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95840" y="853920"/>
                <a:ext cx="2911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99ff33"/>
                    </a:solidFill>
                    <a:latin typeface="Arial"/>
                  </a:rPr>
                  <a:t>Sonido es disperso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-974520" y="1870560"/>
            <a:ext cx="6006960" cy="4986000"/>
            <a:chOff x="-974520" y="1870560"/>
            <a:chExt cx="6006960" cy="4986000"/>
          </a:xfrm>
        </p:grpSpPr>
        <p:grpSp>
          <p:nvGrpSpPr>
            <p:cNvPr id="411" name=""/>
            <p:cNvGrpSpPr/>
            <p:nvPr/>
          </p:nvGrpSpPr>
          <p:grpSpPr>
            <a:xfrm>
              <a:off x="-974520" y="1870560"/>
              <a:ext cx="5017680" cy="4986000"/>
              <a:chOff x="-974520" y="1870560"/>
              <a:chExt cx="5017680" cy="4986000"/>
            </a:xfrm>
          </p:grpSpPr>
          <p:sp>
            <p:nvSpPr>
              <p:cNvPr id="412" name=""/>
              <p:cNvSpPr/>
              <p:nvPr/>
            </p:nvSpPr>
            <p:spPr>
              <a:xfrm rot="18720000">
                <a:off x="-129240" y="2485440"/>
                <a:ext cx="3327480" cy="37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36720" y="4135320"/>
                <a:ext cx="306360" cy="306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160640" y="4451400"/>
              <a:ext cx="684000" cy="16192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03480" y="4424400"/>
              <a:ext cx="1341360" cy="140976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844640" y="3871440"/>
              <a:ext cx="1527120" cy="216396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54200" y="3909960"/>
              <a:ext cx="890640" cy="191448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200" y="6215040"/>
              <a:ext cx="3071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"/>
                </a:rPr>
                <a:t>Superficie Cóncav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57480" y="4465800"/>
              <a:ext cx="197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99ff33"/>
                  </a:solidFill>
                  <a:latin typeface="Arial"/>
                </a:rPr>
                <a:t>Sonido es Focalizad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822320" y="139680"/>
            <a:ext cx="63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FLEXIONES DEL SONI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9:07:38Z</dcterms:created>
  <dc:creator>Gabriela Armijo</dc:creator>
  <dc:description/>
  <dc:language>en-US</dc:language>
  <cp:lastModifiedBy>Dii</cp:lastModifiedBy>
  <cp:lastPrinted>2000-07-04T09:26:42Z</cp:lastPrinted>
  <dcterms:modified xsi:type="dcterms:W3CDTF">2004-08-05T19:05:24Z</dcterms:modified>
  <cp:revision>130</cp:revision>
  <dc:subject/>
  <dc:title>Sin título de diapositiva</dc:title>
</cp:coreProperties>
</file>