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1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8899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BCF7-1D8F-49AC-A413-2E3B90D32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96D3-34FA-4365-ACD9-A81A6C68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D993-04AD-42E7-B1A3-6DEFBA652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A66C-8EF1-44B9-A75E-B7708605F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D500-E3D4-469D-8062-FA247D67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24BF-F0A7-4B05-A593-048718DF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F40D-E202-419A-AD64-5D45E371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6F0B-78E1-4AE0-B3FF-4097395C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ED15-3714-4AF8-B096-E51F30D2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1B08-C4A8-44E2-B8F7-D1990155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F357-DF71-41B3-ABB4-18A30D13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C390-D16E-41B8-BA26-3C01626B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8FC1F81-FAD5-4F30-8955-ACD476EBA62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UNDAMENTOS DE ACUSTICA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Eugenio Collado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819160" y="2514600"/>
            <a:ext cx="563868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Presión Acú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Escala de Nive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Combinación de Nive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Escala de Frecu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Espectro Sono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Propagación del So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Aislación y absor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615000" y="5869080"/>
            <a:ext cx="3159000" cy="1977120"/>
            <a:chOff x="6615000" y="5869080"/>
            <a:chExt cx="3159000" cy="1977120"/>
          </a:xfrm>
        </p:grpSpPr>
        <p:sp>
          <p:nvSpPr>
            <p:cNvPr id="44" name=""/>
            <p:cNvSpPr/>
            <p:nvPr/>
          </p:nvSpPr>
          <p:spPr>
            <a:xfrm>
              <a:off x="6615000" y="6450120"/>
              <a:ext cx="1009440" cy="81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8"/>
                  </a:moveTo>
                  <a:arcTo wR="10800" hR="10800" stAng="-10786650" swAng="107733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8"/>
                  </a:moveTo>
                  <a:arcTo wR="10800" hR="10800" stAng="-10786650" swAng="10773300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075440" y="6227640"/>
              <a:ext cx="718920" cy="126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92"/>
                  </a:moveTo>
                  <a:arcTo wR="10800" hR="10800" stAng="-10765484" swAng="107306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92"/>
                  </a:moveTo>
                  <a:arcTo wR="10800" hR="10800" stAng="-10765484" swAng="10730661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467480" y="6021360"/>
              <a:ext cx="10616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0"/>
                  </a:moveTo>
                  <a:arcTo wR="10800" hR="10800" stAng="-10793492" swAng="10786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0"/>
                  </a:moveTo>
                  <a:arcTo wR="10800" hR="10800" stAng="-10793492" swAng="10786966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53560" y="6010200"/>
              <a:ext cx="864720" cy="167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978" swAng="10773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978" swAng="10773859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513640" y="5869080"/>
              <a:ext cx="1260360" cy="197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445" swAng="537244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445" swAng="5372445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681960" y="6553080"/>
              <a:ext cx="2460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mbiente consultor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6615000" y="5869080"/>
            <a:ext cx="3159000" cy="1977120"/>
            <a:chOff x="6615000" y="5869080"/>
            <a:chExt cx="3159000" cy="1977120"/>
          </a:xfrm>
        </p:grpSpPr>
        <p:sp>
          <p:nvSpPr>
            <p:cNvPr id="422" name=""/>
            <p:cNvSpPr/>
            <p:nvPr/>
          </p:nvSpPr>
          <p:spPr>
            <a:xfrm>
              <a:off x="6615000" y="6450120"/>
              <a:ext cx="1009440" cy="81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8"/>
                  </a:moveTo>
                  <a:arcTo wR="10800" hR="10800" stAng="-10786650" swAng="107733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8"/>
                  </a:moveTo>
                  <a:arcTo wR="10800" hR="10800" stAng="-10786650" swAng="10773300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75440" y="6227640"/>
              <a:ext cx="718920" cy="126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92"/>
                  </a:moveTo>
                  <a:arcTo wR="10800" hR="10800" stAng="-10765484" swAng="107306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92"/>
                  </a:moveTo>
                  <a:arcTo wR="10800" hR="10800" stAng="-10765484" swAng="10730661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467480" y="6021360"/>
              <a:ext cx="10616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0"/>
                  </a:moveTo>
                  <a:arcTo wR="10800" hR="10800" stAng="-10793492" swAng="10786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0"/>
                  </a:moveTo>
                  <a:arcTo wR="10800" hR="10800" stAng="-10793492" swAng="10786966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053560" y="6010200"/>
              <a:ext cx="864720" cy="167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978" swAng="10773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978" swAng="10773859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513640" y="5869080"/>
              <a:ext cx="1260360" cy="197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445" swAng="537244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445" swAng="5372445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81960" y="6553080"/>
              <a:ext cx="2460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mbiente consultor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1371600" y="0"/>
            <a:ext cx="6445080" cy="10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EFECTO RECINTO CERRADO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(REVERBERACION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49160" y="1030320"/>
            <a:ext cx="7842240" cy="4646520"/>
            <a:chOff x="749160" y="1030320"/>
            <a:chExt cx="7842240" cy="4646520"/>
          </a:xfrm>
        </p:grpSpPr>
        <p:sp>
          <p:nvSpPr>
            <p:cNvPr id="430" name=""/>
            <p:cNvSpPr/>
            <p:nvPr/>
          </p:nvSpPr>
          <p:spPr>
            <a:xfrm>
              <a:off x="749160" y="1030320"/>
              <a:ext cx="363240" cy="4338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120320" y="1030320"/>
              <a:ext cx="7107480" cy="3744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221320" y="1030320"/>
              <a:ext cx="370080" cy="439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55280" y="5337000"/>
              <a:ext cx="7836120" cy="3398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048040" y="2987640"/>
            <a:ext cx="4862520" cy="1093680"/>
            <a:chOff x="2048040" y="2987640"/>
            <a:chExt cx="4862520" cy="1093680"/>
          </a:xfrm>
        </p:grpSpPr>
        <p:grpSp>
          <p:nvGrpSpPr>
            <p:cNvPr id="435" name=""/>
            <p:cNvGrpSpPr/>
            <p:nvPr/>
          </p:nvGrpSpPr>
          <p:grpSpPr>
            <a:xfrm>
              <a:off x="2048040" y="2987640"/>
              <a:ext cx="1684080" cy="1093680"/>
              <a:chOff x="2048040" y="2987640"/>
              <a:chExt cx="1684080" cy="1093680"/>
            </a:xfrm>
          </p:grpSpPr>
          <p:graphicFrame>
            <p:nvGraphicFramePr>
              <p:cNvPr id="436" name=""/>
              <p:cNvGraphicFramePr/>
              <p:nvPr/>
            </p:nvGraphicFramePr>
            <p:xfrm>
              <a:off x="3305160" y="2987640"/>
              <a:ext cx="426960" cy="7300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3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305160" y="2987640"/>
                        <a:ext cx="426960" cy="730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38" name=""/>
              <p:cNvGraphicFramePr/>
              <p:nvPr/>
            </p:nvGraphicFramePr>
            <p:xfrm>
              <a:off x="2625840" y="3025800"/>
              <a:ext cx="745920" cy="4809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43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625840" y="3025800"/>
                        <a:ext cx="745920" cy="480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40" name=""/>
              <p:cNvGraphicFramePr/>
              <p:nvPr/>
            </p:nvGraphicFramePr>
            <p:xfrm>
              <a:off x="2048040" y="3108240"/>
              <a:ext cx="728640" cy="9730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44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2048040" y="3108240"/>
                        <a:ext cx="728640" cy="973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42" name=""/>
            <p:cNvGraphicFramePr/>
            <p:nvPr/>
          </p:nvGraphicFramePr>
          <p:xfrm>
            <a:off x="6213600" y="3160800"/>
            <a:ext cx="696960" cy="8856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4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213600" y="3160800"/>
                      <a:ext cx="696960" cy="88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44" name=""/>
          <p:cNvGrpSpPr/>
          <p:nvPr/>
        </p:nvGrpSpPr>
        <p:grpSpPr>
          <a:xfrm>
            <a:off x="3857760" y="3048120"/>
            <a:ext cx="2216160" cy="706320"/>
            <a:chOff x="3857760" y="3048120"/>
            <a:chExt cx="2216160" cy="706320"/>
          </a:xfrm>
        </p:grpSpPr>
        <p:sp>
          <p:nvSpPr>
            <p:cNvPr id="445" name=""/>
            <p:cNvSpPr/>
            <p:nvPr/>
          </p:nvSpPr>
          <p:spPr>
            <a:xfrm>
              <a:off x="3857760" y="3373560"/>
              <a:ext cx="22161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14800" y="3048120"/>
              <a:ext cx="117000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SONIDO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DIRECTO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1111320" y="1425240"/>
            <a:ext cx="7107120" cy="3915000"/>
            <a:chOff x="1111320" y="1425240"/>
            <a:chExt cx="7107120" cy="3915000"/>
          </a:xfrm>
        </p:grpSpPr>
        <p:sp>
          <p:nvSpPr>
            <p:cNvPr id="448" name=""/>
            <p:cNvSpPr/>
            <p:nvPr/>
          </p:nvSpPr>
          <p:spPr>
            <a:xfrm>
              <a:off x="1411200" y="1673280"/>
              <a:ext cx="145440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SONIDO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REFLEJADO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1111320" y="1425240"/>
              <a:ext cx="7107120" cy="3915000"/>
              <a:chOff x="1111320" y="1425240"/>
              <a:chExt cx="7107120" cy="3915000"/>
            </a:xfrm>
          </p:grpSpPr>
          <p:sp>
            <p:nvSpPr>
              <p:cNvPr id="450" name=""/>
              <p:cNvSpPr/>
              <p:nvPr/>
            </p:nvSpPr>
            <p:spPr>
              <a:xfrm flipV="1">
                <a:off x="3006720" y="1442520"/>
                <a:ext cx="1542960" cy="168300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32400" y="1477800"/>
                <a:ext cx="1771560" cy="16480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>
                <a:off x="3043080" y="1425240"/>
                <a:ext cx="3846600" cy="171756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853320" y="1425600"/>
                <a:ext cx="1365120" cy="81432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>
                <a:off x="6463800" y="2222640"/>
                <a:ext cx="1737000" cy="90324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025800" y="3551400"/>
                <a:ext cx="1469880" cy="175392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4495680" y="3639960"/>
                <a:ext cx="1684440" cy="166536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006720" y="3568680"/>
                <a:ext cx="2305080" cy="177156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311800" y="3639600"/>
                <a:ext cx="957240" cy="168300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 flipV="1">
                <a:off x="1128600" y="2115720"/>
                <a:ext cx="1702080" cy="10270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1146240" y="1477800"/>
                <a:ext cx="442800" cy="65592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606680" y="1460520"/>
                <a:ext cx="4556160" cy="17542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1128240" y="3568680"/>
                <a:ext cx="1684440" cy="113364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111320" y="4702320"/>
                <a:ext cx="1860480" cy="62064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>
                <a:off x="2936880" y="3603240"/>
                <a:ext cx="3030480" cy="170172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362400" y="3622680"/>
                <a:ext cx="4059000" cy="17002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7404120" y="4206600"/>
                <a:ext cx="744480" cy="109836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 flipV="1">
                <a:off x="6852960" y="3603600"/>
                <a:ext cx="1276200" cy="60336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8" name=""/>
          <p:cNvSpPr/>
          <p:nvPr/>
        </p:nvSpPr>
        <p:spPr>
          <a:xfrm>
            <a:off x="1143000" y="579132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La reverberación multiplica el sonido y aumenta los niveles sonoros lejos de la fuente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"/>
          <p:cNvGrpSpPr/>
          <p:nvPr/>
        </p:nvGrpSpPr>
        <p:grpSpPr>
          <a:xfrm>
            <a:off x="6615000" y="5869080"/>
            <a:ext cx="3159000" cy="1977120"/>
            <a:chOff x="6615000" y="5869080"/>
            <a:chExt cx="3159000" cy="1977120"/>
          </a:xfrm>
        </p:grpSpPr>
        <p:sp>
          <p:nvSpPr>
            <p:cNvPr id="470" name=""/>
            <p:cNvSpPr/>
            <p:nvPr/>
          </p:nvSpPr>
          <p:spPr>
            <a:xfrm>
              <a:off x="6615000" y="6450120"/>
              <a:ext cx="1009440" cy="81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8"/>
                  </a:moveTo>
                  <a:arcTo wR="10800" hR="10800" stAng="-10786650" swAng="107733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8"/>
                  </a:moveTo>
                  <a:arcTo wR="10800" hR="10800" stAng="-10786650" swAng="10773300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075440" y="6227640"/>
              <a:ext cx="718920" cy="126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92"/>
                  </a:moveTo>
                  <a:arcTo wR="10800" hR="10800" stAng="-10765484" swAng="107306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92"/>
                  </a:moveTo>
                  <a:arcTo wR="10800" hR="10800" stAng="-10765484" swAng="10730661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467480" y="6021360"/>
              <a:ext cx="10616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0"/>
                  </a:moveTo>
                  <a:arcTo wR="10800" hR="10800" stAng="-10793492" swAng="10786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0"/>
                  </a:moveTo>
                  <a:arcTo wR="10800" hR="10800" stAng="-10793492" swAng="10786966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053560" y="6010200"/>
              <a:ext cx="864720" cy="167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978" swAng="10773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978" swAng="10773859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513640" y="5869080"/>
              <a:ext cx="1260360" cy="197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445" swAng="537244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445" swAng="5372445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681960" y="6553080"/>
              <a:ext cx="2460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mbiente consultor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1415880" y="1309680"/>
            <a:ext cx="7455240" cy="1728360"/>
            <a:chOff x="1415880" y="1309680"/>
            <a:chExt cx="7455240" cy="1728360"/>
          </a:xfrm>
        </p:grpSpPr>
        <p:sp>
          <p:nvSpPr>
            <p:cNvPr id="477" name=""/>
            <p:cNvSpPr/>
            <p:nvPr/>
          </p:nvSpPr>
          <p:spPr>
            <a:xfrm flipV="1">
              <a:off x="1415880" y="1312560"/>
              <a:ext cx="3184560" cy="1725480"/>
            </a:xfrm>
            <a:prstGeom prst="line">
              <a:avLst/>
            </a:prstGeom>
            <a:ln w="1015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546440" y="1309680"/>
              <a:ext cx="2684520" cy="1674720"/>
            </a:xfrm>
            <a:prstGeom prst="line">
              <a:avLst/>
            </a:prstGeom>
            <a:ln w="10152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010280" y="2514600"/>
              <a:ext cx="1860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REFLEXIO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-429120" y="803880"/>
            <a:ext cx="10260720" cy="10157040"/>
            <a:chOff x="-429120" y="803880"/>
            <a:chExt cx="10260720" cy="10157040"/>
          </a:xfrm>
        </p:grpSpPr>
        <p:sp>
          <p:nvSpPr>
            <p:cNvPr id="481" name=""/>
            <p:cNvSpPr/>
            <p:nvPr/>
          </p:nvSpPr>
          <p:spPr>
            <a:xfrm rot="13200000">
              <a:off x="867600" y="2469240"/>
              <a:ext cx="7666920" cy="682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0152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711840" y="3260880"/>
              <a:ext cx="1860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DIFRACCIO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2162160" y="3922200"/>
            <a:ext cx="6523200" cy="437760"/>
            <a:chOff x="2162160" y="3922200"/>
            <a:chExt cx="6523200" cy="437760"/>
          </a:xfrm>
        </p:grpSpPr>
        <p:sp>
          <p:nvSpPr>
            <p:cNvPr id="484" name=""/>
            <p:cNvSpPr/>
            <p:nvPr/>
          </p:nvSpPr>
          <p:spPr>
            <a:xfrm flipV="1">
              <a:off x="2162160" y="3922200"/>
              <a:ext cx="4660920" cy="3240"/>
            </a:xfrm>
            <a:prstGeom prst="line">
              <a:avLst/>
            </a:prstGeom>
            <a:ln w="10152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616800" y="3962520"/>
              <a:ext cx="2068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TRANSMISIO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0" y="755640"/>
            <a:ext cx="9144000" cy="4743360"/>
            <a:chOff x="0" y="755640"/>
            <a:chExt cx="9144000" cy="4743360"/>
          </a:xfrm>
        </p:grpSpPr>
        <p:sp>
          <p:nvSpPr>
            <p:cNvPr id="487" name=""/>
            <p:cNvSpPr/>
            <p:nvPr/>
          </p:nvSpPr>
          <p:spPr>
            <a:xfrm>
              <a:off x="0" y="4944960"/>
              <a:ext cx="9142560" cy="5540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40" y="755640"/>
              <a:ext cx="9142560" cy="5540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18120" y="2595600"/>
              <a:ext cx="377640" cy="23446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aphicFrame>
          <p:nvGraphicFramePr>
            <p:cNvPr id="490" name=""/>
            <p:cNvGraphicFramePr/>
            <p:nvPr/>
          </p:nvGraphicFramePr>
          <p:xfrm>
            <a:off x="514440" y="3411360"/>
            <a:ext cx="1063440" cy="827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14440" y="3411360"/>
                      <a:ext cx="1063440" cy="82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92" name=""/>
          <p:cNvSpPr/>
          <p:nvPr/>
        </p:nvSpPr>
        <p:spPr>
          <a:xfrm>
            <a:off x="1752480" y="304920"/>
            <a:ext cx="587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EFECTO DE UNA PANTALL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04920" y="541008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a TRANSMISION depende de la AISLACION de la pantalla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a DIFRACCION disminuye con la FRECUENCIA del sonido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a REFLEXION depende de la ABSORCION de la superficie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6615000" y="5869080"/>
            <a:ext cx="3159000" cy="1977120"/>
            <a:chOff x="6615000" y="5869080"/>
            <a:chExt cx="3159000" cy="1977120"/>
          </a:xfrm>
        </p:grpSpPr>
        <p:sp>
          <p:nvSpPr>
            <p:cNvPr id="495" name=""/>
            <p:cNvSpPr/>
            <p:nvPr/>
          </p:nvSpPr>
          <p:spPr>
            <a:xfrm>
              <a:off x="6615000" y="6450120"/>
              <a:ext cx="1009440" cy="81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8"/>
                  </a:moveTo>
                  <a:arcTo wR="10800" hR="10800" stAng="-10786650" swAng="107733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8"/>
                  </a:moveTo>
                  <a:arcTo wR="10800" hR="10800" stAng="-10786650" swAng="10773300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075440" y="6227640"/>
              <a:ext cx="718920" cy="126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92"/>
                  </a:moveTo>
                  <a:arcTo wR="10800" hR="10800" stAng="-10765484" swAng="107306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92"/>
                  </a:moveTo>
                  <a:arcTo wR="10800" hR="10800" stAng="-10765484" swAng="10730661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467480" y="6021360"/>
              <a:ext cx="10616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0"/>
                  </a:moveTo>
                  <a:arcTo wR="10800" hR="10800" stAng="-10793492" swAng="10786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0"/>
                  </a:moveTo>
                  <a:arcTo wR="10800" hR="10800" stAng="-10793492" swAng="10786966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053560" y="6010200"/>
              <a:ext cx="864720" cy="167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978" swAng="10773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978" swAng="10773859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513640" y="5869080"/>
              <a:ext cx="1260360" cy="197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445" swAng="537244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445" swAng="5372445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681960" y="6553080"/>
              <a:ext cx="2460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mbiente consultor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380880" y="380880"/>
            <a:ext cx="8305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EFECTO DEL SONIDO SOBRE UN MUR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827520" y="1303200"/>
            <a:ext cx="1152360" cy="4943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831960" y="4570560"/>
            <a:ext cx="2972160" cy="2250720"/>
            <a:chOff x="831960" y="4570560"/>
            <a:chExt cx="2972160" cy="2250720"/>
          </a:xfrm>
        </p:grpSpPr>
        <p:sp>
          <p:nvSpPr>
            <p:cNvPr id="504" name=""/>
            <p:cNvSpPr/>
            <p:nvPr/>
          </p:nvSpPr>
          <p:spPr>
            <a:xfrm rot="19680000">
              <a:off x="1671120" y="4957560"/>
              <a:ext cx="1884600" cy="1476360"/>
            </a:xfrm>
            <a:prstGeom prst="rightArrow">
              <a:avLst>
                <a:gd name="adj1" fmla="val 75009"/>
                <a:gd name="adj2" fmla="val 63831"/>
              </a:avLst>
            </a:prstGeom>
            <a:solidFill>
              <a:srgbClr val="96969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31960" y="4811760"/>
              <a:ext cx="143496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SONIDO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INCIDENTE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576360" y="831240"/>
            <a:ext cx="2997720" cy="1738080"/>
            <a:chOff x="576360" y="831240"/>
            <a:chExt cx="2997720" cy="1738080"/>
          </a:xfrm>
        </p:grpSpPr>
        <p:sp>
          <p:nvSpPr>
            <p:cNvPr id="507" name=""/>
            <p:cNvSpPr/>
            <p:nvPr/>
          </p:nvSpPr>
          <p:spPr>
            <a:xfrm rot="12900000">
              <a:off x="1830240" y="1199880"/>
              <a:ext cx="1602000" cy="1000080"/>
            </a:xfrm>
            <a:prstGeom prst="rightArrow">
              <a:avLst>
                <a:gd name="adj1" fmla="val 75009"/>
                <a:gd name="adj2" fmla="val 80101"/>
              </a:avLst>
            </a:prstGeom>
            <a:solidFill>
              <a:srgbClr val="99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76360" y="1436760"/>
              <a:ext cx="179856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REFLEXI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SUPERFICIA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0" y="3489480"/>
            <a:ext cx="8763120" cy="457200"/>
            <a:chOff x="0" y="3489480"/>
            <a:chExt cx="8763120" cy="457200"/>
          </a:xfrm>
        </p:grpSpPr>
        <p:sp>
          <p:nvSpPr>
            <p:cNvPr id="510" name=""/>
            <p:cNvSpPr/>
            <p:nvPr/>
          </p:nvSpPr>
          <p:spPr>
            <a:xfrm>
              <a:off x="2379600" y="3489480"/>
              <a:ext cx="1211400" cy="430200"/>
            </a:xfrm>
            <a:prstGeom prst="leftArrow">
              <a:avLst>
                <a:gd name="adj1" fmla="val 50000"/>
                <a:gd name="adj2" fmla="val 140781"/>
              </a:avLst>
            </a:prstGeom>
            <a:solidFill>
              <a:srgbClr val="3366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226120" y="3516480"/>
              <a:ext cx="1211040" cy="430200"/>
            </a:xfrm>
            <a:prstGeom prst="rightArrow">
              <a:avLst>
                <a:gd name="adj1" fmla="val 50000"/>
                <a:gd name="adj2" fmla="val 140766"/>
              </a:avLst>
            </a:prstGeom>
            <a:solidFill>
              <a:srgbClr val="3366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0" y="3529080"/>
              <a:ext cx="25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RADIACION SONOR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37160" y="3594240"/>
              <a:ext cx="2325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RADIACION SONOR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4141800" y="2343240"/>
            <a:ext cx="3630600" cy="495720"/>
            <a:chOff x="4141800" y="2343240"/>
            <a:chExt cx="3630600" cy="495720"/>
          </a:xfrm>
        </p:grpSpPr>
        <p:grpSp>
          <p:nvGrpSpPr>
            <p:cNvPr id="515" name=""/>
            <p:cNvGrpSpPr/>
            <p:nvPr/>
          </p:nvGrpSpPr>
          <p:grpSpPr>
            <a:xfrm>
              <a:off x="4141800" y="2343240"/>
              <a:ext cx="476280" cy="461880"/>
              <a:chOff x="4141800" y="2343240"/>
              <a:chExt cx="476280" cy="461880"/>
            </a:xfrm>
          </p:grpSpPr>
          <p:sp>
            <p:nvSpPr>
              <p:cNvPr id="516" name=""/>
              <p:cNvSpPr/>
              <p:nvPr/>
            </p:nvSpPr>
            <p:spPr>
              <a:xfrm>
                <a:off x="4141800" y="2343240"/>
                <a:ext cx="233280" cy="461880"/>
              </a:xfrm>
              <a:prstGeom prst="leftArrow">
                <a:avLst>
                  <a:gd name="adj1" fmla="val 50000"/>
                  <a:gd name="adj2" fmla="val 49995"/>
                </a:avLst>
              </a:prstGeom>
              <a:solidFill>
                <a:srgbClr val="ff66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384800" y="2343240"/>
                <a:ext cx="233280" cy="461880"/>
              </a:xfrm>
              <a:prstGeom prst="rightArrow">
                <a:avLst>
                  <a:gd name="adj1" fmla="val 50000"/>
                  <a:gd name="adj2" fmla="val 50005"/>
                </a:avLst>
              </a:prstGeom>
              <a:solidFill>
                <a:srgbClr val="ff66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4371480" y="2470320"/>
                <a:ext cx="3240" cy="20304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>
              <a:off x="4998960" y="2441520"/>
              <a:ext cx="2773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MOVIMIENT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227480" y="1365120"/>
            <a:ext cx="4535640" cy="749520"/>
            <a:chOff x="4227480" y="1365120"/>
            <a:chExt cx="4535640" cy="749520"/>
          </a:xfrm>
        </p:grpSpPr>
        <p:sp>
          <p:nvSpPr>
            <p:cNvPr id="521" name=""/>
            <p:cNvSpPr/>
            <p:nvPr/>
          </p:nvSpPr>
          <p:spPr>
            <a:xfrm>
              <a:off x="4227480" y="1365120"/>
              <a:ext cx="308160" cy="749520"/>
            </a:xfrm>
            <a:prstGeom prst="upArrow">
              <a:avLst>
                <a:gd name="adj1" fmla="val 50000"/>
                <a:gd name="adj2" fmla="val 121601"/>
              </a:avLst>
            </a:prstGeom>
            <a:solidFill>
              <a:srgbClr val="0033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991040" y="1447920"/>
              <a:ext cx="3772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PROPAGACION ESTRUCTURA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3490920" y="3002040"/>
            <a:ext cx="5424480" cy="335880"/>
            <a:chOff x="3490920" y="3002040"/>
            <a:chExt cx="5424480" cy="335880"/>
          </a:xfrm>
        </p:grpSpPr>
        <p:sp>
          <p:nvSpPr>
            <p:cNvPr id="524" name=""/>
            <p:cNvSpPr/>
            <p:nvPr/>
          </p:nvSpPr>
          <p:spPr>
            <a:xfrm>
              <a:off x="3490920" y="3164040"/>
              <a:ext cx="202104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70560" y="3002040"/>
              <a:ext cx="3444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PROPAGACION POR PORO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4105440" y="4241880"/>
            <a:ext cx="3133440" cy="2426400"/>
            <a:chOff x="4105440" y="4241880"/>
            <a:chExt cx="3133440" cy="2426400"/>
          </a:xfrm>
        </p:grpSpPr>
        <p:sp>
          <p:nvSpPr>
            <p:cNvPr id="527" name=""/>
            <p:cNvSpPr/>
            <p:nvPr/>
          </p:nvSpPr>
          <p:spPr>
            <a:xfrm>
              <a:off x="4105440" y="4241880"/>
              <a:ext cx="626760" cy="689040"/>
            </a:xfrm>
            <a:prstGeom prst="downArrow">
              <a:avLst>
                <a:gd name="adj1" fmla="val 50000"/>
                <a:gd name="adj2" fmla="val 54973"/>
              </a:avLst>
            </a:prstGeom>
            <a:solidFill>
              <a:srgbClr val="ff00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224240" y="5065560"/>
              <a:ext cx="400320" cy="506520"/>
            </a:xfrm>
            <a:prstGeom prst="downArrow">
              <a:avLst>
                <a:gd name="adj1" fmla="val 50000"/>
                <a:gd name="adj2" fmla="val 63270"/>
              </a:avLst>
            </a:prstGeom>
            <a:solidFill>
              <a:srgbClr val="ff00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89400" y="5722920"/>
              <a:ext cx="277920" cy="352440"/>
            </a:xfrm>
            <a:prstGeom prst="downArrow">
              <a:avLst>
                <a:gd name="adj1" fmla="val 50000"/>
                <a:gd name="adj2" fmla="val 63412"/>
              </a:avLst>
            </a:prstGeom>
            <a:solidFill>
              <a:srgbClr val="ff00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343400" y="6199200"/>
              <a:ext cx="182520" cy="220680"/>
            </a:xfrm>
            <a:prstGeom prst="downArrow">
              <a:avLst>
                <a:gd name="adj1" fmla="val 50000"/>
                <a:gd name="adj2" fmla="val 60459"/>
              </a:avLst>
            </a:prstGeom>
            <a:solidFill>
              <a:srgbClr val="ff00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494240" y="6332400"/>
              <a:ext cx="2744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CALOR DISIPADO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"/>
          <p:cNvGrpSpPr/>
          <p:nvPr/>
        </p:nvGrpSpPr>
        <p:grpSpPr>
          <a:xfrm>
            <a:off x="6615000" y="5869080"/>
            <a:ext cx="3159000" cy="1977120"/>
            <a:chOff x="6615000" y="5869080"/>
            <a:chExt cx="3159000" cy="1977120"/>
          </a:xfrm>
        </p:grpSpPr>
        <p:sp>
          <p:nvSpPr>
            <p:cNvPr id="533" name=""/>
            <p:cNvSpPr/>
            <p:nvPr/>
          </p:nvSpPr>
          <p:spPr>
            <a:xfrm>
              <a:off x="6615000" y="6450120"/>
              <a:ext cx="1009440" cy="81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8"/>
                  </a:moveTo>
                  <a:arcTo wR="10800" hR="10800" stAng="-10786650" swAng="107733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8"/>
                  </a:moveTo>
                  <a:arcTo wR="10800" hR="10800" stAng="-10786650" swAng="10773300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75440" y="6227640"/>
              <a:ext cx="718920" cy="126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92"/>
                  </a:moveTo>
                  <a:arcTo wR="10800" hR="10800" stAng="-10765484" swAng="107306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92"/>
                  </a:moveTo>
                  <a:arcTo wR="10800" hR="10800" stAng="-10765484" swAng="10730661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467480" y="6021360"/>
              <a:ext cx="10616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0"/>
                  </a:moveTo>
                  <a:arcTo wR="10800" hR="10800" stAng="-10793492" swAng="10786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0"/>
                  </a:moveTo>
                  <a:arcTo wR="10800" hR="10800" stAng="-10793492" swAng="10786966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053560" y="6010200"/>
              <a:ext cx="864720" cy="167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978" swAng="10773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978" swAng="10773859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513640" y="5869080"/>
              <a:ext cx="1260360" cy="197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445" swAng="537244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445" swAng="5372445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681960" y="6553080"/>
              <a:ext cx="2460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mbiente consultor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204840" y="1371600"/>
            <a:ext cx="4459320" cy="5476320"/>
            <a:chOff x="204840" y="1371600"/>
            <a:chExt cx="4459320" cy="5476320"/>
          </a:xfrm>
        </p:grpSpPr>
        <p:sp>
          <p:nvSpPr>
            <p:cNvPr id="540" name=""/>
            <p:cNvSpPr/>
            <p:nvPr/>
          </p:nvSpPr>
          <p:spPr>
            <a:xfrm>
              <a:off x="3925800" y="1371600"/>
              <a:ext cx="738360" cy="5033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204840" y="4202640"/>
              <a:ext cx="3972960" cy="2645280"/>
              <a:chOff x="204840" y="4202640"/>
              <a:chExt cx="3972960" cy="2645280"/>
            </a:xfrm>
          </p:grpSpPr>
          <p:sp>
            <p:nvSpPr>
              <p:cNvPr id="542" name=""/>
              <p:cNvSpPr/>
              <p:nvPr/>
            </p:nvSpPr>
            <p:spPr>
              <a:xfrm rot="19920000">
                <a:off x="1542600" y="4655880"/>
                <a:ext cx="2365560" cy="1738080"/>
              </a:xfrm>
              <a:prstGeom prst="rightArrow">
                <a:avLst>
                  <a:gd name="adj1" fmla="val 75009"/>
                  <a:gd name="adj2" fmla="val 68057"/>
                </a:avLst>
              </a:prstGeom>
              <a:solidFill>
                <a:srgbClr val="969696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04840" y="4697280"/>
                <a:ext cx="2563920" cy="10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Arial"/>
                  </a:rPr>
                  <a:t>INCIDENTE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Arial"/>
                  </a:rPr>
                  <a:t>100%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4" name=""/>
          <p:cNvGrpSpPr/>
          <p:nvPr/>
        </p:nvGrpSpPr>
        <p:grpSpPr>
          <a:xfrm>
            <a:off x="1027080" y="947880"/>
            <a:ext cx="2740680" cy="2531520"/>
            <a:chOff x="1027080" y="947880"/>
            <a:chExt cx="2740680" cy="2531520"/>
          </a:xfrm>
        </p:grpSpPr>
        <p:sp>
          <p:nvSpPr>
            <p:cNvPr id="545" name=""/>
            <p:cNvSpPr/>
            <p:nvPr/>
          </p:nvSpPr>
          <p:spPr>
            <a:xfrm rot="12360000">
              <a:off x="1486080" y="1655280"/>
              <a:ext cx="2070000" cy="1443240"/>
            </a:xfrm>
            <a:prstGeom prst="rightArrow">
              <a:avLst>
                <a:gd name="adj1" fmla="val 75009"/>
                <a:gd name="adj2" fmla="val 71720"/>
              </a:avLst>
            </a:prstGeom>
            <a:solidFill>
              <a:srgbClr val="99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027080" y="947880"/>
              <a:ext cx="256392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REFLEJADO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92%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854600" y="2533680"/>
            <a:ext cx="2563920" cy="1512720"/>
            <a:chOff x="4854600" y="2533680"/>
            <a:chExt cx="2563920" cy="1512720"/>
          </a:xfrm>
        </p:grpSpPr>
        <p:sp>
          <p:nvSpPr>
            <p:cNvPr id="548" name=""/>
            <p:cNvSpPr/>
            <p:nvPr/>
          </p:nvSpPr>
          <p:spPr>
            <a:xfrm>
              <a:off x="4925880" y="3551400"/>
              <a:ext cx="703440" cy="495000"/>
            </a:xfrm>
            <a:prstGeom prst="rightArrow">
              <a:avLst>
                <a:gd name="adj1" fmla="val 50000"/>
                <a:gd name="adj2" fmla="val 71061"/>
              </a:avLst>
            </a:prstGeom>
            <a:solidFill>
              <a:srgbClr val="3366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854600" y="2533680"/>
              <a:ext cx="256392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TRANSMITIDO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2%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2286000" y="228600"/>
            <a:ext cx="3962520" cy="11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"/>
              </a:rPr>
              <a:t>PANEL AISLAN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"/>
              </a:rPr>
              <a:t>(SOLIDO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3976560" y="5229360"/>
            <a:ext cx="3292560" cy="1585800"/>
            <a:chOff x="3976560" y="5229360"/>
            <a:chExt cx="3292560" cy="1585800"/>
          </a:xfrm>
        </p:grpSpPr>
        <p:sp>
          <p:nvSpPr>
            <p:cNvPr id="552" name=""/>
            <p:cNvSpPr/>
            <p:nvPr/>
          </p:nvSpPr>
          <p:spPr>
            <a:xfrm>
              <a:off x="3976560" y="5765760"/>
              <a:ext cx="633600" cy="1049400"/>
            </a:xfrm>
            <a:prstGeom prst="downArrow">
              <a:avLst>
                <a:gd name="adj1" fmla="val 50000"/>
                <a:gd name="adj2" fmla="val 82820"/>
              </a:avLst>
            </a:prstGeom>
            <a:solidFill>
              <a:srgbClr val="ff6699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705200" y="5229360"/>
              <a:ext cx="2563920" cy="15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PROPAGACIO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ESTRUCTUR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6%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5791320" y="3429000"/>
            <a:ext cx="3160440" cy="533520"/>
            <a:chOff x="5791320" y="3429000"/>
            <a:chExt cx="3160440" cy="533520"/>
          </a:xfrm>
        </p:grpSpPr>
        <p:sp>
          <p:nvSpPr>
            <p:cNvPr id="555" name=""/>
            <p:cNvSpPr/>
            <p:nvPr/>
          </p:nvSpPr>
          <p:spPr>
            <a:xfrm>
              <a:off x="5791320" y="3429000"/>
              <a:ext cx="3124080" cy="5335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791320" y="3429000"/>
              <a:ext cx="3160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800000"/>
                  </a:solidFill>
                  <a:latin typeface="Arial"/>
                </a:rPr>
                <a:t>AISLACION   = 17 dB</a:t>
              </a:r>
              <a:r>
                <a:rPr b="0" lang="es-ES_tradnl" sz="2400" spc="-1" strike="noStrike">
                  <a:solidFill>
                    <a:srgbClr val="cccc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0" y="3429000"/>
            <a:ext cx="3160800" cy="533520"/>
            <a:chOff x="0" y="3429000"/>
            <a:chExt cx="3160800" cy="533520"/>
          </a:xfrm>
        </p:grpSpPr>
        <p:sp>
          <p:nvSpPr>
            <p:cNvPr id="558" name=""/>
            <p:cNvSpPr/>
            <p:nvPr/>
          </p:nvSpPr>
          <p:spPr>
            <a:xfrm>
              <a:off x="0" y="3429000"/>
              <a:ext cx="2895480" cy="5335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0" y="3429000"/>
              <a:ext cx="3160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800000"/>
                  </a:solidFill>
                  <a:latin typeface="Arial"/>
                </a:rPr>
                <a:t>ABSORCION = 8 %</a:t>
              </a:r>
              <a:r>
                <a:rPr b="0" lang="en-US" sz="2400" spc="-1" strike="noStrike">
                  <a:solidFill>
                    <a:srgbClr val="cccc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"/>
          <p:cNvGrpSpPr/>
          <p:nvPr/>
        </p:nvGrpSpPr>
        <p:grpSpPr>
          <a:xfrm>
            <a:off x="6615000" y="5869080"/>
            <a:ext cx="3159000" cy="1977120"/>
            <a:chOff x="6615000" y="5869080"/>
            <a:chExt cx="3159000" cy="1977120"/>
          </a:xfrm>
        </p:grpSpPr>
        <p:sp>
          <p:nvSpPr>
            <p:cNvPr id="561" name=""/>
            <p:cNvSpPr/>
            <p:nvPr/>
          </p:nvSpPr>
          <p:spPr>
            <a:xfrm>
              <a:off x="6615000" y="6450120"/>
              <a:ext cx="1009440" cy="81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8"/>
                  </a:moveTo>
                  <a:arcTo wR="10800" hR="10800" stAng="-10786650" swAng="107733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8"/>
                  </a:moveTo>
                  <a:arcTo wR="10800" hR="10800" stAng="-10786650" swAng="10773300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075440" y="6227640"/>
              <a:ext cx="718920" cy="126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92"/>
                  </a:moveTo>
                  <a:arcTo wR="10800" hR="10800" stAng="-10765484" swAng="107306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92"/>
                  </a:moveTo>
                  <a:arcTo wR="10800" hR="10800" stAng="-10765484" swAng="10730661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67480" y="6021360"/>
              <a:ext cx="10616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0"/>
                  </a:moveTo>
                  <a:arcTo wR="10800" hR="10800" stAng="-10793492" swAng="10786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0"/>
                  </a:moveTo>
                  <a:arcTo wR="10800" hR="10800" stAng="-10793492" swAng="10786966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053560" y="6010200"/>
              <a:ext cx="864720" cy="167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978" swAng="10773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978" swAng="10773859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513640" y="5869080"/>
              <a:ext cx="1260360" cy="197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445" swAng="537244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445" swAng="5372445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681960" y="6553080"/>
              <a:ext cx="2460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mbiente consultor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204840" y="1371600"/>
            <a:ext cx="4459320" cy="5476320"/>
            <a:chOff x="204840" y="1371600"/>
            <a:chExt cx="4459320" cy="5476320"/>
          </a:xfrm>
        </p:grpSpPr>
        <p:sp>
          <p:nvSpPr>
            <p:cNvPr id="568" name=""/>
            <p:cNvSpPr/>
            <p:nvPr/>
          </p:nvSpPr>
          <p:spPr>
            <a:xfrm>
              <a:off x="3925800" y="1371600"/>
              <a:ext cx="738360" cy="5033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19920000">
              <a:off x="1542600" y="4655880"/>
              <a:ext cx="2365560" cy="1738080"/>
            </a:xfrm>
            <a:prstGeom prst="rightArrow">
              <a:avLst>
                <a:gd name="adj1" fmla="val 75009"/>
                <a:gd name="adj2" fmla="val 68057"/>
              </a:avLst>
            </a:prstGeom>
            <a:solidFill>
              <a:srgbClr val="96969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04840" y="4697280"/>
              <a:ext cx="256392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INCIDENTE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100%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1511280" y="1387440"/>
            <a:ext cx="2563920" cy="1337760"/>
            <a:chOff x="1511280" y="1387440"/>
            <a:chExt cx="2563920" cy="1337760"/>
          </a:xfrm>
        </p:grpSpPr>
        <p:sp>
          <p:nvSpPr>
            <p:cNvPr id="572" name=""/>
            <p:cNvSpPr/>
            <p:nvPr/>
          </p:nvSpPr>
          <p:spPr>
            <a:xfrm rot="12660000">
              <a:off x="2220480" y="1941120"/>
              <a:ext cx="1069920" cy="547560"/>
            </a:xfrm>
            <a:prstGeom prst="rightArrow">
              <a:avLst>
                <a:gd name="adj1" fmla="val 75009"/>
                <a:gd name="adj2" fmla="val 97708"/>
              </a:avLst>
            </a:prstGeom>
            <a:solidFill>
              <a:srgbClr val="99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511280" y="1387440"/>
              <a:ext cx="256392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REFLEJADO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15%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4876920" y="2666880"/>
            <a:ext cx="2563560" cy="2179800"/>
            <a:chOff x="4876920" y="2666880"/>
            <a:chExt cx="2563560" cy="2179800"/>
          </a:xfrm>
        </p:grpSpPr>
        <p:sp>
          <p:nvSpPr>
            <p:cNvPr id="575" name=""/>
            <p:cNvSpPr/>
            <p:nvPr/>
          </p:nvSpPr>
          <p:spPr>
            <a:xfrm>
              <a:off x="5029200" y="3429000"/>
              <a:ext cx="2203560" cy="1417680"/>
            </a:xfrm>
            <a:prstGeom prst="rightArrow">
              <a:avLst>
                <a:gd name="adj1" fmla="val 50000"/>
                <a:gd name="adj2" fmla="val 77724"/>
              </a:avLst>
            </a:prstGeom>
            <a:solidFill>
              <a:srgbClr val="3366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876920" y="2666880"/>
              <a:ext cx="256356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TRANSMITIDO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50%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2133720" y="228600"/>
            <a:ext cx="4343400" cy="11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"/>
              </a:rPr>
              <a:t>PANEL ABSORBEN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"/>
              </a:rPr>
              <a:t>(POROSO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5791320" y="2133720"/>
            <a:ext cx="3352680" cy="533160"/>
            <a:chOff x="5791320" y="2133720"/>
            <a:chExt cx="3352680" cy="533160"/>
          </a:xfrm>
        </p:grpSpPr>
        <p:sp>
          <p:nvSpPr>
            <p:cNvPr id="579" name=""/>
            <p:cNvSpPr/>
            <p:nvPr/>
          </p:nvSpPr>
          <p:spPr>
            <a:xfrm>
              <a:off x="5791320" y="2133720"/>
              <a:ext cx="3124080" cy="5331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983200" y="2133720"/>
              <a:ext cx="3160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800000"/>
                  </a:solidFill>
                  <a:latin typeface="Arial"/>
                </a:rPr>
                <a:t>AISLACION   = 3 dB</a:t>
              </a:r>
              <a:r>
                <a:rPr b="0" lang="es-ES_tradnl" sz="2400" spc="-1" strike="noStrike">
                  <a:solidFill>
                    <a:srgbClr val="cccc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3862440" y="1371600"/>
            <a:ext cx="3406680" cy="5051520"/>
            <a:chOff x="3862440" y="1371600"/>
            <a:chExt cx="3406680" cy="5051520"/>
          </a:xfrm>
        </p:grpSpPr>
        <p:sp>
          <p:nvSpPr>
            <p:cNvPr id="582" name=""/>
            <p:cNvSpPr/>
            <p:nvPr/>
          </p:nvSpPr>
          <p:spPr>
            <a:xfrm>
              <a:off x="3862440" y="5305320"/>
              <a:ext cx="863640" cy="1117800"/>
            </a:xfrm>
            <a:prstGeom prst="downArrow">
              <a:avLst>
                <a:gd name="adj1" fmla="val 50000"/>
                <a:gd name="adj2" fmla="val 64720"/>
              </a:avLst>
            </a:prstGeom>
            <a:solidFill>
              <a:srgbClr val="ff6699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705200" y="5229360"/>
              <a:ext cx="256392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ABSORBIDO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35%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86200" y="1371600"/>
              <a:ext cx="863640" cy="1117440"/>
            </a:xfrm>
            <a:prstGeom prst="upArrow">
              <a:avLst>
                <a:gd name="adj1" fmla="val 50000"/>
                <a:gd name="adj2" fmla="val 64688"/>
              </a:avLst>
            </a:prstGeom>
            <a:solidFill>
              <a:srgbClr val="ff6699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228600" y="2895480"/>
            <a:ext cx="3200400" cy="534600"/>
            <a:chOff x="228600" y="2895480"/>
            <a:chExt cx="3200400" cy="534600"/>
          </a:xfrm>
        </p:grpSpPr>
        <p:sp>
          <p:nvSpPr>
            <p:cNvPr id="586" name=""/>
            <p:cNvSpPr/>
            <p:nvPr/>
          </p:nvSpPr>
          <p:spPr>
            <a:xfrm>
              <a:off x="228600" y="2895480"/>
              <a:ext cx="3124080" cy="5335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28600" y="2971800"/>
              <a:ext cx="3200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800000"/>
                  </a:solidFill>
                  <a:latin typeface="Arial"/>
                </a:rPr>
                <a:t>ABSORCION = 85 %</a:t>
              </a:r>
              <a:r>
                <a:rPr b="0" lang="en-US" sz="2400" spc="-1" strike="noStrike">
                  <a:solidFill>
                    <a:srgbClr val="cccc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971800" y="228600"/>
            <a:ext cx="3886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RESION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ACUSTIC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1066680"/>
            <a:ext cx="7924680" cy="9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Arial"/>
              </a:rPr>
              <a:t>SONIDO: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Variaciones rápidas de la presión atmosférica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5442120"/>
            <a:ext cx="8334360" cy="9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6699"/>
                </a:solidFill>
                <a:latin typeface="Arial"/>
              </a:rPr>
              <a:t>PRESION ACUSTICA:</a:t>
            </a:r>
            <a:r>
              <a:rPr b="0" lang="en-US" sz="2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Diferencia entre presión instantánea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y presión atmosférica media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85800" y="1676520"/>
            <a:ext cx="7620120" cy="3734640"/>
            <a:chOff x="685800" y="1676520"/>
            <a:chExt cx="7620120" cy="3734640"/>
          </a:xfrm>
        </p:grpSpPr>
        <p:sp>
          <p:nvSpPr>
            <p:cNvPr id="54" name=""/>
            <p:cNvSpPr/>
            <p:nvPr/>
          </p:nvSpPr>
          <p:spPr>
            <a:xfrm>
              <a:off x="762120" y="1676520"/>
              <a:ext cx="0" cy="342900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85800" y="5029200"/>
              <a:ext cx="7543800" cy="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14400" y="1752480"/>
              <a:ext cx="990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PRESION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238880" y="5105520"/>
              <a:ext cx="990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TIEMPO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080" y="2841480"/>
              <a:ext cx="4268880" cy="314640"/>
            </a:xfrm>
            <a:custGeom>
              <a:avLst/>
              <a:gdLst/>
              <a:ahLst/>
              <a:rect l="l" t="t" r="r" b="b"/>
              <a:pathLst>
                <a:path w="2689" h="198">
                  <a:moveTo>
                    <a:pt x="0" y="34"/>
                  </a:moveTo>
                  <a:lnTo>
                    <a:pt x="19" y="53"/>
                  </a:lnTo>
                  <a:lnTo>
                    <a:pt x="34" y="58"/>
                  </a:lnTo>
                  <a:lnTo>
                    <a:pt x="43" y="72"/>
                  </a:lnTo>
                  <a:lnTo>
                    <a:pt x="58" y="72"/>
                  </a:lnTo>
                  <a:lnTo>
                    <a:pt x="77" y="82"/>
                  </a:lnTo>
                  <a:lnTo>
                    <a:pt x="96" y="92"/>
                  </a:lnTo>
                  <a:lnTo>
                    <a:pt x="115" y="92"/>
                  </a:lnTo>
                  <a:lnTo>
                    <a:pt x="130" y="96"/>
                  </a:lnTo>
                  <a:lnTo>
                    <a:pt x="145" y="96"/>
                  </a:lnTo>
                  <a:lnTo>
                    <a:pt x="159" y="101"/>
                  </a:lnTo>
                  <a:lnTo>
                    <a:pt x="174" y="101"/>
                  </a:lnTo>
                  <a:lnTo>
                    <a:pt x="188" y="101"/>
                  </a:lnTo>
                  <a:lnTo>
                    <a:pt x="203" y="111"/>
                  </a:lnTo>
                  <a:lnTo>
                    <a:pt x="222" y="116"/>
                  </a:lnTo>
                  <a:lnTo>
                    <a:pt x="236" y="120"/>
                  </a:lnTo>
                  <a:lnTo>
                    <a:pt x="251" y="120"/>
                  </a:lnTo>
                  <a:lnTo>
                    <a:pt x="270" y="135"/>
                  </a:lnTo>
                  <a:lnTo>
                    <a:pt x="285" y="140"/>
                  </a:lnTo>
                  <a:lnTo>
                    <a:pt x="300" y="144"/>
                  </a:lnTo>
                  <a:lnTo>
                    <a:pt x="338" y="149"/>
                  </a:lnTo>
                  <a:lnTo>
                    <a:pt x="367" y="149"/>
                  </a:lnTo>
                  <a:lnTo>
                    <a:pt x="396" y="154"/>
                  </a:lnTo>
                  <a:lnTo>
                    <a:pt x="410" y="159"/>
                  </a:lnTo>
                  <a:lnTo>
                    <a:pt x="425" y="159"/>
                  </a:lnTo>
                  <a:lnTo>
                    <a:pt x="459" y="164"/>
                  </a:lnTo>
                  <a:lnTo>
                    <a:pt x="473" y="168"/>
                  </a:lnTo>
                  <a:lnTo>
                    <a:pt x="493" y="168"/>
                  </a:lnTo>
                  <a:lnTo>
                    <a:pt x="512" y="173"/>
                  </a:lnTo>
                  <a:lnTo>
                    <a:pt x="541" y="178"/>
                  </a:lnTo>
                  <a:lnTo>
                    <a:pt x="555" y="178"/>
                  </a:lnTo>
                  <a:lnTo>
                    <a:pt x="570" y="178"/>
                  </a:lnTo>
                  <a:lnTo>
                    <a:pt x="609" y="183"/>
                  </a:lnTo>
                  <a:lnTo>
                    <a:pt x="623" y="183"/>
                  </a:lnTo>
                  <a:lnTo>
                    <a:pt x="638" y="188"/>
                  </a:lnTo>
                  <a:lnTo>
                    <a:pt x="666" y="188"/>
                  </a:lnTo>
                  <a:lnTo>
                    <a:pt x="681" y="188"/>
                  </a:lnTo>
                  <a:lnTo>
                    <a:pt x="695" y="188"/>
                  </a:lnTo>
                  <a:lnTo>
                    <a:pt x="735" y="188"/>
                  </a:lnTo>
                  <a:lnTo>
                    <a:pt x="773" y="188"/>
                  </a:lnTo>
                  <a:lnTo>
                    <a:pt x="787" y="188"/>
                  </a:lnTo>
                  <a:lnTo>
                    <a:pt x="807" y="188"/>
                  </a:lnTo>
                  <a:lnTo>
                    <a:pt x="845" y="188"/>
                  </a:lnTo>
                  <a:lnTo>
                    <a:pt x="875" y="188"/>
                  </a:lnTo>
                  <a:lnTo>
                    <a:pt x="913" y="188"/>
                  </a:lnTo>
                  <a:lnTo>
                    <a:pt x="961" y="188"/>
                  </a:lnTo>
                  <a:lnTo>
                    <a:pt x="1039" y="188"/>
                  </a:lnTo>
                  <a:lnTo>
                    <a:pt x="1087" y="192"/>
                  </a:lnTo>
                  <a:lnTo>
                    <a:pt x="1146" y="192"/>
                  </a:lnTo>
                  <a:lnTo>
                    <a:pt x="1160" y="192"/>
                  </a:lnTo>
                  <a:lnTo>
                    <a:pt x="1174" y="192"/>
                  </a:lnTo>
                  <a:lnTo>
                    <a:pt x="1189" y="183"/>
                  </a:lnTo>
                  <a:lnTo>
                    <a:pt x="1218" y="183"/>
                  </a:lnTo>
                  <a:lnTo>
                    <a:pt x="1237" y="178"/>
                  </a:lnTo>
                  <a:lnTo>
                    <a:pt x="1276" y="173"/>
                  </a:lnTo>
                  <a:lnTo>
                    <a:pt x="1291" y="173"/>
                  </a:lnTo>
                  <a:lnTo>
                    <a:pt x="1310" y="164"/>
                  </a:lnTo>
                  <a:lnTo>
                    <a:pt x="1343" y="164"/>
                  </a:lnTo>
                  <a:lnTo>
                    <a:pt x="1358" y="164"/>
                  </a:lnTo>
                  <a:lnTo>
                    <a:pt x="1372" y="164"/>
                  </a:lnTo>
                  <a:lnTo>
                    <a:pt x="1421" y="159"/>
                  </a:lnTo>
                  <a:lnTo>
                    <a:pt x="1455" y="159"/>
                  </a:lnTo>
                  <a:lnTo>
                    <a:pt x="1484" y="159"/>
                  </a:lnTo>
                  <a:lnTo>
                    <a:pt x="1498" y="154"/>
                  </a:lnTo>
                  <a:lnTo>
                    <a:pt x="1512" y="154"/>
                  </a:lnTo>
                  <a:lnTo>
                    <a:pt x="1541" y="154"/>
                  </a:lnTo>
                  <a:lnTo>
                    <a:pt x="1581" y="149"/>
                  </a:lnTo>
                  <a:lnTo>
                    <a:pt x="1595" y="144"/>
                  </a:lnTo>
                  <a:lnTo>
                    <a:pt x="1609" y="135"/>
                  </a:lnTo>
                  <a:lnTo>
                    <a:pt x="1624" y="125"/>
                  </a:lnTo>
                  <a:lnTo>
                    <a:pt x="1643" y="120"/>
                  </a:lnTo>
                  <a:lnTo>
                    <a:pt x="1657" y="116"/>
                  </a:lnTo>
                  <a:lnTo>
                    <a:pt x="1672" y="106"/>
                  </a:lnTo>
                  <a:lnTo>
                    <a:pt x="1691" y="96"/>
                  </a:lnTo>
                  <a:lnTo>
                    <a:pt x="1706" y="87"/>
                  </a:lnTo>
                  <a:lnTo>
                    <a:pt x="1721" y="72"/>
                  </a:lnTo>
                  <a:lnTo>
                    <a:pt x="1735" y="68"/>
                  </a:lnTo>
                  <a:lnTo>
                    <a:pt x="1750" y="63"/>
                  </a:lnTo>
                  <a:lnTo>
                    <a:pt x="1764" y="77"/>
                  </a:lnTo>
                  <a:lnTo>
                    <a:pt x="1769" y="92"/>
                  </a:lnTo>
                  <a:lnTo>
                    <a:pt x="1774" y="111"/>
                  </a:lnTo>
                  <a:lnTo>
                    <a:pt x="1788" y="125"/>
                  </a:lnTo>
                  <a:lnTo>
                    <a:pt x="1793" y="140"/>
                  </a:lnTo>
                  <a:lnTo>
                    <a:pt x="1802" y="154"/>
                  </a:lnTo>
                  <a:lnTo>
                    <a:pt x="1807" y="168"/>
                  </a:lnTo>
                  <a:lnTo>
                    <a:pt x="1817" y="183"/>
                  </a:lnTo>
                  <a:lnTo>
                    <a:pt x="1826" y="197"/>
                  </a:lnTo>
                  <a:lnTo>
                    <a:pt x="1826" y="183"/>
                  </a:lnTo>
                  <a:lnTo>
                    <a:pt x="1826" y="168"/>
                  </a:lnTo>
                  <a:lnTo>
                    <a:pt x="1826" y="154"/>
                  </a:lnTo>
                  <a:lnTo>
                    <a:pt x="1826" y="140"/>
                  </a:lnTo>
                  <a:lnTo>
                    <a:pt x="1836" y="125"/>
                  </a:lnTo>
                  <a:lnTo>
                    <a:pt x="1847" y="111"/>
                  </a:lnTo>
                  <a:lnTo>
                    <a:pt x="1861" y="101"/>
                  </a:lnTo>
                  <a:lnTo>
                    <a:pt x="1866" y="87"/>
                  </a:lnTo>
                  <a:lnTo>
                    <a:pt x="1875" y="72"/>
                  </a:lnTo>
                  <a:lnTo>
                    <a:pt x="1885" y="58"/>
                  </a:lnTo>
                  <a:lnTo>
                    <a:pt x="1890" y="44"/>
                  </a:lnTo>
                  <a:lnTo>
                    <a:pt x="1895" y="29"/>
                  </a:lnTo>
                  <a:lnTo>
                    <a:pt x="1904" y="15"/>
                  </a:lnTo>
                  <a:lnTo>
                    <a:pt x="1904" y="0"/>
                  </a:lnTo>
                  <a:lnTo>
                    <a:pt x="1923" y="5"/>
                  </a:lnTo>
                  <a:lnTo>
                    <a:pt x="1933" y="44"/>
                  </a:lnTo>
                  <a:lnTo>
                    <a:pt x="1943" y="58"/>
                  </a:lnTo>
                  <a:lnTo>
                    <a:pt x="1947" y="77"/>
                  </a:lnTo>
                  <a:lnTo>
                    <a:pt x="1952" y="92"/>
                  </a:lnTo>
                  <a:lnTo>
                    <a:pt x="1962" y="106"/>
                  </a:lnTo>
                  <a:lnTo>
                    <a:pt x="1962" y="120"/>
                  </a:lnTo>
                  <a:lnTo>
                    <a:pt x="1967" y="135"/>
                  </a:lnTo>
                  <a:lnTo>
                    <a:pt x="1982" y="149"/>
                  </a:lnTo>
                  <a:lnTo>
                    <a:pt x="1987" y="164"/>
                  </a:lnTo>
                  <a:lnTo>
                    <a:pt x="1992" y="183"/>
                  </a:lnTo>
                  <a:lnTo>
                    <a:pt x="2001" y="168"/>
                  </a:lnTo>
                  <a:lnTo>
                    <a:pt x="2001" y="154"/>
                  </a:lnTo>
                  <a:lnTo>
                    <a:pt x="2006" y="140"/>
                  </a:lnTo>
                  <a:lnTo>
                    <a:pt x="2011" y="120"/>
                  </a:lnTo>
                  <a:lnTo>
                    <a:pt x="2020" y="106"/>
                  </a:lnTo>
                  <a:lnTo>
                    <a:pt x="2030" y="92"/>
                  </a:lnTo>
                  <a:lnTo>
                    <a:pt x="2040" y="77"/>
                  </a:lnTo>
                  <a:lnTo>
                    <a:pt x="2059" y="77"/>
                  </a:lnTo>
                  <a:lnTo>
                    <a:pt x="2064" y="92"/>
                  </a:lnTo>
                  <a:lnTo>
                    <a:pt x="2068" y="106"/>
                  </a:lnTo>
                  <a:lnTo>
                    <a:pt x="2078" y="120"/>
                  </a:lnTo>
                  <a:lnTo>
                    <a:pt x="2078" y="135"/>
                  </a:lnTo>
                  <a:lnTo>
                    <a:pt x="2088" y="120"/>
                  </a:lnTo>
                  <a:lnTo>
                    <a:pt x="2097" y="106"/>
                  </a:lnTo>
                  <a:lnTo>
                    <a:pt x="2097" y="92"/>
                  </a:lnTo>
                  <a:lnTo>
                    <a:pt x="2107" y="77"/>
                  </a:lnTo>
                  <a:lnTo>
                    <a:pt x="2121" y="72"/>
                  </a:lnTo>
                  <a:lnTo>
                    <a:pt x="2137" y="87"/>
                  </a:lnTo>
                  <a:lnTo>
                    <a:pt x="2146" y="101"/>
                  </a:lnTo>
                  <a:lnTo>
                    <a:pt x="2156" y="116"/>
                  </a:lnTo>
                  <a:lnTo>
                    <a:pt x="2165" y="135"/>
                  </a:lnTo>
                  <a:lnTo>
                    <a:pt x="2175" y="149"/>
                  </a:lnTo>
                  <a:lnTo>
                    <a:pt x="2185" y="164"/>
                  </a:lnTo>
                  <a:lnTo>
                    <a:pt x="2199" y="168"/>
                  </a:lnTo>
                  <a:lnTo>
                    <a:pt x="2199" y="154"/>
                  </a:lnTo>
                  <a:lnTo>
                    <a:pt x="2204" y="140"/>
                  </a:lnTo>
                  <a:lnTo>
                    <a:pt x="2213" y="125"/>
                  </a:lnTo>
                  <a:lnTo>
                    <a:pt x="2218" y="111"/>
                  </a:lnTo>
                  <a:lnTo>
                    <a:pt x="2223" y="96"/>
                  </a:lnTo>
                  <a:lnTo>
                    <a:pt x="2233" y="82"/>
                  </a:lnTo>
                  <a:lnTo>
                    <a:pt x="2237" y="68"/>
                  </a:lnTo>
                  <a:lnTo>
                    <a:pt x="2242" y="53"/>
                  </a:lnTo>
                  <a:lnTo>
                    <a:pt x="2252" y="39"/>
                  </a:lnTo>
                  <a:lnTo>
                    <a:pt x="2272" y="48"/>
                  </a:lnTo>
                  <a:lnTo>
                    <a:pt x="2277" y="63"/>
                  </a:lnTo>
                  <a:lnTo>
                    <a:pt x="2291" y="77"/>
                  </a:lnTo>
                  <a:lnTo>
                    <a:pt x="2296" y="92"/>
                  </a:lnTo>
                  <a:lnTo>
                    <a:pt x="2301" y="106"/>
                  </a:lnTo>
                  <a:lnTo>
                    <a:pt x="2310" y="120"/>
                  </a:lnTo>
                  <a:lnTo>
                    <a:pt x="2315" y="135"/>
                  </a:lnTo>
                  <a:lnTo>
                    <a:pt x="2330" y="154"/>
                  </a:lnTo>
                  <a:lnTo>
                    <a:pt x="2344" y="164"/>
                  </a:lnTo>
                  <a:lnTo>
                    <a:pt x="2349" y="149"/>
                  </a:lnTo>
                  <a:lnTo>
                    <a:pt x="2354" y="135"/>
                  </a:lnTo>
                  <a:lnTo>
                    <a:pt x="2368" y="120"/>
                  </a:lnTo>
                  <a:lnTo>
                    <a:pt x="2373" y="106"/>
                  </a:lnTo>
                  <a:lnTo>
                    <a:pt x="2378" y="92"/>
                  </a:lnTo>
                  <a:lnTo>
                    <a:pt x="2392" y="82"/>
                  </a:lnTo>
                  <a:lnTo>
                    <a:pt x="2397" y="96"/>
                  </a:lnTo>
                  <a:lnTo>
                    <a:pt x="2407" y="111"/>
                  </a:lnTo>
                  <a:lnTo>
                    <a:pt x="2417" y="125"/>
                  </a:lnTo>
                  <a:lnTo>
                    <a:pt x="2431" y="111"/>
                  </a:lnTo>
                  <a:lnTo>
                    <a:pt x="2431" y="96"/>
                  </a:lnTo>
                  <a:lnTo>
                    <a:pt x="2446" y="92"/>
                  </a:lnTo>
                  <a:lnTo>
                    <a:pt x="2460" y="111"/>
                  </a:lnTo>
                  <a:lnTo>
                    <a:pt x="2470" y="125"/>
                  </a:lnTo>
                  <a:lnTo>
                    <a:pt x="2484" y="135"/>
                  </a:lnTo>
                  <a:lnTo>
                    <a:pt x="2499" y="144"/>
                  </a:lnTo>
                  <a:lnTo>
                    <a:pt x="2518" y="140"/>
                  </a:lnTo>
                  <a:lnTo>
                    <a:pt x="2527" y="125"/>
                  </a:lnTo>
                  <a:lnTo>
                    <a:pt x="2542" y="116"/>
                  </a:lnTo>
                  <a:lnTo>
                    <a:pt x="2557" y="101"/>
                  </a:lnTo>
                  <a:lnTo>
                    <a:pt x="2572" y="92"/>
                  </a:lnTo>
                  <a:lnTo>
                    <a:pt x="2586" y="82"/>
                  </a:lnTo>
                  <a:lnTo>
                    <a:pt x="2600" y="92"/>
                  </a:lnTo>
                  <a:lnTo>
                    <a:pt x="2605" y="106"/>
                  </a:lnTo>
                  <a:lnTo>
                    <a:pt x="2615" y="120"/>
                  </a:lnTo>
                  <a:lnTo>
                    <a:pt x="2629" y="120"/>
                  </a:lnTo>
                  <a:lnTo>
                    <a:pt x="2644" y="120"/>
                  </a:lnTo>
                  <a:lnTo>
                    <a:pt x="2658" y="120"/>
                  </a:lnTo>
                  <a:lnTo>
                    <a:pt x="2672" y="116"/>
                  </a:lnTo>
                  <a:lnTo>
                    <a:pt x="2688" y="106"/>
                  </a:lnTo>
                </a:path>
              </a:pathLst>
            </a:custGeom>
            <a:noFill/>
            <a:ln cap="rnd" w="25560">
              <a:solidFill>
                <a:srgbClr val="99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105520" y="2895480"/>
              <a:ext cx="2841480" cy="225720"/>
            </a:xfrm>
            <a:custGeom>
              <a:avLst/>
              <a:gdLst/>
              <a:ahLst/>
              <a:rect l="l" t="t" r="r" b="b"/>
              <a:pathLst>
                <a:path w="1790" h="142">
                  <a:moveTo>
                    <a:pt x="0" y="96"/>
                  </a:moveTo>
                  <a:lnTo>
                    <a:pt x="3" y="70"/>
                  </a:lnTo>
                  <a:lnTo>
                    <a:pt x="22" y="64"/>
                  </a:lnTo>
                  <a:lnTo>
                    <a:pt x="42" y="51"/>
                  </a:lnTo>
                  <a:lnTo>
                    <a:pt x="61" y="45"/>
                  </a:lnTo>
                  <a:lnTo>
                    <a:pt x="80" y="38"/>
                  </a:lnTo>
                  <a:lnTo>
                    <a:pt x="106" y="26"/>
                  </a:lnTo>
                  <a:lnTo>
                    <a:pt x="131" y="13"/>
                  </a:lnTo>
                  <a:lnTo>
                    <a:pt x="150" y="6"/>
                  </a:lnTo>
                  <a:lnTo>
                    <a:pt x="170" y="0"/>
                  </a:lnTo>
                  <a:lnTo>
                    <a:pt x="189" y="0"/>
                  </a:lnTo>
                  <a:lnTo>
                    <a:pt x="227" y="0"/>
                  </a:lnTo>
                  <a:lnTo>
                    <a:pt x="246" y="0"/>
                  </a:lnTo>
                  <a:lnTo>
                    <a:pt x="266" y="0"/>
                  </a:lnTo>
                  <a:lnTo>
                    <a:pt x="285" y="0"/>
                  </a:lnTo>
                  <a:lnTo>
                    <a:pt x="304" y="0"/>
                  </a:lnTo>
                  <a:lnTo>
                    <a:pt x="323" y="0"/>
                  </a:lnTo>
                  <a:lnTo>
                    <a:pt x="342" y="0"/>
                  </a:lnTo>
                  <a:lnTo>
                    <a:pt x="362" y="0"/>
                  </a:lnTo>
                  <a:lnTo>
                    <a:pt x="381" y="0"/>
                  </a:lnTo>
                  <a:lnTo>
                    <a:pt x="400" y="0"/>
                  </a:lnTo>
                  <a:lnTo>
                    <a:pt x="419" y="6"/>
                  </a:lnTo>
                  <a:lnTo>
                    <a:pt x="438" y="6"/>
                  </a:lnTo>
                  <a:lnTo>
                    <a:pt x="458" y="13"/>
                  </a:lnTo>
                  <a:lnTo>
                    <a:pt x="483" y="19"/>
                  </a:lnTo>
                  <a:lnTo>
                    <a:pt x="502" y="26"/>
                  </a:lnTo>
                  <a:lnTo>
                    <a:pt x="522" y="38"/>
                  </a:lnTo>
                  <a:lnTo>
                    <a:pt x="541" y="38"/>
                  </a:lnTo>
                  <a:lnTo>
                    <a:pt x="579" y="45"/>
                  </a:lnTo>
                  <a:lnTo>
                    <a:pt x="598" y="58"/>
                  </a:lnTo>
                  <a:lnTo>
                    <a:pt x="618" y="45"/>
                  </a:lnTo>
                  <a:lnTo>
                    <a:pt x="637" y="45"/>
                  </a:lnTo>
                  <a:lnTo>
                    <a:pt x="656" y="45"/>
                  </a:lnTo>
                  <a:lnTo>
                    <a:pt x="662" y="77"/>
                  </a:lnTo>
                  <a:lnTo>
                    <a:pt x="682" y="83"/>
                  </a:lnTo>
                  <a:lnTo>
                    <a:pt x="682" y="64"/>
                  </a:lnTo>
                  <a:lnTo>
                    <a:pt x="701" y="58"/>
                  </a:lnTo>
                  <a:lnTo>
                    <a:pt x="720" y="70"/>
                  </a:lnTo>
                  <a:lnTo>
                    <a:pt x="739" y="58"/>
                  </a:lnTo>
                  <a:lnTo>
                    <a:pt x="758" y="45"/>
                  </a:lnTo>
                  <a:lnTo>
                    <a:pt x="778" y="64"/>
                  </a:lnTo>
                  <a:lnTo>
                    <a:pt x="790" y="90"/>
                  </a:lnTo>
                  <a:lnTo>
                    <a:pt x="810" y="96"/>
                  </a:lnTo>
                  <a:lnTo>
                    <a:pt x="835" y="77"/>
                  </a:lnTo>
                  <a:lnTo>
                    <a:pt x="864" y="48"/>
                  </a:lnTo>
                  <a:lnTo>
                    <a:pt x="848" y="45"/>
                  </a:lnTo>
                  <a:lnTo>
                    <a:pt x="867" y="45"/>
                  </a:lnTo>
                  <a:lnTo>
                    <a:pt x="886" y="45"/>
                  </a:lnTo>
                  <a:lnTo>
                    <a:pt x="906" y="38"/>
                  </a:lnTo>
                  <a:lnTo>
                    <a:pt x="925" y="38"/>
                  </a:lnTo>
                  <a:lnTo>
                    <a:pt x="944" y="51"/>
                  </a:lnTo>
                  <a:lnTo>
                    <a:pt x="963" y="51"/>
                  </a:lnTo>
                  <a:lnTo>
                    <a:pt x="982" y="51"/>
                  </a:lnTo>
                  <a:lnTo>
                    <a:pt x="1008" y="51"/>
                  </a:lnTo>
                  <a:lnTo>
                    <a:pt x="1027" y="51"/>
                  </a:lnTo>
                  <a:lnTo>
                    <a:pt x="1046" y="51"/>
                  </a:lnTo>
                  <a:lnTo>
                    <a:pt x="1066" y="58"/>
                  </a:lnTo>
                  <a:lnTo>
                    <a:pt x="1091" y="64"/>
                  </a:lnTo>
                  <a:lnTo>
                    <a:pt x="1117" y="77"/>
                  </a:lnTo>
                  <a:lnTo>
                    <a:pt x="1162" y="83"/>
                  </a:lnTo>
                  <a:lnTo>
                    <a:pt x="1213" y="102"/>
                  </a:lnTo>
                  <a:lnTo>
                    <a:pt x="1277" y="109"/>
                  </a:lnTo>
                  <a:lnTo>
                    <a:pt x="1315" y="115"/>
                  </a:lnTo>
                  <a:lnTo>
                    <a:pt x="1354" y="115"/>
                  </a:lnTo>
                  <a:lnTo>
                    <a:pt x="1373" y="128"/>
                  </a:lnTo>
                  <a:lnTo>
                    <a:pt x="1392" y="128"/>
                  </a:lnTo>
                  <a:lnTo>
                    <a:pt x="1411" y="134"/>
                  </a:lnTo>
                  <a:lnTo>
                    <a:pt x="1430" y="134"/>
                  </a:lnTo>
                  <a:lnTo>
                    <a:pt x="1450" y="141"/>
                  </a:lnTo>
                  <a:lnTo>
                    <a:pt x="1469" y="141"/>
                  </a:lnTo>
                  <a:lnTo>
                    <a:pt x="1488" y="141"/>
                  </a:lnTo>
                  <a:lnTo>
                    <a:pt x="1507" y="141"/>
                  </a:lnTo>
                  <a:lnTo>
                    <a:pt x="1526" y="141"/>
                  </a:lnTo>
                  <a:lnTo>
                    <a:pt x="1546" y="141"/>
                  </a:lnTo>
                  <a:lnTo>
                    <a:pt x="1565" y="141"/>
                  </a:lnTo>
                  <a:lnTo>
                    <a:pt x="1590" y="134"/>
                  </a:lnTo>
                  <a:lnTo>
                    <a:pt x="1610" y="134"/>
                  </a:lnTo>
                  <a:lnTo>
                    <a:pt x="1654" y="115"/>
                  </a:lnTo>
                  <a:lnTo>
                    <a:pt x="1699" y="102"/>
                  </a:lnTo>
                  <a:lnTo>
                    <a:pt x="1725" y="96"/>
                  </a:lnTo>
                  <a:lnTo>
                    <a:pt x="1770" y="83"/>
                  </a:lnTo>
                  <a:lnTo>
                    <a:pt x="1789" y="83"/>
                  </a:lnTo>
                </a:path>
              </a:pathLst>
            </a:custGeom>
            <a:noFill/>
            <a:ln cap="rnd" w="25560">
              <a:solidFill>
                <a:srgbClr val="99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343400" y="2362320"/>
              <a:ext cx="1219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</a:rPr>
                <a:t>SONIDO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0280" y="2516040"/>
              <a:ext cx="76140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567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5677"/>
                </a:path>
              </a:pathLst>
            </a:custGeom>
            <a:noFill/>
            <a:ln cap="rnd"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324480" y="2057400"/>
              <a:ext cx="198144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400" spc="-1" strike="noStrike">
                  <a:solidFill>
                    <a:srgbClr val="ffffcc"/>
                  </a:solidFill>
                  <a:latin typeface="Arial"/>
                </a:rPr>
                <a:t>PRESION ACUSTICA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400" spc="-1" strike="noStrike">
                  <a:solidFill>
                    <a:srgbClr val="ffffcc"/>
                  </a:solidFill>
                  <a:latin typeface="Arial"/>
                </a:rPr>
                <a:t>(2 x 10</a:t>
              </a:r>
              <a:r>
                <a:rPr b="0" lang="es-ES_tradnl" sz="1400" spc="-1" strike="noStrike" baseline="30000">
                  <a:solidFill>
                    <a:srgbClr val="ffffcc"/>
                  </a:solidFill>
                  <a:latin typeface="Arial"/>
                </a:rPr>
                <a:t>-5</a:t>
              </a:r>
              <a:r>
                <a:rPr b="0" lang="es-ES_tradnl" sz="1400" spc="-1" strike="noStrike">
                  <a:solidFill>
                    <a:srgbClr val="ffffcc"/>
                  </a:solidFill>
                  <a:latin typeface="Arial"/>
                </a:rPr>
                <a:t> hasta 20 Pa)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705720" y="2819520"/>
              <a:ext cx="7617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705720" y="3276720"/>
              <a:ext cx="7617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086600" y="2819520"/>
              <a:ext cx="0" cy="4572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440320" y="3002040"/>
              <a:ext cx="0" cy="19810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86400" y="3886200"/>
              <a:ext cx="259092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400" spc="-1" strike="noStrike">
                  <a:solidFill>
                    <a:srgbClr val="ffffcc"/>
                  </a:solidFill>
                  <a:latin typeface="Arial"/>
                </a:rPr>
                <a:t>PRESION ATMOSFERICA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400" spc="-1" strike="noStrike">
                  <a:solidFill>
                    <a:srgbClr val="ffffcc"/>
                  </a:solidFill>
                  <a:latin typeface="Arial"/>
                </a:rPr>
                <a:t>(Aprox. 10</a:t>
              </a:r>
              <a:r>
                <a:rPr b="0" lang="es-ES_tradnl" sz="1400" spc="-1" strike="noStrike" baseline="30000">
                  <a:solidFill>
                    <a:srgbClr val="ffffcc"/>
                  </a:solidFill>
                  <a:latin typeface="Arial"/>
                </a:rPr>
                <a:t>5</a:t>
              </a:r>
              <a:r>
                <a:rPr b="0" lang="es-ES_tradnl" sz="1400" spc="-1" strike="noStrike">
                  <a:solidFill>
                    <a:srgbClr val="ffffcc"/>
                  </a:solidFill>
                  <a:latin typeface="Arial"/>
                </a:rPr>
                <a:t> Pa)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664000" y="3718080"/>
              <a:ext cx="1206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</a:rPr>
                <a:t>SILENCIO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17680" y="2637000"/>
              <a:ext cx="60300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6615000" y="5869080"/>
            <a:ext cx="3159000" cy="1977120"/>
            <a:chOff x="6615000" y="5869080"/>
            <a:chExt cx="3159000" cy="1977120"/>
          </a:xfrm>
        </p:grpSpPr>
        <p:sp>
          <p:nvSpPr>
            <p:cNvPr id="71" name=""/>
            <p:cNvSpPr/>
            <p:nvPr/>
          </p:nvSpPr>
          <p:spPr>
            <a:xfrm>
              <a:off x="6615000" y="6450120"/>
              <a:ext cx="1009440" cy="81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8"/>
                  </a:moveTo>
                  <a:arcTo wR="10800" hR="10800" stAng="-10786650" swAng="107733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8"/>
                  </a:moveTo>
                  <a:arcTo wR="10800" hR="10800" stAng="-10786650" swAng="10773300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075440" y="6227640"/>
              <a:ext cx="718920" cy="126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92"/>
                  </a:moveTo>
                  <a:arcTo wR="10800" hR="10800" stAng="-10765484" swAng="107306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92"/>
                  </a:moveTo>
                  <a:arcTo wR="10800" hR="10800" stAng="-10765484" swAng="10730661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467480" y="6021360"/>
              <a:ext cx="10616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0"/>
                  </a:moveTo>
                  <a:arcTo wR="10800" hR="10800" stAng="-10793492" swAng="10786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0"/>
                  </a:moveTo>
                  <a:arcTo wR="10800" hR="10800" stAng="-10793492" swAng="10786966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053560" y="6010200"/>
              <a:ext cx="864720" cy="167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978" swAng="10773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978" swAng="10773859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513640" y="5869080"/>
              <a:ext cx="1260360" cy="197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445" swAng="537244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445" swAng="5372445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681960" y="6553080"/>
              <a:ext cx="2460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mbiente consultor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124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ESCALA DE NIVEL SONORO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39720" y="10202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ff66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6699"/>
                </a:solidFill>
                <a:latin typeface="Arial"/>
              </a:rPr>
              <a:t>Umbral de audición: 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Es la menor presión acústica audible por el oído 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   humano. Se denomina p</a:t>
            </a:r>
            <a:r>
              <a:rPr b="0" lang="es-ES_tradnl" sz="1800" spc="-1" strike="noStrike" baseline="-25000">
                <a:solidFill>
                  <a:srgbClr val="ffffcc"/>
                </a:solidFill>
                <a:latin typeface="Arial"/>
              </a:rPr>
              <a:t>o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 y tiene un valor de 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   2 x 10</a:t>
            </a:r>
            <a:r>
              <a:rPr b="0" lang="es-ES_tradnl" sz="1800" spc="-1" strike="noStrike" baseline="30000">
                <a:solidFill>
                  <a:srgbClr val="ffffcc"/>
                </a:solidFill>
                <a:latin typeface="Arial"/>
              </a:rPr>
              <a:t>-5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 Pa (Pascal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ff66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6699"/>
                </a:solidFill>
                <a:latin typeface="Arial"/>
              </a:rPr>
              <a:t>Umbral del dolor     :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 Es la mayor presión acústica audible por el oído 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   humano. Es aproximadamente 1.000.000 de 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   veces mayor que p</a:t>
            </a:r>
            <a:r>
              <a:rPr b="0" lang="es-ES_tradnl" sz="1800" spc="-1" strike="noStrike" baseline="-25000">
                <a:solidFill>
                  <a:srgbClr val="ffffcc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ff66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6699"/>
                </a:solidFill>
                <a:latin typeface="Arial"/>
              </a:rPr>
              <a:t>Nivel Sonoro NS</a:t>
            </a:r>
            <a:r>
              <a:rPr b="0" lang="es-ES_tradnl" sz="1800" spc="-1" strike="noStrike">
                <a:solidFill>
                  <a:srgbClr val="ff6699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6699"/>
                </a:solidFill>
                <a:latin typeface="Arial"/>
              </a:rPr>
              <a:t> : 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Escala logarítmica de presión acústica referida al 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   umbral de audición p</a:t>
            </a:r>
            <a:r>
              <a:rPr b="0" lang="es-ES_tradnl" sz="1800" spc="-1" strike="noStrike" baseline="-25000">
                <a:solidFill>
                  <a:srgbClr val="ffffcc"/>
                </a:solidFill>
                <a:latin typeface="Arial"/>
              </a:rPr>
              <a:t>o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, expresada en dB (decibel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                        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         </a:t>
            </a:r>
            <a:r>
              <a:rPr b="0" lang="es-ES_tradnl" sz="2000" spc="-1" strike="noStrike">
                <a:solidFill>
                  <a:srgbClr val="99ff33"/>
                </a:solidFill>
                <a:latin typeface="Arial"/>
              </a:rPr>
              <a:t>NS =  20 log (p/p</a:t>
            </a:r>
            <a:r>
              <a:rPr b="0" lang="es-ES_tradnl" sz="2000" spc="-1" strike="noStrike" baseline="-25000">
                <a:solidFill>
                  <a:srgbClr val="99ff33"/>
                </a:solidFill>
                <a:latin typeface="Arial"/>
              </a:rPr>
              <a:t>o</a:t>
            </a:r>
            <a:r>
              <a:rPr b="0" lang="es-ES_tradnl" sz="2000" spc="-1" strike="noStrike">
                <a:solidFill>
                  <a:srgbClr val="99ff33"/>
                </a:solidFill>
                <a:latin typeface="Arial"/>
              </a:rPr>
              <a:t>) = 10 log (p/p</a:t>
            </a:r>
            <a:r>
              <a:rPr b="0" lang="es-ES_tradnl" sz="2000" spc="-1" strike="noStrike" baseline="-25000">
                <a:solidFill>
                  <a:srgbClr val="99ff33"/>
                </a:solidFill>
                <a:latin typeface="Arial"/>
              </a:rPr>
              <a:t>o</a:t>
            </a:r>
            <a:r>
              <a:rPr b="0" lang="es-ES_tradnl" sz="2000" spc="-1" strike="noStrike">
                <a:solidFill>
                  <a:srgbClr val="99ff33"/>
                </a:solidFill>
                <a:latin typeface="Arial"/>
              </a:rPr>
              <a:t>)</a:t>
            </a:r>
            <a:r>
              <a:rPr b="0" lang="es-ES_tradnl" sz="2000" spc="-1" strike="noStrike" baseline="30000">
                <a:solidFill>
                  <a:srgbClr val="99ff33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6615000" y="5869080"/>
            <a:ext cx="3159000" cy="1977120"/>
            <a:chOff x="6615000" y="5869080"/>
            <a:chExt cx="3159000" cy="1977120"/>
          </a:xfrm>
        </p:grpSpPr>
        <p:sp>
          <p:nvSpPr>
            <p:cNvPr id="80" name=""/>
            <p:cNvSpPr/>
            <p:nvPr/>
          </p:nvSpPr>
          <p:spPr>
            <a:xfrm>
              <a:off x="6615000" y="6450120"/>
              <a:ext cx="1009440" cy="81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8"/>
                  </a:moveTo>
                  <a:arcTo wR="10800" hR="10800" stAng="-10786650" swAng="107733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8"/>
                  </a:moveTo>
                  <a:arcTo wR="10800" hR="10800" stAng="-10786650" swAng="10773300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075440" y="6227640"/>
              <a:ext cx="718920" cy="126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92"/>
                  </a:moveTo>
                  <a:arcTo wR="10800" hR="10800" stAng="-10765484" swAng="107306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92"/>
                  </a:moveTo>
                  <a:arcTo wR="10800" hR="10800" stAng="-10765484" swAng="10730661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67480" y="6021360"/>
              <a:ext cx="10616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0"/>
                  </a:moveTo>
                  <a:arcTo wR="10800" hR="10800" stAng="-10793492" swAng="10786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0"/>
                  </a:moveTo>
                  <a:arcTo wR="10800" hR="10800" stAng="-10793492" swAng="10786966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53560" y="6010200"/>
              <a:ext cx="864720" cy="167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978" swAng="10773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978" swAng="10773859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513640" y="5869080"/>
              <a:ext cx="1260360" cy="197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445" swAng="537244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445" swAng="5372445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81960" y="6553080"/>
              <a:ext cx="2460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mbiente consultor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3422520" y="3425760"/>
            <a:ext cx="4189680" cy="581040"/>
          </a:xfrm>
          <a:prstGeom prst="rect">
            <a:avLst/>
          </a:prstGeom>
          <a:noFill/>
          <a:ln w="1260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27080" y="4138560"/>
            <a:ext cx="8134200" cy="1782000"/>
            <a:chOff x="127080" y="4138560"/>
            <a:chExt cx="8134200" cy="1782000"/>
          </a:xfrm>
        </p:grpSpPr>
        <p:grpSp>
          <p:nvGrpSpPr>
            <p:cNvPr id="88" name=""/>
            <p:cNvGrpSpPr/>
            <p:nvPr/>
          </p:nvGrpSpPr>
          <p:grpSpPr>
            <a:xfrm>
              <a:off x="127080" y="4138560"/>
              <a:ext cx="8134200" cy="1782000"/>
              <a:chOff x="127080" y="4138560"/>
              <a:chExt cx="8134200" cy="1782000"/>
            </a:xfrm>
          </p:grpSpPr>
          <p:sp>
            <p:nvSpPr>
              <p:cNvPr id="89" name=""/>
              <p:cNvSpPr/>
              <p:nvPr/>
            </p:nvSpPr>
            <p:spPr>
              <a:xfrm>
                <a:off x="3124080" y="4952880"/>
                <a:ext cx="0" cy="1144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86200" y="4952880"/>
                <a:ext cx="0" cy="1144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648320" y="4952880"/>
                <a:ext cx="0" cy="1144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410080" y="4952880"/>
                <a:ext cx="0" cy="1144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172200" y="4952880"/>
                <a:ext cx="0" cy="1144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934320" y="4952880"/>
                <a:ext cx="0" cy="1144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728120" y="4952880"/>
                <a:ext cx="0" cy="1144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127080" y="4138560"/>
                <a:ext cx="8134200" cy="1782000"/>
                <a:chOff x="127080" y="4138560"/>
                <a:chExt cx="8134200" cy="178200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217440" y="4576680"/>
                  <a:ext cx="26226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s-ES_tradnl" sz="1600" spc="-1" strike="noStrike">
                      <a:solidFill>
                        <a:srgbClr val="ffffcc"/>
                      </a:solidFill>
                      <a:latin typeface="Arial Rounded MT Bold"/>
                    </a:rPr>
                    <a:t>Presión Acústica    (Pa)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127080" y="5568840"/>
                  <a:ext cx="27018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s-ES_tradnl" sz="1600" spc="-1" strike="noStrike">
                      <a:solidFill>
                        <a:srgbClr val="ffffcc"/>
                      </a:solidFill>
                      <a:latin typeface="Arial Rounded MT Bold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ffffcc"/>
                      </a:solidFill>
                      <a:latin typeface="Arial Rounded MT Bold"/>
                    </a:rPr>
                    <a:t>Nivel Sonoro           (dB)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917800" y="5584680"/>
                  <a:ext cx="4190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3648240" y="5584680"/>
                  <a:ext cx="7556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410000" y="5584680"/>
                  <a:ext cx="7556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40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172120" y="5584680"/>
                  <a:ext cx="7556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60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934240" y="5584680"/>
                  <a:ext cx="7556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80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6620040" y="5584680"/>
                  <a:ext cx="7556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100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7381800" y="5584680"/>
                  <a:ext cx="7556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120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12840" y="5010120"/>
                  <a:ext cx="7643880" cy="0"/>
                </a:xfrm>
                <a:prstGeom prst="line">
                  <a:avLst/>
                </a:prstGeom>
                <a:ln w="1260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774880" y="4608360"/>
                  <a:ext cx="9144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2x10</a:t>
                  </a:r>
                  <a:r>
                    <a:rPr b="0" lang="en-US" sz="1600" spc="-1" strike="noStrike" baseline="30000">
                      <a:solidFill>
                        <a:srgbClr val="ff9900"/>
                      </a:solidFill>
                      <a:latin typeface="Arial"/>
                    </a:rPr>
                    <a:t>-5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537000" y="4608360"/>
                  <a:ext cx="9144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2x10</a:t>
                  </a:r>
                  <a:r>
                    <a:rPr b="0" lang="en-US" sz="1600" spc="-1" strike="noStrike" baseline="30000">
                      <a:solidFill>
                        <a:srgbClr val="ff9900"/>
                      </a:solidFill>
                      <a:latin typeface="Arial"/>
                    </a:rPr>
                    <a:t>-4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299120" y="4608360"/>
                  <a:ext cx="9144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2x10</a:t>
                  </a:r>
                  <a:r>
                    <a:rPr b="0" lang="en-US" sz="1600" spc="-1" strike="noStrike" baseline="30000">
                      <a:solidFill>
                        <a:srgbClr val="ff9900"/>
                      </a:solidFill>
                      <a:latin typeface="Arial"/>
                    </a:rPr>
                    <a:t>-3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5060880" y="4608360"/>
                  <a:ext cx="9144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2x10</a:t>
                  </a:r>
                  <a:r>
                    <a:rPr b="0" lang="en-US" sz="1600" spc="-1" strike="noStrike" baseline="30000">
                      <a:solidFill>
                        <a:srgbClr val="ff9900"/>
                      </a:solidFill>
                      <a:latin typeface="Arial"/>
                    </a:rPr>
                    <a:t>-2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823000" y="4608360"/>
                  <a:ext cx="9144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2x10</a:t>
                  </a:r>
                  <a:r>
                    <a:rPr b="0" lang="en-US" sz="1600" spc="-1" strike="noStrike" baseline="30000">
                      <a:solidFill>
                        <a:srgbClr val="ff9900"/>
                      </a:solidFill>
                      <a:latin typeface="Arial"/>
                    </a:rPr>
                    <a:t>-1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585120" y="4608360"/>
                  <a:ext cx="9144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2x10</a:t>
                  </a:r>
                  <a:r>
                    <a:rPr b="0" lang="en-US" sz="1600" spc="-1" strike="noStrike" baseline="30000">
                      <a:solidFill>
                        <a:srgbClr val="ff99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346880" y="4608360"/>
                  <a:ext cx="9144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2x10</a:t>
                  </a:r>
                  <a:r>
                    <a:rPr b="0" lang="en-US" sz="1600" spc="-1" strike="noStrike" baseline="30000">
                      <a:solidFill>
                        <a:srgbClr val="ff99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V="1">
                  <a:off x="3184560" y="4427280"/>
                  <a:ext cx="4538520" cy="324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4672080" y="4138560"/>
                  <a:ext cx="15238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ffffcc"/>
                      </a:solidFill>
                      <a:latin typeface="Arial"/>
                    </a:rPr>
                    <a:t>Rango audible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211200" y="5149800"/>
                  <a:ext cx="45964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1          10</a:t>
                  </a:r>
                  <a:r>
                    <a:rPr b="0" lang="en-US" sz="1600" spc="-1" strike="noStrike" baseline="30000">
                      <a:solidFill>
                        <a:srgbClr val="ff9900"/>
                      </a:solidFill>
                      <a:latin typeface="Arial"/>
                    </a:rPr>
                    <a:t>2            </a:t>
                  </a: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10</a:t>
                  </a:r>
                  <a:r>
                    <a:rPr b="0" lang="en-US" sz="1600" spc="-1" strike="noStrike" baseline="30000">
                      <a:solidFill>
                        <a:srgbClr val="ff9900"/>
                      </a:solidFill>
                      <a:latin typeface="Arial"/>
                    </a:rPr>
                    <a:t>4            </a:t>
                  </a: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10</a:t>
                  </a:r>
                  <a:r>
                    <a:rPr b="0" lang="en-US" sz="1600" spc="-1" strike="noStrike" baseline="30000">
                      <a:solidFill>
                        <a:srgbClr val="ff9900"/>
                      </a:solidFill>
                      <a:latin typeface="Arial"/>
                    </a:rPr>
                    <a:t>6            </a:t>
                  </a: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10</a:t>
                  </a:r>
                  <a:r>
                    <a:rPr b="0" lang="en-US" sz="1600" spc="-1" strike="noStrike" baseline="30000">
                      <a:solidFill>
                        <a:srgbClr val="ff9900"/>
                      </a:solidFill>
                      <a:latin typeface="Arial"/>
                    </a:rPr>
                    <a:t>8            </a:t>
                  </a: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10</a:t>
                  </a:r>
                  <a:r>
                    <a:rPr b="0" lang="en-US" sz="1600" spc="-1" strike="noStrike" baseline="30000">
                      <a:solidFill>
                        <a:srgbClr val="ff9900"/>
                      </a:solidFill>
                      <a:latin typeface="Arial"/>
                    </a:rPr>
                    <a:t>10          </a:t>
                  </a: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10</a:t>
                  </a:r>
                  <a:r>
                    <a:rPr b="0" lang="en-US" sz="1600" spc="-1" strike="noStrike" baseline="30000">
                      <a:solidFill>
                        <a:srgbClr val="ff9900"/>
                      </a:solidFill>
                      <a:latin typeface="Arial"/>
                    </a:rPr>
                    <a:t>12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23920" y="5132520"/>
                  <a:ext cx="2697120" cy="36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s-ES_tradnl" sz="1600" spc="-1" strike="noStrike">
                      <a:solidFill>
                        <a:srgbClr val="ffffcc"/>
                      </a:solidFill>
                      <a:latin typeface="Arial Rounded MT Bold"/>
                    </a:rPr>
                    <a:t>Energía relativa    (p/p</a:t>
                  </a:r>
                  <a:r>
                    <a:rPr b="0" lang="es-ES_tradnl" sz="1600" spc="-1" strike="noStrike" baseline="-25000">
                      <a:solidFill>
                        <a:srgbClr val="ffffcc"/>
                      </a:solidFill>
                      <a:latin typeface="Arial Rounded MT Bold"/>
                    </a:rPr>
                    <a:t>o</a:t>
                  </a:r>
                  <a:r>
                    <a:rPr b="0" lang="es-ES_tradnl" sz="1600" spc="-1" strike="noStrike">
                      <a:solidFill>
                        <a:srgbClr val="ffffcc"/>
                      </a:solidFill>
                      <a:latin typeface="Arial Rounded MT Bold"/>
                    </a:rPr>
                    <a:t>)</a:t>
                  </a:r>
                  <a:r>
                    <a:rPr b="0" lang="es-ES_tradnl" sz="1600" spc="-1" strike="noStrike" baseline="30000">
                      <a:solidFill>
                        <a:srgbClr val="ffffcc"/>
                      </a:solidFill>
                      <a:latin typeface="Arial Rounded MT Bold"/>
                    </a:rPr>
                    <a:t>2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8" name=""/>
            <p:cNvSpPr/>
            <p:nvPr/>
          </p:nvSpPr>
          <p:spPr>
            <a:xfrm>
              <a:off x="7732800" y="4400640"/>
              <a:ext cx="0" cy="1141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59000" y="4392720"/>
              <a:ext cx="0" cy="1141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RESION  Y  NIVEL VS. TIEMPO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01000" y="6153120"/>
            <a:ext cx="914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Tiemp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615000" y="5869080"/>
            <a:ext cx="3159000" cy="1977120"/>
            <a:chOff x="6615000" y="5869080"/>
            <a:chExt cx="3159000" cy="1977120"/>
          </a:xfrm>
        </p:grpSpPr>
        <p:sp>
          <p:nvSpPr>
            <p:cNvPr id="123" name=""/>
            <p:cNvSpPr/>
            <p:nvPr/>
          </p:nvSpPr>
          <p:spPr>
            <a:xfrm>
              <a:off x="6615000" y="6450120"/>
              <a:ext cx="1009440" cy="81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8"/>
                  </a:moveTo>
                  <a:arcTo wR="10800" hR="10800" stAng="-10786650" swAng="107733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8"/>
                  </a:moveTo>
                  <a:arcTo wR="10800" hR="10800" stAng="-10786650" swAng="10773300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75440" y="6227640"/>
              <a:ext cx="718920" cy="126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92"/>
                  </a:moveTo>
                  <a:arcTo wR="10800" hR="10800" stAng="-10765484" swAng="107306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92"/>
                  </a:moveTo>
                  <a:arcTo wR="10800" hR="10800" stAng="-10765484" swAng="10730661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467480" y="6021360"/>
              <a:ext cx="10616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0"/>
                  </a:moveTo>
                  <a:arcTo wR="10800" hR="10800" stAng="-10793492" swAng="10786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0"/>
                  </a:moveTo>
                  <a:arcTo wR="10800" hR="10800" stAng="-10793492" swAng="10786966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053560" y="6010200"/>
              <a:ext cx="864720" cy="167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978" swAng="10773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978" swAng="10773859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513640" y="5869080"/>
              <a:ext cx="1260360" cy="197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445" swAng="537244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445" swAng="5372445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81960" y="6553080"/>
              <a:ext cx="2460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mbiente consultor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04840" y="1257480"/>
            <a:ext cx="8124840" cy="2290680"/>
            <a:chOff x="204840" y="1257480"/>
            <a:chExt cx="8124840" cy="2290680"/>
          </a:xfrm>
        </p:grpSpPr>
        <p:sp>
          <p:nvSpPr>
            <p:cNvPr id="130" name=""/>
            <p:cNvSpPr/>
            <p:nvPr/>
          </p:nvSpPr>
          <p:spPr>
            <a:xfrm>
              <a:off x="204840" y="1873080"/>
              <a:ext cx="1219320" cy="10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ffffcc"/>
                  </a:solidFill>
                  <a:latin typeface="Arial"/>
                </a:rPr>
                <a:t>Presió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ffffcc"/>
                  </a:solidFill>
                  <a:latin typeface="Arial"/>
                </a:rPr>
                <a:t>Acustic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ffffcc"/>
                  </a:solidFill>
                  <a:latin typeface="Arial"/>
                </a:rPr>
                <a:t>(en Pa)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aphicFrame>
          <p:nvGraphicFramePr>
            <p:cNvPr id="131" name=""/>
            <p:cNvGraphicFramePr/>
            <p:nvPr/>
          </p:nvGraphicFramePr>
          <p:xfrm>
            <a:off x="1065240" y="1257480"/>
            <a:ext cx="7264440" cy="2290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5240" y="1257480"/>
                      <a:ext cx="7264440" cy="229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3" name=""/>
          <p:cNvGrpSpPr/>
          <p:nvPr/>
        </p:nvGrpSpPr>
        <p:grpSpPr>
          <a:xfrm>
            <a:off x="228600" y="3780000"/>
            <a:ext cx="8153280" cy="2241360"/>
            <a:chOff x="228600" y="3780000"/>
            <a:chExt cx="8153280" cy="2241360"/>
          </a:xfrm>
        </p:grpSpPr>
        <p:sp>
          <p:nvSpPr>
            <p:cNvPr id="134" name=""/>
            <p:cNvSpPr/>
            <p:nvPr/>
          </p:nvSpPr>
          <p:spPr>
            <a:xfrm>
              <a:off x="228600" y="4572000"/>
              <a:ext cx="1219320" cy="10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ffffcc"/>
                  </a:solidFill>
                  <a:latin typeface="Arial"/>
                </a:rPr>
                <a:t>Nive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ffffcc"/>
                  </a:solidFill>
                  <a:latin typeface="Arial"/>
                </a:rPr>
                <a:t>Sonoro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ffffcc"/>
                  </a:solidFill>
                  <a:latin typeface="Arial"/>
                </a:rPr>
                <a:t>(en dB)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aphicFrame>
          <p:nvGraphicFramePr>
            <p:cNvPr id="135" name=""/>
            <p:cNvGraphicFramePr/>
            <p:nvPr/>
          </p:nvGraphicFramePr>
          <p:xfrm>
            <a:off x="1103400" y="3780000"/>
            <a:ext cx="7278480" cy="22413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03400" y="3780000"/>
                      <a:ext cx="7278480" cy="22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02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SUMA DE NIVELES SONORO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219320" y="1523880"/>
            <a:ext cx="5562360" cy="854640"/>
            <a:chOff x="1219320" y="1523880"/>
            <a:chExt cx="5562360" cy="854640"/>
          </a:xfrm>
        </p:grpSpPr>
        <p:sp>
          <p:nvSpPr>
            <p:cNvPr id="139" name=""/>
            <p:cNvSpPr/>
            <p:nvPr/>
          </p:nvSpPr>
          <p:spPr>
            <a:xfrm>
              <a:off x="1219320" y="1523880"/>
              <a:ext cx="5562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6699"/>
                  </a:solidFill>
                  <a:latin typeface="Arial Rounded MT Bold"/>
                </a:rPr>
                <a:t>NIVEL 1 =</a:t>
              </a: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 Nivel  generado por la fuente 1.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19320" y="1981080"/>
              <a:ext cx="5562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6699"/>
                  </a:solidFill>
                  <a:latin typeface="Arial Rounded MT Bold"/>
                </a:rPr>
                <a:t>NIVEL 2 =</a:t>
              </a: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 Nivel  generado por la fuente 2.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988920" y="2587680"/>
            <a:ext cx="7061400" cy="858960"/>
            <a:chOff x="988920" y="2587680"/>
            <a:chExt cx="7061400" cy="858960"/>
          </a:xfrm>
        </p:grpSpPr>
        <p:sp>
          <p:nvSpPr>
            <p:cNvPr id="142" name=""/>
            <p:cNvSpPr/>
            <p:nvPr/>
          </p:nvSpPr>
          <p:spPr>
            <a:xfrm>
              <a:off x="988920" y="2587680"/>
              <a:ext cx="7061400" cy="858960"/>
            </a:xfrm>
            <a:prstGeom prst="rect">
              <a:avLst/>
            </a:prstGeom>
            <a:solidFill>
              <a:srgbClr val="ffffcc">
                <a:alpha val="50000"/>
              </a:srgbClr>
            </a:solidFill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81240" y="2827440"/>
              <a:ext cx="6553080" cy="458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800000"/>
                  </a:solidFill>
                  <a:latin typeface="Arial"/>
                </a:rPr>
                <a:t>NIVEL(1+2) = 10 Log ( 10 </a:t>
              </a:r>
              <a:r>
                <a:rPr b="0" lang="en-US" sz="2400" spc="-1" strike="noStrike" baseline="30000">
                  <a:solidFill>
                    <a:srgbClr val="800000"/>
                  </a:solidFill>
                  <a:latin typeface="Arial"/>
                </a:rPr>
                <a:t>Nivel1/10 + </a:t>
              </a:r>
              <a:r>
                <a:rPr b="0" lang="en-US" sz="2400" spc="-1" strike="noStrike">
                  <a:solidFill>
                    <a:srgbClr val="800000"/>
                  </a:solidFill>
                  <a:latin typeface="Arial"/>
                </a:rPr>
                <a:t>10 </a:t>
              </a:r>
              <a:r>
                <a:rPr b="0" lang="en-US" sz="2400" spc="-1" strike="noStrike" baseline="30000">
                  <a:solidFill>
                    <a:srgbClr val="800000"/>
                  </a:solidFill>
                  <a:latin typeface="Arial"/>
                </a:rPr>
                <a:t>Nivel2/10 </a:t>
              </a:r>
              <a:r>
                <a:rPr b="0" lang="en-US" sz="2400" spc="-1" strike="noStrike">
                  <a:solidFill>
                    <a:srgbClr val="8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03200" y="3973680"/>
            <a:ext cx="6387120" cy="523080"/>
            <a:chOff x="403200" y="3973680"/>
            <a:chExt cx="6387120" cy="523080"/>
          </a:xfrm>
        </p:grpSpPr>
        <p:graphicFrame>
          <p:nvGraphicFramePr>
            <p:cNvPr id="145" name=""/>
            <p:cNvGraphicFramePr/>
            <p:nvPr/>
          </p:nvGraphicFramePr>
          <p:xfrm>
            <a:off x="403200" y="3973680"/>
            <a:ext cx="770040" cy="510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3200" y="3973680"/>
                      <a:ext cx="770040" cy="51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7" name=""/>
            <p:cNvSpPr/>
            <p:nvPr/>
          </p:nvSpPr>
          <p:spPr>
            <a:xfrm>
              <a:off x="5344920" y="4038480"/>
              <a:ext cx="1445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Arial Rounded MT Bold"/>
                </a:rPr>
                <a:t>x         dB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03200" y="4664160"/>
            <a:ext cx="6351480" cy="582480"/>
            <a:chOff x="403200" y="4664160"/>
            <a:chExt cx="6351480" cy="582480"/>
          </a:xfrm>
        </p:grpSpPr>
        <p:graphicFrame>
          <p:nvGraphicFramePr>
            <p:cNvPr id="149" name=""/>
            <p:cNvGraphicFramePr/>
            <p:nvPr/>
          </p:nvGraphicFramePr>
          <p:xfrm>
            <a:off x="403200" y="4664160"/>
            <a:ext cx="770040" cy="582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03200" y="4664160"/>
                      <a:ext cx="770040" cy="58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1" name=""/>
            <p:cNvGraphicFramePr/>
            <p:nvPr/>
          </p:nvGraphicFramePr>
          <p:xfrm>
            <a:off x="1393920" y="4735440"/>
            <a:ext cx="769680" cy="51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393920" y="4735440"/>
                      <a:ext cx="769680" cy="51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3" name=""/>
            <p:cNvSpPr/>
            <p:nvPr/>
          </p:nvSpPr>
          <p:spPr>
            <a:xfrm>
              <a:off x="5357880" y="4724280"/>
              <a:ext cx="1396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Arial Rounded MT Bold"/>
                </a:rPr>
                <a:t>x + 3  dB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03200" y="5410080"/>
            <a:ext cx="6351480" cy="522360"/>
            <a:chOff x="403200" y="5410080"/>
            <a:chExt cx="6351480" cy="522360"/>
          </a:xfrm>
        </p:grpSpPr>
        <p:graphicFrame>
          <p:nvGraphicFramePr>
            <p:cNvPr id="155" name=""/>
            <p:cNvGraphicFramePr/>
            <p:nvPr/>
          </p:nvGraphicFramePr>
          <p:xfrm>
            <a:off x="403200" y="5421240"/>
            <a:ext cx="693720" cy="511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03200" y="5421240"/>
                      <a:ext cx="693720" cy="51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7" name=""/>
            <p:cNvGraphicFramePr/>
            <p:nvPr/>
          </p:nvGraphicFramePr>
          <p:xfrm>
            <a:off x="1393920" y="5421240"/>
            <a:ext cx="769680" cy="511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393920" y="5421240"/>
                      <a:ext cx="769680" cy="51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"/>
            <p:cNvGraphicFramePr/>
            <p:nvPr/>
          </p:nvGraphicFramePr>
          <p:xfrm>
            <a:off x="2384280" y="5421240"/>
            <a:ext cx="770040" cy="511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384280" y="5421240"/>
                      <a:ext cx="770040" cy="51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1" name=""/>
            <p:cNvGraphicFramePr/>
            <p:nvPr/>
          </p:nvGraphicFramePr>
          <p:xfrm>
            <a:off x="3375000" y="5421240"/>
            <a:ext cx="770040" cy="5112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375000" y="5421240"/>
                      <a:ext cx="770040" cy="51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3" name=""/>
            <p:cNvGraphicFramePr/>
            <p:nvPr/>
          </p:nvGraphicFramePr>
          <p:xfrm>
            <a:off x="4365720" y="5421240"/>
            <a:ext cx="769680" cy="5112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64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365720" y="5421240"/>
                      <a:ext cx="769680" cy="51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5" name=""/>
            <p:cNvSpPr/>
            <p:nvPr/>
          </p:nvSpPr>
          <p:spPr>
            <a:xfrm>
              <a:off x="5357880" y="5410080"/>
              <a:ext cx="1396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Arial Rounded MT Bold"/>
                </a:rPr>
                <a:t>x + 7  dB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6659640" y="3728880"/>
            <a:ext cx="2150640" cy="2225880"/>
            <a:chOff x="6659640" y="3728880"/>
            <a:chExt cx="2150640" cy="2225880"/>
          </a:xfrm>
        </p:grpSpPr>
        <p:sp>
          <p:nvSpPr>
            <p:cNvPr id="167" name=""/>
            <p:cNvSpPr/>
            <p:nvPr/>
          </p:nvSpPr>
          <p:spPr>
            <a:xfrm>
              <a:off x="6659640" y="3728880"/>
              <a:ext cx="743040" cy="22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0" spc="-1" strike="noStrike">
                  <a:solidFill>
                    <a:srgbClr val="ffffcc"/>
                  </a:solidFill>
                  <a:latin typeface="Symbol"/>
                  <a:ea typeface="Symbol"/>
                </a:rPr>
                <a:t></a:t>
              </a:r>
              <a:endParaRPr b="0" lang="en-US" sz="1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493040" y="4724280"/>
              <a:ext cx="1317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Arial Rounded MT Bold"/>
                </a:rPr>
                <a:t>x + 9 dB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615000" y="5869080"/>
            <a:ext cx="3159000" cy="1977120"/>
            <a:chOff x="6615000" y="5869080"/>
            <a:chExt cx="3159000" cy="1977120"/>
          </a:xfrm>
        </p:grpSpPr>
        <p:sp>
          <p:nvSpPr>
            <p:cNvPr id="170" name=""/>
            <p:cNvSpPr/>
            <p:nvPr/>
          </p:nvSpPr>
          <p:spPr>
            <a:xfrm>
              <a:off x="6615000" y="6450120"/>
              <a:ext cx="1009440" cy="81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8"/>
                  </a:moveTo>
                  <a:arcTo wR="10800" hR="10800" stAng="-10786650" swAng="107733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8"/>
                  </a:moveTo>
                  <a:arcTo wR="10800" hR="10800" stAng="-10786650" swAng="10773300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075440" y="6227640"/>
              <a:ext cx="718920" cy="126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92"/>
                  </a:moveTo>
                  <a:arcTo wR="10800" hR="10800" stAng="-10765484" swAng="107306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92"/>
                  </a:moveTo>
                  <a:arcTo wR="10800" hR="10800" stAng="-10765484" swAng="10730661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67480" y="6021360"/>
              <a:ext cx="10616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0"/>
                  </a:moveTo>
                  <a:arcTo wR="10800" hR="10800" stAng="-10793492" swAng="10786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0"/>
                  </a:moveTo>
                  <a:arcTo wR="10800" hR="10800" stAng="-10793492" swAng="10786966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53560" y="6010200"/>
              <a:ext cx="864720" cy="167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978" swAng="10773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978" swAng="10773859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513640" y="5869080"/>
              <a:ext cx="1260360" cy="197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445" swAng="537244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445" swAng="5372445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81960" y="6553080"/>
              <a:ext cx="2460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mbiente consultor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55560" y="29052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ESCALA DE FRECUENCI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1401840"/>
            <a:ext cx="76960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6699"/>
                </a:solidFill>
                <a:latin typeface="Arial"/>
              </a:rPr>
              <a:t>FRECUENCIA f :</a:t>
            </a:r>
            <a:r>
              <a:rPr b="0" lang="es-ES_tradnl" sz="1800" spc="-1" strike="noStrike">
                <a:solidFill>
                  <a:srgbClr val="ff66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Es el número de variaciones de la presión acústica por 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     segundo. Se mide en Hz (Hertz) y se gráfica en forma 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     logarítmica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82520" y="2606760"/>
            <a:ext cx="8913960" cy="907920"/>
            <a:chOff x="182520" y="2606760"/>
            <a:chExt cx="8913960" cy="907920"/>
          </a:xfrm>
        </p:grpSpPr>
        <p:sp>
          <p:nvSpPr>
            <p:cNvPr id="179" name=""/>
            <p:cNvSpPr/>
            <p:nvPr/>
          </p:nvSpPr>
          <p:spPr>
            <a:xfrm>
              <a:off x="487440" y="3070080"/>
              <a:ext cx="8153280" cy="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30440" y="2992320"/>
              <a:ext cx="0" cy="155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497720" y="2992320"/>
              <a:ext cx="0" cy="155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11520" y="2992320"/>
              <a:ext cx="0" cy="155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92600" y="2992320"/>
              <a:ext cx="0" cy="155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01840" y="2606760"/>
              <a:ext cx="609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06600" y="2606760"/>
              <a:ext cx="609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Arial"/>
                </a:rPr>
                <a:t>2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11720" y="2606760"/>
              <a:ext cx="838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116840" y="2606760"/>
              <a:ext cx="1066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Arial"/>
                </a:rPr>
                <a:t>200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59840" y="2606760"/>
              <a:ext cx="609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800" spc="-1" strike="noStrike">
                  <a:solidFill>
                    <a:srgbClr val="ffffcc"/>
                  </a:solidFill>
                  <a:latin typeface="Arial"/>
                </a:rPr>
                <a:t>Hz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2520" y="3147840"/>
              <a:ext cx="1600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Infrasonid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316240" y="3147840"/>
              <a:ext cx="1066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Grav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130640" y="3147840"/>
              <a:ext cx="1066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Medi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49800" y="3147840"/>
              <a:ext cx="1143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Agud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496280" y="3147840"/>
              <a:ext cx="1600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Ultrasonid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615000" y="5869080"/>
            <a:ext cx="3159000" cy="1977120"/>
            <a:chOff x="6615000" y="5869080"/>
            <a:chExt cx="3159000" cy="1977120"/>
          </a:xfrm>
        </p:grpSpPr>
        <p:sp>
          <p:nvSpPr>
            <p:cNvPr id="195" name=""/>
            <p:cNvSpPr/>
            <p:nvPr/>
          </p:nvSpPr>
          <p:spPr>
            <a:xfrm>
              <a:off x="6615000" y="6450120"/>
              <a:ext cx="1009440" cy="81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8"/>
                  </a:moveTo>
                  <a:arcTo wR="10800" hR="10800" stAng="-10786650" swAng="107733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8"/>
                  </a:moveTo>
                  <a:arcTo wR="10800" hR="10800" stAng="-10786650" swAng="10773300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75440" y="6227640"/>
              <a:ext cx="718920" cy="126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92"/>
                  </a:moveTo>
                  <a:arcTo wR="10800" hR="10800" stAng="-10765484" swAng="107306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92"/>
                  </a:moveTo>
                  <a:arcTo wR="10800" hR="10800" stAng="-10765484" swAng="10730661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467480" y="6021360"/>
              <a:ext cx="10616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0"/>
                  </a:moveTo>
                  <a:arcTo wR="10800" hR="10800" stAng="-10793492" swAng="10786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0"/>
                  </a:moveTo>
                  <a:arcTo wR="10800" hR="10800" stAng="-10793492" swAng="10786966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053560" y="6010200"/>
              <a:ext cx="864720" cy="167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978" swAng="10773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978" swAng="10773859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513640" y="5869080"/>
              <a:ext cx="1260360" cy="197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445" swAng="537244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445" swAng="5372445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81960" y="6553080"/>
              <a:ext cx="2460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mbiente consultor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612080" y="6103800"/>
            <a:ext cx="2263680" cy="458280"/>
          </a:xfrm>
          <a:prstGeom prst="rect">
            <a:avLst/>
          </a:prstGeom>
          <a:noFill/>
          <a:ln w="1260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Arial"/>
              </a:rPr>
              <a:t>período T = 1/ 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179960" y="4421160"/>
            <a:ext cx="4051080" cy="1523880"/>
            <a:chOff x="4179960" y="4421160"/>
            <a:chExt cx="4051080" cy="1523880"/>
          </a:xfrm>
        </p:grpSpPr>
        <p:sp>
          <p:nvSpPr>
            <p:cNvPr id="203" name=""/>
            <p:cNvSpPr/>
            <p:nvPr/>
          </p:nvSpPr>
          <p:spPr>
            <a:xfrm>
              <a:off x="4251240" y="4421160"/>
              <a:ext cx="0" cy="15238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14960" y="5500800"/>
              <a:ext cx="2209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800" spc="-1" strike="noStrike">
                  <a:solidFill>
                    <a:srgbClr val="ff6699"/>
                  </a:solidFill>
                  <a:latin typeface="Arial"/>
                </a:rPr>
                <a:t>500 Hz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4179960" y="5213160"/>
              <a:ext cx="3851280" cy="46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64360" y="5229360"/>
              <a:ext cx="1066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Arial"/>
                </a:rPr>
                <a:t>Tiempo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51240" y="4421160"/>
              <a:ext cx="2271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Arial"/>
                </a:rPr>
                <a:t>Presión acústica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45120" y="4962600"/>
              <a:ext cx="27000" cy="252360"/>
            </a:xfrm>
            <a:custGeom>
              <a:avLst/>
              <a:gdLst/>
              <a:ahLst/>
              <a:rect l="l" t="t" r="r" b="b"/>
              <a:pathLst>
                <a:path w="17" h="159">
                  <a:moveTo>
                    <a:pt x="0" y="158"/>
                  </a:moveTo>
                  <a:lnTo>
                    <a:pt x="10" y="24"/>
                  </a:lnTo>
                  <a:lnTo>
                    <a:pt x="10" y="17"/>
                  </a:lnTo>
                  <a:lnTo>
                    <a:pt x="10" y="11"/>
                  </a:lnTo>
                  <a:lnTo>
                    <a:pt x="11" y="7"/>
                  </a:lnTo>
                  <a:lnTo>
                    <a:pt x="13" y="3"/>
                  </a:ln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68880" y="4962600"/>
              <a:ext cx="88920" cy="488880"/>
            </a:xfrm>
            <a:custGeom>
              <a:avLst/>
              <a:gdLst/>
              <a:ahLst/>
              <a:rect l="l" t="t" r="r" b="b"/>
              <a:pathLst>
                <a:path w="56" h="308">
                  <a:moveTo>
                    <a:pt x="0" y="0"/>
                  </a:moveTo>
                  <a:lnTo>
                    <a:pt x="2" y="1"/>
                  </a:lnTo>
                  <a:lnTo>
                    <a:pt x="5" y="7"/>
                  </a:lnTo>
                  <a:lnTo>
                    <a:pt x="5" y="14"/>
                  </a:lnTo>
                  <a:lnTo>
                    <a:pt x="6" y="25"/>
                  </a:lnTo>
                  <a:lnTo>
                    <a:pt x="18" y="283"/>
                  </a:lnTo>
                  <a:lnTo>
                    <a:pt x="19" y="297"/>
                  </a:lnTo>
                  <a:lnTo>
                    <a:pt x="20" y="301"/>
                  </a:lnTo>
                  <a:lnTo>
                    <a:pt x="22" y="306"/>
                  </a:lnTo>
                  <a:lnTo>
                    <a:pt x="25" y="307"/>
                  </a:lnTo>
                  <a:lnTo>
                    <a:pt x="27" y="304"/>
                  </a:lnTo>
                  <a:lnTo>
                    <a:pt x="29" y="297"/>
                  </a:lnTo>
                  <a:lnTo>
                    <a:pt x="49" y="23"/>
                  </a:lnTo>
                  <a:lnTo>
                    <a:pt x="50" y="17"/>
                  </a:lnTo>
                  <a:lnTo>
                    <a:pt x="51" y="11"/>
                  </a:lnTo>
                  <a:lnTo>
                    <a:pt x="51" y="7"/>
                  </a:lnTo>
                  <a:lnTo>
                    <a:pt x="53" y="1"/>
                  </a:lnTo>
                  <a:lnTo>
                    <a:pt x="55" y="1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357800" y="4962600"/>
              <a:ext cx="87120" cy="488880"/>
            </a:xfrm>
            <a:custGeom>
              <a:avLst/>
              <a:gdLst/>
              <a:ahLst/>
              <a:rect l="l" t="t" r="r" b="b"/>
              <a:pathLst>
                <a:path w="55" h="308">
                  <a:moveTo>
                    <a:pt x="0" y="2"/>
                  </a:moveTo>
                  <a:lnTo>
                    <a:pt x="1" y="3"/>
                  </a:lnTo>
                  <a:lnTo>
                    <a:pt x="3" y="8"/>
                  </a:lnTo>
                  <a:lnTo>
                    <a:pt x="3" y="15"/>
                  </a:lnTo>
                  <a:lnTo>
                    <a:pt x="4" y="26"/>
                  </a:lnTo>
                  <a:lnTo>
                    <a:pt x="16" y="283"/>
                  </a:lnTo>
                  <a:lnTo>
                    <a:pt x="18" y="297"/>
                  </a:lnTo>
                  <a:lnTo>
                    <a:pt x="18" y="301"/>
                  </a:lnTo>
                  <a:lnTo>
                    <a:pt x="21" y="306"/>
                  </a:lnTo>
                  <a:lnTo>
                    <a:pt x="23" y="307"/>
                  </a:lnTo>
                  <a:lnTo>
                    <a:pt x="26" y="304"/>
                  </a:lnTo>
                  <a:lnTo>
                    <a:pt x="27" y="297"/>
                  </a:lnTo>
                  <a:lnTo>
                    <a:pt x="48" y="24"/>
                  </a:lnTo>
                  <a:lnTo>
                    <a:pt x="48" y="17"/>
                  </a:lnTo>
                  <a:lnTo>
                    <a:pt x="49" y="11"/>
                  </a:lnTo>
                  <a:lnTo>
                    <a:pt x="50" y="7"/>
                  </a:lnTo>
                  <a:lnTo>
                    <a:pt x="52" y="3"/>
                  </a:ln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443480" y="4962600"/>
              <a:ext cx="92160" cy="488880"/>
            </a:xfrm>
            <a:custGeom>
              <a:avLst/>
              <a:gdLst/>
              <a:ahLst/>
              <a:rect l="l" t="t" r="r" b="b"/>
              <a:pathLst>
                <a:path w="58" h="308">
                  <a:moveTo>
                    <a:pt x="0" y="0"/>
                  </a:moveTo>
                  <a:lnTo>
                    <a:pt x="3" y="1"/>
                  </a:lnTo>
                  <a:lnTo>
                    <a:pt x="5" y="7"/>
                  </a:lnTo>
                  <a:lnTo>
                    <a:pt x="6" y="14"/>
                  </a:lnTo>
                  <a:lnTo>
                    <a:pt x="7" y="25"/>
                  </a:lnTo>
                  <a:lnTo>
                    <a:pt x="19" y="283"/>
                  </a:lnTo>
                  <a:lnTo>
                    <a:pt x="20" y="297"/>
                  </a:lnTo>
                  <a:lnTo>
                    <a:pt x="21" y="301"/>
                  </a:lnTo>
                  <a:lnTo>
                    <a:pt x="23" y="306"/>
                  </a:lnTo>
                  <a:lnTo>
                    <a:pt x="26" y="307"/>
                  </a:lnTo>
                  <a:lnTo>
                    <a:pt x="29" y="304"/>
                  </a:lnTo>
                  <a:lnTo>
                    <a:pt x="30" y="297"/>
                  </a:lnTo>
                  <a:lnTo>
                    <a:pt x="51" y="23"/>
                  </a:lnTo>
                  <a:lnTo>
                    <a:pt x="52" y="17"/>
                  </a:lnTo>
                  <a:lnTo>
                    <a:pt x="52" y="11"/>
                  </a:lnTo>
                  <a:lnTo>
                    <a:pt x="53" y="7"/>
                  </a:lnTo>
                  <a:lnTo>
                    <a:pt x="55" y="1"/>
                  </a:lnTo>
                  <a:lnTo>
                    <a:pt x="57" y="1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37080" y="4960800"/>
              <a:ext cx="87480" cy="489240"/>
            </a:xfrm>
            <a:custGeom>
              <a:avLst/>
              <a:gdLst/>
              <a:ahLst/>
              <a:rect l="l" t="t" r="r" b="b"/>
              <a:pathLst>
                <a:path w="55" h="308">
                  <a:moveTo>
                    <a:pt x="0" y="1"/>
                  </a:moveTo>
                  <a:lnTo>
                    <a:pt x="1" y="2"/>
                  </a:lnTo>
                  <a:lnTo>
                    <a:pt x="3" y="8"/>
                  </a:lnTo>
                  <a:lnTo>
                    <a:pt x="3" y="14"/>
                  </a:lnTo>
                  <a:lnTo>
                    <a:pt x="4" y="25"/>
                  </a:lnTo>
                  <a:lnTo>
                    <a:pt x="16" y="283"/>
                  </a:lnTo>
                  <a:lnTo>
                    <a:pt x="17" y="297"/>
                  </a:lnTo>
                  <a:lnTo>
                    <a:pt x="18" y="301"/>
                  </a:lnTo>
                  <a:lnTo>
                    <a:pt x="21" y="305"/>
                  </a:lnTo>
                  <a:lnTo>
                    <a:pt x="23" y="307"/>
                  </a:lnTo>
                  <a:lnTo>
                    <a:pt x="26" y="303"/>
                  </a:lnTo>
                  <a:lnTo>
                    <a:pt x="27" y="297"/>
                  </a:lnTo>
                  <a:lnTo>
                    <a:pt x="48" y="24"/>
                  </a:lnTo>
                  <a:lnTo>
                    <a:pt x="49" y="16"/>
                  </a:lnTo>
                  <a:lnTo>
                    <a:pt x="49" y="11"/>
                  </a:lnTo>
                  <a:lnTo>
                    <a:pt x="50" y="6"/>
                  </a:lnTo>
                  <a:lnTo>
                    <a:pt x="52" y="2"/>
                  </a:ln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22760" y="4960800"/>
              <a:ext cx="90360" cy="489240"/>
            </a:xfrm>
            <a:custGeom>
              <a:avLst/>
              <a:gdLst/>
              <a:ahLst/>
              <a:rect l="l" t="t" r="r" b="b"/>
              <a:pathLst>
                <a:path w="57" h="308">
                  <a:moveTo>
                    <a:pt x="0" y="0"/>
                  </a:moveTo>
                  <a:lnTo>
                    <a:pt x="3" y="1"/>
                  </a:lnTo>
                  <a:lnTo>
                    <a:pt x="5" y="7"/>
                  </a:lnTo>
                  <a:lnTo>
                    <a:pt x="6" y="14"/>
                  </a:lnTo>
                  <a:lnTo>
                    <a:pt x="7" y="25"/>
                  </a:lnTo>
                  <a:lnTo>
                    <a:pt x="18" y="283"/>
                  </a:lnTo>
                  <a:lnTo>
                    <a:pt x="20" y="297"/>
                  </a:lnTo>
                  <a:lnTo>
                    <a:pt x="21" y="301"/>
                  </a:lnTo>
                  <a:lnTo>
                    <a:pt x="23" y="305"/>
                  </a:lnTo>
                  <a:lnTo>
                    <a:pt x="26" y="307"/>
                  </a:lnTo>
                  <a:lnTo>
                    <a:pt x="28" y="303"/>
                  </a:lnTo>
                  <a:lnTo>
                    <a:pt x="29" y="297"/>
                  </a:lnTo>
                  <a:lnTo>
                    <a:pt x="50" y="24"/>
                  </a:lnTo>
                  <a:lnTo>
                    <a:pt x="51" y="16"/>
                  </a:lnTo>
                  <a:lnTo>
                    <a:pt x="51" y="11"/>
                  </a:lnTo>
                  <a:lnTo>
                    <a:pt x="52" y="6"/>
                  </a:lnTo>
                  <a:lnTo>
                    <a:pt x="54" y="1"/>
                  </a:lnTo>
                  <a:lnTo>
                    <a:pt x="56" y="1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14920" y="4960800"/>
              <a:ext cx="87120" cy="489240"/>
            </a:xfrm>
            <a:custGeom>
              <a:avLst/>
              <a:gdLst/>
              <a:ahLst/>
              <a:rect l="l" t="t" r="r" b="b"/>
              <a:pathLst>
                <a:path w="55" h="308">
                  <a:moveTo>
                    <a:pt x="0" y="1"/>
                  </a:moveTo>
                  <a:lnTo>
                    <a:pt x="1" y="2"/>
                  </a:lnTo>
                  <a:lnTo>
                    <a:pt x="3" y="8"/>
                  </a:lnTo>
                  <a:lnTo>
                    <a:pt x="3" y="14"/>
                  </a:lnTo>
                  <a:lnTo>
                    <a:pt x="4" y="25"/>
                  </a:lnTo>
                  <a:lnTo>
                    <a:pt x="16" y="283"/>
                  </a:lnTo>
                  <a:lnTo>
                    <a:pt x="17" y="297"/>
                  </a:lnTo>
                  <a:lnTo>
                    <a:pt x="18" y="301"/>
                  </a:lnTo>
                  <a:lnTo>
                    <a:pt x="20" y="305"/>
                  </a:lnTo>
                  <a:lnTo>
                    <a:pt x="23" y="307"/>
                  </a:lnTo>
                  <a:lnTo>
                    <a:pt x="26" y="303"/>
                  </a:lnTo>
                  <a:lnTo>
                    <a:pt x="27" y="297"/>
                  </a:lnTo>
                  <a:lnTo>
                    <a:pt x="48" y="24"/>
                  </a:lnTo>
                  <a:lnTo>
                    <a:pt x="48" y="16"/>
                  </a:lnTo>
                  <a:lnTo>
                    <a:pt x="49" y="11"/>
                  </a:lnTo>
                  <a:lnTo>
                    <a:pt x="50" y="6"/>
                  </a:lnTo>
                  <a:lnTo>
                    <a:pt x="51" y="2"/>
                  </a:ln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800600" y="4960800"/>
              <a:ext cx="90360" cy="489240"/>
            </a:xfrm>
            <a:custGeom>
              <a:avLst/>
              <a:gdLst/>
              <a:ahLst/>
              <a:rect l="l" t="t" r="r" b="b"/>
              <a:pathLst>
                <a:path w="57" h="308">
                  <a:moveTo>
                    <a:pt x="0" y="0"/>
                  </a:moveTo>
                  <a:lnTo>
                    <a:pt x="2" y="1"/>
                  </a:lnTo>
                  <a:lnTo>
                    <a:pt x="5" y="7"/>
                  </a:lnTo>
                  <a:lnTo>
                    <a:pt x="5" y="14"/>
                  </a:lnTo>
                  <a:lnTo>
                    <a:pt x="7" y="25"/>
                  </a:lnTo>
                  <a:lnTo>
                    <a:pt x="18" y="283"/>
                  </a:lnTo>
                  <a:lnTo>
                    <a:pt x="20" y="297"/>
                  </a:lnTo>
                  <a:lnTo>
                    <a:pt x="20" y="301"/>
                  </a:lnTo>
                  <a:lnTo>
                    <a:pt x="23" y="305"/>
                  </a:lnTo>
                  <a:lnTo>
                    <a:pt x="25" y="307"/>
                  </a:lnTo>
                  <a:lnTo>
                    <a:pt x="28" y="303"/>
                  </a:lnTo>
                  <a:lnTo>
                    <a:pt x="29" y="297"/>
                  </a:lnTo>
                  <a:lnTo>
                    <a:pt x="50" y="24"/>
                  </a:lnTo>
                  <a:lnTo>
                    <a:pt x="50" y="16"/>
                  </a:lnTo>
                  <a:lnTo>
                    <a:pt x="51" y="11"/>
                  </a:lnTo>
                  <a:lnTo>
                    <a:pt x="52" y="6"/>
                  </a:lnTo>
                  <a:lnTo>
                    <a:pt x="54" y="1"/>
                  </a:lnTo>
                  <a:lnTo>
                    <a:pt x="56" y="1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92760" y="4957920"/>
              <a:ext cx="87120" cy="490320"/>
            </a:xfrm>
            <a:custGeom>
              <a:avLst/>
              <a:gdLst/>
              <a:ahLst/>
              <a:rect l="l" t="t" r="r" b="b"/>
              <a:pathLst>
                <a:path w="55" h="309">
                  <a:moveTo>
                    <a:pt x="0" y="2"/>
                  </a:moveTo>
                  <a:lnTo>
                    <a:pt x="1" y="3"/>
                  </a:lnTo>
                  <a:lnTo>
                    <a:pt x="3" y="8"/>
                  </a:lnTo>
                  <a:lnTo>
                    <a:pt x="3" y="14"/>
                  </a:lnTo>
                  <a:lnTo>
                    <a:pt x="4" y="26"/>
                  </a:lnTo>
                  <a:lnTo>
                    <a:pt x="16" y="283"/>
                  </a:lnTo>
                  <a:lnTo>
                    <a:pt x="18" y="297"/>
                  </a:lnTo>
                  <a:lnTo>
                    <a:pt x="18" y="302"/>
                  </a:lnTo>
                  <a:lnTo>
                    <a:pt x="21" y="306"/>
                  </a:lnTo>
                  <a:lnTo>
                    <a:pt x="23" y="308"/>
                  </a:lnTo>
                  <a:lnTo>
                    <a:pt x="26" y="304"/>
                  </a:lnTo>
                  <a:lnTo>
                    <a:pt x="27" y="297"/>
                  </a:lnTo>
                  <a:lnTo>
                    <a:pt x="48" y="24"/>
                  </a:lnTo>
                  <a:lnTo>
                    <a:pt x="48" y="17"/>
                  </a:lnTo>
                  <a:lnTo>
                    <a:pt x="49" y="11"/>
                  </a:lnTo>
                  <a:lnTo>
                    <a:pt x="50" y="6"/>
                  </a:lnTo>
                  <a:lnTo>
                    <a:pt x="52" y="3"/>
                  </a:ln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978440" y="4957920"/>
              <a:ext cx="90360" cy="490320"/>
            </a:xfrm>
            <a:custGeom>
              <a:avLst/>
              <a:gdLst/>
              <a:ahLst/>
              <a:rect l="l" t="t" r="r" b="b"/>
              <a:pathLst>
                <a:path w="57" h="309">
                  <a:moveTo>
                    <a:pt x="0" y="0"/>
                  </a:moveTo>
                  <a:lnTo>
                    <a:pt x="3" y="2"/>
                  </a:lnTo>
                  <a:lnTo>
                    <a:pt x="5" y="7"/>
                  </a:lnTo>
                  <a:lnTo>
                    <a:pt x="5" y="14"/>
                  </a:lnTo>
                  <a:lnTo>
                    <a:pt x="7" y="26"/>
                  </a:lnTo>
                  <a:lnTo>
                    <a:pt x="18" y="283"/>
                  </a:lnTo>
                  <a:lnTo>
                    <a:pt x="20" y="297"/>
                  </a:lnTo>
                  <a:lnTo>
                    <a:pt x="21" y="302"/>
                  </a:lnTo>
                  <a:lnTo>
                    <a:pt x="23" y="306"/>
                  </a:lnTo>
                  <a:lnTo>
                    <a:pt x="25" y="308"/>
                  </a:lnTo>
                  <a:lnTo>
                    <a:pt x="28" y="304"/>
                  </a:lnTo>
                  <a:lnTo>
                    <a:pt x="29" y="297"/>
                  </a:lnTo>
                  <a:lnTo>
                    <a:pt x="50" y="24"/>
                  </a:lnTo>
                  <a:lnTo>
                    <a:pt x="51" y="17"/>
                  </a:lnTo>
                  <a:lnTo>
                    <a:pt x="52" y="11"/>
                  </a:lnTo>
                  <a:lnTo>
                    <a:pt x="52" y="6"/>
                  </a:lnTo>
                  <a:lnTo>
                    <a:pt x="54" y="2"/>
                  </a:lnTo>
                  <a:lnTo>
                    <a:pt x="56" y="1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68800" y="4957920"/>
              <a:ext cx="88920" cy="490320"/>
            </a:xfrm>
            <a:custGeom>
              <a:avLst/>
              <a:gdLst/>
              <a:ahLst/>
              <a:rect l="l" t="t" r="r" b="b"/>
              <a:pathLst>
                <a:path w="56" h="309">
                  <a:moveTo>
                    <a:pt x="0" y="2"/>
                  </a:moveTo>
                  <a:lnTo>
                    <a:pt x="1" y="3"/>
                  </a:lnTo>
                  <a:lnTo>
                    <a:pt x="3" y="8"/>
                  </a:lnTo>
                  <a:lnTo>
                    <a:pt x="4" y="14"/>
                  </a:lnTo>
                  <a:lnTo>
                    <a:pt x="5" y="26"/>
                  </a:lnTo>
                  <a:lnTo>
                    <a:pt x="17" y="283"/>
                  </a:lnTo>
                  <a:lnTo>
                    <a:pt x="18" y="297"/>
                  </a:lnTo>
                  <a:lnTo>
                    <a:pt x="19" y="302"/>
                  </a:lnTo>
                  <a:lnTo>
                    <a:pt x="21" y="306"/>
                  </a:lnTo>
                  <a:lnTo>
                    <a:pt x="24" y="308"/>
                  </a:lnTo>
                  <a:lnTo>
                    <a:pt x="26" y="304"/>
                  </a:lnTo>
                  <a:lnTo>
                    <a:pt x="28" y="297"/>
                  </a:lnTo>
                  <a:lnTo>
                    <a:pt x="49" y="24"/>
                  </a:lnTo>
                  <a:lnTo>
                    <a:pt x="49" y="17"/>
                  </a:lnTo>
                  <a:lnTo>
                    <a:pt x="50" y="11"/>
                  </a:lnTo>
                  <a:lnTo>
                    <a:pt x="51" y="6"/>
                  </a:lnTo>
                  <a:lnTo>
                    <a:pt x="52" y="3"/>
                  </a:lnTo>
                  <a:lnTo>
                    <a:pt x="55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156280" y="4957920"/>
              <a:ext cx="60120" cy="490320"/>
            </a:xfrm>
            <a:custGeom>
              <a:avLst/>
              <a:gdLst/>
              <a:ahLst/>
              <a:rect l="l" t="t" r="r" b="b"/>
              <a:pathLst>
                <a:path w="38" h="309">
                  <a:moveTo>
                    <a:pt x="0" y="0"/>
                  </a:moveTo>
                  <a:lnTo>
                    <a:pt x="3" y="2"/>
                  </a:lnTo>
                  <a:lnTo>
                    <a:pt x="5" y="7"/>
                  </a:lnTo>
                  <a:lnTo>
                    <a:pt x="5" y="14"/>
                  </a:lnTo>
                  <a:lnTo>
                    <a:pt x="6" y="26"/>
                  </a:lnTo>
                  <a:lnTo>
                    <a:pt x="18" y="283"/>
                  </a:lnTo>
                  <a:lnTo>
                    <a:pt x="19" y="297"/>
                  </a:lnTo>
                  <a:lnTo>
                    <a:pt x="20" y="302"/>
                  </a:lnTo>
                  <a:lnTo>
                    <a:pt x="22" y="306"/>
                  </a:lnTo>
                  <a:lnTo>
                    <a:pt x="24" y="308"/>
                  </a:lnTo>
                  <a:lnTo>
                    <a:pt x="27" y="304"/>
                  </a:lnTo>
                  <a:lnTo>
                    <a:pt x="29" y="297"/>
                  </a:lnTo>
                  <a:lnTo>
                    <a:pt x="37" y="165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214960" y="4962600"/>
              <a:ext cx="27000" cy="252360"/>
            </a:xfrm>
            <a:custGeom>
              <a:avLst/>
              <a:gdLst/>
              <a:ahLst/>
              <a:rect l="l" t="t" r="r" b="b"/>
              <a:pathLst>
                <a:path w="17" h="159">
                  <a:moveTo>
                    <a:pt x="0" y="158"/>
                  </a:moveTo>
                  <a:lnTo>
                    <a:pt x="10" y="24"/>
                  </a:lnTo>
                  <a:lnTo>
                    <a:pt x="10" y="17"/>
                  </a:lnTo>
                  <a:lnTo>
                    <a:pt x="10" y="11"/>
                  </a:lnTo>
                  <a:lnTo>
                    <a:pt x="11" y="7"/>
                  </a:lnTo>
                  <a:lnTo>
                    <a:pt x="13" y="3"/>
                  </a:ln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38720" y="4962600"/>
              <a:ext cx="88920" cy="488880"/>
            </a:xfrm>
            <a:custGeom>
              <a:avLst/>
              <a:gdLst/>
              <a:ahLst/>
              <a:rect l="l" t="t" r="r" b="b"/>
              <a:pathLst>
                <a:path w="56" h="308">
                  <a:moveTo>
                    <a:pt x="0" y="0"/>
                  </a:moveTo>
                  <a:lnTo>
                    <a:pt x="2" y="1"/>
                  </a:lnTo>
                  <a:lnTo>
                    <a:pt x="5" y="7"/>
                  </a:lnTo>
                  <a:lnTo>
                    <a:pt x="5" y="14"/>
                  </a:lnTo>
                  <a:lnTo>
                    <a:pt x="6" y="25"/>
                  </a:lnTo>
                  <a:lnTo>
                    <a:pt x="18" y="283"/>
                  </a:lnTo>
                  <a:lnTo>
                    <a:pt x="19" y="297"/>
                  </a:lnTo>
                  <a:lnTo>
                    <a:pt x="20" y="301"/>
                  </a:lnTo>
                  <a:lnTo>
                    <a:pt x="22" y="306"/>
                  </a:lnTo>
                  <a:lnTo>
                    <a:pt x="25" y="307"/>
                  </a:lnTo>
                  <a:lnTo>
                    <a:pt x="27" y="304"/>
                  </a:lnTo>
                  <a:lnTo>
                    <a:pt x="29" y="297"/>
                  </a:lnTo>
                  <a:lnTo>
                    <a:pt x="49" y="23"/>
                  </a:lnTo>
                  <a:lnTo>
                    <a:pt x="50" y="17"/>
                  </a:lnTo>
                  <a:lnTo>
                    <a:pt x="51" y="11"/>
                  </a:lnTo>
                  <a:lnTo>
                    <a:pt x="51" y="7"/>
                  </a:lnTo>
                  <a:lnTo>
                    <a:pt x="53" y="1"/>
                  </a:lnTo>
                  <a:lnTo>
                    <a:pt x="55" y="1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29080" y="4962600"/>
              <a:ext cx="87480" cy="488880"/>
            </a:xfrm>
            <a:custGeom>
              <a:avLst/>
              <a:gdLst/>
              <a:ahLst/>
              <a:rect l="l" t="t" r="r" b="b"/>
              <a:pathLst>
                <a:path w="55" h="308">
                  <a:moveTo>
                    <a:pt x="0" y="2"/>
                  </a:moveTo>
                  <a:lnTo>
                    <a:pt x="1" y="3"/>
                  </a:lnTo>
                  <a:lnTo>
                    <a:pt x="3" y="8"/>
                  </a:lnTo>
                  <a:lnTo>
                    <a:pt x="3" y="15"/>
                  </a:lnTo>
                  <a:lnTo>
                    <a:pt x="4" y="26"/>
                  </a:lnTo>
                  <a:lnTo>
                    <a:pt x="16" y="283"/>
                  </a:lnTo>
                  <a:lnTo>
                    <a:pt x="18" y="297"/>
                  </a:lnTo>
                  <a:lnTo>
                    <a:pt x="18" y="301"/>
                  </a:lnTo>
                  <a:lnTo>
                    <a:pt x="21" y="306"/>
                  </a:lnTo>
                  <a:lnTo>
                    <a:pt x="23" y="307"/>
                  </a:lnTo>
                  <a:lnTo>
                    <a:pt x="26" y="304"/>
                  </a:lnTo>
                  <a:lnTo>
                    <a:pt x="27" y="297"/>
                  </a:lnTo>
                  <a:lnTo>
                    <a:pt x="48" y="24"/>
                  </a:lnTo>
                  <a:lnTo>
                    <a:pt x="48" y="17"/>
                  </a:lnTo>
                  <a:lnTo>
                    <a:pt x="49" y="11"/>
                  </a:lnTo>
                  <a:lnTo>
                    <a:pt x="50" y="7"/>
                  </a:lnTo>
                  <a:lnTo>
                    <a:pt x="52" y="3"/>
                  </a:ln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15120" y="4962600"/>
              <a:ext cx="88920" cy="488880"/>
            </a:xfrm>
            <a:custGeom>
              <a:avLst/>
              <a:gdLst/>
              <a:ahLst/>
              <a:rect l="l" t="t" r="r" b="b"/>
              <a:pathLst>
                <a:path w="56" h="308">
                  <a:moveTo>
                    <a:pt x="0" y="0"/>
                  </a:moveTo>
                  <a:lnTo>
                    <a:pt x="3" y="1"/>
                  </a:lnTo>
                  <a:lnTo>
                    <a:pt x="5" y="7"/>
                  </a:lnTo>
                  <a:lnTo>
                    <a:pt x="6" y="14"/>
                  </a:lnTo>
                  <a:lnTo>
                    <a:pt x="7" y="25"/>
                  </a:lnTo>
                  <a:lnTo>
                    <a:pt x="18" y="283"/>
                  </a:lnTo>
                  <a:lnTo>
                    <a:pt x="19" y="297"/>
                  </a:lnTo>
                  <a:lnTo>
                    <a:pt x="21" y="301"/>
                  </a:lnTo>
                  <a:lnTo>
                    <a:pt x="23" y="306"/>
                  </a:lnTo>
                  <a:lnTo>
                    <a:pt x="25" y="307"/>
                  </a:lnTo>
                  <a:lnTo>
                    <a:pt x="28" y="304"/>
                  </a:lnTo>
                  <a:lnTo>
                    <a:pt x="29" y="297"/>
                  </a:lnTo>
                  <a:lnTo>
                    <a:pt x="49" y="23"/>
                  </a:lnTo>
                  <a:lnTo>
                    <a:pt x="50" y="17"/>
                  </a:lnTo>
                  <a:lnTo>
                    <a:pt x="50" y="11"/>
                  </a:lnTo>
                  <a:lnTo>
                    <a:pt x="51" y="7"/>
                  </a:lnTo>
                  <a:lnTo>
                    <a:pt x="53" y="1"/>
                  </a:lnTo>
                  <a:lnTo>
                    <a:pt x="55" y="1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508720" y="4960800"/>
              <a:ext cx="87120" cy="489240"/>
            </a:xfrm>
            <a:custGeom>
              <a:avLst/>
              <a:gdLst/>
              <a:ahLst/>
              <a:rect l="l" t="t" r="r" b="b"/>
              <a:pathLst>
                <a:path w="55" h="308">
                  <a:moveTo>
                    <a:pt x="0" y="1"/>
                  </a:moveTo>
                  <a:lnTo>
                    <a:pt x="1" y="2"/>
                  </a:lnTo>
                  <a:lnTo>
                    <a:pt x="3" y="8"/>
                  </a:lnTo>
                  <a:lnTo>
                    <a:pt x="3" y="14"/>
                  </a:lnTo>
                  <a:lnTo>
                    <a:pt x="4" y="25"/>
                  </a:lnTo>
                  <a:lnTo>
                    <a:pt x="16" y="283"/>
                  </a:lnTo>
                  <a:lnTo>
                    <a:pt x="17" y="297"/>
                  </a:lnTo>
                  <a:lnTo>
                    <a:pt x="18" y="301"/>
                  </a:lnTo>
                  <a:lnTo>
                    <a:pt x="21" y="305"/>
                  </a:lnTo>
                  <a:lnTo>
                    <a:pt x="23" y="307"/>
                  </a:lnTo>
                  <a:lnTo>
                    <a:pt x="26" y="303"/>
                  </a:lnTo>
                  <a:lnTo>
                    <a:pt x="27" y="297"/>
                  </a:lnTo>
                  <a:lnTo>
                    <a:pt x="48" y="24"/>
                  </a:lnTo>
                  <a:lnTo>
                    <a:pt x="49" y="16"/>
                  </a:lnTo>
                  <a:lnTo>
                    <a:pt x="49" y="11"/>
                  </a:lnTo>
                  <a:lnTo>
                    <a:pt x="50" y="6"/>
                  </a:lnTo>
                  <a:lnTo>
                    <a:pt x="52" y="2"/>
                  </a:ln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94400" y="4960800"/>
              <a:ext cx="88920" cy="489240"/>
            </a:xfrm>
            <a:custGeom>
              <a:avLst/>
              <a:gdLst/>
              <a:ahLst/>
              <a:rect l="l" t="t" r="r" b="b"/>
              <a:pathLst>
                <a:path w="56" h="308">
                  <a:moveTo>
                    <a:pt x="0" y="0"/>
                  </a:moveTo>
                  <a:lnTo>
                    <a:pt x="3" y="1"/>
                  </a:lnTo>
                  <a:lnTo>
                    <a:pt x="5" y="7"/>
                  </a:lnTo>
                  <a:lnTo>
                    <a:pt x="6" y="14"/>
                  </a:lnTo>
                  <a:lnTo>
                    <a:pt x="7" y="25"/>
                  </a:lnTo>
                  <a:lnTo>
                    <a:pt x="18" y="283"/>
                  </a:lnTo>
                  <a:lnTo>
                    <a:pt x="19" y="297"/>
                  </a:lnTo>
                  <a:lnTo>
                    <a:pt x="21" y="301"/>
                  </a:lnTo>
                  <a:lnTo>
                    <a:pt x="23" y="305"/>
                  </a:lnTo>
                  <a:lnTo>
                    <a:pt x="25" y="307"/>
                  </a:lnTo>
                  <a:lnTo>
                    <a:pt x="28" y="303"/>
                  </a:lnTo>
                  <a:lnTo>
                    <a:pt x="29" y="297"/>
                  </a:lnTo>
                  <a:lnTo>
                    <a:pt x="49" y="24"/>
                  </a:lnTo>
                  <a:lnTo>
                    <a:pt x="50" y="16"/>
                  </a:lnTo>
                  <a:lnTo>
                    <a:pt x="50" y="11"/>
                  </a:lnTo>
                  <a:lnTo>
                    <a:pt x="51" y="6"/>
                  </a:lnTo>
                  <a:lnTo>
                    <a:pt x="53" y="1"/>
                  </a:lnTo>
                  <a:lnTo>
                    <a:pt x="55" y="1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84760" y="4960800"/>
              <a:ext cx="87480" cy="489240"/>
            </a:xfrm>
            <a:custGeom>
              <a:avLst/>
              <a:gdLst/>
              <a:ahLst/>
              <a:rect l="l" t="t" r="r" b="b"/>
              <a:pathLst>
                <a:path w="55" h="308">
                  <a:moveTo>
                    <a:pt x="0" y="1"/>
                  </a:moveTo>
                  <a:lnTo>
                    <a:pt x="1" y="2"/>
                  </a:lnTo>
                  <a:lnTo>
                    <a:pt x="3" y="8"/>
                  </a:lnTo>
                  <a:lnTo>
                    <a:pt x="3" y="14"/>
                  </a:lnTo>
                  <a:lnTo>
                    <a:pt x="4" y="25"/>
                  </a:lnTo>
                  <a:lnTo>
                    <a:pt x="16" y="283"/>
                  </a:lnTo>
                  <a:lnTo>
                    <a:pt x="17" y="297"/>
                  </a:lnTo>
                  <a:lnTo>
                    <a:pt x="18" y="301"/>
                  </a:lnTo>
                  <a:lnTo>
                    <a:pt x="20" y="305"/>
                  </a:lnTo>
                  <a:lnTo>
                    <a:pt x="23" y="307"/>
                  </a:lnTo>
                  <a:lnTo>
                    <a:pt x="26" y="303"/>
                  </a:lnTo>
                  <a:lnTo>
                    <a:pt x="27" y="297"/>
                  </a:lnTo>
                  <a:lnTo>
                    <a:pt x="48" y="24"/>
                  </a:lnTo>
                  <a:lnTo>
                    <a:pt x="48" y="16"/>
                  </a:lnTo>
                  <a:lnTo>
                    <a:pt x="49" y="11"/>
                  </a:lnTo>
                  <a:lnTo>
                    <a:pt x="50" y="6"/>
                  </a:lnTo>
                  <a:lnTo>
                    <a:pt x="51" y="2"/>
                  </a:ln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70440" y="4960800"/>
              <a:ext cx="88920" cy="489240"/>
            </a:xfrm>
            <a:custGeom>
              <a:avLst/>
              <a:gdLst/>
              <a:ahLst/>
              <a:rect l="l" t="t" r="r" b="b"/>
              <a:pathLst>
                <a:path w="56" h="308">
                  <a:moveTo>
                    <a:pt x="0" y="0"/>
                  </a:moveTo>
                  <a:lnTo>
                    <a:pt x="2" y="1"/>
                  </a:lnTo>
                  <a:lnTo>
                    <a:pt x="5" y="7"/>
                  </a:lnTo>
                  <a:lnTo>
                    <a:pt x="5" y="14"/>
                  </a:lnTo>
                  <a:lnTo>
                    <a:pt x="7" y="25"/>
                  </a:lnTo>
                  <a:lnTo>
                    <a:pt x="18" y="283"/>
                  </a:lnTo>
                  <a:lnTo>
                    <a:pt x="19" y="297"/>
                  </a:lnTo>
                  <a:lnTo>
                    <a:pt x="20" y="301"/>
                  </a:lnTo>
                  <a:lnTo>
                    <a:pt x="23" y="305"/>
                  </a:lnTo>
                  <a:lnTo>
                    <a:pt x="24" y="307"/>
                  </a:lnTo>
                  <a:lnTo>
                    <a:pt x="27" y="303"/>
                  </a:lnTo>
                  <a:lnTo>
                    <a:pt x="29" y="297"/>
                  </a:lnTo>
                  <a:lnTo>
                    <a:pt x="49" y="24"/>
                  </a:lnTo>
                  <a:lnTo>
                    <a:pt x="49" y="16"/>
                  </a:lnTo>
                  <a:lnTo>
                    <a:pt x="50" y="11"/>
                  </a:lnTo>
                  <a:lnTo>
                    <a:pt x="51" y="6"/>
                  </a:lnTo>
                  <a:lnTo>
                    <a:pt x="53" y="1"/>
                  </a:lnTo>
                  <a:lnTo>
                    <a:pt x="55" y="1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862600" y="4957920"/>
              <a:ext cx="87480" cy="490320"/>
            </a:xfrm>
            <a:custGeom>
              <a:avLst/>
              <a:gdLst/>
              <a:ahLst/>
              <a:rect l="l" t="t" r="r" b="b"/>
              <a:pathLst>
                <a:path w="55" h="309">
                  <a:moveTo>
                    <a:pt x="0" y="2"/>
                  </a:moveTo>
                  <a:lnTo>
                    <a:pt x="1" y="3"/>
                  </a:lnTo>
                  <a:lnTo>
                    <a:pt x="3" y="8"/>
                  </a:lnTo>
                  <a:lnTo>
                    <a:pt x="3" y="14"/>
                  </a:lnTo>
                  <a:lnTo>
                    <a:pt x="4" y="26"/>
                  </a:lnTo>
                  <a:lnTo>
                    <a:pt x="16" y="283"/>
                  </a:lnTo>
                  <a:lnTo>
                    <a:pt x="18" y="297"/>
                  </a:lnTo>
                  <a:lnTo>
                    <a:pt x="18" y="302"/>
                  </a:lnTo>
                  <a:lnTo>
                    <a:pt x="21" y="306"/>
                  </a:lnTo>
                  <a:lnTo>
                    <a:pt x="23" y="308"/>
                  </a:lnTo>
                  <a:lnTo>
                    <a:pt x="26" y="304"/>
                  </a:lnTo>
                  <a:lnTo>
                    <a:pt x="27" y="297"/>
                  </a:lnTo>
                  <a:lnTo>
                    <a:pt x="48" y="24"/>
                  </a:lnTo>
                  <a:lnTo>
                    <a:pt x="48" y="17"/>
                  </a:lnTo>
                  <a:lnTo>
                    <a:pt x="49" y="11"/>
                  </a:lnTo>
                  <a:lnTo>
                    <a:pt x="50" y="6"/>
                  </a:lnTo>
                  <a:lnTo>
                    <a:pt x="52" y="3"/>
                  </a:ln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948280" y="4957920"/>
              <a:ext cx="90720" cy="490320"/>
            </a:xfrm>
            <a:custGeom>
              <a:avLst/>
              <a:gdLst/>
              <a:ahLst/>
              <a:rect l="l" t="t" r="r" b="b"/>
              <a:pathLst>
                <a:path w="57" h="309">
                  <a:moveTo>
                    <a:pt x="0" y="0"/>
                  </a:moveTo>
                  <a:lnTo>
                    <a:pt x="3" y="2"/>
                  </a:lnTo>
                  <a:lnTo>
                    <a:pt x="5" y="7"/>
                  </a:lnTo>
                  <a:lnTo>
                    <a:pt x="5" y="14"/>
                  </a:lnTo>
                  <a:lnTo>
                    <a:pt x="7" y="26"/>
                  </a:lnTo>
                  <a:lnTo>
                    <a:pt x="18" y="283"/>
                  </a:lnTo>
                  <a:lnTo>
                    <a:pt x="20" y="297"/>
                  </a:lnTo>
                  <a:lnTo>
                    <a:pt x="21" y="302"/>
                  </a:lnTo>
                  <a:lnTo>
                    <a:pt x="23" y="306"/>
                  </a:lnTo>
                  <a:lnTo>
                    <a:pt x="25" y="308"/>
                  </a:lnTo>
                  <a:lnTo>
                    <a:pt x="28" y="304"/>
                  </a:lnTo>
                  <a:lnTo>
                    <a:pt x="29" y="297"/>
                  </a:lnTo>
                  <a:lnTo>
                    <a:pt x="50" y="24"/>
                  </a:lnTo>
                  <a:lnTo>
                    <a:pt x="51" y="17"/>
                  </a:lnTo>
                  <a:lnTo>
                    <a:pt x="52" y="11"/>
                  </a:lnTo>
                  <a:lnTo>
                    <a:pt x="52" y="6"/>
                  </a:lnTo>
                  <a:lnTo>
                    <a:pt x="54" y="2"/>
                  </a:lnTo>
                  <a:lnTo>
                    <a:pt x="56" y="1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39000" y="4957920"/>
              <a:ext cx="88920" cy="490320"/>
            </a:xfrm>
            <a:custGeom>
              <a:avLst/>
              <a:gdLst/>
              <a:ahLst/>
              <a:rect l="l" t="t" r="r" b="b"/>
              <a:pathLst>
                <a:path w="56" h="309">
                  <a:moveTo>
                    <a:pt x="0" y="2"/>
                  </a:moveTo>
                  <a:lnTo>
                    <a:pt x="1" y="3"/>
                  </a:lnTo>
                  <a:lnTo>
                    <a:pt x="3" y="8"/>
                  </a:lnTo>
                  <a:lnTo>
                    <a:pt x="4" y="14"/>
                  </a:lnTo>
                  <a:lnTo>
                    <a:pt x="5" y="26"/>
                  </a:lnTo>
                  <a:lnTo>
                    <a:pt x="17" y="283"/>
                  </a:lnTo>
                  <a:lnTo>
                    <a:pt x="18" y="297"/>
                  </a:lnTo>
                  <a:lnTo>
                    <a:pt x="19" y="302"/>
                  </a:lnTo>
                  <a:lnTo>
                    <a:pt x="21" y="306"/>
                  </a:lnTo>
                  <a:lnTo>
                    <a:pt x="24" y="308"/>
                  </a:lnTo>
                  <a:lnTo>
                    <a:pt x="26" y="304"/>
                  </a:lnTo>
                  <a:lnTo>
                    <a:pt x="28" y="297"/>
                  </a:lnTo>
                  <a:lnTo>
                    <a:pt x="49" y="24"/>
                  </a:lnTo>
                  <a:lnTo>
                    <a:pt x="49" y="17"/>
                  </a:lnTo>
                  <a:lnTo>
                    <a:pt x="50" y="11"/>
                  </a:lnTo>
                  <a:lnTo>
                    <a:pt x="51" y="6"/>
                  </a:lnTo>
                  <a:lnTo>
                    <a:pt x="52" y="3"/>
                  </a:lnTo>
                  <a:lnTo>
                    <a:pt x="55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26120" y="4957920"/>
              <a:ext cx="60480" cy="490320"/>
            </a:xfrm>
            <a:custGeom>
              <a:avLst/>
              <a:gdLst/>
              <a:ahLst/>
              <a:rect l="l" t="t" r="r" b="b"/>
              <a:pathLst>
                <a:path w="38" h="309">
                  <a:moveTo>
                    <a:pt x="0" y="0"/>
                  </a:moveTo>
                  <a:lnTo>
                    <a:pt x="3" y="2"/>
                  </a:lnTo>
                  <a:lnTo>
                    <a:pt x="5" y="7"/>
                  </a:lnTo>
                  <a:lnTo>
                    <a:pt x="5" y="14"/>
                  </a:lnTo>
                  <a:lnTo>
                    <a:pt x="6" y="26"/>
                  </a:lnTo>
                  <a:lnTo>
                    <a:pt x="18" y="283"/>
                  </a:lnTo>
                  <a:lnTo>
                    <a:pt x="19" y="297"/>
                  </a:lnTo>
                  <a:lnTo>
                    <a:pt x="20" y="302"/>
                  </a:lnTo>
                  <a:lnTo>
                    <a:pt x="22" y="306"/>
                  </a:lnTo>
                  <a:lnTo>
                    <a:pt x="24" y="308"/>
                  </a:lnTo>
                  <a:lnTo>
                    <a:pt x="27" y="304"/>
                  </a:lnTo>
                  <a:lnTo>
                    <a:pt x="29" y="297"/>
                  </a:lnTo>
                  <a:lnTo>
                    <a:pt x="37" y="165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88040" y="4962600"/>
              <a:ext cx="27000" cy="252360"/>
            </a:xfrm>
            <a:custGeom>
              <a:avLst/>
              <a:gdLst/>
              <a:ahLst/>
              <a:rect l="l" t="t" r="r" b="b"/>
              <a:pathLst>
                <a:path w="17" h="159">
                  <a:moveTo>
                    <a:pt x="0" y="158"/>
                  </a:moveTo>
                  <a:lnTo>
                    <a:pt x="10" y="24"/>
                  </a:lnTo>
                  <a:lnTo>
                    <a:pt x="10" y="17"/>
                  </a:lnTo>
                  <a:lnTo>
                    <a:pt x="10" y="11"/>
                  </a:lnTo>
                  <a:lnTo>
                    <a:pt x="11" y="7"/>
                  </a:lnTo>
                  <a:lnTo>
                    <a:pt x="13" y="3"/>
                  </a:ln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11800" y="4962600"/>
              <a:ext cx="90720" cy="488880"/>
            </a:xfrm>
            <a:custGeom>
              <a:avLst/>
              <a:gdLst/>
              <a:ahLst/>
              <a:rect l="l" t="t" r="r" b="b"/>
              <a:pathLst>
                <a:path w="57" h="308">
                  <a:moveTo>
                    <a:pt x="0" y="0"/>
                  </a:moveTo>
                  <a:lnTo>
                    <a:pt x="2" y="1"/>
                  </a:lnTo>
                  <a:lnTo>
                    <a:pt x="5" y="7"/>
                  </a:lnTo>
                  <a:lnTo>
                    <a:pt x="5" y="14"/>
                  </a:lnTo>
                  <a:lnTo>
                    <a:pt x="6" y="25"/>
                  </a:lnTo>
                  <a:lnTo>
                    <a:pt x="18" y="283"/>
                  </a:lnTo>
                  <a:lnTo>
                    <a:pt x="19" y="297"/>
                  </a:lnTo>
                  <a:lnTo>
                    <a:pt x="21" y="301"/>
                  </a:lnTo>
                  <a:lnTo>
                    <a:pt x="23" y="306"/>
                  </a:lnTo>
                  <a:lnTo>
                    <a:pt x="25" y="307"/>
                  </a:lnTo>
                  <a:lnTo>
                    <a:pt x="28" y="304"/>
                  </a:lnTo>
                  <a:lnTo>
                    <a:pt x="30" y="297"/>
                  </a:lnTo>
                  <a:lnTo>
                    <a:pt x="50" y="23"/>
                  </a:lnTo>
                  <a:lnTo>
                    <a:pt x="51" y="17"/>
                  </a:lnTo>
                  <a:lnTo>
                    <a:pt x="52" y="11"/>
                  </a:lnTo>
                  <a:lnTo>
                    <a:pt x="52" y="7"/>
                  </a:lnTo>
                  <a:lnTo>
                    <a:pt x="54" y="1"/>
                  </a:lnTo>
                  <a:lnTo>
                    <a:pt x="56" y="1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03960" y="4962600"/>
              <a:ext cx="85680" cy="488880"/>
            </a:xfrm>
            <a:custGeom>
              <a:avLst/>
              <a:gdLst/>
              <a:ahLst/>
              <a:rect l="l" t="t" r="r" b="b"/>
              <a:pathLst>
                <a:path w="54" h="308">
                  <a:moveTo>
                    <a:pt x="0" y="2"/>
                  </a:moveTo>
                  <a:lnTo>
                    <a:pt x="1" y="3"/>
                  </a:lnTo>
                  <a:lnTo>
                    <a:pt x="3" y="8"/>
                  </a:lnTo>
                  <a:lnTo>
                    <a:pt x="3" y="15"/>
                  </a:lnTo>
                  <a:lnTo>
                    <a:pt x="4" y="26"/>
                  </a:lnTo>
                  <a:lnTo>
                    <a:pt x="16" y="283"/>
                  </a:lnTo>
                  <a:lnTo>
                    <a:pt x="17" y="297"/>
                  </a:lnTo>
                  <a:lnTo>
                    <a:pt x="18" y="301"/>
                  </a:lnTo>
                  <a:lnTo>
                    <a:pt x="21" y="306"/>
                  </a:lnTo>
                  <a:lnTo>
                    <a:pt x="22" y="307"/>
                  </a:lnTo>
                  <a:lnTo>
                    <a:pt x="25" y="304"/>
                  </a:lnTo>
                  <a:lnTo>
                    <a:pt x="27" y="297"/>
                  </a:lnTo>
                  <a:lnTo>
                    <a:pt x="47" y="24"/>
                  </a:lnTo>
                  <a:lnTo>
                    <a:pt x="47" y="17"/>
                  </a:lnTo>
                  <a:lnTo>
                    <a:pt x="48" y="11"/>
                  </a:lnTo>
                  <a:lnTo>
                    <a:pt x="49" y="7"/>
                  </a:lnTo>
                  <a:lnTo>
                    <a:pt x="51" y="3"/>
                  </a:lnTo>
                  <a:lnTo>
                    <a:pt x="53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388200" y="4962600"/>
              <a:ext cx="90360" cy="488880"/>
            </a:xfrm>
            <a:custGeom>
              <a:avLst/>
              <a:gdLst/>
              <a:ahLst/>
              <a:rect l="l" t="t" r="r" b="b"/>
              <a:pathLst>
                <a:path w="57" h="308">
                  <a:moveTo>
                    <a:pt x="0" y="0"/>
                  </a:moveTo>
                  <a:lnTo>
                    <a:pt x="3" y="1"/>
                  </a:lnTo>
                  <a:lnTo>
                    <a:pt x="5" y="7"/>
                  </a:lnTo>
                  <a:lnTo>
                    <a:pt x="6" y="14"/>
                  </a:lnTo>
                  <a:lnTo>
                    <a:pt x="7" y="25"/>
                  </a:lnTo>
                  <a:lnTo>
                    <a:pt x="18" y="283"/>
                  </a:lnTo>
                  <a:lnTo>
                    <a:pt x="20" y="297"/>
                  </a:lnTo>
                  <a:lnTo>
                    <a:pt x="21" y="301"/>
                  </a:lnTo>
                  <a:lnTo>
                    <a:pt x="23" y="306"/>
                  </a:lnTo>
                  <a:lnTo>
                    <a:pt x="26" y="307"/>
                  </a:lnTo>
                  <a:lnTo>
                    <a:pt x="28" y="304"/>
                  </a:lnTo>
                  <a:lnTo>
                    <a:pt x="29" y="297"/>
                  </a:lnTo>
                  <a:lnTo>
                    <a:pt x="50" y="23"/>
                  </a:lnTo>
                  <a:lnTo>
                    <a:pt x="51" y="17"/>
                  </a:lnTo>
                  <a:lnTo>
                    <a:pt x="51" y="11"/>
                  </a:lnTo>
                  <a:lnTo>
                    <a:pt x="52" y="7"/>
                  </a:lnTo>
                  <a:lnTo>
                    <a:pt x="54" y="1"/>
                  </a:lnTo>
                  <a:lnTo>
                    <a:pt x="56" y="1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83240" y="4960800"/>
              <a:ext cx="85680" cy="489240"/>
            </a:xfrm>
            <a:custGeom>
              <a:avLst/>
              <a:gdLst/>
              <a:ahLst/>
              <a:rect l="l" t="t" r="r" b="b"/>
              <a:pathLst>
                <a:path w="54" h="308">
                  <a:moveTo>
                    <a:pt x="0" y="1"/>
                  </a:moveTo>
                  <a:lnTo>
                    <a:pt x="1" y="2"/>
                  </a:lnTo>
                  <a:lnTo>
                    <a:pt x="3" y="8"/>
                  </a:lnTo>
                  <a:lnTo>
                    <a:pt x="3" y="14"/>
                  </a:lnTo>
                  <a:lnTo>
                    <a:pt x="4" y="25"/>
                  </a:lnTo>
                  <a:lnTo>
                    <a:pt x="16" y="283"/>
                  </a:lnTo>
                  <a:lnTo>
                    <a:pt x="17" y="297"/>
                  </a:lnTo>
                  <a:lnTo>
                    <a:pt x="18" y="301"/>
                  </a:lnTo>
                  <a:lnTo>
                    <a:pt x="21" y="305"/>
                  </a:lnTo>
                  <a:lnTo>
                    <a:pt x="22" y="307"/>
                  </a:lnTo>
                  <a:lnTo>
                    <a:pt x="25" y="303"/>
                  </a:lnTo>
                  <a:lnTo>
                    <a:pt x="27" y="297"/>
                  </a:lnTo>
                  <a:lnTo>
                    <a:pt x="47" y="24"/>
                  </a:lnTo>
                  <a:lnTo>
                    <a:pt x="48" y="16"/>
                  </a:lnTo>
                  <a:lnTo>
                    <a:pt x="48" y="11"/>
                  </a:lnTo>
                  <a:lnTo>
                    <a:pt x="49" y="6"/>
                  </a:lnTo>
                  <a:lnTo>
                    <a:pt x="51" y="2"/>
                  </a:lnTo>
                  <a:lnTo>
                    <a:pt x="53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67480" y="4960800"/>
              <a:ext cx="90360" cy="489240"/>
            </a:xfrm>
            <a:custGeom>
              <a:avLst/>
              <a:gdLst/>
              <a:ahLst/>
              <a:rect l="l" t="t" r="r" b="b"/>
              <a:pathLst>
                <a:path w="57" h="308">
                  <a:moveTo>
                    <a:pt x="0" y="0"/>
                  </a:moveTo>
                  <a:lnTo>
                    <a:pt x="3" y="1"/>
                  </a:lnTo>
                  <a:lnTo>
                    <a:pt x="5" y="7"/>
                  </a:lnTo>
                  <a:lnTo>
                    <a:pt x="6" y="14"/>
                  </a:lnTo>
                  <a:lnTo>
                    <a:pt x="7" y="25"/>
                  </a:lnTo>
                  <a:lnTo>
                    <a:pt x="18" y="283"/>
                  </a:lnTo>
                  <a:lnTo>
                    <a:pt x="20" y="297"/>
                  </a:lnTo>
                  <a:lnTo>
                    <a:pt x="21" y="301"/>
                  </a:lnTo>
                  <a:lnTo>
                    <a:pt x="23" y="305"/>
                  </a:lnTo>
                  <a:lnTo>
                    <a:pt x="26" y="307"/>
                  </a:lnTo>
                  <a:lnTo>
                    <a:pt x="28" y="303"/>
                  </a:lnTo>
                  <a:lnTo>
                    <a:pt x="29" y="297"/>
                  </a:lnTo>
                  <a:lnTo>
                    <a:pt x="50" y="24"/>
                  </a:lnTo>
                  <a:lnTo>
                    <a:pt x="51" y="16"/>
                  </a:lnTo>
                  <a:lnTo>
                    <a:pt x="51" y="11"/>
                  </a:lnTo>
                  <a:lnTo>
                    <a:pt x="52" y="6"/>
                  </a:lnTo>
                  <a:lnTo>
                    <a:pt x="54" y="1"/>
                  </a:lnTo>
                  <a:lnTo>
                    <a:pt x="56" y="1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59640" y="4960800"/>
              <a:ext cx="85680" cy="489240"/>
            </a:xfrm>
            <a:custGeom>
              <a:avLst/>
              <a:gdLst/>
              <a:ahLst/>
              <a:rect l="l" t="t" r="r" b="b"/>
              <a:pathLst>
                <a:path w="54" h="308">
                  <a:moveTo>
                    <a:pt x="0" y="1"/>
                  </a:moveTo>
                  <a:lnTo>
                    <a:pt x="1" y="2"/>
                  </a:lnTo>
                  <a:lnTo>
                    <a:pt x="3" y="8"/>
                  </a:lnTo>
                  <a:lnTo>
                    <a:pt x="3" y="14"/>
                  </a:lnTo>
                  <a:lnTo>
                    <a:pt x="4" y="25"/>
                  </a:lnTo>
                  <a:lnTo>
                    <a:pt x="16" y="283"/>
                  </a:lnTo>
                  <a:lnTo>
                    <a:pt x="17" y="297"/>
                  </a:lnTo>
                  <a:lnTo>
                    <a:pt x="18" y="301"/>
                  </a:lnTo>
                  <a:lnTo>
                    <a:pt x="20" y="305"/>
                  </a:lnTo>
                  <a:lnTo>
                    <a:pt x="22" y="307"/>
                  </a:lnTo>
                  <a:lnTo>
                    <a:pt x="25" y="303"/>
                  </a:lnTo>
                  <a:lnTo>
                    <a:pt x="27" y="297"/>
                  </a:lnTo>
                  <a:lnTo>
                    <a:pt x="47" y="24"/>
                  </a:lnTo>
                  <a:lnTo>
                    <a:pt x="47" y="16"/>
                  </a:lnTo>
                  <a:lnTo>
                    <a:pt x="48" y="11"/>
                  </a:lnTo>
                  <a:lnTo>
                    <a:pt x="49" y="6"/>
                  </a:lnTo>
                  <a:lnTo>
                    <a:pt x="50" y="2"/>
                  </a:lnTo>
                  <a:lnTo>
                    <a:pt x="53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743880" y="4960800"/>
              <a:ext cx="90360" cy="489240"/>
            </a:xfrm>
            <a:custGeom>
              <a:avLst/>
              <a:gdLst/>
              <a:ahLst/>
              <a:rect l="l" t="t" r="r" b="b"/>
              <a:pathLst>
                <a:path w="57" h="308">
                  <a:moveTo>
                    <a:pt x="0" y="0"/>
                  </a:moveTo>
                  <a:lnTo>
                    <a:pt x="2" y="1"/>
                  </a:lnTo>
                  <a:lnTo>
                    <a:pt x="5" y="7"/>
                  </a:lnTo>
                  <a:lnTo>
                    <a:pt x="5" y="14"/>
                  </a:lnTo>
                  <a:lnTo>
                    <a:pt x="7" y="25"/>
                  </a:lnTo>
                  <a:lnTo>
                    <a:pt x="18" y="283"/>
                  </a:lnTo>
                  <a:lnTo>
                    <a:pt x="20" y="297"/>
                  </a:lnTo>
                  <a:lnTo>
                    <a:pt x="20" y="301"/>
                  </a:lnTo>
                  <a:lnTo>
                    <a:pt x="23" y="305"/>
                  </a:lnTo>
                  <a:lnTo>
                    <a:pt x="25" y="307"/>
                  </a:lnTo>
                  <a:lnTo>
                    <a:pt x="28" y="303"/>
                  </a:lnTo>
                  <a:lnTo>
                    <a:pt x="29" y="297"/>
                  </a:lnTo>
                  <a:lnTo>
                    <a:pt x="50" y="24"/>
                  </a:lnTo>
                  <a:lnTo>
                    <a:pt x="50" y="16"/>
                  </a:lnTo>
                  <a:lnTo>
                    <a:pt x="51" y="11"/>
                  </a:lnTo>
                  <a:lnTo>
                    <a:pt x="52" y="6"/>
                  </a:lnTo>
                  <a:lnTo>
                    <a:pt x="54" y="1"/>
                  </a:lnTo>
                  <a:lnTo>
                    <a:pt x="56" y="1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37480" y="4957920"/>
              <a:ext cx="85680" cy="490320"/>
            </a:xfrm>
            <a:custGeom>
              <a:avLst/>
              <a:gdLst/>
              <a:ahLst/>
              <a:rect l="l" t="t" r="r" b="b"/>
              <a:pathLst>
                <a:path w="54" h="309">
                  <a:moveTo>
                    <a:pt x="0" y="2"/>
                  </a:moveTo>
                  <a:lnTo>
                    <a:pt x="1" y="3"/>
                  </a:lnTo>
                  <a:lnTo>
                    <a:pt x="3" y="8"/>
                  </a:lnTo>
                  <a:lnTo>
                    <a:pt x="3" y="14"/>
                  </a:lnTo>
                  <a:lnTo>
                    <a:pt x="4" y="26"/>
                  </a:lnTo>
                  <a:lnTo>
                    <a:pt x="16" y="283"/>
                  </a:lnTo>
                  <a:lnTo>
                    <a:pt x="17" y="297"/>
                  </a:lnTo>
                  <a:lnTo>
                    <a:pt x="18" y="302"/>
                  </a:lnTo>
                  <a:lnTo>
                    <a:pt x="21" y="306"/>
                  </a:lnTo>
                  <a:lnTo>
                    <a:pt x="22" y="308"/>
                  </a:lnTo>
                  <a:lnTo>
                    <a:pt x="25" y="304"/>
                  </a:lnTo>
                  <a:lnTo>
                    <a:pt x="27" y="297"/>
                  </a:lnTo>
                  <a:lnTo>
                    <a:pt x="47" y="24"/>
                  </a:lnTo>
                  <a:lnTo>
                    <a:pt x="47" y="17"/>
                  </a:lnTo>
                  <a:lnTo>
                    <a:pt x="48" y="11"/>
                  </a:lnTo>
                  <a:lnTo>
                    <a:pt x="49" y="6"/>
                  </a:lnTo>
                  <a:lnTo>
                    <a:pt x="51" y="3"/>
                  </a:lnTo>
                  <a:lnTo>
                    <a:pt x="53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21360" y="4957920"/>
              <a:ext cx="92160" cy="490320"/>
            </a:xfrm>
            <a:custGeom>
              <a:avLst/>
              <a:gdLst/>
              <a:ahLst/>
              <a:rect l="l" t="t" r="r" b="b"/>
              <a:pathLst>
                <a:path w="58" h="309">
                  <a:moveTo>
                    <a:pt x="0" y="0"/>
                  </a:moveTo>
                  <a:lnTo>
                    <a:pt x="3" y="2"/>
                  </a:lnTo>
                  <a:lnTo>
                    <a:pt x="5" y="7"/>
                  </a:lnTo>
                  <a:lnTo>
                    <a:pt x="5" y="14"/>
                  </a:lnTo>
                  <a:lnTo>
                    <a:pt x="7" y="26"/>
                  </a:lnTo>
                  <a:lnTo>
                    <a:pt x="19" y="283"/>
                  </a:lnTo>
                  <a:lnTo>
                    <a:pt x="20" y="297"/>
                  </a:lnTo>
                  <a:lnTo>
                    <a:pt x="21" y="302"/>
                  </a:lnTo>
                  <a:lnTo>
                    <a:pt x="23" y="306"/>
                  </a:lnTo>
                  <a:lnTo>
                    <a:pt x="25" y="308"/>
                  </a:lnTo>
                  <a:lnTo>
                    <a:pt x="29" y="304"/>
                  </a:lnTo>
                  <a:lnTo>
                    <a:pt x="30" y="297"/>
                  </a:lnTo>
                  <a:lnTo>
                    <a:pt x="51" y="24"/>
                  </a:lnTo>
                  <a:lnTo>
                    <a:pt x="52" y="17"/>
                  </a:lnTo>
                  <a:lnTo>
                    <a:pt x="53" y="11"/>
                  </a:lnTo>
                  <a:lnTo>
                    <a:pt x="53" y="6"/>
                  </a:lnTo>
                  <a:lnTo>
                    <a:pt x="55" y="2"/>
                  </a:lnTo>
                  <a:lnTo>
                    <a:pt x="57" y="1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13520" y="4957920"/>
              <a:ext cx="87480" cy="490320"/>
            </a:xfrm>
            <a:custGeom>
              <a:avLst/>
              <a:gdLst/>
              <a:ahLst/>
              <a:rect l="l" t="t" r="r" b="b"/>
              <a:pathLst>
                <a:path w="55" h="309">
                  <a:moveTo>
                    <a:pt x="0" y="2"/>
                  </a:moveTo>
                  <a:lnTo>
                    <a:pt x="1" y="3"/>
                  </a:lnTo>
                  <a:lnTo>
                    <a:pt x="3" y="8"/>
                  </a:lnTo>
                  <a:lnTo>
                    <a:pt x="4" y="14"/>
                  </a:lnTo>
                  <a:lnTo>
                    <a:pt x="5" y="26"/>
                  </a:lnTo>
                  <a:lnTo>
                    <a:pt x="17" y="283"/>
                  </a:lnTo>
                  <a:lnTo>
                    <a:pt x="18" y="297"/>
                  </a:lnTo>
                  <a:lnTo>
                    <a:pt x="19" y="302"/>
                  </a:lnTo>
                  <a:lnTo>
                    <a:pt x="21" y="306"/>
                  </a:lnTo>
                  <a:lnTo>
                    <a:pt x="23" y="308"/>
                  </a:lnTo>
                  <a:lnTo>
                    <a:pt x="26" y="304"/>
                  </a:lnTo>
                  <a:lnTo>
                    <a:pt x="27" y="297"/>
                  </a:lnTo>
                  <a:lnTo>
                    <a:pt x="48" y="24"/>
                  </a:lnTo>
                  <a:lnTo>
                    <a:pt x="48" y="17"/>
                  </a:lnTo>
                  <a:lnTo>
                    <a:pt x="49" y="11"/>
                  </a:lnTo>
                  <a:lnTo>
                    <a:pt x="50" y="6"/>
                  </a:lnTo>
                  <a:lnTo>
                    <a:pt x="51" y="3"/>
                  </a:ln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9200" y="4957920"/>
              <a:ext cx="61920" cy="490320"/>
            </a:xfrm>
            <a:custGeom>
              <a:avLst/>
              <a:gdLst/>
              <a:ahLst/>
              <a:rect l="l" t="t" r="r" b="b"/>
              <a:pathLst>
                <a:path w="39" h="309">
                  <a:moveTo>
                    <a:pt x="0" y="0"/>
                  </a:moveTo>
                  <a:lnTo>
                    <a:pt x="3" y="2"/>
                  </a:lnTo>
                  <a:lnTo>
                    <a:pt x="5" y="7"/>
                  </a:lnTo>
                  <a:lnTo>
                    <a:pt x="5" y="14"/>
                  </a:lnTo>
                  <a:lnTo>
                    <a:pt x="6" y="26"/>
                  </a:lnTo>
                  <a:lnTo>
                    <a:pt x="19" y="283"/>
                  </a:lnTo>
                  <a:lnTo>
                    <a:pt x="20" y="297"/>
                  </a:lnTo>
                  <a:lnTo>
                    <a:pt x="20" y="302"/>
                  </a:lnTo>
                  <a:lnTo>
                    <a:pt x="23" y="306"/>
                  </a:lnTo>
                  <a:lnTo>
                    <a:pt x="25" y="308"/>
                  </a:lnTo>
                  <a:lnTo>
                    <a:pt x="28" y="304"/>
                  </a:lnTo>
                  <a:lnTo>
                    <a:pt x="30" y="297"/>
                  </a:lnTo>
                  <a:lnTo>
                    <a:pt x="38" y="165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5718240" y="4752720"/>
              <a:ext cx="322200" cy="61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34040" y="4754520"/>
              <a:ext cx="3589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592320" y="4635360"/>
              <a:ext cx="7153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ffffcc"/>
                  </a:solidFill>
                  <a:latin typeface="Arial"/>
                </a:rPr>
                <a:t>T  = 2 ms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6039000" y="4683240"/>
              <a:ext cx="0" cy="1936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6126120" y="4683240"/>
              <a:ext cx="0" cy="1936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1622520" y="3429000"/>
            <a:ext cx="5875200" cy="717840"/>
            <a:chOff x="1622520" y="3429000"/>
            <a:chExt cx="5875200" cy="717840"/>
          </a:xfrm>
        </p:grpSpPr>
        <p:sp>
          <p:nvSpPr>
            <p:cNvPr id="250" name=""/>
            <p:cNvSpPr/>
            <p:nvPr/>
          </p:nvSpPr>
          <p:spPr>
            <a:xfrm>
              <a:off x="1630440" y="3765600"/>
              <a:ext cx="58561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35200" y="3780000"/>
              <a:ext cx="2210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RANGO AUDIBLE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97720" y="3429000"/>
              <a:ext cx="0" cy="3808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22520" y="3666960"/>
              <a:ext cx="0" cy="1429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357840" y="4419720"/>
            <a:ext cx="3475800" cy="1523880"/>
            <a:chOff x="357840" y="4419720"/>
            <a:chExt cx="3475800" cy="1523880"/>
          </a:xfrm>
        </p:grpSpPr>
        <p:sp>
          <p:nvSpPr>
            <p:cNvPr id="255" name=""/>
            <p:cNvSpPr/>
            <p:nvPr/>
          </p:nvSpPr>
          <p:spPr>
            <a:xfrm>
              <a:off x="554040" y="5194440"/>
              <a:ext cx="3279600" cy="140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70160" y="4740120"/>
              <a:ext cx="4888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357840" y="4419720"/>
              <a:ext cx="3444120" cy="1523880"/>
              <a:chOff x="357840" y="4419720"/>
              <a:chExt cx="3444120" cy="1523880"/>
            </a:xfrm>
          </p:grpSpPr>
          <p:sp>
            <p:nvSpPr>
              <p:cNvPr id="258" name=""/>
              <p:cNvSpPr/>
              <p:nvPr/>
            </p:nvSpPr>
            <p:spPr>
              <a:xfrm>
                <a:off x="635040" y="4962600"/>
                <a:ext cx="128520" cy="252360"/>
              </a:xfrm>
              <a:custGeom>
                <a:avLst/>
                <a:gdLst/>
                <a:ahLst/>
                <a:rect l="l" t="t" r="r" b="b"/>
                <a:pathLst>
                  <a:path w="81" h="159">
                    <a:moveTo>
                      <a:pt x="0" y="158"/>
                    </a:moveTo>
                    <a:lnTo>
                      <a:pt x="49" y="24"/>
                    </a:lnTo>
                    <a:lnTo>
                      <a:pt x="52" y="17"/>
                    </a:lnTo>
                    <a:lnTo>
                      <a:pt x="54" y="11"/>
                    </a:lnTo>
                    <a:lnTo>
                      <a:pt x="58" y="7"/>
                    </a:lnTo>
                    <a:lnTo>
                      <a:pt x="67" y="3"/>
                    </a:lnTo>
                    <a:lnTo>
                      <a:pt x="80" y="0"/>
                    </a:lnTo>
                  </a:path>
                </a:pathLst>
              </a:custGeom>
              <a:noFill/>
              <a:ln cap="rnd" w="12600">
                <a:solidFill>
                  <a:srgbClr val="40ff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65000" y="4962600"/>
                <a:ext cx="497160" cy="488880"/>
              </a:xfrm>
              <a:custGeom>
                <a:avLst/>
                <a:gdLst/>
                <a:ahLst/>
                <a:rect l="l" t="t" r="r" b="b"/>
                <a:pathLst>
                  <a:path w="313" h="308">
                    <a:moveTo>
                      <a:pt x="0" y="0"/>
                    </a:moveTo>
                    <a:lnTo>
                      <a:pt x="16" y="1"/>
                    </a:lnTo>
                    <a:lnTo>
                      <a:pt x="30" y="7"/>
                    </a:lnTo>
                    <a:lnTo>
                      <a:pt x="33" y="14"/>
                    </a:lnTo>
                    <a:lnTo>
                      <a:pt x="37" y="25"/>
                    </a:lnTo>
                    <a:lnTo>
                      <a:pt x="104" y="283"/>
                    </a:lnTo>
                    <a:lnTo>
                      <a:pt x="111" y="297"/>
                    </a:lnTo>
                    <a:lnTo>
                      <a:pt x="117" y="301"/>
                    </a:lnTo>
                    <a:lnTo>
                      <a:pt x="129" y="306"/>
                    </a:lnTo>
                    <a:lnTo>
                      <a:pt x="141" y="307"/>
                    </a:lnTo>
                    <a:lnTo>
                      <a:pt x="158" y="304"/>
                    </a:lnTo>
                    <a:lnTo>
                      <a:pt x="167" y="297"/>
                    </a:lnTo>
                    <a:lnTo>
                      <a:pt x="281" y="23"/>
                    </a:lnTo>
                    <a:lnTo>
                      <a:pt x="284" y="17"/>
                    </a:lnTo>
                    <a:lnTo>
                      <a:pt x="286" y="11"/>
                    </a:lnTo>
                    <a:lnTo>
                      <a:pt x="290" y="7"/>
                    </a:lnTo>
                    <a:lnTo>
                      <a:pt x="299" y="1"/>
                    </a:lnTo>
                    <a:lnTo>
                      <a:pt x="312" y="1"/>
                    </a:lnTo>
                  </a:path>
                </a:pathLst>
              </a:custGeom>
              <a:noFill/>
              <a:ln cap="rnd" w="12600">
                <a:solidFill>
                  <a:srgbClr val="40ff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273320" y="4962600"/>
                <a:ext cx="480960" cy="488880"/>
              </a:xfrm>
              <a:custGeom>
                <a:avLst/>
                <a:gdLst/>
                <a:ahLst/>
                <a:rect l="l" t="t" r="r" b="b"/>
                <a:pathLst>
                  <a:path w="303" h="308">
                    <a:moveTo>
                      <a:pt x="0" y="2"/>
                    </a:moveTo>
                    <a:lnTo>
                      <a:pt x="9" y="3"/>
                    </a:lnTo>
                    <a:lnTo>
                      <a:pt x="19" y="8"/>
                    </a:lnTo>
                    <a:lnTo>
                      <a:pt x="22" y="15"/>
                    </a:lnTo>
                    <a:lnTo>
                      <a:pt x="27" y="26"/>
                    </a:lnTo>
                    <a:lnTo>
                      <a:pt x="95" y="283"/>
                    </a:lnTo>
                    <a:lnTo>
                      <a:pt x="101" y="297"/>
                    </a:lnTo>
                    <a:lnTo>
                      <a:pt x="107" y="301"/>
                    </a:lnTo>
                    <a:lnTo>
                      <a:pt x="120" y="306"/>
                    </a:lnTo>
                    <a:lnTo>
                      <a:pt x="132" y="307"/>
                    </a:lnTo>
                    <a:lnTo>
                      <a:pt x="147" y="304"/>
                    </a:lnTo>
                    <a:lnTo>
                      <a:pt x="157" y="297"/>
                    </a:lnTo>
                    <a:lnTo>
                      <a:pt x="271" y="24"/>
                    </a:lnTo>
                    <a:lnTo>
                      <a:pt x="274" y="17"/>
                    </a:lnTo>
                    <a:lnTo>
                      <a:pt x="277" y="11"/>
                    </a:lnTo>
                    <a:lnTo>
                      <a:pt x="282" y="7"/>
                    </a:lnTo>
                    <a:lnTo>
                      <a:pt x="291" y="3"/>
                    </a:lnTo>
                    <a:lnTo>
                      <a:pt x="302" y="0"/>
                    </a:lnTo>
                  </a:path>
                </a:pathLst>
              </a:custGeom>
              <a:noFill/>
              <a:ln cap="rnd" w="12600">
                <a:solidFill>
                  <a:srgbClr val="40ff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754280" y="4962600"/>
                <a:ext cx="501480" cy="488880"/>
              </a:xfrm>
              <a:custGeom>
                <a:avLst/>
                <a:gdLst/>
                <a:ahLst/>
                <a:rect l="l" t="t" r="r" b="b"/>
                <a:pathLst>
                  <a:path w="316" h="308">
                    <a:moveTo>
                      <a:pt x="0" y="0"/>
                    </a:moveTo>
                    <a:lnTo>
                      <a:pt x="16" y="1"/>
                    </a:lnTo>
                    <a:lnTo>
                      <a:pt x="30" y="7"/>
                    </a:lnTo>
                    <a:lnTo>
                      <a:pt x="34" y="14"/>
                    </a:lnTo>
                    <a:lnTo>
                      <a:pt x="39" y="25"/>
                    </a:lnTo>
                    <a:lnTo>
                      <a:pt x="106" y="283"/>
                    </a:lnTo>
                    <a:lnTo>
                      <a:pt x="113" y="297"/>
                    </a:lnTo>
                    <a:lnTo>
                      <a:pt x="119" y="301"/>
                    </a:lnTo>
                    <a:lnTo>
                      <a:pt x="130" y="306"/>
                    </a:lnTo>
                    <a:lnTo>
                      <a:pt x="143" y="307"/>
                    </a:lnTo>
                    <a:lnTo>
                      <a:pt x="159" y="304"/>
                    </a:lnTo>
                    <a:lnTo>
                      <a:pt x="168" y="297"/>
                    </a:lnTo>
                    <a:lnTo>
                      <a:pt x="284" y="23"/>
                    </a:lnTo>
                    <a:lnTo>
                      <a:pt x="287" y="17"/>
                    </a:lnTo>
                    <a:lnTo>
                      <a:pt x="289" y="11"/>
                    </a:lnTo>
                    <a:lnTo>
                      <a:pt x="293" y="7"/>
                    </a:lnTo>
                    <a:lnTo>
                      <a:pt x="302" y="1"/>
                    </a:lnTo>
                    <a:lnTo>
                      <a:pt x="315" y="1"/>
                    </a:lnTo>
                  </a:path>
                </a:pathLst>
              </a:custGeom>
              <a:noFill/>
              <a:ln cap="rnd" w="12600">
                <a:solidFill>
                  <a:srgbClr val="40ff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78080" y="4960800"/>
                <a:ext cx="482760" cy="489240"/>
              </a:xfrm>
              <a:custGeom>
                <a:avLst/>
                <a:gdLst/>
                <a:ahLst/>
                <a:rect l="l" t="t" r="r" b="b"/>
                <a:pathLst>
                  <a:path w="304" h="308">
                    <a:moveTo>
                      <a:pt x="0" y="1"/>
                    </a:moveTo>
                    <a:lnTo>
                      <a:pt x="9" y="2"/>
                    </a:lnTo>
                    <a:lnTo>
                      <a:pt x="19" y="8"/>
                    </a:lnTo>
                    <a:lnTo>
                      <a:pt x="24" y="14"/>
                    </a:lnTo>
                    <a:lnTo>
                      <a:pt x="27" y="25"/>
                    </a:lnTo>
                    <a:lnTo>
                      <a:pt x="94" y="283"/>
                    </a:lnTo>
                    <a:lnTo>
                      <a:pt x="101" y="297"/>
                    </a:lnTo>
                    <a:lnTo>
                      <a:pt x="108" y="301"/>
                    </a:lnTo>
                    <a:lnTo>
                      <a:pt x="119" y="305"/>
                    </a:lnTo>
                    <a:lnTo>
                      <a:pt x="132" y="307"/>
                    </a:lnTo>
                    <a:lnTo>
                      <a:pt x="147" y="303"/>
                    </a:lnTo>
                    <a:lnTo>
                      <a:pt x="156" y="297"/>
                    </a:lnTo>
                    <a:lnTo>
                      <a:pt x="272" y="24"/>
                    </a:lnTo>
                    <a:lnTo>
                      <a:pt x="275" y="16"/>
                    </a:lnTo>
                    <a:lnTo>
                      <a:pt x="277" y="11"/>
                    </a:lnTo>
                    <a:lnTo>
                      <a:pt x="281" y="6"/>
                    </a:lnTo>
                    <a:lnTo>
                      <a:pt x="290" y="2"/>
                    </a:lnTo>
                    <a:lnTo>
                      <a:pt x="303" y="0"/>
                    </a:lnTo>
                  </a:path>
                </a:pathLst>
              </a:custGeom>
              <a:noFill/>
              <a:ln cap="rnd" w="12600">
                <a:solidFill>
                  <a:srgbClr val="40ff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762280" y="4960800"/>
                <a:ext cx="496800" cy="489240"/>
              </a:xfrm>
              <a:custGeom>
                <a:avLst/>
                <a:gdLst/>
                <a:ahLst/>
                <a:rect l="l" t="t" r="r" b="b"/>
                <a:pathLst>
                  <a:path w="313" h="308">
                    <a:moveTo>
                      <a:pt x="0" y="0"/>
                    </a:moveTo>
                    <a:lnTo>
                      <a:pt x="16" y="1"/>
                    </a:lnTo>
                    <a:lnTo>
                      <a:pt x="30" y="7"/>
                    </a:lnTo>
                    <a:lnTo>
                      <a:pt x="33" y="14"/>
                    </a:lnTo>
                    <a:lnTo>
                      <a:pt x="37" y="25"/>
                    </a:lnTo>
                    <a:lnTo>
                      <a:pt x="104" y="283"/>
                    </a:lnTo>
                    <a:lnTo>
                      <a:pt x="111" y="297"/>
                    </a:lnTo>
                    <a:lnTo>
                      <a:pt x="117" y="301"/>
                    </a:lnTo>
                    <a:lnTo>
                      <a:pt x="129" y="305"/>
                    </a:lnTo>
                    <a:lnTo>
                      <a:pt x="141" y="307"/>
                    </a:lnTo>
                    <a:lnTo>
                      <a:pt x="158" y="303"/>
                    </a:lnTo>
                    <a:lnTo>
                      <a:pt x="167" y="297"/>
                    </a:lnTo>
                    <a:lnTo>
                      <a:pt x="281" y="24"/>
                    </a:lnTo>
                    <a:lnTo>
                      <a:pt x="284" y="16"/>
                    </a:lnTo>
                    <a:lnTo>
                      <a:pt x="286" y="11"/>
                    </a:lnTo>
                    <a:lnTo>
                      <a:pt x="290" y="6"/>
                    </a:lnTo>
                    <a:lnTo>
                      <a:pt x="299" y="1"/>
                    </a:lnTo>
                    <a:lnTo>
                      <a:pt x="312" y="1"/>
                    </a:lnTo>
                  </a:path>
                </a:pathLst>
              </a:custGeom>
              <a:noFill/>
              <a:ln cap="rnd" w="12600">
                <a:solidFill>
                  <a:srgbClr val="40ff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270240" y="4960800"/>
                <a:ext cx="480960" cy="489240"/>
              </a:xfrm>
              <a:custGeom>
                <a:avLst/>
                <a:gdLst/>
                <a:ahLst/>
                <a:rect l="l" t="t" r="r" b="b"/>
                <a:pathLst>
                  <a:path w="303" h="308">
                    <a:moveTo>
                      <a:pt x="0" y="1"/>
                    </a:moveTo>
                    <a:lnTo>
                      <a:pt x="9" y="2"/>
                    </a:lnTo>
                    <a:lnTo>
                      <a:pt x="19" y="8"/>
                    </a:lnTo>
                    <a:lnTo>
                      <a:pt x="22" y="14"/>
                    </a:lnTo>
                    <a:lnTo>
                      <a:pt x="27" y="25"/>
                    </a:lnTo>
                    <a:lnTo>
                      <a:pt x="95" y="283"/>
                    </a:lnTo>
                    <a:lnTo>
                      <a:pt x="101" y="297"/>
                    </a:lnTo>
                    <a:lnTo>
                      <a:pt x="107" y="301"/>
                    </a:lnTo>
                    <a:lnTo>
                      <a:pt x="120" y="305"/>
                    </a:lnTo>
                    <a:lnTo>
                      <a:pt x="132" y="307"/>
                    </a:lnTo>
                    <a:lnTo>
                      <a:pt x="147" y="303"/>
                    </a:lnTo>
                    <a:lnTo>
                      <a:pt x="157" y="297"/>
                    </a:lnTo>
                    <a:lnTo>
                      <a:pt x="271" y="24"/>
                    </a:lnTo>
                    <a:lnTo>
                      <a:pt x="274" y="16"/>
                    </a:lnTo>
                    <a:lnTo>
                      <a:pt x="277" y="11"/>
                    </a:lnTo>
                    <a:lnTo>
                      <a:pt x="282" y="6"/>
                    </a:lnTo>
                    <a:lnTo>
                      <a:pt x="291" y="2"/>
                    </a:lnTo>
                    <a:lnTo>
                      <a:pt x="302" y="0"/>
                    </a:lnTo>
                  </a:path>
                </a:pathLst>
              </a:custGeom>
              <a:noFill/>
              <a:ln cap="rnd" w="12600">
                <a:solidFill>
                  <a:srgbClr val="40ff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25320" y="4419720"/>
                <a:ext cx="0" cy="1523880"/>
              </a:xfrm>
              <a:prstGeom prst="line">
                <a:avLst/>
              </a:prstGeom>
              <a:ln w="25560">
                <a:solidFill>
                  <a:srgbClr val="969696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92280" y="5497560"/>
                <a:ext cx="22096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1800" spc="-1" strike="noStrike">
                    <a:solidFill>
                      <a:srgbClr val="ff6699"/>
                    </a:solidFill>
                    <a:latin typeface="Arial"/>
                  </a:rPr>
                  <a:t>100 Hz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5320" y="4419720"/>
                <a:ext cx="1905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ff9900"/>
                    </a:solidFill>
                    <a:latin typeface="Arial"/>
                  </a:rPr>
                  <a:t>Presión acústica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247840" y="4962600"/>
                <a:ext cx="25560" cy="0"/>
              </a:xfrm>
              <a:prstGeom prst="line">
                <a:avLst/>
              </a:prstGeom>
              <a:ln w="1260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790000" y="4613400"/>
                <a:ext cx="7855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1000" spc="-1" strike="noStrike">
                    <a:solidFill>
                      <a:srgbClr val="ffffcc"/>
                    </a:solidFill>
                    <a:latin typeface="Arial"/>
                  </a:rPr>
                  <a:t>T  = 10 ms</a:t>
                </a:r>
                <a:endParaRPr b="0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2768760" y="4680000"/>
                <a:ext cx="0" cy="1936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2262240" y="4675320"/>
                <a:ext cx="0" cy="1936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57840" y="509256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ffffcc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3" name=""/>
          <p:cNvSpPr/>
          <p:nvPr/>
        </p:nvSpPr>
        <p:spPr>
          <a:xfrm>
            <a:off x="1782720" y="3144960"/>
            <a:ext cx="0" cy="155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983760" y="5106960"/>
            <a:ext cx="270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492120" y="2082960"/>
            <a:ext cx="8267760" cy="3249360"/>
          </a:xfrm>
          <a:custGeom>
            <a:avLst/>
            <a:gdLst/>
            <a:ahLst/>
            <a:rect l="l" t="t" r="r" b="b"/>
            <a:pathLst>
              <a:path w="5208" h="2047">
                <a:moveTo>
                  <a:pt x="0" y="0"/>
                </a:moveTo>
                <a:lnTo>
                  <a:pt x="5207" y="0"/>
                </a:lnTo>
                <a:lnTo>
                  <a:pt x="5207" y="2046"/>
                </a:lnTo>
                <a:lnTo>
                  <a:pt x="0" y="2046"/>
                </a:lnTo>
                <a:lnTo>
                  <a:pt x="0" y="0"/>
                </a:lnTo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ESPECTRO SONORO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6615000" y="5869080"/>
            <a:ext cx="3159000" cy="1977120"/>
            <a:chOff x="6615000" y="5869080"/>
            <a:chExt cx="3159000" cy="1977120"/>
          </a:xfrm>
        </p:grpSpPr>
        <p:sp>
          <p:nvSpPr>
            <p:cNvPr id="278" name=""/>
            <p:cNvSpPr/>
            <p:nvPr/>
          </p:nvSpPr>
          <p:spPr>
            <a:xfrm>
              <a:off x="6615000" y="6450120"/>
              <a:ext cx="1009440" cy="81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8"/>
                  </a:moveTo>
                  <a:arcTo wR="10800" hR="10800" stAng="-10786650" swAng="107733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8"/>
                  </a:moveTo>
                  <a:arcTo wR="10800" hR="10800" stAng="-10786650" swAng="10773300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075440" y="6227640"/>
              <a:ext cx="718920" cy="126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92"/>
                  </a:moveTo>
                  <a:arcTo wR="10800" hR="10800" stAng="-10765484" swAng="107306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92"/>
                  </a:moveTo>
                  <a:arcTo wR="10800" hR="10800" stAng="-10765484" swAng="10730661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467480" y="6021360"/>
              <a:ext cx="10616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0"/>
                  </a:moveTo>
                  <a:arcTo wR="10800" hR="10800" stAng="-10793492" swAng="10786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0"/>
                  </a:moveTo>
                  <a:arcTo wR="10800" hR="10800" stAng="-10793492" swAng="10786966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053560" y="6010200"/>
              <a:ext cx="864720" cy="167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978" swAng="10773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978" swAng="10773859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513640" y="5869080"/>
              <a:ext cx="1260360" cy="197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445" swAng="537244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445" swAng="5372445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81960" y="6553080"/>
              <a:ext cx="2460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mbiente consultor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49760" y="1963800"/>
            <a:ext cx="8610120" cy="3477600"/>
            <a:chOff x="149760" y="1963800"/>
            <a:chExt cx="8610120" cy="3477600"/>
          </a:xfrm>
        </p:grpSpPr>
        <p:grpSp>
          <p:nvGrpSpPr>
            <p:cNvPr id="285" name=""/>
            <p:cNvGrpSpPr/>
            <p:nvPr/>
          </p:nvGrpSpPr>
          <p:grpSpPr>
            <a:xfrm>
              <a:off x="149760" y="1963800"/>
              <a:ext cx="8610120" cy="3477600"/>
              <a:chOff x="149760" y="1963800"/>
              <a:chExt cx="8610120" cy="3477600"/>
            </a:xfrm>
          </p:grpSpPr>
          <p:sp>
            <p:nvSpPr>
              <p:cNvPr id="286" name=""/>
              <p:cNvSpPr/>
              <p:nvPr/>
            </p:nvSpPr>
            <p:spPr>
              <a:xfrm>
                <a:off x="492120" y="2082960"/>
                <a:ext cx="8267760" cy="3249360"/>
              </a:xfrm>
              <a:custGeom>
                <a:avLst/>
                <a:gdLst/>
                <a:ahLst/>
                <a:rect l="l" t="t" r="r" b="b"/>
                <a:pathLst>
                  <a:path w="5208" h="2047">
                    <a:moveTo>
                      <a:pt x="0" y="0"/>
                    </a:moveTo>
                    <a:lnTo>
                      <a:pt x="5207" y="0"/>
                    </a:lnTo>
                    <a:lnTo>
                      <a:pt x="5207" y="2046"/>
                    </a:lnTo>
                    <a:lnTo>
                      <a:pt x="0" y="204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ecff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62800" y="5211720"/>
                <a:ext cx="24912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900" spc="-1" strike="noStrike">
                    <a:solidFill>
                      <a:srgbClr val="ffffcc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05560" y="4748040"/>
                <a:ext cx="313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900" spc="-1" strike="noStrike">
                    <a:solidFill>
                      <a:srgbClr val="ffffcc"/>
                    </a:solidFill>
                    <a:latin typeface="Arial"/>
                  </a:rPr>
                  <a:t>20</a:t>
                </a:r>
                <a:endParaRPr b="0" lang="en-US" sz="9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05560" y="4284720"/>
                <a:ext cx="313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900" spc="-1" strike="noStrike">
                    <a:solidFill>
                      <a:srgbClr val="ffffcc"/>
                    </a:solidFill>
                    <a:latin typeface="Arial"/>
                  </a:rPr>
                  <a:t>40</a:t>
                </a:r>
                <a:endParaRPr b="0" lang="en-US" sz="9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05560" y="3819600"/>
                <a:ext cx="313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900" spc="-1" strike="noStrike">
                    <a:solidFill>
                      <a:srgbClr val="ffffcc"/>
                    </a:solidFill>
                    <a:latin typeface="Arial"/>
                  </a:rPr>
                  <a:t>60</a:t>
                </a:r>
                <a:endParaRPr b="0" lang="en-US" sz="9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05560" y="3355920"/>
                <a:ext cx="313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900" spc="-1" strike="noStrike">
                    <a:solidFill>
                      <a:srgbClr val="ffffcc"/>
                    </a:solidFill>
                    <a:latin typeface="Arial"/>
                  </a:rPr>
                  <a:t>80</a:t>
                </a:r>
                <a:endParaRPr b="0" lang="en-US" sz="9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49760" y="2892600"/>
                <a:ext cx="37692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900" spc="-1" strike="noStrike">
                    <a:solidFill>
                      <a:srgbClr val="ffffcc"/>
                    </a:solidFill>
                    <a:latin typeface="Arial"/>
                  </a:rPr>
                  <a:t>100</a:t>
                </a:r>
                <a:endParaRPr b="0" lang="en-US" sz="9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49760" y="2428920"/>
                <a:ext cx="37692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900" spc="-1" strike="noStrike">
                    <a:solidFill>
                      <a:srgbClr val="ffffcc"/>
                    </a:solidFill>
                    <a:latin typeface="Arial"/>
                  </a:rPr>
                  <a:t>120</a:t>
                </a:r>
                <a:endParaRPr b="0" lang="en-US" sz="9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49760" y="1963800"/>
                <a:ext cx="37692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900" spc="-1" strike="noStrike">
                    <a:solidFill>
                      <a:srgbClr val="ffffcc"/>
                    </a:solidFill>
                    <a:latin typeface="Arial"/>
                  </a:rPr>
                  <a:t>140</a:t>
                </a:r>
                <a:endParaRPr b="0" lang="en-US" sz="9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26960" y="2087640"/>
                <a:ext cx="838440" cy="70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1600" spc="-1" strike="noStrike">
                    <a:solidFill>
                      <a:srgbClr val="ffffcc"/>
                    </a:solidFill>
                    <a:latin typeface="Arial"/>
                  </a:rPr>
                  <a:t>NIVE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1600" spc="-1" strike="noStrike">
                    <a:solidFill>
                      <a:srgbClr val="ffffcc"/>
                    </a:solidFill>
                    <a:latin typeface="Arial"/>
                  </a:rPr>
                  <a:t>dB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492120" y="2082960"/>
              <a:ext cx="0" cy="32479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0440" y="4867200"/>
              <a:ext cx="633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60440" y="4402080"/>
              <a:ext cx="633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60440" y="3938760"/>
              <a:ext cx="633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60440" y="3475080"/>
              <a:ext cx="633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0440" y="3011400"/>
              <a:ext cx="633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0440" y="2546280"/>
              <a:ext cx="633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0440" y="2082960"/>
              <a:ext cx="633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068560" y="2963880"/>
            <a:ext cx="5905440" cy="1719360"/>
            <a:chOff x="2068560" y="2963880"/>
            <a:chExt cx="5905440" cy="1719360"/>
          </a:xfrm>
        </p:grpSpPr>
        <p:sp>
          <p:nvSpPr>
            <p:cNvPr id="305" name=""/>
            <p:cNvSpPr/>
            <p:nvPr/>
          </p:nvSpPr>
          <p:spPr>
            <a:xfrm>
              <a:off x="2068560" y="3822840"/>
              <a:ext cx="5905440" cy="860400"/>
            </a:xfrm>
            <a:custGeom>
              <a:avLst/>
              <a:gdLst/>
              <a:ahLst/>
              <a:rect l="l" t="t" r="r" b="b"/>
              <a:pathLst>
                <a:path w="3720" h="542">
                  <a:moveTo>
                    <a:pt x="0" y="0"/>
                  </a:moveTo>
                  <a:lnTo>
                    <a:pt x="246" y="117"/>
                  </a:lnTo>
                  <a:lnTo>
                    <a:pt x="495" y="146"/>
                  </a:lnTo>
                  <a:lnTo>
                    <a:pt x="744" y="248"/>
                  </a:lnTo>
                  <a:lnTo>
                    <a:pt x="990" y="292"/>
                  </a:lnTo>
                  <a:lnTo>
                    <a:pt x="1239" y="336"/>
                  </a:lnTo>
                  <a:lnTo>
                    <a:pt x="1488" y="365"/>
                  </a:lnTo>
                  <a:lnTo>
                    <a:pt x="1734" y="409"/>
                  </a:lnTo>
                  <a:lnTo>
                    <a:pt x="1983" y="424"/>
                  </a:lnTo>
                  <a:lnTo>
                    <a:pt x="2232" y="438"/>
                  </a:lnTo>
                  <a:lnTo>
                    <a:pt x="2478" y="511"/>
                  </a:lnTo>
                  <a:lnTo>
                    <a:pt x="2727" y="526"/>
                  </a:lnTo>
                  <a:lnTo>
                    <a:pt x="2975" y="541"/>
                  </a:lnTo>
                  <a:lnTo>
                    <a:pt x="3222" y="511"/>
                  </a:lnTo>
                  <a:lnTo>
                    <a:pt x="3471" y="409"/>
                  </a:lnTo>
                  <a:lnTo>
                    <a:pt x="3719" y="219"/>
                  </a:lnTo>
                </a:path>
              </a:pathLst>
            </a:custGeom>
            <a:noFill/>
            <a:ln cap="rnd" w="507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68560" y="2963880"/>
              <a:ext cx="5905440" cy="1208160"/>
            </a:xfrm>
            <a:custGeom>
              <a:avLst/>
              <a:gdLst/>
              <a:ahLst/>
              <a:rect l="l" t="t" r="r" b="b"/>
              <a:pathLst>
                <a:path w="3720" h="761">
                  <a:moveTo>
                    <a:pt x="0" y="541"/>
                  </a:moveTo>
                  <a:lnTo>
                    <a:pt x="246" y="205"/>
                  </a:lnTo>
                  <a:lnTo>
                    <a:pt x="495" y="103"/>
                  </a:lnTo>
                  <a:lnTo>
                    <a:pt x="744" y="30"/>
                  </a:lnTo>
                  <a:lnTo>
                    <a:pt x="990" y="15"/>
                  </a:lnTo>
                  <a:lnTo>
                    <a:pt x="1239" y="0"/>
                  </a:lnTo>
                  <a:lnTo>
                    <a:pt x="1488" y="15"/>
                  </a:lnTo>
                  <a:lnTo>
                    <a:pt x="1734" y="30"/>
                  </a:lnTo>
                  <a:lnTo>
                    <a:pt x="1983" y="59"/>
                  </a:lnTo>
                  <a:lnTo>
                    <a:pt x="2232" y="103"/>
                  </a:lnTo>
                  <a:lnTo>
                    <a:pt x="2478" y="132"/>
                  </a:lnTo>
                  <a:lnTo>
                    <a:pt x="2727" y="220"/>
                  </a:lnTo>
                  <a:lnTo>
                    <a:pt x="2975" y="322"/>
                  </a:lnTo>
                  <a:lnTo>
                    <a:pt x="3222" y="366"/>
                  </a:lnTo>
                  <a:lnTo>
                    <a:pt x="3471" y="497"/>
                  </a:lnTo>
                  <a:lnTo>
                    <a:pt x="3719" y="760"/>
                  </a:lnTo>
                </a:path>
              </a:pathLst>
            </a:custGeom>
            <a:noFill/>
            <a:ln cap="rnd" w="507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52840" y="3124080"/>
              <a:ext cx="1431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Arial"/>
                </a:rPr>
                <a:t>MUSIC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2854440" y="3475080"/>
            <a:ext cx="4725720" cy="976320"/>
            <a:chOff x="2854440" y="3475080"/>
            <a:chExt cx="4725720" cy="976320"/>
          </a:xfrm>
        </p:grpSpPr>
        <p:sp>
          <p:nvSpPr>
            <p:cNvPr id="309" name=""/>
            <p:cNvSpPr/>
            <p:nvPr/>
          </p:nvSpPr>
          <p:spPr>
            <a:xfrm>
              <a:off x="2854440" y="3938760"/>
              <a:ext cx="4725720" cy="512640"/>
            </a:xfrm>
            <a:custGeom>
              <a:avLst/>
              <a:gdLst/>
              <a:ahLst/>
              <a:rect l="l" t="t" r="r" b="b"/>
              <a:pathLst>
                <a:path w="2977" h="323">
                  <a:moveTo>
                    <a:pt x="0" y="0"/>
                  </a:moveTo>
                  <a:lnTo>
                    <a:pt x="249" y="102"/>
                  </a:lnTo>
                  <a:lnTo>
                    <a:pt x="495" y="146"/>
                  </a:lnTo>
                  <a:lnTo>
                    <a:pt x="744" y="117"/>
                  </a:lnTo>
                  <a:lnTo>
                    <a:pt x="993" y="175"/>
                  </a:lnTo>
                  <a:lnTo>
                    <a:pt x="1239" y="161"/>
                  </a:lnTo>
                  <a:lnTo>
                    <a:pt x="1488" y="146"/>
                  </a:lnTo>
                  <a:lnTo>
                    <a:pt x="1737" y="263"/>
                  </a:lnTo>
                  <a:lnTo>
                    <a:pt x="1983" y="292"/>
                  </a:lnTo>
                  <a:lnTo>
                    <a:pt x="2232" y="307"/>
                  </a:lnTo>
                  <a:lnTo>
                    <a:pt x="2480" y="322"/>
                  </a:lnTo>
                  <a:lnTo>
                    <a:pt x="2727" y="322"/>
                  </a:lnTo>
                  <a:lnTo>
                    <a:pt x="2976" y="278"/>
                  </a:lnTo>
                </a:path>
              </a:pathLst>
            </a:custGeom>
            <a:noFill/>
            <a:ln cap="rnd" w="507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854440" y="3475080"/>
              <a:ext cx="4725720" cy="906480"/>
            </a:xfrm>
            <a:custGeom>
              <a:avLst/>
              <a:gdLst/>
              <a:ahLst/>
              <a:rect l="l" t="t" r="r" b="b"/>
              <a:pathLst>
                <a:path w="2977" h="571">
                  <a:moveTo>
                    <a:pt x="0" y="292"/>
                  </a:moveTo>
                  <a:lnTo>
                    <a:pt x="249" y="234"/>
                  </a:lnTo>
                  <a:lnTo>
                    <a:pt x="495" y="146"/>
                  </a:lnTo>
                  <a:lnTo>
                    <a:pt x="744" y="102"/>
                  </a:lnTo>
                  <a:lnTo>
                    <a:pt x="993" y="14"/>
                  </a:lnTo>
                  <a:lnTo>
                    <a:pt x="1239" y="0"/>
                  </a:lnTo>
                  <a:lnTo>
                    <a:pt x="1488" y="14"/>
                  </a:lnTo>
                  <a:lnTo>
                    <a:pt x="1737" y="29"/>
                  </a:lnTo>
                  <a:lnTo>
                    <a:pt x="1983" y="146"/>
                  </a:lnTo>
                  <a:lnTo>
                    <a:pt x="2232" y="248"/>
                  </a:lnTo>
                  <a:lnTo>
                    <a:pt x="2480" y="292"/>
                  </a:lnTo>
                  <a:lnTo>
                    <a:pt x="2727" y="336"/>
                  </a:lnTo>
                  <a:lnTo>
                    <a:pt x="2976" y="570"/>
                  </a:lnTo>
                </a:path>
              </a:pathLst>
            </a:custGeom>
            <a:noFill/>
            <a:ln cap="rnd" w="507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41920" y="3795840"/>
              <a:ext cx="2939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99ff33"/>
                  </a:solidFill>
                  <a:latin typeface="Arial"/>
                </a:rPr>
                <a:t>CONVERSACIO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343440" y="5292360"/>
            <a:ext cx="8768880" cy="698040"/>
            <a:chOff x="343440" y="5292360"/>
            <a:chExt cx="8768880" cy="698040"/>
          </a:xfrm>
        </p:grpSpPr>
        <p:sp>
          <p:nvSpPr>
            <p:cNvPr id="313" name=""/>
            <p:cNvSpPr/>
            <p:nvPr/>
          </p:nvSpPr>
          <p:spPr>
            <a:xfrm>
              <a:off x="460440" y="5330880"/>
              <a:ext cx="633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92120" y="5330880"/>
              <a:ext cx="8265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492120" y="5292360"/>
              <a:ext cx="0" cy="74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1278000" y="5292360"/>
              <a:ext cx="0" cy="74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068560" y="5292360"/>
              <a:ext cx="0" cy="74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854440" y="5292360"/>
              <a:ext cx="0" cy="74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3639960" y="5292360"/>
              <a:ext cx="0" cy="74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4430880" y="5292360"/>
              <a:ext cx="0" cy="74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5216400" y="5292360"/>
              <a:ext cx="0" cy="74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6002280" y="5292360"/>
              <a:ext cx="0" cy="74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6791400" y="5292360"/>
              <a:ext cx="0" cy="74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7578720" y="5292360"/>
              <a:ext cx="0" cy="74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8364600" y="5292360"/>
              <a:ext cx="0" cy="74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43440" y="5388120"/>
              <a:ext cx="313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16</a:t>
              </a:r>
              <a:endParaRPr b="0" lang="en-US" sz="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9320" y="5388120"/>
              <a:ext cx="313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32</a:t>
              </a:r>
              <a:endParaRPr b="0" lang="en-US" sz="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18440" y="5388120"/>
              <a:ext cx="313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64</a:t>
              </a:r>
              <a:endParaRPr b="0" lang="en-US" sz="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676960" y="5388120"/>
              <a:ext cx="3769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125</a:t>
              </a:r>
              <a:endParaRPr b="0" lang="en-US" sz="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462840" y="5388120"/>
              <a:ext cx="3769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250</a:t>
              </a:r>
              <a:endParaRPr b="0" lang="en-US" sz="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51960" y="5388120"/>
              <a:ext cx="3769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500</a:t>
              </a:r>
              <a:endParaRPr b="0" lang="en-US" sz="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010480" y="5388120"/>
              <a:ext cx="4410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1000</a:t>
              </a:r>
              <a:endParaRPr b="0" lang="en-US" sz="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796000" y="5388120"/>
              <a:ext cx="4410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2000</a:t>
              </a:r>
              <a:endParaRPr b="0" lang="en-US" sz="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585120" y="5388120"/>
              <a:ext cx="4410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4000</a:t>
              </a:r>
              <a:endParaRPr b="0" lang="en-US" sz="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71000" y="5388120"/>
              <a:ext cx="4410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8000</a:t>
              </a:r>
              <a:endParaRPr b="0" lang="en-US" sz="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29520" y="5388120"/>
              <a:ext cx="5050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16000</a:t>
              </a:r>
              <a:endParaRPr b="0" lang="en-US" sz="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872400" y="5654520"/>
              <a:ext cx="2239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FRECUENCIA (HZ)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96520" y="2500200"/>
            <a:ext cx="8196480" cy="2738520"/>
            <a:chOff x="596520" y="2500200"/>
            <a:chExt cx="8196480" cy="2738520"/>
          </a:xfrm>
        </p:grpSpPr>
        <p:grpSp>
          <p:nvGrpSpPr>
            <p:cNvPr id="339" name=""/>
            <p:cNvGrpSpPr/>
            <p:nvPr/>
          </p:nvGrpSpPr>
          <p:grpSpPr>
            <a:xfrm>
              <a:off x="887400" y="2500200"/>
              <a:ext cx="7905600" cy="2738520"/>
              <a:chOff x="887400" y="2500200"/>
              <a:chExt cx="7905600" cy="2738520"/>
            </a:xfrm>
          </p:grpSpPr>
          <p:sp>
            <p:nvSpPr>
              <p:cNvPr id="340" name=""/>
              <p:cNvSpPr/>
              <p:nvPr/>
            </p:nvSpPr>
            <p:spPr>
              <a:xfrm>
                <a:off x="887400" y="2523960"/>
                <a:ext cx="7872480" cy="2714760"/>
              </a:xfrm>
              <a:custGeom>
                <a:avLst/>
                <a:gdLst/>
                <a:ahLst/>
                <a:rect l="l" t="t" r="r" b="b"/>
                <a:pathLst>
                  <a:path w="4959" h="1710">
                    <a:moveTo>
                      <a:pt x="0" y="307"/>
                    </a:moveTo>
                    <a:lnTo>
                      <a:pt x="246" y="599"/>
                    </a:lnTo>
                    <a:lnTo>
                      <a:pt x="495" y="745"/>
                    </a:lnTo>
                    <a:lnTo>
                      <a:pt x="744" y="891"/>
                    </a:lnTo>
                    <a:lnTo>
                      <a:pt x="990" y="1066"/>
                    </a:lnTo>
                    <a:lnTo>
                      <a:pt x="1239" y="1183"/>
                    </a:lnTo>
                    <a:lnTo>
                      <a:pt x="1488" y="1227"/>
                    </a:lnTo>
                    <a:lnTo>
                      <a:pt x="1734" y="1359"/>
                    </a:lnTo>
                    <a:lnTo>
                      <a:pt x="1983" y="1476"/>
                    </a:lnTo>
                    <a:lnTo>
                      <a:pt x="2232" y="1505"/>
                    </a:lnTo>
                    <a:lnTo>
                      <a:pt x="2478" y="1592"/>
                    </a:lnTo>
                    <a:lnTo>
                      <a:pt x="2727" y="1651"/>
                    </a:lnTo>
                    <a:lnTo>
                      <a:pt x="2976" y="1680"/>
                    </a:lnTo>
                    <a:lnTo>
                      <a:pt x="3222" y="1709"/>
                    </a:lnTo>
                    <a:lnTo>
                      <a:pt x="3471" y="1622"/>
                    </a:lnTo>
                    <a:lnTo>
                      <a:pt x="3719" y="1519"/>
                    </a:lnTo>
                    <a:lnTo>
                      <a:pt x="3966" y="1476"/>
                    </a:lnTo>
                    <a:lnTo>
                      <a:pt x="4215" y="1402"/>
                    </a:lnTo>
                    <a:lnTo>
                      <a:pt x="4463" y="1183"/>
                    </a:lnTo>
                    <a:lnTo>
                      <a:pt x="4710" y="891"/>
                    </a:lnTo>
                    <a:lnTo>
                      <a:pt x="4958" y="0"/>
                    </a:lnTo>
                  </a:path>
                </a:pathLst>
              </a:custGeom>
              <a:noFill/>
              <a:ln cap="rnd" w="507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87400" y="2500200"/>
                <a:ext cx="7872480" cy="513000"/>
              </a:xfrm>
              <a:custGeom>
                <a:avLst/>
                <a:gdLst/>
                <a:ahLst/>
                <a:rect l="l" t="t" r="r" b="b"/>
                <a:pathLst>
                  <a:path w="4959" h="323">
                    <a:moveTo>
                      <a:pt x="0" y="322"/>
                    </a:moveTo>
                    <a:lnTo>
                      <a:pt x="246" y="132"/>
                    </a:lnTo>
                    <a:lnTo>
                      <a:pt x="495" y="88"/>
                    </a:lnTo>
                    <a:lnTo>
                      <a:pt x="744" y="29"/>
                    </a:lnTo>
                    <a:lnTo>
                      <a:pt x="990" y="15"/>
                    </a:lnTo>
                    <a:lnTo>
                      <a:pt x="1239" y="0"/>
                    </a:lnTo>
                    <a:lnTo>
                      <a:pt x="1488" y="15"/>
                    </a:lnTo>
                    <a:lnTo>
                      <a:pt x="1734" y="15"/>
                    </a:lnTo>
                    <a:lnTo>
                      <a:pt x="1983" y="29"/>
                    </a:lnTo>
                    <a:lnTo>
                      <a:pt x="2232" y="29"/>
                    </a:lnTo>
                    <a:lnTo>
                      <a:pt x="2478" y="44"/>
                    </a:lnTo>
                    <a:lnTo>
                      <a:pt x="2727" y="59"/>
                    </a:lnTo>
                    <a:lnTo>
                      <a:pt x="2976" y="88"/>
                    </a:lnTo>
                    <a:lnTo>
                      <a:pt x="3222" y="102"/>
                    </a:lnTo>
                    <a:lnTo>
                      <a:pt x="3471" y="117"/>
                    </a:lnTo>
                    <a:lnTo>
                      <a:pt x="3719" y="102"/>
                    </a:lnTo>
                    <a:lnTo>
                      <a:pt x="3966" y="29"/>
                    </a:lnTo>
                    <a:lnTo>
                      <a:pt x="4215" y="0"/>
                    </a:lnTo>
                    <a:lnTo>
                      <a:pt x="4463" y="0"/>
                    </a:lnTo>
                    <a:lnTo>
                      <a:pt x="4710" y="15"/>
                    </a:lnTo>
                    <a:lnTo>
                      <a:pt x="4958" y="15"/>
                    </a:lnTo>
                  </a:path>
                </a:pathLst>
              </a:custGeom>
              <a:noFill/>
              <a:ln cap="rnd" w="507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086600" y="2637000"/>
                <a:ext cx="17064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Arial"/>
                  </a:rPr>
                  <a:t>SONIDOS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520" y="4732200"/>
              <a:ext cx="179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800000"/>
                  </a:solidFill>
                  <a:latin typeface="Arial"/>
                </a:rPr>
                <a:t>INAUDIBLE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685800" y="8380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RANGOS DE NIVEL Y FRECUENCIA AUDI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2120" y="5943600"/>
            <a:ext cx="510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La mayor parte de la vida humana se desarrolla en ambientes entre 40 y 80 dB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4861080" y="1027080"/>
            <a:ext cx="3520800" cy="1739880"/>
          </a:xfrm>
          <a:prstGeom prst="rect">
            <a:avLst/>
          </a:prstGeom>
          <a:solidFill>
            <a:srgbClr val="ffff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DISTANCIA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IVE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x  1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- 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x  1,5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- 4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x  2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- 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x  5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- 14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x 10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- 2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6615000" y="5869080"/>
            <a:ext cx="3159000" cy="1977120"/>
            <a:chOff x="6615000" y="5869080"/>
            <a:chExt cx="3159000" cy="1977120"/>
          </a:xfrm>
        </p:grpSpPr>
        <p:sp>
          <p:nvSpPr>
            <p:cNvPr id="348" name=""/>
            <p:cNvSpPr/>
            <p:nvPr/>
          </p:nvSpPr>
          <p:spPr>
            <a:xfrm>
              <a:off x="6615000" y="6450120"/>
              <a:ext cx="1009440" cy="81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8"/>
                  </a:moveTo>
                  <a:arcTo wR="10800" hR="10800" stAng="-10786650" swAng="107733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8"/>
                  </a:moveTo>
                  <a:arcTo wR="10800" hR="10800" stAng="-10786650" swAng="10773300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075440" y="6227640"/>
              <a:ext cx="718920" cy="126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92"/>
                  </a:moveTo>
                  <a:arcTo wR="10800" hR="10800" stAng="-10765484" swAng="107306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92"/>
                  </a:moveTo>
                  <a:arcTo wR="10800" hR="10800" stAng="-10765484" swAng="10730661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67480" y="6021360"/>
              <a:ext cx="10616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0"/>
                  </a:moveTo>
                  <a:arcTo wR="10800" hR="10800" stAng="-10793492" swAng="10786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0"/>
                  </a:moveTo>
                  <a:arcTo wR="10800" hR="10800" stAng="-10793492" swAng="10786966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053560" y="6010200"/>
              <a:ext cx="864720" cy="167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978" swAng="10773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978" swAng="10773859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13640" y="5869080"/>
              <a:ext cx="1260360" cy="197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445" swAng="537244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445" swAng="5372445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81960" y="6553080"/>
              <a:ext cx="2460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mbiente consultor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0" y="2086920"/>
            <a:ext cx="9142560" cy="3396240"/>
            <a:chOff x="0" y="2086920"/>
            <a:chExt cx="9142560" cy="3396240"/>
          </a:xfrm>
        </p:grpSpPr>
        <p:grpSp>
          <p:nvGrpSpPr>
            <p:cNvPr id="355" name=""/>
            <p:cNvGrpSpPr/>
            <p:nvPr/>
          </p:nvGrpSpPr>
          <p:grpSpPr>
            <a:xfrm>
              <a:off x="2344320" y="2086920"/>
              <a:ext cx="1733760" cy="2768400"/>
              <a:chOff x="2344320" y="2086920"/>
              <a:chExt cx="1733760" cy="2768400"/>
            </a:xfrm>
          </p:grpSpPr>
          <p:grpSp>
            <p:nvGrpSpPr>
              <p:cNvPr id="356" name=""/>
              <p:cNvGrpSpPr/>
              <p:nvPr/>
            </p:nvGrpSpPr>
            <p:grpSpPr>
              <a:xfrm>
                <a:off x="2941560" y="2086920"/>
                <a:ext cx="1136520" cy="2768400"/>
                <a:chOff x="2941560" y="2086920"/>
                <a:chExt cx="1136520" cy="276840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3141720" y="2086920"/>
                  <a:ext cx="936360" cy="2768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92" y="204"/>
                      </a:moveTo>
                      <a:arcTo wR="10800" hR="10800" stAng="-4730013" swAng="921888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92" y="204"/>
                      </a:moveTo>
                      <a:arcTo wR="10800" hR="10800" stAng="-4730013" swAng="9218889"/>
                    </a:path>
                  </a:pathLst>
                </a:custGeom>
                <a:noFill/>
                <a:ln cap="rnd" w="1260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3071520" y="2263680"/>
                  <a:ext cx="809640" cy="2380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60" y="218"/>
                      </a:moveTo>
                      <a:arcTo wR="10800" hR="10800" stAng="-4707923" swAng="919316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60" y="218"/>
                      </a:moveTo>
                      <a:arcTo wR="10800" hR="10800" stAng="-4707923" swAng="9193160"/>
                    </a:path>
                  </a:pathLst>
                </a:custGeom>
                <a:noFill/>
                <a:ln cap="rnd" w="1260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941560" y="2469960"/>
                  <a:ext cx="752040" cy="2011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94" y="205"/>
                      </a:moveTo>
                      <a:arcTo wR="10800" hR="10800" stAng="-4729071" swAng="923256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94" y="205"/>
                      </a:moveTo>
                      <a:arcTo wR="10800" hR="10800" stAng="-4729071" swAng="9232560"/>
                    </a:path>
                  </a:pathLst>
                </a:custGeom>
                <a:noFill/>
                <a:ln cap="rnd" w="1260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2567160" y="2603880"/>
                <a:ext cx="958320" cy="1838880"/>
                <a:chOff x="2567160" y="2603880"/>
                <a:chExt cx="958320" cy="183888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2735280" y="2603880"/>
                  <a:ext cx="790200" cy="1838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79" y="202"/>
                      </a:moveTo>
                      <a:arcTo wR="10800" hR="10800" stAng="-4734110" swAng="92381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79" y="202"/>
                      </a:moveTo>
                      <a:arcTo wR="10800" hR="10800" stAng="-4734110" swAng="9238115"/>
                    </a:path>
                  </a:pathLst>
                </a:custGeom>
                <a:noFill/>
                <a:ln cap="rnd" w="1260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678760" y="2721600"/>
                  <a:ext cx="684720" cy="1581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04" y="188"/>
                      </a:moveTo>
                      <a:arcTo wR="10800" hR="10800" stAng="-4758389" swAng="928491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04" y="188"/>
                      </a:moveTo>
                      <a:arcTo wR="10800" hR="10800" stAng="-4758389" swAng="9284913"/>
                    </a:path>
                  </a:pathLst>
                </a:custGeom>
                <a:noFill/>
                <a:ln cap="rnd" w="1260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567160" y="2855880"/>
                  <a:ext cx="637560" cy="1337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01" y="206"/>
                      </a:moveTo>
                      <a:arcTo wR="10800" hR="10800" stAng="-4727086" swAng="922393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01" y="206"/>
                      </a:moveTo>
                      <a:arcTo wR="10800" hR="10800" stAng="-4727086" swAng="9223930"/>
                    </a:path>
                  </a:pathLst>
                </a:custGeom>
                <a:noFill/>
                <a:ln cap="rnd" w="1260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4" name=""/>
              <p:cNvSpPr/>
              <p:nvPr/>
            </p:nvSpPr>
            <p:spPr>
              <a:xfrm>
                <a:off x="2487600" y="2972160"/>
                <a:ext cx="574200" cy="115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83" y="203"/>
                    </a:moveTo>
                    <a:arcTo wR="10800" hR="10800" stAng="-4732644" swAng="924683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83" y="203"/>
                    </a:moveTo>
                    <a:arcTo wR="10800" hR="10800" stAng="-4732644" swAng="9246835"/>
                  </a:path>
                </a:pathLst>
              </a:custGeom>
              <a:noFill/>
              <a:ln cap="rnd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406240" y="3044520"/>
                <a:ext cx="498600" cy="100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789" y="185"/>
                    </a:moveTo>
                    <a:arcTo wR="10800" hR="10800" stAng="-4763199" swAng="929582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789" y="185"/>
                    </a:moveTo>
                    <a:arcTo wR="10800" hR="10800" stAng="-4763199" swAng="9295820"/>
                  </a:path>
                </a:pathLst>
              </a:custGeom>
              <a:noFill/>
              <a:ln cap="rnd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344320" y="3178800"/>
                <a:ext cx="428760" cy="78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75" y="201"/>
                    </a:moveTo>
                    <a:arcTo wR="10800" hR="10800" stAng="-4735421" swAng="92035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75" y="201"/>
                    </a:moveTo>
                    <a:arcTo wR="10800" hR="10800" stAng="-4735421" swAng="9203526"/>
                  </a:path>
                </a:pathLst>
              </a:custGeom>
              <a:noFill/>
              <a:ln cap="rnd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388960" y="3291480"/>
                <a:ext cx="260280" cy="595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641" y="158"/>
                    </a:moveTo>
                    <a:arcTo wR="10800" hR="10800" stAng="-4810969" swAng="93147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641" y="158"/>
                    </a:moveTo>
                    <a:arcTo wR="10800" hR="10800" stAng="-4810969" swAng="9314757"/>
                  </a:path>
                </a:pathLst>
              </a:custGeom>
              <a:noFill/>
              <a:ln cap="rnd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368" name=""/>
            <p:cNvGraphicFramePr/>
            <p:nvPr/>
          </p:nvGraphicFramePr>
          <p:xfrm>
            <a:off x="1382760" y="3108240"/>
            <a:ext cx="1063440" cy="827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82760" y="3108240"/>
                      <a:ext cx="1063440" cy="82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0" name=""/>
            <p:cNvSpPr/>
            <p:nvPr/>
          </p:nvSpPr>
          <p:spPr>
            <a:xfrm>
              <a:off x="0" y="4929120"/>
              <a:ext cx="9142560" cy="5540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aphicFrame>
          <p:nvGraphicFramePr>
            <p:cNvPr id="371" name=""/>
            <p:cNvGraphicFramePr/>
            <p:nvPr/>
          </p:nvGraphicFramePr>
          <p:xfrm>
            <a:off x="560520" y="3251160"/>
            <a:ext cx="1038240" cy="1670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0520" y="3251160"/>
                      <a:ext cx="1038240" cy="167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73" name=""/>
          <p:cNvGrpSpPr/>
          <p:nvPr/>
        </p:nvGrpSpPr>
        <p:grpSpPr>
          <a:xfrm>
            <a:off x="4191120" y="3200400"/>
            <a:ext cx="1901880" cy="1733400"/>
            <a:chOff x="4191120" y="3200400"/>
            <a:chExt cx="1901880" cy="1733400"/>
          </a:xfrm>
        </p:grpSpPr>
        <p:graphicFrame>
          <p:nvGraphicFramePr>
            <p:cNvPr id="374" name=""/>
            <p:cNvGraphicFramePr/>
            <p:nvPr/>
          </p:nvGraphicFramePr>
          <p:xfrm>
            <a:off x="4191120" y="3429000"/>
            <a:ext cx="1304640" cy="1504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7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191120" y="3429000"/>
                      <a:ext cx="1304640" cy="15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6" name=""/>
            <p:cNvSpPr/>
            <p:nvPr/>
          </p:nvSpPr>
          <p:spPr>
            <a:xfrm>
              <a:off x="4800600" y="3200400"/>
              <a:ext cx="1292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Arial"/>
                </a:rPr>
                <a:t>90 dB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6988320" y="3200400"/>
            <a:ext cx="1923840" cy="1698480"/>
            <a:chOff x="6988320" y="3200400"/>
            <a:chExt cx="1923840" cy="1698480"/>
          </a:xfrm>
        </p:grpSpPr>
        <p:graphicFrame>
          <p:nvGraphicFramePr>
            <p:cNvPr id="378" name=""/>
            <p:cNvGraphicFramePr/>
            <p:nvPr/>
          </p:nvGraphicFramePr>
          <p:xfrm>
            <a:off x="6988320" y="3394080"/>
            <a:ext cx="1304640" cy="1504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7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988320" y="3394080"/>
                      <a:ext cx="1304640" cy="15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0" name=""/>
            <p:cNvSpPr/>
            <p:nvPr/>
          </p:nvSpPr>
          <p:spPr>
            <a:xfrm>
              <a:off x="7620120" y="3200400"/>
              <a:ext cx="1292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84dB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1676520" y="336600"/>
            <a:ext cx="5638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EFECTO DE LA DISTANC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520" y="5410080"/>
            <a:ext cx="8153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ff9900"/>
                </a:solidFill>
                <a:uFillTx/>
                <a:latin typeface="Arial"/>
              </a:rPr>
              <a:t>ATENUACION POR DOBLE DISTANCIA</a:t>
            </a:r>
            <a:r>
              <a:rPr b="0" lang="es-ES_tradnl" sz="2400" spc="-1" strike="noStrike">
                <a:solidFill>
                  <a:srgbClr val="ff9900"/>
                </a:solidFill>
                <a:latin typeface="Arial"/>
              </a:rPr>
              <a:t> = </a:t>
            </a:r>
            <a:r>
              <a:rPr b="0" lang="es-ES_tradnl" sz="3200" spc="-1" strike="noStrike">
                <a:solidFill>
                  <a:srgbClr val="ff9900"/>
                </a:solidFill>
                <a:latin typeface="Arial"/>
              </a:rPr>
              <a:t>6 d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9480" y="1143000"/>
            <a:ext cx="419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in obstrucciones, el sonido se propaga en forma esférica, atenuándose a medida que la energía acústica emitida se distribuye en una esfera cada vez mayor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"/>
          <p:cNvGrpSpPr/>
          <p:nvPr/>
        </p:nvGrpSpPr>
        <p:grpSpPr>
          <a:xfrm>
            <a:off x="6615000" y="5869080"/>
            <a:ext cx="3159000" cy="1977120"/>
            <a:chOff x="6615000" y="5869080"/>
            <a:chExt cx="3159000" cy="1977120"/>
          </a:xfrm>
        </p:grpSpPr>
        <p:sp>
          <p:nvSpPr>
            <p:cNvPr id="385" name=""/>
            <p:cNvSpPr/>
            <p:nvPr/>
          </p:nvSpPr>
          <p:spPr>
            <a:xfrm>
              <a:off x="6615000" y="6450120"/>
              <a:ext cx="1009440" cy="81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8"/>
                  </a:moveTo>
                  <a:arcTo wR="10800" hR="10800" stAng="-10786650" swAng="107733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8"/>
                  </a:moveTo>
                  <a:arcTo wR="10800" hR="10800" stAng="-10786650" swAng="10773300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075440" y="6227640"/>
              <a:ext cx="718920" cy="126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92"/>
                  </a:moveTo>
                  <a:arcTo wR="10800" hR="10800" stAng="-10765484" swAng="107306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92"/>
                  </a:moveTo>
                  <a:arcTo wR="10800" hR="10800" stAng="-10765484" swAng="10730661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467480" y="6021360"/>
              <a:ext cx="10616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0"/>
                  </a:moveTo>
                  <a:arcTo wR="10800" hR="10800" stAng="-10793492" swAng="10786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0"/>
                  </a:moveTo>
                  <a:arcTo wR="10800" hR="10800" stAng="-10793492" swAng="10786966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053560" y="6010200"/>
              <a:ext cx="864720" cy="167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978" swAng="10773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978" swAng="10773859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513640" y="5869080"/>
              <a:ext cx="1260360" cy="197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445" swAng="537244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445" swAng="5372445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81960" y="6553080"/>
              <a:ext cx="2460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mbiente consultor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500040" y="932040"/>
            <a:ext cx="3228840" cy="2831400"/>
            <a:chOff x="500040" y="932040"/>
            <a:chExt cx="3228840" cy="2831400"/>
          </a:xfrm>
        </p:grpSpPr>
        <p:sp>
          <p:nvSpPr>
            <p:cNvPr id="392" name=""/>
            <p:cNvSpPr/>
            <p:nvPr/>
          </p:nvSpPr>
          <p:spPr>
            <a:xfrm>
              <a:off x="512640" y="3235320"/>
              <a:ext cx="2462400" cy="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00040" y="1344600"/>
              <a:ext cx="306360" cy="3063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5160" y="1652760"/>
              <a:ext cx="655920" cy="154440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43040" y="1622520"/>
              <a:ext cx="1496880" cy="157464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1352520" y="932040"/>
              <a:ext cx="968400" cy="2261880"/>
            </a:xfrm>
            <a:prstGeom prst="line">
              <a:avLst/>
            </a:prstGeom>
            <a:ln w="25560">
              <a:solidFill>
                <a:srgbClr val="99ff33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2239920" y="1635120"/>
              <a:ext cx="1488960" cy="1558800"/>
            </a:xfrm>
            <a:prstGeom prst="line">
              <a:avLst/>
            </a:prstGeom>
            <a:ln w="25560">
              <a:solidFill>
                <a:srgbClr val="99ff33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66640" y="3305160"/>
              <a:ext cx="26416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Arial"/>
                </a:rPr>
                <a:t>Superficie Plan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36880" y="1390680"/>
              <a:ext cx="1682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99ff33"/>
                  </a:solidFill>
                  <a:latin typeface="Arial"/>
                </a:rPr>
                <a:t>Sonido es reflejado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276800" y="853920"/>
            <a:ext cx="5017680" cy="6511680"/>
            <a:chOff x="4276800" y="853920"/>
            <a:chExt cx="5017680" cy="6511680"/>
          </a:xfrm>
        </p:grpSpPr>
        <p:sp>
          <p:nvSpPr>
            <p:cNvPr id="401" name=""/>
            <p:cNvSpPr/>
            <p:nvPr/>
          </p:nvSpPr>
          <p:spPr>
            <a:xfrm rot="13680000">
              <a:off x="5121720" y="2994480"/>
              <a:ext cx="3327480" cy="375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50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4924440" y="853920"/>
              <a:ext cx="3983040" cy="3222360"/>
              <a:chOff x="4924440" y="853920"/>
              <a:chExt cx="3983040" cy="3222360"/>
            </a:xfrm>
          </p:grpSpPr>
          <p:sp>
            <p:nvSpPr>
              <p:cNvPr id="403" name=""/>
              <p:cNvSpPr/>
              <p:nvPr/>
            </p:nvSpPr>
            <p:spPr>
              <a:xfrm>
                <a:off x="5597640" y="1300320"/>
                <a:ext cx="306360" cy="3063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829480" y="1627200"/>
                <a:ext cx="655560" cy="154476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877000" y="1596960"/>
                <a:ext cx="1496880" cy="157500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 flipV="1">
                <a:off x="4924440" y="1019160"/>
                <a:ext cx="1542960" cy="2160720"/>
              </a:xfrm>
              <a:prstGeom prst="line">
                <a:avLst/>
              </a:prstGeom>
              <a:ln w="25560">
                <a:solidFill>
                  <a:srgbClr val="99ff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7364520" y="977760"/>
                <a:ext cx="1542960" cy="2160720"/>
              </a:xfrm>
              <a:prstGeom prst="line">
                <a:avLst/>
              </a:prstGeom>
              <a:ln w="25560">
                <a:solidFill>
                  <a:srgbClr val="99ff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683320" y="3618000"/>
                <a:ext cx="30718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Arial"/>
                  </a:rPr>
                  <a:t>Superficie Convexa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595840" y="853920"/>
                <a:ext cx="29116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99ff33"/>
                    </a:solidFill>
                    <a:latin typeface="Arial"/>
                  </a:rPr>
                  <a:t>Sonido es disperso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-974520" y="1870560"/>
            <a:ext cx="6006960" cy="4986000"/>
            <a:chOff x="-974520" y="1870560"/>
            <a:chExt cx="6006960" cy="4986000"/>
          </a:xfrm>
        </p:grpSpPr>
        <p:grpSp>
          <p:nvGrpSpPr>
            <p:cNvPr id="411" name=""/>
            <p:cNvGrpSpPr/>
            <p:nvPr/>
          </p:nvGrpSpPr>
          <p:grpSpPr>
            <a:xfrm>
              <a:off x="-974520" y="1870560"/>
              <a:ext cx="5017680" cy="4986000"/>
              <a:chOff x="-974520" y="1870560"/>
              <a:chExt cx="5017680" cy="4986000"/>
            </a:xfrm>
          </p:grpSpPr>
          <p:sp>
            <p:nvSpPr>
              <p:cNvPr id="412" name=""/>
              <p:cNvSpPr/>
              <p:nvPr/>
            </p:nvSpPr>
            <p:spPr>
              <a:xfrm rot="18720000">
                <a:off x="-129240" y="2485440"/>
                <a:ext cx="3327480" cy="3755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936720" y="4135320"/>
                <a:ext cx="306360" cy="3063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1160640" y="4451400"/>
              <a:ext cx="684000" cy="161928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03480" y="4424400"/>
              <a:ext cx="1341360" cy="140976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1844640" y="3871440"/>
              <a:ext cx="1527120" cy="2163960"/>
            </a:xfrm>
            <a:prstGeom prst="line">
              <a:avLst/>
            </a:prstGeom>
            <a:ln w="25560">
              <a:solidFill>
                <a:srgbClr val="99ff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2554200" y="3909960"/>
              <a:ext cx="890640" cy="1914480"/>
            </a:xfrm>
            <a:prstGeom prst="line">
              <a:avLst/>
            </a:prstGeom>
            <a:ln w="25560">
              <a:solidFill>
                <a:srgbClr val="99ff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76200" y="6215040"/>
              <a:ext cx="3071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Arial"/>
                </a:rPr>
                <a:t>Superficie Cóncav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057480" y="4465800"/>
              <a:ext cx="1974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99ff33"/>
                  </a:solidFill>
                  <a:latin typeface="Arial"/>
                </a:rPr>
                <a:t>Sonido es Focalizado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1822320" y="139680"/>
            <a:ext cx="6367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FLEXIONES DEL SONID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3T19:07:38Z</dcterms:created>
  <dc:creator>Gabriela Armijo</dc:creator>
  <dc:description/>
  <dc:language>en-US</dc:language>
  <cp:lastModifiedBy>Dii</cp:lastModifiedBy>
  <cp:lastPrinted>2000-07-04T09:26:42Z</cp:lastPrinted>
  <dcterms:modified xsi:type="dcterms:W3CDTF">2004-08-05T19:05:24Z</dcterms:modified>
  <cp:revision>130</cp:revision>
  <dc:subject/>
  <dc:title>Sin título de diapositiva</dc:title>
</cp:coreProperties>
</file>