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D7D-85FA-40D1-886A-C786EF56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5C4-143E-4D85-B6DA-3596F247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FAC-AD68-4647-A230-23360A77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925-30A5-4C29-80E6-A9188C4E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7A0-ED79-41E7-8A05-07E23407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D67-9821-4223-BC5E-92725669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5D7-BD26-4767-8D67-D7FC9E5B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2D4-C402-464E-92B0-BC75D7C5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BE1-E2CC-4D73-9704-34A915A1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C56-B7B7-4531-8C20-86BF2D8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13C-44B9-42E1-9E86-780F3F1F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594-EF40-4C97-8856-F9367B74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CB610F-0BC9-4886-A42B-C2F854E428B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UNDAMENTOS DE ACUSTICA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ugenio Collad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19160" y="2514600"/>
            <a:ext cx="56386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Presión Acú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Escala de Nive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Combinación de Nive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Escala de Frecu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Espectro Sono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Propagación del So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Aislación y absor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4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22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371600" y="0"/>
            <a:ext cx="64450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RECINTO CERRADO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(REVERBERACIO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49160" y="1030320"/>
            <a:ext cx="7842240" cy="4646520"/>
            <a:chOff x="749160" y="1030320"/>
            <a:chExt cx="7842240" cy="4646520"/>
          </a:xfrm>
        </p:grpSpPr>
        <p:sp>
          <p:nvSpPr>
            <p:cNvPr id="430" name=""/>
            <p:cNvSpPr/>
            <p:nvPr/>
          </p:nvSpPr>
          <p:spPr>
            <a:xfrm>
              <a:off x="749160" y="1030320"/>
              <a:ext cx="363240" cy="4338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0320" y="1030320"/>
              <a:ext cx="7107480" cy="37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21320" y="1030320"/>
              <a:ext cx="370080" cy="439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5280" y="5337000"/>
              <a:ext cx="7836120" cy="339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048040" y="2987640"/>
            <a:ext cx="4862520" cy="1093680"/>
            <a:chOff x="2048040" y="2987640"/>
            <a:chExt cx="4862520" cy="1093680"/>
          </a:xfrm>
        </p:grpSpPr>
        <p:grpSp>
          <p:nvGrpSpPr>
            <p:cNvPr id="435" name=""/>
            <p:cNvGrpSpPr/>
            <p:nvPr/>
          </p:nvGrpSpPr>
          <p:grpSpPr>
            <a:xfrm>
              <a:off x="2048040" y="2987640"/>
              <a:ext cx="1684080" cy="1093680"/>
              <a:chOff x="2048040" y="2987640"/>
              <a:chExt cx="1684080" cy="1093680"/>
            </a:xfrm>
          </p:grpSpPr>
          <p:graphicFrame>
            <p:nvGraphicFramePr>
              <p:cNvPr id="436" name=""/>
              <p:cNvGraphicFramePr/>
              <p:nvPr/>
            </p:nvGraphicFramePr>
            <p:xfrm>
              <a:off x="3305160" y="2987640"/>
              <a:ext cx="426960" cy="730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3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05160" y="2987640"/>
                        <a:ext cx="426960" cy="73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8" name=""/>
              <p:cNvGraphicFramePr/>
              <p:nvPr/>
            </p:nvGraphicFramePr>
            <p:xfrm>
              <a:off x="2625840" y="3025800"/>
              <a:ext cx="745920" cy="480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3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625840" y="3025800"/>
                        <a:ext cx="745920" cy="48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0" name=""/>
              <p:cNvGraphicFramePr/>
              <p:nvPr/>
            </p:nvGraphicFramePr>
            <p:xfrm>
              <a:off x="2048040" y="3108240"/>
              <a:ext cx="728640" cy="9730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4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048040" y="3108240"/>
                        <a:ext cx="728640" cy="97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2" name=""/>
            <p:cNvGraphicFramePr/>
            <p:nvPr/>
          </p:nvGraphicFramePr>
          <p:xfrm>
            <a:off x="6213600" y="3160800"/>
            <a:ext cx="696960" cy="885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13600" y="3160800"/>
                      <a:ext cx="696960" cy="88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4" name=""/>
          <p:cNvGrpSpPr/>
          <p:nvPr/>
        </p:nvGrpSpPr>
        <p:grpSpPr>
          <a:xfrm>
            <a:off x="3857760" y="3048120"/>
            <a:ext cx="2216160" cy="706320"/>
            <a:chOff x="3857760" y="3048120"/>
            <a:chExt cx="2216160" cy="706320"/>
          </a:xfrm>
        </p:grpSpPr>
        <p:sp>
          <p:nvSpPr>
            <p:cNvPr id="445" name=""/>
            <p:cNvSpPr/>
            <p:nvPr/>
          </p:nvSpPr>
          <p:spPr>
            <a:xfrm>
              <a:off x="3857760" y="3373560"/>
              <a:ext cx="22161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14800" y="3048120"/>
              <a:ext cx="11700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DIRECT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111320" y="1425240"/>
            <a:ext cx="7107120" cy="3915000"/>
            <a:chOff x="1111320" y="1425240"/>
            <a:chExt cx="7107120" cy="3915000"/>
          </a:xfrm>
        </p:grpSpPr>
        <p:sp>
          <p:nvSpPr>
            <p:cNvPr id="448" name=""/>
            <p:cNvSpPr/>
            <p:nvPr/>
          </p:nvSpPr>
          <p:spPr>
            <a:xfrm>
              <a:off x="1411200" y="1673280"/>
              <a:ext cx="14544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EFLEJA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111320" y="1425240"/>
              <a:ext cx="7107120" cy="3915000"/>
              <a:chOff x="1111320" y="1425240"/>
              <a:chExt cx="7107120" cy="391500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3006720" y="1442520"/>
                <a:ext cx="1542960" cy="16830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32400" y="1477800"/>
                <a:ext cx="1771560" cy="16480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3043080" y="1425240"/>
                <a:ext cx="3846600" cy="17175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853320" y="1425600"/>
                <a:ext cx="1365120" cy="8143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463800" y="2222640"/>
                <a:ext cx="1737000" cy="9032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25800" y="3551400"/>
                <a:ext cx="1469880" cy="17539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495680" y="3639960"/>
                <a:ext cx="1684440" cy="1665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06720" y="3568680"/>
                <a:ext cx="2305080" cy="17715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311800" y="3639600"/>
                <a:ext cx="957240" cy="16830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1128600" y="2115720"/>
                <a:ext cx="1702080" cy="10270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1146240" y="1477800"/>
                <a:ext cx="442800" cy="6559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06680" y="1460520"/>
                <a:ext cx="4556160" cy="1754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1128240" y="3568680"/>
                <a:ext cx="1684440" cy="11336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11320" y="4702320"/>
                <a:ext cx="1860480" cy="6206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2936880" y="3603240"/>
                <a:ext cx="3030480" cy="17017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62400" y="3622680"/>
                <a:ext cx="4059000" cy="1700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404120" y="4206600"/>
                <a:ext cx="744480" cy="1098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6852960" y="3603600"/>
                <a:ext cx="1276200" cy="603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1143000" y="5791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La reverberación multiplica el sonido y aumenta los niveles sonoros lejos de la fuent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70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415880" y="1309680"/>
            <a:ext cx="7455240" cy="1728360"/>
            <a:chOff x="1415880" y="1309680"/>
            <a:chExt cx="7455240" cy="1728360"/>
          </a:xfrm>
        </p:grpSpPr>
        <p:sp>
          <p:nvSpPr>
            <p:cNvPr id="477" name=""/>
            <p:cNvSpPr/>
            <p:nvPr/>
          </p:nvSpPr>
          <p:spPr>
            <a:xfrm flipV="1">
              <a:off x="1415880" y="1312560"/>
              <a:ext cx="3184560" cy="1725480"/>
            </a:xfrm>
            <a:prstGeom prst="line">
              <a:avLst/>
            </a:prstGeom>
            <a:ln w="1015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6440" y="1309680"/>
              <a:ext cx="2684520" cy="1674720"/>
            </a:xfrm>
            <a:prstGeom prst="line">
              <a:avLst/>
            </a:prstGeom>
            <a:ln w="10152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514600"/>
              <a:ext cx="1860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REFLEX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-429120" y="803880"/>
            <a:ext cx="10260720" cy="10157040"/>
            <a:chOff x="-429120" y="803880"/>
            <a:chExt cx="10260720" cy="10157040"/>
          </a:xfrm>
        </p:grpSpPr>
        <p:sp>
          <p:nvSpPr>
            <p:cNvPr id="481" name=""/>
            <p:cNvSpPr/>
            <p:nvPr/>
          </p:nvSpPr>
          <p:spPr>
            <a:xfrm rot="13200000">
              <a:off x="867600" y="2469240"/>
              <a:ext cx="7666920" cy="682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0152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11840" y="3260880"/>
              <a:ext cx="1860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DIFRACC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162160" y="3922200"/>
            <a:ext cx="6523200" cy="437760"/>
            <a:chOff x="2162160" y="3922200"/>
            <a:chExt cx="6523200" cy="437760"/>
          </a:xfrm>
        </p:grpSpPr>
        <p:sp>
          <p:nvSpPr>
            <p:cNvPr id="484" name=""/>
            <p:cNvSpPr/>
            <p:nvPr/>
          </p:nvSpPr>
          <p:spPr>
            <a:xfrm flipV="1">
              <a:off x="2162160" y="3922200"/>
              <a:ext cx="4660920" cy="3240"/>
            </a:xfrm>
            <a:prstGeom prst="line">
              <a:avLst/>
            </a:prstGeom>
            <a:ln w="10152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16800" y="3962520"/>
              <a:ext cx="206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TRANSMIS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0" y="755640"/>
            <a:ext cx="9144000" cy="4743360"/>
            <a:chOff x="0" y="755640"/>
            <a:chExt cx="9144000" cy="4743360"/>
          </a:xfrm>
        </p:grpSpPr>
        <p:sp>
          <p:nvSpPr>
            <p:cNvPr id="487" name=""/>
            <p:cNvSpPr/>
            <p:nvPr/>
          </p:nvSpPr>
          <p:spPr>
            <a:xfrm>
              <a:off x="0" y="4944960"/>
              <a:ext cx="9142560" cy="5540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40" y="755640"/>
              <a:ext cx="9142560" cy="5540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8120" y="2595600"/>
              <a:ext cx="377640" cy="2344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490" name=""/>
            <p:cNvGraphicFramePr/>
            <p:nvPr/>
          </p:nvGraphicFramePr>
          <p:xfrm>
            <a:off x="514440" y="3411360"/>
            <a:ext cx="1063440" cy="827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4440" y="3411360"/>
                      <a:ext cx="1063440" cy="8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2" name=""/>
          <p:cNvSpPr/>
          <p:nvPr/>
        </p:nvSpPr>
        <p:spPr>
          <a:xfrm>
            <a:off x="1752480" y="304920"/>
            <a:ext cx="587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DE UNA PANTALL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920" y="541008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TRANSMISION depende de la AISLACION de la pantall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DIFRACCION disminuye con la FRECUENCIA del sonid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REFLEXION depende de la ABSORCION de la superfici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95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380880" y="380880"/>
            <a:ext cx="830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DEL SONIDO SOBRE UN MUR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27520" y="1303200"/>
            <a:ext cx="1152360" cy="494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831960" y="4570560"/>
            <a:ext cx="2972160" cy="2250720"/>
            <a:chOff x="831960" y="4570560"/>
            <a:chExt cx="2972160" cy="2250720"/>
          </a:xfrm>
        </p:grpSpPr>
        <p:sp>
          <p:nvSpPr>
            <p:cNvPr id="504" name=""/>
            <p:cNvSpPr/>
            <p:nvPr/>
          </p:nvSpPr>
          <p:spPr>
            <a:xfrm rot="19680000">
              <a:off x="1671120" y="4957560"/>
              <a:ext cx="1884600" cy="1476360"/>
            </a:xfrm>
            <a:prstGeom prst="rightArrow">
              <a:avLst>
                <a:gd name="adj1" fmla="val 75009"/>
                <a:gd name="adj2" fmla="val 63831"/>
              </a:avLst>
            </a:prstGeom>
            <a:solidFill>
              <a:srgbClr val="96969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1960" y="4811760"/>
              <a:ext cx="14349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INCIDENT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76360" y="831240"/>
            <a:ext cx="2997720" cy="1738080"/>
            <a:chOff x="576360" y="831240"/>
            <a:chExt cx="2997720" cy="1738080"/>
          </a:xfrm>
        </p:grpSpPr>
        <p:sp>
          <p:nvSpPr>
            <p:cNvPr id="507" name=""/>
            <p:cNvSpPr/>
            <p:nvPr/>
          </p:nvSpPr>
          <p:spPr>
            <a:xfrm rot="12900000">
              <a:off x="1830240" y="1199880"/>
              <a:ext cx="1602000" cy="1000080"/>
            </a:xfrm>
            <a:prstGeom prst="rightArrow">
              <a:avLst>
                <a:gd name="adj1" fmla="val 75009"/>
                <a:gd name="adj2" fmla="val 80101"/>
              </a:avLst>
            </a:prstGeom>
            <a:solidFill>
              <a:srgbClr val="99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6360" y="1436760"/>
              <a:ext cx="17985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EFLEX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UPERFICIA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0" y="3489480"/>
            <a:ext cx="8763120" cy="457200"/>
            <a:chOff x="0" y="3489480"/>
            <a:chExt cx="8763120" cy="457200"/>
          </a:xfrm>
        </p:grpSpPr>
        <p:sp>
          <p:nvSpPr>
            <p:cNvPr id="510" name=""/>
            <p:cNvSpPr/>
            <p:nvPr/>
          </p:nvSpPr>
          <p:spPr>
            <a:xfrm>
              <a:off x="2379600" y="3489480"/>
              <a:ext cx="1211400" cy="430200"/>
            </a:xfrm>
            <a:prstGeom prst="leftArrow">
              <a:avLst>
                <a:gd name="adj1" fmla="val 50000"/>
                <a:gd name="adj2" fmla="val 140781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26120" y="3516480"/>
              <a:ext cx="1211040" cy="430200"/>
            </a:xfrm>
            <a:prstGeom prst="rightArrow">
              <a:avLst>
                <a:gd name="adj1" fmla="val 50000"/>
                <a:gd name="adj2" fmla="val 140766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3529080"/>
              <a:ext cx="25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ADIACION SONOR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37160" y="3594240"/>
              <a:ext cx="2325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ADIACION SONOR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141800" y="2343240"/>
            <a:ext cx="3630600" cy="495720"/>
            <a:chOff x="4141800" y="2343240"/>
            <a:chExt cx="3630600" cy="495720"/>
          </a:xfrm>
        </p:grpSpPr>
        <p:grpSp>
          <p:nvGrpSpPr>
            <p:cNvPr id="515" name=""/>
            <p:cNvGrpSpPr/>
            <p:nvPr/>
          </p:nvGrpSpPr>
          <p:grpSpPr>
            <a:xfrm>
              <a:off x="4141800" y="2343240"/>
              <a:ext cx="476280" cy="461880"/>
              <a:chOff x="4141800" y="2343240"/>
              <a:chExt cx="476280" cy="461880"/>
            </a:xfrm>
          </p:grpSpPr>
          <p:sp>
            <p:nvSpPr>
              <p:cNvPr id="516" name=""/>
              <p:cNvSpPr/>
              <p:nvPr/>
            </p:nvSpPr>
            <p:spPr>
              <a:xfrm>
                <a:off x="4141800" y="2343240"/>
                <a:ext cx="233280" cy="461880"/>
              </a:xfrm>
              <a:prstGeom prst="leftArrow">
                <a:avLst>
                  <a:gd name="adj1" fmla="val 50000"/>
                  <a:gd name="adj2" fmla="val 49995"/>
                </a:avLst>
              </a:prstGeom>
              <a:solidFill>
                <a:srgbClr val="ff66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84800" y="2343240"/>
                <a:ext cx="233280" cy="4618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ff66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4371480" y="2470320"/>
                <a:ext cx="3240" cy="20304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998960" y="2441520"/>
              <a:ext cx="277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VIMIENT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227480" y="1365120"/>
            <a:ext cx="4535640" cy="749520"/>
            <a:chOff x="4227480" y="1365120"/>
            <a:chExt cx="4535640" cy="749520"/>
          </a:xfrm>
        </p:grpSpPr>
        <p:sp>
          <p:nvSpPr>
            <p:cNvPr id="521" name=""/>
            <p:cNvSpPr/>
            <p:nvPr/>
          </p:nvSpPr>
          <p:spPr>
            <a:xfrm>
              <a:off x="4227480" y="1365120"/>
              <a:ext cx="308160" cy="749520"/>
            </a:xfrm>
            <a:prstGeom prst="upArrow">
              <a:avLst>
                <a:gd name="adj1" fmla="val 50000"/>
                <a:gd name="adj2" fmla="val 121601"/>
              </a:avLst>
            </a:prstGeom>
            <a:solidFill>
              <a:srgbClr val="0033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91040" y="1447920"/>
              <a:ext cx="3772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PROPAGACION ESTRUCTURA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490920" y="3002040"/>
            <a:ext cx="5424480" cy="335880"/>
            <a:chOff x="3490920" y="3002040"/>
            <a:chExt cx="5424480" cy="335880"/>
          </a:xfrm>
        </p:grpSpPr>
        <p:sp>
          <p:nvSpPr>
            <p:cNvPr id="524" name=""/>
            <p:cNvSpPr/>
            <p:nvPr/>
          </p:nvSpPr>
          <p:spPr>
            <a:xfrm>
              <a:off x="3490920" y="3164040"/>
              <a:ext cx="20210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70560" y="3002040"/>
              <a:ext cx="3444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PROPAGACION POR PORO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105440" y="4241880"/>
            <a:ext cx="3133440" cy="2426400"/>
            <a:chOff x="4105440" y="4241880"/>
            <a:chExt cx="3133440" cy="2426400"/>
          </a:xfrm>
        </p:grpSpPr>
        <p:sp>
          <p:nvSpPr>
            <p:cNvPr id="527" name=""/>
            <p:cNvSpPr/>
            <p:nvPr/>
          </p:nvSpPr>
          <p:spPr>
            <a:xfrm>
              <a:off x="4105440" y="4241880"/>
              <a:ext cx="626760" cy="689040"/>
            </a:xfrm>
            <a:prstGeom prst="downArrow">
              <a:avLst>
                <a:gd name="adj1" fmla="val 50000"/>
                <a:gd name="adj2" fmla="val 54973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24240" y="5065560"/>
              <a:ext cx="400320" cy="506520"/>
            </a:xfrm>
            <a:prstGeom prst="downArrow">
              <a:avLst>
                <a:gd name="adj1" fmla="val 50000"/>
                <a:gd name="adj2" fmla="val 63270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89400" y="5722920"/>
              <a:ext cx="277920" cy="352440"/>
            </a:xfrm>
            <a:prstGeom prst="downArrow">
              <a:avLst>
                <a:gd name="adj1" fmla="val 50000"/>
                <a:gd name="adj2" fmla="val 63412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43400" y="6199200"/>
              <a:ext cx="182520" cy="220680"/>
            </a:xfrm>
            <a:prstGeom prst="downArrow">
              <a:avLst>
                <a:gd name="adj1" fmla="val 50000"/>
                <a:gd name="adj2" fmla="val 60459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4240" y="6332400"/>
              <a:ext cx="2744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CALOR DISIPA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533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04840" y="1371600"/>
            <a:ext cx="4459320" cy="5476320"/>
            <a:chOff x="204840" y="1371600"/>
            <a:chExt cx="4459320" cy="5476320"/>
          </a:xfrm>
        </p:grpSpPr>
        <p:sp>
          <p:nvSpPr>
            <p:cNvPr id="540" name=""/>
            <p:cNvSpPr/>
            <p:nvPr/>
          </p:nvSpPr>
          <p:spPr>
            <a:xfrm>
              <a:off x="3925800" y="1371600"/>
              <a:ext cx="738360" cy="5033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204840" y="4202640"/>
              <a:ext cx="3972960" cy="2645280"/>
              <a:chOff x="204840" y="4202640"/>
              <a:chExt cx="3972960" cy="2645280"/>
            </a:xfrm>
          </p:grpSpPr>
          <p:sp>
            <p:nvSpPr>
              <p:cNvPr id="542" name=""/>
              <p:cNvSpPr/>
              <p:nvPr/>
            </p:nvSpPr>
            <p:spPr>
              <a:xfrm rot="19920000">
                <a:off x="1542600" y="4655880"/>
                <a:ext cx="2365560" cy="1738080"/>
              </a:xfrm>
              <a:prstGeom prst="rightArrow">
                <a:avLst>
                  <a:gd name="adj1" fmla="val 75009"/>
                  <a:gd name="adj2" fmla="val 68057"/>
                </a:avLst>
              </a:prstGeom>
              <a:solidFill>
                <a:srgbClr val="96969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04840" y="4697280"/>
                <a:ext cx="2563920" cy="10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Arial"/>
                  </a:rPr>
                  <a:t>INCIDENTE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Arial"/>
                  </a:rPr>
                  <a:t>100%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4" name=""/>
          <p:cNvGrpSpPr/>
          <p:nvPr/>
        </p:nvGrpSpPr>
        <p:grpSpPr>
          <a:xfrm>
            <a:off x="1027080" y="947880"/>
            <a:ext cx="2740680" cy="2531520"/>
            <a:chOff x="1027080" y="947880"/>
            <a:chExt cx="2740680" cy="2531520"/>
          </a:xfrm>
        </p:grpSpPr>
        <p:sp>
          <p:nvSpPr>
            <p:cNvPr id="545" name=""/>
            <p:cNvSpPr/>
            <p:nvPr/>
          </p:nvSpPr>
          <p:spPr>
            <a:xfrm rot="12360000">
              <a:off x="1486080" y="1655280"/>
              <a:ext cx="2070000" cy="1443240"/>
            </a:xfrm>
            <a:prstGeom prst="rightArrow">
              <a:avLst>
                <a:gd name="adj1" fmla="val 75009"/>
                <a:gd name="adj2" fmla="val 71720"/>
              </a:avLst>
            </a:prstGeom>
            <a:solidFill>
              <a:srgbClr val="99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27080" y="94788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REFLEJ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92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854600" y="2533680"/>
            <a:ext cx="2563920" cy="1512720"/>
            <a:chOff x="4854600" y="2533680"/>
            <a:chExt cx="2563920" cy="1512720"/>
          </a:xfrm>
        </p:grpSpPr>
        <p:sp>
          <p:nvSpPr>
            <p:cNvPr id="548" name=""/>
            <p:cNvSpPr/>
            <p:nvPr/>
          </p:nvSpPr>
          <p:spPr>
            <a:xfrm>
              <a:off x="4925880" y="3551400"/>
              <a:ext cx="703440" cy="495000"/>
            </a:xfrm>
            <a:prstGeom prst="rightArrow">
              <a:avLst>
                <a:gd name="adj1" fmla="val 50000"/>
                <a:gd name="adj2" fmla="val 71061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54600" y="253368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TRANSMITI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2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2286000" y="228600"/>
            <a:ext cx="39625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PANEL AISLAN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(SOLID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976560" y="5229360"/>
            <a:ext cx="3292560" cy="1585800"/>
            <a:chOff x="3976560" y="5229360"/>
            <a:chExt cx="3292560" cy="1585800"/>
          </a:xfrm>
        </p:grpSpPr>
        <p:sp>
          <p:nvSpPr>
            <p:cNvPr id="552" name=""/>
            <p:cNvSpPr/>
            <p:nvPr/>
          </p:nvSpPr>
          <p:spPr>
            <a:xfrm>
              <a:off x="3976560" y="5765760"/>
              <a:ext cx="633600" cy="1049400"/>
            </a:xfrm>
            <a:prstGeom prst="downArrow">
              <a:avLst>
                <a:gd name="adj1" fmla="val 50000"/>
                <a:gd name="adj2" fmla="val 82820"/>
              </a:avLst>
            </a:prstGeom>
            <a:solidFill>
              <a:srgbClr val="ff66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05200" y="5229360"/>
              <a:ext cx="2563920" cy="15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PROPAGAC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ESTRUCTUR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6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791320" y="3429000"/>
            <a:ext cx="3160440" cy="533520"/>
            <a:chOff x="5791320" y="3429000"/>
            <a:chExt cx="3160440" cy="533520"/>
          </a:xfrm>
        </p:grpSpPr>
        <p:sp>
          <p:nvSpPr>
            <p:cNvPr id="555" name=""/>
            <p:cNvSpPr/>
            <p:nvPr/>
          </p:nvSpPr>
          <p:spPr>
            <a:xfrm>
              <a:off x="5791320" y="3429000"/>
              <a:ext cx="3124080" cy="53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91320" y="3429000"/>
              <a:ext cx="316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800000"/>
                  </a:solidFill>
                  <a:latin typeface="Arial"/>
                </a:rPr>
                <a:t>AISLACION   = 17 dB</a:t>
              </a:r>
              <a:r>
                <a:rPr b="0" lang="es-ES_tradnl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3429000"/>
            <a:ext cx="3160800" cy="533520"/>
            <a:chOff x="0" y="3429000"/>
            <a:chExt cx="3160800" cy="533520"/>
          </a:xfrm>
        </p:grpSpPr>
        <p:sp>
          <p:nvSpPr>
            <p:cNvPr id="558" name=""/>
            <p:cNvSpPr/>
            <p:nvPr/>
          </p:nvSpPr>
          <p:spPr>
            <a:xfrm>
              <a:off x="0" y="3429000"/>
              <a:ext cx="2895480" cy="53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3429000"/>
              <a:ext cx="316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ABSORCION = 8 %</a:t>
              </a: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561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04840" y="1371600"/>
            <a:ext cx="4459320" cy="5476320"/>
            <a:chOff x="204840" y="1371600"/>
            <a:chExt cx="4459320" cy="5476320"/>
          </a:xfrm>
        </p:grpSpPr>
        <p:sp>
          <p:nvSpPr>
            <p:cNvPr id="568" name=""/>
            <p:cNvSpPr/>
            <p:nvPr/>
          </p:nvSpPr>
          <p:spPr>
            <a:xfrm>
              <a:off x="3925800" y="1371600"/>
              <a:ext cx="738360" cy="5033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9920000">
              <a:off x="1542600" y="4655880"/>
              <a:ext cx="2365560" cy="1738080"/>
            </a:xfrm>
            <a:prstGeom prst="rightArrow">
              <a:avLst>
                <a:gd name="adj1" fmla="val 75009"/>
                <a:gd name="adj2" fmla="val 68057"/>
              </a:avLst>
            </a:prstGeom>
            <a:solidFill>
              <a:srgbClr val="96969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4840" y="469728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INCIDENT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511280" y="1387440"/>
            <a:ext cx="2563920" cy="1337760"/>
            <a:chOff x="1511280" y="1387440"/>
            <a:chExt cx="2563920" cy="1337760"/>
          </a:xfrm>
        </p:grpSpPr>
        <p:sp>
          <p:nvSpPr>
            <p:cNvPr id="572" name=""/>
            <p:cNvSpPr/>
            <p:nvPr/>
          </p:nvSpPr>
          <p:spPr>
            <a:xfrm rot="12660000">
              <a:off x="2220480" y="1941120"/>
              <a:ext cx="1069920" cy="547560"/>
            </a:xfrm>
            <a:prstGeom prst="rightArrow">
              <a:avLst>
                <a:gd name="adj1" fmla="val 75009"/>
                <a:gd name="adj2" fmla="val 97708"/>
              </a:avLst>
            </a:prstGeom>
            <a:solidFill>
              <a:srgbClr val="99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11280" y="138744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REFLEJ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15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876920" y="2666880"/>
            <a:ext cx="2563560" cy="2179800"/>
            <a:chOff x="4876920" y="2666880"/>
            <a:chExt cx="2563560" cy="2179800"/>
          </a:xfrm>
        </p:grpSpPr>
        <p:sp>
          <p:nvSpPr>
            <p:cNvPr id="575" name=""/>
            <p:cNvSpPr/>
            <p:nvPr/>
          </p:nvSpPr>
          <p:spPr>
            <a:xfrm>
              <a:off x="5029200" y="3429000"/>
              <a:ext cx="2203560" cy="1417680"/>
            </a:xfrm>
            <a:prstGeom prst="rightArrow">
              <a:avLst>
                <a:gd name="adj1" fmla="val 50000"/>
                <a:gd name="adj2" fmla="val 77724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76920" y="2666880"/>
              <a:ext cx="256356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TRANSMITI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50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133720" y="228600"/>
            <a:ext cx="434340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PANEL ABSORBEN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(POROS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791320" y="2133720"/>
            <a:ext cx="3352680" cy="533160"/>
            <a:chOff x="5791320" y="2133720"/>
            <a:chExt cx="3352680" cy="533160"/>
          </a:xfrm>
        </p:grpSpPr>
        <p:sp>
          <p:nvSpPr>
            <p:cNvPr id="579" name=""/>
            <p:cNvSpPr/>
            <p:nvPr/>
          </p:nvSpPr>
          <p:spPr>
            <a:xfrm>
              <a:off x="5791320" y="2133720"/>
              <a:ext cx="3124080" cy="533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83200" y="2133720"/>
              <a:ext cx="316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800000"/>
                  </a:solidFill>
                  <a:latin typeface="Arial"/>
                </a:rPr>
                <a:t>AISLACION   = 3 dB</a:t>
              </a:r>
              <a:r>
                <a:rPr b="0" lang="es-ES_tradnl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862440" y="1371600"/>
            <a:ext cx="3406680" cy="5051520"/>
            <a:chOff x="3862440" y="1371600"/>
            <a:chExt cx="3406680" cy="5051520"/>
          </a:xfrm>
        </p:grpSpPr>
        <p:sp>
          <p:nvSpPr>
            <p:cNvPr id="582" name=""/>
            <p:cNvSpPr/>
            <p:nvPr/>
          </p:nvSpPr>
          <p:spPr>
            <a:xfrm>
              <a:off x="3862440" y="5305320"/>
              <a:ext cx="863640" cy="1117800"/>
            </a:xfrm>
            <a:prstGeom prst="downArrow">
              <a:avLst>
                <a:gd name="adj1" fmla="val 50000"/>
                <a:gd name="adj2" fmla="val 64720"/>
              </a:avLst>
            </a:prstGeom>
            <a:solidFill>
              <a:srgbClr val="ff66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05200" y="522936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ABSORBI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35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86200" y="1371600"/>
              <a:ext cx="863640" cy="1117440"/>
            </a:xfrm>
            <a:prstGeom prst="upArrow">
              <a:avLst>
                <a:gd name="adj1" fmla="val 50000"/>
                <a:gd name="adj2" fmla="val 64688"/>
              </a:avLst>
            </a:prstGeom>
            <a:solidFill>
              <a:srgbClr val="ff66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28600" y="2895480"/>
            <a:ext cx="3200400" cy="534600"/>
            <a:chOff x="228600" y="2895480"/>
            <a:chExt cx="3200400" cy="534600"/>
          </a:xfrm>
        </p:grpSpPr>
        <p:sp>
          <p:nvSpPr>
            <p:cNvPr id="586" name=""/>
            <p:cNvSpPr/>
            <p:nvPr/>
          </p:nvSpPr>
          <p:spPr>
            <a:xfrm>
              <a:off x="228600" y="2895480"/>
              <a:ext cx="3124080" cy="53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" y="297180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ABSORCION = 85 %</a:t>
              </a: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1800" y="22860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ESION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CUS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066680"/>
            <a:ext cx="792468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SONIDO: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Variaciones rápidas de la presión atmosféric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442120"/>
            <a:ext cx="833436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6699"/>
                </a:solidFill>
                <a:latin typeface="Arial"/>
              </a:rPr>
              <a:t>PRESION ACUSTICA: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iferencia entre presión instantáne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y presión atmosférica medi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1676520"/>
            <a:ext cx="7620120" cy="3734640"/>
            <a:chOff x="685800" y="1676520"/>
            <a:chExt cx="7620120" cy="3734640"/>
          </a:xfrm>
        </p:grpSpPr>
        <p:sp>
          <p:nvSpPr>
            <p:cNvPr id="54" name=""/>
            <p:cNvSpPr/>
            <p:nvPr/>
          </p:nvSpPr>
          <p:spPr>
            <a:xfrm>
              <a:off x="762120" y="1676520"/>
              <a:ext cx="0" cy="34290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5800" y="5029200"/>
              <a:ext cx="754380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1752480"/>
              <a:ext cx="990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PRES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38880" y="5105520"/>
              <a:ext cx="990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TIEMP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841480"/>
              <a:ext cx="4268880" cy="314640"/>
            </a:xfrm>
            <a:custGeom>
              <a:avLst/>
              <a:gdLst/>
              <a:ahLst/>
              <a:rect l="l" t="t" r="r" b="b"/>
              <a:pathLst>
                <a:path w="2689" h="198">
                  <a:moveTo>
                    <a:pt x="0" y="34"/>
                  </a:moveTo>
                  <a:lnTo>
                    <a:pt x="19" y="53"/>
                  </a:lnTo>
                  <a:lnTo>
                    <a:pt x="34" y="58"/>
                  </a:lnTo>
                  <a:lnTo>
                    <a:pt x="43" y="72"/>
                  </a:lnTo>
                  <a:lnTo>
                    <a:pt x="58" y="72"/>
                  </a:lnTo>
                  <a:lnTo>
                    <a:pt x="77" y="82"/>
                  </a:lnTo>
                  <a:lnTo>
                    <a:pt x="96" y="92"/>
                  </a:lnTo>
                  <a:lnTo>
                    <a:pt x="115" y="92"/>
                  </a:lnTo>
                  <a:lnTo>
                    <a:pt x="130" y="96"/>
                  </a:lnTo>
                  <a:lnTo>
                    <a:pt x="145" y="96"/>
                  </a:lnTo>
                  <a:lnTo>
                    <a:pt x="159" y="101"/>
                  </a:lnTo>
                  <a:lnTo>
                    <a:pt x="174" y="101"/>
                  </a:lnTo>
                  <a:lnTo>
                    <a:pt x="188" y="101"/>
                  </a:lnTo>
                  <a:lnTo>
                    <a:pt x="203" y="111"/>
                  </a:lnTo>
                  <a:lnTo>
                    <a:pt x="222" y="116"/>
                  </a:lnTo>
                  <a:lnTo>
                    <a:pt x="236" y="120"/>
                  </a:lnTo>
                  <a:lnTo>
                    <a:pt x="251" y="120"/>
                  </a:lnTo>
                  <a:lnTo>
                    <a:pt x="270" y="135"/>
                  </a:lnTo>
                  <a:lnTo>
                    <a:pt x="285" y="140"/>
                  </a:lnTo>
                  <a:lnTo>
                    <a:pt x="300" y="144"/>
                  </a:lnTo>
                  <a:lnTo>
                    <a:pt x="338" y="149"/>
                  </a:lnTo>
                  <a:lnTo>
                    <a:pt x="367" y="149"/>
                  </a:lnTo>
                  <a:lnTo>
                    <a:pt x="396" y="154"/>
                  </a:lnTo>
                  <a:lnTo>
                    <a:pt x="410" y="159"/>
                  </a:lnTo>
                  <a:lnTo>
                    <a:pt x="425" y="159"/>
                  </a:lnTo>
                  <a:lnTo>
                    <a:pt x="459" y="164"/>
                  </a:lnTo>
                  <a:lnTo>
                    <a:pt x="473" y="168"/>
                  </a:lnTo>
                  <a:lnTo>
                    <a:pt x="493" y="168"/>
                  </a:lnTo>
                  <a:lnTo>
                    <a:pt x="512" y="173"/>
                  </a:lnTo>
                  <a:lnTo>
                    <a:pt x="541" y="178"/>
                  </a:lnTo>
                  <a:lnTo>
                    <a:pt x="555" y="178"/>
                  </a:lnTo>
                  <a:lnTo>
                    <a:pt x="570" y="178"/>
                  </a:lnTo>
                  <a:lnTo>
                    <a:pt x="609" y="183"/>
                  </a:lnTo>
                  <a:lnTo>
                    <a:pt x="623" y="183"/>
                  </a:lnTo>
                  <a:lnTo>
                    <a:pt x="638" y="188"/>
                  </a:lnTo>
                  <a:lnTo>
                    <a:pt x="666" y="188"/>
                  </a:lnTo>
                  <a:lnTo>
                    <a:pt x="681" y="188"/>
                  </a:lnTo>
                  <a:lnTo>
                    <a:pt x="695" y="188"/>
                  </a:lnTo>
                  <a:lnTo>
                    <a:pt x="735" y="188"/>
                  </a:lnTo>
                  <a:lnTo>
                    <a:pt x="773" y="188"/>
                  </a:lnTo>
                  <a:lnTo>
                    <a:pt x="787" y="188"/>
                  </a:lnTo>
                  <a:lnTo>
                    <a:pt x="807" y="188"/>
                  </a:lnTo>
                  <a:lnTo>
                    <a:pt x="845" y="188"/>
                  </a:lnTo>
                  <a:lnTo>
                    <a:pt x="875" y="188"/>
                  </a:lnTo>
                  <a:lnTo>
                    <a:pt x="913" y="188"/>
                  </a:lnTo>
                  <a:lnTo>
                    <a:pt x="961" y="188"/>
                  </a:lnTo>
                  <a:lnTo>
                    <a:pt x="1039" y="188"/>
                  </a:lnTo>
                  <a:lnTo>
                    <a:pt x="1087" y="192"/>
                  </a:lnTo>
                  <a:lnTo>
                    <a:pt x="1146" y="192"/>
                  </a:lnTo>
                  <a:lnTo>
                    <a:pt x="1160" y="192"/>
                  </a:lnTo>
                  <a:lnTo>
                    <a:pt x="1174" y="192"/>
                  </a:lnTo>
                  <a:lnTo>
                    <a:pt x="1189" y="183"/>
                  </a:lnTo>
                  <a:lnTo>
                    <a:pt x="1218" y="183"/>
                  </a:lnTo>
                  <a:lnTo>
                    <a:pt x="1237" y="178"/>
                  </a:lnTo>
                  <a:lnTo>
                    <a:pt x="1276" y="173"/>
                  </a:lnTo>
                  <a:lnTo>
                    <a:pt x="1291" y="173"/>
                  </a:lnTo>
                  <a:lnTo>
                    <a:pt x="1310" y="164"/>
                  </a:lnTo>
                  <a:lnTo>
                    <a:pt x="1343" y="164"/>
                  </a:lnTo>
                  <a:lnTo>
                    <a:pt x="1358" y="164"/>
                  </a:lnTo>
                  <a:lnTo>
                    <a:pt x="1372" y="164"/>
                  </a:lnTo>
                  <a:lnTo>
                    <a:pt x="1421" y="159"/>
                  </a:lnTo>
                  <a:lnTo>
                    <a:pt x="1455" y="159"/>
                  </a:lnTo>
                  <a:lnTo>
                    <a:pt x="1484" y="159"/>
                  </a:lnTo>
                  <a:lnTo>
                    <a:pt x="1498" y="154"/>
                  </a:lnTo>
                  <a:lnTo>
                    <a:pt x="1512" y="154"/>
                  </a:lnTo>
                  <a:lnTo>
                    <a:pt x="1541" y="154"/>
                  </a:lnTo>
                  <a:lnTo>
                    <a:pt x="1581" y="149"/>
                  </a:lnTo>
                  <a:lnTo>
                    <a:pt x="1595" y="144"/>
                  </a:lnTo>
                  <a:lnTo>
                    <a:pt x="1609" y="135"/>
                  </a:lnTo>
                  <a:lnTo>
                    <a:pt x="1624" y="125"/>
                  </a:lnTo>
                  <a:lnTo>
                    <a:pt x="1643" y="120"/>
                  </a:lnTo>
                  <a:lnTo>
                    <a:pt x="1657" y="116"/>
                  </a:lnTo>
                  <a:lnTo>
                    <a:pt x="1672" y="106"/>
                  </a:lnTo>
                  <a:lnTo>
                    <a:pt x="1691" y="96"/>
                  </a:lnTo>
                  <a:lnTo>
                    <a:pt x="1706" y="87"/>
                  </a:lnTo>
                  <a:lnTo>
                    <a:pt x="1721" y="72"/>
                  </a:lnTo>
                  <a:lnTo>
                    <a:pt x="1735" y="68"/>
                  </a:lnTo>
                  <a:lnTo>
                    <a:pt x="1750" y="63"/>
                  </a:lnTo>
                  <a:lnTo>
                    <a:pt x="1764" y="77"/>
                  </a:lnTo>
                  <a:lnTo>
                    <a:pt x="1769" y="92"/>
                  </a:lnTo>
                  <a:lnTo>
                    <a:pt x="1774" y="111"/>
                  </a:lnTo>
                  <a:lnTo>
                    <a:pt x="1788" y="125"/>
                  </a:lnTo>
                  <a:lnTo>
                    <a:pt x="1793" y="140"/>
                  </a:lnTo>
                  <a:lnTo>
                    <a:pt x="1802" y="154"/>
                  </a:lnTo>
                  <a:lnTo>
                    <a:pt x="1807" y="168"/>
                  </a:lnTo>
                  <a:lnTo>
                    <a:pt x="1817" y="183"/>
                  </a:lnTo>
                  <a:lnTo>
                    <a:pt x="1826" y="197"/>
                  </a:lnTo>
                  <a:lnTo>
                    <a:pt x="1826" y="183"/>
                  </a:lnTo>
                  <a:lnTo>
                    <a:pt x="1826" y="168"/>
                  </a:lnTo>
                  <a:lnTo>
                    <a:pt x="1826" y="154"/>
                  </a:lnTo>
                  <a:lnTo>
                    <a:pt x="1826" y="140"/>
                  </a:lnTo>
                  <a:lnTo>
                    <a:pt x="1836" y="125"/>
                  </a:lnTo>
                  <a:lnTo>
                    <a:pt x="1847" y="111"/>
                  </a:lnTo>
                  <a:lnTo>
                    <a:pt x="1861" y="101"/>
                  </a:lnTo>
                  <a:lnTo>
                    <a:pt x="1866" y="87"/>
                  </a:lnTo>
                  <a:lnTo>
                    <a:pt x="1875" y="72"/>
                  </a:lnTo>
                  <a:lnTo>
                    <a:pt x="1885" y="58"/>
                  </a:lnTo>
                  <a:lnTo>
                    <a:pt x="1890" y="44"/>
                  </a:lnTo>
                  <a:lnTo>
                    <a:pt x="1895" y="29"/>
                  </a:lnTo>
                  <a:lnTo>
                    <a:pt x="1904" y="15"/>
                  </a:lnTo>
                  <a:lnTo>
                    <a:pt x="1904" y="0"/>
                  </a:lnTo>
                  <a:lnTo>
                    <a:pt x="1923" y="5"/>
                  </a:lnTo>
                  <a:lnTo>
                    <a:pt x="1933" y="44"/>
                  </a:lnTo>
                  <a:lnTo>
                    <a:pt x="1943" y="58"/>
                  </a:lnTo>
                  <a:lnTo>
                    <a:pt x="1947" y="77"/>
                  </a:lnTo>
                  <a:lnTo>
                    <a:pt x="1952" y="92"/>
                  </a:lnTo>
                  <a:lnTo>
                    <a:pt x="1962" y="106"/>
                  </a:lnTo>
                  <a:lnTo>
                    <a:pt x="1962" y="120"/>
                  </a:lnTo>
                  <a:lnTo>
                    <a:pt x="1967" y="135"/>
                  </a:lnTo>
                  <a:lnTo>
                    <a:pt x="1982" y="149"/>
                  </a:lnTo>
                  <a:lnTo>
                    <a:pt x="1987" y="164"/>
                  </a:lnTo>
                  <a:lnTo>
                    <a:pt x="1992" y="183"/>
                  </a:lnTo>
                  <a:lnTo>
                    <a:pt x="2001" y="168"/>
                  </a:lnTo>
                  <a:lnTo>
                    <a:pt x="2001" y="154"/>
                  </a:lnTo>
                  <a:lnTo>
                    <a:pt x="2006" y="140"/>
                  </a:lnTo>
                  <a:lnTo>
                    <a:pt x="2011" y="120"/>
                  </a:lnTo>
                  <a:lnTo>
                    <a:pt x="2020" y="106"/>
                  </a:lnTo>
                  <a:lnTo>
                    <a:pt x="2030" y="92"/>
                  </a:lnTo>
                  <a:lnTo>
                    <a:pt x="2040" y="77"/>
                  </a:lnTo>
                  <a:lnTo>
                    <a:pt x="2059" y="77"/>
                  </a:lnTo>
                  <a:lnTo>
                    <a:pt x="2064" y="92"/>
                  </a:lnTo>
                  <a:lnTo>
                    <a:pt x="2068" y="106"/>
                  </a:lnTo>
                  <a:lnTo>
                    <a:pt x="2078" y="120"/>
                  </a:lnTo>
                  <a:lnTo>
                    <a:pt x="2078" y="135"/>
                  </a:lnTo>
                  <a:lnTo>
                    <a:pt x="2088" y="120"/>
                  </a:lnTo>
                  <a:lnTo>
                    <a:pt x="2097" y="106"/>
                  </a:lnTo>
                  <a:lnTo>
                    <a:pt x="2097" y="92"/>
                  </a:lnTo>
                  <a:lnTo>
                    <a:pt x="2107" y="77"/>
                  </a:lnTo>
                  <a:lnTo>
                    <a:pt x="2121" y="72"/>
                  </a:lnTo>
                  <a:lnTo>
                    <a:pt x="2137" y="87"/>
                  </a:lnTo>
                  <a:lnTo>
                    <a:pt x="2146" y="101"/>
                  </a:lnTo>
                  <a:lnTo>
                    <a:pt x="2156" y="116"/>
                  </a:lnTo>
                  <a:lnTo>
                    <a:pt x="2165" y="135"/>
                  </a:lnTo>
                  <a:lnTo>
                    <a:pt x="2175" y="149"/>
                  </a:lnTo>
                  <a:lnTo>
                    <a:pt x="2185" y="164"/>
                  </a:lnTo>
                  <a:lnTo>
                    <a:pt x="2199" y="168"/>
                  </a:lnTo>
                  <a:lnTo>
                    <a:pt x="2199" y="154"/>
                  </a:lnTo>
                  <a:lnTo>
                    <a:pt x="2204" y="140"/>
                  </a:lnTo>
                  <a:lnTo>
                    <a:pt x="2213" y="125"/>
                  </a:lnTo>
                  <a:lnTo>
                    <a:pt x="2218" y="111"/>
                  </a:lnTo>
                  <a:lnTo>
                    <a:pt x="2223" y="96"/>
                  </a:lnTo>
                  <a:lnTo>
                    <a:pt x="2233" y="82"/>
                  </a:lnTo>
                  <a:lnTo>
                    <a:pt x="2237" y="68"/>
                  </a:lnTo>
                  <a:lnTo>
                    <a:pt x="2242" y="53"/>
                  </a:lnTo>
                  <a:lnTo>
                    <a:pt x="2252" y="39"/>
                  </a:lnTo>
                  <a:lnTo>
                    <a:pt x="2272" y="48"/>
                  </a:lnTo>
                  <a:lnTo>
                    <a:pt x="2277" y="63"/>
                  </a:lnTo>
                  <a:lnTo>
                    <a:pt x="2291" y="77"/>
                  </a:lnTo>
                  <a:lnTo>
                    <a:pt x="2296" y="92"/>
                  </a:lnTo>
                  <a:lnTo>
                    <a:pt x="2301" y="106"/>
                  </a:lnTo>
                  <a:lnTo>
                    <a:pt x="2310" y="120"/>
                  </a:lnTo>
                  <a:lnTo>
                    <a:pt x="2315" y="135"/>
                  </a:lnTo>
                  <a:lnTo>
                    <a:pt x="2330" y="154"/>
                  </a:lnTo>
                  <a:lnTo>
                    <a:pt x="2344" y="164"/>
                  </a:lnTo>
                  <a:lnTo>
                    <a:pt x="2349" y="149"/>
                  </a:lnTo>
                  <a:lnTo>
                    <a:pt x="2354" y="135"/>
                  </a:lnTo>
                  <a:lnTo>
                    <a:pt x="2368" y="120"/>
                  </a:lnTo>
                  <a:lnTo>
                    <a:pt x="2373" y="106"/>
                  </a:lnTo>
                  <a:lnTo>
                    <a:pt x="2378" y="92"/>
                  </a:lnTo>
                  <a:lnTo>
                    <a:pt x="2392" y="82"/>
                  </a:lnTo>
                  <a:lnTo>
                    <a:pt x="2397" y="96"/>
                  </a:lnTo>
                  <a:lnTo>
                    <a:pt x="2407" y="111"/>
                  </a:lnTo>
                  <a:lnTo>
                    <a:pt x="2417" y="125"/>
                  </a:lnTo>
                  <a:lnTo>
                    <a:pt x="2431" y="111"/>
                  </a:lnTo>
                  <a:lnTo>
                    <a:pt x="2431" y="96"/>
                  </a:lnTo>
                  <a:lnTo>
                    <a:pt x="2446" y="92"/>
                  </a:lnTo>
                  <a:lnTo>
                    <a:pt x="2460" y="111"/>
                  </a:lnTo>
                  <a:lnTo>
                    <a:pt x="2470" y="125"/>
                  </a:lnTo>
                  <a:lnTo>
                    <a:pt x="2484" y="135"/>
                  </a:lnTo>
                  <a:lnTo>
                    <a:pt x="2499" y="144"/>
                  </a:lnTo>
                  <a:lnTo>
                    <a:pt x="2518" y="140"/>
                  </a:lnTo>
                  <a:lnTo>
                    <a:pt x="2527" y="125"/>
                  </a:lnTo>
                  <a:lnTo>
                    <a:pt x="2542" y="116"/>
                  </a:lnTo>
                  <a:lnTo>
                    <a:pt x="2557" y="101"/>
                  </a:lnTo>
                  <a:lnTo>
                    <a:pt x="2572" y="92"/>
                  </a:lnTo>
                  <a:lnTo>
                    <a:pt x="2586" y="82"/>
                  </a:lnTo>
                  <a:lnTo>
                    <a:pt x="2600" y="92"/>
                  </a:lnTo>
                  <a:lnTo>
                    <a:pt x="2605" y="106"/>
                  </a:lnTo>
                  <a:lnTo>
                    <a:pt x="2615" y="120"/>
                  </a:lnTo>
                  <a:lnTo>
                    <a:pt x="2629" y="120"/>
                  </a:lnTo>
                  <a:lnTo>
                    <a:pt x="2644" y="120"/>
                  </a:lnTo>
                  <a:lnTo>
                    <a:pt x="2658" y="120"/>
                  </a:lnTo>
                  <a:lnTo>
                    <a:pt x="2672" y="116"/>
                  </a:lnTo>
                  <a:lnTo>
                    <a:pt x="2688" y="106"/>
                  </a:lnTo>
                </a:path>
              </a:pathLst>
            </a:custGeom>
            <a:noFill/>
            <a:ln cap="rnd" w="255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05520" y="2895480"/>
              <a:ext cx="2841480" cy="225720"/>
            </a:xfrm>
            <a:custGeom>
              <a:avLst/>
              <a:gdLst/>
              <a:ahLst/>
              <a:rect l="l" t="t" r="r" b="b"/>
              <a:pathLst>
                <a:path w="1790" h="142">
                  <a:moveTo>
                    <a:pt x="0" y="96"/>
                  </a:moveTo>
                  <a:lnTo>
                    <a:pt x="3" y="70"/>
                  </a:lnTo>
                  <a:lnTo>
                    <a:pt x="22" y="64"/>
                  </a:lnTo>
                  <a:lnTo>
                    <a:pt x="42" y="51"/>
                  </a:lnTo>
                  <a:lnTo>
                    <a:pt x="61" y="45"/>
                  </a:lnTo>
                  <a:lnTo>
                    <a:pt x="80" y="38"/>
                  </a:lnTo>
                  <a:lnTo>
                    <a:pt x="106" y="26"/>
                  </a:lnTo>
                  <a:lnTo>
                    <a:pt x="131" y="13"/>
                  </a:lnTo>
                  <a:lnTo>
                    <a:pt x="150" y="6"/>
                  </a:lnTo>
                  <a:lnTo>
                    <a:pt x="170" y="0"/>
                  </a:lnTo>
                  <a:lnTo>
                    <a:pt x="189" y="0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66" y="0"/>
                  </a:lnTo>
                  <a:lnTo>
                    <a:pt x="285" y="0"/>
                  </a:lnTo>
                  <a:lnTo>
                    <a:pt x="304" y="0"/>
                  </a:lnTo>
                  <a:lnTo>
                    <a:pt x="323" y="0"/>
                  </a:lnTo>
                  <a:lnTo>
                    <a:pt x="342" y="0"/>
                  </a:lnTo>
                  <a:lnTo>
                    <a:pt x="362" y="0"/>
                  </a:lnTo>
                  <a:lnTo>
                    <a:pt x="381" y="0"/>
                  </a:lnTo>
                  <a:lnTo>
                    <a:pt x="400" y="0"/>
                  </a:lnTo>
                  <a:lnTo>
                    <a:pt x="419" y="6"/>
                  </a:lnTo>
                  <a:lnTo>
                    <a:pt x="438" y="6"/>
                  </a:lnTo>
                  <a:lnTo>
                    <a:pt x="458" y="13"/>
                  </a:lnTo>
                  <a:lnTo>
                    <a:pt x="483" y="19"/>
                  </a:lnTo>
                  <a:lnTo>
                    <a:pt x="502" y="26"/>
                  </a:lnTo>
                  <a:lnTo>
                    <a:pt x="522" y="38"/>
                  </a:lnTo>
                  <a:lnTo>
                    <a:pt x="541" y="38"/>
                  </a:lnTo>
                  <a:lnTo>
                    <a:pt x="579" y="45"/>
                  </a:lnTo>
                  <a:lnTo>
                    <a:pt x="598" y="58"/>
                  </a:lnTo>
                  <a:lnTo>
                    <a:pt x="618" y="45"/>
                  </a:lnTo>
                  <a:lnTo>
                    <a:pt x="637" y="45"/>
                  </a:lnTo>
                  <a:lnTo>
                    <a:pt x="656" y="45"/>
                  </a:lnTo>
                  <a:lnTo>
                    <a:pt x="662" y="77"/>
                  </a:lnTo>
                  <a:lnTo>
                    <a:pt x="682" y="83"/>
                  </a:lnTo>
                  <a:lnTo>
                    <a:pt x="682" y="64"/>
                  </a:lnTo>
                  <a:lnTo>
                    <a:pt x="701" y="58"/>
                  </a:lnTo>
                  <a:lnTo>
                    <a:pt x="720" y="70"/>
                  </a:lnTo>
                  <a:lnTo>
                    <a:pt x="739" y="58"/>
                  </a:lnTo>
                  <a:lnTo>
                    <a:pt x="758" y="45"/>
                  </a:lnTo>
                  <a:lnTo>
                    <a:pt x="778" y="64"/>
                  </a:lnTo>
                  <a:lnTo>
                    <a:pt x="790" y="90"/>
                  </a:lnTo>
                  <a:lnTo>
                    <a:pt x="810" y="96"/>
                  </a:lnTo>
                  <a:lnTo>
                    <a:pt x="835" y="77"/>
                  </a:lnTo>
                  <a:lnTo>
                    <a:pt x="864" y="48"/>
                  </a:lnTo>
                  <a:lnTo>
                    <a:pt x="848" y="45"/>
                  </a:lnTo>
                  <a:lnTo>
                    <a:pt x="867" y="45"/>
                  </a:lnTo>
                  <a:lnTo>
                    <a:pt x="886" y="45"/>
                  </a:lnTo>
                  <a:lnTo>
                    <a:pt x="906" y="38"/>
                  </a:lnTo>
                  <a:lnTo>
                    <a:pt x="925" y="38"/>
                  </a:lnTo>
                  <a:lnTo>
                    <a:pt x="944" y="51"/>
                  </a:lnTo>
                  <a:lnTo>
                    <a:pt x="963" y="51"/>
                  </a:lnTo>
                  <a:lnTo>
                    <a:pt x="982" y="51"/>
                  </a:lnTo>
                  <a:lnTo>
                    <a:pt x="1008" y="51"/>
                  </a:lnTo>
                  <a:lnTo>
                    <a:pt x="1027" y="51"/>
                  </a:lnTo>
                  <a:lnTo>
                    <a:pt x="1046" y="51"/>
                  </a:lnTo>
                  <a:lnTo>
                    <a:pt x="1066" y="58"/>
                  </a:lnTo>
                  <a:lnTo>
                    <a:pt x="1091" y="64"/>
                  </a:lnTo>
                  <a:lnTo>
                    <a:pt x="1117" y="77"/>
                  </a:lnTo>
                  <a:lnTo>
                    <a:pt x="1162" y="83"/>
                  </a:lnTo>
                  <a:lnTo>
                    <a:pt x="1213" y="102"/>
                  </a:lnTo>
                  <a:lnTo>
                    <a:pt x="1277" y="109"/>
                  </a:lnTo>
                  <a:lnTo>
                    <a:pt x="1315" y="115"/>
                  </a:lnTo>
                  <a:lnTo>
                    <a:pt x="1354" y="115"/>
                  </a:lnTo>
                  <a:lnTo>
                    <a:pt x="1373" y="128"/>
                  </a:lnTo>
                  <a:lnTo>
                    <a:pt x="1392" y="128"/>
                  </a:lnTo>
                  <a:lnTo>
                    <a:pt x="1411" y="134"/>
                  </a:lnTo>
                  <a:lnTo>
                    <a:pt x="1430" y="134"/>
                  </a:lnTo>
                  <a:lnTo>
                    <a:pt x="1450" y="141"/>
                  </a:lnTo>
                  <a:lnTo>
                    <a:pt x="1469" y="141"/>
                  </a:lnTo>
                  <a:lnTo>
                    <a:pt x="1488" y="141"/>
                  </a:lnTo>
                  <a:lnTo>
                    <a:pt x="1507" y="141"/>
                  </a:lnTo>
                  <a:lnTo>
                    <a:pt x="1526" y="141"/>
                  </a:lnTo>
                  <a:lnTo>
                    <a:pt x="1546" y="141"/>
                  </a:lnTo>
                  <a:lnTo>
                    <a:pt x="1565" y="141"/>
                  </a:lnTo>
                  <a:lnTo>
                    <a:pt x="1590" y="134"/>
                  </a:lnTo>
                  <a:lnTo>
                    <a:pt x="1610" y="134"/>
                  </a:lnTo>
                  <a:lnTo>
                    <a:pt x="1654" y="115"/>
                  </a:lnTo>
                  <a:lnTo>
                    <a:pt x="1699" y="102"/>
                  </a:lnTo>
                  <a:lnTo>
                    <a:pt x="1725" y="96"/>
                  </a:lnTo>
                  <a:lnTo>
                    <a:pt x="1770" y="83"/>
                  </a:lnTo>
                  <a:lnTo>
                    <a:pt x="1789" y="83"/>
                  </a:lnTo>
                </a:path>
              </a:pathLst>
            </a:custGeom>
            <a:noFill/>
            <a:ln cap="rnd" w="255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43400" y="2362320"/>
              <a:ext cx="121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0280" y="2516040"/>
              <a:ext cx="761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567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5677"/>
                </a:path>
              </a:pathLst>
            </a:custGeom>
            <a:noFill/>
            <a:ln cap="rnd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24480" y="2057400"/>
              <a:ext cx="19814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PRESION ACUSTIC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(2 x 10</a:t>
              </a:r>
              <a:r>
                <a:rPr b="0" lang="es-ES_tradnl" sz="1400" spc="-1" strike="noStrike" baseline="30000">
                  <a:solidFill>
                    <a:srgbClr val="ffffcc"/>
                  </a:solidFill>
                  <a:latin typeface="Arial"/>
                </a:rPr>
                <a:t>-5</a:t>
              </a: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 hasta 20 Pa)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05720" y="2819520"/>
              <a:ext cx="761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05720" y="3276720"/>
              <a:ext cx="761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86600" y="2819520"/>
              <a:ext cx="0" cy="457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40320" y="3002040"/>
              <a:ext cx="0" cy="19810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25909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PRESION ATMOSFERIC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(Aprox. 10</a:t>
              </a:r>
              <a:r>
                <a:rPr b="0" lang="es-ES_tradnl" sz="1400" spc="-1" strike="noStrike" baseline="30000">
                  <a:solidFill>
                    <a:srgbClr val="ffffcc"/>
                  </a:solidFill>
                  <a:latin typeface="Arial"/>
                </a:rPr>
                <a:t>5</a:t>
              </a: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 Pa)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4000" y="3718080"/>
              <a:ext cx="1206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SILENCI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17680" y="2637000"/>
              <a:ext cx="60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71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12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SCALA DE NIVEL SONOR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9720" y="1020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66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Umbral de audición: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s la menor presión acústica audible por el oído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humano. Se denomina p</a:t>
            </a:r>
            <a:r>
              <a:rPr b="0" lang="es-ES_tradnl" sz="1800" spc="-1" strike="noStrike" baseline="-25000">
                <a:solidFill>
                  <a:srgbClr val="ffffcc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y tiene un valor de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2 x 10</a:t>
            </a:r>
            <a:r>
              <a:rPr b="0" lang="es-ES_tradnl" sz="1800" spc="-1" strike="noStrike" baseline="30000">
                <a:solidFill>
                  <a:srgbClr val="ffffcc"/>
                </a:solidFill>
                <a:latin typeface="Arial"/>
              </a:rPr>
              <a:t>-5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Pa (Pasca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66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Umbral del dolor     :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Es la mayor presión acústica audible por el oído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humano. Es aproximadamente 1.000.000 de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veces mayor que p</a:t>
            </a:r>
            <a:r>
              <a:rPr b="0" lang="es-ES_tradnl" sz="1800" spc="-1" strike="noStrike" baseline="-25000">
                <a:solidFill>
                  <a:srgbClr val="ffff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66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Nivel Sonoro NS</a:t>
            </a: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 :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scala logarítmica de presión acústica referida al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umbral de audición p</a:t>
            </a:r>
            <a:r>
              <a:rPr b="0" lang="es-ES_tradnl" sz="1800" spc="-1" strike="noStrike" baseline="-25000">
                <a:solidFill>
                  <a:srgbClr val="ffffcc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, expresada en dB (decibe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      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99ff33"/>
                </a:solidFill>
                <a:latin typeface="Arial"/>
              </a:rPr>
              <a:t>NS =  20 log (p/p</a:t>
            </a:r>
            <a:r>
              <a:rPr b="0" lang="es-ES_tradnl" sz="2000" spc="-1" strike="noStrike" baseline="-25000">
                <a:solidFill>
                  <a:srgbClr val="99ff33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99ff33"/>
                </a:solidFill>
                <a:latin typeface="Arial"/>
              </a:rPr>
              <a:t>) = 10 log (p/p</a:t>
            </a:r>
            <a:r>
              <a:rPr b="0" lang="es-ES_tradnl" sz="2000" spc="-1" strike="noStrike" baseline="-25000">
                <a:solidFill>
                  <a:srgbClr val="99ff33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99ff33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99ff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80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422520" y="3425760"/>
            <a:ext cx="4189680" cy="581040"/>
          </a:xfrm>
          <a:prstGeom prst="rect">
            <a:avLst/>
          </a:prstGeom>
          <a:noFill/>
          <a:ln w="1260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7080" y="4138560"/>
            <a:ext cx="8134200" cy="1782000"/>
            <a:chOff x="127080" y="4138560"/>
            <a:chExt cx="8134200" cy="1782000"/>
          </a:xfrm>
        </p:grpSpPr>
        <p:grpSp>
          <p:nvGrpSpPr>
            <p:cNvPr id="88" name=""/>
            <p:cNvGrpSpPr/>
            <p:nvPr/>
          </p:nvGrpSpPr>
          <p:grpSpPr>
            <a:xfrm>
              <a:off x="127080" y="4138560"/>
              <a:ext cx="8134200" cy="1782000"/>
              <a:chOff x="127080" y="4138560"/>
              <a:chExt cx="8134200" cy="1782000"/>
            </a:xfrm>
          </p:grpSpPr>
          <p:sp>
            <p:nvSpPr>
              <p:cNvPr id="89" name=""/>
              <p:cNvSpPr/>
              <p:nvPr/>
            </p:nvSpPr>
            <p:spPr>
              <a:xfrm>
                <a:off x="312408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8620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4832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1008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17220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93432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2812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127080" y="4138560"/>
                <a:ext cx="8134200" cy="1782000"/>
                <a:chOff x="127080" y="4138560"/>
                <a:chExt cx="8134200" cy="17820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17440" y="4576680"/>
                  <a:ext cx="26226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Presión Acústica    (Pa)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27080" y="5568840"/>
                  <a:ext cx="2701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Nivel Sonoro           (dB)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17800" y="5584680"/>
                  <a:ext cx="419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64824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41000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4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17212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6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93424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8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62004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38180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2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12840" y="5010120"/>
                  <a:ext cx="7643880" cy="0"/>
                </a:xfrm>
                <a:prstGeom prst="line">
                  <a:avLst/>
                </a:prstGeom>
                <a:ln w="1260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77488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5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3700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4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9912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3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06088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82300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58512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4688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3184560" y="4427280"/>
                  <a:ext cx="4538520" cy="324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672080" y="4138560"/>
                  <a:ext cx="15238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ffcc"/>
                      </a:solidFill>
                      <a:latin typeface="Arial"/>
                    </a:rPr>
                    <a:t>Rango audible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211200" y="5149800"/>
                  <a:ext cx="45964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          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2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4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6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8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0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23920" y="5132520"/>
                  <a:ext cx="269712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Energía relativa    (p/p</a:t>
                  </a:r>
                  <a:r>
                    <a:rPr b="0" lang="es-ES_tradnl" sz="1600" spc="-1" strike="noStrike" baseline="-25000">
                      <a:solidFill>
                        <a:srgbClr val="ffffcc"/>
                      </a:solidFill>
                      <a:latin typeface="Arial Rounded MT Bold"/>
                    </a:rPr>
                    <a:t>o</a:t>
                  </a: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)</a:t>
                  </a:r>
                  <a:r>
                    <a:rPr b="0" lang="es-ES_tradnl" sz="1600" spc="-1" strike="noStrike" baseline="30000">
                      <a:solidFill>
                        <a:srgbClr val="ffffcc"/>
                      </a:solidFill>
                      <a:latin typeface="Arial Rounded MT Bold"/>
                    </a:rPr>
                    <a:t>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7732800" y="4400640"/>
              <a:ext cx="0" cy="114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59000" y="4392720"/>
              <a:ext cx="0" cy="114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ESION  Y  NIVEL VS. TIEM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6153120"/>
            <a:ext cx="91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123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04840" y="1257480"/>
            <a:ext cx="8124840" cy="2290680"/>
            <a:chOff x="204840" y="1257480"/>
            <a:chExt cx="8124840" cy="2290680"/>
          </a:xfrm>
        </p:grpSpPr>
        <p:sp>
          <p:nvSpPr>
            <p:cNvPr id="130" name=""/>
            <p:cNvSpPr/>
            <p:nvPr/>
          </p:nvSpPr>
          <p:spPr>
            <a:xfrm>
              <a:off x="204840" y="1873080"/>
              <a:ext cx="121932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Presió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Acustic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(en P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1065240" y="1257480"/>
            <a:ext cx="7264440" cy="2290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5240" y="1257480"/>
                      <a:ext cx="726444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228600" y="3780000"/>
            <a:ext cx="8153280" cy="2241360"/>
            <a:chOff x="228600" y="3780000"/>
            <a:chExt cx="8153280" cy="2241360"/>
          </a:xfrm>
        </p:grpSpPr>
        <p:sp>
          <p:nvSpPr>
            <p:cNvPr id="134" name=""/>
            <p:cNvSpPr/>
            <p:nvPr/>
          </p:nvSpPr>
          <p:spPr>
            <a:xfrm>
              <a:off x="228600" y="4572000"/>
              <a:ext cx="121932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Nive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Sonor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(en dB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1103400" y="3780000"/>
            <a:ext cx="7278480" cy="224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3780000"/>
                      <a:ext cx="7278480" cy="22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UMA DE NIVELES SONOR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19320" y="1523880"/>
            <a:ext cx="5562360" cy="854640"/>
            <a:chOff x="1219320" y="1523880"/>
            <a:chExt cx="5562360" cy="854640"/>
          </a:xfrm>
        </p:grpSpPr>
        <p:sp>
          <p:nvSpPr>
            <p:cNvPr id="139" name=""/>
            <p:cNvSpPr/>
            <p:nvPr/>
          </p:nvSpPr>
          <p:spPr>
            <a:xfrm>
              <a:off x="1219320" y="1523880"/>
              <a:ext cx="556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Arial Rounded MT Bold"/>
                </a:rPr>
                <a:t>NIVEL 1 =</a:t>
              </a: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 Nivel  generado por la fuente 1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9320" y="1981080"/>
              <a:ext cx="556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Arial Rounded MT Bold"/>
                </a:rPr>
                <a:t>NIVEL 2 =</a:t>
              </a: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 Nivel  generado por la fuente 2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988920" y="2587680"/>
            <a:ext cx="7061400" cy="858960"/>
            <a:chOff x="988920" y="2587680"/>
            <a:chExt cx="7061400" cy="858960"/>
          </a:xfrm>
        </p:grpSpPr>
        <p:sp>
          <p:nvSpPr>
            <p:cNvPr id="142" name=""/>
            <p:cNvSpPr/>
            <p:nvPr/>
          </p:nvSpPr>
          <p:spPr>
            <a:xfrm>
              <a:off x="988920" y="2587680"/>
              <a:ext cx="7061400" cy="85896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81240" y="2827440"/>
              <a:ext cx="6553080" cy="45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NIVEL(1+2) = 10 Log ( 10 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Arial"/>
                </a:rPr>
                <a:t>Nivel1/10 + 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10 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Arial"/>
                </a:rPr>
                <a:t>Nivel2/10 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03200" y="3973680"/>
            <a:ext cx="6387120" cy="523080"/>
            <a:chOff x="403200" y="3973680"/>
            <a:chExt cx="6387120" cy="523080"/>
          </a:xfrm>
        </p:grpSpPr>
        <p:graphicFrame>
          <p:nvGraphicFramePr>
            <p:cNvPr id="145" name=""/>
            <p:cNvGraphicFramePr/>
            <p:nvPr/>
          </p:nvGraphicFramePr>
          <p:xfrm>
            <a:off x="403200" y="3973680"/>
            <a:ext cx="770040" cy="51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200" y="3973680"/>
                      <a:ext cx="770040" cy="51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5344920" y="4038480"/>
              <a:ext cx="1445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       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03200" y="4664160"/>
            <a:ext cx="6351480" cy="582480"/>
            <a:chOff x="403200" y="4664160"/>
            <a:chExt cx="6351480" cy="582480"/>
          </a:xfrm>
        </p:grpSpPr>
        <p:graphicFrame>
          <p:nvGraphicFramePr>
            <p:cNvPr id="149" name=""/>
            <p:cNvGraphicFramePr/>
            <p:nvPr/>
          </p:nvGraphicFramePr>
          <p:xfrm>
            <a:off x="403200" y="4664160"/>
            <a:ext cx="770040" cy="58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200" y="4664160"/>
                      <a:ext cx="77004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1393920" y="4735440"/>
            <a:ext cx="769680" cy="5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93920" y="4735440"/>
                      <a:ext cx="76968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5357880" y="4724280"/>
              <a:ext cx="139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+ 3 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200" y="5410080"/>
            <a:ext cx="6351480" cy="522360"/>
            <a:chOff x="403200" y="5410080"/>
            <a:chExt cx="6351480" cy="522360"/>
          </a:xfrm>
        </p:grpSpPr>
        <p:graphicFrame>
          <p:nvGraphicFramePr>
            <p:cNvPr id="155" name=""/>
            <p:cNvGraphicFramePr/>
            <p:nvPr/>
          </p:nvGraphicFramePr>
          <p:xfrm>
            <a:off x="403200" y="5421240"/>
            <a:ext cx="693720" cy="51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200" y="5421240"/>
                      <a:ext cx="6937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1393920" y="5421240"/>
            <a:ext cx="769680" cy="511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93920" y="5421240"/>
                      <a:ext cx="76968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384280" y="5421240"/>
            <a:ext cx="770040" cy="511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84280" y="5421240"/>
                      <a:ext cx="77004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3375000" y="5421240"/>
            <a:ext cx="770040" cy="511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75000" y="5421240"/>
                      <a:ext cx="77004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4365720" y="5421240"/>
            <a:ext cx="769680" cy="51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365720" y="5421240"/>
                      <a:ext cx="76968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>
              <a:off x="5357880" y="5410080"/>
              <a:ext cx="139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+ 7 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659640" y="3728880"/>
            <a:ext cx="2150640" cy="2225880"/>
            <a:chOff x="6659640" y="3728880"/>
            <a:chExt cx="2150640" cy="2225880"/>
          </a:xfrm>
        </p:grpSpPr>
        <p:sp>
          <p:nvSpPr>
            <p:cNvPr id="167" name=""/>
            <p:cNvSpPr/>
            <p:nvPr/>
          </p:nvSpPr>
          <p:spPr>
            <a:xfrm>
              <a:off x="6659640" y="3728880"/>
              <a:ext cx="743040" cy="22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</a:t>
              </a:r>
              <a:endParaRPr b="0" lang="en-US" sz="1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93040" y="4724280"/>
              <a:ext cx="131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+ 9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170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5560" y="2905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SCALA DE FRECUENC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401840"/>
            <a:ext cx="769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6699"/>
                </a:solidFill>
                <a:latin typeface="Arial"/>
              </a:rPr>
              <a:t>FRECUENCIA f :</a:t>
            </a: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s el número de variaciones de la presión acústica por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segundo. Se mide en Hz (Hertz) y se gráfica en forma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logarítmic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2520" y="2606760"/>
            <a:ext cx="8913960" cy="907920"/>
            <a:chOff x="182520" y="2606760"/>
            <a:chExt cx="8913960" cy="907920"/>
          </a:xfrm>
        </p:grpSpPr>
        <p:sp>
          <p:nvSpPr>
            <p:cNvPr id="179" name=""/>
            <p:cNvSpPr/>
            <p:nvPr/>
          </p:nvSpPr>
          <p:spPr>
            <a:xfrm>
              <a:off x="487440" y="3070080"/>
              <a:ext cx="81532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3044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772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1152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9260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01840" y="2606760"/>
              <a:ext cx="60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06600" y="260676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11720" y="2606760"/>
              <a:ext cx="83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16840" y="260676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0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59840" y="2606760"/>
              <a:ext cx="60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800" spc="-1" strike="noStrike">
                  <a:solidFill>
                    <a:srgbClr val="ffffcc"/>
                  </a:solidFill>
                  <a:latin typeface="Arial"/>
                </a:rPr>
                <a:t>H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520" y="3147840"/>
              <a:ext cx="160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Infrasonid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16240" y="314784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Grav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30640" y="314784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edi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49800" y="314784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Agud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96280" y="3147840"/>
              <a:ext cx="160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Ultrasonid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195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612080" y="6103800"/>
            <a:ext cx="2263680" cy="458280"/>
          </a:xfrm>
          <a:prstGeom prst="rect">
            <a:avLst/>
          </a:prstGeom>
          <a:noFill/>
          <a:ln w="1260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período T = 1/ 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179960" y="4421160"/>
            <a:ext cx="4051080" cy="1523880"/>
            <a:chOff x="4179960" y="4421160"/>
            <a:chExt cx="4051080" cy="1523880"/>
          </a:xfrm>
        </p:grpSpPr>
        <p:sp>
          <p:nvSpPr>
            <p:cNvPr id="203" name=""/>
            <p:cNvSpPr/>
            <p:nvPr/>
          </p:nvSpPr>
          <p:spPr>
            <a:xfrm>
              <a:off x="4251240" y="4421160"/>
              <a:ext cx="0" cy="1523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14960" y="5500800"/>
              <a:ext cx="22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800" spc="-1" strike="noStrike">
                  <a:solidFill>
                    <a:srgbClr val="ff6699"/>
                  </a:solidFill>
                  <a:latin typeface="Arial"/>
                </a:rPr>
                <a:t>500 H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179960" y="5213160"/>
              <a:ext cx="3851280" cy="46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4360" y="5229360"/>
              <a:ext cx="1066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Arial"/>
                </a:rPr>
                <a:t>Tiemp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1240" y="4421160"/>
              <a:ext cx="2271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Arial"/>
                </a:rPr>
                <a:t>Presión acústic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45120" y="4962600"/>
              <a:ext cx="27000" cy="25236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0" y="158"/>
                  </a:moveTo>
                  <a:lnTo>
                    <a:pt x="10" y="24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1" y="7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8880" y="4962600"/>
              <a:ext cx="88920" cy="48888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1"/>
                  </a:lnTo>
                  <a:lnTo>
                    <a:pt x="22" y="306"/>
                  </a:lnTo>
                  <a:lnTo>
                    <a:pt x="25" y="307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49" y="23"/>
                  </a:lnTo>
                  <a:lnTo>
                    <a:pt x="50" y="17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57800" y="4962600"/>
              <a:ext cx="87120" cy="48888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5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1"/>
                  </a:lnTo>
                  <a:lnTo>
                    <a:pt x="21" y="306"/>
                  </a:lnTo>
                  <a:lnTo>
                    <a:pt x="23" y="307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7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43480" y="4962600"/>
              <a:ext cx="92160" cy="488880"/>
            </a:xfrm>
            <a:custGeom>
              <a:avLst/>
              <a:gdLst/>
              <a:ahLst/>
              <a:rect l="l" t="t" r="r" b="b"/>
              <a:pathLst>
                <a:path w="58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9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6" y="307"/>
                  </a:lnTo>
                  <a:lnTo>
                    <a:pt x="29" y="304"/>
                  </a:lnTo>
                  <a:lnTo>
                    <a:pt x="30" y="297"/>
                  </a:lnTo>
                  <a:lnTo>
                    <a:pt x="51" y="23"/>
                  </a:lnTo>
                  <a:lnTo>
                    <a:pt x="52" y="17"/>
                  </a:lnTo>
                  <a:lnTo>
                    <a:pt x="52" y="11"/>
                  </a:lnTo>
                  <a:lnTo>
                    <a:pt x="53" y="7"/>
                  </a:lnTo>
                  <a:lnTo>
                    <a:pt x="55" y="1"/>
                  </a:lnTo>
                  <a:lnTo>
                    <a:pt x="57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7080" y="4960800"/>
              <a:ext cx="8748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9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276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5"/>
                  </a:lnTo>
                  <a:lnTo>
                    <a:pt x="26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14920" y="4960800"/>
              <a:ext cx="8712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0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1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060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0" y="301"/>
                  </a:lnTo>
                  <a:lnTo>
                    <a:pt x="23" y="305"/>
                  </a:lnTo>
                  <a:lnTo>
                    <a:pt x="25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0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92760" y="4957920"/>
              <a:ext cx="87120" cy="490320"/>
            </a:xfrm>
            <a:custGeom>
              <a:avLst/>
              <a:gdLst/>
              <a:ahLst/>
              <a:rect l="l" t="t" r="r" b="b"/>
              <a:pathLst>
                <a:path w="55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2"/>
                  </a:lnTo>
                  <a:lnTo>
                    <a:pt x="21" y="306"/>
                  </a:lnTo>
                  <a:lnTo>
                    <a:pt x="23" y="308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78440" y="4957920"/>
              <a:ext cx="90360" cy="490320"/>
            </a:xfrm>
            <a:custGeom>
              <a:avLst/>
              <a:gdLst/>
              <a:ahLst/>
              <a:rect l="l" t="t" r="r" b="b"/>
              <a:pathLst>
                <a:path w="57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6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54" y="2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68800" y="4957920"/>
              <a:ext cx="88920" cy="490320"/>
            </a:xfrm>
            <a:custGeom>
              <a:avLst/>
              <a:gdLst/>
              <a:ahLst/>
              <a:rect l="l" t="t" r="r" b="b"/>
              <a:pathLst>
                <a:path w="56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6"/>
                  </a:lnTo>
                  <a:lnTo>
                    <a:pt x="17" y="283"/>
                  </a:lnTo>
                  <a:lnTo>
                    <a:pt x="18" y="297"/>
                  </a:lnTo>
                  <a:lnTo>
                    <a:pt x="19" y="302"/>
                  </a:lnTo>
                  <a:lnTo>
                    <a:pt x="21" y="306"/>
                  </a:lnTo>
                  <a:lnTo>
                    <a:pt x="24" y="308"/>
                  </a:lnTo>
                  <a:lnTo>
                    <a:pt x="26" y="304"/>
                  </a:lnTo>
                  <a:lnTo>
                    <a:pt x="28" y="297"/>
                  </a:lnTo>
                  <a:lnTo>
                    <a:pt x="49" y="24"/>
                  </a:lnTo>
                  <a:lnTo>
                    <a:pt x="49" y="17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2" y="3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56280" y="4957920"/>
              <a:ext cx="60120" cy="490320"/>
            </a:xfrm>
            <a:custGeom>
              <a:avLst/>
              <a:gdLst/>
              <a:ahLst/>
              <a:rect l="l" t="t" r="r" b="b"/>
              <a:pathLst>
                <a:path w="38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6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2"/>
                  </a:lnTo>
                  <a:lnTo>
                    <a:pt x="22" y="306"/>
                  </a:lnTo>
                  <a:lnTo>
                    <a:pt x="24" y="308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37" y="165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14960" y="4962600"/>
              <a:ext cx="27000" cy="25236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0" y="158"/>
                  </a:moveTo>
                  <a:lnTo>
                    <a:pt x="10" y="24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1" y="7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38720" y="4962600"/>
              <a:ext cx="88920" cy="48888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1"/>
                  </a:lnTo>
                  <a:lnTo>
                    <a:pt x="22" y="306"/>
                  </a:lnTo>
                  <a:lnTo>
                    <a:pt x="25" y="307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49" y="23"/>
                  </a:lnTo>
                  <a:lnTo>
                    <a:pt x="50" y="17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9080" y="4962600"/>
              <a:ext cx="87480" cy="48888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5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1"/>
                  </a:lnTo>
                  <a:lnTo>
                    <a:pt x="21" y="306"/>
                  </a:lnTo>
                  <a:lnTo>
                    <a:pt x="23" y="307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7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15120" y="4962600"/>
              <a:ext cx="88920" cy="48888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5" y="307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49" y="23"/>
                  </a:lnTo>
                  <a:lnTo>
                    <a:pt x="50" y="17"/>
                  </a:lnTo>
                  <a:lnTo>
                    <a:pt x="50" y="11"/>
                  </a:lnTo>
                  <a:lnTo>
                    <a:pt x="51" y="7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08720" y="4960800"/>
              <a:ext cx="8712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9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4400" y="4960800"/>
              <a:ext cx="88920" cy="48924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1" y="301"/>
                  </a:lnTo>
                  <a:lnTo>
                    <a:pt x="23" y="305"/>
                  </a:lnTo>
                  <a:lnTo>
                    <a:pt x="25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49" y="24"/>
                  </a:lnTo>
                  <a:lnTo>
                    <a:pt x="50" y="16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84760" y="4960800"/>
              <a:ext cx="8748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0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1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70440" y="4960800"/>
              <a:ext cx="88920" cy="48924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1"/>
                  </a:lnTo>
                  <a:lnTo>
                    <a:pt x="23" y="305"/>
                  </a:lnTo>
                  <a:lnTo>
                    <a:pt x="24" y="307"/>
                  </a:lnTo>
                  <a:lnTo>
                    <a:pt x="27" y="303"/>
                  </a:lnTo>
                  <a:lnTo>
                    <a:pt x="29" y="297"/>
                  </a:lnTo>
                  <a:lnTo>
                    <a:pt x="49" y="24"/>
                  </a:lnTo>
                  <a:lnTo>
                    <a:pt x="49" y="16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62600" y="4957920"/>
              <a:ext cx="87480" cy="490320"/>
            </a:xfrm>
            <a:custGeom>
              <a:avLst/>
              <a:gdLst/>
              <a:ahLst/>
              <a:rect l="l" t="t" r="r" b="b"/>
              <a:pathLst>
                <a:path w="55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2"/>
                  </a:lnTo>
                  <a:lnTo>
                    <a:pt x="21" y="306"/>
                  </a:lnTo>
                  <a:lnTo>
                    <a:pt x="23" y="308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8280" y="4957920"/>
              <a:ext cx="90720" cy="490320"/>
            </a:xfrm>
            <a:custGeom>
              <a:avLst/>
              <a:gdLst/>
              <a:ahLst/>
              <a:rect l="l" t="t" r="r" b="b"/>
              <a:pathLst>
                <a:path w="57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6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54" y="2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39000" y="4957920"/>
              <a:ext cx="88920" cy="490320"/>
            </a:xfrm>
            <a:custGeom>
              <a:avLst/>
              <a:gdLst/>
              <a:ahLst/>
              <a:rect l="l" t="t" r="r" b="b"/>
              <a:pathLst>
                <a:path w="56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6"/>
                  </a:lnTo>
                  <a:lnTo>
                    <a:pt x="17" y="283"/>
                  </a:lnTo>
                  <a:lnTo>
                    <a:pt x="18" y="297"/>
                  </a:lnTo>
                  <a:lnTo>
                    <a:pt x="19" y="302"/>
                  </a:lnTo>
                  <a:lnTo>
                    <a:pt x="21" y="306"/>
                  </a:lnTo>
                  <a:lnTo>
                    <a:pt x="24" y="308"/>
                  </a:lnTo>
                  <a:lnTo>
                    <a:pt x="26" y="304"/>
                  </a:lnTo>
                  <a:lnTo>
                    <a:pt x="28" y="297"/>
                  </a:lnTo>
                  <a:lnTo>
                    <a:pt x="49" y="24"/>
                  </a:lnTo>
                  <a:lnTo>
                    <a:pt x="49" y="17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2" y="3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26120" y="4957920"/>
              <a:ext cx="60480" cy="490320"/>
            </a:xfrm>
            <a:custGeom>
              <a:avLst/>
              <a:gdLst/>
              <a:ahLst/>
              <a:rect l="l" t="t" r="r" b="b"/>
              <a:pathLst>
                <a:path w="38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6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2"/>
                  </a:lnTo>
                  <a:lnTo>
                    <a:pt x="22" y="306"/>
                  </a:lnTo>
                  <a:lnTo>
                    <a:pt x="24" y="308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37" y="165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88040" y="4962600"/>
              <a:ext cx="27000" cy="25236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0" y="158"/>
                  </a:moveTo>
                  <a:lnTo>
                    <a:pt x="10" y="24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1" y="7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11800" y="4962600"/>
              <a:ext cx="90720" cy="48888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5" y="307"/>
                  </a:lnTo>
                  <a:lnTo>
                    <a:pt x="28" y="304"/>
                  </a:lnTo>
                  <a:lnTo>
                    <a:pt x="30" y="297"/>
                  </a:lnTo>
                  <a:lnTo>
                    <a:pt x="50" y="23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2" y="7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3960" y="4962600"/>
              <a:ext cx="85680" cy="488880"/>
            </a:xfrm>
            <a:custGeom>
              <a:avLst/>
              <a:gdLst/>
              <a:ahLst/>
              <a:rect l="l" t="t" r="r" b="b"/>
              <a:pathLst>
                <a:path w="54" h="308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5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6"/>
                  </a:lnTo>
                  <a:lnTo>
                    <a:pt x="22" y="307"/>
                  </a:lnTo>
                  <a:lnTo>
                    <a:pt x="25" y="304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7" y="17"/>
                  </a:lnTo>
                  <a:lnTo>
                    <a:pt x="48" y="11"/>
                  </a:lnTo>
                  <a:lnTo>
                    <a:pt x="49" y="7"/>
                  </a:lnTo>
                  <a:lnTo>
                    <a:pt x="51" y="3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88200" y="4962600"/>
              <a:ext cx="90360" cy="48888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6" y="307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50" y="23"/>
                  </a:lnTo>
                  <a:lnTo>
                    <a:pt x="51" y="17"/>
                  </a:lnTo>
                  <a:lnTo>
                    <a:pt x="51" y="11"/>
                  </a:lnTo>
                  <a:lnTo>
                    <a:pt x="52" y="7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3240" y="4960800"/>
              <a:ext cx="85680" cy="489240"/>
            </a:xfrm>
            <a:custGeom>
              <a:avLst/>
              <a:gdLst/>
              <a:ahLst/>
              <a:rect l="l" t="t" r="r" b="b"/>
              <a:pathLst>
                <a:path w="54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5"/>
                  </a:lnTo>
                  <a:lnTo>
                    <a:pt x="22" y="307"/>
                  </a:lnTo>
                  <a:lnTo>
                    <a:pt x="25" y="303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8" y="16"/>
                  </a:lnTo>
                  <a:lnTo>
                    <a:pt x="48" y="11"/>
                  </a:lnTo>
                  <a:lnTo>
                    <a:pt x="49" y="6"/>
                  </a:lnTo>
                  <a:lnTo>
                    <a:pt x="51" y="2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6748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5"/>
                  </a:lnTo>
                  <a:lnTo>
                    <a:pt x="26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59640" y="4960800"/>
              <a:ext cx="85680" cy="489240"/>
            </a:xfrm>
            <a:custGeom>
              <a:avLst/>
              <a:gdLst/>
              <a:ahLst/>
              <a:rect l="l" t="t" r="r" b="b"/>
              <a:pathLst>
                <a:path w="54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0" y="305"/>
                  </a:lnTo>
                  <a:lnTo>
                    <a:pt x="22" y="307"/>
                  </a:lnTo>
                  <a:lnTo>
                    <a:pt x="25" y="303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7" y="16"/>
                  </a:lnTo>
                  <a:lnTo>
                    <a:pt x="48" y="11"/>
                  </a:lnTo>
                  <a:lnTo>
                    <a:pt x="49" y="6"/>
                  </a:lnTo>
                  <a:lnTo>
                    <a:pt x="50" y="2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4388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0" y="301"/>
                  </a:lnTo>
                  <a:lnTo>
                    <a:pt x="23" y="305"/>
                  </a:lnTo>
                  <a:lnTo>
                    <a:pt x="25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0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37480" y="4957920"/>
              <a:ext cx="85680" cy="490320"/>
            </a:xfrm>
            <a:custGeom>
              <a:avLst/>
              <a:gdLst/>
              <a:ahLst/>
              <a:rect l="l" t="t" r="r" b="b"/>
              <a:pathLst>
                <a:path w="54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2"/>
                  </a:lnTo>
                  <a:lnTo>
                    <a:pt x="21" y="306"/>
                  </a:lnTo>
                  <a:lnTo>
                    <a:pt x="22" y="308"/>
                  </a:lnTo>
                  <a:lnTo>
                    <a:pt x="25" y="304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7" y="17"/>
                  </a:lnTo>
                  <a:lnTo>
                    <a:pt x="48" y="11"/>
                  </a:lnTo>
                  <a:lnTo>
                    <a:pt x="49" y="6"/>
                  </a:lnTo>
                  <a:lnTo>
                    <a:pt x="51" y="3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21360" y="4957920"/>
              <a:ext cx="92160" cy="490320"/>
            </a:xfrm>
            <a:custGeom>
              <a:avLst/>
              <a:gdLst/>
              <a:ahLst/>
              <a:rect l="l" t="t" r="r" b="b"/>
              <a:pathLst>
                <a:path w="58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6"/>
                  </a:lnTo>
                  <a:lnTo>
                    <a:pt x="19" y="283"/>
                  </a:lnTo>
                  <a:lnTo>
                    <a:pt x="20" y="297"/>
                  </a:lnTo>
                  <a:lnTo>
                    <a:pt x="21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9" y="304"/>
                  </a:lnTo>
                  <a:lnTo>
                    <a:pt x="30" y="297"/>
                  </a:lnTo>
                  <a:lnTo>
                    <a:pt x="51" y="24"/>
                  </a:lnTo>
                  <a:lnTo>
                    <a:pt x="52" y="17"/>
                  </a:lnTo>
                  <a:lnTo>
                    <a:pt x="53" y="11"/>
                  </a:lnTo>
                  <a:lnTo>
                    <a:pt x="53" y="6"/>
                  </a:lnTo>
                  <a:lnTo>
                    <a:pt x="55" y="2"/>
                  </a:lnTo>
                  <a:lnTo>
                    <a:pt x="57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3520" y="4957920"/>
              <a:ext cx="87480" cy="490320"/>
            </a:xfrm>
            <a:custGeom>
              <a:avLst/>
              <a:gdLst/>
              <a:ahLst/>
              <a:rect l="l" t="t" r="r" b="b"/>
              <a:pathLst>
                <a:path w="55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6"/>
                  </a:lnTo>
                  <a:lnTo>
                    <a:pt x="17" y="283"/>
                  </a:lnTo>
                  <a:lnTo>
                    <a:pt x="18" y="297"/>
                  </a:lnTo>
                  <a:lnTo>
                    <a:pt x="19" y="302"/>
                  </a:lnTo>
                  <a:lnTo>
                    <a:pt x="21" y="306"/>
                  </a:lnTo>
                  <a:lnTo>
                    <a:pt x="23" y="308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1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9200" y="4957920"/>
              <a:ext cx="61920" cy="490320"/>
            </a:xfrm>
            <a:custGeom>
              <a:avLst/>
              <a:gdLst/>
              <a:ahLst/>
              <a:rect l="l" t="t" r="r" b="b"/>
              <a:pathLst>
                <a:path w="39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6"/>
                  </a:lnTo>
                  <a:lnTo>
                    <a:pt x="19" y="283"/>
                  </a:lnTo>
                  <a:lnTo>
                    <a:pt x="20" y="297"/>
                  </a:lnTo>
                  <a:lnTo>
                    <a:pt x="20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8" y="304"/>
                  </a:lnTo>
                  <a:lnTo>
                    <a:pt x="30" y="297"/>
                  </a:lnTo>
                  <a:lnTo>
                    <a:pt x="38" y="165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718240" y="4752720"/>
              <a:ext cx="322200" cy="6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34040" y="4754520"/>
              <a:ext cx="358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92320" y="4635360"/>
              <a:ext cx="715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ffffcc"/>
                  </a:solidFill>
                  <a:latin typeface="Arial"/>
                </a:rPr>
                <a:t>T  = 2 ms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039000" y="4683240"/>
              <a:ext cx="0" cy="1936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126120" y="4683240"/>
              <a:ext cx="0" cy="1936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622520" y="3429000"/>
            <a:ext cx="5875200" cy="717840"/>
            <a:chOff x="1622520" y="3429000"/>
            <a:chExt cx="5875200" cy="717840"/>
          </a:xfrm>
        </p:grpSpPr>
        <p:sp>
          <p:nvSpPr>
            <p:cNvPr id="250" name=""/>
            <p:cNvSpPr/>
            <p:nvPr/>
          </p:nvSpPr>
          <p:spPr>
            <a:xfrm>
              <a:off x="1630440" y="3765600"/>
              <a:ext cx="5856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35200" y="3780000"/>
              <a:ext cx="2210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ANGO AUDIBL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97720" y="3429000"/>
              <a:ext cx="0" cy="3808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22520" y="3666960"/>
              <a:ext cx="0" cy="142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7840" y="4419720"/>
            <a:ext cx="3475800" cy="1523880"/>
            <a:chOff x="357840" y="4419720"/>
            <a:chExt cx="3475800" cy="1523880"/>
          </a:xfrm>
        </p:grpSpPr>
        <p:sp>
          <p:nvSpPr>
            <p:cNvPr id="255" name=""/>
            <p:cNvSpPr/>
            <p:nvPr/>
          </p:nvSpPr>
          <p:spPr>
            <a:xfrm>
              <a:off x="554040" y="5194440"/>
              <a:ext cx="3279600" cy="140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70160" y="4740120"/>
              <a:ext cx="488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57840" y="4419720"/>
              <a:ext cx="3444120" cy="1523880"/>
              <a:chOff x="357840" y="4419720"/>
              <a:chExt cx="3444120" cy="1523880"/>
            </a:xfrm>
          </p:grpSpPr>
          <p:sp>
            <p:nvSpPr>
              <p:cNvPr id="258" name=""/>
              <p:cNvSpPr/>
              <p:nvPr/>
            </p:nvSpPr>
            <p:spPr>
              <a:xfrm>
                <a:off x="635040" y="4962600"/>
                <a:ext cx="128520" cy="252360"/>
              </a:xfrm>
              <a:custGeom>
                <a:avLst/>
                <a:gdLst/>
                <a:ahLst/>
                <a:rect l="l" t="t" r="r" b="b"/>
                <a:pathLst>
                  <a:path w="81" h="159">
                    <a:moveTo>
                      <a:pt x="0" y="158"/>
                    </a:moveTo>
                    <a:lnTo>
                      <a:pt x="49" y="24"/>
                    </a:lnTo>
                    <a:lnTo>
                      <a:pt x="52" y="17"/>
                    </a:lnTo>
                    <a:lnTo>
                      <a:pt x="54" y="11"/>
                    </a:lnTo>
                    <a:lnTo>
                      <a:pt x="58" y="7"/>
                    </a:lnTo>
                    <a:lnTo>
                      <a:pt x="67" y="3"/>
                    </a:lnTo>
                    <a:lnTo>
                      <a:pt x="80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5000" y="4962600"/>
                <a:ext cx="497160" cy="488880"/>
              </a:xfrm>
              <a:custGeom>
                <a:avLst/>
                <a:gdLst/>
                <a:ahLst/>
                <a:rect l="l" t="t" r="r" b="b"/>
                <a:pathLst>
                  <a:path w="313" h="308">
                    <a:moveTo>
                      <a:pt x="0" y="0"/>
                    </a:moveTo>
                    <a:lnTo>
                      <a:pt x="16" y="1"/>
                    </a:lnTo>
                    <a:lnTo>
                      <a:pt x="30" y="7"/>
                    </a:lnTo>
                    <a:lnTo>
                      <a:pt x="33" y="14"/>
                    </a:lnTo>
                    <a:lnTo>
                      <a:pt x="37" y="25"/>
                    </a:lnTo>
                    <a:lnTo>
                      <a:pt x="104" y="283"/>
                    </a:lnTo>
                    <a:lnTo>
                      <a:pt x="111" y="297"/>
                    </a:lnTo>
                    <a:lnTo>
                      <a:pt x="117" y="301"/>
                    </a:lnTo>
                    <a:lnTo>
                      <a:pt x="129" y="306"/>
                    </a:lnTo>
                    <a:lnTo>
                      <a:pt x="141" y="307"/>
                    </a:lnTo>
                    <a:lnTo>
                      <a:pt x="158" y="304"/>
                    </a:lnTo>
                    <a:lnTo>
                      <a:pt x="167" y="297"/>
                    </a:lnTo>
                    <a:lnTo>
                      <a:pt x="281" y="23"/>
                    </a:lnTo>
                    <a:lnTo>
                      <a:pt x="284" y="17"/>
                    </a:lnTo>
                    <a:lnTo>
                      <a:pt x="286" y="11"/>
                    </a:lnTo>
                    <a:lnTo>
                      <a:pt x="290" y="7"/>
                    </a:lnTo>
                    <a:lnTo>
                      <a:pt x="299" y="1"/>
                    </a:lnTo>
                    <a:lnTo>
                      <a:pt x="312" y="1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73320" y="4962600"/>
                <a:ext cx="480960" cy="488880"/>
              </a:xfrm>
              <a:custGeom>
                <a:avLst/>
                <a:gdLst/>
                <a:ahLst/>
                <a:rect l="l" t="t" r="r" b="b"/>
                <a:pathLst>
                  <a:path w="303" h="308">
                    <a:moveTo>
                      <a:pt x="0" y="2"/>
                    </a:moveTo>
                    <a:lnTo>
                      <a:pt x="9" y="3"/>
                    </a:lnTo>
                    <a:lnTo>
                      <a:pt x="19" y="8"/>
                    </a:lnTo>
                    <a:lnTo>
                      <a:pt x="22" y="15"/>
                    </a:lnTo>
                    <a:lnTo>
                      <a:pt x="27" y="26"/>
                    </a:lnTo>
                    <a:lnTo>
                      <a:pt x="95" y="283"/>
                    </a:lnTo>
                    <a:lnTo>
                      <a:pt x="101" y="297"/>
                    </a:lnTo>
                    <a:lnTo>
                      <a:pt x="107" y="301"/>
                    </a:lnTo>
                    <a:lnTo>
                      <a:pt x="120" y="306"/>
                    </a:lnTo>
                    <a:lnTo>
                      <a:pt x="132" y="307"/>
                    </a:lnTo>
                    <a:lnTo>
                      <a:pt x="147" y="304"/>
                    </a:lnTo>
                    <a:lnTo>
                      <a:pt x="157" y="297"/>
                    </a:lnTo>
                    <a:lnTo>
                      <a:pt x="271" y="24"/>
                    </a:lnTo>
                    <a:lnTo>
                      <a:pt x="274" y="17"/>
                    </a:lnTo>
                    <a:lnTo>
                      <a:pt x="277" y="11"/>
                    </a:lnTo>
                    <a:lnTo>
                      <a:pt x="282" y="7"/>
                    </a:lnTo>
                    <a:lnTo>
                      <a:pt x="291" y="3"/>
                    </a:lnTo>
                    <a:lnTo>
                      <a:pt x="302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54280" y="4962600"/>
                <a:ext cx="501480" cy="488880"/>
              </a:xfrm>
              <a:custGeom>
                <a:avLst/>
                <a:gdLst/>
                <a:ahLst/>
                <a:rect l="l" t="t" r="r" b="b"/>
                <a:pathLst>
                  <a:path w="316" h="308">
                    <a:moveTo>
                      <a:pt x="0" y="0"/>
                    </a:moveTo>
                    <a:lnTo>
                      <a:pt x="16" y="1"/>
                    </a:lnTo>
                    <a:lnTo>
                      <a:pt x="30" y="7"/>
                    </a:lnTo>
                    <a:lnTo>
                      <a:pt x="34" y="14"/>
                    </a:lnTo>
                    <a:lnTo>
                      <a:pt x="39" y="25"/>
                    </a:lnTo>
                    <a:lnTo>
                      <a:pt x="106" y="283"/>
                    </a:lnTo>
                    <a:lnTo>
                      <a:pt x="113" y="297"/>
                    </a:lnTo>
                    <a:lnTo>
                      <a:pt x="119" y="301"/>
                    </a:lnTo>
                    <a:lnTo>
                      <a:pt x="130" y="306"/>
                    </a:lnTo>
                    <a:lnTo>
                      <a:pt x="143" y="307"/>
                    </a:lnTo>
                    <a:lnTo>
                      <a:pt x="159" y="304"/>
                    </a:lnTo>
                    <a:lnTo>
                      <a:pt x="168" y="297"/>
                    </a:lnTo>
                    <a:lnTo>
                      <a:pt x="284" y="23"/>
                    </a:lnTo>
                    <a:lnTo>
                      <a:pt x="287" y="17"/>
                    </a:lnTo>
                    <a:lnTo>
                      <a:pt x="289" y="11"/>
                    </a:lnTo>
                    <a:lnTo>
                      <a:pt x="293" y="7"/>
                    </a:lnTo>
                    <a:lnTo>
                      <a:pt x="302" y="1"/>
                    </a:lnTo>
                    <a:lnTo>
                      <a:pt x="315" y="1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78080" y="4960800"/>
                <a:ext cx="482760" cy="489240"/>
              </a:xfrm>
              <a:custGeom>
                <a:avLst/>
                <a:gdLst/>
                <a:ahLst/>
                <a:rect l="l" t="t" r="r" b="b"/>
                <a:pathLst>
                  <a:path w="304" h="308">
                    <a:moveTo>
                      <a:pt x="0" y="1"/>
                    </a:moveTo>
                    <a:lnTo>
                      <a:pt x="9" y="2"/>
                    </a:lnTo>
                    <a:lnTo>
                      <a:pt x="19" y="8"/>
                    </a:lnTo>
                    <a:lnTo>
                      <a:pt x="24" y="14"/>
                    </a:lnTo>
                    <a:lnTo>
                      <a:pt x="27" y="25"/>
                    </a:lnTo>
                    <a:lnTo>
                      <a:pt x="94" y="283"/>
                    </a:lnTo>
                    <a:lnTo>
                      <a:pt x="101" y="297"/>
                    </a:lnTo>
                    <a:lnTo>
                      <a:pt x="108" y="301"/>
                    </a:lnTo>
                    <a:lnTo>
                      <a:pt x="119" y="305"/>
                    </a:lnTo>
                    <a:lnTo>
                      <a:pt x="132" y="307"/>
                    </a:lnTo>
                    <a:lnTo>
                      <a:pt x="147" y="303"/>
                    </a:lnTo>
                    <a:lnTo>
                      <a:pt x="156" y="297"/>
                    </a:lnTo>
                    <a:lnTo>
                      <a:pt x="272" y="24"/>
                    </a:lnTo>
                    <a:lnTo>
                      <a:pt x="275" y="16"/>
                    </a:lnTo>
                    <a:lnTo>
                      <a:pt x="277" y="11"/>
                    </a:lnTo>
                    <a:lnTo>
                      <a:pt x="281" y="6"/>
                    </a:lnTo>
                    <a:lnTo>
                      <a:pt x="290" y="2"/>
                    </a:lnTo>
                    <a:lnTo>
                      <a:pt x="303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62280" y="4960800"/>
                <a:ext cx="496800" cy="489240"/>
              </a:xfrm>
              <a:custGeom>
                <a:avLst/>
                <a:gdLst/>
                <a:ahLst/>
                <a:rect l="l" t="t" r="r" b="b"/>
                <a:pathLst>
                  <a:path w="313" h="308">
                    <a:moveTo>
                      <a:pt x="0" y="0"/>
                    </a:moveTo>
                    <a:lnTo>
                      <a:pt x="16" y="1"/>
                    </a:lnTo>
                    <a:lnTo>
                      <a:pt x="30" y="7"/>
                    </a:lnTo>
                    <a:lnTo>
                      <a:pt x="33" y="14"/>
                    </a:lnTo>
                    <a:lnTo>
                      <a:pt x="37" y="25"/>
                    </a:lnTo>
                    <a:lnTo>
                      <a:pt x="104" y="283"/>
                    </a:lnTo>
                    <a:lnTo>
                      <a:pt x="111" y="297"/>
                    </a:lnTo>
                    <a:lnTo>
                      <a:pt x="117" y="301"/>
                    </a:lnTo>
                    <a:lnTo>
                      <a:pt x="129" y="305"/>
                    </a:lnTo>
                    <a:lnTo>
                      <a:pt x="141" y="307"/>
                    </a:lnTo>
                    <a:lnTo>
                      <a:pt x="158" y="303"/>
                    </a:lnTo>
                    <a:lnTo>
                      <a:pt x="167" y="297"/>
                    </a:lnTo>
                    <a:lnTo>
                      <a:pt x="281" y="24"/>
                    </a:lnTo>
                    <a:lnTo>
                      <a:pt x="284" y="16"/>
                    </a:lnTo>
                    <a:lnTo>
                      <a:pt x="286" y="11"/>
                    </a:lnTo>
                    <a:lnTo>
                      <a:pt x="290" y="6"/>
                    </a:lnTo>
                    <a:lnTo>
                      <a:pt x="299" y="1"/>
                    </a:lnTo>
                    <a:lnTo>
                      <a:pt x="312" y="1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70240" y="4960800"/>
                <a:ext cx="480960" cy="489240"/>
              </a:xfrm>
              <a:custGeom>
                <a:avLst/>
                <a:gdLst/>
                <a:ahLst/>
                <a:rect l="l" t="t" r="r" b="b"/>
                <a:pathLst>
                  <a:path w="303" h="308">
                    <a:moveTo>
                      <a:pt x="0" y="1"/>
                    </a:moveTo>
                    <a:lnTo>
                      <a:pt x="9" y="2"/>
                    </a:lnTo>
                    <a:lnTo>
                      <a:pt x="19" y="8"/>
                    </a:lnTo>
                    <a:lnTo>
                      <a:pt x="22" y="14"/>
                    </a:lnTo>
                    <a:lnTo>
                      <a:pt x="27" y="25"/>
                    </a:lnTo>
                    <a:lnTo>
                      <a:pt x="95" y="283"/>
                    </a:lnTo>
                    <a:lnTo>
                      <a:pt x="101" y="297"/>
                    </a:lnTo>
                    <a:lnTo>
                      <a:pt x="107" y="301"/>
                    </a:lnTo>
                    <a:lnTo>
                      <a:pt x="120" y="305"/>
                    </a:lnTo>
                    <a:lnTo>
                      <a:pt x="132" y="307"/>
                    </a:lnTo>
                    <a:lnTo>
                      <a:pt x="147" y="303"/>
                    </a:lnTo>
                    <a:lnTo>
                      <a:pt x="157" y="297"/>
                    </a:lnTo>
                    <a:lnTo>
                      <a:pt x="271" y="24"/>
                    </a:lnTo>
                    <a:lnTo>
                      <a:pt x="274" y="16"/>
                    </a:lnTo>
                    <a:lnTo>
                      <a:pt x="277" y="11"/>
                    </a:lnTo>
                    <a:lnTo>
                      <a:pt x="282" y="6"/>
                    </a:lnTo>
                    <a:lnTo>
                      <a:pt x="291" y="2"/>
                    </a:lnTo>
                    <a:lnTo>
                      <a:pt x="302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5320" y="4419720"/>
                <a:ext cx="0" cy="152388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92280" y="5497560"/>
                <a:ext cx="22096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800" spc="-1" strike="noStrike">
                    <a:solidFill>
                      <a:srgbClr val="ff6699"/>
                    </a:solidFill>
                    <a:latin typeface="Arial"/>
                  </a:rPr>
                  <a:t>100 Hz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5320" y="4419720"/>
                <a:ext cx="190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Arial"/>
                  </a:rPr>
                  <a:t>Presión acústica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47840" y="4962600"/>
                <a:ext cx="25560" cy="0"/>
              </a:xfrm>
              <a:prstGeom prst="line">
                <a:avLst/>
              </a:prstGeom>
              <a:ln w="1260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90000" y="4613400"/>
                <a:ext cx="785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000" spc="-1" strike="noStrike">
                    <a:solidFill>
                      <a:srgbClr val="ffffcc"/>
                    </a:solidFill>
                    <a:latin typeface="Arial"/>
                  </a:rPr>
                  <a:t>T  = 10 ms</a:t>
                </a:r>
                <a:endParaRPr b="0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768760" y="4680000"/>
                <a:ext cx="0" cy="1936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262240" y="4675320"/>
                <a:ext cx="0" cy="1936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57840" y="509256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1782720" y="3144960"/>
            <a:ext cx="0" cy="155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83760" y="510696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92120" y="2082960"/>
            <a:ext cx="8267760" cy="3249360"/>
          </a:xfrm>
          <a:custGeom>
            <a:avLst/>
            <a:gdLst/>
            <a:ahLst/>
            <a:rect l="l" t="t" r="r" b="b"/>
            <a:pathLst>
              <a:path w="5208" h="2047">
                <a:moveTo>
                  <a:pt x="0" y="0"/>
                </a:moveTo>
                <a:lnTo>
                  <a:pt x="5207" y="0"/>
                </a:lnTo>
                <a:lnTo>
                  <a:pt x="5207" y="2046"/>
                </a:lnTo>
                <a:lnTo>
                  <a:pt x="0" y="2046"/>
                </a:lnTo>
                <a:lnTo>
                  <a:pt x="0" y="0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SPECTRO SONOR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278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49760" y="1963800"/>
            <a:ext cx="8610120" cy="3477600"/>
            <a:chOff x="149760" y="1963800"/>
            <a:chExt cx="8610120" cy="3477600"/>
          </a:xfrm>
        </p:grpSpPr>
        <p:grpSp>
          <p:nvGrpSpPr>
            <p:cNvPr id="285" name=""/>
            <p:cNvGrpSpPr/>
            <p:nvPr/>
          </p:nvGrpSpPr>
          <p:grpSpPr>
            <a:xfrm>
              <a:off x="149760" y="1963800"/>
              <a:ext cx="8610120" cy="3477600"/>
              <a:chOff x="149760" y="1963800"/>
              <a:chExt cx="8610120" cy="34776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2120" y="2082960"/>
                <a:ext cx="8267760" cy="3249360"/>
              </a:xfrm>
              <a:custGeom>
                <a:avLst/>
                <a:gdLst/>
                <a:ahLst/>
                <a:rect l="l" t="t" r="r" b="b"/>
                <a:pathLst>
                  <a:path w="5208" h="2047">
                    <a:moveTo>
                      <a:pt x="0" y="0"/>
                    </a:moveTo>
                    <a:lnTo>
                      <a:pt x="5207" y="0"/>
                    </a:lnTo>
                    <a:lnTo>
                      <a:pt x="5207" y="2046"/>
                    </a:lnTo>
                    <a:lnTo>
                      <a:pt x="0" y="204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2800" y="521172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5560" y="474804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2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5560" y="428472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4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5560" y="381960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6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5560" y="335592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8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9760" y="289260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10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9760" y="242892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12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9760" y="196380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14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" y="2087640"/>
                <a:ext cx="8384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600" spc="-1" strike="noStrike">
                    <a:solidFill>
                      <a:srgbClr val="ffffcc"/>
                    </a:solidFill>
                    <a:latin typeface="Arial"/>
                  </a:rPr>
                  <a:t>NIVE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600" spc="-1" strike="noStrike">
                    <a:solidFill>
                      <a:srgbClr val="ffffcc"/>
                    </a:solidFill>
                    <a:latin typeface="Arial"/>
                  </a:rPr>
                  <a:t>dB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92120" y="2082960"/>
              <a:ext cx="0" cy="3247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440" y="486720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0440" y="44020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0440" y="393876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0440" y="34750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0440" y="301140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0440" y="25462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0440" y="208296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068560" y="2963880"/>
            <a:ext cx="5905440" cy="1719360"/>
            <a:chOff x="2068560" y="2963880"/>
            <a:chExt cx="5905440" cy="1719360"/>
          </a:xfrm>
        </p:grpSpPr>
        <p:sp>
          <p:nvSpPr>
            <p:cNvPr id="305" name=""/>
            <p:cNvSpPr/>
            <p:nvPr/>
          </p:nvSpPr>
          <p:spPr>
            <a:xfrm>
              <a:off x="2068560" y="3822840"/>
              <a:ext cx="5905440" cy="860400"/>
            </a:xfrm>
            <a:custGeom>
              <a:avLst/>
              <a:gdLst/>
              <a:ahLst/>
              <a:rect l="l" t="t" r="r" b="b"/>
              <a:pathLst>
                <a:path w="3720" h="542">
                  <a:moveTo>
                    <a:pt x="0" y="0"/>
                  </a:moveTo>
                  <a:lnTo>
                    <a:pt x="246" y="117"/>
                  </a:lnTo>
                  <a:lnTo>
                    <a:pt x="495" y="146"/>
                  </a:lnTo>
                  <a:lnTo>
                    <a:pt x="744" y="248"/>
                  </a:lnTo>
                  <a:lnTo>
                    <a:pt x="990" y="292"/>
                  </a:lnTo>
                  <a:lnTo>
                    <a:pt x="1239" y="336"/>
                  </a:lnTo>
                  <a:lnTo>
                    <a:pt x="1488" y="365"/>
                  </a:lnTo>
                  <a:lnTo>
                    <a:pt x="1734" y="409"/>
                  </a:lnTo>
                  <a:lnTo>
                    <a:pt x="1983" y="424"/>
                  </a:lnTo>
                  <a:lnTo>
                    <a:pt x="2232" y="438"/>
                  </a:lnTo>
                  <a:lnTo>
                    <a:pt x="2478" y="511"/>
                  </a:lnTo>
                  <a:lnTo>
                    <a:pt x="2727" y="526"/>
                  </a:lnTo>
                  <a:lnTo>
                    <a:pt x="2975" y="541"/>
                  </a:lnTo>
                  <a:lnTo>
                    <a:pt x="3222" y="511"/>
                  </a:lnTo>
                  <a:lnTo>
                    <a:pt x="3471" y="409"/>
                  </a:lnTo>
                  <a:lnTo>
                    <a:pt x="3719" y="219"/>
                  </a:ln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68560" y="2963880"/>
              <a:ext cx="5905440" cy="1208160"/>
            </a:xfrm>
            <a:custGeom>
              <a:avLst/>
              <a:gdLst/>
              <a:ahLst/>
              <a:rect l="l" t="t" r="r" b="b"/>
              <a:pathLst>
                <a:path w="3720" h="761">
                  <a:moveTo>
                    <a:pt x="0" y="541"/>
                  </a:moveTo>
                  <a:lnTo>
                    <a:pt x="246" y="205"/>
                  </a:lnTo>
                  <a:lnTo>
                    <a:pt x="495" y="103"/>
                  </a:lnTo>
                  <a:lnTo>
                    <a:pt x="744" y="30"/>
                  </a:lnTo>
                  <a:lnTo>
                    <a:pt x="990" y="15"/>
                  </a:lnTo>
                  <a:lnTo>
                    <a:pt x="1239" y="0"/>
                  </a:lnTo>
                  <a:lnTo>
                    <a:pt x="1488" y="15"/>
                  </a:lnTo>
                  <a:lnTo>
                    <a:pt x="1734" y="30"/>
                  </a:lnTo>
                  <a:lnTo>
                    <a:pt x="1983" y="59"/>
                  </a:lnTo>
                  <a:lnTo>
                    <a:pt x="2232" y="103"/>
                  </a:lnTo>
                  <a:lnTo>
                    <a:pt x="2478" y="132"/>
                  </a:lnTo>
                  <a:lnTo>
                    <a:pt x="2727" y="220"/>
                  </a:lnTo>
                  <a:lnTo>
                    <a:pt x="2975" y="322"/>
                  </a:lnTo>
                  <a:lnTo>
                    <a:pt x="3222" y="366"/>
                  </a:lnTo>
                  <a:lnTo>
                    <a:pt x="3471" y="497"/>
                  </a:lnTo>
                  <a:lnTo>
                    <a:pt x="3719" y="760"/>
                  </a:ln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52840" y="3124080"/>
              <a:ext cx="1431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MUSIC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54440" y="3475080"/>
            <a:ext cx="4725720" cy="976320"/>
            <a:chOff x="2854440" y="3475080"/>
            <a:chExt cx="4725720" cy="976320"/>
          </a:xfrm>
        </p:grpSpPr>
        <p:sp>
          <p:nvSpPr>
            <p:cNvPr id="309" name=""/>
            <p:cNvSpPr/>
            <p:nvPr/>
          </p:nvSpPr>
          <p:spPr>
            <a:xfrm>
              <a:off x="2854440" y="3938760"/>
              <a:ext cx="4725720" cy="512640"/>
            </a:xfrm>
            <a:custGeom>
              <a:avLst/>
              <a:gdLst/>
              <a:ahLst/>
              <a:rect l="l" t="t" r="r" b="b"/>
              <a:pathLst>
                <a:path w="2977" h="323">
                  <a:moveTo>
                    <a:pt x="0" y="0"/>
                  </a:moveTo>
                  <a:lnTo>
                    <a:pt x="249" y="102"/>
                  </a:lnTo>
                  <a:lnTo>
                    <a:pt x="495" y="146"/>
                  </a:lnTo>
                  <a:lnTo>
                    <a:pt x="744" y="117"/>
                  </a:lnTo>
                  <a:lnTo>
                    <a:pt x="993" y="175"/>
                  </a:lnTo>
                  <a:lnTo>
                    <a:pt x="1239" y="161"/>
                  </a:lnTo>
                  <a:lnTo>
                    <a:pt x="1488" y="146"/>
                  </a:lnTo>
                  <a:lnTo>
                    <a:pt x="1737" y="263"/>
                  </a:lnTo>
                  <a:lnTo>
                    <a:pt x="1983" y="292"/>
                  </a:lnTo>
                  <a:lnTo>
                    <a:pt x="2232" y="307"/>
                  </a:lnTo>
                  <a:lnTo>
                    <a:pt x="2480" y="322"/>
                  </a:lnTo>
                  <a:lnTo>
                    <a:pt x="2727" y="322"/>
                  </a:lnTo>
                  <a:lnTo>
                    <a:pt x="2976" y="278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54440" y="3475080"/>
              <a:ext cx="4725720" cy="906480"/>
            </a:xfrm>
            <a:custGeom>
              <a:avLst/>
              <a:gdLst/>
              <a:ahLst/>
              <a:rect l="l" t="t" r="r" b="b"/>
              <a:pathLst>
                <a:path w="2977" h="571">
                  <a:moveTo>
                    <a:pt x="0" y="292"/>
                  </a:moveTo>
                  <a:lnTo>
                    <a:pt x="249" y="234"/>
                  </a:lnTo>
                  <a:lnTo>
                    <a:pt x="495" y="146"/>
                  </a:lnTo>
                  <a:lnTo>
                    <a:pt x="744" y="102"/>
                  </a:lnTo>
                  <a:lnTo>
                    <a:pt x="993" y="14"/>
                  </a:lnTo>
                  <a:lnTo>
                    <a:pt x="1239" y="0"/>
                  </a:lnTo>
                  <a:lnTo>
                    <a:pt x="1488" y="14"/>
                  </a:lnTo>
                  <a:lnTo>
                    <a:pt x="1737" y="29"/>
                  </a:lnTo>
                  <a:lnTo>
                    <a:pt x="1983" y="146"/>
                  </a:lnTo>
                  <a:lnTo>
                    <a:pt x="2232" y="248"/>
                  </a:lnTo>
                  <a:lnTo>
                    <a:pt x="2480" y="292"/>
                  </a:lnTo>
                  <a:lnTo>
                    <a:pt x="2727" y="336"/>
                  </a:lnTo>
                  <a:lnTo>
                    <a:pt x="2976" y="570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1920" y="3795840"/>
              <a:ext cx="293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99ff33"/>
                  </a:solidFill>
                  <a:latin typeface="Arial"/>
                </a:rPr>
                <a:t>CONVERSAC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43440" y="5292360"/>
            <a:ext cx="8768880" cy="698040"/>
            <a:chOff x="343440" y="5292360"/>
            <a:chExt cx="8768880" cy="698040"/>
          </a:xfrm>
        </p:grpSpPr>
        <p:sp>
          <p:nvSpPr>
            <p:cNvPr id="313" name=""/>
            <p:cNvSpPr/>
            <p:nvPr/>
          </p:nvSpPr>
          <p:spPr>
            <a:xfrm>
              <a:off x="460440" y="53308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2120" y="5330880"/>
              <a:ext cx="8265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9212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12780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06856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85444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63996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43088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2164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00228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7914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57872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3646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3440" y="53881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6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9320" y="53881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2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18440" y="53881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76960" y="5388120"/>
              <a:ext cx="376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25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62840" y="5388120"/>
              <a:ext cx="376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5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51960" y="5388120"/>
              <a:ext cx="376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1048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600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8512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100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29520" y="5388120"/>
              <a:ext cx="50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6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2400" y="5654520"/>
              <a:ext cx="2239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FRECUENCIA (HZ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6520" y="2500200"/>
            <a:ext cx="8196480" cy="2738520"/>
            <a:chOff x="596520" y="2500200"/>
            <a:chExt cx="8196480" cy="2738520"/>
          </a:xfrm>
        </p:grpSpPr>
        <p:grpSp>
          <p:nvGrpSpPr>
            <p:cNvPr id="339" name=""/>
            <p:cNvGrpSpPr/>
            <p:nvPr/>
          </p:nvGrpSpPr>
          <p:grpSpPr>
            <a:xfrm>
              <a:off x="887400" y="2500200"/>
              <a:ext cx="7905600" cy="2738520"/>
              <a:chOff x="887400" y="2500200"/>
              <a:chExt cx="7905600" cy="2738520"/>
            </a:xfrm>
          </p:grpSpPr>
          <p:sp>
            <p:nvSpPr>
              <p:cNvPr id="340" name=""/>
              <p:cNvSpPr/>
              <p:nvPr/>
            </p:nvSpPr>
            <p:spPr>
              <a:xfrm>
                <a:off x="887400" y="2523960"/>
                <a:ext cx="7872480" cy="2714760"/>
              </a:xfrm>
              <a:custGeom>
                <a:avLst/>
                <a:gdLst/>
                <a:ahLst/>
                <a:rect l="l" t="t" r="r" b="b"/>
                <a:pathLst>
                  <a:path w="4959" h="1710">
                    <a:moveTo>
                      <a:pt x="0" y="307"/>
                    </a:moveTo>
                    <a:lnTo>
                      <a:pt x="246" y="599"/>
                    </a:lnTo>
                    <a:lnTo>
                      <a:pt x="495" y="745"/>
                    </a:lnTo>
                    <a:lnTo>
                      <a:pt x="744" y="891"/>
                    </a:lnTo>
                    <a:lnTo>
                      <a:pt x="990" y="1066"/>
                    </a:lnTo>
                    <a:lnTo>
                      <a:pt x="1239" y="1183"/>
                    </a:lnTo>
                    <a:lnTo>
                      <a:pt x="1488" y="1227"/>
                    </a:lnTo>
                    <a:lnTo>
                      <a:pt x="1734" y="1359"/>
                    </a:lnTo>
                    <a:lnTo>
                      <a:pt x="1983" y="1476"/>
                    </a:lnTo>
                    <a:lnTo>
                      <a:pt x="2232" y="1505"/>
                    </a:lnTo>
                    <a:lnTo>
                      <a:pt x="2478" y="1592"/>
                    </a:lnTo>
                    <a:lnTo>
                      <a:pt x="2727" y="1651"/>
                    </a:lnTo>
                    <a:lnTo>
                      <a:pt x="2976" y="1680"/>
                    </a:lnTo>
                    <a:lnTo>
                      <a:pt x="3222" y="1709"/>
                    </a:lnTo>
                    <a:lnTo>
                      <a:pt x="3471" y="1622"/>
                    </a:lnTo>
                    <a:lnTo>
                      <a:pt x="3719" y="1519"/>
                    </a:lnTo>
                    <a:lnTo>
                      <a:pt x="3966" y="1476"/>
                    </a:lnTo>
                    <a:lnTo>
                      <a:pt x="4215" y="1402"/>
                    </a:lnTo>
                    <a:lnTo>
                      <a:pt x="4463" y="1183"/>
                    </a:lnTo>
                    <a:lnTo>
                      <a:pt x="4710" y="891"/>
                    </a:lnTo>
                    <a:lnTo>
                      <a:pt x="4958" y="0"/>
                    </a:lnTo>
                  </a:path>
                </a:pathLst>
              </a:custGeom>
              <a:noFill/>
              <a:ln cap="rnd" w="507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87400" y="2500200"/>
                <a:ext cx="7872480" cy="513000"/>
              </a:xfrm>
              <a:custGeom>
                <a:avLst/>
                <a:gdLst/>
                <a:ahLst/>
                <a:rect l="l" t="t" r="r" b="b"/>
                <a:pathLst>
                  <a:path w="4959" h="323">
                    <a:moveTo>
                      <a:pt x="0" y="322"/>
                    </a:moveTo>
                    <a:lnTo>
                      <a:pt x="246" y="132"/>
                    </a:lnTo>
                    <a:lnTo>
                      <a:pt x="495" y="88"/>
                    </a:lnTo>
                    <a:lnTo>
                      <a:pt x="744" y="29"/>
                    </a:lnTo>
                    <a:lnTo>
                      <a:pt x="990" y="15"/>
                    </a:lnTo>
                    <a:lnTo>
                      <a:pt x="1239" y="0"/>
                    </a:lnTo>
                    <a:lnTo>
                      <a:pt x="1488" y="15"/>
                    </a:lnTo>
                    <a:lnTo>
                      <a:pt x="1734" y="15"/>
                    </a:lnTo>
                    <a:lnTo>
                      <a:pt x="1983" y="29"/>
                    </a:lnTo>
                    <a:lnTo>
                      <a:pt x="2232" y="29"/>
                    </a:lnTo>
                    <a:lnTo>
                      <a:pt x="2478" y="44"/>
                    </a:lnTo>
                    <a:lnTo>
                      <a:pt x="2727" y="59"/>
                    </a:lnTo>
                    <a:lnTo>
                      <a:pt x="2976" y="88"/>
                    </a:lnTo>
                    <a:lnTo>
                      <a:pt x="3222" y="102"/>
                    </a:lnTo>
                    <a:lnTo>
                      <a:pt x="3471" y="117"/>
                    </a:lnTo>
                    <a:lnTo>
                      <a:pt x="3719" y="102"/>
                    </a:lnTo>
                    <a:lnTo>
                      <a:pt x="3966" y="29"/>
                    </a:lnTo>
                    <a:lnTo>
                      <a:pt x="4215" y="0"/>
                    </a:lnTo>
                    <a:lnTo>
                      <a:pt x="4463" y="0"/>
                    </a:lnTo>
                    <a:lnTo>
                      <a:pt x="4710" y="15"/>
                    </a:lnTo>
                    <a:lnTo>
                      <a:pt x="4958" y="15"/>
                    </a:lnTo>
                  </a:path>
                </a:pathLst>
              </a:custGeom>
              <a:noFill/>
              <a:ln cap="rnd" w="507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086600" y="2637000"/>
                <a:ext cx="17064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Arial"/>
                  </a:rPr>
                  <a:t>SONIDOS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520" y="4732200"/>
              <a:ext cx="179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INAUDIB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RANGOS DE NIVEL Y FRECUENCIA AUDI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594360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a mayor parte de la vida humana se desarrolla en ambientes entre 40 y 80 dB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861080" y="1027080"/>
            <a:ext cx="3520800" cy="173988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DISTANCIA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IV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1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1,5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2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5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1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10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2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348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0" y="2086920"/>
            <a:ext cx="9142560" cy="3396240"/>
            <a:chOff x="0" y="2086920"/>
            <a:chExt cx="9142560" cy="3396240"/>
          </a:xfrm>
        </p:grpSpPr>
        <p:grpSp>
          <p:nvGrpSpPr>
            <p:cNvPr id="355" name=""/>
            <p:cNvGrpSpPr/>
            <p:nvPr/>
          </p:nvGrpSpPr>
          <p:grpSpPr>
            <a:xfrm>
              <a:off x="2344320" y="2086920"/>
              <a:ext cx="1733760" cy="2768400"/>
              <a:chOff x="2344320" y="2086920"/>
              <a:chExt cx="1733760" cy="27684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2941560" y="2086920"/>
                <a:ext cx="1136520" cy="2768400"/>
                <a:chOff x="2941560" y="2086920"/>
                <a:chExt cx="1136520" cy="27684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3141720" y="2086920"/>
                  <a:ext cx="936360" cy="27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92" y="204"/>
                      </a:moveTo>
                      <a:arcTo wR="10800" hR="10800" stAng="-4730013" swAng="92188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92" y="204"/>
                      </a:moveTo>
                      <a:arcTo wR="10800" hR="10800" stAng="-4730013" swAng="9218889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071520" y="2263680"/>
                  <a:ext cx="809640" cy="2380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923" swAng="91931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923" swAng="9193160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941560" y="2469960"/>
                  <a:ext cx="752040" cy="2011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94" y="205"/>
                      </a:moveTo>
                      <a:arcTo wR="10800" hR="10800" stAng="-4729071" swAng="92325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94" y="205"/>
                      </a:moveTo>
                      <a:arcTo wR="10800" hR="10800" stAng="-4729071" swAng="9232560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567160" y="2603880"/>
                <a:ext cx="958320" cy="1838880"/>
                <a:chOff x="2567160" y="2603880"/>
                <a:chExt cx="958320" cy="18388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5280" y="2603880"/>
                  <a:ext cx="790200" cy="1838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9" y="202"/>
                      </a:moveTo>
                      <a:arcTo wR="10800" hR="10800" stAng="-4734110" swAng="92381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9" y="202"/>
                      </a:moveTo>
                      <a:arcTo wR="10800" hR="10800" stAng="-4734110" swAng="9238115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678760" y="2721600"/>
                  <a:ext cx="684720" cy="158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04" y="188"/>
                      </a:moveTo>
                      <a:arcTo wR="10800" hR="10800" stAng="-4758389" swAng="92849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04" y="188"/>
                      </a:moveTo>
                      <a:arcTo wR="10800" hR="10800" stAng="-4758389" swAng="9284913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67160" y="2855880"/>
                  <a:ext cx="637560" cy="1337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1" y="206"/>
                      </a:moveTo>
                      <a:arcTo wR="10800" hR="10800" stAng="-4727086" swAng="9223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1" y="206"/>
                      </a:moveTo>
                      <a:arcTo wR="10800" hR="10800" stAng="-4727086" swAng="9223930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>
                <a:off x="2487600" y="2972160"/>
                <a:ext cx="574200" cy="115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83" y="203"/>
                    </a:moveTo>
                    <a:arcTo wR="10800" hR="10800" stAng="-4732644" swAng="92468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83" y="203"/>
                    </a:moveTo>
                    <a:arcTo wR="10800" hR="10800" stAng="-4732644" swAng="9246835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406240" y="3044520"/>
                <a:ext cx="498600" cy="100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89" y="185"/>
                    </a:moveTo>
                    <a:arcTo wR="10800" hR="10800" stAng="-4763199" swAng="92958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89" y="185"/>
                    </a:moveTo>
                    <a:arcTo wR="10800" hR="10800" stAng="-4763199" swAng="9295820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344320" y="3178800"/>
                <a:ext cx="428760" cy="78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75" y="201"/>
                    </a:moveTo>
                    <a:arcTo wR="10800" hR="10800" stAng="-4735421" swAng="92035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75" y="201"/>
                    </a:moveTo>
                    <a:arcTo wR="10800" hR="10800" stAng="-4735421" swAng="9203526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88960" y="3291480"/>
                <a:ext cx="260280" cy="59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41" y="158"/>
                    </a:moveTo>
                    <a:arcTo wR="10800" hR="10800" stAng="-4810969" swAng="93147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41" y="158"/>
                    </a:moveTo>
                    <a:arcTo wR="10800" hR="10800" stAng="-4810969" swAng="9314757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68" name=""/>
            <p:cNvGraphicFramePr/>
            <p:nvPr/>
          </p:nvGraphicFramePr>
          <p:xfrm>
            <a:off x="1382760" y="3108240"/>
            <a:ext cx="1063440" cy="827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2760" y="3108240"/>
                      <a:ext cx="1063440" cy="8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4929120"/>
              <a:ext cx="9142560" cy="5540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560520" y="3251160"/>
            <a:ext cx="1038240" cy="167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0520" y="3251160"/>
                      <a:ext cx="1038240" cy="16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3" name=""/>
          <p:cNvGrpSpPr/>
          <p:nvPr/>
        </p:nvGrpSpPr>
        <p:grpSpPr>
          <a:xfrm>
            <a:off x="4191120" y="3200400"/>
            <a:ext cx="1901880" cy="1733400"/>
            <a:chOff x="4191120" y="3200400"/>
            <a:chExt cx="1901880" cy="1733400"/>
          </a:xfrm>
        </p:grpSpPr>
        <p:graphicFrame>
          <p:nvGraphicFramePr>
            <p:cNvPr id="374" name=""/>
            <p:cNvGraphicFramePr/>
            <p:nvPr/>
          </p:nvGraphicFramePr>
          <p:xfrm>
            <a:off x="4191120" y="3429000"/>
            <a:ext cx="1304640" cy="1504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91120" y="3429000"/>
                      <a:ext cx="130464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4800600" y="3200400"/>
              <a:ext cx="1292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"/>
                </a:rPr>
                <a:t>90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988320" y="3200400"/>
            <a:ext cx="1923840" cy="1698480"/>
            <a:chOff x="6988320" y="3200400"/>
            <a:chExt cx="1923840" cy="1698480"/>
          </a:xfrm>
        </p:grpSpPr>
        <p:graphicFrame>
          <p:nvGraphicFramePr>
            <p:cNvPr id="378" name=""/>
            <p:cNvGraphicFramePr/>
            <p:nvPr/>
          </p:nvGraphicFramePr>
          <p:xfrm>
            <a:off x="6988320" y="3394080"/>
            <a:ext cx="1304640" cy="1504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88320" y="3394080"/>
                      <a:ext cx="130464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7620120" y="3200400"/>
              <a:ext cx="129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84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676520" y="33660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DE LA DISTANC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410080"/>
            <a:ext cx="815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ff9900"/>
                </a:solidFill>
                <a:uFillTx/>
                <a:latin typeface="Arial"/>
              </a:rPr>
              <a:t>ATENUACION POR DOBLE DISTANCIA</a:t>
            </a:r>
            <a:r>
              <a:rPr b="0" lang="es-ES_tradnl" sz="2400" spc="-1" strike="noStrike">
                <a:solidFill>
                  <a:srgbClr val="ff9900"/>
                </a:solidFill>
                <a:latin typeface="Arial"/>
              </a:rPr>
              <a:t> = </a:t>
            </a:r>
            <a:r>
              <a:rPr b="0" lang="es-ES_tradnl" sz="3200" spc="-1" strike="noStrike">
                <a:solidFill>
                  <a:srgbClr val="ff9900"/>
                </a:solidFill>
                <a:latin typeface="Arial"/>
              </a:rPr>
              <a:t>6 d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1143000"/>
            <a:ext cx="419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in obstrucciones, el sonido se propaga en forma esférica, atenuándose a medida que la energía acústica emitida se distribuye en una esfera cada vez mayor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385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00040" y="932040"/>
            <a:ext cx="3228840" cy="2831400"/>
            <a:chOff x="500040" y="932040"/>
            <a:chExt cx="3228840" cy="2831400"/>
          </a:xfrm>
        </p:grpSpPr>
        <p:sp>
          <p:nvSpPr>
            <p:cNvPr id="392" name=""/>
            <p:cNvSpPr/>
            <p:nvPr/>
          </p:nvSpPr>
          <p:spPr>
            <a:xfrm>
              <a:off x="512640" y="3235320"/>
              <a:ext cx="24624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0040" y="1344600"/>
              <a:ext cx="306360" cy="3063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5160" y="1652760"/>
              <a:ext cx="655920" cy="154440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3040" y="1622520"/>
              <a:ext cx="1496880" cy="15746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352520" y="932040"/>
              <a:ext cx="968400" cy="226188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239920" y="1635120"/>
              <a:ext cx="1488960" cy="155880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6640" y="3305160"/>
              <a:ext cx="2641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"/>
                </a:rPr>
                <a:t>Superficie Plan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36880" y="1390680"/>
              <a:ext cx="1682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99ff33"/>
                  </a:solidFill>
                  <a:latin typeface="Arial"/>
                </a:rPr>
                <a:t>Sonido es reflej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276800" y="853920"/>
            <a:ext cx="5017680" cy="6511680"/>
            <a:chOff x="4276800" y="853920"/>
            <a:chExt cx="5017680" cy="6511680"/>
          </a:xfrm>
        </p:grpSpPr>
        <p:sp>
          <p:nvSpPr>
            <p:cNvPr id="401" name=""/>
            <p:cNvSpPr/>
            <p:nvPr/>
          </p:nvSpPr>
          <p:spPr>
            <a:xfrm rot="13680000">
              <a:off x="5121720" y="2994480"/>
              <a:ext cx="3327480" cy="375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924440" y="853920"/>
              <a:ext cx="3983040" cy="3222360"/>
              <a:chOff x="4924440" y="853920"/>
              <a:chExt cx="3983040" cy="3222360"/>
            </a:xfrm>
          </p:grpSpPr>
          <p:sp>
            <p:nvSpPr>
              <p:cNvPr id="403" name=""/>
              <p:cNvSpPr/>
              <p:nvPr/>
            </p:nvSpPr>
            <p:spPr>
              <a:xfrm>
                <a:off x="5597640" y="1300320"/>
                <a:ext cx="306360" cy="306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29480" y="1627200"/>
                <a:ext cx="655560" cy="1544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77000" y="1596960"/>
                <a:ext cx="1496880" cy="157500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4924440" y="1019160"/>
                <a:ext cx="1542960" cy="2160720"/>
              </a:xfrm>
              <a:prstGeom prst="line">
                <a:avLst/>
              </a:prstGeom>
              <a:ln w="25560">
                <a:solidFill>
                  <a:srgbClr val="99ff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7364520" y="977760"/>
                <a:ext cx="1542960" cy="2160720"/>
              </a:xfrm>
              <a:prstGeom prst="line">
                <a:avLst/>
              </a:prstGeom>
              <a:ln w="25560">
                <a:solidFill>
                  <a:srgbClr val="99ff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83320" y="3618000"/>
                <a:ext cx="30718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"/>
                  </a:rPr>
                  <a:t>Superficie Convexa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95840" y="853920"/>
                <a:ext cx="29116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99ff33"/>
                    </a:solidFill>
                    <a:latin typeface="Arial"/>
                  </a:rPr>
                  <a:t>Sonido es disperso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-974520" y="1870560"/>
            <a:ext cx="6006960" cy="4986000"/>
            <a:chOff x="-974520" y="1870560"/>
            <a:chExt cx="6006960" cy="4986000"/>
          </a:xfrm>
        </p:grpSpPr>
        <p:grpSp>
          <p:nvGrpSpPr>
            <p:cNvPr id="411" name=""/>
            <p:cNvGrpSpPr/>
            <p:nvPr/>
          </p:nvGrpSpPr>
          <p:grpSpPr>
            <a:xfrm>
              <a:off x="-974520" y="1870560"/>
              <a:ext cx="5017680" cy="4986000"/>
              <a:chOff x="-974520" y="1870560"/>
              <a:chExt cx="5017680" cy="4986000"/>
            </a:xfrm>
          </p:grpSpPr>
          <p:sp>
            <p:nvSpPr>
              <p:cNvPr id="412" name=""/>
              <p:cNvSpPr/>
              <p:nvPr/>
            </p:nvSpPr>
            <p:spPr>
              <a:xfrm rot="18720000">
                <a:off x="-129240" y="2485440"/>
                <a:ext cx="3327480" cy="375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36720" y="4135320"/>
                <a:ext cx="306360" cy="306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1160640" y="4451400"/>
              <a:ext cx="684000" cy="161928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03480" y="4424400"/>
              <a:ext cx="1341360" cy="140976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844640" y="3871440"/>
              <a:ext cx="1527120" cy="216396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554200" y="3909960"/>
              <a:ext cx="890640" cy="191448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6200" y="6215040"/>
              <a:ext cx="3071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"/>
                </a:rPr>
                <a:t>Superficie Cóncav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57480" y="4465800"/>
              <a:ext cx="1974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99ff33"/>
                  </a:solidFill>
                  <a:latin typeface="Arial"/>
                </a:rPr>
                <a:t>Sonido es Focaliz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822320" y="139680"/>
            <a:ext cx="636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FLEXIONES DEL SONID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9:07:38Z</dcterms:created>
  <dc:creator>Gabriela Armijo</dc:creator>
  <dc:description/>
  <dc:language>en-US</dc:language>
  <cp:lastModifiedBy>Dii</cp:lastModifiedBy>
  <cp:lastPrinted>2000-07-04T09:26:42Z</cp:lastPrinted>
  <dcterms:modified xsi:type="dcterms:W3CDTF">2004-08-05T19:05:24Z</dcterms:modified>
  <cp:revision>130</cp:revision>
  <dc:subject/>
  <dc:title>Sin título de diapositiva</dc:title>
</cp:coreProperties>
</file>