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EC3-BE87-46A7-A4A4-855AF32B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21E-2DEF-4E52-9F94-AC38C0C1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8AB-F994-42AD-8EE9-37C47734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954-77BF-445E-AF31-271F0F84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F39-7DC9-481A-AA81-B39BC8F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86A8-DE80-4666-881F-3B147C1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6BB5-ACF9-45BE-B311-94DCD797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A687-DF45-4132-8A87-2B79C06D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184F-5A43-454B-BFC5-7887767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FC1C-2FAB-4127-B6B9-2DEE7BE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EF7-CBDF-4A1D-804C-B010A7F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A9A-0D43-48BD-83D2-892DC191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581-228D-4381-A587-AE9EEE26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BC19-89B9-4414-B369-38AE95B8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1992-3170-416F-81C8-F4BA0C0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44B-F58E-4ED8-BE9B-57992AEE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815A-42FC-42A4-9389-172A16D9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1A8-29CB-4B58-9DF9-4F5E3349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5A4-2AC5-415B-B7AC-23F085B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364-B742-4DEB-89DE-116EDEB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F55-F57B-40CE-9BD4-F632B1C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322-A2D8-471A-BC05-9DCE7EE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FC6-BE4A-4D05-8744-49517118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EC9-09E3-4F3F-91EB-E7B29E0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521-DE6C-44B0-9028-51D6EE21E8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658-5CF9-4C08-89AD-D69D0359F4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1480" y="2185920"/>
            <a:ext cx="5702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DE AGUAS RES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María Pía Mena Pa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Depto. Ingeniería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Fases en el Crecimiento Bacterian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400" y="2209680"/>
            <a:ext cx="85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aclima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crecimiento logarítmico: existe siempre un exceso de a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para los microorganismos </a:t>
            </a:r>
            <a:r>
              <a:rPr b="0" lang="es-ES_tradnl" sz="2000" spc="-1" strike="noStrike">
                <a:solidFill>
                  <a:srgbClr val="ccff66"/>
                </a:solidFill>
                <a:latin typeface="Wingdings 3"/>
                <a:ea typeface="Wingdings 3"/>
              </a:rPr>
              <a:t>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crecimiento es sólo función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capacidad de éstos para procesar el sus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de crecimiento declinante: tasa de crecimiento dismin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debido a que la comida es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endógena:  los microorganismos se ven forzados a metabo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su protoplasma debido a que la comida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3049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recimiento Bacteriano y Consumo de Sustrat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recimiento1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3059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8288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acuerdo a sus características, los procesos biológicos pueden ser del tip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Natur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Convencion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Natur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procesos extensivos con escasa o nula mecanización.  Requieren amplias superficies de terreno, pero mínimos costos de operación. P.e. Lagunas de Estabilización, Wet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Convencion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son procesos intensivos con alto grado de mecanización.  Requiere superficies menores, pero costos de construcción y operación may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8160" y="51588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69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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an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de estabilización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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- 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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facul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Wetlands (humed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naeróbicas: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peran como un sedi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n fermentación.  Requiere condicion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operación. Generalmente presenta problem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olores. Básicamente se produce remoción de la D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articulada; los sólidos permanecen largo tiemp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fondo </a:t>
            </a:r>
            <a:r>
              <a:rPr b="1" lang="es-MX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se produce estabilización in s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85880" y="59220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05120"/>
            <a:ext cx="8427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erobi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grandes estan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baja profundidad en los cuales se desarroll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lta población de algas que mediante fotosínt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porta oxígeno a la columna de agua; éste es tomado por las bacterias para oxidar la materia orgánica. Opera con oxígeno disuelto en todo su vo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facultativ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tienen mayor profundidad 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ermite el desarrollo de un estrato aeróbic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superficie y un estrato anaeróbico en el fondo.  Este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sistema que más se utilizó en Chile hasta los 90’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agfac" descr=""/>
          <p:cNvPicPr/>
          <p:nvPr/>
        </p:nvPicPr>
        <p:blipFill>
          <a:blip r:embed="rId1"/>
          <a:stretch/>
        </p:blipFill>
        <p:spPr>
          <a:xfrm>
            <a:off x="762120" y="10540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agunas%20facultativas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238880" cy="471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76520"/>
            <a:ext cx="800100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omic Sans MS"/>
              </a:rPr>
              <a:t>HUMEDALES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reas que se encuentran permanentemente inundadas por aguas superficiales o subterráne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, de modo que se desarrolla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un ecosistema compuesto por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el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 suelo, agua,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vegetación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, microorganismos e invertebrados acu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La vegetación proporciona superficies para la formación de películas bacterianas, facilita la filtración y la adsorción de los constituyentes del agua residual, permite la transferencia de oxígeno a la columna de agua y controla el crecimiento de algas al limitar la penetración de la luz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3480" y="430200"/>
            <a:ext cx="699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71629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s Aireada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s de flujo continuo sin recirculación de lodos.  No utiliza sedimentación primaria; puede o no utilizar sedimentación secunda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En general, pequeñas y medianas pobl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odos Activado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 de flujo continuo con recirculación de lodos.  Puede o no utilizar sedimentación primaria; siempre utiliza sedimentación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Poblaciones medianas 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46656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4004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rresponden al proceso de transición entre los sistemas naturales y convencionales.  Operan con oxigenación mecánica, generalmente entregada por equipos de aireac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Trabajan con bajas concentraciones de microorganismos y por lo tanto requieren de mayor tiempo de 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efluente generalmente se somete a clarificación en lagunas de sedi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838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920" y="1905120"/>
            <a:ext cx="878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xidar la materia orgánic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agular y remover los sólidos orgánicos col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lgunos compuestos son más difíciles de degrad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algunos casos no pueden ser oxidados biológ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Un proceso biológico es capaz de remover sól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Fracción biodegradable de la materia orgánica pres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838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828800"/>
            <a:ext cx="73692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Las lagunas aireadas constituyen un proceso de tratamiento biológico si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Se definen dos tipos de lagunas aire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Aerobi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corresponde al caso en que la turbulencia es suficientemente alta para impedir sedimentación de los sólidos y mantener una concentración de OD homogénea en el estan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Facultativ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la potencia entregada permite introducir el oxígeno necesario para el proceso, pero no asegura que todos los sólidos se mantengan en suspe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agoas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7848720" cy="236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2920" y="4495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7720" y="44956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Facul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agunas%20aireadas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6705720" cy="444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7000" y="60948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ireador%20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9076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Laguna%20Aireada%20COPPO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638680" cy="366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14600" y="5943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AI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74240" y="40384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685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AIREADOR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685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600" y="2028960"/>
            <a:ext cx="7337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Característic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trol de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odos los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No existe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alen en el efluente.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sedimen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Requiere sedimentación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aband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centración 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100 – 350 mg/l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150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SV/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7 – 0,8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6 – 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RH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3 –  5 día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5 – 12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Efici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60%  LA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70 – 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hasta 90% con 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rofundidad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2,5 – 5 m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2,5 – 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Densidad Pot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&gt; 3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&gt; 0,75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6094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890720"/>
                <a:ext cx="5867280" cy="45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den>
                        </m:f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num>
                          <m:den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/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 de Reten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ef%20Lagunas%20Aireadas" descr=""/>
          <p:cNvPicPr/>
          <p:nvPr/>
        </p:nvPicPr>
        <p:blipFill>
          <a:blip r:embed="rId1"/>
          <a:stretch/>
        </p:blipFill>
        <p:spPr>
          <a:xfrm>
            <a:off x="990720" y="182520"/>
            <a:ext cx="75438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28954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PROCESOS BIOLÓG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CONVE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SECUNDARI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entury Gothic"/>
              </a:rPr>
              <a:t>OBJETIVO</a:t>
            </a:r>
            <a:r>
              <a:rPr b="1" lang="es-ES_tradnl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stabilizar la materia orgánica y coagular y remover los sólidos coloidales no sedimentables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PROCESOS BIOLÓGICOS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llevados a cabo por microorganismos variados, especialmente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acterias y protozo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Un proceso de tratamiento biológico es capaz de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remover sólo la fracción biodegradable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de la materia orgánica presente.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roceso requiere sostener la cultura biológica en un ambiente controlado que promueva el crecimiento de los microorganismos por consumo de la materia orgánica </a:t>
            </a:r>
            <a:r>
              <a:rPr b="1" lang="es-ES_tradnl" sz="24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condiciones adecuadas de pH, temperatura, presencia de nutrientes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y, en la mayoría de los casos, 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oxígeno disuelto </a:t>
            </a:r>
            <a:r>
              <a:rPr b="1" lang="es-ES_tradnl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AIREACIÓN</a:t>
            </a:r>
            <a:r>
              <a:rPr b="1" lang="es-ES_tradnl" sz="2800" spc="-1" strike="noStrike">
                <a:solidFill>
                  <a:srgbClr val="ffffcc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4495680"/>
                <a:ext cx="7995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eri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 celula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Lodo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lular</m:t>
                        </m:r>
                        <m:r>
                          <m:rPr>
                            <m:lit/>
                            <m:nor/>
                          </m:rPr>
                          <m:t xml:space="preserve">                digerido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76212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840" y="1981080"/>
            <a:ext cx="812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a remoción de DBO, la coagulación de los sól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loidales y la estabilización de la materia orgánica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levada a cabo una gran variedad de microorganis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specialmente bac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" y="3862440"/>
                <a:ext cx="891540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gánic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</m:e>
                      <m:e/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Durante el crecimiento de los microorganismos una porción del substrato es convertida a nuevas células y la otra parte es oxidada a productos orgánicos e inorgánicos.  Para un substrato determinado, las tasas de crecimiento y de utilización de substrato están relacionadas mediante: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Y = coeficiente de producción má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X = concentración de microorganismos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S = concentración de sustrato (DBO o DQO)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4114800"/>
                <a:ext cx="2133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Y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” representa la masa de células formadas por masa de substrato consumido y se relaciona directamente con la producción de lodos del sistema; depende de varios factores entre los cuales destacan las características del substrato y condiciones operacionales.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l tejido celular formado en un proceso biológico tiene un peso específico mayor que el agua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las células pueden ser removidas del líquido tratado mediante sedimentación gravitacional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secund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ara el tratamiento biológico convencional es posible utilizar distintas configuraciones de trata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activ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Suspendid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- conve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aireación extend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S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Zanjas de oxid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Fij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filtros percol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iodis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1752480"/>
            <a:ext cx="8229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Considera la línea de tratamiento completa: preliminar, primario, secundario (biológico) y procesos de tratamiento de lo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procesos biológicos convencionales incluyen un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reactor donde se produce la transformación de la materia orgánica y posteriormente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, una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unidad de separación sólido-líquido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 donde se produce la clarificación del eflu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sólidos separados en las distintas etapas del proceso deben ser tratados separadamente mediante procesos que pueden ser físicos, químicos y/o bio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4080" y="609480"/>
            <a:ext cx="84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8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Los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BIOLÓGICO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permiten remover la materia orgánica biodegradable presente en las aguas residuales y son llevados a cabo por varios microorganismos entre los que se encuentran bacterias, algas y protozo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stos procesos ocurren en forma natural en la medida que se proporcione el ambiente requerido, siendo posible desde el punto de vista “ingenieril”, acelerar y optimizar los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8380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Metabolismo Microb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7652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Para reproducirse y funcionar, los microorganismos necesita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carbono para la síntesis de material nue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Nutrientes inorgánicos tales como N, P, S, K, Ca y M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algunos casos los nutrientes, más que la fuente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ergía son el factor limitante para la sínt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el tratamiento de aguas servidas los microorganis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ccff66"/>
                </a:solidFill>
                <a:latin typeface="Comic Sans MS"/>
              </a:rPr>
              <a:t>Quimioheterótrofos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son los más importantes debido a sus requerimientos de carbono para síntesis y ener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Bac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981080"/>
            <a:ext cx="75916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mposición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80%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Química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20%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Sólidos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10% in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90% 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n general se utilizan las compos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60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8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3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Rut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81080"/>
            <a:ext cx="78202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s bacterias siempre siguen la ruta que les per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obtener el máximo de energía 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ruta aer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metabolismo respira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Metabolismo completo y síntesis del sustrato produciendo gran cantidad de crecimient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n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Metabolismo incompleto, crecimiento biológico menor, producción de compuestos de alta energía (ácido acético y met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onvers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Aeróbico v/s Anaeróbic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86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-3063" t="-2391" r="1468" b="-3264"/>
          <a:stretch/>
        </p:blipFill>
        <p:spPr>
          <a:xfrm>
            <a:off x="1066680" y="1828800"/>
            <a:ext cx="7467840" cy="480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ecimiento" descr=""/>
          <p:cNvPicPr/>
          <p:nvPr/>
        </p:nvPicPr>
        <p:blipFill>
          <a:blip r:embed="rId1"/>
          <a:stretch/>
        </p:blipFill>
        <p:spPr>
          <a:xfrm>
            <a:off x="609480" y="452520"/>
            <a:ext cx="82296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41:20Z</dcterms:created>
  <dc:creator>.</dc:creator>
  <dc:description/>
  <dc:language>en-US</dc:language>
  <cp:lastModifiedBy>Dii</cp:lastModifiedBy>
  <dcterms:modified xsi:type="dcterms:W3CDTF">2004-08-17T21:06:25Z</dcterms:modified>
  <cp:revision>47</cp:revision>
  <dc:subject/>
  <dc:title>TRATAMIENTO SECUNDARIO</dc:title>
</cp:coreProperties>
</file>