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346-F2C3-405B-96B6-586FBF2E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2B1-18BA-4638-A16F-DCBD1E2B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FB1-FBD6-4755-8324-D3E515B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036-5C5A-4A96-A9BA-C973735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6B0F-E091-433B-AC21-09267340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4466-1576-4409-B08A-9AE8FE1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0EF2-6A04-45ED-B018-D66FAA03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AD8C-54EF-4A70-B0A4-97B3625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77E-D4C6-4C4D-9F97-0BBEA67A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6F0-DA5C-47E9-B082-8906AA1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7E93-2C6F-4B1D-9122-194505A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08C-070A-484F-A254-FCBCB0A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FCDB-F638-49F0-9E88-73D704D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2DEE-D9B5-4ACA-9511-FF786DD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425-B22E-4CEB-A1DE-9895E702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E00F-7E12-4F8A-B29C-2CF93953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5B3D-C2AD-4588-BA8F-27DD4CFE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7F8-863A-45B3-997C-5C0A8A0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75C-ACD0-41A9-9B4D-CBA85B63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56F-5DCC-4EC2-8F64-8E7326AB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E70-47A9-446F-886E-1CD76148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9B-4C5C-42F9-81B8-15DA1275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34A-2AF0-4B8F-A830-89418ED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959-A7DC-4F51-8E3B-E273204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3B7A-C6DB-4AC3-87AF-EF5F625761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8874-81F6-4938-908F-6ABF57D2D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91480" y="2185920"/>
            <a:ext cx="57020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DE AGUAS RES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María Pía Mena Pa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                       </a:t>
            </a:r>
            <a:r>
              <a:rPr b="1" lang="es-ES_tradnl" sz="2400" spc="-1" strike="noStrike">
                <a:solidFill>
                  <a:srgbClr val="ccff66"/>
                </a:solidFill>
                <a:latin typeface="Comic Sans MS"/>
              </a:rPr>
              <a:t>Depto. Ingeniería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Fases en el Crecimiento Bacterian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400" y="2209680"/>
            <a:ext cx="8557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aclima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crecimiento logarítmico: existe siempre un exceso de a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para los microorganismos </a:t>
            </a:r>
            <a:r>
              <a:rPr b="0" lang="es-ES_tradnl" sz="2000" spc="-1" strike="noStrike">
                <a:solidFill>
                  <a:srgbClr val="ccff66"/>
                </a:solidFill>
                <a:latin typeface="Wingdings 3"/>
                <a:ea typeface="Wingdings 3"/>
              </a:rPr>
              <a:t>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crecimiento es sólo función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capacidad de éstos para procesar el sust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de crecimiento declinante: tasa de crecimiento dismin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debido a que la comida es lim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Fase endógena:  los microorganismos se ven forzados a metabo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66"/>
                </a:solidFill>
                <a:latin typeface="Comic Sans MS"/>
              </a:rPr>
              <a:t>su protoplasma debido a que la comida es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3049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recimiento Bacteriano y Consumo de Sustrat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recimiento1" descr=""/>
          <p:cNvPicPr/>
          <p:nvPr/>
        </p:nvPicPr>
        <p:blipFill>
          <a:blip r:embed="rId1"/>
          <a:stretch/>
        </p:blipFill>
        <p:spPr>
          <a:xfrm>
            <a:off x="457200" y="898560"/>
            <a:ext cx="83059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8288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acuerdo a sus características, los procesos biológicos pueden ser del tip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Natur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Convencional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Natur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procesos extensivos con escasa o nula mecanización.  Requieren amplias superficies de terreno, pero mínimos costos de operación. P.e. Lagunas de Estabilización, Wetl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Convencionale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son procesos intensivos con alto grado de mecanización.  Requiere superficies menores, pero costos de construcción y operación may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8160" y="51588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69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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an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de estabilización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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- aerób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	</a:t>
            </a:r>
            <a:r>
              <a:rPr b="1" lang="es-MX" sz="2400" spc="-1" strike="noStrike">
                <a:solidFill>
                  <a:srgbClr val="ccff66"/>
                </a:solidFill>
                <a:latin typeface="Symbol"/>
                <a:ea typeface="Symbol"/>
              </a:rPr>
              <a:t>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- facul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Wetlands (humed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naeróbicas: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operan como un sedi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n fermentación.  Requiere condicion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operación. Generalmente presenta problema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olores. Básicamente se produce remoción de la DB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articulada; los sólidos permanecen largo tiemp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fondo </a:t>
            </a:r>
            <a:r>
              <a:rPr b="1" lang="es-MX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se produce estabilización in si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85880" y="592200"/>
            <a:ext cx="74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05120"/>
            <a:ext cx="8427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aerobi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corresponden a grandes estan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de baja profundidad en los cuales se desarroll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lta población de algas que mediante fotosínt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aporta oxígeno a la columna de agua; éste es tomado por las bacterias para oxidar la materia orgánica. Opera con oxígeno disuelto en todo su vo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Lagunas facultativ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: tienen mayor profundidad 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permite el desarrollo de un estrato aeróbic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superficie y un estrato anaeróbico en el fondo.  Este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sistema que más se utilizó en Chile hasta los 90’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agfac" descr=""/>
          <p:cNvPicPr/>
          <p:nvPr/>
        </p:nvPicPr>
        <p:blipFill>
          <a:blip r:embed="rId1"/>
          <a:stretch/>
        </p:blipFill>
        <p:spPr>
          <a:xfrm>
            <a:off x="762120" y="1054080"/>
            <a:ext cx="792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lagunas%20facultativas" descr=""/>
          <p:cNvPicPr/>
          <p:nvPr/>
        </p:nvPicPr>
        <p:blipFill>
          <a:blip r:embed="rId1"/>
          <a:stretch/>
        </p:blipFill>
        <p:spPr>
          <a:xfrm>
            <a:off x="990720" y="1724040"/>
            <a:ext cx="7238880" cy="471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86360" y="378000"/>
            <a:ext cx="457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GUNAS FACULT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676520"/>
            <a:ext cx="8001000" cy="50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Comic Sans MS"/>
              </a:rPr>
              <a:t>HUMEDALES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Á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reas que se encuentran permanentemente inundadas por aguas superficiales o subterránea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, de modo que se desarrolla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un ecosistema compuesto por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el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 suelo, agua,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vegetación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, microorganismos e invertebrados acu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La vegetación proporciona superficies para la formación de películas bacterianas, facilita la filtración y la adsorción de los constituyentes del agua residual, permite la transferencia de oxígeno a la columna de agua y controla el crecimiento de algas al limitar la penetración de la luz so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3480" y="430200"/>
            <a:ext cx="699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PROCESOS BIOLÓGICOS NATUR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286000"/>
            <a:ext cx="7162920" cy="30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s Aireada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s de flujo continuo sin recirculación de lodos.  No utiliza sedimentación primaria; puede o no utilizar sedimentación secunda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En general, pequeñas y medianas poblacio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odos Activados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 Proceso de flujo continuo con recirculación de lodos.  Puede o no utilizar sedimentación primaria; siempre utiliza sedimentación secu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Poblaciones medianas y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43320" y="46656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40040"/>
            <a:ext cx="8001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Corresponden al proceso de transición entre los sistemas naturales y convencionales.  Operan con oxigenación mecánica, generalmente entregada por equipos de aireac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Trabajan con bajas concentraciones de microorganismos y por lo tanto requieren de mayor tiempo de ret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l efluente generalmente se somete a clarificación en lagunas de sedi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838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6920" y="1905120"/>
            <a:ext cx="8788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xidar la materia orgánica disu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Wingdings 2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agular y remover los sólidos orgánicos coloi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lgunos compuestos son más difíciles de degradar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algunos casos no pueden ser oxidados biológ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Un proceso biológico es capaz de remover sól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mic Sans MS"/>
              </a:rPr>
              <a:t>Fracción biodegradable de la materia orgánica pres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7400" y="8380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828800"/>
            <a:ext cx="73692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Las lagunas aireadas constituyen un proceso de tratamiento biológico si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Se definen dos tipos de lagunas aire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Aerobi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corresponde al caso en que la turbulencia es suficientemente alta para impedir sedimentación de los sólidos y mantener una concentración de OD homogénea en el estan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Laguna Aireada Facultativa:</a:t>
            </a:r>
            <a:r>
              <a:rPr b="0" lang="es-ES" sz="2000" spc="-1" strike="noStrike">
                <a:solidFill>
                  <a:srgbClr val="ccff66"/>
                </a:solidFill>
                <a:latin typeface="Comic Sans MS"/>
              </a:rPr>
              <a:t> la potencia entregada permite introducir el oxígeno necesario para el proceso, pero no asegura que todos los sólidos se mantengan en suspe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lagoas" descr=""/>
          <p:cNvPicPr/>
          <p:nvPr/>
        </p:nvPicPr>
        <p:blipFill>
          <a:blip r:embed="rId1"/>
          <a:stretch/>
        </p:blipFill>
        <p:spPr>
          <a:xfrm>
            <a:off x="685800" y="1990800"/>
            <a:ext cx="7848720" cy="236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2920" y="4495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Aer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7720" y="44956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Comic Sans MS"/>
              </a:rPr>
              <a:t>Laguna Aireada Facul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agunas%20aireadas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6705720" cy="444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367000" y="609480"/>
            <a:ext cx="42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aireador%20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90760" cy="2593800"/>
          </a:xfrm>
          <a:prstGeom prst="rect">
            <a:avLst/>
          </a:prstGeom>
          <a:ln w="0">
            <a:noFill/>
          </a:ln>
        </p:spPr>
      </p:pic>
      <p:pic>
        <p:nvPicPr>
          <p:cNvPr id="139" name="Laguna%20Aireada%20COPPO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638680" cy="3667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14600" y="5943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AIRE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74240" y="40384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GUNA 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685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AIREADOR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685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5600" y="2028960"/>
            <a:ext cx="7337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Característic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A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s-ES" sz="1600" spc="-1" strike="noStrike">
                <a:solidFill>
                  <a:srgbClr val="ffffcc"/>
                </a:solidFill>
                <a:latin typeface="Comic Sans MS"/>
              </a:rPr>
              <a:t>       L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trol de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odos los sólido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No existe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alen en el efluente.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sedimen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Requiere sedimentación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arte aband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Concentración 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100 – 350 mg/l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150 mg/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SSV/SST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7 – 0,8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0,6 – 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TRH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3 –  5 días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5 – 12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Efici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50 – 60%  LA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70 – 8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hasta 90% con 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Profundidad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2,5 – 5 m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2,5 – 5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Densidad Potencia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 &gt; 3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Comic Sans MS"/>
              </a:rPr>
              <a:t>    &gt; 0,75 W/m</a:t>
            </a:r>
            <a:r>
              <a:rPr b="0" lang="es-ES" sz="1600" spc="-1" strike="noStrike" baseline="30000">
                <a:solidFill>
                  <a:srgbClr val="ffffcc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81080" y="6094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Lagunas Aire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7400" y="1890720"/>
                <a:ext cx="5867280" cy="456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XV</m:t>
                        </m:r>
                      </m:e>
                      <m:e/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den>
                        </m:f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bθ</m:t>
                            </m:r>
                          </m:num>
                          <m:den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den>
                        </m:f>
                      </m:e>
                      <m:e/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 de Retenció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Coef%20Lagunas%20Aireadas" descr=""/>
          <p:cNvPicPr/>
          <p:nvPr/>
        </p:nvPicPr>
        <p:blipFill>
          <a:blip r:embed="rId1"/>
          <a:stretch/>
        </p:blipFill>
        <p:spPr>
          <a:xfrm>
            <a:off x="990720" y="182520"/>
            <a:ext cx="75438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28954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PROCESOS BIOLÓGIC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Comic Sans MS"/>
              </a:rPr>
              <a:t>CONVEN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SECUNDARI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entury Gothic"/>
              </a:rPr>
              <a:t>OBJETIVO</a:t>
            </a:r>
            <a:r>
              <a:rPr b="1" lang="es-ES_tradnl" sz="2400" spc="-1" strike="noStrike">
                <a:solidFill>
                  <a:srgbClr val="ff66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stabilizar la materia orgánica y coagular y remover los sólidos coloidales no sedimentables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PROCESOS BIOLÓGICOS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llevados a cabo por microorganismos variados, especialmente</a:t>
            </a: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acterias y protozo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Un proceso de tratamiento biológico es capaz de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remover sólo la fracción biodegradable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de la materia orgánica presente.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roceso requiere sostener la cultura biológica en un ambiente controlado que promueva el crecimiento de los microorganismos por consumo de la materia orgánica </a:t>
            </a:r>
            <a:r>
              <a:rPr b="1" lang="es-ES_tradnl" sz="2400" spc="-1" strike="noStrike">
                <a:solidFill>
                  <a:srgbClr val="ffcc00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 condiciones adecuadas de pH, temperatura, presencia de nutrientes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y, en la mayoría de los casos, 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oxígeno disuelto </a:t>
            </a:r>
            <a:r>
              <a:rPr b="1" lang="es-ES_tradnl" sz="2400" spc="-1" strike="noStrike">
                <a:solidFill>
                  <a:srgbClr val="ccff66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 AIREACIÓN</a:t>
            </a:r>
            <a:r>
              <a:rPr b="1" lang="es-ES_tradnl" sz="2800" spc="-1" strike="noStrike">
                <a:solidFill>
                  <a:srgbClr val="ffffcc"/>
                </a:solidFill>
                <a:latin typeface="Century Gothi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4495680"/>
                <a:ext cx="799596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teri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H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 celula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aterial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Lodo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elular</m:t>
                        </m:r>
                        <m:r>
                          <m:rPr>
                            <m:lit/>
                            <m:nor/>
                          </m:rPr>
                          <m:t xml:space="preserve">                digerido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76212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Procesos Biológicos de Tra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9840" y="1981080"/>
            <a:ext cx="812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a remoción de DBO, la coagulación de los sól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loidales y la estabilización de la materia orgánica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llevada a cabo una gran variedad de microorganism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specialmente bacte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8600" y="3862440"/>
                <a:ext cx="891540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orgánic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ía</m:t>
                        </m:r>
                      </m:e>
                      <m:e/>
                      <m:e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rgánic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teria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aeróbicas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acteria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otr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Durante el crecimiento de los microorganismos una porción del substrato es convertida a nuevas células y la otra parte es oxidada a productos orgánicos e inorgánicos.  Para un substrato determinado, las tasas de crecimiento y de utilización de substrato están relacionadas mediante: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Y = coeficiente de producción máx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X = concentración de microorganismos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	</a:t>
            </a:r>
            <a:r>
              <a:rPr b="1" lang="es-ES_tradnl" sz="2000" spc="-1" strike="noStrike">
                <a:solidFill>
                  <a:srgbClr val="ffcc00"/>
                </a:solidFill>
                <a:latin typeface="Century Gothic"/>
              </a:rPr>
              <a:t>S = concentración de sustrato (DBO o DQO), mg/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00400" y="4114800"/>
                <a:ext cx="2133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y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8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“</a:t>
            </a:r>
            <a:r>
              <a:rPr b="1" lang="es-ES" sz="2400" spc="-1" strike="noStrike">
                <a:solidFill>
                  <a:srgbClr val="ffcc00"/>
                </a:solidFill>
                <a:latin typeface="Century Gothic"/>
              </a:rPr>
              <a:t>Y</a:t>
            </a:r>
            <a:r>
              <a:rPr b="1" lang="es-ES" sz="2400" spc="-1" strike="noStrike">
                <a:solidFill>
                  <a:srgbClr val="ccff66"/>
                </a:solidFill>
                <a:latin typeface="Century Gothic"/>
              </a:rPr>
              <a:t>” representa la masa de células formadas por masa de substrato consumido y se relaciona directamente con la producción de lodos del sistema; depende de varios factores entre los cuales destacan las características del substrato y condiciones operacionales.</a:t>
            </a: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El tejido celular formado en un proceso biológico tiene un peso específico mayor que el agua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las células pueden ser removidas del líquido tratado mediante sedimentación gravitacional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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secund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Para el tratamiento biológico convencional es posible utilizar distintas configuraciones de trata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lodos activ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Suspendid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- conve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aireación extend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S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    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Zanjas de oxid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ccff66"/>
                </a:solidFill>
                <a:latin typeface="Century Gothic"/>
              </a:rPr>
              <a:t>Cultivo Fijo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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filtros percolad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	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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Century Gothic"/>
              </a:rPr>
              <a:t>- </a:t>
            </a:r>
            <a:r>
              <a:rPr b="1" lang="es-ES_tradnl" sz="2400" spc="-1" strike="noStrike">
                <a:solidFill>
                  <a:srgbClr val="ffcc00"/>
                </a:solidFill>
                <a:latin typeface="Century Gothic"/>
              </a:rPr>
              <a:t>biodis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3520" y="1752480"/>
            <a:ext cx="8229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Considera la línea de tratamiento completa: preliminar, primario, secundario (biológico) y procesos de tratamiento de lo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procesos biológicos convencionales incluyen un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reactor donde se produce la transformación de la materia orgánica y posteriormente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, una </a:t>
            </a:r>
            <a:r>
              <a:rPr b="1" lang="es-MX" sz="2200" spc="-1" strike="noStrike">
                <a:solidFill>
                  <a:srgbClr val="ffcc00"/>
                </a:solidFill>
                <a:latin typeface="Century Gothic"/>
              </a:rPr>
              <a:t>unidad de separación sólido-líquido</a:t>
            </a: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 donde se produce la clarificación del eflu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ccff66"/>
                </a:solidFill>
                <a:latin typeface="Century Gothic"/>
              </a:rPr>
              <a:t>Los sólidos separados en las distintas etapas del proceso deben ser tratados separadamente mediante procesos que pueden ser físicos, químicos y/o bioló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4080" y="609480"/>
            <a:ext cx="84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cc00"/>
                </a:solidFill>
                <a:latin typeface="Comic Sans MS"/>
              </a:rPr>
              <a:t>TRATAMIENTO BIOLÓGICO CONVENCIO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36200" y="515880"/>
            <a:ext cx="55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mic Sans MS"/>
              </a:rPr>
              <a:t>TRATAMIENTO B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8288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Los </a:t>
            </a:r>
            <a:r>
              <a:rPr b="1" lang="es-MX" sz="2400" spc="-1" strike="noStrike">
                <a:solidFill>
                  <a:srgbClr val="ffcc00"/>
                </a:solidFill>
                <a:latin typeface="Century Gothic"/>
              </a:rPr>
              <a:t>PROCESOS BIOLÓGICOS</a:t>
            </a: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permiten remover la materia orgánica biodegradable presente en las aguas residuales y son llevados a cabo por varios microorganismos entre los que se encuentran bacterias, algas y protozo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Estos procesos ocurren en forma natural en la medida que se proporcione el ambiente requerido, siendo posible desde el punto de vista “ingenieril”, acelerar y optimizar los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8380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Metabolismo Microb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76520"/>
            <a:ext cx="8458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Para reproducirse y funcionar, los microorganismos necesita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ener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Una fuente de carbono para la síntesis de material nue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ff66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 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Nutrientes inorgánicos tales como N, P, S, K, Ca y M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algunos casos los nutrientes, más que la fuente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ergía son el factor limitante para la sínte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En el tratamiento de aguas servidas los microorganis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ccff66"/>
                </a:solidFill>
                <a:latin typeface="Comic Sans MS"/>
              </a:rPr>
              <a:t>Quimioheterótrofos</a:t>
            </a:r>
            <a:r>
              <a:rPr b="0" lang="es-ES_tradnl" sz="2200" spc="-1" strike="noStrike">
                <a:solidFill>
                  <a:srgbClr val="ccff66"/>
                </a:solidFill>
                <a:latin typeface="Comic Sans MS"/>
              </a:rPr>
              <a:t> son los más importantes debido a sus requerimientos de carbono para síntesis y ener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5120" y="762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Bact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981080"/>
            <a:ext cx="75916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omposición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80%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Química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20%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Sólidos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Wingdings 3"/>
                <a:ea typeface="Wingdings 3"/>
              </a:rPr>
              <a:t>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10% in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90% orgá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En general se utilizan las compos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60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87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23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N</a:t>
            </a:r>
            <a:r>
              <a:rPr b="0" lang="es-ES_tradnl" sz="2400" spc="-1" strike="noStrike" baseline="-25000">
                <a:solidFill>
                  <a:srgbClr val="ccff66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ccff66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Rut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81080"/>
            <a:ext cx="78202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Las bacterias siempre siguen la ruta que les per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obtener el máximo de energía  </a:t>
            </a:r>
            <a:r>
              <a:rPr b="0" lang="en-US" sz="2400" spc="-1" strike="noStrike">
                <a:solidFill>
                  <a:srgbClr val="ffffcc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ruta aerób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(metabolismo respira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 Metabolismo completo y síntesis del sustrato produciendo gran cantidad de crecimiento bi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Comic Sans MS"/>
              </a:rPr>
              <a:t>Procesos anaeróbicos: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 Metabolismo incompleto, crecimiento biológico menor, producción de compuestos de alta energía (ácido acético y met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38088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Conversión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Comic Sans MS"/>
              </a:rPr>
              <a:t>Aeróbico v/s Anaeróbico</a:t>
            </a:r>
            <a:r>
              <a:rPr b="1" lang="es-ES_tradnl" sz="2800" spc="-1" strike="noStrike">
                <a:solidFill>
                  <a:srgbClr val="cc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36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86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-3063" t="-2391" r="1468" b="-3264"/>
          <a:stretch/>
        </p:blipFill>
        <p:spPr>
          <a:xfrm>
            <a:off x="1066680" y="1828800"/>
            <a:ext cx="7467840" cy="4803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1981080"/>
            <a:ext cx="78202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recimiento" descr=""/>
          <p:cNvPicPr/>
          <p:nvPr/>
        </p:nvPicPr>
        <p:blipFill>
          <a:blip r:embed="rId1"/>
          <a:stretch/>
        </p:blipFill>
        <p:spPr>
          <a:xfrm>
            <a:off x="609480" y="452520"/>
            <a:ext cx="82296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41:20Z</dcterms:created>
  <dc:creator>.</dc:creator>
  <dc:description/>
  <dc:language>en-US</dc:language>
  <cp:lastModifiedBy>Dii</cp:lastModifiedBy>
  <dcterms:modified xsi:type="dcterms:W3CDTF">2004-08-17T21:06:25Z</dcterms:modified>
  <cp:revision>47</cp:revision>
  <dc:subject/>
  <dc:title>TRATAMIENTO SECUNDARIO</dc:title>
</cp:coreProperties>
</file>