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7D851-10C8-462A-98FE-C4C24A3F6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22980-D14A-4111-A7E1-A404FB85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66105-422C-4ED5-B029-F152D9FF1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20FB3-F7E8-4D5A-8D77-741BB9526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2E88-0ACC-46E3-BDB7-FE76A233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4698-D4D7-469E-8C41-AE6BE3FA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7FAE-D26E-46DD-A790-F61C064F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F4BE-FBF9-4BF4-BEE0-E646518B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571C-D932-4AF2-9FBA-D7A9B3B9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E242-88B4-4C05-8A7A-A42CAD7E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2491-B840-40C3-82E0-D78D4F84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1624-DA85-45E9-98BC-825718AFE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2FAC-767B-43A4-8B30-EA3DD5641B44}"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u="sng">
              <a:solidFill>
                <a:srgbClr val="000000"/>
              </a:solidFill>
              <a:uFillTx/>
              <a:latin typeface="Times New Roman"/>
            </a:endParaRPr>
          </a:p>
        </p:txBody>
      </p:sp>
      <p:pic>
        <p:nvPicPr>
          <p:cNvPr id="42" name="Picture 13" descr="fondouch"/>
          <p:cNvPicPr/>
          <p:nvPr/>
        </p:nvPicPr>
        <p:blipFill>
          <a:blip r:embed="rId1"/>
          <a:stretch/>
        </p:blipFill>
        <p:spPr>
          <a:xfrm>
            <a:off x="1619280" y="1844640"/>
            <a:ext cx="6016680" cy="2840040"/>
          </a:xfrm>
          <a:prstGeom prst="rect">
            <a:avLst/>
          </a:prstGeom>
          <a:ln w="0">
            <a:noFill/>
          </a:ln>
        </p:spPr>
      </p:pic>
      <p:graphicFrame>
        <p:nvGraphicFramePr>
          <p:cNvPr id="43" name="Object 14"/>
          <p:cNvGraphicFramePr/>
          <p:nvPr/>
        </p:nvGraphicFramePr>
        <p:xfrm>
          <a:off x="304920" y="304920"/>
          <a:ext cx="698400" cy="1371600"/>
        </p:xfrm>
        <a:graphic>
          <a:graphicData uri="http://schemas.openxmlformats.org/presentationml/2006/ole">
            <p:oleObj r:id="rId2" spid="">
              <p:embed/>
              <p:pic>
                <p:nvPicPr>
                  <p:cNvPr id="44" name="Object 14" descr=""/>
                  <p:cNvPicPr/>
                  <p:nvPr/>
                </p:nvPicPr>
                <p:blipFill>
                  <a:blip r:embed="rId3"/>
                  <a:stretch/>
                </p:blipFill>
                <p:spPr>
                  <a:xfrm>
                    <a:off x="304920" y="304920"/>
                    <a:ext cx="698400" cy="1371600"/>
                  </a:xfrm>
                  <a:prstGeom prst="rect">
                    <a:avLst/>
                  </a:prstGeom>
                  <a:ln w="0">
                    <a:noFill/>
                  </a:ln>
                </p:spPr>
              </p:pic>
            </p:oleObj>
          </a:graphicData>
        </a:graphic>
      </p:graphicFrame>
      <p:sp>
        <p:nvSpPr>
          <p:cNvPr id="45" name="Text Box 15"/>
          <p:cNvSpPr/>
          <p:nvPr/>
        </p:nvSpPr>
        <p:spPr>
          <a:xfrm>
            <a:off x="1042920" y="5013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1" name="Text Box 3"/>
          <p:cNvSpPr/>
          <p:nvPr/>
        </p:nvSpPr>
        <p:spPr>
          <a:xfrm>
            <a:off x="-363960" y="47520"/>
            <a:ext cx="38869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A</a:t>
            </a:r>
            <a:endParaRPr b="0" lang="en-US" sz="2000" spc="-1" strike="noStrike" u="sng">
              <a:solidFill>
                <a:srgbClr val="000000"/>
              </a:solidFill>
              <a:uFillTx/>
              <a:latin typeface="Times New Roman"/>
            </a:endParaRPr>
          </a:p>
        </p:txBody>
      </p:sp>
      <p:graphicFrame>
        <p:nvGraphicFramePr>
          <p:cNvPr id="72" name=""/>
          <p:cNvGraphicFramePr/>
          <p:nvPr/>
        </p:nvGraphicFramePr>
        <p:xfrm>
          <a:off x="395280" y="541440"/>
          <a:ext cx="8064360" cy="6316560"/>
        </p:xfrm>
        <a:graphic>
          <a:graphicData uri="http://schemas.openxmlformats.org/drawingml/2006/table">
            <a:tbl>
              <a:tblPr/>
              <a:tblGrid>
                <a:gridCol w="2608200"/>
                <a:gridCol w="763560"/>
                <a:gridCol w="301680"/>
                <a:gridCol w="3579840"/>
                <a:gridCol w="811080"/>
              </a:tblGrid>
              <a:tr h="27648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404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4" name="Text Box 3"/>
          <p:cNvSpPr/>
          <p:nvPr/>
        </p:nvSpPr>
        <p:spPr>
          <a:xfrm>
            <a:off x="-330480" y="0"/>
            <a:ext cx="4013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B</a:t>
            </a:r>
            <a:endParaRPr b="0" lang="en-US" sz="2000" spc="-1" strike="noStrike" u="sng">
              <a:solidFill>
                <a:srgbClr val="000000"/>
              </a:solidFill>
              <a:uFillTx/>
              <a:latin typeface="Times New Roman"/>
            </a:endParaRPr>
          </a:p>
        </p:txBody>
      </p:sp>
      <p:graphicFrame>
        <p:nvGraphicFramePr>
          <p:cNvPr id="75" name=""/>
          <p:cNvGraphicFramePr/>
          <p:nvPr/>
        </p:nvGraphicFramePr>
        <p:xfrm>
          <a:off x="611280" y="541440"/>
          <a:ext cx="7848360" cy="6316560"/>
        </p:xfrm>
        <a:graphic>
          <a:graphicData uri="http://schemas.openxmlformats.org/drawingml/2006/table">
            <a:tbl>
              <a:tblPr/>
              <a:tblGrid>
                <a:gridCol w="2431800"/>
                <a:gridCol w="857520"/>
                <a:gridCol w="279360"/>
                <a:gridCol w="3143160"/>
                <a:gridCol w="857160"/>
                <a:gridCol w="279360"/>
              </a:tblGrid>
              <a:tr h="2764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7" name="Text Box 3"/>
          <p:cNvSpPr/>
          <p:nvPr/>
        </p:nvSpPr>
        <p:spPr>
          <a:xfrm>
            <a:off x="-349200" y="0"/>
            <a:ext cx="39387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C</a:t>
            </a:r>
            <a:endParaRPr b="0" lang="en-US" sz="2000" spc="-1" strike="noStrike" u="sng">
              <a:solidFill>
                <a:srgbClr val="000000"/>
              </a:solidFill>
              <a:uFillTx/>
              <a:latin typeface="Times New Roman"/>
            </a:endParaRPr>
          </a:p>
        </p:txBody>
      </p:sp>
      <p:graphicFrame>
        <p:nvGraphicFramePr>
          <p:cNvPr id="78" name=""/>
          <p:cNvGraphicFramePr/>
          <p:nvPr/>
        </p:nvGraphicFramePr>
        <p:xfrm>
          <a:off x="539640" y="541440"/>
          <a:ext cx="7848720" cy="6316560"/>
        </p:xfrm>
        <a:graphic>
          <a:graphicData uri="http://schemas.openxmlformats.org/drawingml/2006/table">
            <a:tbl>
              <a:tblPr/>
              <a:tblGrid>
                <a:gridCol w="2440080"/>
                <a:gridCol w="866880"/>
                <a:gridCol w="280800"/>
                <a:gridCol w="3152880"/>
                <a:gridCol w="110808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0" name=""/>
          <p:cNvGraphicFramePr/>
          <p:nvPr/>
        </p:nvGraphicFramePr>
        <p:xfrm>
          <a:off x="250920" y="981000"/>
          <a:ext cx="8640720" cy="6846840"/>
        </p:xfrm>
        <a:graphic>
          <a:graphicData uri="http://schemas.openxmlformats.org/drawingml/2006/table">
            <a:tbl>
              <a:tblPr/>
              <a:tblGrid>
                <a:gridCol w="8424720"/>
                <a:gridCol w="216000"/>
              </a:tblGrid>
              <a:tr h="576180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lance es solamente una fotografía de una situación específica que presenta  la empresa en el momento en que éste se efectú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para tener una visión más completa se requiere analizar una serie de balances que muestre la situación de esa empresa en un período de tiempo, por ejemplo los últimos tres o cinco a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l mismo modo, a partir de esos balances, es necesario analizar las proyecciones que presenta esa empresa para el año próximo y los que le siguen.  Estas proyecciones, que se realizan por especialistas y se analizan también por especialistas, deben basarse en hechos reales y ciertos de la vida comercial previa de esa empresa.  Del mismo modo, esas proyecciones deben ser reales y racionales, en el sentido que, partiendo de la realidad verdadera , las estimaciones futuras presentan un grado de racionalidad y de credi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08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1"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3"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fectuadas las aclaraciones previas, se mencionan a continuación los principales indicadores que permiten interpretar un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est Aci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utilizando sólo los activos de corto plazo que son dinero:  caja y 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Es el test más exigente para medir la capacidad de pag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2.   Razón corriente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utilizando todos los activos corrientes o act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considerándolos en el mismo valor en que figuran en el 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4"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6"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azón Corriente Corregid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rrigen los valores que figuran en el balance respecto de algunas partidas del activo circulante, en los siguientes senti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Cuentas por cobrar:  Se analiza la situación histórica de recuperación de cuentas de clientes por la empresa, para ver si existe o no un morosidad alta.  De esta manera, se ajusta dicho valor a la realidad histórica de la empresa, procediendo a disminuirlo si fuere procedent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roductos terminados:  Se analiza la situación de mercado de estas mercaderías para determinar si efectivamente pueden ser vendidas a los precios que se indican en el balance.  En caso contrario, también se disminuye el valor considerado en el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Otros activos circulantes:  Se aplica el mismo criterio a los valores contemplados en las cuentas de “materias primas” y “productos en proces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7"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9"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enta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determinar la rentabilidad efectiva de la empresa para lo cual se consider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el capital:  Se calcula la relación que existe entre la utilidad del año y el patrimoni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activos:  Se calcula la relación que existe entre la utilidad del año y los activos totales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deudamient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ver si las deudas totales de la empresa son muy altas o no, y se utiliz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Deuda sobre capital:  Se calcula la relación que existe entre el patrimonio total de la empresa y todas sus obligacion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ago total de la deuda:  Se calcula utilizando la utilidad anual, en cuantos años se paga la deuda total de la empres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90"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7"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48" name=""/>
          <p:cNvGraphicFramePr/>
          <p:nvPr/>
        </p:nvGraphicFramePr>
        <p:xfrm>
          <a:off x="250920" y="1087560"/>
          <a:ext cx="8640720" cy="5410080"/>
        </p:xfrm>
        <a:graphic>
          <a:graphicData uri="http://schemas.openxmlformats.org/drawingml/2006/table">
            <a:tbl>
              <a:tblPr/>
              <a:tblGrid>
                <a:gridCol w="2305080"/>
                <a:gridCol w="6335640"/>
              </a:tblGrid>
              <a:tr h="1467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incipal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inancier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 general.</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resultados.</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cambios en la posición financier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3943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ncepto d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 inventario o enumeración de todos los bienes que se encuentran en el Activo de una persona natural o jurídica y de todos los recursos financieros utilizados por esa persona para adquirir tales bienes.</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recursos financieros del pasivo se clasifican a su vez en obligaciones con terceros, o Pasivos y Patrimonio.</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a medición de activos y pasivos que se efectúa en una fecha determinada.</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 una especie de fotografía instantánea que indica la información sólo a ese momento y que puede variar al día siguient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0" name=""/>
          <p:cNvGraphicFramePr/>
          <p:nvPr/>
        </p:nvGraphicFramePr>
        <p:xfrm>
          <a:off x="250920" y="981000"/>
          <a:ext cx="8640720" cy="5945400"/>
        </p:xfrm>
        <a:graphic>
          <a:graphicData uri="http://schemas.openxmlformats.org/drawingml/2006/table">
            <a:tbl>
              <a:tblPr/>
              <a:tblGrid>
                <a:gridCol w="1800000"/>
                <a:gridCol w="6840720"/>
              </a:tblGrid>
              <a:tr h="2007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on los bienes de propiedad de la empresa en un momento determinado, y que constituyen un recurso económico que puede generar ingresos a la empresa, sea por la vía de constituir en sí mismo dinero (caja y bancos), sea por la vía de ventas futuras (mercaderías) sea por la vía de generar productos (maquinarias y equip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362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lasificación:</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e anotan en el balance en la columna de la izquierda, figurando en la parte más alta aquellos que son más líquidos  y terminando en la parte inferior con aquellos que son menos líqui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5761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circula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incluyen en el activo circulante los siguientes:</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proces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terminad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1" name="Text Box 5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3" name=""/>
          <p:cNvGraphicFramePr/>
          <p:nvPr/>
        </p:nvGraphicFramePr>
        <p:xfrm>
          <a:off x="250920" y="1087560"/>
          <a:ext cx="8640720" cy="5346720"/>
        </p:xfrm>
        <a:graphic>
          <a:graphicData uri="http://schemas.openxmlformats.org/drawingml/2006/table">
            <a:tbl>
              <a:tblPr/>
              <a:tblGrid>
                <a:gridCol w="1800000"/>
                <a:gridCol w="6840720"/>
              </a:tblGrid>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l dinero que la empresa mantiene en caja</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635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saldos de dinero en las cuentas corrientes bancari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obligaciones en dinero que terceros tienen con la empresa.   Suelen constar en facturas, letras y documentos de pago a plaz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338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insumos que la empresa adquiere, valorados a su costo de adquisición para producir mercaderí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6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ces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productos que se encuentran en la empresa en el proceso de producción industri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1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mina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as mercaderías ya producidas y que se encuentran listas para su despacho a los clie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4" name="Text Box 2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6" name=""/>
          <p:cNvGraphicFramePr/>
          <p:nvPr/>
        </p:nvGraphicFramePr>
        <p:xfrm>
          <a:off x="250920" y="1087560"/>
          <a:ext cx="8640720" cy="4483080"/>
        </p:xfrm>
        <a:graphic>
          <a:graphicData uri="http://schemas.openxmlformats.org/drawingml/2006/table">
            <a:tbl>
              <a:tblPr/>
              <a:tblGrid>
                <a:gridCol w="1800000"/>
                <a:gridCol w="6840720"/>
              </a:tblGrid>
              <a:tr h="21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fij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bienes de carácter más bien inmuebles que se utilizan para la producción de mercaderías</a:t>
                      </a:r>
                      <a:r>
                        <a:rPr b="0" lang="es-ES" sz="1800" spc="-1" strike="noStrike">
                          <a:solidFill>
                            <a:srgbClr val="ffff00"/>
                          </a:solidFill>
                          <a:latin typeface="Comic Sans MS"/>
                        </a:rPr>
                        <a:t> </a:t>
                      </a:r>
                      <a:r>
                        <a:rPr b="0" lang="es-CL"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quinarias y equip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ren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difici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300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r>
                        <a:rPr b="0" lang="es-ES" sz="1800" spc="-1" strike="noStrike">
                          <a:solidFill>
                            <a:srgbClr val="ffff00"/>
                          </a:solidFill>
                          <a:latin typeface="Comic Sans MS"/>
                        </a:rPr>
                        <a:t> </a:t>
                      </a:r>
                      <a:r>
                        <a:rPr b="0" lang="es-CL" sz="1800" spc="-1" strike="noStrike">
                          <a:solidFill>
                            <a:srgbClr val="ffff00"/>
                          </a:solidFill>
                          <a:latin typeface="Comic Sans MS"/>
                        </a:rPr>
                        <a:t>:</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recursos financieros utilizados por la empresa  para la compra de los bienes que se encuentran en el activ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 obligaciones o deu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7" name="Text Box 16"/>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9" name=""/>
          <p:cNvGraphicFramePr/>
          <p:nvPr/>
        </p:nvGraphicFramePr>
        <p:xfrm>
          <a:off x="250920" y="981000"/>
          <a:ext cx="8640720" cy="4645080"/>
        </p:xfrm>
        <a:graphic>
          <a:graphicData uri="http://schemas.openxmlformats.org/drawingml/2006/table">
            <a:tbl>
              <a:tblPr/>
              <a:tblGrid>
                <a:gridCol w="1657080"/>
                <a:gridCol w="6983640"/>
              </a:tblGrid>
              <a:tr h="4676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tercer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cort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Suel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teres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mpues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larg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demnización por años de serv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0" name="Text Box 3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62" name=""/>
          <p:cNvGraphicFramePr/>
          <p:nvPr/>
        </p:nvGraphicFramePr>
        <p:xfrm>
          <a:off x="250920" y="981000"/>
          <a:ext cx="8640720" cy="4934160"/>
        </p:xfrm>
        <a:graphic>
          <a:graphicData uri="http://schemas.openxmlformats.org/drawingml/2006/table">
            <a:tbl>
              <a:tblPr/>
              <a:tblGrid>
                <a:gridCol w="1657080"/>
                <a:gridCol w="6983640"/>
              </a:tblGrid>
              <a:tr h="28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los due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pital paga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reteni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Reserv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del ejerc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05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ecuació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undament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n contabilidad el principio fundamental es el de la igualdad entre activos y pasivos, de acuerdo con la siguiente fórmula</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  Pasivos + Patrimoni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3"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5" name="Text Box 3"/>
          <p:cNvSpPr/>
          <p:nvPr/>
        </p:nvSpPr>
        <p:spPr>
          <a:xfrm>
            <a:off x="10800" y="304920"/>
            <a:ext cx="4723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PLANILLA DE BALANCES</a:t>
            </a:r>
            <a:endParaRPr b="0" lang="en-US" sz="2400" spc="-1" strike="noStrike" u="sng">
              <a:solidFill>
                <a:srgbClr val="000000"/>
              </a:solidFill>
              <a:uFillTx/>
              <a:latin typeface="Times New Roman"/>
            </a:endParaRPr>
          </a:p>
        </p:txBody>
      </p:sp>
      <p:graphicFrame>
        <p:nvGraphicFramePr>
          <p:cNvPr id="66" name=""/>
          <p:cNvGraphicFramePr/>
          <p:nvPr/>
        </p:nvGraphicFramePr>
        <p:xfrm>
          <a:off x="611280" y="1127160"/>
          <a:ext cx="7777080" cy="5181480"/>
        </p:xfrm>
        <a:graphic>
          <a:graphicData uri="http://schemas.openxmlformats.org/drawingml/2006/table">
            <a:tbl>
              <a:tblPr/>
              <a:tblGrid>
                <a:gridCol w="2334960"/>
                <a:gridCol w="1517760"/>
                <a:gridCol w="308160"/>
                <a:gridCol w="1515960"/>
                <a:gridCol w="309600"/>
                <a:gridCol w="1482480"/>
                <a:gridCol w="308160"/>
              </a:tblGrid>
              <a:tr h="34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45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401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2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8"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69" name=""/>
          <p:cNvGraphicFramePr/>
          <p:nvPr/>
        </p:nvGraphicFramePr>
        <p:xfrm>
          <a:off x="468360" y="1197000"/>
          <a:ext cx="8207280" cy="5307120"/>
        </p:xfrm>
        <a:graphic>
          <a:graphicData uri="http://schemas.openxmlformats.org/drawingml/2006/table">
            <a:tbl>
              <a:tblPr/>
              <a:tblGrid>
                <a:gridCol w="3162240"/>
                <a:gridCol w="1287360"/>
                <a:gridCol w="281160"/>
                <a:gridCol w="1576440"/>
                <a:gridCol w="282600"/>
                <a:gridCol w="1334880"/>
                <a:gridCol w="282600"/>
              </a:tblGrid>
              <a:tr h="290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7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B</cp:lastModifiedBy>
  <dcterms:modified xsi:type="dcterms:W3CDTF">2013-11-12T13:37:57Z</dcterms:modified>
  <cp:revision>142</cp:revision>
  <dc:subject/>
  <dc:title>PowerPoint Presentation</dc:title>
</cp:coreProperties>
</file>