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48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25183-7E88-4590-B0FF-F73B5335A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40EFE-A629-4FE4-94B2-72B6C0BA5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FA31D-5B41-4B78-AB2B-D8C9A22A0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F842B-D4E1-4FB9-82DF-4F01F0FAF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11586-4093-43DD-A7F3-822A09DF7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E2A2B-69CC-4A39-80BE-973BA5049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073A2-403E-45DD-8D64-250155C44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6C5FD-9E23-4A24-A6A8-EF460EFBA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E44B1-AC8B-456A-84FF-6731B9BE6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6754B-C949-44D9-8355-94E064EA7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21771-9E28-47F9-8407-164177E5C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CBFC9-6289-42B3-B4DB-A404A8EF9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18E8-404E-472A-9777-4DC281DD3E5F}" type="slidenum">
              <a:rPr b="0" lang="en-US" sz="1400" spc="-1" strike="noStrike">
                <a:solidFill>
                  <a:srgbClr val="000000"/>
                </a:solidFill>
                <a:latin typeface="Times New Roman"/>
              </a:rPr>
              <a:t>&lt;number&gt;</a:t>
            </a:fld>
            <a:endParaRPr b="0" lang="en-US" sz="14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u="sng">
              <a:solidFill>
                <a:srgbClr val="000000"/>
              </a:solidFill>
              <a:uFillTx/>
              <a:latin typeface="Times New Roman"/>
            </a:endParaRPr>
          </a:p>
        </p:txBody>
      </p:sp>
      <p:pic>
        <p:nvPicPr>
          <p:cNvPr id="42" name="Picture 13" descr="fondouch"/>
          <p:cNvPicPr/>
          <p:nvPr/>
        </p:nvPicPr>
        <p:blipFill>
          <a:blip r:embed="rId1"/>
          <a:stretch/>
        </p:blipFill>
        <p:spPr>
          <a:xfrm>
            <a:off x="1619280" y="1844640"/>
            <a:ext cx="6016680" cy="2840040"/>
          </a:xfrm>
          <a:prstGeom prst="rect">
            <a:avLst/>
          </a:prstGeom>
          <a:ln w="0">
            <a:noFill/>
          </a:ln>
        </p:spPr>
      </p:pic>
      <p:graphicFrame>
        <p:nvGraphicFramePr>
          <p:cNvPr id="43" name="Object 14"/>
          <p:cNvGraphicFramePr/>
          <p:nvPr/>
        </p:nvGraphicFramePr>
        <p:xfrm>
          <a:off x="304920" y="304920"/>
          <a:ext cx="698400" cy="1371600"/>
        </p:xfrm>
        <a:graphic>
          <a:graphicData uri="http://schemas.openxmlformats.org/presentationml/2006/ole">
            <p:oleObj r:id="rId2" spid="">
              <p:embed/>
              <p:pic>
                <p:nvPicPr>
                  <p:cNvPr id="44" name="Object 14" descr=""/>
                  <p:cNvPicPr/>
                  <p:nvPr/>
                </p:nvPicPr>
                <p:blipFill>
                  <a:blip r:embed="rId3"/>
                  <a:stretch/>
                </p:blipFill>
                <p:spPr>
                  <a:xfrm>
                    <a:off x="304920" y="304920"/>
                    <a:ext cx="698400" cy="1371600"/>
                  </a:xfrm>
                  <a:prstGeom prst="rect">
                    <a:avLst/>
                  </a:prstGeom>
                  <a:ln w="0">
                    <a:noFill/>
                  </a:ln>
                </p:spPr>
              </p:pic>
            </p:oleObj>
          </a:graphicData>
        </a:graphic>
      </p:graphicFrame>
      <p:sp>
        <p:nvSpPr>
          <p:cNvPr id="45" name="Text Box 15"/>
          <p:cNvSpPr/>
          <p:nvPr/>
        </p:nvSpPr>
        <p:spPr>
          <a:xfrm>
            <a:off x="1042920" y="5013360"/>
            <a:ext cx="73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Line 2"/>
          <p:cNvSpPr/>
          <p:nvPr/>
        </p:nvSpPr>
        <p:spPr>
          <a:xfrm>
            <a:off x="0" y="4762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71" name="Text Box 3"/>
          <p:cNvSpPr/>
          <p:nvPr/>
        </p:nvSpPr>
        <p:spPr>
          <a:xfrm>
            <a:off x="-363960" y="47520"/>
            <a:ext cx="388692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BALANCES EMPRESA A</a:t>
            </a:r>
            <a:endParaRPr b="0" lang="en-US" sz="2000" spc="-1" strike="noStrike" u="sng">
              <a:solidFill>
                <a:srgbClr val="000000"/>
              </a:solidFill>
              <a:uFillTx/>
              <a:latin typeface="Times New Roman"/>
            </a:endParaRPr>
          </a:p>
        </p:txBody>
      </p:sp>
      <p:graphicFrame>
        <p:nvGraphicFramePr>
          <p:cNvPr id="72" name=""/>
          <p:cNvGraphicFramePr/>
          <p:nvPr/>
        </p:nvGraphicFramePr>
        <p:xfrm>
          <a:off x="395280" y="541440"/>
          <a:ext cx="8064360" cy="6316560"/>
        </p:xfrm>
        <a:graphic>
          <a:graphicData uri="http://schemas.openxmlformats.org/drawingml/2006/table">
            <a:tbl>
              <a:tblPr/>
              <a:tblGrid>
                <a:gridCol w="2608200"/>
                <a:gridCol w="763560"/>
                <a:gridCol w="301680"/>
                <a:gridCol w="3579840"/>
                <a:gridCol w="811080"/>
              </a:tblGrid>
              <a:tr h="27648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Y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ja</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45</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entas por cobrar</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el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erias prim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en proces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uestos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termina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7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2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quinarias y equip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rren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difici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ital pagad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erv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retenid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5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del ejercic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5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97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Y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97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Line 2"/>
          <p:cNvSpPr/>
          <p:nvPr/>
        </p:nvSpPr>
        <p:spPr>
          <a:xfrm>
            <a:off x="0" y="40464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74" name="Text Box 3"/>
          <p:cNvSpPr/>
          <p:nvPr/>
        </p:nvSpPr>
        <p:spPr>
          <a:xfrm>
            <a:off x="-330480" y="0"/>
            <a:ext cx="401364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BALANCES  EMPRESA  B</a:t>
            </a:r>
            <a:endParaRPr b="0" lang="en-US" sz="2000" spc="-1" strike="noStrike" u="sng">
              <a:solidFill>
                <a:srgbClr val="000000"/>
              </a:solidFill>
              <a:uFillTx/>
              <a:latin typeface="Times New Roman"/>
            </a:endParaRPr>
          </a:p>
        </p:txBody>
      </p:sp>
      <p:graphicFrame>
        <p:nvGraphicFramePr>
          <p:cNvPr id="75" name=""/>
          <p:cNvGraphicFramePr/>
          <p:nvPr/>
        </p:nvGraphicFramePr>
        <p:xfrm>
          <a:off x="611280" y="541440"/>
          <a:ext cx="7848360" cy="6316560"/>
        </p:xfrm>
        <a:graphic>
          <a:graphicData uri="http://schemas.openxmlformats.org/drawingml/2006/table">
            <a:tbl>
              <a:tblPr/>
              <a:tblGrid>
                <a:gridCol w="2431800"/>
                <a:gridCol w="857520"/>
                <a:gridCol w="279360"/>
                <a:gridCol w="3143160"/>
                <a:gridCol w="857160"/>
                <a:gridCol w="279360"/>
              </a:tblGrid>
              <a:tr h="27648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a:t>
                      </a:r>
                      <a:endParaRPr b="0" lang="en-US" sz="1200" spc="-1" strike="noStrike" u="sng">
                        <a:solidFill>
                          <a:srgbClr val="000000"/>
                        </a:solidFill>
                        <a:uFillTx/>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Y PATRIMONIO</a:t>
                      </a:r>
                      <a:endParaRPr b="0" lang="en-US" sz="1200" spc="-1" strike="noStrike" u="sng">
                        <a:solidFill>
                          <a:srgbClr val="000000"/>
                        </a:solidFill>
                        <a:uFillTx/>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ja</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entas por cobrar</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el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erias prim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en proces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uest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termina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8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quinarias y equip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rren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difici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ital pagad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erv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retenid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del ejercic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7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Y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Line 2"/>
          <p:cNvSpPr/>
          <p:nvPr/>
        </p:nvSpPr>
        <p:spPr>
          <a:xfrm>
            <a:off x="0" y="4762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77" name="Text Box 3"/>
          <p:cNvSpPr/>
          <p:nvPr/>
        </p:nvSpPr>
        <p:spPr>
          <a:xfrm>
            <a:off x="-349200" y="0"/>
            <a:ext cx="393876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BALANCES  EMPRESA C</a:t>
            </a:r>
            <a:endParaRPr b="0" lang="en-US" sz="2000" spc="-1" strike="noStrike" u="sng">
              <a:solidFill>
                <a:srgbClr val="000000"/>
              </a:solidFill>
              <a:uFillTx/>
              <a:latin typeface="Times New Roman"/>
            </a:endParaRPr>
          </a:p>
        </p:txBody>
      </p:sp>
      <p:graphicFrame>
        <p:nvGraphicFramePr>
          <p:cNvPr id="78" name=""/>
          <p:cNvGraphicFramePr/>
          <p:nvPr/>
        </p:nvGraphicFramePr>
        <p:xfrm>
          <a:off x="539640" y="541440"/>
          <a:ext cx="7848720" cy="6316560"/>
        </p:xfrm>
        <a:graphic>
          <a:graphicData uri="http://schemas.openxmlformats.org/drawingml/2006/table">
            <a:tbl>
              <a:tblPr/>
              <a:tblGrid>
                <a:gridCol w="2440080"/>
                <a:gridCol w="866880"/>
                <a:gridCol w="280800"/>
                <a:gridCol w="3152880"/>
                <a:gridCol w="1108080"/>
              </a:tblGrid>
              <a:tr h="276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a:t>
                      </a:r>
                      <a:endParaRPr b="0" lang="en-US" sz="1200" spc="-1" strike="noStrike" u="sng">
                        <a:solidFill>
                          <a:srgbClr val="000000"/>
                        </a:solidFill>
                        <a:uFillTx/>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Y PATRIMONIO</a:t>
                      </a:r>
                      <a:endParaRPr b="0" lang="en-US" sz="1200" spc="-1" strike="noStrike" u="sng">
                        <a:solidFill>
                          <a:srgbClr val="000000"/>
                        </a:solidFill>
                        <a:uFillTx/>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ja</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5,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entas por cobrar</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el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erias prim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en proces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uest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termina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5,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8,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5,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5,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quinarias y equip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rren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difici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ital pagad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erv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retenid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del ejercic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6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2,1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95,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Y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95,1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80" name=""/>
          <p:cNvGraphicFramePr/>
          <p:nvPr/>
        </p:nvGraphicFramePr>
        <p:xfrm>
          <a:off x="250920" y="981000"/>
          <a:ext cx="8640720" cy="6846840"/>
        </p:xfrm>
        <a:graphic>
          <a:graphicData uri="http://schemas.openxmlformats.org/drawingml/2006/table">
            <a:tbl>
              <a:tblPr/>
              <a:tblGrid>
                <a:gridCol w="8424720"/>
                <a:gridCol w="216000"/>
              </a:tblGrid>
              <a:tr h="576180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nálisis de los Balances</a:t>
                      </a:r>
                      <a:endParaRPr b="0" lang="en-US" sz="1800" spc="-1" strike="noStrike" u="sng">
                        <a:solidFill>
                          <a:srgbClr val="000000"/>
                        </a:solidFill>
                        <a:uFillTx/>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lance es solamente una fotografía de una situación específica que presenta  la empresa en el momento en que éste se efectúa.</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or lo tanto, para tener una visión más completa se requiere analizar una serie de balances que muestre la situación de esa empresa en un período de tiempo, por ejemplo los últimos tres o cinco añ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l mismo modo, a partir de esos balances, es necesario analizar las proyecciones que presenta esa empresa para el año próximo y los que le siguen.  Estas proyecciones, que se realizan por especialistas y se analizan también por especialistas, deben basarse en hechos reales y ciertos de la vida comercial previa de esa empresa.  Del mismo modo, esas proyecciones deben ser reales y racionales, en el sentido que, partiendo de la realidad verdadera , las estimaciones futuras presentan un grado de racionalidad y de credibilidad.</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r>
              <a:tr h="10850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81" name="Text Box 12"/>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83" name=""/>
          <p:cNvGraphicFramePr/>
          <p:nvPr/>
        </p:nvGraphicFramePr>
        <p:xfrm>
          <a:off x="250920" y="981000"/>
          <a:ext cx="8640720" cy="6551640"/>
        </p:xfrm>
        <a:graphic>
          <a:graphicData uri="http://schemas.openxmlformats.org/drawingml/2006/table">
            <a:tbl>
              <a:tblPr/>
              <a:tblGrid>
                <a:gridCol w="8424720"/>
                <a:gridCol w="216000"/>
              </a:tblGrid>
              <a:tr h="54482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nálisis de los Balances</a:t>
                      </a:r>
                      <a:endParaRPr b="0" lang="en-US" sz="1800" spc="-1" strike="noStrike" u="sng">
                        <a:solidFill>
                          <a:srgbClr val="000000"/>
                        </a:solidFill>
                        <a:uFillTx/>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fectuadas las aclaraciones previas, se mencionan a continuación los principales indicadores que permiten interpretar un balance.</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buClr>
                          <a:srgbClr val="ffff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est Acido</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Se compara la capacidad de pago de todos los pasivos circulantes utilizando sólo los activos de corto plazo que son dinero:  caja y banc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Es el test más exigente para medir la capacidad de pago de la empresa.</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2.   Razón corriente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Se compara la capacidad de pago de todos los pasivos circulantes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utilizando todos los activos corrientes o activos circulantes,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considerándolos en el mismo valor en que figuran en el balance.</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r>
              <a:tr h="11034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84" name="Text Box 12"/>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86" name=""/>
          <p:cNvGraphicFramePr/>
          <p:nvPr/>
        </p:nvGraphicFramePr>
        <p:xfrm>
          <a:off x="250920" y="981000"/>
          <a:ext cx="8640720" cy="6551640"/>
        </p:xfrm>
        <a:graphic>
          <a:graphicData uri="http://schemas.openxmlformats.org/drawingml/2006/table">
            <a:tbl>
              <a:tblPr/>
              <a:tblGrid>
                <a:gridCol w="8424720"/>
                <a:gridCol w="216000"/>
              </a:tblGrid>
              <a:tr h="54482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nálisis de los Balances</a:t>
                      </a:r>
                      <a:endParaRPr b="0" lang="en-US" sz="1800" spc="-1" strike="noStrike" u="sng">
                        <a:solidFill>
                          <a:srgbClr val="000000"/>
                        </a:solidFill>
                        <a:uFillTx/>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buClr>
                          <a:srgbClr val="ffff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Razón Corriente Corregida</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Se corrigen los valores que figuran en el balance respecto de algunas partidas del activo circulante, en los siguientes sentid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   Cuentas por cobrar:  Se analiza la situación histórica de recuperación de cuentas de clientes por la empresa, para ver si existe o no un morosidad alta.  De esta manera, se ajusta dicho valor a la realidad histórica de la empresa, procediendo a disminuirlo si fuere procedente.</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   Productos terminados:  Se analiza la situación de mercado de estas mercaderías para determinar si efectivamente pueden ser vendidas a los precios que se indican en el balance.  En caso contrario, también se disminuye el valor considerado en el balance.</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  Otros activos circulantes:  Se aplica el mismo criterio a los valores contemplados en las cuentas de “materias primas” y “productos en proceso”.</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11034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87" name="Text Box 12"/>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89" name=""/>
          <p:cNvGraphicFramePr/>
          <p:nvPr/>
        </p:nvGraphicFramePr>
        <p:xfrm>
          <a:off x="250920" y="981000"/>
          <a:ext cx="8640720" cy="6551640"/>
        </p:xfrm>
        <a:graphic>
          <a:graphicData uri="http://schemas.openxmlformats.org/drawingml/2006/table">
            <a:tbl>
              <a:tblPr/>
              <a:tblGrid>
                <a:gridCol w="8424720"/>
                <a:gridCol w="216000"/>
              </a:tblGrid>
              <a:tr h="54482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nálisis de los Balances</a:t>
                      </a:r>
                      <a:endParaRPr b="0" lang="en-US" sz="1800" spc="-1" strike="noStrike" u="sng">
                        <a:solidFill>
                          <a:srgbClr val="000000"/>
                        </a:solidFill>
                        <a:uFillTx/>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buClr>
                          <a:srgbClr val="ffff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Rentabilidad.</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Se trata de determinar la rentabilidad efectiva de la empresa para lo cual se consideran principalmente dos indicadore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  Retorno sobre el capital:  Se calcula la relación que existe entre la utilidad del año y el patrimonio de la empresa.</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  Retorno sobre activos:  Se calcula la relación que existe entre la utilidad del año y los activos totales de la empresa.</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buClr>
                          <a:srgbClr val="ffff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deudamiento.</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Se trata de ver si las deudas totales de la empresa son muy altas o no, y se utilizan principalmente dos indicadore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  Deuda sobre capital:  Se calcula la relación que existe entre el patrimonio total de la empresa y todas sus obligacione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  Pago total de la deuda:  Se calcula utilizando la utilidad anual, en cuantos años se paga la deuda total de la empresa.</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r>
              <a:tr h="11034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90" name="Text Box 12"/>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47" name="Text Box 3"/>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graphicFrame>
        <p:nvGraphicFramePr>
          <p:cNvPr id="48" name=""/>
          <p:cNvGraphicFramePr/>
          <p:nvPr/>
        </p:nvGraphicFramePr>
        <p:xfrm>
          <a:off x="250920" y="1087560"/>
          <a:ext cx="8640720" cy="5410080"/>
        </p:xfrm>
        <a:graphic>
          <a:graphicData uri="http://schemas.openxmlformats.org/drawingml/2006/table">
            <a:tbl>
              <a:tblPr/>
              <a:tblGrid>
                <a:gridCol w="2305080"/>
                <a:gridCol w="6335640"/>
              </a:tblGrid>
              <a:tr h="1467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incipale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stados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Financieros</a:t>
                      </a:r>
                      <a:r>
                        <a:rPr b="0" lang="es-ES" sz="1800" spc="-1" strike="noStrike">
                          <a:solidFill>
                            <a:srgbClr val="ffff00"/>
                          </a:solidFill>
                          <a:latin typeface="Comic Sans MS"/>
                        </a:rPr>
                        <a:t>:</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Balance general.</a:t>
                      </a:r>
                      <a:endParaRPr b="0" lang="en-US" sz="1800" spc="-1" strike="noStrike" u="sng">
                        <a:solidFill>
                          <a:srgbClr val="000000"/>
                        </a:solidFill>
                        <a:uFillTx/>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stado de resultados.</a:t>
                      </a:r>
                      <a:endParaRPr b="0" lang="en-US" sz="1800" spc="-1" strike="noStrike" u="sng">
                        <a:solidFill>
                          <a:srgbClr val="000000"/>
                        </a:solidFill>
                        <a:uFillTx/>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stado de cambios en la posición financiera</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3943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oncepto de</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Balance:</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l balance es un inventario o enumeración de todos los bienes que se encuentran en el Activo de una persona natural o jurídica y de todos los recursos financieros utilizados por esa persona para adquirir tales bienes.</a:t>
                      </a:r>
                      <a:endParaRPr b="0" lang="en-US" sz="1800" spc="-1" strike="noStrike" u="sng">
                        <a:solidFill>
                          <a:srgbClr val="000000"/>
                        </a:solidFill>
                        <a:uFillTx/>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Los recursos financieros del pasivo se clasifican a su vez en obligaciones con terceros, o Pasivos y Patrimonio.</a:t>
                      </a:r>
                      <a:endParaRPr b="0" lang="en-US" sz="1800" spc="-1" strike="noStrike" u="sng">
                        <a:solidFill>
                          <a:srgbClr val="000000"/>
                        </a:solidFill>
                        <a:uFillTx/>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l balance es una medición de activos y pasivos que se efectúa en una fecha determinada.</a:t>
                      </a:r>
                      <a:endParaRPr b="0" lang="en-US" sz="1800" spc="-1" strike="noStrike" u="sng">
                        <a:solidFill>
                          <a:srgbClr val="000000"/>
                        </a:solidFill>
                        <a:uFillTx/>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s una especie de fotografía instantánea que indica la información sólo a ese momento y que puede variar al día siguiente.</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50" name=""/>
          <p:cNvGraphicFramePr/>
          <p:nvPr/>
        </p:nvGraphicFramePr>
        <p:xfrm>
          <a:off x="250920" y="981000"/>
          <a:ext cx="8640720" cy="5945400"/>
        </p:xfrm>
        <a:graphic>
          <a:graphicData uri="http://schemas.openxmlformats.org/drawingml/2006/table">
            <a:tbl>
              <a:tblPr/>
              <a:tblGrid>
                <a:gridCol w="1800000"/>
                <a:gridCol w="6840720"/>
              </a:tblGrid>
              <a:tr h="2007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ctiv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Los activos son los bienes de propiedad de la empresa en un momento determinado, y que constituyen un recurso económico que puede generar ingresos a la empresa, sea por la vía de constituir en sí mismo dinero (caja y bancos), sea por la vía de ventas futuras (mercaderías) sea por la vía de generar productos (maquinarias y equipo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13622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lasificación:</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Los activos se anotan en el balance en la columna de la izquierda, figurando en la parte más alta aquellos que son más líquidos  y terminando en la parte inferior con aquellos que son menos líquido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25761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ctivos circulante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e incluyen en el activo circulante los siguientes:</a:t>
                      </a:r>
                      <a:endParaRPr b="0" lang="en-US" sz="1800" spc="-1" strike="noStrike" u="sng">
                        <a:solidFill>
                          <a:srgbClr val="000000"/>
                        </a:solidFill>
                        <a:uFillTx/>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aja</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Banc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uentas por cobrar</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Materias prima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oductos en proceso</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oductos terminados</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51" name="Text Box 50"/>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53" name=""/>
          <p:cNvGraphicFramePr/>
          <p:nvPr/>
        </p:nvGraphicFramePr>
        <p:xfrm>
          <a:off x="250920" y="1087560"/>
          <a:ext cx="8640720" cy="5346720"/>
        </p:xfrm>
        <a:graphic>
          <a:graphicData uri="http://schemas.openxmlformats.org/drawingml/2006/table">
            <a:tbl>
              <a:tblPr/>
              <a:tblGrid>
                <a:gridCol w="1800000"/>
                <a:gridCol w="6840720"/>
              </a:tblGrid>
              <a:tr h="697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aja:</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orresponde al dinero que la empresa mantiene en caja</a:t>
                      </a:r>
                      <a:r>
                        <a:rPr b="0" lang="es-ES" sz="1800" spc="-1" strike="noStrike">
                          <a:solidFill>
                            <a:srgbClr val="ffff00"/>
                          </a:solidFill>
                          <a:latin typeface="Comic Sans MS"/>
                        </a:rPr>
                        <a:t>.</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1635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Bancos</a:t>
                      </a:r>
                      <a:r>
                        <a:rPr b="0" lang="es-ES" sz="1800" spc="-1" strike="noStrike">
                          <a:solidFill>
                            <a:srgbClr val="ffff00"/>
                          </a:solidFill>
                          <a:latin typeface="Comic Sans MS"/>
                        </a:rPr>
                        <a:t>:</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uentas por cobrar</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orresponde a los saldos de dinero en las cuentas corrientes bancaria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on obligaciones en dinero que terceros tienen con la empresa.   Suelen constar en facturas, letras y documentos de pago a plazo.</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9338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Materias primas</a:t>
                      </a:r>
                      <a:r>
                        <a:rPr b="0" lang="es-ES" sz="1800" spc="-1" strike="noStrike">
                          <a:solidFill>
                            <a:srgbClr val="ffff00"/>
                          </a:solidFill>
                          <a:latin typeface="Comic Sans MS"/>
                        </a:rPr>
                        <a:t>:</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orresponde a los insumos que la empresa adquiere, valorados a su costo de adquisición para producir mercadería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96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oductos en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oceso:</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on los productos que se encuentran en la empresa en el proceso de producción industrial</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1116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oduct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Terminado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on las mercaderías ya producidas y que se encuentran listas para su despacho a los cliente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54" name="Text Box 20"/>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56" name=""/>
          <p:cNvGraphicFramePr/>
          <p:nvPr/>
        </p:nvGraphicFramePr>
        <p:xfrm>
          <a:off x="250920" y="1087560"/>
          <a:ext cx="8640720" cy="4483080"/>
        </p:xfrm>
        <a:graphic>
          <a:graphicData uri="http://schemas.openxmlformats.org/drawingml/2006/table">
            <a:tbl>
              <a:tblPr/>
              <a:tblGrid>
                <a:gridCol w="1800000"/>
                <a:gridCol w="6840720"/>
              </a:tblGrid>
              <a:tr h="2182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ctivos fijo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on  los bienes de carácter más bien inmuebles que se utilizan para la producción de mercaderías</a:t>
                      </a:r>
                      <a:r>
                        <a:rPr b="0" lang="es-ES" sz="1800" spc="-1" strike="noStrike">
                          <a:solidFill>
                            <a:srgbClr val="ffff00"/>
                          </a:solidFill>
                          <a:latin typeface="Comic Sans MS"/>
                        </a:rPr>
                        <a:t> </a:t>
                      </a:r>
                      <a:r>
                        <a:rPr b="0" lang="es-CL" sz="1800" spc="-1" strike="noStrike">
                          <a:solidFill>
                            <a:srgbClr val="ffff00"/>
                          </a:solidFill>
                          <a:latin typeface="Comic Sans MS"/>
                        </a:rPr>
                        <a:t>.</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Maquinarias y equip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Terren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dificios</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2300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asivos</a:t>
                      </a:r>
                      <a:r>
                        <a:rPr b="0" lang="es-ES" sz="1800" spc="-1" strike="noStrike">
                          <a:solidFill>
                            <a:srgbClr val="ffff00"/>
                          </a:solidFill>
                          <a:latin typeface="Comic Sans MS"/>
                        </a:rPr>
                        <a:t> </a:t>
                      </a:r>
                      <a:r>
                        <a:rPr b="0" lang="es-CL" sz="1800" spc="-1" strike="noStrike">
                          <a:solidFill>
                            <a:srgbClr val="ffff00"/>
                          </a:solidFill>
                          <a:latin typeface="Comic Sans MS"/>
                        </a:rPr>
                        <a:t>:</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on los recursos financieros utilizados por la empresa  para la compra de los bienes que se encuentran en el activo</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e clasifican en:</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asivos, obligaciones o deuda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atrimonio</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57" name="Text Box 16"/>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59" name=""/>
          <p:cNvGraphicFramePr/>
          <p:nvPr/>
        </p:nvGraphicFramePr>
        <p:xfrm>
          <a:off x="250920" y="981000"/>
          <a:ext cx="8640720" cy="4645080"/>
        </p:xfrm>
        <a:graphic>
          <a:graphicData uri="http://schemas.openxmlformats.org/drawingml/2006/table">
            <a:tbl>
              <a:tblPr/>
              <a:tblGrid>
                <a:gridCol w="1657080"/>
                <a:gridCol w="6983640"/>
              </a:tblGrid>
              <a:tr h="46764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asiv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orresponde a las obligaciones de la empresa con tercer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e clasifican en:</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Obligaciones de corto plazo</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oveedore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Bancos-Sueld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Interese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Impuest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Obligaciones de largo plazo</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Banc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oveedore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Indemnización por años de servicio</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60" name="Text Box 30"/>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62" name=""/>
          <p:cNvGraphicFramePr/>
          <p:nvPr/>
        </p:nvGraphicFramePr>
        <p:xfrm>
          <a:off x="250920" y="981000"/>
          <a:ext cx="8640720" cy="4934160"/>
        </p:xfrm>
        <a:graphic>
          <a:graphicData uri="http://schemas.openxmlformats.org/drawingml/2006/table">
            <a:tbl>
              <a:tblPr/>
              <a:tblGrid>
                <a:gridCol w="1657080"/>
                <a:gridCol w="6983640"/>
              </a:tblGrid>
              <a:tr h="2879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atrimonio</a:t>
                      </a:r>
                      <a:r>
                        <a:rPr b="0" lang="es-ES" sz="1800" spc="-1" strike="noStrike">
                          <a:solidFill>
                            <a:srgbClr val="ffff00"/>
                          </a:solidFill>
                          <a:latin typeface="Comic Sans MS"/>
                        </a:rPr>
                        <a:t>:</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orresponde a las obligaciones de la empresa con los dueñ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e clasifican en:</a:t>
                      </a:r>
                      <a:endParaRPr b="0" lang="en-US" sz="1800" spc="-1" strike="noStrike" u="sng">
                        <a:solidFill>
                          <a:srgbClr val="000000"/>
                        </a:solidFill>
                        <a:uFillTx/>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apital pagado</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Utilidades retenida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Reserva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Utilidades del ejercicio</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2054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La ecuación</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Fundamental</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n contabilidad el principio fundamental es el de la igualdad entre activos y pasivos, de acuerdo con la siguiente fórmula</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ctivos =  Pasivos + Patrimonio</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63" name="Text Box 12"/>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65" name="Text Box 3"/>
          <p:cNvSpPr/>
          <p:nvPr/>
        </p:nvSpPr>
        <p:spPr>
          <a:xfrm>
            <a:off x="10800" y="304920"/>
            <a:ext cx="47239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PLANILLA DE BALANCES</a:t>
            </a:r>
            <a:endParaRPr b="0" lang="en-US" sz="2400" spc="-1" strike="noStrike" u="sng">
              <a:solidFill>
                <a:srgbClr val="000000"/>
              </a:solidFill>
              <a:uFillTx/>
              <a:latin typeface="Times New Roman"/>
            </a:endParaRPr>
          </a:p>
        </p:txBody>
      </p:sp>
      <p:graphicFrame>
        <p:nvGraphicFramePr>
          <p:cNvPr id="66" name=""/>
          <p:cNvGraphicFramePr/>
          <p:nvPr/>
        </p:nvGraphicFramePr>
        <p:xfrm>
          <a:off x="611280" y="1127160"/>
          <a:ext cx="7777080" cy="5181480"/>
        </p:xfrm>
        <a:graphic>
          <a:graphicData uri="http://schemas.openxmlformats.org/drawingml/2006/table">
            <a:tbl>
              <a:tblPr/>
              <a:tblGrid>
                <a:gridCol w="2334960"/>
                <a:gridCol w="1517760"/>
                <a:gridCol w="308160"/>
                <a:gridCol w="1515960"/>
                <a:gridCol w="309600"/>
                <a:gridCol w="1482480"/>
                <a:gridCol w="308160"/>
              </a:tblGrid>
              <a:tr h="347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a:t>
                      </a:r>
                      <a:endParaRPr b="0" lang="en-US" sz="1200" spc="-1" strike="noStrike" u="sng">
                        <a:solidFill>
                          <a:srgbClr val="000000"/>
                        </a:solidFill>
                        <a:uFillTx/>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RESA  A</a:t>
                      </a:r>
                      <a:endParaRPr b="0" lang="en-US" sz="1200" spc="-1" strike="noStrike" u="sng">
                        <a:solidFill>
                          <a:srgbClr val="000000"/>
                        </a:solidFill>
                        <a:uFillTx/>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RESA  B</a:t>
                      </a:r>
                      <a:endParaRPr b="0" lang="en-US" sz="1200" spc="-1" strike="noStrike" u="sng">
                        <a:solidFill>
                          <a:srgbClr val="000000"/>
                        </a:solidFill>
                        <a:uFillTx/>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RESA  C</a:t>
                      </a:r>
                      <a:endParaRPr b="0" lang="en-US" sz="1200" spc="-1" strike="noStrike" u="sng">
                        <a:solidFill>
                          <a:srgbClr val="000000"/>
                        </a:solidFill>
                        <a:uFillTx/>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r>
              <a:tr h="455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CIRCULANTES</a:t>
                      </a:r>
                      <a:endParaRPr b="0" lang="en-US" sz="1200" spc="-1" strike="noStrike" u="sng">
                        <a:solidFill>
                          <a:srgbClr val="000000"/>
                        </a:solidFill>
                        <a:uFillTx/>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r>
              <a:tr h="312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ja</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r>
              <a:tr h="312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12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entas por cobrar</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12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erias prim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12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en proces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12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termina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401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7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5.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79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79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quinarias y equip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12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rren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12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difici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9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2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97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95.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68" name="Text Box 3"/>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graphicFrame>
        <p:nvGraphicFramePr>
          <p:cNvPr id="69" name=""/>
          <p:cNvGraphicFramePr/>
          <p:nvPr/>
        </p:nvGraphicFramePr>
        <p:xfrm>
          <a:off x="468360" y="1197000"/>
          <a:ext cx="8207280" cy="5307120"/>
        </p:xfrm>
        <a:graphic>
          <a:graphicData uri="http://schemas.openxmlformats.org/drawingml/2006/table">
            <a:tbl>
              <a:tblPr/>
              <a:tblGrid>
                <a:gridCol w="3162240"/>
                <a:gridCol w="1287360"/>
                <a:gridCol w="281160"/>
                <a:gridCol w="1576440"/>
                <a:gridCol w="282600"/>
                <a:gridCol w="1334880"/>
                <a:gridCol w="282600"/>
              </a:tblGrid>
              <a:tr h="2901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Y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RESA  A</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RESA  B</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RESA  C</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45</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el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uest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17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2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8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8.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ital pagad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erv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retenid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del ejercic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6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7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2.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Y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97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95.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LLB</cp:lastModifiedBy>
  <dcterms:modified xsi:type="dcterms:W3CDTF">2013-11-12T13:37:57Z</dcterms:modified>
  <cp:revision>142</cp:revision>
  <dc:subject/>
  <dc:title>PowerPoint Presentation</dc:title>
</cp:coreProperties>
</file>