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1" name="PlaceHolder 1"/>
          <p:cNvSpPr>
            <a:spLocks noGrp="1"/>
          </p:cNvSpPr>
          <p:nvPr>
            <p:ph type="sldImg"/>
          </p:nvPr>
        </p:nvSpPr>
        <p:spPr>
          <a:xfrm>
            <a:off x="1371600" y="763200"/>
            <a:ext cx="5027760" cy="3770280"/>
          </a:xfrm>
          <a:prstGeom prst="rect">
            <a:avLst/>
          </a:prstGeom>
          <a:noFill/>
          <a:ln w="0">
            <a:noFill/>
          </a:ln>
        </p:spPr>
        <p:txBody>
          <a:bodyPr lIns="90000" rIns="90000" tIns="46800" bIns="46800" anchor="t">
            <a:noAutofit/>
          </a:bodyPr>
          <a:p>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224" name="PlaceHolder 4"/>
          <p:cNvSpPr>
            <a:spLocks noGrp="1"/>
          </p:cNvSpPr>
          <p:nvPr>
            <p:ph type="dt" idx="16"/>
          </p:nvPr>
        </p:nvSpPr>
        <p:spPr>
          <a:xfrm>
            <a:off x="4398480" y="-360"/>
            <a:ext cx="337212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225" name="PlaceHolder 5"/>
          <p:cNvSpPr>
            <a:spLocks noGrp="1"/>
          </p:cNvSpPr>
          <p:nvPr>
            <p:ph type="ftr" idx="17"/>
          </p:nvPr>
        </p:nvSpPr>
        <p:spPr>
          <a:xfrm>
            <a:off x="0" y="9555120"/>
            <a:ext cx="3371760" cy="5018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4398480" y="9555120"/>
            <a:ext cx="3372120" cy="501840"/>
          </a:xfrm>
          <a:prstGeom prst="rect">
            <a:avLst/>
          </a:prstGeom>
          <a:noFill/>
          <a:ln w="0">
            <a:noFill/>
          </a:ln>
        </p:spPr>
        <p:txBody>
          <a:bodyPr lIns="0" rIns="0" tIns="0" bIns="0" anchor="b">
            <a:noAutofit/>
          </a:bodyPr>
          <a:lstStyle>
            <a:lvl1pPr marL="216000"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CL"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CEFA28-ED98-4BCB-8B4D-4112EC653FE7}"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900712-A196-4DF3-9BC1-A3D6A7F8E90F}"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3" name="PlaceHolder 1"/>
          <p:cNvSpPr>
            <a:spLocks noGrp="1"/>
          </p:cNvSpPr>
          <p:nvPr>
            <p:ph type="sldImg"/>
          </p:nvPr>
        </p:nvSpPr>
        <p:spPr>
          <a:xfrm>
            <a:off x="1371600" y="763560"/>
            <a:ext cx="5029200" cy="3772080"/>
          </a:xfrm>
          <a:prstGeom prst="rect">
            <a:avLst/>
          </a:prstGeom>
          <a:ln w="0">
            <a:noFill/>
          </a:ln>
        </p:spPr>
      </p:sp>
      <p:sp>
        <p:nvSpPr>
          <p:cNvPr id="32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C19EAD-51B5-480D-9247-2E041B4B3206}"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0" name="PlaceHolder 1"/>
          <p:cNvSpPr>
            <a:spLocks noGrp="1"/>
          </p:cNvSpPr>
          <p:nvPr>
            <p:ph type="sldImg"/>
          </p:nvPr>
        </p:nvSpPr>
        <p:spPr>
          <a:xfrm>
            <a:off x="1373040" y="763560"/>
            <a:ext cx="5026320" cy="3770280"/>
          </a:xfrm>
          <a:prstGeom prst="rect">
            <a:avLst/>
          </a:prstGeom>
          <a:ln w="0">
            <a:noFill/>
          </a:ln>
        </p:spPr>
      </p:sp>
      <p:sp>
        <p:nvSpPr>
          <p:cNvPr id="35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BC8BE7-7F2D-41A3-A18F-64CF45708074}"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3" name="PlaceHolder 1"/>
          <p:cNvSpPr>
            <a:spLocks noGrp="1"/>
          </p:cNvSpPr>
          <p:nvPr>
            <p:ph type="sldImg"/>
          </p:nvPr>
        </p:nvSpPr>
        <p:spPr>
          <a:xfrm>
            <a:off x="1373040" y="763560"/>
            <a:ext cx="5026320" cy="3770280"/>
          </a:xfrm>
          <a:prstGeom prst="rect">
            <a:avLst/>
          </a:prstGeom>
          <a:ln w="0">
            <a:noFill/>
          </a:ln>
        </p:spPr>
      </p:sp>
      <p:sp>
        <p:nvSpPr>
          <p:cNvPr id="35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A1BFBF-1AEC-488C-8B2A-FCF486406312}"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6" name="PlaceHolder 1"/>
          <p:cNvSpPr>
            <a:spLocks noGrp="1"/>
          </p:cNvSpPr>
          <p:nvPr>
            <p:ph type="sldImg"/>
          </p:nvPr>
        </p:nvSpPr>
        <p:spPr>
          <a:xfrm>
            <a:off x="1373040" y="763560"/>
            <a:ext cx="5026320" cy="3770280"/>
          </a:xfrm>
          <a:prstGeom prst="rect">
            <a:avLst/>
          </a:prstGeom>
          <a:ln w="0">
            <a:noFill/>
          </a:ln>
        </p:spPr>
      </p:sp>
      <p:sp>
        <p:nvSpPr>
          <p:cNvPr id="35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6F4997-853D-4151-8EB2-8AE8217303CA}"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9" name="PlaceHolder 1"/>
          <p:cNvSpPr>
            <a:spLocks noGrp="1"/>
          </p:cNvSpPr>
          <p:nvPr>
            <p:ph type="sldImg"/>
          </p:nvPr>
        </p:nvSpPr>
        <p:spPr>
          <a:xfrm>
            <a:off x="1373040" y="763560"/>
            <a:ext cx="5026320" cy="3770280"/>
          </a:xfrm>
          <a:prstGeom prst="rect">
            <a:avLst/>
          </a:prstGeom>
          <a:ln w="0">
            <a:noFill/>
          </a:ln>
        </p:spPr>
      </p:sp>
      <p:sp>
        <p:nvSpPr>
          <p:cNvPr id="36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B88AF8-6212-46F0-8F2B-E8E28D7B1267}"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2" name="PlaceHolder 1"/>
          <p:cNvSpPr>
            <a:spLocks noGrp="1"/>
          </p:cNvSpPr>
          <p:nvPr>
            <p:ph type="sldImg"/>
          </p:nvPr>
        </p:nvSpPr>
        <p:spPr>
          <a:xfrm>
            <a:off x="1373040" y="763560"/>
            <a:ext cx="5026320" cy="3770280"/>
          </a:xfrm>
          <a:prstGeom prst="rect">
            <a:avLst/>
          </a:prstGeom>
          <a:ln w="0">
            <a:noFill/>
          </a:ln>
        </p:spPr>
      </p:sp>
      <p:sp>
        <p:nvSpPr>
          <p:cNvPr id="36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40B79C-C073-490F-BCF9-16DC68B8916D}"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5" name="PlaceHolder 1"/>
          <p:cNvSpPr>
            <a:spLocks noGrp="1"/>
          </p:cNvSpPr>
          <p:nvPr>
            <p:ph type="sldImg"/>
          </p:nvPr>
        </p:nvSpPr>
        <p:spPr>
          <a:xfrm>
            <a:off x="1373040" y="763560"/>
            <a:ext cx="5026320" cy="3770280"/>
          </a:xfrm>
          <a:prstGeom prst="rect">
            <a:avLst/>
          </a:prstGeom>
          <a:ln w="0">
            <a:noFill/>
          </a:ln>
        </p:spPr>
      </p:sp>
      <p:sp>
        <p:nvSpPr>
          <p:cNvPr id="36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8DDDFF-BE2F-408F-A7C9-40302E517859}"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8" name="PlaceHolder 1"/>
          <p:cNvSpPr>
            <a:spLocks noGrp="1"/>
          </p:cNvSpPr>
          <p:nvPr>
            <p:ph type="sldImg"/>
          </p:nvPr>
        </p:nvSpPr>
        <p:spPr>
          <a:xfrm>
            <a:off x="1373040" y="763560"/>
            <a:ext cx="5026320" cy="3770280"/>
          </a:xfrm>
          <a:prstGeom prst="rect">
            <a:avLst/>
          </a:prstGeom>
          <a:ln w="0">
            <a:noFill/>
          </a:ln>
        </p:spPr>
      </p:sp>
      <p:sp>
        <p:nvSpPr>
          <p:cNvPr id="36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A1FCC5-32CB-4D2A-B0AA-E0A39F37B24C}"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6" name="PlaceHolder 1"/>
          <p:cNvSpPr>
            <a:spLocks noGrp="1"/>
          </p:cNvSpPr>
          <p:nvPr>
            <p:ph type="sldImg"/>
          </p:nvPr>
        </p:nvSpPr>
        <p:spPr>
          <a:xfrm>
            <a:off x="1371600" y="763560"/>
            <a:ext cx="5029200" cy="3772080"/>
          </a:xfrm>
          <a:prstGeom prst="rect">
            <a:avLst/>
          </a:prstGeom>
          <a:ln w="0">
            <a:noFill/>
          </a:ln>
        </p:spPr>
      </p:sp>
      <p:sp>
        <p:nvSpPr>
          <p:cNvPr id="32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70F41B-6971-4916-A017-8E53201DFC0C}"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9" name="PlaceHolder 1"/>
          <p:cNvSpPr>
            <a:spLocks noGrp="1"/>
          </p:cNvSpPr>
          <p:nvPr>
            <p:ph type="sldImg"/>
          </p:nvPr>
        </p:nvSpPr>
        <p:spPr>
          <a:xfrm>
            <a:off x="1373040" y="763560"/>
            <a:ext cx="5026320" cy="3770280"/>
          </a:xfrm>
          <a:prstGeom prst="rect">
            <a:avLst/>
          </a:prstGeom>
          <a:ln w="0">
            <a:noFill/>
          </a:ln>
        </p:spPr>
      </p:sp>
      <p:sp>
        <p:nvSpPr>
          <p:cNvPr id="33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8038B7-6B00-4020-BBCC-12D7A3B96946}"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2" name="PlaceHolder 1"/>
          <p:cNvSpPr>
            <a:spLocks noGrp="1"/>
          </p:cNvSpPr>
          <p:nvPr>
            <p:ph type="sldImg"/>
          </p:nvPr>
        </p:nvSpPr>
        <p:spPr>
          <a:xfrm>
            <a:off x="1373040" y="763560"/>
            <a:ext cx="5026320" cy="3770280"/>
          </a:xfrm>
          <a:prstGeom prst="rect">
            <a:avLst/>
          </a:prstGeom>
          <a:ln w="0">
            <a:noFill/>
          </a:ln>
        </p:spPr>
      </p:sp>
      <p:sp>
        <p:nvSpPr>
          <p:cNvPr id="33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C13123-F18F-4FED-BDAF-C3AB315ED274}"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5" name="PlaceHolder 1"/>
          <p:cNvSpPr>
            <a:spLocks noGrp="1"/>
          </p:cNvSpPr>
          <p:nvPr>
            <p:ph type="sldImg"/>
          </p:nvPr>
        </p:nvSpPr>
        <p:spPr>
          <a:xfrm>
            <a:off x="1373040" y="763560"/>
            <a:ext cx="5026320" cy="3770280"/>
          </a:xfrm>
          <a:prstGeom prst="rect">
            <a:avLst/>
          </a:prstGeom>
          <a:ln w="0">
            <a:noFill/>
          </a:ln>
        </p:spPr>
      </p:sp>
      <p:sp>
        <p:nvSpPr>
          <p:cNvPr id="33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3A6146-55F5-4E1C-ABC8-4756E93E5653}"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8" name="PlaceHolder 1"/>
          <p:cNvSpPr>
            <a:spLocks noGrp="1"/>
          </p:cNvSpPr>
          <p:nvPr>
            <p:ph type="sldImg"/>
          </p:nvPr>
        </p:nvSpPr>
        <p:spPr>
          <a:xfrm>
            <a:off x="1373040" y="763560"/>
            <a:ext cx="5026320" cy="3770280"/>
          </a:xfrm>
          <a:prstGeom prst="rect">
            <a:avLst/>
          </a:prstGeom>
          <a:ln w="0">
            <a:noFill/>
          </a:ln>
        </p:spPr>
      </p:sp>
      <p:sp>
        <p:nvSpPr>
          <p:cNvPr id="33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901EF9-9988-4368-BA3C-93A50E4573BE}"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1" name="PlaceHolder 1"/>
          <p:cNvSpPr>
            <a:spLocks noGrp="1"/>
          </p:cNvSpPr>
          <p:nvPr>
            <p:ph type="sldImg"/>
          </p:nvPr>
        </p:nvSpPr>
        <p:spPr>
          <a:xfrm>
            <a:off x="1373040" y="763560"/>
            <a:ext cx="5026320" cy="3770280"/>
          </a:xfrm>
          <a:prstGeom prst="rect">
            <a:avLst/>
          </a:prstGeom>
          <a:ln w="0">
            <a:noFill/>
          </a:ln>
        </p:spPr>
      </p:sp>
      <p:sp>
        <p:nvSpPr>
          <p:cNvPr id="34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66B4E7-453E-4693-8E4B-B129ED0D00DA}"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4" name="PlaceHolder 1"/>
          <p:cNvSpPr>
            <a:spLocks noGrp="1"/>
          </p:cNvSpPr>
          <p:nvPr>
            <p:ph type="sldImg"/>
          </p:nvPr>
        </p:nvSpPr>
        <p:spPr>
          <a:xfrm>
            <a:off x="1373040" y="763560"/>
            <a:ext cx="5026320" cy="3770280"/>
          </a:xfrm>
          <a:prstGeom prst="rect">
            <a:avLst/>
          </a:prstGeom>
          <a:ln w="0">
            <a:noFill/>
          </a:ln>
        </p:spPr>
      </p:sp>
      <p:sp>
        <p:nvSpPr>
          <p:cNvPr id="34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DF3861-ECAA-43C5-8F53-7AC9CEC2AB04}"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7" name="PlaceHolder 1"/>
          <p:cNvSpPr>
            <a:spLocks noGrp="1"/>
          </p:cNvSpPr>
          <p:nvPr>
            <p:ph type="sldImg"/>
          </p:nvPr>
        </p:nvSpPr>
        <p:spPr>
          <a:xfrm>
            <a:off x="1373040" y="763560"/>
            <a:ext cx="5026320" cy="3770280"/>
          </a:xfrm>
          <a:prstGeom prst="rect">
            <a:avLst/>
          </a:prstGeom>
          <a:ln w="0">
            <a:noFill/>
          </a:ln>
        </p:spPr>
      </p:sp>
      <p:sp>
        <p:nvSpPr>
          <p:cNvPr id="34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E50FC-C50C-404D-8E83-6780FEA29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76663-C9B3-470E-BF3E-B0815B34B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DF9C8-C283-4C0F-BF87-85CABC91A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3397E-883F-4F06-9849-4B5374A15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40CB3-7801-4D69-A2E1-2961A8646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1F874-BBC2-4C2C-AC2C-95C8D5663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E8727-D4DE-42D6-8FD0-CA9A6E18D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14BD7-5709-4E69-82D5-C698BE9BA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35591-B689-4808-ADD6-9F00A0DD1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91EBA-353E-4EC4-99EF-25D65F16D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31548-587E-4C62-99DE-89BC8CE6E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7DC32-7493-4365-AAFB-0E7B575C3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79456-715C-46AC-8996-96C11F21B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94056-27F5-4FF0-A55A-2284926AC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E7663-D51E-4FE5-95C9-8100EB31A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D5A92-EED2-4974-8DBE-1162C3FF3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10F59-2713-4729-9C3D-996849114E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A17E56-FBA1-4968-994E-C1A6335DF4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C3FA7-81CA-4652-BFAC-ACA859A2F0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82DBA-D5F7-49DE-B3BC-9E461CD2A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CC1AED-BD31-4C93-9A48-EA7D9EBB3B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2CA0D-D0BA-47B7-9C45-9A53D5A52A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E36C3-CB09-434E-92F2-E5DB01A42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EBC56-5330-4586-8D12-3816CA4A3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3159C-9B34-4B13-96B8-0C2E60695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440AF-9149-48B1-8B7B-76181225C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3BB95C-0C1D-4AD1-B49C-7A5011A66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D35ACC-3642-49FA-9DF3-62975A60ED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834543-7044-4C0B-B544-C9D43E40FD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BF9639-DF5A-4DCB-9BBB-BB8826B393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F830ED-9DF1-459E-B5CD-AEB03F739D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C76C2E-B7DB-40BF-A6CF-93A3AD13C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52076C-BBC0-43E4-9268-A325BC95D5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6CC23-D247-4742-B0FC-9E1E9B970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654D64-DFE4-49DD-8A34-A7B79531E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EA3352-394B-43C0-AF5B-0550D0AB0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A277CA-B6C9-4D5B-B3CD-589D2F0012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FF999-24D5-4104-A225-112D5482B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32BD2-1997-484D-8EFD-2E33AA6D3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271E5-6B3E-42CC-9555-B6DBBEFDCD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DB4094-5147-468F-9249-AD7F66FDC9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DBFA43-204A-4524-B468-0DB0AC7514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7D5B98-B46A-457B-A272-E9D33C53D4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1684EA-E029-4B4E-B171-EF56D242B6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6F7EF-5B18-4982-8D90-BF2334AAD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06BE77-E595-4A94-A03C-DF61610CC1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0AAC30-86E0-475E-BF49-98C09948A4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61507D-A15E-4B92-8B1B-5F756F745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CC7E23-B77D-439A-9A36-428AA5CE8B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33DE2E-7818-4F3E-A4B8-15DD40929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A51B44-5665-43C7-8B59-16EAA3DAF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61FDC4-B1B7-4FB7-9F27-876963B0E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50201-8E69-4CA3-984B-D13447D9FE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05F8EA-7B33-4C71-B809-F05AA7D8D3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7CA7F5-2D48-4C9A-8BFD-D3726947BB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43FA9-E18E-4F82-9E62-56582ECED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0C369D-656F-47B2-B78A-C95A0C83EF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30BEB-3B10-49B1-A415-033FEAB99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049B4-0DFD-46FE-AE7B-3A5B32693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66B7B-C636-4C8B-AD57-E7861EF65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 name="8 Rectángulo redondeado"/>
          <p:cNvGrpSpPr/>
          <p:nvPr/>
        </p:nvGrpSpPr>
        <p:grpSpPr>
          <a:xfrm>
            <a:off x="420840" y="433440"/>
            <a:ext cx="8302320" cy="5486400"/>
            <a:chOff x="420840" y="433440"/>
            <a:chExt cx="8302320" cy="5486400"/>
          </a:xfrm>
        </p:grpSpPr>
        <p:pic>
          <p:nvPicPr>
            <p:cNvPr id="2" name="8 Rectángulo redondeado"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A38E52-8E54-49E3-9E2E-80483AFFBD9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6" name="10 Rectángulo redondeado"/>
          <p:cNvGrpSpPr/>
          <p:nvPr/>
        </p:nvGrpSpPr>
        <p:grpSpPr>
          <a:xfrm>
            <a:off x="420840" y="433440"/>
            <a:ext cx="8302320" cy="3108240"/>
            <a:chOff x="420840" y="433440"/>
            <a:chExt cx="8302320" cy="3108240"/>
          </a:xfrm>
        </p:grpSpPr>
        <p:pic>
          <p:nvPicPr>
            <p:cNvPr id="47" name="10 Rectángulo redondeado"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F0C0C37-03B6-4058-90FD-A43AF63B1088}"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91" name="10 Rectángulo redondeado"/>
          <p:cNvGrpSpPr/>
          <p:nvPr/>
        </p:nvGrpSpPr>
        <p:grpSpPr>
          <a:xfrm>
            <a:off x="420840" y="433440"/>
            <a:ext cx="8302320" cy="4340160"/>
            <a:chOff x="420840" y="433440"/>
            <a:chExt cx="8302320" cy="4340160"/>
          </a:xfrm>
        </p:grpSpPr>
        <p:pic>
          <p:nvPicPr>
            <p:cNvPr id="92" name="10 Rectángulo redondeado"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DFE1DBB-9C1D-467A-BC8F-6AA999E020F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AA71D9-07B9-4A37-99EC-D4A77943CB18}"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custGeom>
            <a:avLst/>
            <a:gdLst/>
            <a:ahLst/>
            <a:rect l="l" t="t" r="r" b="b"/>
            <a:pathLst>
              <a:path w="2324605" h="4343400">
                <a:moveTo>
                  <a:pt x="0" y="0"/>
                </a:moveTo>
                <a:lnTo>
                  <a:pt x="2260725" y="0"/>
                </a:lnTo>
                <a:cubicBezTo>
                  <a:pt x="2296005" y="0"/>
                  <a:pt x="2324605" y="28600"/>
                  <a:pt x="2324605" y="63880"/>
                </a:cubicBezTo>
                <a:lnTo>
                  <a:pt x="2324605"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C3D083D-B2F2-42B9-B446-6BF5056DEEF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1"/>
          <p:cNvSpPr/>
          <p:nvPr/>
        </p:nvSpPr>
        <p:spPr>
          <a:xfrm>
            <a:off x="755640" y="1773360"/>
            <a:ext cx="7769160" cy="1654200"/>
          </a:xfrm>
          <a:custGeom>
            <a:avLst/>
            <a:gdLst>
              <a:gd name="textAreaLeft" fmla="*/ 0 w 7769160"/>
              <a:gd name="textAreaRight" fmla="*/ 7769520 w 7769160"/>
              <a:gd name="textAreaTop" fmla="*/ 0 h 1654200"/>
              <a:gd name="textAreaBottom" fmla="*/ 1654560 h 1654200"/>
            </a:gdLst>
            <a:ahLst/>
            <a:rect l="textAreaLeft" t="textAreaTop" r="textAreaRight" b="textAreaBottom"/>
            <a:pathLst>
              <a:path w="7769225" h="1654175">
                <a:moveTo>
                  <a:pt x="0" y="0"/>
                </a:moveTo>
                <a:lnTo>
                  <a:pt x="21584" y="0"/>
                </a:lnTo>
                <a:lnTo>
                  <a:pt x="21584" y="4595"/>
                </a:lnTo>
                <a:lnTo>
                  <a:pt x="0" y="4595"/>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8" name="AutoShape 2"/>
          <p:cNvSpPr/>
          <p:nvPr/>
        </p:nvSpPr>
        <p:spPr>
          <a:xfrm>
            <a:off x="722160" y="3684600"/>
            <a:ext cx="7769520" cy="1973160"/>
          </a:xfrm>
          <a:custGeom>
            <a:avLst/>
            <a:gdLst>
              <a:gd name="textAreaLeft" fmla="*/ 0 w 7769520"/>
              <a:gd name="textAreaRight" fmla="*/ 7769880 w 7769520"/>
              <a:gd name="textAreaTop" fmla="*/ 0 h 1973160"/>
              <a:gd name="textAreaBottom" fmla="*/ 1973520 h 1973160"/>
            </a:gdLst>
            <a:ahLst/>
            <a:rect l="textAreaLeft" t="textAreaTop" r="textAreaRight" b="textAreaBottom"/>
            <a:pathLst>
              <a:path w="7769225" h="1973262">
                <a:moveTo>
                  <a:pt x="0" y="0"/>
                </a:moveTo>
                <a:lnTo>
                  <a:pt x="21584" y="0"/>
                </a:lnTo>
                <a:lnTo>
                  <a:pt x="21584" y="5483"/>
                </a:lnTo>
                <a:lnTo>
                  <a:pt x="0" y="5483"/>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29" name="Picture 3" descr=""/>
          <p:cNvPicPr/>
          <p:nvPr/>
        </p:nvPicPr>
        <p:blipFill>
          <a:blip r:embed="rId1"/>
          <a:stretch/>
        </p:blipFill>
        <p:spPr>
          <a:xfrm>
            <a:off x="468360" y="2708280"/>
            <a:ext cx="3298680" cy="2798640"/>
          </a:xfrm>
          <a:prstGeom prst="rect">
            <a:avLst/>
          </a:prstGeom>
          <a:ln w="0">
            <a:noFill/>
          </a:ln>
        </p:spPr>
      </p:pic>
      <p:sp>
        <p:nvSpPr>
          <p:cNvPr id="230" name="PlaceHolder 1"/>
          <p:cNvSpPr>
            <a:spLocks noGrp="1"/>
          </p:cNvSpPr>
          <p:nvPr>
            <p:ph type="title"/>
          </p:nvPr>
        </p:nvSpPr>
        <p:spPr>
          <a:xfrm>
            <a:off x="685800" y="836280"/>
            <a:ext cx="7772400" cy="1469880"/>
          </a:xfrm>
          <a:prstGeom prst="rect">
            <a:avLst/>
          </a:prstGeom>
          <a:noFill/>
          <a:ln w="0">
            <a:noFill/>
          </a:ln>
        </p:spPr>
        <p:txBody>
          <a:bodyPr lIns="45720" rIns="45720" t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100" spc="-1" strike="noStrike">
                <a:solidFill>
                  <a:srgbClr val="2f5897"/>
                </a:solidFill>
                <a:latin typeface="Palatino Linotype"/>
              </a:rPr>
              <a:t>Derecho Penal III Parte especial</a:t>
            </a:r>
            <a:br>
              <a:rPr sz="4100"/>
            </a:br>
            <a:endParaRPr b="1" lang="en-US" sz="4100" spc="-1" strike="noStrike">
              <a:solidFill>
                <a:srgbClr val="ff8d3e"/>
              </a:solidFill>
              <a:latin typeface="Verdana"/>
            </a:endParaRPr>
          </a:p>
        </p:txBody>
      </p:sp>
      <p:sp>
        <p:nvSpPr>
          <p:cNvPr id="231"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 </a:t>
            </a:r>
            <a:r>
              <a:rPr b="0" lang="es-CL" sz="1400" spc="-1" strike="noStrike">
                <a:solidFill>
                  <a:srgbClr val="8b8b8b"/>
                </a:solidFill>
                <a:latin typeface="Century Gothic"/>
              </a:rPr>
              <a:t>Profesor: Germán Ovalle Madrid</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Ayudantes:</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Bárbara Sepúlveda.</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Héctor Anabalón.</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Otoño 2013</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endParaRPr b="0"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8"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5897"/>
                </a:solidFill>
                <a:latin typeface="Palatino Linotype"/>
              </a:rPr>
              <a:t>Falsedades Documentales</a:t>
            </a:r>
            <a:br>
              <a:rPr sz="2200"/>
            </a:br>
            <a:br>
              <a:rPr sz="2200"/>
            </a:br>
            <a:endParaRPr b="1" lang="en-US" sz="2200" spc="-1" strike="noStrike">
              <a:solidFill>
                <a:srgbClr val="ff8d3e"/>
              </a:solidFill>
              <a:latin typeface="Verdana"/>
            </a:endParaRPr>
          </a:p>
        </p:txBody>
      </p:sp>
      <p:sp>
        <p:nvSpPr>
          <p:cNvPr id="270" name=""/>
          <p:cNvSpPr txBox="1"/>
          <p:nvPr/>
        </p:nvSpPr>
        <p:spPr>
          <a:xfrm>
            <a:off x="457200" y="1604520"/>
            <a:ext cx="8045280" cy="468180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legislador prohíbe determinadas adulteraciones que ponen en peligro la confianza de los ciudadanos en la autenticidad de terminados signo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Los ciudadanos no tienen la obligación jurídica de decir la verdad, salvo los funcionarios públicos en determinados ámbitos, en el ejercicio de su cargo y dentro de la esfera de sus atribucione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Sin embargo, el legislador se ha preocupado que determinadas adulteraciones no pongan en peligro la fe pública, sin perjuicio de que otras figuras protegen más bien el patrimoni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Concepto de documento del legislador penal: objeto material sobre el cual recae la acción de falsificación.</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CP emplea indistintamente los conceptos de documento e instrumento, aunque doctrinariamente se entiende al documento en sentido amplio como todo objeto creación del hombre a través del cual se hace constar un hecho de trascendencia jurídica con pretensiones de permanencia (esta es la opinión de Etcheberry).</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2"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
          <p:cNvSpPr txBox="1"/>
          <p:nvPr/>
        </p:nvSpPr>
        <p:spPr>
          <a:xfrm>
            <a:off x="457200" y="620640"/>
            <a:ext cx="8045280" cy="559440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concepto de instrumento tendría un sentido más restringido (papel) y el de documento sería más amplio (cualquier objeto).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CP distingue para efectos de los tipos de falsificación:</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úblico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rivado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Los documentos públicos deben entenderse en sentido normativo conforme al Art. 1699 del CC y de los Arts. 342 y 345 del CPC.</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concepto de documento privado es de carácter residual, englobando toda clase de documento que no sea público u oficial.  Pueden ser:</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rivados propiamente tale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rivados mercantile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Para efectos de la tipificación hay casos en los que el CP regula ciertos documentos específicos en cuyo caso no se distingue entre documento privado o público.  La doctrina ha llamado a estos documentos específicos tipificados “documentos especiales”.  </a:t>
            </a: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9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9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5"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
          <p:cNvSpPr txBox="1"/>
          <p:nvPr/>
        </p:nvSpPr>
        <p:spPr>
          <a:xfrm>
            <a:off x="457200" y="549360"/>
            <a:ext cx="8045280" cy="503064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000000"/>
                </a:solidFill>
                <a:latin typeface="Century Gothic"/>
              </a:rPr>
              <a:t>Clases de Falsedade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7f7f7f"/>
                </a:solidFill>
                <a:latin typeface="Century Gothic"/>
              </a:rPr>
              <a:t>Falsedad Material: Confección de un documento en apariencia igual al verdadero o adulteración de un documento verdadero o auténtico alterando su materialidad. Sigue rigiendo el principio de que la adulteración o imitación tiene que ser hecha para que induzca a error (idoneidad), de lo contrario no puede llevar a alguien a engaño y por lo tanto no habría delito.</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7f7f7f"/>
                </a:solidFill>
                <a:latin typeface="Century Gothic"/>
              </a:rPr>
              <a:t>Falsedad Ideológica: Siempre requiere un sujeto activo calificado al que la ley le impone la obligación de ser veraz. Para que se configure, el sujeto activo calificado debe mentir en relación a las constancias que debe dejar en un instrumento público o faltar a la verdad respecto del contenido del documento al momento de otorgarlo.</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7f7f7f"/>
                </a:solidFill>
                <a:latin typeface="Century Gothic"/>
              </a:rPr>
              <a:t>Falsedad por Ocultación: No es falsificación propiamente tal pero la ley homologa a la falsedad la ocultación de la existencia de un documento auténtico. La ley exige que la ocultación cause perjuicio.</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7f7f7f"/>
                </a:solidFill>
                <a:latin typeface="Century Gothic"/>
              </a:rPr>
              <a:t> </a:t>
            </a:r>
            <a:r>
              <a:rPr b="1" lang="es-ES" sz="1600" spc="-1" strike="noStrike">
                <a:solidFill>
                  <a:srgbClr val="7f7f7f"/>
                </a:solidFill>
                <a:latin typeface="Century Gothic"/>
              </a:rPr>
              <a:t>Falsedad por Uso. Tampoco es una falsificación pero la ley asimila el uso malicioso del documento falso a la falsedad misma.</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s-ES" sz="2200" spc="-1" strike="noStrike">
                <a:solidFill>
                  <a:srgbClr val="2f5897"/>
                </a:solidFill>
                <a:latin typeface="Palatino Linotype"/>
              </a:rPr>
              <a:t>I. Falsificación de Documentos Públicos.</a:t>
            </a:r>
            <a:br>
              <a:rPr sz="2200"/>
            </a:br>
            <a:br>
              <a:rPr sz="2200"/>
            </a:br>
            <a:br>
              <a:rPr sz="2200"/>
            </a:br>
            <a:endParaRPr b="1" lang="en-US" sz="2200" spc="-1" strike="noStrike">
              <a:solidFill>
                <a:srgbClr val="ff8d3e"/>
              </a:solidFill>
              <a:latin typeface="Verdana"/>
            </a:endParaRPr>
          </a:p>
        </p:txBody>
      </p:sp>
      <p:sp>
        <p:nvSpPr>
          <p:cNvPr id="280" name=""/>
          <p:cNvSpPr txBox="1"/>
          <p:nvPr/>
        </p:nvSpPr>
        <p:spPr>
          <a:xfrm>
            <a:off x="457200" y="1604520"/>
            <a:ext cx="8045280" cy="468180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Se regula en los Arts. 193, 194 y 196.  El Art. 195 se refiere a un documento especial “partes telegráficos”.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Se comprenden:</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úblico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Oficiale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 Especial “parte telegráfic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Conducta típica: Tiene distintas modalidade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U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Art. 193 Falsificación Cometida por Empleado Público. (Art. 443 COT).</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t-BR" sz="1600" spc="-1" strike="noStrike">
                <a:solidFill>
                  <a:srgbClr val="808080"/>
                </a:solidFill>
                <a:latin typeface="Century Gothic"/>
              </a:rPr>
              <a:t>	</a:t>
            </a:r>
            <a:r>
              <a:rPr b="1" lang="pt-BR" sz="1600" spc="-1" strike="noStrike">
                <a:solidFill>
                  <a:srgbClr val="808080"/>
                </a:solidFill>
                <a:latin typeface="Century Gothic"/>
              </a:rPr>
              <a:t>	</a:t>
            </a:r>
            <a:r>
              <a:rPr b="1" lang="pt-BR" sz="1600" spc="-1" strike="noStrike">
                <a:solidFill>
                  <a:srgbClr val="808080"/>
                </a:solidFill>
                <a:latin typeface="Century Gothic"/>
              </a:rPr>
              <a:t>1. Art. 193 Nº 1: Contrahacer o fingir letra, firma o rúbrica. </a:t>
            </a:r>
            <a:r>
              <a:rPr b="1" lang="es-ES" sz="1600" spc="-1" strike="noStrike">
                <a:solidFill>
                  <a:srgbClr val="808080"/>
                </a:solidFill>
                <a:latin typeface="Century Gothic"/>
              </a:rPr>
              <a:t>Contrahacer o fingir son sinónimos pero no significan lo mismo, contrahacer se refiere a imitar una escritura o firma verdadera y fingir es inventar una firma que no existe.</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
          <p:cNvSpPr txBox="1"/>
          <p:nvPr/>
        </p:nvSpPr>
        <p:spPr>
          <a:xfrm>
            <a:off x="457200" y="1125360"/>
            <a:ext cx="8045280" cy="4454640"/>
          </a:xfrm>
          <a:prstGeom prst="rect">
            <a:avLst/>
          </a:prstGeom>
          <a:noFill/>
          <a:ln w="0">
            <a:noFill/>
          </a:ln>
        </p:spPr>
        <p:txBody>
          <a:bodyPr lIns="182880" rIns="90000" tIns="91440" bIns="46800" anchor="t">
            <a:normAutofit/>
          </a:bodyPr>
          <a:p>
            <a:pPr marL="264960" indent="-264960" algn="just">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Verdana"/>
              </a:rPr>
              <a:t>	</a:t>
            </a:r>
            <a:r>
              <a:rPr b="1" lang="es-ES" sz="1600" spc="-1" strike="noStrike">
                <a:solidFill>
                  <a:srgbClr val="808080"/>
                </a:solidFill>
                <a:latin typeface="Verdana"/>
              </a:rPr>
              <a:t>	</a:t>
            </a:r>
            <a:r>
              <a:rPr b="1" lang="es-ES" sz="1600" spc="-1" strike="noStrike">
                <a:solidFill>
                  <a:srgbClr val="808080"/>
                </a:solidFill>
                <a:latin typeface="Verdana"/>
              </a:rPr>
              <a:t>2. Art. 193 Nº 2: Suponer en el acto la intervención de personas que realmente no han intervenido en él. Se refiere a personas naturales y no a personas jurídicas. No se trata de inventar o crear la intervención de personas imaginarias sino suponer que han intervenido en el acto personas de carne y hueso que existen pero que en ese acto no han intervenido.</a:t>
            </a:r>
            <a:endParaRPr b="0" lang="en-US" sz="1600" spc="-1" strike="noStrike">
              <a:solidFill>
                <a:srgbClr val="000000"/>
              </a:solidFill>
              <a:latin typeface="Verdana"/>
            </a:endParaRPr>
          </a:p>
          <a:p>
            <a:pPr marL="264960" indent="-264960" algn="just">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Verdana"/>
              </a:rPr>
              <a:t>	</a:t>
            </a:r>
            <a:r>
              <a:rPr b="1" lang="es-ES" sz="1600" spc="-1" strike="noStrike">
                <a:solidFill>
                  <a:srgbClr val="808080"/>
                </a:solidFill>
                <a:latin typeface="Verdana"/>
              </a:rPr>
              <a:t>	</a:t>
            </a:r>
            <a:r>
              <a:rPr b="1" lang="es-ES" sz="1600" spc="-1" strike="noStrike">
                <a:solidFill>
                  <a:srgbClr val="808080"/>
                </a:solidFill>
                <a:latin typeface="Verdana"/>
              </a:rPr>
              <a:t>3. Art. 193 Nº 3: Atribuir a los que han intervenido en el documento declaraciones o manifestaciones distintas a las que efectivamente han hecho. Es el caso típico de los tipos de falsedad ideológica y por lo tanto solamente puede incurrir en ella un funcionario o autoridad pública que tenga obligación de ser veraz. La declaración alterada debe ser de importancia para cambiarle el sentido al documento.</a:t>
            </a:r>
            <a:endParaRPr b="0" lang="en-US" sz="1600" spc="-1" strike="noStrike">
              <a:solidFill>
                <a:srgbClr val="000000"/>
              </a:solidFill>
              <a:latin typeface="Verdana"/>
            </a:endParaRPr>
          </a:p>
          <a:p>
            <a:pPr marL="264960" indent="-264960" algn="just">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
          <p:cNvSpPr txBox="1"/>
          <p:nvPr/>
        </p:nvSpPr>
        <p:spPr>
          <a:xfrm>
            <a:off x="428760" y="1000080"/>
            <a:ext cx="8045280" cy="4896000"/>
          </a:xfrm>
          <a:prstGeom prst="rect">
            <a:avLst/>
          </a:prstGeom>
          <a:noFill/>
          <a:ln w="0">
            <a:noFill/>
          </a:ln>
        </p:spPr>
        <p:txBody>
          <a:bodyPr lIns="182880" rIns="90000" tIns="91440" bIns="46800" anchor="t">
            <a:normAutofit/>
          </a:bodyPr>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4. Art. 193 Nº 4: Faltar a la verdad en la narración de hechos sustantivos. Es una hipótesis de falsedad ideológica de modo que solo puede cometerse por un funcionario público. El tipo penal exige que no se trate de cualquier alteración de la realidad sino aquella que tenga relevancia jurídica.</a:t>
            </a: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5. Art. 193 Nº 5: Alterar las fechas verdaderas. Puede tratarse de una falsedad material o ideológica. La alteración de las fechas debe ser idónea para cambiar el sentido del documento, es decir, si no tiene trascendencia alguna no se da la hipótesis del Nº 5 y sería una alteración intrascendente.</a:t>
            </a: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6. Art. 193 Nº 6: Hacer en documento auténtico cualquier alteración o intercalación que varíe su sentido. Es una cláusula residual y es la hipótesis típica de falsedad material. Conforme al Art. 428 del COT las alteraciones o interlineados que se hagan deben llevar la frase “lo enmendado vale” al final del documento, pudiendo modificarse cualquier cosa.  El CP no se refiere a estas alteraciones o interlineados, sino que a aquellas que se hacen en un documento auténtico procurando que parezcan verdaderas sin que aquel que tenga que autorizar la enmendadura lo haga o bien imitando la tipología de la letra para que parezca de verdad.  Las declaraciones ostensibles y salvadas no caen en esta hipótesis por el Art. 428 del COT antes mencionado.</a:t>
            </a: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txBox="1"/>
          <p:nvPr/>
        </p:nvSpPr>
        <p:spPr>
          <a:xfrm>
            <a:off x="457200" y="798120"/>
            <a:ext cx="8045280" cy="5630760"/>
          </a:xfrm>
          <a:prstGeom prst="rect">
            <a:avLst/>
          </a:prstGeom>
          <a:noFill/>
          <a:ln w="0">
            <a:noFill/>
          </a:ln>
        </p:spPr>
        <p:txBody>
          <a:bodyPr lIns="182880" rIns="90000" tIns="91440" bIns="46800" anchor="t">
            <a:normAutofit/>
          </a:bodyPr>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7. Art. 193 Nº 7: Dar copia en forma fehaciente de un documento supuesto o manifestando en esa copia algo contrario o diferente a lo que se contenga en el documento original. Se trata de una falsedad ideológica y solo puede cometerla un funcionario que dentro de la esfera de sus atribuciones tiene encargado otorgar o entregar copias. Este numeral contiene dos hipótesis:</a:t>
            </a:r>
            <a:endParaRPr b="0" lang="en-US" sz="1600" spc="-1" strike="noStrike">
              <a:solidFill>
                <a:srgbClr val="000000"/>
              </a:solidFill>
              <a:latin typeface="Verdana"/>
            </a:endParaRPr>
          </a:p>
          <a:p>
            <a:pPr marL="216000" indent="-216000" algn="just">
              <a:lnSpc>
                <a:spcPct val="100000"/>
              </a:lnSpc>
              <a:spcBef>
                <a:spcPts val="249"/>
              </a:spcBef>
              <a:buClr>
                <a:srgbClr val="808080"/>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ar copia de un documento imaginario: hacer como que había un documento real que no existe.  La copia será íntegramente falsa.</a:t>
            </a:r>
            <a:endParaRPr b="0" lang="en-US" sz="1600" spc="-1" strike="noStrike">
              <a:solidFill>
                <a:srgbClr val="000000"/>
              </a:solidFill>
              <a:latin typeface="Verdana"/>
            </a:endParaRPr>
          </a:p>
          <a:p>
            <a:pPr marL="216000" indent="-216000" algn="just">
              <a:lnSpc>
                <a:spcPct val="100000"/>
              </a:lnSpc>
              <a:spcBef>
                <a:spcPts val="249"/>
              </a:spcBef>
              <a:buClr>
                <a:srgbClr val="808080"/>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Entregar copia de un documento que sí existe pero en ella se altera su texto o tenor: para que sea punible la modificación tiene que ser sustancial ya que el documento tiene que variar su sentido original.  Por ejemplo suprimir parte del texto original o hacerle agregado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8. Art. 193 Nº 8: Ocultar en perjuicio del Estado o de un particular cualquier documento oficial. Esta es una falsedad por ocultación y no requiere un sujeto activo calificado pudiendo ser un particular o un funcionario público. Alude a documentos oficiales (no a documentos públicos o privados), es decir, aquellos cuya custodia corresponde al funcionario público o que este haya intervenido con alguna mención en su otorgamiento (es un sentido amplio).</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100000"/>
              </a:lnSpc>
              <a:spcBef>
                <a:spcPts val="249"/>
              </a:spcBef>
              <a:buClr>
                <a:srgbClr val="808080"/>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gn="just">
              <a:lnSpc>
                <a:spcPct val="100000"/>
              </a:lnSpc>
              <a:spcBef>
                <a:spcPts val="249"/>
              </a:spcBef>
              <a:buClr>
                <a:srgbClr val="f07f09"/>
              </a:buClr>
              <a:buSzPct val="80000"/>
              <a:buFont typeface="Century Gothic"/>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entury Gothic"/>
              </a:rPr>
              <a:t>Art. 194 Falsificación Cometida por Particular</a:t>
            </a:r>
            <a:endParaRPr b="0" lang="en-US" sz="1600" spc="-1" strike="noStrike">
              <a:solidFill>
                <a:srgbClr val="000000"/>
              </a:solidFill>
              <a:latin typeface="Verdana"/>
            </a:endParaRPr>
          </a:p>
          <a:p>
            <a:pPr marL="264960" indent="-264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entury Gothic"/>
              </a:rPr>
              <a:t>Se refiere a particulares.  La doctrina es clara “la referencia no es absoluta, tienen que dejarse de lado todos los comportamientos que constituyan falsedad ideológica que serían las hipótesis de los Nºs 2, 3, 4 y 7 del Art. 193.</a:t>
            </a:r>
            <a:endParaRPr b="0" lang="en-US" sz="1600" spc="-1" strike="noStrike">
              <a:solidFill>
                <a:srgbClr val="000000"/>
              </a:solidFill>
              <a:latin typeface="Verdana"/>
            </a:endParaRPr>
          </a:p>
          <a:p>
            <a:pPr marL="264960" indent="-264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entury Gothic"/>
              </a:rPr>
              <a:t>La falsedad ideológica solo se sanciona cuando el legislador lo señale expresamente, por ejemplo el Art. 27 de la Ley Orgánica del Registro Civil 19.947 que sanciona al que suministre datos falsos en una escritura pública o documento público sobre un estado civil.</a:t>
            </a:r>
            <a:endParaRPr b="0" lang="en-US" sz="1600" spc="-1" strike="noStrike">
              <a:solidFill>
                <a:srgbClr val="000000"/>
              </a:solidFill>
              <a:latin typeface="Verdana"/>
            </a:endParaRPr>
          </a:p>
          <a:p>
            <a:pPr marL="264960" indent="-264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entury Gothic"/>
              </a:rPr>
              <a:t>Art. 27 Ley 19.947. El que en escritura pública suministrare maliciosamente datos falsos sobre un estado civil, sufrirá las penas que el Código Penal aplica al que faltare a la verdad en la narración de los hechos sustanciales en documentos público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2f5897"/>
              </a:solidFill>
              <a:latin typeface="Palatino Linotype"/>
              <a:ea typeface="Arial"/>
            </a:endParaRPr>
          </a:p>
        </p:txBody>
      </p:sp>
      <p:sp>
        <p:nvSpPr>
          <p:cNvPr id="292" name=""/>
          <p:cNvSpPr txBox="1"/>
          <p:nvPr/>
        </p:nvSpPr>
        <p:spPr>
          <a:xfrm>
            <a:off x="457200" y="1604520"/>
            <a:ext cx="8045280" cy="4776840"/>
          </a:xfrm>
          <a:prstGeom prst="rect">
            <a:avLst/>
          </a:prstGeom>
          <a:noFill/>
          <a:ln w="0">
            <a:noFill/>
          </a:ln>
        </p:spPr>
        <p:txBody>
          <a:bodyPr lIns="182880" rIns="90000" tIns="91440" bIns="4680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293" name="Picture 4" descr=""/>
          <p:cNvPicPr/>
          <p:nvPr/>
        </p:nvPicPr>
        <p:blipFill>
          <a:blip r:embed="rId1"/>
          <a:stretch/>
        </p:blipFill>
        <p:spPr>
          <a:xfrm>
            <a:off x="270000" y="487440"/>
            <a:ext cx="8550000" cy="603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29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u="sng">
                <a:solidFill>
                  <a:srgbClr val="000000"/>
                </a:solidFill>
                <a:uFillTx/>
                <a:latin typeface="Verdana"/>
              </a:rPr>
              <a:t>II Falsificación de Documentos Privado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código distingue la falsificación de documentos privados propiamente tales y la de documentos privados mercantile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Diferencias con la falsificación de documentos público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ste es un delito de resultado y no un delito de peligro.</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n atención al sujeto activo, este tipo de delitos son delitos comunes y no especiale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bien jurídico protegido es el patrimonio y solo secundariamente será la fe públ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3"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f5897"/>
                </a:solidFill>
                <a:latin typeface="Palatino Linotype"/>
                <a:ea typeface="Arial"/>
              </a:rPr>
              <a:t>Delitos De Falsedad</a:t>
            </a:r>
            <a:endParaRPr b="1" lang="en-US" sz="3600" spc="-1" strike="noStrike">
              <a:solidFill>
                <a:srgbClr val="ff8d3e"/>
              </a:solidFill>
              <a:latin typeface="Verdana"/>
            </a:endParaRPr>
          </a:p>
        </p:txBody>
      </p:sp>
      <p:sp>
        <p:nvSpPr>
          <p:cNvPr id="235" name=""/>
          <p:cNvSpPr txBox="1"/>
          <p:nvPr/>
        </p:nvSpPr>
        <p:spPr>
          <a:xfrm>
            <a:off x="457200" y="1604520"/>
            <a:ext cx="8045280" cy="4272120"/>
          </a:xfrm>
          <a:prstGeom prst="rect">
            <a:avLst/>
          </a:prstGeom>
          <a:noFill/>
          <a:ln w="0">
            <a:noFill/>
          </a:ln>
        </p:spPr>
        <p:txBody>
          <a:bodyPr lIns="182880" rIns="90000" tIns="91440" bIns="46800" anchor="t">
            <a:normAutofit/>
          </a:bodyPr>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Los delitos de falsedad están regulados en el Título 4º del Libro 2º del CP y de dividen en ocho párrafos que se refieren a variados objetos susceptibles de ser falsificados, por ejemplo la falsificación de monedas, documentos de crédito del Estado, sellos, punzones, matrices, marcas, papel sellado, timbres, estampillas, documentos públicos o auténticos, documentos privados, pasaportes, portes de armas y certificado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elemento común es el medio de comisión que es la falsedad, es decir, la ocultación o alteración de la verdad “faltar a la verdad”.</a:t>
            </a:r>
            <a:endParaRPr b="0" lang="en-US" sz="1600" spc="-1" strike="noStrike">
              <a:solidFill>
                <a:srgbClr val="000000"/>
              </a:solidFill>
              <a:latin typeface="Verdana"/>
            </a:endParaRPr>
          </a:p>
          <a:p>
            <a:pPr marL="216000" indent="-216000">
              <a:lnSpc>
                <a:spcPct val="100000"/>
              </a:lnSpc>
              <a:spcBef>
                <a:spcPts val="249"/>
              </a:spcBef>
              <a:buClr>
                <a:srgbClr val="808080"/>
              </a:buClr>
              <a:buSzPct val="8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nSpc>
                <a:spcPct val="100000"/>
              </a:lnSpc>
              <a:spcBef>
                <a:spcPts val="249"/>
              </a:spcBef>
              <a:buClr>
                <a:srgbClr val="808080"/>
              </a:buClr>
              <a:buSzPct val="8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297" name=""/>
          <p:cNvSpPr txBox="1"/>
          <p:nvPr/>
        </p:nvSpPr>
        <p:spPr>
          <a:xfrm>
            <a:off x="503280" y="529920"/>
            <a:ext cx="8183520" cy="5778360"/>
          </a:xfrm>
          <a:prstGeom prst="rect">
            <a:avLst/>
          </a:prstGeom>
          <a:noFill/>
          <a:ln w="0">
            <a:noFill/>
          </a:ln>
        </p:spPr>
        <p:txBody>
          <a:bodyPr lIns="182880" rIns="90000" tIns="91440" bIns="46800" anchor="t">
            <a:normAutofit/>
          </a:bodyPr>
          <a:p>
            <a:pPr lvl="1" marL="345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A Falsificación de Documentos Privados Propiamente Tales.</a:t>
            </a:r>
            <a:endParaRPr b="0" lang="en-US" sz="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197 Inciso 1º.</a:t>
            </a:r>
            <a:r>
              <a:rPr b="0" lang="es-ES" sz="900" spc="-1" strike="noStrike">
                <a:solidFill>
                  <a:srgbClr val="000000"/>
                </a:solidFill>
                <a:latin typeface="Verdana"/>
              </a:rPr>
              <a:t>  </a:t>
            </a:r>
            <a:r>
              <a:rPr b="0" i="1" lang="es-ES" sz="900" spc="-1" strike="noStrike">
                <a:solidFill>
                  <a:srgbClr val="000000"/>
                </a:solidFill>
                <a:latin typeface="Verdana"/>
              </a:rPr>
              <a:t>El que, con perjuicio de tercero, cometiere en instrumento privado alguna de las falsedades designadas en el artículo 193, sufrirá las penas de presidio menor en cualquiera de sus grados y multa de once a quince unidades tributarias mensuales, o sólo la primera de ellas según las circunstancia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Art. 197 hace referencia a las hipótesis del Art. 193 de lo cual pareciera que no se excluyere ninguna “…</a:t>
            </a:r>
            <a:r>
              <a:rPr b="1" i="1" lang="es-ES" sz="900" spc="-1" strike="noStrike">
                <a:solidFill>
                  <a:srgbClr val="000000"/>
                </a:solidFill>
                <a:latin typeface="Verdana"/>
              </a:rPr>
              <a:t>alguna</a:t>
            </a:r>
            <a:r>
              <a:rPr b="0" i="1" lang="es-ES" sz="900" spc="-1" strike="noStrike">
                <a:solidFill>
                  <a:srgbClr val="000000"/>
                </a:solidFill>
                <a:latin typeface="Verdana"/>
              </a:rPr>
              <a:t> de las falsedades designadas en el artículo 193…”</a:t>
            </a:r>
            <a:r>
              <a:rPr b="0" lang="es-ES" sz="900" spc="-1" strike="noStrike">
                <a:solidFill>
                  <a:srgbClr val="000000"/>
                </a:solidFill>
                <a:latin typeface="Verdana"/>
              </a:rPr>
              <a:t>.  Sin embargo, la doctrina señala que la referencia no es completa, de modo que hay algunas hipótesis que no serán punibles respecto de los documentos privados.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 entiende, por lo tanto, que la referencia es exclusivamente a las falsedades materiales porque las personas comunes no tienen la obligación de decir verdad.  Así mismo no se refiere al Nº 8 del Art. 193 porque la ocultación de documentos privados se sanciona como estafa en una disposición especial, a saber el Art. 470 Nº 5.</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No se refiere a la creación íntegra o forjamiento completo de un documento que por ese hecho va a ser falso en su totalidad, ya que siempre tiene que existir un documento real que debe ser adulterado o cambiado en su tenor o sentid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artículo habla de “</a:t>
            </a:r>
            <a:r>
              <a:rPr b="0" i="1" lang="es-ES" sz="900" spc="-1" strike="noStrike">
                <a:solidFill>
                  <a:srgbClr val="000000"/>
                </a:solidFill>
                <a:latin typeface="Verdana"/>
              </a:rPr>
              <a:t>El que, </a:t>
            </a:r>
            <a:r>
              <a:rPr b="1" i="1" lang="es-ES" sz="900" spc="-1" strike="noStrike">
                <a:solidFill>
                  <a:srgbClr val="000000"/>
                </a:solidFill>
                <a:latin typeface="Verdana"/>
              </a:rPr>
              <a:t>con perjuicio de tercero</a:t>
            </a:r>
            <a:r>
              <a:rPr b="0" i="1" lang="es-ES" sz="900" spc="-1" strike="noStrike">
                <a:solidFill>
                  <a:srgbClr val="000000"/>
                </a:solidFill>
                <a:latin typeface="Verdana"/>
              </a:rPr>
              <a:t>…”</a:t>
            </a:r>
            <a:r>
              <a:rPr b="0" lang="es-ES" sz="900" spc="-1" strike="noStrike">
                <a:solidFill>
                  <a:srgbClr val="000000"/>
                </a:solidFill>
                <a:latin typeface="Verdana"/>
              </a:rPr>
              <a:t>, de modo que el perjuicio será una exigencia típica.  Sin embargo, la doctrina discute el alcance de esta expresió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Pedro Ortiz y Rodríguez de Veza: dicen que se trata de una condición objetiva de punibilidad, de modo que no podrían darse etapas imperfectas.  En Chile esta posición es minoritaria.</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La mayoría de la doctrina dice que la falsificación de documento privado es delito de resultado o lesión.  Etcheberry reduce el perjuicio al ámbito económico, de modo que tendría que ser avaluable en términos pecuniarios.  En este sentido la falsificación de documento privado con perjuicio es una especie de fraude por lo cual requiere un perjuicio apreciable en dinero.  Si se sigue esta posición cabrían el delito tentado y la frustració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iendo el perjuicio un elemento del tipo no solo debe producirse respecto de la víctima (aquel que sufre el ejercicio de la acción típica) sino también puede tratarse de un tercer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Tipo Subjetivo: la doctrina dice que se puede cometer con dolo directo o con dolo eventual.  Sin embargo, igualmente, los elementos cognitivos y volitivos del dolo deben abarcar todos los elementos del tipo, es decir, también debe abarcarse la concreción de un perjuicio que puede recaer en la persona de la víctima o de un tercer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299" name=""/>
          <p:cNvSpPr txBox="1"/>
          <p:nvPr/>
        </p:nvSpPr>
        <p:spPr>
          <a:xfrm>
            <a:off x="503280" y="529920"/>
            <a:ext cx="8183520" cy="5707080"/>
          </a:xfrm>
          <a:prstGeom prst="rect">
            <a:avLst/>
          </a:prstGeom>
          <a:noFill/>
          <a:ln w="0">
            <a:noFill/>
          </a:ln>
        </p:spPr>
        <p:txBody>
          <a:bodyPr lIns="182880" rIns="90000" tIns="91440" bIns="46800" anchor="t">
            <a:normAutofit/>
          </a:bodyPr>
          <a:p>
            <a:pPr lvl="1" marL="345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B Falsificación de Documentos Privados Mercantiles.</a:t>
            </a:r>
            <a:endParaRPr b="0" lang="en-US" sz="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197 Inciso 2º.  </a:t>
            </a:r>
            <a:r>
              <a:rPr b="0" i="1" lang="es-ES" sz="900" spc="-1" strike="noStrike">
                <a:solidFill>
                  <a:srgbClr val="000000"/>
                </a:solidFill>
                <a:latin typeface="Verdana"/>
              </a:rPr>
              <a:t>Si tales falsedades se hubieren cometido en letras de cambio u otra clase de documentos mercantiles, se castigará a los culpables con presidio menor en su grado máximo y multa de dieciséis a veinte unidades tributarias mensuales, o sólo con la primera de estas penas atendidas las circunstancia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 trata de una modalidad especial de falsedad de documentos privado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CP no define lo que es o debe entenderse por documento privado mercantil.  La doctrina señala que para estos efectos debemos remitirnos al Código de Comercio y leyes complementarias especiales, principalmente la Ley 18.092 que enumera los requisitos de la letra de cambio en su artículo 1º.</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 señala una penalidad agravada: presidio menor en grado máximo, mientras que los documentos privados propiamente tales era presidio menor en cualquiera de sus grados.  Es así como un sujeto que tenga por ejemplo irreprochable conducta anterior, respecto de los documentos privados mercantiles, salir con el tramo mínimo de tres años y un día, en cambio respecto de los documentos privados propiamente tales podría salir con sesenta y un día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Rigen los mismos alcances que se señalaron a propósito de los documentos privados propiamente tale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Artículo 1º Ley 18.092. </a:t>
            </a:r>
            <a:r>
              <a:rPr b="0" i="1" lang="es-CL" sz="900" spc="-1" strike="noStrike">
                <a:solidFill>
                  <a:srgbClr val="000000"/>
                </a:solidFill>
                <a:latin typeface="Verdana"/>
              </a:rPr>
              <a:t> La letra de cambio deberá contener las siguientes enunciaciones:</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1. La indicación de ser letra de cambio, escrita en el mismo idioma empleado en el títul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2. El lugar y fecha de su emisión. No obstante, si la letra no indicare el lugar de la emisión, se considerará girada</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en el domicilio del librador;</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3. La orden, no sujeta a condición, de pagar una cantidad determinada o determinable de diner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4. El nombre y apellido de la persona a que debe hacerse el pago o a cuya orden debe efectuarse;</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5. El nombre, apellido y domicilio del librad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6. El lugar y la época del pago. No obstante, si la letra no indicare el lugar del pago, éste deberá hacerse en el domicili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del librado señalado en el documento; y si no contuviere la fecha de su vencimiento, se considerará pagadera</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a la vista, y</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7. La firma del librador.</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Bajo la responsabilidad del librador, su firma podrá estamparse por otros procedimientos que se autoricen e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el Reglamento, en los casos y con las formalidades que en él se establezca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Si hubiere varios librados, deberá indicarse un domicilio único para todos ellos.</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01" name=""/>
          <p:cNvSpPr txBox="1"/>
          <p:nvPr/>
        </p:nvSpPr>
        <p:spPr>
          <a:xfrm>
            <a:off x="503280" y="529920"/>
            <a:ext cx="8183520" cy="4187880"/>
          </a:xfrm>
          <a:prstGeom prst="rect">
            <a:avLst/>
          </a:prstGeom>
          <a:noFill/>
          <a:ln w="0">
            <a:noFill/>
          </a:ln>
        </p:spPr>
        <p:txBody>
          <a:bodyPr lIns="182880" rIns="90000" tIns="91440" bIns="46800" anchor="t">
            <a:normAutofit/>
          </a:bodyPr>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C Uso de Instrumentos Falsos.</a:t>
            </a:r>
            <a:endParaRPr b="0" lang="en-US" sz="15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Art. 198.</a:t>
            </a:r>
            <a:r>
              <a:rPr b="0" i="1" lang="es-ES" sz="1800" spc="-1" strike="noStrike">
                <a:solidFill>
                  <a:srgbClr val="000000"/>
                </a:solidFill>
                <a:latin typeface="Verdana"/>
              </a:rPr>
              <a:t>  El que maliciosamente hiciere uso de los instrumentos falsos a que se refiere el artículo anterior, será castigado como si fuera autor de la falsedad.</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Vale lo mismo que se señaló respecto del uso de los documentos públicos falsos.  Sin embargo, se plantean dos diferencias:</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cuanto al Tipo Subjetivo el legislador exige dolo directo.</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e es un delito de resultado que requiere perjuicio para su consumación.  La exigencia no aparece explícita en el artículo pero la doctrina lo deduce de la falsificación de documento privado, ya que ambas figuras están relacionadas sancionándose al que haga uso como autor de falsedad, por lo tanto se entiende que la remisión es íntegra, incluyendo el perjuicio.</a:t>
            </a:r>
            <a:endParaRPr b="0" lang="en-US" sz="1800" spc="-1" strike="noStrike">
              <a:solidFill>
                <a:srgbClr val="000000"/>
              </a:solidFill>
              <a:latin typeface="Verdana"/>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03" name=""/>
          <p:cNvSpPr txBox="1"/>
          <p:nvPr/>
        </p:nvSpPr>
        <p:spPr>
          <a:xfrm>
            <a:off x="503280" y="530280"/>
            <a:ext cx="8183520" cy="606744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III Falsificación de Documentos Especiales.</a:t>
            </a: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A Falsificación de Pasaportes y Portes de Arma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La doctrina señala que se distingue:</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i. Falsificación Cometida por Funcionario Público.</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Art. 199.</a:t>
            </a:r>
            <a:r>
              <a:rPr b="0" lang="es-ES" sz="700" spc="-1" strike="noStrike">
                <a:solidFill>
                  <a:srgbClr val="000000"/>
                </a:solidFill>
                <a:latin typeface="Verdana"/>
              </a:rPr>
              <a:t>  </a:t>
            </a:r>
            <a:r>
              <a:rPr b="0" i="1" lang="es-ES" sz="700" spc="-1" strike="noStrike">
                <a:solidFill>
                  <a:srgbClr val="000000"/>
                </a:solidFill>
                <a:latin typeface="Verdana"/>
              </a:rPr>
              <a:t>El empleado público que expidiere un pasaporte o porte de armas bajo nombre supuesto o lo diere en blanco, sufrirá las penas de reclusión menor en sus grados mínimo a medio e inhabilitación absoluta temporal para cargos y oficios públicos en los mismos grado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Puede cometerse con dolo directo o con dolo eventual.</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ii. Falsificación Cometida por Particular.</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Art. 200.</a:t>
            </a:r>
            <a:r>
              <a:rPr b="0" lang="es-ES" sz="700" spc="-1" strike="noStrike">
                <a:solidFill>
                  <a:srgbClr val="000000"/>
                </a:solidFill>
                <a:latin typeface="Verdana"/>
              </a:rPr>
              <a:t>  </a:t>
            </a:r>
            <a:r>
              <a:rPr b="0" i="1" lang="es-ES" sz="700" spc="-1" strike="noStrike">
                <a:solidFill>
                  <a:srgbClr val="000000"/>
                </a:solidFill>
                <a:latin typeface="Verdana"/>
              </a:rPr>
              <a:t>El que hiciere un pasaporte o porte de armas falso, será castigado con reclusión menor en su grado medio y multa de seis a diez unidades tributarias mensuales.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Las mismas penas se impondrán al que en un pasaporte o porte de armas verdadero mudare el nombre de la persona a cuyo favor se halle expedido, o el de la autoridad que lo expidió, o que altere en él alguna otra circunstancia esencial.</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La doctrina señala que solo puede cometerse con dolo directo.</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iii. Uso del Pasaporte o Porte de Arma Falso o de uno Verdadero Expedido a favor de otra Persona.</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Art. 201.</a:t>
            </a:r>
            <a:r>
              <a:rPr b="0" lang="es-ES" sz="700" spc="-1" strike="noStrike">
                <a:solidFill>
                  <a:srgbClr val="000000"/>
                </a:solidFill>
                <a:latin typeface="Verdana"/>
              </a:rPr>
              <a:t>  </a:t>
            </a:r>
            <a:r>
              <a:rPr b="0" i="1" lang="es-ES" sz="700" spc="-1" strike="noStrike">
                <a:solidFill>
                  <a:srgbClr val="000000"/>
                </a:solidFill>
                <a:latin typeface="Verdana"/>
              </a:rPr>
              <a:t>El que hiciere uso del pasaporte o porte de armas falso a que se refiere el artículo anterior, incurrirá en una multa de seis a diez unidades tributarias mensuales.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La misma pena se impondrá al que hiciere uso de un pasaporte o porte de armas verdadero expedido a favor de otra persona.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a:solidFill>
                  <a:srgbClr val="000000"/>
                </a:solidFill>
                <a:latin typeface="Verdana"/>
              </a:rPr>
              <a:t>No se requiere dolo directo ni tampoco perjuicio a tercero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Lo tenemos que relacionar con los Arts. 196 y 198 respecto del uso malicioso de documentos públicos o privado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Hay una situación discutible en cuanto a las formas alternativas de cumplimiento de la pena contenidas en la ley 18.216.  La remisión condicional de la pena suspende el cumplimiento de esta.  La mayoría de las sanciones penales a funcionarios públicos traen aparejadas penas de inhabilitación </a:t>
            </a:r>
            <a:r>
              <a:rPr b="1" lang="es-ES" sz="700" spc="-1" strike="noStrike">
                <a:solidFill>
                  <a:srgbClr val="000000"/>
                </a:solidFill>
                <a:latin typeface="Verdana"/>
              </a:rPr>
              <a:t>temporal</a:t>
            </a:r>
            <a:r>
              <a:rPr b="0" lang="es-ES" sz="700" spc="-1" strike="noStrike">
                <a:solidFill>
                  <a:srgbClr val="000000"/>
                </a:solidFill>
                <a:latin typeface="Verdana"/>
              </a:rPr>
              <a:t> respecto de cargos públicos.  Debería entenderse que toda sanción accesoria sigue la suerte de la principal, de modo que la suspensión (aplicada la remisión condicional de la pena) debiera ser tanto de la pena privativa de libertad como de la inhabilitación.  Sin embargo, en la práctica la CGR derechamente destituye al sujeto del cargo, con lo cual, conforme al estatuto administrativo (ley 18.834, Art. 11 Letra “e”), el sujeto no puede volver a ejercer un cargo público, de  modo que una inhabilitación temporal conforme al CP pasaría a ser perpetua en la práctica.  El profesor Contreras no comparte esta interpretación ya que con ella se estaría alterando el objeto de la ley 18.216.</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El Art. 11 de la Ley 18.834 señala “</a:t>
            </a:r>
            <a:r>
              <a:rPr b="0" i="1" lang="es-ES" sz="700" spc="-1" strike="noStrike">
                <a:solidFill>
                  <a:srgbClr val="000000"/>
                </a:solidFill>
                <a:latin typeface="Verdana"/>
              </a:rPr>
              <a:t>Para ingresar a la Administración del Estado será necesario cumplir los siguientes requisito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e)</a:t>
            </a:r>
            <a:r>
              <a:rPr b="0" i="1" lang="es-ES" sz="700" spc="-1" strike="noStrike">
                <a:solidFill>
                  <a:srgbClr val="000000"/>
                </a:solidFill>
                <a:latin typeface="Verdana"/>
              </a:rPr>
              <a:t> No haber cesado en un cargo público como consecuencia de haber obtenido una calificación deficiente, o por medida disciplinaria, salvo que hayan transcurrido más de cinco años desde la fecha de expiración de funciones, y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f)</a:t>
            </a:r>
            <a:r>
              <a:rPr b="0" i="1" lang="es-ES" sz="700" spc="-1" strike="noStrike">
                <a:solidFill>
                  <a:srgbClr val="000000"/>
                </a:solidFill>
                <a:latin typeface="Verdana"/>
              </a:rPr>
              <a:t> No estar inhabilitado para el ejercicio de funciones o cargos públicos, ni hallarse condenado o procesado por crimen o simple delito.</a:t>
            </a: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05" name=""/>
          <p:cNvSpPr txBox="1"/>
          <p:nvPr/>
        </p:nvSpPr>
        <p:spPr>
          <a:xfrm>
            <a:off x="503280" y="529920"/>
            <a:ext cx="8183520" cy="577836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C Falsificación de Certificados.</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02.</a:t>
            </a:r>
            <a:r>
              <a:rPr b="0" lang="es-ES" sz="900" spc="-1" strike="noStrike">
                <a:solidFill>
                  <a:srgbClr val="000000"/>
                </a:solidFill>
                <a:latin typeface="Verdana"/>
              </a:rPr>
              <a:t> </a:t>
            </a:r>
            <a:r>
              <a:rPr b="0" i="1" lang="es-ES" sz="900" spc="-1" strike="noStrike">
                <a:solidFill>
                  <a:srgbClr val="000000"/>
                </a:solidFill>
                <a:latin typeface="Verdana"/>
              </a:rPr>
              <a:t>El </a:t>
            </a:r>
            <a:r>
              <a:rPr b="1" i="1" lang="es-ES" sz="900" spc="-1" strike="noStrike">
                <a:solidFill>
                  <a:srgbClr val="000000"/>
                </a:solidFill>
                <a:latin typeface="Verdana"/>
              </a:rPr>
              <a:t>facultativo</a:t>
            </a:r>
            <a:r>
              <a:rPr b="0" i="1" lang="es-ES" sz="900" spc="-1" strike="noStrike">
                <a:solidFill>
                  <a:srgbClr val="000000"/>
                </a:solidFill>
                <a:latin typeface="Verdana"/>
              </a:rPr>
              <a:t> que librare certificación falsa de enfermedad o lesión con el fin de eximir a una persona de algún </a:t>
            </a:r>
            <a:r>
              <a:rPr b="1" i="1" lang="es-ES" sz="900" spc="-1" strike="noStrike">
                <a:solidFill>
                  <a:srgbClr val="000000"/>
                </a:solidFill>
                <a:latin typeface="Verdana"/>
              </a:rPr>
              <a:t>servicio público</a:t>
            </a:r>
            <a:r>
              <a:rPr b="0" i="1" lang="es-ES" sz="900" spc="-1" strike="noStrike">
                <a:solidFill>
                  <a:srgbClr val="000000"/>
                </a:solidFill>
                <a:latin typeface="Verdana"/>
              </a:rPr>
              <a:t>, será castigado con reclusión menor en sus grados mínimo a medio y multa de seis a diez unidades tributarias mensuales</a:t>
            </a: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03.</a:t>
            </a:r>
            <a:r>
              <a:rPr b="0" lang="es-ES" sz="900" spc="-1" strike="noStrike">
                <a:solidFill>
                  <a:srgbClr val="000000"/>
                </a:solidFill>
                <a:latin typeface="Verdana"/>
              </a:rPr>
              <a:t> </a:t>
            </a:r>
            <a:r>
              <a:rPr b="0" i="1" lang="es-ES" sz="900" spc="-1" strike="noStrike">
                <a:solidFill>
                  <a:srgbClr val="000000"/>
                </a:solidFill>
                <a:latin typeface="Verdana"/>
              </a:rPr>
              <a:t>El </a:t>
            </a:r>
            <a:r>
              <a:rPr b="1" i="1" lang="es-ES" sz="900" spc="-1" strike="noStrike">
                <a:solidFill>
                  <a:srgbClr val="000000"/>
                </a:solidFill>
                <a:latin typeface="Verdana"/>
              </a:rPr>
              <a:t>empleado público</a:t>
            </a:r>
            <a:r>
              <a:rPr b="0" i="1" lang="es-ES" sz="900" spc="-1" strike="noStrike">
                <a:solidFill>
                  <a:srgbClr val="000000"/>
                </a:solidFill>
                <a:latin typeface="Verdana"/>
              </a:rPr>
              <a:t> que librare </a:t>
            </a:r>
            <a:r>
              <a:rPr b="1" i="1" lang="es-ES" sz="900" spc="-1" strike="noStrike">
                <a:solidFill>
                  <a:srgbClr val="000000"/>
                </a:solidFill>
                <a:latin typeface="Verdana"/>
              </a:rPr>
              <a:t>certificación falsa</a:t>
            </a:r>
            <a:r>
              <a:rPr b="0" i="1" lang="es-ES" sz="900" spc="-1" strike="noStrike">
                <a:solidFill>
                  <a:srgbClr val="000000"/>
                </a:solidFill>
                <a:latin typeface="Verdana"/>
              </a:rPr>
              <a:t> de mérito o servicios, de buena conducta, de pobreza, o de otras circunstancias semejantes de recomendación, incurrirá en una multa de seis a diez unidades tributarias mensuales.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Por ejempl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Un asistente social para recomendar a alguien para acceder a una vivienda.</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jefe que recomienda a su secretaria para que la ascienda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04.</a:t>
            </a:r>
            <a:r>
              <a:rPr b="0" lang="es-ES" sz="900" spc="-1" strike="noStrike">
                <a:solidFill>
                  <a:srgbClr val="000000"/>
                </a:solidFill>
                <a:latin typeface="Verdana"/>
              </a:rPr>
              <a:t> </a:t>
            </a:r>
            <a:r>
              <a:rPr b="0" i="1" lang="es-ES" sz="900" spc="-1" strike="noStrike">
                <a:solidFill>
                  <a:srgbClr val="000000"/>
                </a:solidFill>
                <a:latin typeface="Verdana"/>
              </a:rPr>
              <a:t>El que falsificare un documento </a:t>
            </a:r>
            <a:r>
              <a:rPr b="1" i="1" lang="es-ES" sz="900" spc="-1" strike="noStrike">
                <a:solidFill>
                  <a:srgbClr val="000000"/>
                </a:solidFill>
                <a:latin typeface="Verdana"/>
              </a:rPr>
              <a:t>de la clase designada en los dos artículos anteriores</a:t>
            </a:r>
            <a:r>
              <a:rPr b="0" i="1" lang="es-ES" sz="900" spc="-1" strike="noStrike">
                <a:solidFill>
                  <a:srgbClr val="000000"/>
                </a:solidFill>
                <a:latin typeface="Verdana"/>
              </a:rPr>
              <a:t>, será castigado con reclusión menor en su grado mínimo y multa de seis a diez unidades tributarias mensuales.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Verdana"/>
              </a:rPr>
              <a:t>Esta disposición es aplicable al que </a:t>
            </a:r>
            <a:r>
              <a:rPr b="1" i="1" lang="es-ES" sz="900" spc="-1" strike="noStrike">
                <a:solidFill>
                  <a:srgbClr val="000000"/>
                </a:solidFill>
                <a:latin typeface="Verdana"/>
              </a:rPr>
              <a:t>maliciosamente usare</a:t>
            </a:r>
            <a:r>
              <a:rPr b="0" i="1" lang="es-ES" sz="900" spc="-1" strike="noStrike">
                <a:solidFill>
                  <a:srgbClr val="000000"/>
                </a:solidFill>
                <a:latin typeface="Verdana"/>
              </a:rPr>
              <a:t>, con el mismo fin, de los documentos falsos.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te artículo contempla dos hipótesi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Inciso 1º:</a:t>
            </a:r>
            <a:r>
              <a:rPr b="0" lang="es-ES" sz="900" spc="-1" strike="noStrike">
                <a:solidFill>
                  <a:srgbClr val="000000"/>
                </a:solidFill>
                <a:latin typeface="Verdana"/>
              </a:rPr>
              <a:t> El que crea íntegramente un certificado médico o de facultativo no siendo facultativo, o el que falsifique una certificación no siendo empleado públic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rá autor de un delito de falsedad a pesar de que se trata de un particular que no tiene obligación de decir verdad.  Se trata por lo tanto de un caso de excepción en que un particular puede cometer una falsedad ideológica (creación íntegra) o material.</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Inciso 2º:</a:t>
            </a:r>
            <a:r>
              <a:rPr b="0" lang="es-ES" sz="900" spc="-1" strike="noStrike">
                <a:solidFill>
                  <a:srgbClr val="000000"/>
                </a:solidFill>
                <a:latin typeface="Verdana"/>
              </a:rPr>
              <a:t> El que usa maliciosamente los documentos falso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 trata de una figura que requiere dolo directo, pero el uso se refiere a los mismos fines señalados en los Arts. 202 y 203:</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ximir a la persona de un servicio públic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Recomendación para la obtención de algún tipo de beneficio (sin que efectivamente se requiera obtener el benefici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on figuras de peligr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También puede tratarse de una carga pública.</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8d3e"/>
                </a:solidFill>
                <a:uFillTx/>
                <a:latin typeface="Verdana"/>
              </a:rPr>
              <a:t>Otros Delitos de Falsedad</a:t>
            </a:r>
            <a:br>
              <a:rPr sz="3200"/>
            </a:br>
            <a:endParaRPr b="1" lang="en-US" sz="3200" spc="-1" strike="noStrike">
              <a:solidFill>
                <a:srgbClr val="ff8d3e"/>
              </a:solidFill>
              <a:latin typeface="Verdana"/>
            </a:endParaRPr>
          </a:p>
        </p:txBody>
      </p:sp>
      <p:sp>
        <p:nvSpPr>
          <p:cNvPr id="307"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os particulares no tienen la obligación de decir verdad, salvo los casos en que expresamente se les imponga este deber, por ejemplo, cuando declaran en un proceso judicial en el que se ejerce una acción penal públic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s referimos a los siguientes tipos penales:</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Falso testimonio.</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rjurio.</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cusación calumnios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ras figuras de falsedad:</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jercicio ilegal de profesión.</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surpación de nombr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8d3e"/>
                </a:solidFill>
                <a:uFillTx/>
                <a:latin typeface="Verdana"/>
              </a:rPr>
              <a:t>El Falso Testimonio.</a:t>
            </a:r>
            <a:br>
              <a:rPr sz="3200"/>
            </a:br>
            <a:endParaRPr b="1" lang="en-US" sz="3200" spc="-1" strike="noStrike">
              <a:solidFill>
                <a:srgbClr val="ff8d3e"/>
              </a:solidFill>
              <a:latin typeface="Verdana"/>
            </a:endParaRPr>
          </a:p>
        </p:txBody>
      </p:sp>
      <p:sp>
        <p:nvSpPr>
          <p:cNvPr id="309"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ley no señala lo que debemos entender por falso testimonio.</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doctrina señala que consiste en la infracción al deber de decir la verdad cuando se declara como testigo, perito o intérprete en un proceso jurisdiccional, sea civil o penal.</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Es un delito especial en relación al sujeto activo, ya que este requiere tener la calidad de testigo, perito o intérprete.</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totalidad de la doctrina dice que se trata de un delito por propia mano de modo que solo pueden cometerlo aquellos que tienen la calidad de sujeto activo y no admiten autoría mediata.</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Es un delito de peligro y no requiere que efectivamente se provoque perjuicio a partir de la declaración falsa.  La conducta se sanciona por el solo hecho de prestarse, es un delito de mera actividad.</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También se refiere al que, a sabiendas, presentare al testigo, perito o intérprete falsos, conducta que antes de la Ley 20.074 que modificó estas disposiciones, se sancionaba en el Art. 212, pero se limitaba al que presentaba testigos o documentos falsos.</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11" name=""/>
          <p:cNvSpPr txBox="1"/>
          <p:nvPr/>
        </p:nvSpPr>
        <p:spPr>
          <a:xfrm>
            <a:off x="503280" y="530280"/>
            <a:ext cx="8183520" cy="563544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Conducta Típica:</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Faltar a la verdad al declarar en causa civil o penal.</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Si el testigo emite un juicio de valor, por ejemplo “</a:t>
            </a:r>
            <a:r>
              <a:rPr b="0" i="1" lang="es-ES" sz="1500" spc="-1" strike="noStrike">
                <a:solidFill>
                  <a:srgbClr val="000000"/>
                </a:solidFill>
                <a:latin typeface="Verdana"/>
              </a:rPr>
              <a:t>yo creo que fue así</a:t>
            </a:r>
            <a:r>
              <a:rPr b="0" lang="es-ES" sz="1500" spc="-1" strike="noStrike">
                <a:solidFill>
                  <a:srgbClr val="000000"/>
                </a:solidFill>
                <a:latin typeface="Verdana"/>
              </a:rPr>
              <a:t>”, incurre en tipo objetivo que se refiere a dar declaración falsa.  Sin embargo esto puede dar paso a inseguridad.  Lo que ocurre es que la prueba testimonial es la más inexacta.</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a única forma de entender el delito será cuando se falta a la </a:t>
            </a:r>
            <a:r>
              <a:rPr b="1" lang="es-ES" sz="1500" spc="-1" strike="noStrike">
                <a:solidFill>
                  <a:srgbClr val="000000"/>
                </a:solidFill>
                <a:latin typeface="Verdana"/>
              </a:rPr>
              <a:t>verdad objetiva</a:t>
            </a:r>
            <a:r>
              <a:rPr b="0" lang="es-ES" sz="1500" spc="-1" strike="noStrike">
                <a:solidFill>
                  <a:srgbClr val="000000"/>
                </a:solidFill>
                <a:latin typeface="Verdana"/>
              </a:rPr>
              <a:t>, de modo que quedan excluidos:</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os juicios de valor.</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o que el sujeto creyó ver.</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sujeto que capto mal la realidad.</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Tipo Subjetivo:</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Algunos dicen que se puede cometer con dolo directo o con dolo eventual.</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profesor Contreras señala que, conforme al principio “el que duda no miente sino que se equivoca”, solo podría darse con dolo direc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13"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Falso Testimonio en Causa Civil.</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Art. 209.</a:t>
            </a:r>
            <a:r>
              <a:rPr b="0" i="1" lang="es-ES" sz="2200" spc="-1" strike="noStrike">
                <a:solidFill>
                  <a:srgbClr val="000000"/>
                </a:solidFill>
                <a:latin typeface="Verdana"/>
              </a:rPr>
              <a:t>  El falso testimonio en causa civil, será castigado con presidio menor en su grado medio y multa de once a veinte unidades tributarias mensuales.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Verdana"/>
              </a:rPr>
              <a:t>Si el valor de la demanda no excediere de cuatro unidades tributarias mensuales, las penas serán presidio menor en su grado mínimo y multa de seis a diez unidades tributarias mensuales.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falso testimonio se refiere a realizar una declaración de modo que se trata de un delito de acción.  Respecto a las omisiones el CP sanciona al que se niega a colaborar en el delito de obstrucción a la justici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8d3e"/>
                </a:solidFill>
                <a:latin typeface="Verdana"/>
              </a:rPr>
              <a:t> </a:t>
            </a:r>
            <a:br>
              <a:rPr sz="3200"/>
            </a:br>
            <a:r>
              <a:rPr b="1" i="1" lang="es-ES" sz="3200" spc="-1" strike="noStrike" u="sng">
                <a:solidFill>
                  <a:srgbClr val="ff8d3e"/>
                </a:solidFill>
                <a:uFillTx/>
                <a:latin typeface="Verdana"/>
              </a:rPr>
              <a:t>El Perjurio.</a:t>
            </a:r>
            <a:br>
              <a:rPr sz="3200"/>
            </a:br>
            <a:endParaRPr b="1" lang="en-US" sz="3200" spc="-1" strike="noStrike">
              <a:solidFill>
                <a:srgbClr val="ff8d3e"/>
              </a:solidFill>
              <a:latin typeface="Verdana"/>
            </a:endParaRPr>
          </a:p>
        </p:txBody>
      </p:sp>
      <p:sp>
        <p:nvSpPr>
          <p:cNvPr id="315"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Declaración falsa prestada ante autoridad bajo juramento o promesa de decir verdad.</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El perjurio es la declaración falsa prestada ante una autoridad bajo juramento, en los casos que la ley impone esta exigencia, y siempre que ello no constituya el delito de falso testimonio.  No se trata de una persona, para otorgar más créditos a sus dichos, los exprese bajo juramento cuando a su arbitrio lo estime adecuado</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Debe tenerse presente que los procesos “no contenciosos o voluntarios” del CPC no se contemplan dentro del falso testimonio, es más estos no indican pruebas sino informaciones sumarias las cuales se prestan sin la presencia de contendor, de modo que no requieren todas las garantías que se guardan en un procedimiento jurisdiccional.  Si hubiera contendor habrá un proceso jurisdiccional donde se tendrá que probar la verdad de las declaraciones.</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Perjurio no es sinónimo de falso testimonio, la diferencia se presenta en cuando a la autoridad  y al proceso en virtud del cual se presta la declaración.</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declaración en sí es igual de modo que se aplican las mismas reglas del falso testimonio, con las diferencias antes mencionadas.  En este sentido se requiere un sujeto activo que tenga la calidad de testigo, perito o intérprete;  por ejemplo, si se trata de un imputado no cabría dentro de la conducta, además el imputado no juramenta.</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7"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8" name=""/>
          <p:cNvSpPr txBox="1"/>
          <p:nvPr/>
        </p:nvSpPr>
        <p:spPr>
          <a:xfrm>
            <a:off x="457200" y="798480"/>
            <a:ext cx="8045280" cy="5416560"/>
          </a:xfrm>
          <a:prstGeom prst="rect">
            <a:avLst/>
          </a:prstGeom>
          <a:noFill/>
          <a:ln w="0">
            <a:noFill/>
          </a:ln>
        </p:spPr>
        <p:txBody>
          <a:bodyPr lIns="182880" rIns="90000" tIns="91440" bIns="46800" anchor="t">
            <a:normAutofit/>
          </a:bodyPr>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Bien Jurídico Protegido.  Se discute por la doctrina:</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Algunos dicen que es la seguridad en el tráfico jurídico que se basa en la confianza que los ciudadanos tienen respecto de la autenticidad de ciertos signos o instrumento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Otros dicen que es la correcta administración de justicia, específicamente referida al valor probatorio de ciertos objetos o instrumento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Carrara dice que es la fe pública, concretamente referida a la confianza que los ciudadanos tienen en la autenticidad de ciertos signos o documentos garantizados por el Estado.</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Incluso algunos dicen que en cierta forma es la propiedad, ya que por ejemplo la falsificación de instrumento privado requiere necesariamente del perjuicio.</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Todos estos planteamientos tienen algo de razón.  El conjunto de delitos regulados en el Título 4º es heterogéneo y para efectos puramente didácticos se pueden clasificar en:</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Delitos contra la fe pública: Falsificación de moneda, documentos de crédito del Estado, sellos, matrices, punzones y pasaporte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s-ES" sz="1600" spc="-1" strike="noStrike">
                <a:solidFill>
                  <a:srgbClr val="808080"/>
                </a:solidFill>
                <a:latin typeface="Century Gothic"/>
              </a:rPr>
              <a:t> </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200" spc="-1" strike="noStrike">
              <a:solidFill>
                <a:srgbClr val="000000"/>
              </a:solidFill>
              <a:latin typeface="Verdana"/>
            </a:endParaRPr>
          </a:p>
          <a:p>
            <a:pPr marL="216000" indent="-21600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8d3e"/>
                </a:solidFill>
                <a:latin typeface="Verdana"/>
              </a:rPr>
              <a:t> </a:t>
            </a:r>
            <a:br>
              <a:rPr sz="3200"/>
            </a:br>
            <a:r>
              <a:rPr b="1" i="1" lang="es-ES" sz="3200" spc="-1" strike="noStrike" u="sng">
                <a:solidFill>
                  <a:srgbClr val="ff8d3e"/>
                </a:solidFill>
                <a:uFillTx/>
                <a:latin typeface="Verdana"/>
              </a:rPr>
              <a:t>La Acusación o Denuncia Calumniosa.</a:t>
            </a:r>
            <a:br>
              <a:rPr sz="3200"/>
            </a:br>
            <a:endParaRPr b="1" lang="en-US" sz="3200" spc="-1" strike="noStrike">
              <a:solidFill>
                <a:srgbClr val="ff8d3e"/>
              </a:solidFill>
              <a:latin typeface="Verdana"/>
            </a:endParaRPr>
          </a:p>
        </p:txBody>
      </p:sp>
      <p:sp>
        <p:nvSpPr>
          <p:cNvPr id="317"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ta figura protege la correcta administración de justicia y secundariamente el honor del imputado.</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11.</a:t>
            </a:r>
            <a:r>
              <a:rPr b="0" lang="es-ES" sz="900" spc="-1" strike="noStrike">
                <a:solidFill>
                  <a:srgbClr val="000000"/>
                </a:solidFill>
                <a:latin typeface="Verdana"/>
              </a:rPr>
              <a:t> </a:t>
            </a:r>
            <a:r>
              <a:rPr b="0" i="1" lang="es-ES" sz="900" spc="-1" strike="noStrike">
                <a:solidFill>
                  <a:srgbClr val="000000"/>
                </a:solidFill>
                <a:latin typeface="Verdana"/>
              </a:rPr>
              <a:t>La acusación o denuncia que hubiere sido declarada calumniosa por sentencia ejecutoriada, será castigada con presidio menor en su grado máximo y multa de dieciséis a veinte unidades tributarias mensuales, cuando versare sobre un crimen, con presidio menor en su grado medio y multa de once a quince unidades tributarias mensuales, si fuere sobre simple delito, y con presidio menor en su grado mínimo y multa de seis a diez unidades tributarias mensuales, si se tratare de una falta</a:t>
            </a:r>
            <a:r>
              <a:rPr b="0" lang="es-ES" sz="900" spc="-1" strike="noStrike">
                <a:solidFill>
                  <a:srgbClr val="000000"/>
                </a:solidFill>
                <a:latin typeface="Verdana"/>
              </a:rPr>
              <a:t>.</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 un delito común de modo que el sujeto activo puede ser cualquier persona, siempre que se trate de aquel que dedujo una querella o efectuó una denuncia.</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 un delito de acción.  Consiste en alterar la verdad al presentar una acusación o denuncia y esta acusación o denuncia debe tener por contenido un delito falso de acción pública, de lo contrario no sería calumnioso.</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in embargo, autores como Labatut señalan que también pueden caber delitos de acción privada porque él entiende que la palabra “calumniosa” debe tomarse en su sentido natural y obvio, es decir, como sinónimo de “falsedad o falso” y no en sentido normativo.</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La norma plantea un problema de interpretación en la parte que señala “</a:t>
            </a:r>
            <a:r>
              <a:rPr b="0" i="1" lang="es-ES" sz="900" spc="-1" strike="noStrike">
                <a:solidFill>
                  <a:srgbClr val="000000"/>
                </a:solidFill>
                <a:latin typeface="Verdana"/>
              </a:rPr>
              <a:t>La acusación o denuncia </a:t>
            </a:r>
            <a:r>
              <a:rPr b="1" i="1" lang="es-ES" sz="900" spc="-1" strike="noStrike">
                <a:solidFill>
                  <a:srgbClr val="000000"/>
                </a:solidFill>
                <a:latin typeface="Verdana"/>
              </a:rPr>
              <a:t>que hubiere sido declarada calumniosa</a:t>
            </a:r>
            <a:r>
              <a:rPr b="0" i="1" lang="es-ES" sz="900" spc="-1" strike="noStrike">
                <a:solidFill>
                  <a:srgbClr val="000000"/>
                </a:solidFill>
                <a:latin typeface="Verdana"/>
              </a:rPr>
              <a:t> por sentencia ejecutoriada…”</a:t>
            </a:r>
            <a:r>
              <a:rPr b="0" lang="es-ES" sz="900" spc="-1" strike="noStrike">
                <a:solidFill>
                  <a:srgbClr val="000000"/>
                </a:solidFill>
                <a:latin typeface="Verdana"/>
              </a:rPr>
              <a:t>.  A primera vista pareciera que previamente se requiere una declaración por sentencia ejecutoriada de que la declaración o denuncia es calumniosa para que se pueda proceder penalmente.</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Lo anterior originó una polémica porque se decía que se requería un antejuicio para que se declarara la calumniosidad de la acusación o denuncia.  Sin embargo, los tribunales no tenían esta facultad y  en el caso que lo hiciera podía darse una ultrapetita y por lo tanto la sentencia ser casada o anulada.  Esto originaba que en la práctica no se realizaba este ante juicio y no se pudiera iniciar causa por el artículo en cuestión.</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Actualmente se estima que la frase no se refiere a una declaración judicial previa para que a posteriori se inicie el proceso contra el autor de ese delito, sino que alude a la sentencia </a:t>
            </a:r>
            <a:r>
              <a:rPr b="1" lang="es-ES" sz="900" spc="-1" strike="noStrike">
                <a:solidFill>
                  <a:srgbClr val="000000"/>
                </a:solidFill>
                <a:latin typeface="Verdana"/>
              </a:rPr>
              <a:t>que se va a dictar</a:t>
            </a:r>
            <a:r>
              <a:rPr b="0" lang="es-ES" sz="900" spc="-1" strike="noStrike">
                <a:solidFill>
                  <a:srgbClr val="000000"/>
                </a:solidFill>
                <a:latin typeface="Verdana"/>
              </a:rPr>
              <a:t>  en el proceso que se inicie para investigar si la acusación o denuncia fue calumniosa o no.</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8d3e"/>
                </a:solidFill>
                <a:uFillTx/>
                <a:latin typeface="Verdana"/>
              </a:rPr>
              <a:t>El Ejercicio Ilegal de una Profesión.</a:t>
            </a:r>
            <a:br>
              <a:rPr sz="3200"/>
            </a:br>
            <a:endParaRPr b="1" lang="en-US" sz="3200" spc="-1" strike="noStrike">
              <a:solidFill>
                <a:srgbClr val="ff8d3e"/>
              </a:solidFill>
              <a:latin typeface="Verdana"/>
            </a:endParaRPr>
          </a:p>
        </p:txBody>
      </p:sp>
      <p:sp>
        <p:nvSpPr>
          <p:cNvPr id="319"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Verdana"/>
              </a:rPr>
              <a:t>Art. 213.</a:t>
            </a:r>
            <a:r>
              <a:rPr b="0" lang="es-ES" sz="2600" spc="-1" strike="noStrike">
                <a:solidFill>
                  <a:srgbClr val="000000"/>
                </a:solidFill>
                <a:latin typeface="Verdana"/>
              </a:rPr>
              <a:t> </a:t>
            </a:r>
            <a:r>
              <a:rPr b="0" i="1" lang="es-ES" sz="2600" spc="-1" strike="noStrike">
                <a:solidFill>
                  <a:srgbClr val="000000"/>
                </a:solidFill>
                <a:latin typeface="Verdana"/>
              </a:rPr>
              <a:t>El que se fingiere autoridad, funcionario público o titular de una profesión que, por disposición de la ley, requiera título o el cumplimiento de determinados requisitos, y ejerciere actos propios de dichos cargos o profesiones, será penado con presidio menor en sus grados mínimo a medio y multa de seis a veinte unidades tributarias mensuales. </a:t>
            </a:r>
            <a:endParaRPr b="0" lang="en-US" sz="2600" spc="-1" strike="noStrike">
              <a:solidFill>
                <a:srgbClr val="000000"/>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Verdana"/>
              </a:rPr>
              <a:t>El mero fingimiento de esos cargos o profesiones será sancionado como tentativa del delito que establece el inciso anterio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8d3e"/>
                </a:solidFill>
                <a:uFillTx/>
                <a:latin typeface="Verdana"/>
              </a:rPr>
              <a:t>Usurpación de Nombre.</a:t>
            </a:r>
            <a:br>
              <a:rPr sz="3200"/>
            </a:br>
            <a:endParaRPr b="1" lang="en-US" sz="3200" spc="-1" strike="noStrike">
              <a:solidFill>
                <a:srgbClr val="ff8d3e"/>
              </a:solidFill>
              <a:latin typeface="Verdana"/>
            </a:endParaRPr>
          </a:p>
        </p:txBody>
      </p:sp>
      <p:sp>
        <p:nvSpPr>
          <p:cNvPr id="32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14.</a:t>
            </a:r>
            <a:r>
              <a:rPr b="0" lang="es-ES" sz="900" spc="-1" strike="noStrike">
                <a:solidFill>
                  <a:srgbClr val="000000"/>
                </a:solidFill>
                <a:latin typeface="Verdana"/>
              </a:rPr>
              <a:t> </a:t>
            </a:r>
            <a:r>
              <a:rPr b="0" i="1" lang="es-ES" sz="900" spc="-1" strike="noStrike">
                <a:solidFill>
                  <a:srgbClr val="000000"/>
                </a:solidFill>
                <a:latin typeface="Verdana"/>
              </a:rPr>
              <a:t>El que usurpare el nombre de otro será castigado con presidio menor en su grado mínimo, sin perjuicio de la pena que pudiere corresponderle a consecuencia del daño que en su fama o intereses ocasionare a la persona cuyo nombre ha usurpado</a:t>
            </a: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No se debe confundir esta figura con la usurpación del estado civil.</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Un estado civil suplanta la personalidad completa del sujeto, por ejemplo que trabaja en tal lugar, que está casado con tal persona, que vive en tal dirección, etc.  Por ejemplo si un sujeto dice que es hijo de tal persona y que viene a cobrar su sueldo porque su padre está enfermo, este sujeto se está haciendo pasar por el “hijo de” siendo una usurpación del estado civil.</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Art. 214 solo requiere la usurpación del nombre.  Por ejemplo si un sujeto se encuentra un carné de identidad en la calle y va al banco para pedir un crédito con ese nombre, en este caso el sujeto no se está haciendo pasar íntegramente por el sujet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 fácil que se presenten confusiones, más aun porque la norma luego dice “…, </a:t>
            </a:r>
            <a:r>
              <a:rPr b="0" i="1" lang="es-ES" sz="900" spc="-1" strike="noStrike">
                <a:solidFill>
                  <a:srgbClr val="000000"/>
                </a:solidFill>
                <a:latin typeface="Verdana"/>
              </a:rPr>
              <a:t>sin perjuicio de la pena que pudiere corresponderle a consecuencia del daño que en su fama o intereses ocasionare a la persona cuyo nombre ha usurpado”</a:t>
            </a:r>
            <a:r>
              <a:rPr b="0" lang="es-ES" sz="900" spc="-1" strike="noStrike">
                <a:solidFill>
                  <a:srgbClr val="000000"/>
                </a:solidFill>
                <a:latin typeface="Verdana"/>
              </a:rPr>
              <a:t>, dejando abierta la posibilidad de que ese sujeto también pueda ser autor de los delitos de injuria o de estafa ya que la usurpación de nombre se aplica </a:t>
            </a:r>
            <a:r>
              <a:rPr b="1" lang="es-ES" sz="900" spc="-1" strike="noStrike">
                <a:solidFill>
                  <a:srgbClr val="000000"/>
                </a:solidFill>
                <a:latin typeface="Verdana"/>
              </a:rPr>
              <a:t>además </a:t>
            </a:r>
            <a:r>
              <a:rPr b="0" lang="es-ES" sz="900" spc="-1" strike="noStrike">
                <a:solidFill>
                  <a:srgbClr val="000000"/>
                </a:solidFill>
                <a:latin typeface="Verdana"/>
              </a:rPr>
              <a:t>de estas hipótesi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Por ejemplo si un sujeto para lavar dinero utiliza un carné de otro para obtener un crédito, haciéndolo pasar como cuenta correntista y titular de determinadas operaciones.  Habrá una usurpación de nombre más estafa.</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i el sujeto además ha ofendido el honor de la persona cuyo nombre ha usurpado podría haber además injuria.</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Hay un solo hecho pero puede haber varios bienes jurídicos ofendidos, de modo que habrá concurso ideal.</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0"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1" name=""/>
          <p:cNvSpPr txBox="1"/>
          <p:nvPr/>
        </p:nvSpPr>
        <p:spPr>
          <a:xfrm>
            <a:off x="457200" y="549000"/>
            <a:ext cx="8045280" cy="583236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Falsedades documentales: se refieren a la falsificación de intrumentos públicos y privados.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Otros delitos de falsedad: se refieren a la correcta administración de justicia, como por ejemplo el falso testimonio, el perjurio, etc.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lgunas de estas figuras ya están pasadas en el tiempo, por ejemplo el sello del Estado es un timbre estatal que se utilizaba en el siglo antepasado (siglo XIX) para que ciertos documentos fueran sellados con lacre, lo cual actualmente no existe.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También se dan hipótesis de falsificación de moneda de difícil ocurrencia práctica en la actualidad.  Lo que ocurre es que antiguamente las monedas era de oro o de plata y actualmente son por lo general de vellón que es un material de ínfimo valor.</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3"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2f5897"/>
                </a:solidFill>
                <a:latin typeface="Palatino Linotype"/>
              </a:rPr>
              <a:t>I. La Falsificación de Moneda.</a:t>
            </a:r>
            <a:endParaRPr b="1" lang="en-US" sz="4000" spc="-1" strike="noStrike">
              <a:solidFill>
                <a:srgbClr val="ff8d3e"/>
              </a:solidFill>
              <a:latin typeface="Verdana"/>
            </a:endParaRPr>
          </a:p>
        </p:txBody>
      </p:sp>
      <p:sp>
        <p:nvSpPr>
          <p:cNvPr id="24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62 al  171 CP.</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hacer circular moneda falsa se sanciona en los Arts. 167, 168 y 170.</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n el Art. 171 se establece el principio de que el derecho penal no ampara incautos.  No habrá falsificación pero eventualmente podría haber estafa u otro engaño, sin embargo, rige el mismo principio en del sentido de que si es muy falsa no se protege.</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5897"/>
                </a:solidFill>
                <a:latin typeface="Palatino Linotype"/>
              </a:rPr>
              <a:t>II. Falsificación de Documentos de Crédito del Estado, de las Municipalidades, de los Establecimientos Públicos, Sociedades Anónimas o Bancos de Emisión Legalmente Autorizados</a:t>
            </a:r>
            <a:endParaRPr b="1" lang="en-US" sz="2200" spc="-1" strike="noStrike">
              <a:solidFill>
                <a:srgbClr val="ff8d3e"/>
              </a:solidFill>
              <a:latin typeface="Verdana"/>
            </a:endParaRPr>
          </a:p>
        </p:txBody>
      </p:sp>
      <p:sp>
        <p:nvSpPr>
          <p:cNvPr id="249"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72 . </a:t>
            </a:r>
            <a:r>
              <a:rPr b="1" lang="es-ES" sz="1600" spc="-1" strike="noStrike">
                <a:solidFill>
                  <a:srgbClr val="808080"/>
                </a:solidFill>
                <a:latin typeface="Century Gothic"/>
              </a:rPr>
              <a:t>La importancia de esta norma es que el código distingue entre la falsificación de moneda y la falsificación de papel moneda (billete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ctualmente la Casa de Moneda es la que emite los billetes y se establece la figura de la falsificación de billetes.  Esta norma a pasado a ser un resabio históric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73.</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74.  TítulosEmitidos por Municipalidade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75. La importancia de este artículo es que altera las reglas de autoría y participación en el sentido que el partícipe será considerado como autor.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n estricto sentido se trata de un cómplice ya que el artículo señala “… al que de concierto con él tomare parte...”.  El sujeto no participa directamente en la falsificación pero toma parte conforme al principio de convergencia con el autor principal</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1"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2" name=""/>
          <p:cNvSpPr txBox="1"/>
          <p:nvPr/>
        </p:nvSpPr>
        <p:spPr>
          <a:xfrm>
            <a:off x="457200" y="549360"/>
            <a:ext cx="8045280" cy="5030640"/>
          </a:xfrm>
          <a:prstGeom prst="rect">
            <a:avLst/>
          </a:prstGeom>
          <a:noFill/>
          <a:ln w="0">
            <a:noFill/>
          </a:ln>
        </p:spPr>
        <p:txBody>
          <a:bodyPr lIns="182880" rIns="90000" tIns="91440" bIns="46800" anchor="t">
            <a:normAutofit/>
          </a:bodyPr>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76. </a:t>
            </a:r>
            <a:r>
              <a:rPr b="1" lang="es-ES" sz="1600" spc="-1" strike="noStrike">
                <a:solidFill>
                  <a:srgbClr val="808080"/>
                </a:solidFill>
                <a:latin typeface="Century Gothic"/>
              </a:rPr>
              <a:t>Se refiere al sujeto que no interviene en la falsificación pero sí procura proveerse de ellos y los hace circular .</a:t>
            </a:r>
            <a:endParaRPr b="0" lang="en-US" sz="1600" spc="-1" strike="noStrike">
              <a:solidFill>
                <a:srgbClr val="000000"/>
              </a:solidFill>
              <a:latin typeface="Verdana"/>
            </a:endParaRPr>
          </a:p>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79. </a:t>
            </a:r>
            <a:r>
              <a:rPr b="1" lang="es-ES" sz="1600" spc="-1" strike="noStrike">
                <a:solidFill>
                  <a:srgbClr val="808080"/>
                </a:solidFill>
                <a:latin typeface="Century Gothic"/>
              </a:rPr>
              <a:t>Principio de que la falsificación grosera y ostensible no es amparada por el derecho penal.</a:t>
            </a:r>
            <a:endParaRPr b="0" lang="en-US" sz="1600" spc="-1" strike="noStrike">
              <a:solidFill>
                <a:srgbClr val="000000"/>
              </a:solidFill>
              <a:latin typeface="Verdana"/>
            </a:endParaRPr>
          </a:p>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ste principio se estudió a propósito de la estafa.  Si la falsificación es muy grosera, el derecho penal no puede proteger incautos.</a:t>
            </a:r>
            <a:endParaRPr b="0" lang="en-US" sz="1600" spc="-1" strike="noStrike">
              <a:solidFill>
                <a:srgbClr val="000000"/>
              </a:solidFill>
              <a:latin typeface="Verdana"/>
            </a:endParaRPr>
          </a:p>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Lo tenemos que relacionar con el Art. 171.</a:t>
            </a:r>
            <a:endParaRPr b="0" lang="en-US" sz="1600" spc="-1" strike="noStrike">
              <a:solidFill>
                <a:srgbClr val="000000"/>
              </a:solidFill>
              <a:latin typeface="Verdana"/>
            </a:endParaRPr>
          </a:p>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77 y 178.</a:t>
            </a:r>
            <a:endParaRPr b="0" lang="en-US" sz="1600" spc="-1" strike="noStrike">
              <a:solidFill>
                <a:srgbClr val="000000"/>
              </a:solidFill>
              <a:latin typeface="Verdana"/>
            </a:endParaRPr>
          </a:p>
          <a:p>
            <a:pPr lvl="1" marL="457200" algn="just">
              <a:lnSpc>
                <a:spcPct val="100000"/>
              </a:lnSpc>
              <a:spcBef>
                <a:spcPts val="249"/>
              </a:spcBef>
              <a:buClr>
                <a:srgbClr val="808080"/>
              </a:buClr>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2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5897"/>
                </a:solidFill>
                <a:latin typeface="Palatino Linotype"/>
              </a:rPr>
              <a:t>III. Falsificación de Sellos, Punzones, Matrices, Marcas, Papel Sellado, Timbres, Estampillas, etc.</a:t>
            </a:r>
            <a:br>
              <a:rPr sz="2200"/>
            </a:br>
            <a:endParaRPr b="1" lang="en-US" sz="2200" spc="-1" strike="noStrike">
              <a:solidFill>
                <a:srgbClr val="ff8d3e"/>
              </a:solidFill>
              <a:latin typeface="Verdana"/>
            </a:endParaRPr>
          </a:p>
        </p:txBody>
      </p:sp>
      <p:sp>
        <p:nvSpPr>
          <p:cNvPr id="256" name=""/>
          <p:cNvSpPr txBox="1"/>
          <p:nvPr/>
        </p:nvSpPr>
        <p:spPr>
          <a:xfrm>
            <a:off x="457200" y="1604520"/>
            <a:ext cx="8045280" cy="468180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Art. 180.  Falsificación del Sello del Estado y Uso del Sello Falso. El sello del Estado como tal ya no existe y la norma solo es un resabio de la época colonial en que había un funcionario a cargo de este sello con el cual se sellaban los documentos importantes, generalmente con lacre, lo que implicaba la autenticidad del document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81. Falsificación de Punzones, cuños o cuadrados. Esta norma también ha perdido utilidad (la falsificación del cuño mismo).  Se supone que hay papeles sellados con cuñas que tiene una forma determinada para estampar.</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86. Uso indebido de sellos, punzones, matrices, etc</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Concierto con los falsificadores: se regula en el Art. 182 para los concertados y en el Art.183 para el caso en que se actúa sin concierto previ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84. Principio de la falsificación burda. La doctrina dice que si el engaño es muy burdo no hay tal engañ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85. Falsificación de boleta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8"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
          <p:cNvSpPr txBox="1"/>
          <p:nvPr/>
        </p:nvSpPr>
        <p:spPr>
          <a:xfrm>
            <a:off x="457200" y="620280"/>
            <a:ext cx="8045280" cy="573732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800" spc="-1" strike="noStrike">
                <a:solidFill>
                  <a:srgbClr val="808080"/>
                </a:solidFill>
                <a:latin typeface="Century Gothic"/>
              </a:rPr>
              <a:t>Art. 190. </a:t>
            </a:r>
            <a:r>
              <a:rPr b="1" lang="es-ES" sz="1800" spc="-1" strike="noStrike">
                <a:solidFill>
                  <a:srgbClr val="808080"/>
                </a:solidFill>
                <a:latin typeface="Century Gothic"/>
              </a:rPr>
              <a:t>Uso ilegítimo de marcas, razón social o nombres del fabricante</a:t>
            </a: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800" spc="-1" strike="noStrike">
                <a:solidFill>
                  <a:srgbClr val="808080"/>
                </a:solidFill>
                <a:latin typeface="Century Gothic"/>
              </a:rPr>
              <a:t>La marca de la polera es aquella que se señala en la etiqueta y no el dibujo que ella lleva.</a:t>
            </a: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800" spc="-1" strike="noStrike">
                <a:solidFill>
                  <a:srgbClr val="808080"/>
                </a:solidFill>
                <a:latin typeface="Century Gothic"/>
              </a:rPr>
              <a:t> </a:t>
            </a:r>
            <a:r>
              <a:rPr b="1" lang="es-ES" sz="1800" spc="-1" strike="noStrike">
                <a:solidFill>
                  <a:srgbClr val="808080"/>
                </a:solidFill>
                <a:latin typeface="Century Gothic"/>
              </a:rPr>
              <a:t>Art. 191. Tentativa. No se aplica la regla de que el delito tentado debiera tener dos grados menos que el consumando.</a:t>
            </a: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800" spc="-1" strike="noStrike">
                <a:solidFill>
                  <a:srgbClr val="808080"/>
                </a:solidFill>
                <a:latin typeface="Century Gothic"/>
              </a:rPr>
              <a:t>  </a:t>
            </a:r>
            <a:r>
              <a:rPr b="1" lang="es-ES" sz="1800" spc="-1" strike="noStrike">
                <a:solidFill>
                  <a:srgbClr val="808080"/>
                </a:solidFill>
                <a:latin typeface="Century Gothic"/>
              </a:rPr>
              <a:t>Art.192. Hipótesis de arrepentimiento eficaz</a:t>
            </a: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p:txBody>
      </p:sp>
      <p:pic>
        <p:nvPicPr>
          <p:cNvPr id="260" name="4 Imagen" descr=""/>
          <p:cNvPicPr/>
          <p:nvPr/>
        </p:nvPicPr>
        <p:blipFill>
          <a:blip r:embed="rId1"/>
          <a:stretch/>
        </p:blipFill>
        <p:spPr>
          <a:xfrm>
            <a:off x="1357200" y="2857680"/>
            <a:ext cx="2286000" cy="1719000"/>
          </a:xfrm>
          <a:prstGeom prst="rect">
            <a:avLst/>
          </a:prstGeom>
          <a:ln w="0">
            <a:noFill/>
          </a:ln>
        </p:spPr>
      </p:pic>
      <p:grpSp>
        <p:nvGrpSpPr>
          <p:cNvPr id="261" name="Group 5"/>
          <p:cNvGrpSpPr/>
          <p:nvPr/>
        </p:nvGrpSpPr>
        <p:grpSpPr>
          <a:xfrm>
            <a:off x="2571840" y="1928880"/>
            <a:ext cx="3142800" cy="1514160"/>
            <a:chOff x="2571840" y="1928880"/>
            <a:chExt cx="3142800" cy="1514160"/>
          </a:xfrm>
        </p:grpSpPr>
        <p:sp>
          <p:nvSpPr>
            <p:cNvPr id="262" name="Line 6"/>
            <p:cNvSpPr/>
            <p:nvPr/>
          </p:nvSpPr>
          <p:spPr>
            <a:xfrm>
              <a:off x="2833560" y="3226680"/>
              <a:ext cx="170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3" name="Line 7"/>
            <p:cNvSpPr/>
            <p:nvPr/>
          </p:nvSpPr>
          <p:spPr>
            <a:xfrm>
              <a:off x="2571840" y="2145240"/>
              <a:ext cx="170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4" name="Line 8"/>
            <p:cNvSpPr/>
            <p:nvPr/>
          </p:nvSpPr>
          <p:spPr>
            <a:xfrm>
              <a:off x="2571840" y="21452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5" name="Text Box 9"/>
            <p:cNvSpPr/>
            <p:nvPr/>
          </p:nvSpPr>
          <p:spPr>
            <a:xfrm>
              <a:off x="4012200" y="1928880"/>
              <a:ext cx="1440360" cy="43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Calibri"/>
                </a:rPr>
                <a:t>MARCA</a:t>
              </a:r>
              <a:endParaRPr b="0" lang="en-US" sz="1000" spc="-1" strike="noStrike">
                <a:solidFill>
                  <a:srgbClr val="000000"/>
                </a:solidFill>
                <a:latin typeface="Arial"/>
              </a:endParaRPr>
            </a:p>
          </p:txBody>
        </p:sp>
        <p:sp>
          <p:nvSpPr>
            <p:cNvPr id="266" name="Text Box 10"/>
            <p:cNvSpPr/>
            <p:nvPr/>
          </p:nvSpPr>
          <p:spPr>
            <a:xfrm>
              <a:off x="4274280" y="3010680"/>
              <a:ext cx="1440360" cy="43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Calibri"/>
                </a:rPr>
                <a:t>DIBUJO</a:t>
              </a:r>
              <a:endParaRPr b="0" lang="en-US" sz="1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rbara</dc:creator>
  <dc:description/>
  <dc:language>en-US</dc:language>
  <cp:lastModifiedBy>barbara</cp:lastModifiedBy>
  <dcterms:modified xsi:type="dcterms:W3CDTF">2013-07-23T05:33:40Z</dcterms:modified>
  <cp:revision>22</cp:revision>
  <dc:subject/>
  <dc:title>Presentación de PowerPoint</dc:title>
</cp:coreProperties>
</file>