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E109-BA1A-4C95-AD51-F2303187AD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0840-5AFE-4011-8A85-43C82AC818A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8D76B-C78A-4F9F-968D-40755288E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2C5F3-4F24-41CE-81CC-9F2EC3CDB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AC4D0-8B4D-46FB-B26E-8EC9CCBCA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5C036-1F4E-438C-9287-4EDCAAC4B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B8E58-07F6-4083-8AD6-5E6F349B9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D3D99-395E-4145-8D01-51223A89B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96CE4-7DDE-4345-8C15-4F966903C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88D3E-7254-49A3-B9B3-77F2720C1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503A8-896D-4D82-8E8E-6DB24BE19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03FEE-9E77-4263-8CDA-73221970E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98516-6EAE-4E7A-B2BC-C867C3B7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1063-1E67-4BC5-8517-9CA60B204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958DD-B73B-4667-A8A8-EDD285D0A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425E2-8D8E-4077-9EA3-846900EA4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76CFC-204D-4DC2-820D-0A6EF1E1B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4ECDC-3CE4-4B0B-A83F-77F4C394D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B94DA-8615-45C6-A291-44FC97176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8B42-28B7-413A-A523-91E9FED9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59DB4-C120-41FE-A6DB-BB22678D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34398-CD42-4F1F-B601-1F94EEF96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5CFB3-CDFC-4A5C-B65E-6D598A4B8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A7AD-C082-4B76-9553-2DA292A2E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DA28-100B-4CF4-8641-59342EC1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FA5A-78E6-4D7A-82D5-192F7B0CE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91AD-7814-450F-B01B-6DB648B43D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74A7-F883-405E-9C54-0449583B982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22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937F-2ACD-4959-8C40-7AFBB07F175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D606-7920-43C7-B073-29991E98718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Picture 4"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Picture 4"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Pictur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Picture 4" descr="bernoulli_5"/>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2T11:36:30Z</dcterms:modified>
  <cp:revision>157</cp:revision>
  <dc:subject/>
  <dc:title>Derecho Constitucional Económico</dc:title>
</cp:coreProperties>
</file>