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BBB9-E61E-4369-A980-1CDA1589E6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C3EE-9733-405D-BA37-4C8B3A0DD5F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91540-866F-43AD-AE8F-9ED41B89B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15EB8-791D-4858-8489-DA8A1622A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62879-BA95-4D8F-8727-4160AFB61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AD74F-5950-470D-A29C-3C84561AF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57160-B89C-4A37-A037-F6C426D07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3C01B-8CA3-4D62-BCC4-AE066653F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1147F-A0F7-448D-8340-FC35C1072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E66A6-7AF3-4D92-A865-ADA170387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496C4-CE73-4269-8B10-26F5301B6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49DAC-A8E7-44DE-8345-6CE134AC4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D2DD2-F2AF-4FD0-B906-0C273D966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8FB0C-FBB3-47FA-A1A3-2E087447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19F79-EA6D-4E85-906B-BB8D88BC4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6B5A-CE99-4ABA-8D14-2B09CC606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A029F-91D0-4078-8942-F3859AF1C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1E72C-4981-4358-914B-1CAC6D8DA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2B26F-34C2-4F17-9C62-27B270FAD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DA90-9014-4946-92CC-B7FF9BB15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0820-16DC-498B-8854-60E4FBAF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5A55D-427B-49D1-AC07-1E68353F5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DE420-E479-4EA9-AD98-AACF99E37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02A33-E4CC-4686-BE84-B2897C798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CF6C-6C6E-4792-AF15-DC4E314C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0939-5AEF-49ED-8693-8BB2E16F9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EADD-B86C-4C60-A4D5-7B14D76C966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922C-D6E0-49E9-B8D6-889D7DC1DE0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22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FC81-E64F-467E-A0B8-1B49922C4FD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849B-0198-4DA0-905B-6BF86DC716D9}"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Picture 4"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Picture 4"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Pictur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Picture 4" descr="bernoulli_5"/>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2T11:36:30Z</dcterms:modified>
  <cp:revision>157</cp:revision>
  <dc:subject/>
  <dc:title>Derecho Constitucional Económico</dc:title>
</cp:coreProperties>
</file>