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6A43-59F3-4F14-9F72-A166E3F55C9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26EF-FD52-464C-A44F-C64840F0CCC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E922C-FA58-4CA4-8A53-4E7CCC90A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630BF-2A50-4FF7-90B3-D7A96829A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465D8-FE16-4702-8EE6-921E8EE7B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12CB8-1135-4008-9430-4A5E93F2A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8FDD2-FBEF-4D8B-B393-3E6599014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F262A-C9B4-43CD-BDDB-281CAC3AB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179D5-3B09-4FA7-B4F3-469A3C14F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BA60D-5118-4D27-B0FE-B4D2AF56D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EA902-0727-41B1-BB3C-8F97CB913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D7DCC-BE41-49D7-BE49-175792FD1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2D188-F97E-41FD-98B8-D8CA43909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8B8BF-5DE7-4016-A714-4BB958240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FD738-C80C-43DE-807E-C6041C1AE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582A6-3457-4F5C-996E-3E26CC01B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1181A-203D-4B7A-B169-CCDF749B9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47B10-F17D-412B-94AB-83D7A0488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006BD-3049-4BEF-B48C-B5480A5B8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5CBDD-CFCC-4D5F-8A4B-35F860703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106E4-1C0E-477A-AA36-4CD543863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2219C-B31A-41E5-82F4-EDBCD2B19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7872D-8EC5-436D-81A7-47ED023BC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E054F-16A4-4192-BA7F-DA2947F91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CA54-6A32-4763-AFF6-F5863380D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65C94-BDE2-43BB-9570-B66D9EEE9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56E1-105D-41D1-8D21-9A1EAB26033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81B9-53BC-461D-B82C-DFBC28DE4E54}"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8: 22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de Factores</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de paradigma:</a:t>
            </a:r>
            <a:endParaRPr b="0" lang="en-US" sz="32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derechos meramente programáticos a “de prestación” o exigibles en forma compulsiva.</a:t>
            </a: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talizador de cambi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19" name=""/>
          <p:cNvSpPr txBox="1"/>
          <p:nvPr/>
        </p:nvSpPr>
        <p:spPr>
          <a:xfrm>
            <a:off x="1523880" y="1904760"/>
            <a:ext cx="7010640" cy="426708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Que la amplia mayoría de la doctrina nacional y extranjera reconoce que los derechos sociales, llamados también </a:t>
            </a:r>
            <a:r>
              <a:rPr b="0" lang="es-ES" sz="1600" spc="-1" strike="noStrike" u="sng">
                <a:solidFill>
                  <a:srgbClr val="000000"/>
                </a:solidFill>
                <a:uFillTx/>
                <a:latin typeface="Arial"/>
              </a:rPr>
              <a:t>derechos de prestación o de la segunda generación, son tales y no simples declamaciones o meras expectativas, cuya materialización efectiva quede suspendida hasta que las disponibilidades presupuestarias del Estado puedan llevarlos a la práctica</a:t>
            </a:r>
            <a:r>
              <a:rPr b="0" lang="es-ES" sz="1600" spc="-1" strike="noStrike">
                <a:solidFill>
                  <a:srgbClr val="000000"/>
                </a:solidFill>
                <a:latin typeface="Arial"/>
              </a:rPr>
              <a:t>. Acertadamente, se ha escrito […] que en tales derech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núcleo normativo es que el sujeto tiene un título para exigir que se entreguen ciertos bienes, se le presten ciertos servicios o se le transfieran ciertos recursos. Entre tales derechos encontramos la prestación de un servicio (educación, salud, protección del riesgo, etc.)”</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2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3"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600" spc="-1" strike="noStrike">
                <a:solidFill>
                  <a:srgbClr val="000000"/>
                </a:solidFill>
                <a:latin typeface="Arial"/>
              </a:rPr>
              <a:t>“</a:t>
            </a:r>
            <a:r>
              <a:rPr b="0" lang="es-ES" sz="1600" spc="-1" strike="noStrike">
                <a:solidFill>
                  <a:srgbClr val="000000"/>
                </a:solidFill>
                <a:latin typeface="Arial"/>
              </a:rPr>
              <a:t>Que resulta ineludible desvanecer la tesis contraria a que los derechos sociales sean realmente tales, aseverando […] que poner en duda su “practicabilidad” de realización, es una idea confusa, porque esa “reserva de lo posible” lleva a sostener que la Constitución ha de ser “desactivada”, a causa de la imposibilidad económica del Estado de darles satisfacción, convirtiendo así en virtuales las cláusulas fundamentales que aseguran su materializació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Lo que tienen en común estos derechos no es tanto su contenido, esto es, la esfera de la vida social a que se refieren, sino más bien la posición jurídica que otorgan a su titular. </a:t>
            </a:r>
            <a:r>
              <a:rPr b="0" lang="es-ES" sz="1600" spc="-1" strike="noStrike" u="sng">
                <a:solidFill>
                  <a:srgbClr val="000000"/>
                </a:solidFill>
                <a:uFillTx/>
                <a:latin typeface="Arial"/>
              </a:rPr>
              <a:t>De esta forma, los derechos sociales permitirían a sus titulares exigir ya no abstención por parte del Estado, como sucedía en los derechos de libertad, sino más bien una actuación positiva de éste en orden a su consecución</a:t>
            </a:r>
            <a:r>
              <a:rPr b="0" lang="es-ES" sz="1600" spc="-1" strike="noStrike">
                <a:solidFill>
                  <a:srgbClr val="000000"/>
                </a:solidFill>
                <a:latin typeface="Arial"/>
              </a:rPr>
              <a:t>. Por ello es más adecuado a su naturaleza la denominación de derechos de prestació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s y contras de esta mirada?</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ilidad de los sistemas (¿germen de la autodestruc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 prescindirse de est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cesidad de una aplicación </a:t>
            </a:r>
            <a:r>
              <a:rPr b="0" i="1" lang="es-CL" sz="1800" spc="-1" strike="noStrike">
                <a:solidFill>
                  <a:srgbClr val="000000"/>
                </a:solidFill>
                <a:latin typeface="Arial"/>
              </a:rPr>
              <a:t>prud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60"/>
            <a:ext cx="7010640" cy="17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s-CL" sz="3800" spc="-1" strike="noStrike">
                <a:solidFill>
                  <a:srgbClr val="000000"/>
                </a:solidFill>
                <a:latin typeface="Arial"/>
              </a:rPr>
              <a:t>Declaración de </a:t>
            </a:r>
            <a:br>
              <a:rPr sz="3800"/>
            </a:br>
            <a:r>
              <a:rPr b="0" lang="es-CL" sz="3800" spc="-1" strike="noStrike">
                <a:solidFill>
                  <a:srgbClr val="000000"/>
                </a:solidFill>
                <a:latin typeface="Arial"/>
              </a:rPr>
              <a:t>Inconstitucionalidad del </a:t>
            </a:r>
            <a:br>
              <a:rPr sz="3800"/>
            </a:br>
            <a:r>
              <a:rPr b="0" lang="es-CL" sz="3800" spc="-1" strike="noStrike">
                <a:solidFill>
                  <a:srgbClr val="000000"/>
                </a:solidFill>
                <a:latin typeface="Arial"/>
              </a:rPr>
              <a:t>art. 38 ter de la Ley de Isapres</a:t>
            </a:r>
            <a:endParaRPr b="0" lang="en-US" sz="3800" spc="-1" strike="noStrike">
              <a:solidFill>
                <a:srgbClr val="000000"/>
              </a:solidFill>
              <a:latin typeface="Arial"/>
            </a:endParaRPr>
          </a:p>
        </p:txBody>
      </p:sp>
      <p:sp>
        <p:nvSpPr>
          <p:cNvPr id="12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
          <p:cNvSpPr txBox="1"/>
          <p:nvPr/>
        </p:nvSpPr>
        <p:spPr>
          <a:xfrm>
            <a:off x="1523880" y="2437920"/>
            <a:ext cx="7010640" cy="3581640"/>
          </a:xfrm>
          <a:prstGeom prst="rect">
            <a:avLst/>
          </a:prstGeom>
          <a:noFill/>
          <a:ln w="0">
            <a:noFill/>
          </a:ln>
        </p:spPr>
        <p:txBody>
          <a:bodyPr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sentencia Rol 1710-10-INC, declaró inconstitucional los numerales  </a:t>
            </a:r>
            <a:r>
              <a:rPr b="0" lang="es-ES" sz="2000" spc="-1" strike="noStrike">
                <a:solidFill>
                  <a:srgbClr val="000000"/>
                </a:solidFill>
                <a:latin typeface="Arial"/>
              </a:rPr>
              <a:t>1, 2, 3 y 4 del inciso tercero del artículo 38 ter de la Ley N° 18.933</a:t>
            </a:r>
            <a:r>
              <a:rPr b="0" lang="es-MX" sz="2000" spc="-1" strike="noStrike">
                <a:solidFill>
                  <a:srgbClr val="000000"/>
                </a:solidFill>
                <a:latin typeface="Arial"/>
              </a:rPr>
              <a:t> (Ley de Isapres) cuyo texto, refundido, coordinado y sistematizado se encuentra en el D.F.L. N° 1 de 2005, del Minsal.</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f = Pb * Fr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38 ter (art. 199 DFL 1)</a:t>
            </a:r>
            <a:endParaRPr b="0" lang="en-US" sz="4200" spc="-1" strike="noStrike">
              <a:solidFill>
                <a:srgbClr val="000000"/>
              </a:solidFill>
              <a:latin typeface="Arial"/>
            </a:endParaRPr>
          </a:p>
        </p:txBody>
      </p:sp>
      <p:sp>
        <p:nvSpPr>
          <p:cNvPr id="131" name="PlaceHolder 2"/>
          <p:cNvSpPr>
            <a:spLocks noGrp="1"/>
          </p:cNvSpPr>
          <p:nvPr>
            <p:ph/>
          </p:nvPr>
        </p:nvSpPr>
        <p:spPr>
          <a:xfrm>
            <a:off x="456840" y="1905120"/>
            <a:ext cx="8534520" cy="4114800"/>
          </a:xfrm>
          <a:prstGeom prst="rect">
            <a:avLst/>
          </a:prstGeom>
          <a:noFill/>
          <a:ln w="0">
            <a:noFill/>
          </a:ln>
        </p:spPr>
        <p:txBody>
          <a:bodyPr anchor="t">
            <a:normAutofit fontScale="99000"/>
          </a:bodyPr>
          <a:p>
            <a:pPr marL="339480" indent="-3394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Para determinar el precio que el afiliado deberá pagar a la Institución de Salud Previsional por el plan de salud, la Institución deberá aplicar a </a:t>
            </a:r>
            <a:r>
              <a:rPr b="0" lang="es-CL" sz="1300" spc="-1" strike="noStrike" u="sng">
                <a:solidFill>
                  <a:srgbClr val="000000"/>
                </a:solidFill>
                <a:uFillTx/>
                <a:latin typeface="Arial"/>
              </a:rPr>
              <a:t>los precios base que resulten de lo dispuesto en el artículo precedente [esto es, precios base], el o los factores que correspondan a cada beneficiario, de acuerdo a la respectiva tabla de factores</a:t>
            </a:r>
            <a:r>
              <a:rPr b="0" lang="es-CL" sz="1300" spc="-1" strike="noStrike">
                <a:solidFill>
                  <a:srgbClr val="000000"/>
                </a:solidFill>
                <a:latin typeface="Arial"/>
              </a:rPr>
              <a: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La Superintendencia fijará, mediante instrucciones de general aplicación, </a:t>
            </a:r>
            <a:r>
              <a:rPr b="0" lang="es-CL" sz="1300" spc="-1" strike="noStrike" u="sng">
                <a:solidFill>
                  <a:srgbClr val="000000"/>
                </a:solidFill>
                <a:uFillTx/>
                <a:latin typeface="Arial"/>
              </a:rPr>
              <a:t>la estructura de las tablas de factores</a:t>
            </a:r>
            <a:r>
              <a:rPr b="0" lang="es-CL" sz="1300" spc="-1" strike="noStrike">
                <a:solidFill>
                  <a:srgbClr val="000000"/>
                </a:solidFill>
                <a:latin typeface="Arial"/>
              </a:rPr>
              <a:t>, estableciendo los tipos de beneficiarios, según sexo y condición de cotizante o carga, y los rangos de edad que se deban utilizar.</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Cada rango de edad que fije la Superintendencia en las instrucciones señaladas en el inciso precedente se sujetará a las siguientes reglas: </a:t>
            </a:r>
            <a:r>
              <a:rPr b="1" lang="es-CL" sz="1300" spc="-1" strike="noStrike">
                <a:solidFill>
                  <a:srgbClr val="000000"/>
                </a:solidFill>
                <a:latin typeface="Arial"/>
              </a:rPr>
              <a:t>1.- El primer tramo comenzará desde el nacimiento y se extenderá hasta menos de dos años de edad; 2.- Los siguientes tramos, desde los dos años de edad y hasta menos de ochenta años de edad, comprenderán un mínimo de tres años y un máximo de cinco años; 3.- La Superintendencia fijará, desde los ochenta años de edad, el o los tramos que correspondan; 4.- La Superintendencia deberá fijar, cada diez años, </a:t>
            </a:r>
            <a:r>
              <a:rPr b="1" lang="es-CL" sz="1300" spc="-1" strike="noStrike" u="sng">
                <a:solidFill>
                  <a:srgbClr val="000000"/>
                </a:solidFill>
                <a:uFillTx/>
                <a:latin typeface="Arial"/>
              </a:rPr>
              <a:t>la relación máxima entre el factor más bajo y el más alto de cada tabla, diferenciada por sexo</a:t>
            </a:r>
            <a:r>
              <a:rPr b="0" lang="es-CL" sz="1300" spc="-1" strike="noStrike">
                <a:solidFill>
                  <a:srgbClr val="000000"/>
                </a:solidFill>
                <a:latin typeface="Arial"/>
              </a:rPr>
              <a:t>, y 5.- En cada tramo, el factor que corresponda a una carga no podrá ser superior al factor que corresponda a un cotizante del mismo sexo.</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En el marco de lo señalado en el inciso precedente, </a:t>
            </a:r>
            <a:r>
              <a:rPr b="0" lang="es-CL" sz="1300" spc="-1" strike="noStrike" u="sng">
                <a:solidFill>
                  <a:srgbClr val="000000"/>
                </a:solidFill>
                <a:uFillTx/>
                <a:latin typeface="Arial"/>
              </a:rPr>
              <a:t>las Instituciones de Salud Previsional serán libres para determinar los factores de cada tabla que empleen</a:t>
            </a:r>
            <a:r>
              <a:rPr b="0" lang="es-CL" sz="1300" spc="-1" strike="noStrike">
                <a:solidFill>
                  <a:srgbClr val="000000"/>
                </a:solidFill>
                <a:latin typeface="Arial"/>
              </a:rPr>
              <a:t>. En todo caso, la tabla de un determinado plan de salud no podrá variar para los beneficiarios mientras se encuentren adscritos al mismo, ni podrá alterarse para quienes se incorporen a él, a menos que la modificación consista en disminuir de forma permanente los factores, total o parcialmente, lo que requerirá autorización previa de la Superintendencia; dicha disminución se hará aplicable a todos los planes de salud que utilicen esa tabl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Relación Máxima”</a:t>
            </a:r>
            <a:endParaRPr b="0" lang="en-US" sz="4200" spc="-1" strike="noStrike">
              <a:solidFill>
                <a:srgbClr val="000000"/>
              </a:solidFill>
              <a:latin typeface="Arial"/>
            </a:endParaRPr>
          </a:p>
        </p:txBody>
      </p:sp>
      <p:sp>
        <p:nvSpPr>
          <p:cNvPr id="133"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i="1" lang="es-ES" sz="1800" spc="-1" strike="noStrike">
                <a:solidFill>
                  <a:srgbClr val="000000"/>
                </a:solidFill>
                <a:latin typeface="Arial"/>
              </a:rPr>
              <a:t>relación máxima</a:t>
            </a:r>
            <a:r>
              <a:rPr b="0" lang="es-ES" sz="1800" spc="-1" strike="noStrike">
                <a:solidFill>
                  <a:srgbClr val="000000"/>
                </a:solidFill>
                <a:latin typeface="Arial"/>
              </a:rPr>
              <a:t> quedó fijada a nivel legal en el artículo segundo transitorio de la Ley Nº 20.015, norma que dispone que:</a:t>
            </a:r>
            <a:endParaRPr b="0" lang="en-US" sz="1800" spc="-1" strike="noStrike">
              <a:solidFill>
                <a:srgbClr val="000000"/>
              </a:solidFill>
              <a:latin typeface="Arial"/>
            </a:endParaRPr>
          </a:p>
          <a:p>
            <a:pPr lvl="1" marL="743040" indent="-285840">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a:t>
            </a:r>
            <a:r>
              <a:rPr b="0" lang="es-ES" sz="1700" spc="-1" strike="noStrike">
                <a:solidFill>
                  <a:srgbClr val="000000"/>
                </a:solidFill>
                <a:latin typeface="Arial"/>
              </a:rPr>
              <a:t>La relación máxima a que alude el numeral 4 del inciso tercero del artículo 38 ter que se agrega a la ley Nº 18.933 será, para el primer decenio contado desde la vigencia de la presente ley, de hasta 9 veces, en el caso de las mujeres, y de 14 veces, en el caso de los hombres</a:t>
            </a:r>
            <a:r>
              <a:rPr b="0" i="1" lang="es-ES" sz="1700" spc="-1" strike="noStrike">
                <a:solidFill>
                  <a:srgbClr val="000000"/>
                </a:solidFill>
                <a:latin typeface="Arial"/>
              </a:rPr>
              <a:t>”</a:t>
            </a:r>
            <a:endParaRPr b="0" lang="en-US" sz="1700" spc="-1" strike="noStrike">
              <a:solidFill>
                <a:srgbClr val="000000"/>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E22C-F80B-453C-89CF-83AABC8E568F}"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Estructura de la Tabla</a:t>
            </a:r>
            <a:endParaRPr b="0" lang="en-US" sz="4200" spc="-1" strike="noStrike">
              <a:solidFill>
                <a:srgbClr val="000000"/>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2559-E8CD-42D4-A98D-C42DA359B985}"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37" name="Picture 4" descr=""/>
          <p:cNvPicPr/>
          <p:nvPr/>
        </p:nvPicPr>
        <p:blipFill>
          <a:blip r:embed="rId1"/>
          <a:stretch/>
        </p:blipFill>
        <p:spPr>
          <a:xfrm>
            <a:off x="1295280" y="1676520"/>
            <a:ext cx="632484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Completada</a:t>
            </a:r>
            <a:endParaRPr b="0" lang="en-US" sz="4200" spc="-1" strike="noStrike">
              <a:solidFill>
                <a:srgbClr val="000000"/>
              </a:solidFill>
              <a:latin typeface="Arial"/>
            </a:endParaRPr>
          </a:p>
        </p:txBody>
      </p:sp>
      <p:sp>
        <p:nvSpPr>
          <p:cNvPr id="13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0" name="Picture 4" descr=""/>
          <p:cNvPicPr/>
          <p:nvPr/>
        </p:nvPicPr>
        <p:blipFill>
          <a:blip r:embed="rId1"/>
          <a:stretch/>
        </p:blipFill>
        <p:spPr>
          <a:xfrm>
            <a:off x="1371600" y="1905120"/>
            <a:ext cx="6440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2" name="Picture 3" descr=""/>
          <p:cNvPicPr/>
          <p:nvPr/>
        </p:nvPicPr>
        <p:blipFill>
          <a:blip r:embed="rId1"/>
          <a:stretch/>
        </p:blipFill>
        <p:spPr>
          <a:xfrm>
            <a:off x="1447920" y="1905120"/>
            <a:ext cx="7010280" cy="39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ey de Isapre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ey N° 18.933 (Ley de Isapres) cuyo texto, refundido, coordinado y sistematizado se encuentra en el D.F.L. N°1 de 2005, del Ministerio de Salud (DFL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4" name="Chart 1" descr=""/>
          <p:cNvPicPr/>
          <p:nvPr/>
        </p:nvPicPr>
        <p:blipFill>
          <a:blip r:embed="rId1"/>
          <a:stretch/>
        </p:blipFill>
        <p:spPr>
          <a:xfrm>
            <a:off x="1600200" y="2081160"/>
            <a:ext cx="6858000" cy="37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istema mixto</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stema de Isapres convive con Fon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imero, en base a primas ajustadas por riesgo (tendencia individ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segundo, en base a una prima proporcional (tendencia solid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ovimiento en uno de los subsistemas, tiene repercusión en el otr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1" name="Picture 4" descr="bernoulli_5"/>
          <p:cNvPicPr/>
          <p:nvPr/>
        </p:nvPicPr>
        <p:blipFill>
          <a:blip r:embed="rId1"/>
          <a:stretch/>
        </p:blipFill>
        <p:spPr>
          <a:xfrm>
            <a:off x="1600200" y="1905120"/>
            <a:ext cx="6934320" cy="419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simetrías de Información</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o de los principales problemas del sistema Isapres son las asimetrías de informació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die sabe qué es lo que se está contratand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sta comparar = afecta el nivel de competencia = mayores preci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lusiones</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la regulación del precio base como de la tabla de factores, a ojos de los tribunales, permitían fuertes variaciones del precio final, lo que lograban la exclusión del sistema privado a los afiliados “riesgoso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Precios Base</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sible origen en el aumento exponencial de los precio base de los contratos de salud (art. 197 de la Ley de Isap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ó la presentación masiva de recursos de protec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Tabla de Factores</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siguiente paso, fue la tabla de factores de los contratos de salud, impugnándose la aplicación del artículo 38 ter de la Ley de Isapres (art. 199 DFL 1) mediante requerimientos presentados ante el 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cciones constitucionales en contra de los factores de cálculo del precio final de los planes de salud, apuntaron al “corazón del negocio” de las Isap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eptos </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precio base</a:t>
            </a:r>
            <a:r>
              <a:rPr b="0" lang="es-ES" sz="1500" spc="-1" strike="noStrike">
                <a:solidFill>
                  <a:srgbClr val="000000"/>
                </a:solidFill>
                <a:latin typeface="Arial"/>
              </a:rPr>
              <a:t>”, por el precio asignado por la Institución a cada plan de salud. Se aplicará idéntico precio base a todas las personas que contraten el mismo plan. El precio final que se pague a la Institución de Salud Previsional por el plan contratado, excluidos los beneficios adicionales, se obtendrá multiplicando el respectivo precio base por el factor que corresponda al afiliado o beneficiario de conformidad a la respectiva tabla de factores, y</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tabla de factores</a:t>
            </a:r>
            <a:r>
              <a:rPr b="0" lang="es-ES" sz="1500" spc="-1" strike="noStrike">
                <a:solidFill>
                  <a:srgbClr val="000000"/>
                </a:solidFill>
                <a:latin typeface="Arial"/>
              </a:rPr>
              <a:t>” por aquella tabla elaborada por la Institución de Salud Previsional cuyos factores muestran la relación de precios del plan de salud para cada grupo de personas, según edad, sexo y condición de cotizante o carga, con respecto a un grupo de referencia definido por la Superintendencia, en instrucciones de general aplicación, el cual asumirá el valor unitario. Esta tabla representa un mecanismo pactado de variación del precio del plan a lo largo del ciclo de vida, el que es conocido y aceptado por el afiliado o beneficiario al momento de suscribir el contrato o incorporarse a él, según corresponda, y que no podrá sufrir variaciones en tanto la persona permanezca adscrita a ese pla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22T11:36:30Z</dcterms:modified>
  <cp:revision>157</cp:revision>
  <dc:subject/>
  <dc:title>Derecho Constitucional Económico</dc:title>
</cp:coreProperties>
</file>