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2F29-F0B8-4F07-BA1C-45B6CCF17D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7C9D-E054-4467-8CC4-189948F6E5D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CDD68-0CD5-4180-875B-5ADFCF69B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4D78-4D59-4C39-94D5-6DBEAF2E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2620C-3893-4CD8-A46A-9A972CB8D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FAB9F-44E8-4FC2-A1E6-CF4CB00B7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00D20-4341-4D0A-9ED3-9F5A7DC68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A4F56-F677-4FB4-8792-DE9271E3E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02EDE-E1C2-4B73-AE25-CC06E4718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ADE4B-EE07-4902-9D26-CCEEC1A6D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4E341-2CF6-4881-A43D-544DFDB0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B720A-A143-4C51-9C81-814119A0F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DFC7-D2F5-49E9-912E-368A08567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3897-4709-4150-8FE3-60CE302E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43C87-59E2-4FE8-9B2D-5BEB8C4AC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86A72-E770-4E16-A69E-3B54C6E8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A1BDF-8BBE-41F5-9B52-8E8540BE1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C6C78-8D75-488B-A31F-169F93089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E7BAB-6A12-4077-B2A6-90627F222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5BCE-7771-47B9-BC91-AE506D7D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4AB38-5738-4F01-AC08-CAFB4083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A71F-C5EA-4B4A-8753-4B19AB02E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EE022-A9F5-4C00-BADF-00732673C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34F4-75A9-4922-BF4B-F76C0620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F7BC-E3F8-4CF3-AACF-05F626705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A33D-17C4-4369-B2FE-CE93EE983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FC15-C4DC-4886-9F09-F54339C882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56FA-3AE6-4516-BD6F-CBF7DA7D2515}"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22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1DDE-3D9B-48B8-A8BF-96407F1585F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5AA4-041F-4F2F-9C47-2F08C5EAB6F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Picture 4"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Picture 4"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Pictur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Picture 4" descr="bernoulli_5"/>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2T11:36:30Z</dcterms:modified>
  <cp:revision>157</cp:revision>
  <dc:subject/>
  <dc:title>Derecho Constitucional Económico</dc:title>
</cp:coreProperties>
</file>