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503-7501-4C0F-978F-D49A1A2E9B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5C7D-3030-4E62-BEDF-F884E4101575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225-6D21-4E9D-97D2-17C13BDC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AA7-4BB1-422B-A20A-351FE700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186-443E-4E54-92EB-6EB35267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FE9-2138-4E51-98F0-21A3E0A8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E9E-C2E7-45A8-875F-8AF43B0F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7BE-2DF9-42CF-BE6D-9DCFFFD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6105-62BC-48A2-86B7-E9A7306D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205A-D38A-4091-9736-07A682CF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EAA8-9AF1-4C2B-9256-6A42D49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F427-F72A-4110-AC63-DF09FFD5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7F04-28D5-42C2-8EE6-EB007F7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AC8-D514-4287-80C1-CD0CC0E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7682-B71F-409D-AA1B-3DE608C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754A-6FF5-4DED-AA0E-5842F3A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7C0-9E70-4595-83C0-1B67A3E9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F14A-D882-4BF5-86F3-390C96E7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6271-BDD2-4052-BB31-04C551B6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0AE-E7A2-4F6C-A2D6-16835E6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8F3-87E2-4E43-8B3D-52BE839F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A3B-D77C-44DF-9888-39E3916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7BF-536F-499E-9A60-8B4A975B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706-B1F1-4875-90A1-44654D0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2F4-A89D-40B6-AF2F-3D3457B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2A0-F792-4425-AB12-5A2156F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BCC-91DD-4F2E-A97E-0CC7DB2D96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3958-ECB0-4367-8E87-75D7E4274B1C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13 de noviembre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8" descr="Fig1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2-11-08T14:08:24Z</dcterms:modified>
  <cp:revision>119</cp:revision>
  <dc:subject/>
  <dc:title>Derecho Constitucional Económico</dc:title>
</cp:coreProperties>
</file>