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D963-B87D-4639-A95B-BE466D94214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65D0-C488-497A-8517-F3C2BBD49322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9BBB-5554-4251-9491-28B311E5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474-F1FA-419D-8AEF-4AE39C30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658-1F4B-4648-90CB-EA0403F0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6E0-F776-45BF-8F63-827D5450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CAD-9D5A-4EDA-9CB9-755A7DD7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57F0-F9BE-40C5-B4C6-6A973130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CD29-6B0B-4A31-B2C0-2065D848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2692-EBF7-4E92-9B1C-72E7997A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3E3B-E239-4612-BF68-3F6F3375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9E44-83E7-4844-808E-9C1E8DA9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43C7-37A0-4E11-952C-44DCA6E2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901-FBCF-40D0-80BA-79B1D62A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F934-9D1D-4DFD-BE03-8FD56C0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F937-8BA7-4A05-98FD-0E3C05A5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22AC-8A94-4772-97C3-AF8A6A34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6B4F-9C1F-40C4-A227-D8406DC1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07E7-42BF-41BF-B6A7-A5A3517F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D0D-6FFD-4BB5-B5CD-27024B63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088-54B8-471C-9A0B-BE9D5A3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54B-4A19-4FC2-946D-3869991F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49A-3B40-4041-8C82-38E17FE7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532-6BF9-464A-BE8E-79685C37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4297-4788-499D-A842-EA042A80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505-DD6A-42CA-8D3E-A018C32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5627-CAD0-45C9-9C86-6BDAB6B84AA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6B4D-DF4B-40A2-91D6-37B7217DE9C2}" type="slidenum">
              <a:rPr b="0" lang="es-E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13 de noviembre d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Picture 8" descr="Fig1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2-11-08T14:08:24Z</dcterms:modified>
  <cp:revision>119</cp:revision>
  <dc:subject/>
  <dc:title>Derecho Constitucional Económico</dc:title>
</cp:coreProperties>
</file>