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6B95-7189-4614-A1F5-32474612FA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A80F-6C8C-4DDC-8E3B-9760249FEFB1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9B2-1BCB-4B6B-B326-FA3DE4AD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89E-6202-4B29-9141-E5B36822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165-34E8-4EAA-9D65-5050AD48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9D4-D7F6-4EFC-8FDB-1214CF22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E47B-C353-48F2-A8B3-61CA6EE2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BFBE-9981-48C2-85ED-3CA6208F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2A6F-E71A-4C47-ACE8-1E9787AD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84F2-1998-438D-A1CD-0F4E63D2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1B72-5FD1-4D5D-93B9-AAB0C800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EB9C-5151-4B3B-9DA5-B075FDBC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4B9D-8B08-4276-8FE8-172366C8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AB5-DFBF-44F2-BB72-3D508744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360D-DD2E-4552-B95B-AAE74820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C55A-7157-4D1C-9508-795CC00A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67DD-1B9D-4F8A-9FAE-A1D23DD7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0DBA-80F7-40F3-8FD8-BED37751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6CA2-40FD-411C-84AB-BC064140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254-1E10-4ADF-8B1C-6CCDDEE9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2E6-0605-41A6-9B13-581B4370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B74-F8BA-46B5-AC1C-1A462FE9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A6F-624A-48CB-8F4B-9BD9E4D5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997-B9A9-4A57-935A-B8B231EE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315-9CAF-44FC-A542-85F4AB5E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C71-DEC2-4D20-BF2C-EEE4A72E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968F-6F57-48B5-A284-6C59AC8C58A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DCB2-ECD3-4D03-885F-1AF48F48EF3D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15: 13 de noviembre d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roveedores públicos o privad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Atención primaria o de especi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relevancia tiene el modelo? ¿concesi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ntivos para reducir costos vs.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Regulación de precios? (baja elastic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eguramiento de la calidad (asimetrías de inform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financiamiento y el sistema de seguros (riesgo 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 y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ir aquellos bienes o servicios que solucione un problema de salud dado al menor costo (razón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sto-efectiv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12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asignativa y problema de pri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A quién asignar? ¿A quién le produce mayor val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Bajo qué crite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actores determin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enfermedades más relevantes desde el punto de vista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tidad y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que generan la may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ga de 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ra las que se cuenten con medida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tervención de efectiv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bada;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salud que no matan, per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minuyen la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personas, generando discapacidad, dolor y angus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rramientas epidemiológ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científica que estudia la distribución, frecuencia, determinantes, relaciones, predicciones y control de los factores relacionados con la salud y enfermedad en poblacion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s de mortalidad/mor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alencia, propor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idencia, rapidez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Hanl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los criterios que usa son amplitud del problema(A), severidad del problema(B), eficacia de la solución(C), factibilidad de la intervención(D).  El puntaje esta dado por la fórmula (A+B)C x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OPS-CEND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criterios de priorización son magnitud del problema, trascendencia, vulnerabilidad, relación costo efecto y t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ndice 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sidera en su cálculo, para cada enfermedad, la tasa de mortalidad ajustada por edad y sexo, respecto de la tasa de mortalidad estandarizada por edad y sexo para una población de referencia; la tasa bruta de mortalidad por 100.000 habitantes; los años de vida perdidos por muerte prematura; los días de hospitalización y el número de consultas externas, por cada 100.000 habitantes. Este índice tiene las ventajas de utilizar información generalmente disponible en las estadísticas tradicionales y la de agreg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t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bi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una unidad de med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étodo AVI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sidera un componente cuantit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muerte prem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la discapacidad derivada de la enfermedad y sus secu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social de las muertes o de la 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un componente cualitativo derivado de la opinión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métodos tienen ciertos componentes su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Picture 8" descr="Fig1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difíciles de llevar a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mentos discutibles (estimación de problemas, determinación de eficacia de intervenciones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incorporar múltiples dimensiones: política, ética, val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1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mos en la clase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lación (¿causalidad?) entre niveles de salud pública y desarrollo económ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niveles de salud pública y el gasto en salud (problema del uso alternativo de los recurs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scusión sobre el nivel (cualitativo y cuantitativo) de salud a garantiz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las del “mercado de la salu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lemas intrínse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 (Problema Principal-Agen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a elasticidad de l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oble) Riesgo Mo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ovación como “Bien Públ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odría ser “atacado” constitucionalmente un método/resultados de un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construir el arg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s deseable desde el punto del bienestar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sólo una respuesta respecto del efecto de la dinámica constitucional sobre los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l resultado del diseño de políticas públicas en salud es “per se” mejor que el de la “dinámica constituci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alguna forma de “profilaxis constitucional” de las políticas públicas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arentemente es parte del “medio ambiente” donde ocurr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lítica pública en salud = resultado neto entre (política original) +/- (dinámica constituc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de mercado llev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gar el mecanismo “sólo mercado”, como medio para lograr ciertos óptimos sociales/económ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la intervención estatal vía regulación y prestaciones directas … eventuales “nuevas” f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siciones monopólicas ¿regulación de precios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orsiones en la formación de precios (prestadores privados vs públicos; diferenciación no basada en pr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entuales distorsiones adicionales por “dinámica constitucional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l contexto señalado debe el Estado articular políticas y modelos para responder las clásicas preguntas económicas frente a “necesidades de salud infinit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“Bien Salud” como “Bien Privado”? = no por fallas de mercado y severos problemas de ac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Debe ser tratado el “Bien Salud” como un “bien público” en términos económicos? (no rival; no excluyente): ¿Acceso ilimitado y sin costo? ¿qué problemas gen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ntemente, como bien “cuasi-público” ¿uso más racional de los recursos? ¿cierto nivel de redistrib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balance entre eficiencia y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l “Bien Salud” debe ser distribuido en forma distinta a otros bienes? ¿por qué? ¿sentido económico o sólo valór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tiene importancia quién recibe el “Bien Salud”? ¿puede beneficiarse algunos más que otr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xiste algún parámetro ún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Justificación de redistribución entre? ¿jóvenes-viejos? ¿población rural-urbana? ¿ricos-pobr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legar a un piso mínimo del “Bien Salud” sobre el cual construir parámetros d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iso mínimo” es cambiante: a mayor desarrollo económico mayor “piso mínimo”; mayor presión sobr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productiva: producir el “Bien Salud” al menor cos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s posible reorganizar o producir de una manera tal que alguien esté mejor sin que alguien salga perd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tisfacción o utilidad de una persona puede ser incrementada únicamente mediante la reducción de la utilidad de otr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to en forma agregada, un mercado competitivo es eficiente en la medida en que los costos sociales y beneficios sociales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ien es atribuido a quien más lo valora. En ausencia de fallas de mercado y costos de transacción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R. Coa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, éste debiese concretarlo: NO ocurren en el “mercado de la sal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Cuál eficiencia en el “mercado de la salud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e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no puede encontrarse una utilización alternativa del “Bien Salud” que ponga a una persona en mejores circunstancias sin empeorar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Kaldor-Hick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si los beneficios para algunos de una utilización alternativa del “Bien Salud” compensa los costos en dicho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most goods and services, heal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e is not consumed for its own s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for the expected positive contribution it will make to an individual’s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ome health care such as preventive services may be foreseen, for the most part need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predic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incidence of illness or injury for an individual is itself unpredictable.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forms of insurance can be effective and efficient econo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seeing that individuals in need rece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jcardenas</cp:lastModifiedBy>
  <dcterms:modified xsi:type="dcterms:W3CDTF">2012-11-08T14:08:24Z</dcterms:modified>
  <cp:revision>119</cp:revision>
  <dc:subject/>
  <dc:title>Derecho Constitucional Económico</dc:title>
</cp:coreProperties>
</file>