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BA0D-DEB8-4132-B984-652D6FF981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C47-0A4A-4ADD-8FEC-1B3C8C462D46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4EF-5456-450F-B0E2-3762F3E8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305-73A7-4989-955D-8A951F2C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AE4-2849-49EC-88AB-E11439C7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E40-7F09-4784-813F-929EDBC4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E8FF-EE7F-4BE6-9FB8-719D9D30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901-1056-4DDD-9FCB-FCD7E68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3D1-CA56-46FF-8E79-9B0F51D1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2D89-5467-4CDE-8D0C-CFA53EDE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46C9-00E4-4E22-B2AA-AA23AF7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272D-9F46-401A-81E3-97A6EABA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D3EA-624B-4C67-AB37-7C5451D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886-2A09-4E7C-A930-7C134F3E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773D-01BD-4740-848C-6798021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EA3F-7CE9-4B12-95FE-A42A12A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6172-34D5-4F72-8CF5-DE35A0FD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8D5-FEB3-49F6-A92B-B7418F7F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CE5D-99D6-4139-A706-2BAF58F0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E8E-7DC5-4D62-9C62-E8B92786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CC2-6192-4E02-A4BD-9DF1F196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A79-2A1B-4702-968C-97A6E1F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B64-27DD-43F2-876D-E2E1424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9FD-88B6-47EC-9507-5D21987E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7A6-3784-450D-A3D9-568F363C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96C-CA62-4EA6-A154-B091B33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763F-8316-4947-870F-E4C2BCD366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1D7-3BF0-4307-A019-4D655A28D998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13 de noviembre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8" descr="Fig1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2-11-08T14:08:24Z</dcterms:modified>
  <cp:revision>119</cp:revision>
  <dc:subject/>
  <dc:title>Derecho Constitucional Económico</dc:title>
</cp:coreProperties>
</file>