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D35D-94A8-4C45-AFAA-024C3E179F9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B7BA-7F69-4BB9-B111-45AB2E4780AF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551-9377-4BF7-9A90-703F4A95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E1DA-F7F7-4F76-A392-074358BD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CFE-4DDE-4787-9BE2-0DE8AF12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94E-A49C-4A48-9EB6-8DDCD6CD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B4AE-B9D2-4EB2-850C-E6C82A2B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EB1E-EE4A-4922-B305-BB460AC3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2D11-FAB1-4145-A2BE-51C9B139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93F6-9A0E-40D7-A965-727BBAAB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7B2A-ED53-4F66-BAC0-9B04EA17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EC32-4CF9-4D5B-949A-7B0A2FBD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0919-9771-4684-8BC2-4B266D53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E2C-A456-4695-B42F-31F16A02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497D-41FF-46DB-B073-4085A22B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EEFF-7E81-45F2-B996-7306D41C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8B30-EFF7-4BD4-A5A9-DE432BDC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64FC-8222-4FEF-90C1-D3A6EF61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9987-6202-47C6-B557-4542A010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7A15-B56C-452C-BD11-44E91932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C4E1-6E24-4FCC-B30A-2B416F62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16E3-1FF7-46AD-87D5-A8016D31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D15-8D8C-4F46-8989-1C45D31C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AB6-BBE6-42E2-8139-AAC78551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2CA-CE33-4588-BC4A-6F49D794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E93-F414-4064-89CA-F2C207E5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30D6-33A7-4681-97FA-C315985A899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8574-414C-4AE6-8E47-D360C80540BD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15: 13 de noviembre d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Proveedores públicos o privad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Atención primaria o de especia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é relevancia tiene el modelo? ¿concesion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entivos para reducir costos vs.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Regulación de precios? (baja elastic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eguramiento de la calidad (asimetrías de inform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financiamiento y el sistema de seguros (riesgo mo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 y ef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ducir aquellos bienes o servicios que solucione un problema de salud dado al menor costo (razón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costo-efectivida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6127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asignativa y problema de prior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A quién asignar? ¿A quién le produce mayor val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Bajo qué criterio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ite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ar lo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actores determin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enfermedades más relevantes desde el punto de vista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ntidad y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fermedades que generan la mayor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ga de mort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para las que se cuenten con medidas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tervención de efectiv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bada;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salud que no matan, pero qu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isminuyen la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personas, generando discapacidad, dolor y angust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erramientas epidemiológ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iplina científica que estudia la distribución, frecuencia, determinantes, relaciones, predicciones y control de los factores relacionados con la salud y enfermedad en poblaciones huma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s de mortalidad/morbi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valencia, proporción afec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idencia, rapidez de propa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de Hanl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 los criterios que usa son amplitud del problema(A), severidad del problema(B), eficacia de la solución(C), factibilidad de la intervención(D).  El puntaje esta dado por la fórmula (A+B)C x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OPS-CEND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os criterios de priorización son magnitud del problema, trascendencia, vulnerabilidad, relación costo efecto y tend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Indice Q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onsidera en su cálculo, para cada enfermedad, la tasa de mortalidad ajustada por edad y sexo, respecto de la tasa de mortalidad estandarizada por edad y sexo para una población de referencia; la tasa bruta de mortalidad por 100.000 habitantes; los años de vida perdidos por muerte prematura; los días de hospitalización y el número de consultas externas, por cada 100.000 habitantes. Este índice tiene las ventajas de utilizar información generalmente disponible en las estadísticas tradicionales y la de agregar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ta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bi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una unidad de medida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étodo AVI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nsidera un componente cuantita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muerte prem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la discapacidad derivada de la enfermedad y sus secu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lor social de las muertes o de la discapa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un componente cualitativo derivado de la opinión de la 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los métodos tienen ciertos componentes sub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0" name="Picture 8" descr="Fig1"/>
          <p:cNvPicPr/>
          <p:nvPr/>
        </p:nvPicPr>
        <p:blipFill>
          <a:blip r:embed="rId1"/>
          <a:stretch/>
        </p:blipFill>
        <p:spPr>
          <a:xfrm>
            <a:off x="1219320" y="175248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de prioriz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difíciles de llevar a la pr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ndamentos discutibles (estimación de problemas, determinación de eficacia de intervenciones,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n incorporar múltiples dimensiones: política, ética, val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1629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mos en la clase an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correlación (¿causalidad?) entre niveles de salud pública y desarrollo económ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niveles de salud pública y el gasto en salud (problema del uso alternativo de los recurso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discusión sobre el nivel (cualitativo y cuantitativo) de salud a garantiz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llas del “mercado de la salud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lemas intrínse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imetrías de información (Problema Principal-Agen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a elasticidad de la deman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Doble) Riesgo Mor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ternalidades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ovación como “Bien Públic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odría ser “atacado” constitucionalmente un método/resultados de un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construir el argu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s deseable desde el punto del bienestar so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sólo una respuesta respecto del efecto de la dinámica constitucional sobre los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l resultado del diseño de políticas públicas en salud es “per se” mejor que el de la “dinámica constitucional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alguna forma de “profilaxis constitucional” de las políticas públicas en salu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arentemente es parte del “medio ambiente” donde ocurr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lítica pública en salud = resultado neto entre (política original) +/- (dinámica constitucion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de mercado lleva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egar el mecanismo “sólo mercado”, como medio para lograr ciertos óptimos sociales/económico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stificar la intervención estatal vía regulación y prestaciones directas … eventuales “nuevas” fa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siciones monopólicas ¿regulación de precios?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orsiones en la formación de precios (prestadores privados vs públicos; diferenciación no basada en pre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ventuales distorsiones adicionales por “dinámica constitucional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tro del contexto señalado debe el Estado articular políticas y modelos para responder las clásicas preguntas económicas frente a “necesidades de salud infinita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“Bien Salud” como “Bien Privado”? = no por fallas de mercado y severos problemas de ac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Debe ser tratado el “Bien Salud” como un “bien público” en términos económicos? (no rival; no excluyente): ¿Acceso ilimitado y sin costo? ¿qué problemas gene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3880" y="1904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arentemente, como bien “cuasi-público” ¿uso más racional de los recursos? ¿cierto nivel de redistribu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balance entre eficiencia y equ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l “Bien Salud” debe ser distribuido en forma distinta a otros bienes? ¿por qué? ¿sentido económico o sólo valór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tiene importancia quién recibe el “Bien Salud”? ¿puede beneficiarse algunos más que otro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xiste algún parámetro ún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23880" y="167616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Justificación de redistribución entre? ¿jóvenes-viejos? ¿población rural-urbana? ¿ricos-pobre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Llegar a un piso mínimo del “Bien Salud” sobre el cual construir parámetros d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iso mínimo” es cambiante: a mayor desarrollo económico mayor “piso mínimo”; mayor presión sobr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productiva: producir el “Bien Salud” al menor cos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s posible reorganizar o producir de una manera tal que alguien esté mejor sin que alguien salga perdie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52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tisfacción o utilidad de una persona puede ser incrementada únicamente mediante la reducción de la utilidad de otra pers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sto en forma agregada, un mercado competitivo es eficiente en la medida en que los costos sociales y beneficios sociales coinc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ien es atribuido a quien más lo valora. En ausencia de fallas de mercado y costos de transacción (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R. Coas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, éste debiese concretarlo: NO ocurren en el “mercado de la salu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Cuál eficiencia en el “mercado de la salud”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aret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no puede encontrarse una utilización alternativa del “Bien Salud” que ponga a una persona en mejores circunstancias sin empeorar a o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Kaldor-Hick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si los beneficios para algunos de una utilización alternativa del “Bien Salud” compensa los costos en dicho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most goods and services, heal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e is not consumed for its own sa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 for the expected positive contribution it will make to an individual’s heal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houg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some health care such as preventive services may be foreseen, for the most part need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predic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ause the incidence of illness or injury for an individual is itself unpredictable. Therefo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me forms of insurance can be effective and efficient econo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s for seeing that individuals in need receive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jcardenas</cp:lastModifiedBy>
  <dcterms:modified xsi:type="dcterms:W3CDTF">2012-11-08T14:08:24Z</dcterms:modified>
  <cp:revision>119</cp:revision>
  <dc:subject/>
  <dc:title>Derecho Constitucional Económico</dc:title>
</cp:coreProperties>
</file>